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46840" y="6400800"/>
            <a:ext cx="4021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6320" y="6477120"/>
            <a:ext cx="12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1066680" y="3314880"/>
            <a:ext cx="7162920" cy="280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Book Antiqua"/>
                <a:ea typeface="Book Antiqua"/>
              </a:rPr>
              <a:t>Welcome to 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Book Antiqua"/>
                <a:ea typeface="Book Antiqua"/>
              </a:rPr>
              <a:t>Softwell Development’s 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Book Antiqua"/>
                <a:ea typeface="Book Antiqua"/>
              </a:rPr>
              <a:t>BroadCast Dem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9" name=""/>
          <p:cNvGrpSpPr/>
          <p:nvPr/>
        </p:nvGrpSpPr>
        <p:grpSpPr>
          <a:xfrm>
            <a:off x="6480" y="0"/>
            <a:ext cx="9132840" cy="6389640"/>
            <a:chOff x="6480" y="0"/>
            <a:chExt cx="9132840" cy="6389640"/>
          </a:xfrm>
        </p:grpSpPr>
        <p:sp>
          <p:nvSpPr>
            <p:cNvPr id="1440" name=""/>
            <p:cNvSpPr/>
            <p:nvPr/>
          </p:nvSpPr>
          <p:spPr>
            <a:xfrm>
              <a:off x="6480" y="0"/>
              <a:ext cx="9132840" cy="6389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768240" y="426960"/>
              <a:ext cx="8008920" cy="56181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2" name=""/>
            <p:cNvGrpSpPr/>
            <p:nvPr/>
          </p:nvGrpSpPr>
          <p:grpSpPr>
            <a:xfrm>
              <a:off x="179280" y="71280"/>
              <a:ext cx="2103480" cy="1919520"/>
              <a:chOff x="179280" y="71280"/>
              <a:chExt cx="2103480" cy="1919520"/>
            </a:xfrm>
          </p:grpSpPr>
          <p:sp>
            <p:nvSpPr>
              <p:cNvPr id="1443" name=""/>
              <p:cNvSpPr/>
              <p:nvPr/>
            </p:nvSpPr>
            <p:spPr>
              <a:xfrm>
                <a:off x="193680" y="125280"/>
                <a:ext cx="2058840" cy="18572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4" name=""/>
              <p:cNvGrpSpPr/>
              <p:nvPr/>
            </p:nvGrpSpPr>
            <p:grpSpPr>
              <a:xfrm>
                <a:off x="179280" y="71280"/>
                <a:ext cx="2103480" cy="1919520"/>
                <a:chOff x="179280" y="71280"/>
                <a:chExt cx="2103480" cy="1919520"/>
              </a:xfrm>
            </p:grpSpPr>
            <p:sp>
              <p:nvSpPr>
                <p:cNvPr id="1445" name=""/>
                <p:cNvSpPr/>
                <p:nvPr/>
              </p:nvSpPr>
              <p:spPr>
                <a:xfrm>
                  <a:off x="179280" y="114480"/>
                  <a:ext cx="2103480" cy="187632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round/>
                </a:ln>
              </p:spPr>
              <p:txBody>
                <a:bodyPr lIns="109080" rIns="109080" tIns="64080" bIns="64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6" name=""/>
                <p:cNvSpPr/>
                <p:nvPr/>
              </p:nvSpPr>
              <p:spPr>
                <a:xfrm>
                  <a:off x="179280" y="71280"/>
                  <a:ext cx="2103480" cy="1876320"/>
                </a:xfrm>
                <a:prstGeom prst="ellipse">
                  <a:avLst/>
                </a:prstGeom>
                <a:noFill/>
                <a:ln w="38160">
                  <a:solidFill>
                    <a:srgbClr val="c0c0c0"/>
                  </a:solidFill>
                  <a:round/>
                </a:ln>
              </p:spPr>
              <p:txBody>
                <a:bodyPr lIns="109080" rIns="109080" tIns="64080" bIns="64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7" name=""/>
                <p:cNvSpPr/>
                <p:nvPr/>
              </p:nvSpPr>
              <p:spPr>
                <a:xfrm>
                  <a:off x="179280" y="92160"/>
                  <a:ext cx="2103480" cy="1878120"/>
                </a:xfrm>
                <a:prstGeom prst="ellipse">
                  <a:avLst/>
                </a:prstGeom>
                <a:noFill/>
                <a:ln w="38160">
                  <a:solidFill>
                    <a:srgbClr val="808080"/>
                  </a:solidFill>
                  <a:round/>
                </a:ln>
              </p:spPr>
              <p:txBody>
                <a:bodyPr lIns="109080" rIns="109080" tIns="64080" bIns="64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8" name=""/>
          <p:cNvSpPr txBox="1"/>
          <p:nvPr/>
        </p:nvSpPr>
        <p:spPr>
          <a:xfrm>
            <a:off x="1378080" y="5144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Bank Insurance Prot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 txBox="1"/>
          <p:nvPr/>
        </p:nvSpPr>
        <p:spPr>
          <a:xfrm>
            <a:off x="1454040" y="21146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  <a:tabLst>
                <a:tab algn="l" pos="31431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raisal fe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Font typeface="Times New Roman"/>
              <a:buChar char=""/>
              <a:tabLst>
                <a:tab algn="l" pos="27432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 percent of the appraised value of the collateral plus out-of-pocket (travel) expe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Font typeface="Times New Roman"/>
              <a:buChar char=""/>
              <a:tabLst>
                <a:tab algn="l" pos="27432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 percent add-on interest rate on the outstanding loan balance, not the full appraisal of the col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  <a:tabLst>
                <a:tab algn="l" pos="31431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ssets or inventory can be borrowed against when it is given zero valuation by a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31431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  <a:tabLst>
                <a:tab algn="l" pos="27432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ercentage to be Loan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  <a:tabLst>
                <a:tab algn="l" pos="27432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ccounts Receivabl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75%-80% under 90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  <a:tabLst>
                <a:tab algn="l" pos="27432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ventor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0%-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  <a:tabLst>
                <a:tab algn="l" pos="27432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ixed Asset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70%-80% marke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1943280" y="4838760"/>
            <a:ext cx="6153120" cy="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1943280" y="5848200"/>
            <a:ext cx="6153120" cy="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2" name=""/>
          <p:cNvGrpSpPr/>
          <p:nvPr/>
        </p:nvGrpSpPr>
        <p:grpSpPr>
          <a:xfrm>
            <a:off x="642960" y="609480"/>
            <a:ext cx="8467920" cy="5690160"/>
            <a:chOff x="642960" y="609480"/>
            <a:chExt cx="8467920" cy="5690160"/>
          </a:xfrm>
        </p:grpSpPr>
        <p:sp>
          <p:nvSpPr>
            <p:cNvPr id="1453" name=""/>
            <p:cNvSpPr/>
            <p:nvPr/>
          </p:nvSpPr>
          <p:spPr>
            <a:xfrm>
              <a:off x="642960" y="1604880"/>
              <a:ext cx="8467920" cy="4694760"/>
            </a:xfrm>
            <a:custGeom>
              <a:avLst/>
              <a:gdLst/>
              <a:ahLst/>
              <a:rect l="0" t="0" r="r" b="b"/>
              <a:pathLst>
                <a:path fill="none" w="23522" h="13041">
                  <a:moveTo>
                    <a:pt x="23522" y="0"/>
                  </a:moveTo>
                  <a:lnTo>
                    <a:pt x="0" y="0"/>
                  </a:lnTo>
                  <a:lnTo>
                    <a:pt x="0" y="13041"/>
                  </a:lnTo>
                </a:path>
              </a:pathLst>
            </a:custGeom>
            <a:ln w="203040">
              <a:solidFill>
                <a:srgbClr val="008080"/>
              </a:solidFill>
              <a:round/>
            </a:ln>
          </p:spPr>
          <p:txBody>
            <a:bodyPr lIns="191520" rIns="191520" tIns="146520" bIns="146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642960" y="609480"/>
              <a:ext cx="8467920" cy="5689800"/>
            </a:xfrm>
            <a:custGeom>
              <a:avLst/>
              <a:gdLst/>
              <a:ahLst/>
              <a:rect l="0" t="0" r="r" b="b"/>
              <a:pathLst>
                <a:path fill="none" w="23522" h="15805">
                  <a:moveTo>
                    <a:pt x="2069" y="15805"/>
                  </a:moveTo>
                  <a:lnTo>
                    <a:pt x="2069" y="0"/>
                  </a:lnTo>
                  <a:lnTo>
                    <a:pt x="0" y="0"/>
                  </a:lnTo>
                  <a:lnTo>
                    <a:pt x="0" y="1975"/>
                  </a:lnTo>
                  <a:lnTo>
                    <a:pt x="23522" y="1975"/>
                  </a:lnTo>
                </a:path>
              </a:pathLst>
            </a:custGeom>
            <a:ln w="203040">
              <a:solidFill>
                <a:srgbClr val="008080"/>
              </a:solidFill>
              <a:round/>
            </a:ln>
          </p:spPr>
          <p:txBody>
            <a:bodyPr lIns="191520" rIns="191520" tIns="146520" bIns="146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5" name=""/>
          <p:cNvSpPr txBox="1"/>
          <p:nvPr/>
        </p:nvSpPr>
        <p:spPr>
          <a:xfrm>
            <a:off x="1542960" y="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terviewing Tools &amp; Techn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 txBox="1"/>
          <p:nvPr/>
        </p:nvSpPr>
        <p:spPr>
          <a:xfrm>
            <a:off x="1486080" y="1930320"/>
            <a:ext cx="7219800" cy="414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440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 an organized, rational way to conduct an int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440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arn how to probe and test what candidates say, rather than accepting their statements at face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440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arn how to predict job performance, and make your hiring decisions with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440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over how to present information in a persuasive way that will encourage talented candidates to accept your job o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"/>
          <p:cNvSpPr txBox="1"/>
          <p:nvPr/>
        </p:nvSpPr>
        <p:spPr>
          <a:xfrm>
            <a:off x="990720" y="1144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Book Antiqua"/>
                <a:ea typeface="Book Antiqua"/>
              </a:rPr>
              <a:t>Field Service Organiz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8" name=""/>
          <p:cNvGrpSpPr/>
          <p:nvPr/>
        </p:nvGrpSpPr>
        <p:grpSpPr>
          <a:xfrm>
            <a:off x="250920" y="1390680"/>
            <a:ext cx="8588160" cy="3676680"/>
            <a:chOff x="250920" y="1390680"/>
            <a:chExt cx="8588160" cy="3676680"/>
          </a:xfrm>
        </p:grpSpPr>
        <p:grpSp>
          <p:nvGrpSpPr>
            <p:cNvPr id="1459" name=""/>
            <p:cNvGrpSpPr/>
            <p:nvPr/>
          </p:nvGrpSpPr>
          <p:grpSpPr>
            <a:xfrm>
              <a:off x="990720" y="2114640"/>
              <a:ext cx="7086600" cy="2724120"/>
              <a:chOff x="990720" y="2114640"/>
              <a:chExt cx="7086600" cy="2724120"/>
            </a:xfrm>
          </p:grpSpPr>
          <p:grpSp>
            <p:nvGrpSpPr>
              <p:cNvPr id="1460" name=""/>
              <p:cNvGrpSpPr/>
              <p:nvPr/>
            </p:nvGrpSpPr>
            <p:grpSpPr>
              <a:xfrm>
                <a:off x="990720" y="2114640"/>
                <a:ext cx="7086600" cy="2190600"/>
                <a:chOff x="990720" y="2114640"/>
                <a:chExt cx="7086600" cy="2190600"/>
              </a:xfrm>
            </p:grpSpPr>
            <p:sp>
              <p:nvSpPr>
                <p:cNvPr id="1461" name=""/>
                <p:cNvSpPr/>
                <p:nvPr/>
              </p:nvSpPr>
              <p:spPr>
                <a:xfrm>
                  <a:off x="4572000" y="2114640"/>
                  <a:ext cx="0" cy="2190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 flipV="1">
                  <a:off x="990720" y="257184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3" name=""/>
                <p:cNvSpPr/>
                <p:nvPr/>
              </p:nvSpPr>
              <p:spPr>
                <a:xfrm>
                  <a:off x="990720" y="2571840"/>
                  <a:ext cx="7086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4" name=""/>
                <p:cNvSpPr/>
                <p:nvPr/>
              </p:nvSpPr>
              <p:spPr>
                <a:xfrm>
                  <a:off x="8077320" y="2571840"/>
                  <a:ext cx="0" cy="3045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65" name=""/>
              <p:cNvSpPr/>
              <p:nvPr/>
            </p:nvSpPr>
            <p:spPr>
              <a:xfrm flipV="1">
                <a:off x="6315120" y="3219480"/>
                <a:ext cx="0" cy="1619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 flipV="1">
                <a:off x="2905200" y="3314880"/>
                <a:ext cx="0" cy="1523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67" name=""/>
            <p:cNvGrpSpPr/>
            <p:nvPr/>
          </p:nvGrpSpPr>
          <p:grpSpPr>
            <a:xfrm>
              <a:off x="304920" y="1390680"/>
              <a:ext cx="8534160" cy="3676320"/>
              <a:chOff x="304920" y="1390680"/>
              <a:chExt cx="8534160" cy="3676320"/>
            </a:xfrm>
          </p:grpSpPr>
          <p:sp>
            <p:nvSpPr>
              <p:cNvPr id="1468" name=""/>
              <p:cNvSpPr txBox="1"/>
              <p:nvPr/>
            </p:nvSpPr>
            <p:spPr>
              <a:xfrm>
                <a:off x="304920" y="2724120"/>
                <a:ext cx="1600200" cy="838080"/>
              </a:xfrm>
              <a:prstGeom prst="rect">
                <a:avLst/>
              </a:prstGeom>
              <a:solidFill>
                <a:srgbClr val="606060"/>
              </a:solidFill>
              <a:ln w="0">
                <a:noFill/>
              </a:ln>
              <a:effectLst>
                <a:outerShdw dist="0" dir="0" blurRad="0" rotWithShape="0">
                  <a:srgbClr val="000000"/>
                </a:outerShdw>
              </a:effectLst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Field Dispatc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Manag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c0fef9"/>
                    </a:solidFill>
                    <a:latin typeface="Times New Roman"/>
                    <a:ea typeface="Times New Roman"/>
                  </a:rPr>
                  <a:t>Beth Radiss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"/>
              <p:cNvSpPr txBox="1"/>
              <p:nvPr/>
            </p:nvSpPr>
            <p:spPr>
              <a:xfrm>
                <a:off x="2133720" y="2952720"/>
                <a:ext cx="4876920" cy="380880"/>
              </a:xfrm>
              <a:prstGeom prst="rect">
                <a:avLst/>
              </a:prstGeom>
              <a:solidFill>
                <a:srgbClr val="606060"/>
              </a:solidFill>
              <a:ln w="0">
                <a:noFill/>
              </a:ln>
              <a:effectLst>
                <a:outerShdw dist="0" dir="0" blurRad="0" rotWithShape="0">
                  <a:srgbClr val="000000"/>
                </a:outerShdw>
              </a:effectLst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c0fef9"/>
                    </a:solidFill>
                    <a:latin typeface="Times New Roman"/>
                    <a:ea typeface="Times New Roman"/>
                  </a:rPr>
                  <a:t>National Field Engineerin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"/>
              <p:cNvSpPr txBox="1"/>
              <p:nvPr/>
            </p:nvSpPr>
            <p:spPr>
              <a:xfrm>
                <a:off x="7238880" y="2724120"/>
                <a:ext cx="1600200" cy="838080"/>
              </a:xfrm>
              <a:prstGeom prst="rect">
                <a:avLst/>
              </a:prstGeom>
              <a:solidFill>
                <a:srgbClr val="606060"/>
              </a:solidFill>
              <a:ln w="0">
                <a:noFill/>
              </a:ln>
              <a:effectLst>
                <a:outerShdw dist="0" dir="0" blurRad="0" rotWithShape="0">
                  <a:srgbClr val="000000"/>
                </a:outerShdw>
              </a:effectLst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National Field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Administrato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c0fef9"/>
                    </a:solidFill>
                    <a:latin typeface="Times New Roman"/>
                    <a:ea typeface="Times New Roman"/>
                  </a:rPr>
                  <a:t>Diane Settler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 txBox="1"/>
              <p:nvPr/>
            </p:nvSpPr>
            <p:spPr>
              <a:xfrm>
                <a:off x="3295800" y="1390680"/>
                <a:ext cx="2552760" cy="800280"/>
              </a:xfrm>
              <a:prstGeom prst="rect">
                <a:avLst/>
              </a:prstGeom>
              <a:solidFill>
                <a:srgbClr val="606060"/>
              </a:solidFill>
              <a:ln w="0">
                <a:noFill/>
              </a:ln>
              <a:effectLst>
                <a:outerShdw dist="0" dir="0" blurRad="0" rotWithShape="0">
                  <a:srgbClr val="000000"/>
                </a:outerShdw>
              </a:effectLst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Director of Field Servic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c0fef9"/>
                    </a:solidFill>
                    <a:latin typeface="Times New Roman"/>
                    <a:ea typeface="Times New Roman"/>
                  </a:rPr>
                  <a:t>Jerry Wysocki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"/>
              <p:cNvSpPr txBox="1"/>
              <p:nvPr/>
            </p:nvSpPr>
            <p:spPr>
              <a:xfrm>
                <a:off x="3809880" y="4228920"/>
                <a:ext cx="1542960" cy="838080"/>
              </a:xfrm>
              <a:prstGeom prst="rect">
                <a:avLst/>
              </a:prstGeom>
              <a:solidFill>
                <a:srgbClr val="606060"/>
              </a:solidFill>
              <a:ln w="0">
                <a:noFill/>
              </a:ln>
              <a:effectLst>
                <a:outerShdw dist="0" dir="0" blurRad="0" rotWithShape="0">
                  <a:srgbClr val="000000"/>
                </a:outerShdw>
              </a:effectLst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Central Reg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Manag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c0fef9"/>
                    </a:solidFill>
                    <a:latin typeface="Times New Roman"/>
                    <a:ea typeface="Times New Roman"/>
                  </a:rPr>
                  <a:t>Fred Jon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"/>
              <p:cNvSpPr txBox="1"/>
              <p:nvPr/>
            </p:nvSpPr>
            <p:spPr>
              <a:xfrm>
                <a:off x="5543640" y="4228920"/>
                <a:ext cx="1542960" cy="838080"/>
              </a:xfrm>
              <a:prstGeom prst="rect">
                <a:avLst/>
              </a:prstGeom>
              <a:solidFill>
                <a:srgbClr val="606060"/>
              </a:solidFill>
              <a:ln w="0">
                <a:noFill/>
              </a:ln>
              <a:effectLst>
                <a:outerShdw dist="0" dir="0" blurRad="0" rotWithShape="0">
                  <a:srgbClr val="000000"/>
                </a:outerShdw>
              </a:effectLst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Western Reg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Manag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c0fef9"/>
                    </a:solidFill>
                    <a:latin typeface="Times New Roman"/>
                    <a:ea typeface="Times New Roman"/>
                  </a:rPr>
                  <a:t>Bob Czwakie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 txBox="1"/>
              <p:nvPr/>
            </p:nvSpPr>
            <p:spPr>
              <a:xfrm>
                <a:off x="2133720" y="4228920"/>
                <a:ext cx="1542960" cy="838080"/>
              </a:xfrm>
              <a:prstGeom prst="rect">
                <a:avLst/>
              </a:prstGeom>
              <a:solidFill>
                <a:srgbClr val="606060"/>
              </a:solidFill>
              <a:ln w="0">
                <a:noFill/>
              </a:ln>
              <a:effectLst>
                <a:outerShdw dist="0" dir="0" blurRad="0" rotWithShape="0">
                  <a:srgbClr val="000000"/>
                </a:outerShdw>
              </a:effectLst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Eastern Reg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Manag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c0fef9"/>
                    </a:solidFill>
                    <a:latin typeface="Times New Roman"/>
                    <a:ea typeface="Times New Roman"/>
                  </a:rPr>
                  <a:t>Jeff Radcliff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5" name=""/>
            <p:cNvGrpSpPr/>
            <p:nvPr/>
          </p:nvGrpSpPr>
          <p:grpSpPr>
            <a:xfrm>
              <a:off x="304920" y="1390680"/>
              <a:ext cx="8534160" cy="3676680"/>
              <a:chOff x="304920" y="1390680"/>
              <a:chExt cx="8534160" cy="3676680"/>
            </a:xfrm>
          </p:grpSpPr>
          <p:sp>
            <p:nvSpPr>
              <p:cNvPr id="1476" name=""/>
              <p:cNvSpPr/>
              <p:nvPr/>
            </p:nvSpPr>
            <p:spPr>
              <a:xfrm>
                <a:off x="304920" y="2724120"/>
                <a:ext cx="1600200" cy="8380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2133720" y="2952720"/>
                <a:ext cx="4876920" cy="380880"/>
              </a:xfrm>
              <a:prstGeom prst="round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7238880" y="2724120"/>
                <a:ext cx="1600200" cy="8380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3295800" y="1390680"/>
                <a:ext cx="2552760" cy="8002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3809880" y="4229280"/>
                <a:ext cx="1542960" cy="8380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5543640" y="4229280"/>
                <a:ext cx="1542960" cy="8380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2133720" y="4229280"/>
                <a:ext cx="1542960" cy="8380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83" name=""/>
            <p:cNvSpPr txBox="1"/>
            <p:nvPr/>
          </p:nvSpPr>
          <p:spPr>
            <a:xfrm>
              <a:off x="250920" y="3637080"/>
              <a:ext cx="1747800" cy="58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ational Dispatc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ustomer 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84" name=""/>
          <p:cNvGrpSpPr/>
          <p:nvPr/>
        </p:nvGrpSpPr>
        <p:grpSpPr>
          <a:xfrm>
            <a:off x="152280" y="5442120"/>
            <a:ext cx="8839440" cy="870120"/>
            <a:chOff x="152280" y="5442120"/>
            <a:chExt cx="8839440" cy="870120"/>
          </a:xfrm>
        </p:grpSpPr>
        <p:grpSp>
          <p:nvGrpSpPr>
            <p:cNvPr id="1485" name=""/>
            <p:cNvGrpSpPr/>
            <p:nvPr/>
          </p:nvGrpSpPr>
          <p:grpSpPr>
            <a:xfrm>
              <a:off x="152280" y="5448240"/>
              <a:ext cx="8839440" cy="777960"/>
              <a:chOff x="152280" y="5448240"/>
              <a:chExt cx="8839440" cy="777960"/>
            </a:xfrm>
          </p:grpSpPr>
          <p:grpSp>
            <p:nvGrpSpPr>
              <p:cNvPr id="1486" name=""/>
              <p:cNvGrpSpPr/>
              <p:nvPr/>
            </p:nvGrpSpPr>
            <p:grpSpPr>
              <a:xfrm>
                <a:off x="152280" y="5608800"/>
                <a:ext cx="8839440" cy="493920"/>
                <a:chOff x="152280" y="5608800"/>
                <a:chExt cx="8839440" cy="493920"/>
              </a:xfrm>
            </p:grpSpPr>
            <p:sp>
              <p:nvSpPr>
                <p:cNvPr id="1487" name=""/>
                <p:cNvSpPr/>
                <p:nvPr/>
              </p:nvSpPr>
              <p:spPr>
                <a:xfrm>
                  <a:off x="152280" y="5611680"/>
                  <a:ext cx="8834400" cy="488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50000">
                      <a:srgbClr val="ffffff"/>
                    </a:gs>
                    <a:gs pos="100000">
                      <a:srgbClr val="cccccc"/>
                    </a:gs>
                  </a:gsLst>
                  <a:lin ang="2700000"/>
                </a:gra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88" name=""/>
                <p:cNvGrpSpPr/>
                <p:nvPr/>
              </p:nvGrpSpPr>
              <p:grpSpPr>
                <a:xfrm>
                  <a:off x="152280" y="5608800"/>
                  <a:ext cx="8839440" cy="493920"/>
                  <a:chOff x="152280" y="5608800"/>
                  <a:chExt cx="8839440" cy="493920"/>
                </a:xfrm>
              </p:grpSpPr>
              <p:sp>
                <p:nvSpPr>
                  <p:cNvPr id="1489" name=""/>
                  <p:cNvSpPr/>
                  <p:nvPr/>
                </p:nvSpPr>
                <p:spPr>
                  <a:xfrm>
                    <a:off x="152280" y="5608800"/>
                    <a:ext cx="8839440" cy="1465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24554" h="407">
                        <a:moveTo>
                          <a:pt x="0" y="407"/>
                        </a:moveTo>
                        <a:lnTo>
                          <a:pt x="0" y="0"/>
                        </a:lnTo>
                        <a:lnTo>
                          <a:pt x="24554" y="0"/>
                        </a:lnTo>
                      </a:path>
                    </a:pathLst>
                  </a:custGeom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0" name=""/>
                  <p:cNvSpPr/>
                  <p:nvPr/>
                </p:nvSpPr>
                <p:spPr>
                  <a:xfrm>
                    <a:off x="152280" y="5776920"/>
                    <a:ext cx="8839440" cy="1465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24554" h="407">
                        <a:moveTo>
                          <a:pt x="0" y="407"/>
                        </a:moveTo>
                        <a:lnTo>
                          <a:pt x="0" y="0"/>
                        </a:lnTo>
                        <a:lnTo>
                          <a:pt x="24554" y="0"/>
                        </a:lnTo>
                      </a:path>
                    </a:pathLst>
                  </a:custGeom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1" name=""/>
                  <p:cNvSpPr/>
                  <p:nvPr/>
                </p:nvSpPr>
                <p:spPr>
                  <a:xfrm>
                    <a:off x="152280" y="5945040"/>
                    <a:ext cx="8839440" cy="14796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24554" h="411">
                        <a:moveTo>
                          <a:pt x="0" y="411"/>
                        </a:moveTo>
                        <a:lnTo>
                          <a:pt x="0" y="0"/>
                        </a:lnTo>
                        <a:lnTo>
                          <a:pt x="24554" y="0"/>
                        </a:lnTo>
                      </a:path>
                    </a:pathLst>
                  </a:custGeom>
                  <a:ln w="12600">
                    <a:solidFill>
                      <a:srgbClr val="e8e8e8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2" name=""/>
                  <p:cNvSpPr/>
                  <p:nvPr/>
                </p:nvSpPr>
                <p:spPr>
                  <a:xfrm>
                    <a:off x="152280" y="5618160"/>
                    <a:ext cx="8839440" cy="14796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24554" h="411">
                        <a:moveTo>
                          <a:pt x="24554" y="0"/>
                        </a:moveTo>
                        <a:lnTo>
                          <a:pt x="24554" y="411"/>
                        </a:lnTo>
                        <a:lnTo>
                          <a:pt x="0" y="411"/>
                        </a:lnTo>
                      </a:path>
                    </a:pathLst>
                  </a:custGeom>
                  <a:ln w="12600">
                    <a:solidFill>
                      <a:srgbClr val="676767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3" name=""/>
                  <p:cNvSpPr/>
                  <p:nvPr/>
                </p:nvSpPr>
                <p:spPr>
                  <a:xfrm>
                    <a:off x="152280" y="5788080"/>
                    <a:ext cx="8839440" cy="1465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24554" h="407">
                        <a:moveTo>
                          <a:pt x="24554" y="0"/>
                        </a:moveTo>
                        <a:lnTo>
                          <a:pt x="24554" y="407"/>
                        </a:lnTo>
                        <a:lnTo>
                          <a:pt x="0" y="407"/>
                        </a:lnTo>
                      </a:path>
                    </a:pathLst>
                  </a:custGeom>
                  <a:ln w="12600">
                    <a:solidFill>
                      <a:srgbClr val="474747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4" name=""/>
                  <p:cNvSpPr/>
                  <p:nvPr/>
                </p:nvSpPr>
                <p:spPr>
                  <a:xfrm>
                    <a:off x="152280" y="5956200"/>
                    <a:ext cx="8839440" cy="1465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24554" h="407">
                        <a:moveTo>
                          <a:pt x="24554" y="0"/>
                        </a:moveTo>
                        <a:lnTo>
                          <a:pt x="24554" y="407"/>
                        </a:lnTo>
                        <a:lnTo>
                          <a:pt x="0" y="407"/>
                        </a:lnTo>
                      </a:path>
                    </a:pathLst>
                  </a:custGeom>
                  <a:ln w="12600">
                    <a:solidFill>
                      <a:srgbClr val="333333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95" name=""/>
              <p:cNvSpPr/>
              <p:nvPr/>
            </p:nvSpPr>
            <p:spPr>
              <a:xfrm>
                <a:off x="8089920" y="5448240"/>
                <a:ext cx="635040" cy="777960"/>
              </a:xfrm>
              <a:prstGeom prst="rect">
                <a:avLst/>
              </a:prstGeom>
              <a:gradFill rotWithShape="0">
                <a:gsLst>
                  <a:gs pos="0">
                    <a:srgbClr val="cccccc"/>
                  </a:gs>
                  <a:gs pos="50000">
                    <a:srgbClr val="ffffff"/>
                  </a:gs>
                  <a:gs pos="100000">
                    <a:srgbClr val="cccccc"/>
                  </a:gs>
                </a:gsLst>
                <a:lin ang="5400000"/>
              </a:gradFill>
              <a:ln w="12600">
                <a:solidFill>
                  <a:srgbClr val="dadada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6" name=""/>
            <p:cNvGrpSpPr/>
            <p:nvPr/>
          </p:nvGrpSpPr>
          <p:grpSpPr>
            <a:xfrm>
              <a:off x="8089920" y="5442120"/>
              <a:ext cx="665280" cy="870120"/>
              <a:chOff x="8089920" y="5442120"/>
              <a:chExt cx="665280" cy="870120"/>
            </a:xfrm>
          </p:grpSpPr>
          <p:sp>
            <p:nvSpPr>
              <p:cNvPr id="1497" name=""/>
              <p:cNvSpPr txBox="1"/>
              <p:nvPr/>
            </p:nvSpPr>
            <p:spPr>
              <a:xfrm>
                <a:off x="8089920" y="5442120"/>
                <a:ext cx="641520" cy="641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Book Antiqua"/>
                    <a:ea typeface="Book Antiqua"/>
                  </a:rPr>
                  <a:t>W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8" name=""/>
              <p:cNvSpPr txBox="1"/>
              <p:nvPr/>
            </p:nvSpPr>
            <p:spPr>
              <a:xfrm>
                <a:off x="8291520" y="5670720"/>
                <a:ext cx="463680" cy="641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Book Antiqua"/>
                    <a:ea typeface="Book Antiqua"/>
                  </a:rPr>
                  <a:t>S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9" name=""/>
          <p:cNvGrpSpPr/>
          <p:nvPr/>
        </p:nvGrpSpPr>
        <p:grpSpPr>
          <a:xfrm>
            <a:off x="0" y="304920"/>
            <a:ext cx="9144360" cy="5791320"/>
            <a:chOff x="0" y="304920"/>
            <a:chExt cx="9144360" cy="5791320"/>
          </a:xfrm>
        </p:grpSpPr>
        <p:grpSp>
          <p:nvGrpSpPr>
            <p:cNvPr id="1500" name=""/>
            <p:cNvGrpSpPr/>
            <p:nvPr/>
          </p:nvGrpSpPr>
          <p:grpSpPr>
            <a:xfrm>
              <a:off x="1685880" y="5792760"/>
              <a:ext cx="7458480" cy="303480"/>
              <a:chOff x="1685880" y="5792760"/>
              <a:chExt cx="7458480" cy="303480"/>
            </a:xfrm>
          </p:grpSpPr>
          <p:sp>
            <p:nvSpPr>
              <p:cNvPr id="1501" name=""/>
              <p:cNvSpPr/>
              <p:nvPr/>
            </p:nvSpPr>
            <p:spPr>
              <a:xfrm>
                <a:off x="1685880" y="6024600"/>
                <a:ext cx="7401240" cy="71640"/>
              </a:xfrm>
              <a:custGeom>
                <a:avLst/>
                <a:gdLst/>
                <a:ahLst/>
                <a:rect l="0" t="0" r="r" b="b"/>
                <a:pathLst>
                  <a:path w="20559" h="199">
                    <a:moveTo>
                      <a:pt x="0" y="199"/>
                    </a:moveTo>
                    <a:lnTo>
                      <a:pt x="20559" y="199"/>
                    </a:lnTo>
                    <a:lnTo>
                      <a:pt x="20559" y="0"/>
                    </a:lnTo>
                    <a:lnTo>
                      <a:pt x="52" y="0"/>
                    </a:lnTo>
                    <a:lnTo>
                      <a:pt x="0" y="19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1714680" y="5907240"/>
                <a:ext cx="7401240" cy="74880"/>
              </a:xfrm>
              <a:custGeom>
                <a:avLst/>
                <a:gdLst/>
                <a:ahLst/>
                <a:rect l="0" t="0" r="r" b="b"/>
                <a:pathLst>
                  <a:path w="20559" h="208">
                    <a:moveTo>
                      <a:pt x="0" y="208"/>
                    </a:moveTo>
                    <a:lnTo>
                      <a:pt x="20559" y="208"/>
                    </a:lnTo>
                    <a:lnTo>
                      <a:pt x="20559" y="0"/>
                    </a:lnTo>
                    <a:lnTo>
                      <a:pt x="52" y="0"/>
                    </a:lnTo>
                    <a:lnTo>
                      <a:pt x="0" y="20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1743120" y="5792760"/>
                <a:ext cx="7401240" cy="71640"/>
              </a:xfrm>
              <a:custGeom>
                <a:avLst/>
                <a:gdLst/>
                <a:ahLst/>
                <a:rect l="0" t="0" r="r" b="b"/>
                <a:pathLst>
                  <a:path w="20559" h="199">
                    <a:moveTo>
                      <a:pt x="0" y="199"/>
                    </a:moveTo>
                    <a:lnTo>
                      <a:pt x="20559" y="199"/>
                    </a:lnTo>
                    <a:lnTo>
                      <a:pt x="20559" y="0"/>
                    </a:lnTo>
                    <a:lnTo>
                      <a:pt x="52" y="0"/>
                    </a:lnTo>
                    <a:lnTo>
                      <a:pt x="0" y="19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4" name=""/>
            <p:cNvGrpSpPr/>
            <p:nvPr/>
          </p:nvGrpSpPr>
          <p:grpSpPr>
            <a:xfrm>
              <a:off x="0" y="304920"/>
              <a:ext cx="1659240" cy="300240"/>
              <a:chOff x="0" y="304920"/>
              <a:chExt cx="1659240" cy="300240"/>
            </a:xfrm>
          </p:grpSpPr>
          <p:sp>
            <p:nvSpPr>
              <p:cNvPr id="1505" name=""/>
              <p:cNvSpPr/>
              <p:nvPr/>
            </p:nvSpPr>
            <p:spPr>
              <a:xfrm>
                <a:off x="0" y="304920"/>
                <a:ext cx="671760" cy="300240"/>
              </a:xfrm>
              <a:custGeom>
                <a:avLst/>
                <a:gdLst/>
                <a:ahLst/>
                <a:rect l="0" t="0" r="r" b="b"/>
                <a:pathLst>
                  <a:path w="1866" h="834">
                    <a:moveTo>
                      <a:pt x="0" y="0"/>
                    </a:moveTo>
                    <a:lnTo>
                      <a:pt x="1866" y="0"/>
                    </a:lnTo>
                    <a:lnTo>
                      <a:pt x="1646" y="834"/>
                    </a:lnTo>
                    <a:lnTo>
                      <a:pt x="0" y="8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641520" y="304920"/>
                <a:ext cx="395640" cy="300240"/>
              </a:xfrm>
              <a:custGeom>
                <a:avLst/>
                <a:gdLst/>
                <a:ahLst/>
                <a:rect l="0" t="0" r="r" b="b"/>
                <a:pathLst>
                  <a:path w="1099" h="834">
                    <a:moveTo>
                      <a:pt x="219" y="0"/>
                    </a:moveTo>
                    <a:lnTo>
                      <a:pt x="0" y="834"/>
                    </a:lnTo>
                    <a:lnTo>
                      <a:pt x="879" y="834"/>
                    </a:lnTo>
                    <a:lnTo>
                      <a:pt x="1099" y="0"/>
                    </a:lnTo>
                    <a:lnTo>
                      <a:pt x="2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1001880" y="304920"/>
                <a:ext cx="316440" cy="300240"/>
              </a:xfrm>
              <a:custGeom>
                <a:avLst/>
                <a:gdLst/>
                <a:ahLst/>
                <a:rect l="0" t="0" r="r" b="b"/>
                <a:pathLst>
                  <a:path w="879" h="834">
                    <a:moveTo>
                      <a:pt x="219" y="0"/>
                    </a:moveTo>
                    <a:lnTo>
                      <a:pt x="0" y="834"/>
                    </a:lnTo>
                    <a:lnTo>
                      <a:pt x="660" y="834"/>
                    </a:lnTo>
                    <a:lnTo>
                      <a:pt x="879" y="0"/>
                    </a:lnTo>
                    <a:lnTo>
                      <a:pt x="2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1278000" y="304920"/>
                <a:ext cx="236880" cy="300240"/>
              </a:xfrm>
              <a:custGeom>
                <a:avLst/>
                <a:gdLst/>
                <a:ahLst/>
                <a:rect l="0" t="0" r="r" b="b"/>
                <a:pathLst>
                  <a:path w="658" h="834">
                    <a:moveTo>
                      <a:pt x="219" y="0"/>
                    </a:moveTo>
                    <a:lnTo>
                      <a:pt x="0" y="834"/>
                    </a:lnTo>
                    <a:lnTo>
                      <a:pt x="439" y="834"/>
                    </a:lnTo>
                    <a:lnTo>
                      <a:pt x="658" y="0"/>
                    </a:lnTo>
                    <a:lnTo>
                      <a:pt x="2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1461960" y="304920"/>
                <a:ext cx="157680" cy="300240"/>
              </a:xfrm>
              <a:custGeom>
                <a:avLst/>
                <a:gdLst/>
                <a:ahLst/>
                <a:rect l="0" t="0" r="r" b="b"/>
                <a:pathLst>
                  <a:path w="438" h="834">
                    <a:moveTo>
                      <a:pt x="219" y="0"/>
                    </a:moveTo>
                    <a:lnTo>
                      <a:pt x="219" y="0"/>
                    </a:lnTo>
                    <a:lnTo>
                      <a:pt x="0" y="834"/>
                    </a:lnTo>
                    <a:lnTo>
                      <a:pt x="219" y="834"/>
                    </a:lnTo>
                    <a:lnTo>
                      <a:pt x="438" y="0"/>
                    </a:lnTo>
                    <a:lnTo>
                      <a:pt x="2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1554120" y="304920"/>
                <a:ext cx="105120" cy="300240"/>
              </a:xfrm>
              <a:custGeom>
                <a:avLst/>
                <a:gdLst/>
                <a:ahLst/>
                <a:rect l="0" t="0" r="r" b="b"/>
                <a:pathLst>
                  <a:path w="292" h="834">
                    <a:moveTo>
                      <a:pt x="222" y="0"/>
                    </a:moveTo>
                    <a:lnTo>
                      <a:pt x="0" y="834"/>
                    </a:lnTo>
                    <a:lnTo>
                      <a:pt x="69" y="834"/>
                    </a:lnTo>
                    <a:lnTo>
                      <a:pt x="292" y="0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11" name=""/>
          <p:cNvSpPr txBox="1"/>
          <p:nvPr/>
        </p:nvSpPr>
        <p:spPr>
          <a:xfrm>
            <a:off x="1776240" y="2332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gional Performance Goa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2" name=""/>
          <p:cNvSpPr txBox="1"/>
          <p:nvPr/>
        </p:nvSpPr>
        <p:spPr>
          <a:xfrm>
            <a:off x="5124600" y="1400040"/>
            <a:ext cx="3238560" cy="448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Gathered from District Manag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Based on current sales plus 15% grow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00ff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conservative estim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00ff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sales goals will be set to exceed these leve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Will be reviewed at National Sales S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3" name="" descr=""/>
          <p:cNvPicPr/>
          <p:nvPr/>
        </p:nvPicPr>
        <p:blipFill>
          <a:blip r:embed="rId1"/>
          <a:stretch/>
        </p:blipFill>
        <p:spPr>
          <a:xfrm>
            <a:off x="239760" y="847800"/>
            <a:ext cx="4713120" cy="47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4" name=""/>
          <p:cNvGrpSpPr/>
          <p:nvPr/>
        </p:nvGrpSpPr>
        <p:grpSpPr>
          <a:xfrm>
            <a:off x="69840" y="74520"/>
            <a:ext cx="8955000" cy="6197760"/>
            <a:chOff x="69840" y="74520"/>
            <a:chExt cx="8955000" cy="6197760"/>
          </a:xfrm>
        </p:grpSpPr>
        <p:grpSp>
          <p:nvGrpSpPr>
            <p:cNvPr id="1515" name=""/>
            <p:cNvGrpSpPr/>
            <p:nvPr/>
          </p:nvGrpSpPr>
          <p:grpSpPr>
            <a:xfrm>
              <a:off x="69840" y="74520"/>
              <a:ext cx="8955000" cy="6197760"/>
              <a:chOff x="69840" y="74520"/>
              <a:chExt cx="8955000" cy="6197760"/>
            </a:xfrm>
          </p:grpSpPr>
          <p:grpSp>
            <p:nvGrpSpPr>
              <p:cNvPr id="1516" name=""/>
              <p:cNvGrpSpPr/>
              <p:nvPr/>
            </p:nvGrpSpPr>
            <p:grpSpPr>
              <a:xfrm>
                <a:off x="69840" y="74520"/>
                <a:ext cx="1098720" cy="1513080"/>
                <a:chOff x="69840" y="74520"/>
                <a:chExt cx="1098720" cy="1513080"/>
              </a:xfrm>
            </p:grpSpPr>
            <p:grpSp>
              <p:nvGrpSpPr>
                <p:cNvPr id="1517" name=""/>
                <p:cNvGrpSpPr/>
                <p:nvPr/>
              </p:nvGrpSpPr>
              <p:grpSpPr>
                <a:xfrm>
                  <a:off x="69840" y="74520"/>
                  <a:ext cx="1098720" cy="100080"/>
                  <a:chOff x="69840" y="74520"/>
                  <a:chExt cx="1098720" cy="100080"/>
                </a:xfrm>
              </p:grpSpPr>
              <p:sp>
                <p:nvSpPr>
                  <p:cNvPr id="1518" name=""/>
                  <p:cNvSpPr/>
                  <p:nvPr/>
                </p:nvSpPr>
                <p:spPr>
                  <a:xfrm>
                    <a:off x="69840" y="74520"/>
                    <a:ext cx="95400" cy="100080"/>
                  </a:xfrm>
                  <a:prstGeom prst="rect">
                    <a:avLst/>
                  </a:prstGeom>
                  <a:solidFill>
                    <a:srgbClr val="00004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9" name=""/>
                  <p:cNvSpPr/>
                  <p:nvPr/>
                </p:nvSpPr>
                <p:spPr>
                  <a:xfrm>
                    <a:off x="270000" y="74520"/>
                    <a:ext cx="93600" cy="100080"/>
                  </a:xfrm>
                  <a:prstGeom prst="rect">
                    <a:avLst/>
                  </a:prstGeom>
                  <a:solidFill>
                    <a:srgbClr val="00004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0" name=""/>
                  <p:cNvSpPr/>
                  <p:nvPr/>
                </p:nvSpPr>
                <p:spPr>
                  <a:xfrm>
                    <a:off x="471600" y="74520"/>
                    <a:ext cx="93600" cy="100080"/>
                  </a:xfrm>
                  <a:prstGeom prst="rect">
                    <a:avLst/>
                  </a:prstGeom>
                  <a:solidFill>
                    <a:srgbClr val="00004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1" name=""/>
                  <p:cNvSpPr/>
                  <p:nvPr/>
                </p:nvSpPr>
                <p:spPr>
                  <a:xfrm>
                    <a:off x="671400" y="74520"/>
                    <a:ext cx="95400" cy="100080"/>
                  </a:xfrm>
                  <a:prstGeom prst="rect">
                    <a:avLst/>
                  </a:prstGeom>
                  <a:solidFill>
                    <a:srgbClr val="00004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2" name=""/>
                  <p:cNvSpPr/>
                  <p:nvPr/>
                </p:nvSpPr>
                <p:spPr>
                  <a:xfrm>
                    <a:off x="871560" y="74520"/>
                    <a:ext cx="95400" cy="100080"/>
                  </a:xfrm>
                  <a:prstGeom prst="rect">
                    <a:avLst/>
                  </a:prstGeom>
                  <a:solidFill>
                    <a:srgbClr val="00004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3" name=""/>
                  <p:cNvSpPr/>
                  <p:nvPr/>
                </p:nvSpPr>
                <p:spPr>
                  <a:xfrm>
                    <a:off x="1073160" y="74520"/>
                    <a:ext cx="95400" cy="100080"/>
                  </a:xfrm>
                  <a:prstGeom prst="rect">
                    <a:avLst/>
                  </a:prstGeom>
                  <a:solidFill>
                    <a:srgbClr val="00004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24" name=""/>
                <p:cNvGrpSpPr/>
                <p:nvPr/>
              </p:nvGrpSpPr>
              <p:grpSpPr>
                <a:xfrm>
                  <a:off x="69840" y="272880"/>
                  <a:ext cx="1098720" cy="100080"/>
                  <a:chOff x="69840" y="272880"/>
                  <a:chExt cx="1098720" cy="100080"/>
                </a:xfrm>
              </p:grpSpPr>
              <p:sp>
                <p:nvSpPr>
                  <p:cNvPr id="1525" name=""/>
                  <p:cNvSpPr/>
                  <p:nvPr/>
                </p:nvSpPr>
                <p:spPr>
                  <a:xfrm>
                    <a:off x="69840" y="272880"/>
                    <a:ext cx="95400" cy="10008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6" name=""/>
                  <p:cNvSpPr/>
                  <p:nvPr/>
                </p:nvSpPr>
                <p:spPr>
                  <a:xfrm>
                    <a:off x="270000" y="272880"/>
                    <a:ext cx="93600" cy="10008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7" name=""/>
                  <p:cNvSpPr/>
                  <p:nvPr/>
                </p:nvSpPr>
                <p:spPr>
                  <a:xfrm>
                    <a:off x="471600" y="272880"/>
                    <a:ext cx="93600" cy="10008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8" name=""/>
                  <p:cNvSpPr/>
                  <p:nvPr/>
                </p:nvSpPr>
                <p:spPr>
                  <a:xfrm>
                    <a:off x="671400" y="272880"/>
                    <a:ext cx="95400" cy="10008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9" name=""/>
                  <p:cNvSpPr/>
                  <p:nvPr/>
                </p:nvSpPr>
                <p:spPr>
                  <a:xfrm>
                    <a:off x="871560" y="272880"/>
                    <a:ext cx="95400" cy="10008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0" name=""/>
                  <p:cNvSpPr/>
                  <p:nvPr/>
                </p:nvSpPr>
                <p:spPr>
                  <a:xfrm>
                    <a:off x="1073160" y="272880"/>
                    <a:ext cx="95400" cy="10008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1" name=""/>
                <p:cNvGrpSpPr/>
                <p:nvPr/>
              </p:nvGrpSpPr>
              <p:grpSpPr>
                <a:xfrm>
                  <a:off x="69840" y="476280"/>
                  <a:ext cx="1098720" cy="100080"/>
                  <a:chOff x="69840" y="476280"/>
                  <a:chExt cx="1098720" cy="100080"/>
                </a:xfrm>
              </p:grpSpPr>
              <p:sp>
                <p:nvSpPr>
                  <p:cNvPr id="1532" name=""/>
                  <p:cNvSpPr/>
                  <p:nvPr/>
                </p:nvSpPr>
                <p:spPr>
                  <a:xfrm>
                    <a:off x="69840" y="476280"/>
                    <a:ext cx="95400" cy="100080"/>
                  </a:xfrm>
                  <a:prstGeom prst="rect">
                    <a:avLst/>
                  </a:prstGeom>
                  <a:solidFill>
                    <a:srgbClr val="8080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3" name=""/>
                  <p:cNvSpPr/>
                  <p:nvPr/>
                </p:nvSpPr>
                <p:spPr>
                  <a:xfrm>
                    <a:off x="270000" y="476280"/>
                    <a:ext cx="93600" cy="100080"/>
                  </a:xfrm>
                  <a:prstGeom prst="rect">
                    <a:avLst/>
                  </a:prstGeom>
                  <a:solidFill>
                    <a:srgbClr val="8080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4" name=""/>
                  <p:cNvSpPr/>
                  <p:nvPr/>
                </p:nvSpPr>
                <p:spPr>
                  <a:xfrm>
                    <a:off x="471600" y="476280"/>
                    <a:ext cx="93600" cy="100080"/>
                  </a:xfrm>
                  <a:prstGeom prst="rect">
                    <a:avLst/>
                  </a:prstGeom>
                  <a:solidFill>
                    <a:srgbClr val="8080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5" name=""/>
                  <p:cNvSpPr/>
                  <p:nvPr/>
                </p:nvSpPr>
                <p:spPr>
                  <a:xfrm>
                    <a:off x="671400" y="476280"/>
                    <a:ext cx="95400" cy="100080"/>
                  </a:xfrm>
                  <a:prstGeom prst="rect">
                    <a:avLst/>
                  </a:prstGeom>
                  <a:solidFill>
                    <a:srgbClr val="8080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6" name=""/>
                  <p:cNvSpPr/>
                  <p:nvPr/>
                </p:nvSpPr>
                <p:spPr>
                  <a:xfrm>
                    <a:off x="871560" y="476280"/>
                    <a:ext cx="95400" cy="100080"/>
                  </a:xfrm>
                  <a:prstGeom prst="rect">
                    <a:avLst/>
                  </a:prstGeom>
                  <a:solidFill>
                    <a:srgbClr val="8080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7" name=""/>
                  <p:cNvSpPr/>
                  <p:nvPr/>
                </p:nvSpPr>
                <p:spPr>
                  <a:xfrm>
                    <a:off x="1073160" y="476280"/>
                    <a:ext cx="95400" cy="100080"/>
                  </a:xfrm>
                  <a:prstGeom prst="rect">
                    <a:avLst/>
                  </a:prstGeom>
                  <a:solidFill>
                    <a:srgbClr val="8080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8" name=""/>
                <p:cNvGrpSpPr/>
                <p:nvPr/>
              </p:nvGrpSpPr>
              <p:grpSpPr>
                <a:xfrm>
                  <a:off x="69840" y="677880"/>
                  <a:ext cx="1098720" cy="101520"/>
                  <a:chOff x="69840" y="677880"/>
                  <a:chExt cx="1098720" cy="101520"/>
                </a:xfrm>
              </p:grpSpPr>
              <p:sp>
                <p:nvSpPr>
                  <p:cNvPr id="1539" name=""/>
                  <p:cNvSpPr/>
                  <p:nvPr/>
                </p:nvSpPr>
                <p:spPr>
                  <a:xfrm>
                    <a:off x="69840" y="677880"/>
                    <a:ext cx="95400" cy="101520"/>
                  </a:xfrm>
                  <a:prstGeom prst="rect">
                    <a:avLst/>
                  </a:prstGeom>
                  <a:solidFill>
                    <a:srgbClr val="40004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0" name=""/>
                  <p:cNvSpPr/>
                  <p:nvPr/>
                </p:nvSpPr>
                <p:spPr>
                  <a:xfrm>
                    <a:off x="270000" y="677880"/>
                    <a:ext cx="93600" cy="101520"/>
                  </a:xfrm>
                  <a:prstGeom prst="rect">
                    <a:avLst/>
                  </a:prstGeom>
                  <a:solidFill>
                    <a:srgbClr val="40004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1" name=""/>
                  <p:cNvSpPr/>
                  <p:nvPr/>
                </p:nvSpPr>
                <p:spPr>
                  <a:xfrm>
                    <a:off x="471600" y="677880"/>
                    <a:ext cx="93600" cy="101520"/>
                  </a:xfrm>
                  <a:prstGeom prst="rect">
                    <a:avLst/>
                  </a:prstGeom>
                  <a:solidFill>
                    <a:srgbClr val="40004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2" name=""/>
                  <p:cNvSpPr/>
                  <p:nvPr/>
                </p:nvSpPr>
                <p:spPr>
                  <a:xfrm>
                    <a:off x="671400" y="677880"/>
                    <a:ext cx="95400" cy="101520"/>
                  </a:xfrm>
                  <a:prstGeom prst="rect">
                    <a:avLst/>
                  </a:prstGeom>
                  <a:solidFill>
                    <a:srgbClr val="40004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3" name=""/>
                  <p:cNvSpPr/>
                  <p:nvPr/>
                </p:nvSpPr>
                <p:spPr>
                  <a:xfrm>
                    <a:off x="871560" y="677880"/>
                    <a:ext cx="95400" cy="101520"/>
                  </a:xfrm>
                  <a:prstGeom prst="rect">
                    <a:avLst/>
                  </a:prstGeom>
                  <a:solidFill>
                    <a:srgbClr val="40004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4" name=""/>
                  <p:cNvSpPr/>
                  <p:nvPr/>
                </p:nvSpPr>
                <p:spPr>
                  <a:xfrm>
                    <a:off x="1073160" y="677880"/>
                    <a:ext cx="95400" cy="101520"/>
                  </a:xfrm>
                  <a:prstGeom prst="rect">
                    <a:avLst/>
                  </a:prstGeom>
                  <a:solidFill>
                    <a:srgbClr val="40004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5" name=""/>
                <p:cNvGrpSpPr/>
                <p:nvPr/>
              </p:nvGrpSpPr>
              <p:grpSpPr>
                <a:xfrm>
                  <a:off x="69840" y="878040"/>
                  <a:ext cx="1098720" cy="101520"/>
                  <a:chOff x="69840" y="878040"/>
                  <a:chExt cx="1098720" cy="101520"/>
                </a:xfrm>
              </p:grpSpPr>
              <p:sp>
                <p:nvSpPr>
                  <p:cNvPr id="1546" name=""/>
                  <p:cNvSpPr/>
                  <p:nvPr/>
                </p:nvSpPr>
                <p:spPr>
                  <a:xfrm>
                    <a:off x="69840" y="878040"/>
                    <a:ext cx="95400" cy="101520"/>
                  </a:xfrm>
                  <a:prstGeom prst="rect">
                    <a:avLst/>
                  </a:prstGeom>
                  <a:solidFill>
                    <a:srgbClr val="c000c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7" name=""/>
                  <p:cNvSpPr/>
                  <p:nvPr/>
                </p:nvSpPr>
                <p:spPr>
                  <a:xfrm>
                    <a:off x="270000" y="878040"/>
                    <a:ext cx="93600" cy="101520"/>
                  </a:xfrm>
                  <a:prstGeom prst="rect">
                    <a:avLst/>
                  </a:prstGeom>
                  <a:solidFill>
                    <a:srgbClr val="c000c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8" name=""/>
                  <p:cNvSpPr/>
                  <p:nvPr/>
                </p:nvSpPr>
                <p:spPr>
                  <a:xfrm>
                    <a:off x="471600" y="878040"/>
                    <a:ext cx="93600" cy="101520"/>
                  </a:xfrm>
                  <a:prstGeom prst="rect">
                    <a:avLst/>
                  </a:prstGeom>
                  <a:solidFill>
                    <a:srgbClr val="c000c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9" name=""/>
                  <p:cNvSpPr/>
                  <p:nvPr/>
                </p:nvSpPr>
                <p:spPr>
                  <a:xfrm>
                    <a:off x="671400" y="878040"/>
                    <a:ext cx="95400" cy="101520"/>
                  </a:xfrm>
                  <a:prstGeom prst="rect">
                    <a:avLst/>
                  </a:prstGeom>
                  <a:solidFill>
                    <a:srgbClr val="c000c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0" name=""/>
                  <p:cNvSpPr/>
                  <p:nvPr/>
                </p:nvSpPr>
                <p:spPr>
                  <a:xfrm>
                    <a:off x="871560" y="878040"/>
                    <a:ext cx="95400" cy="101520"/>
                  </a:xfrm>
                  <a:prstGeom prst="rect">
                    <a:avLst/>
                  </a:prstGeom>
                  <a:solidFill>
                    <a:srgbClr val="c000c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1" name=""/>
                  <p:cNvSpPr/>
                  <p:nvPr/>
                </p:nvSpPr>
                <p:spPr>
                  <a:xfrm>
                    <a:off x="1073160" y="878040"/>
                    <a:ext cx="95400" cy="101520"/>
                  </a:xfrm>
                  <a:prstGeom prst="rect">
                    <a:avLst/>
                  </a:prstGeom>
                  <a:solidFill>
                    <a:srgbClr val="c000c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2" name=""/>
                <p:cNvGrpSpPr/>
                <p:nvPr/>
              </p:nvGrpSpPr>
              <p:grpSpPr>
                <a:xfrm>
                  <a:off x="69840" y="1081080"/>
                  <a:ext cx="1098720" cy="101520"/>
                  <a:chOff x="69840" y="1081080"/>
                  <a:chExt cx="1098720" cy="101520"/>
                </a:xfrm>
              </p:grpSpPr>
              <p:sp>
                <p:nvSpPr>
                  <p:cNvPr id="1553" name=""/>
                  <p:cNvSpPr/>
                  <p:nvPr/>
                </p:nvSpPr>
                <p:spPr>
                  <a:xfrm>
                    <a:off x="69840" y="1081080"/>
                    <a:ext cx="95400" cy="101520"/>
                  </a:xfrm>
                  <a:prstGeom prst="rect">
                    <a:avLst/>
                  </a:prstGeom>
                  <a:solidFill>
                    <a:srgbClr val="ff00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4" name=""/>
                  <p:cNvSpPr/>
                  <p:nvPr/>
                </p:nvSpPr>
                <p:spPr>
                  <a:xfrm>
                    <a:off x="270000" y="1081080"/>
                    <a:ext cx="93600" cy="101520"/>
                  </a:xfrm>
                  <a:prstGeom prst="rect">
                    <a:avLst/>
                  </a:prstGeom>
                  <a:solidFill>
                    <a:srgbClr val="ff00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5" name=""/>
                  <p:cNvSpPr/>
                  <p:nvPr/>
                </p:nvSpPr>
                <p:spPr>
                  <a:xfrm>
                    <a:off x="471600" y="1081080"/>
                    <a:ext cx="93600" cy="101520"/>
                  </a:xfrm>
                  <a:prstGeom prst="rect">
                    <a:avLst/>
                  </a:prstGeom>
                  <a:solidFill>
                    <a:srgbClr val="ff00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6" name=""/>
                  <p:cNvSpPr/>
                  <p:nvPr/>
                </p:nvSpPr>
                <p:spPr>
                  <a:xfrm>
                    <a:off x="671400" y="1081080"/>
                    <a:ext cx="95400" cy="101520"/>
                  </a:xfrm>
                  <a:prstGeom prst="rect">
                    <a:avLst/>
                  </a:prstGeom>
                  <a:solidFill>
                    <a:srgbClr val="ff00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7" name=""/>
                  <p:cNvSpPr/>
                  <p:nvPr/>
                </p:nvSpPr>
                <p:spPr>
                  <a:xfrm>
                    <a:off x="871560" y="1081080"/>
                    <a:ext cx="95400" cy="101520"/>
                  </a:xfrm>
                  <a:prstGeom prst="rect">
                    <a:avLst/>
                  </a:prstGeom>
                  <a:solidFill>
                    <a:srgbClr val="ff00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8" name=""/>
                  <p:cNvSpPr/>
                  <p:nvPr/>
                </p:nvSpPr>
                <p:spPr>
                  <a:xfrm>
                    <a:off x="1073160" y="1081080"/>
                    <a:ext cx="95400" cy="101520"/>
                  </a:xfrm>
                  <a:prstGeom prst="rect">
                    <a:avLst/>
                  </a:prstGeom>
                  <a:solidFill>
                    <a:srgbClr val="ff00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9" name=""/>
                <p:cNvGrpSpPr/>
                <p:nvPr/>
              </p:nvGrpSpPr>
              <p:grpSpPr>
                <a:xfrm>
                  <a:off x="69840" y="1282680"/>
                  <a:ext cx="1098720" cy="101520"/>
                  <a:chOff x="69840" y="1282680"/>
                  <a:chExt cx="1098720" cy="101520"/>
                </a:xfrm>
              </p:grpSpPr>
              <p:sp>
                <p:nvSpPr>
                  <p:cNvPr id="1560" name=""/>
                  <p:cNvSpPr/>
                  <p:nvPr/>
                </p:nvSpPr>
                <p:spPr>
                  <a:xfrm>
                    <a:off x="69840" y="1282680"/>
                    <a:ext cx="95400" cy="101520"/>
                  </a:xfrm>
                  <a:prstGeom prst="rect">
                    <a:avLst/>
                  </a:prstGeom>
                  <a:solidFill>
                    <a:srgbClr val="00808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1" name=""/>
                  <p:cNvSpPr/>
                  <p:nvPr/>
                </p:nvSpPr>
                <p:spPr>
                  <a:xfrm>
                    <a:off x="270000" y="1282680"/>
                    <a:ext cx="93600" cy="101520"/>
                  </a:xfrm>
                  <a:prstGeom prst="rect">
                    <a:avLst/>
                  </a:prstGeom>
                  <a:solidFill>
                    <a:srgbClr val="00808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2" name=""/>
                  <p:cNvSpPr/>
                  <p:nvPr/>
                </p:nvSpPr>
                <p:spPr>
                  <a:xfrm>
                    <a:off x="471600" y="1282680"/>
                    <a:ext cx="93600" cy="101520"/>
                  </a:xfrm>
                  <a:prstGeom prst="rect">
                    <a:avLst/>
                  </a:prstGeom>
                  <a:solidFill>
                    <a:srgbClr val="00808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3" name=""/>
                  <p:cNvSpPr/>
                  <p:nvPr/>
                </p:nvSpPr>
                <p:spPr>
                  <a:xfrm>
                    <a:off x="671400" y="1282680"/>
                    <a:ext cx="95400" cy="101520"/>
                  </a:xfrm>
                  <a:prstGeom prst="rect">
                    <a:avLst/>
                  </a:prstGeom>
                  <a:solidFill>
                    <a:srgbClr val="00808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4" name=""/>
                  <p:cNvSpPr/>
                  <p:nvPr/>
                </p:nvSpPr>
                <p:spPr>
                  <a:xfrm>
                    <a:off x="871560" y="1282680"/>
                    <a:ext cx="95400" cy="101520"/>
                  </a:xfrm>
                  <a:prstGeom prst="rect">
                    <a:avLst/>
                  </a:prstGeom>
                  <a:solidFill>
                    <a:srgbClr val="00808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5" name=""/>
                  <p:cNvSpPr/>
                  <p:nvPr/>
                </p:nvSpPr>
                <p:spPr>
                  <a:xfrm>
                    <a:off x="1073160" y="1282680"/>
                    <a:ext cx="95400" cy="101520"/>
                  </a:xfrm>
                  <a:prstGeom prst="rect">
                    <a:avLst/>
                  </a:prstGeom>
                  <a:solidFill>
                    <a:srgbClr val="00808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6" name=""/>
                <p:cNvGrpSpPr/>
                <p:nvPr/>
              </p:nvGrpSpPr>
              <p:grpSpPr>
                <a:xfrm>
                  <a:off x="69840" y="1486080"/>
                  <a:ext cx="1098720" cy="101520"/>
                  <a:chOff x="69840" y="1486080"/>
                  <a:chExt cx="1098720" cy="101520"/>
                </a:xfrm>
              </p:grpSpPr>
              <p:sp>
                <p:nvSpPr>
                  <p:cNvPr id="1567" name=""/>
                  <p:cNvSpPr/>
                  <p:nvPr/>
                </p:nvSpPr>
                <p:spPr>
                  <a:xfrm>
                    <a:off x="69840" y="1486080"/>
                    <a:ext cx="95400" cy="101520"/>
                  </a:xfrm>
                  <a:prstGeom prst="rect">
                    <a:avLst/>
                  </a:prstGeom>
                  <a:solidFill>
                    <a:srgbClr val="00f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8" name=""/>
                  <p:cNvSpPr/>
                  <p:nvPr/>
                </p:nvSpPr>
                <p:spPr>
                  <a:xfrm>
                    <a:off x="270000" y="1486080"/>
                    <a:ext cx="93600" cy="101520"/>
                  </a:xfrm>
                  <a:prstGeom prst="rect">
                    <a:avLst/>
                  </a:prstGeom>
                  <a:solidFill>
                    <a:srgbClr val="00f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9" name=""/>
                  <p:cNvSpPr/>
                  <p:nvPr/>
                </p:nvSpPr>
                <p:spPr>
                  <a:xfrm>
                    <a:off x="471600" y="1486080"/>
                    <a:ext cx="93600" cy="101520"/>
                  </a:xfrm>
                  <a:prstGeom prst="rect">
                    <a:avLst/>
                  </a:prstGeom>
                  <a:solidFill>
                    <a:srgbClr val="00f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0" name=""/>
                  <p:cNvSpPr/>
                  <p:nvPr/>
                </p:nvSpPr>
                <p:spPr>
                  <a:xfrm>
                    <a:off x="671400" y="1486080"/>
                    <a:ext cx="95400" cy="101520"/>
                  </a:xfrm>
                  <a:prstGeom prst="rect">
                    <a:avLst/>
                  </a:prstGeom>
                  <a:solidFill>
                    <a:srgbClr val="00f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1" name=""/>
                  <p:cNvSpPr/>
                  <p:nvPr/>
                </p:nvSpPr>
                <p:spPr>
                  <a:xfrm>
                    <a:off x="871560" y="1486080"/>
                    <a:ext cx="95400" cy="101520"/>
                  </a:xfrm>
                  <a:prstGeom prst="rect">
                    <a:avLst/>
                  </a:prstGeom>
                  <a:solidFill>
                    <a:srgbClr val="00f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2" name=""/>
                  <p:cNvSpPr/>
                  <p:nvPr/>
                </p:nvSpPr>
                <p:spPr>
                  <a:xfrm>
                    <a:off x="1073160" y="1486080"/>
                    <a:ext cx="95400" cy="101520"/>
                  </a:xfrm>
                  <a:prstGeom prst="rect">
                    <a:avLst/>
                  </a:prstGeom>
                  <a:solidFill>
                    <a:srgbClr val="00f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73" name=""/>
              <p:cNvGrpSpPr/>
              <p:nvPr/>
            </p:nvGrpSpPr>
            <p:grpSpPr>
              <a:xfrm>
                <a:off x="7927920" y="4759200"/>
                <a:ext cx="1096920" cy="100080"/>
                <a:chOff x="7927920" y="4759200"/>
                <a:chExt cx="1096920" cy="100080"/>
              </a:xfrm>
            </p:grpSpPr>
            <p:sp>
              <p:nvSpPr>
                <p:cNvPr id="1574" name=""/>
                <p:cNvSpPr/>
                <p:nvPr/>
              </p:nvSpPr>
              <p:spPr>
                <a:xfrm>
                  <a:off x="7927920" y="4759200"/>
                  <a:ext cx="93600" cy="10008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5" name=""/>
                <p:cNvSpPr/>
                <p:nvPr/>
              </p:nvSpPr>
              <p:spPr>
                <a:xfrm>
                  <a:off x="8126280" y="4759200"/>
                  <a:ext cx="95400" cy="10008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6" name=""/>
                <p:cNvSpPr/>
                <p:nvPr/>
              </p:nvSpPr>
              <p:spPr>
                <a:xfrm>
                  <a:off x="8327880" y="4759200"/>
                  <a:ext cx="95400" cy="10008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>
                  <a:off x="8528040" y="4759200"/>
                  <a:ext cx="95400" cy="10008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8" name=""/>
                <p:cNvSpPr/>
                <p:nvPr/>
              </p:nvSpPr>
              <p:spPr>
                <a:xfrm>
                  <a:off x="8729640" y="4759200"/>
                  <a:ext cx="93600" cy="10008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9" name=""/>
                <p:cNvSpPr/>
                <p:nvPr/>
              </p:nvSpPr>
              <p:spPr>
                <a:xfrm>
                  <a:off x="8931240" y="4759200"/>
                  <a:ext cx="93600" cy="10008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0" name=""/>
              <p:cNvGrpSpPr/>
              <p:nvPr/>
            </p:nvGrpSpPr>
            <p:grpSpPr>
              <a:xfrm>
                <a:off x="7927920" y="4957920"/>
                <a:ext cx="1096920" cy="100080"/>
                <a:chOff x="7927920" y="4957920"/>
                <a:chExt cx="1096920" cy="100080"/>
              </a:xfrm>
            </p:grpSpPr>
            <p:sp>
              <p:nvSpPr>
                <p:cNvPr id="1581" name=""/>
                <p:cNvSpPr/>
                <p:nvPr/>
              </p:nvSpPr>
              <p:spPr>
                <a:xfrm>
                  <a:off x="7927920" y="4957920"/>
                  <a:ext cx="93600" cy="100080"/>
                </a:xfrm>
                <a:prstGeom prst="rect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>
                  <a:off x="8126280" y="4957920"/>
                  <a:ext cx="95400" cy="100080"/>
                </a:xfrm>
                <a:prstGeom prst="rect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>
                  <a:off x="8327880" y="4957920"/>
                  <a:ext cx="95400" cy="100080"/>
                </a:xfrm>
                <a:prstGeom prst="rect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>
                  <a:off x="8528040" y="4957920"/>
                  <a:ext cx="95400" cy="100080"/>
                </a:xfrm>
                <a:prstGeom prst="rect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>
                  <a:off x="8729640" y="4957920"/>
                  <a:ext cx="93600" cy="100080"/>
                </a:xfrm>
                <a:prstGeom prst="rect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>
                  <a:off x="8931240" y="4957920"/>
                  <a:ext cx="93600" cy="100080"/>
                </a:xfrm>
                <a:prstGeom prst="rect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7" name=""/>
              <p:cNvGrpSpPr/>
              <p:nvPr/>
            </p:nvGrpSpPr>
            <p:grpSpPr>
              <a:xfrm>
                <a:off x="7927920" y="5160960"/>
                <a:ext cx="1096920" cy="100080"/>
                <a:chOff x="7927920" y="5160960"/>
                <a:chExt cx="1096920" cy="100080"/>
              </a:xfrm>
            </p:grpSpPr>
            <p:sp>
              <p:nvSpPr>
                <p:cNvPr id="1588" name=""/>
                <p:cNvSpPr/>
                <p:nvPr/>
              </p:nvSpPr>
              <p:spPr>
                <a:xfrm>
                  <a:off x="7927920" y="5160960"/>
                  <a:ext cx="93600" cy="100080"/>
                </a:xfrm>
                <a:prstGeom prst="rect">
                  <a:avLst/>
                </a:prstGeom>
                <a:solidFill>
                  <a:srgbClr val="ff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>
                  <a:off x="8126280" y="5160960"/>
                  <a:ext cx="95400" cy="100080"/>
                </a:xfrm>
                <a:prstGeom prst="rect">
                  <a:avLst/>
                </a:prstGeom>
                <a:solidFill>
                  <a:srgbClr val="ff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>
                  <a:off x="8327880" y="5160960"/>
                  <a:ext cx="95400" cy="100080"/>
                </a:xfrm>
                <a:prstGeom prst="rect">
                  <a:avLst/>
                </a:prstGeom>
                <a:solidFill>
                  <a:srgbClr val="ff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>
                  <a:off x="8528040" y="5160960"/>
                  <a:ext cx="95400" cy="100080"/>
                </a:xfrm>
                <a:prstGeom prst="rect">
                  <a:avLst/>
                </a:prstGeom>
                <a:solidFill>
                  <a:srgbClr val="ff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>
                  <a:off x="8729640" y="5160960"/>
                  <a:ext cx="93600" cy="100080"/>
                </a:xfrm>
                <a:prstGeom prst="rect">
                  <a:avLst/>
                </a:prstGeom>
                <a:solidFill>
                  <a:srgbClr val="ff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3" name=""/>
                <p:cNvSpPr/>
                <p:nvPr/>
              </p:nvSpPr>
              <p:spPr>
                <a:xfrm>
                  <a:off x="8931240" y="5160960"/>
                  <a:ext cx="93600" cy="100080"/>
                </a:xfrm>
                <a:prstGeom prst="rect">
                  <a:avLst/>
                </a:prstGeom>
                <a:solidFill>
                  <a:srgbClr val="ff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4" name=""/>
              <p:cNvGrpSpPr/>
              <p:nvPr/>
            </p:nvGrpSpPr>
            <p:grpSpPr>
              <a:xfrm>
                <a:off x="7927920" y="5364000"/>
                <a:ext cx="1096920" cy="100080"/>
                <a:chOff x="7927920" y="5364000"/>
                <a:chExt cx="1096920" cy="100080"/>
              </a:xfrm>
            </p:grpSpPr>
            <p:sp>
              <p:nvSpPr>
                <p:cNvPr id="1595" name=""/>
                <p:cNvSpPr/>
                <p:nvPr/>
              </p:nvSpPr>
              <p:spPr>
                <a:xfrm>
                  <a:off x="7927920" y="5364000"/>
                  <a:ext cx="93600" cy="100080"/>
                </a:xfrm>
                <a:prstGeom prst="rect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6" name=""/>
                <p:cNvSpPr/>
                <p:nvPr/>
              </p:nvSpPr>
              <p:spPr>
                <a:xfrm>
                  <a:off x="8126280" y="5364000"/>
                  <a:ext cx="95400" cy="100080"/>
                </a:xfrm>
                <a:prstGeom prst="rect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7" name=""/>
                <p:cNvSpPr/>
                <p:nvPr/>
              </p:nvSpPr>
              <p:spPr>
                <a:xfrm>
                  <a:off x="8327880" y="5364000"/>
                  <a:ext cx="95400" cy="100080"/>
                </a:xfrm>
                <a:prstGeom prst="rect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8" name=""/>
                <p:cNvSpPr/>
                <p:nvPr/>
              </p:nvSpPr>
              <p:spPr>
                <a:xfrm>
                  <a:off x="8528040" y="5364000"/>
                  <a:ext cx="95400" cy="100080"/>
                </a:xfrm>
                <a:prstGeom prst="rect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9" name=""/>
                <p:cNvSpPr/>
                <p:nvPr/>
              </p:nvSpPr>
              <p:spPr>
                <a:xfrm>
                  <a:off x="8729640" y="5364000"/>
                  <a:ext cx="93600" cy="100080"/>
                </a:xfrm>
                <a:prstGeom prst="rect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0" name=""/>
                <p:cNvSpPr/>
                <p:nvPr/>
              </p:nvSpPr>
              <p:spPr>
                <a:xfrm>
                  <a:off x="8931240" y="5364000"/>
                  <a:ext cx="93600" cy="100080"/>
                </a:xfrm>
                <a:prstGeom prst="rect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01" name=""/>
              <p:cNvGrpSpPr/>
              <p:nvPr/>
            </p:nvGrpSpPr>
            <p:grpSpPr>
              <a:xfrm>
                <a:off x="7927920" y="5564160"/>
                <a:ext cx="1096920" cy="100080"/>
                <a:chOff x="7927920" y="5564160"/>
                <a:chExt cx="1096920" cy="100080"/>
              </a:xfrm>
            </p:grpSpPr>
            <p:sp>
              <p:nvSpPr>
                <p:cNvPr id="1602" name=""/>
                <p:cNvSpPr/>
                <p:nvPr/>
              </p:nvSpPr>
              <p:spPr>
                <a:xfrm>
                  <a:off x="7927920" y="5564160"/>
                  <a:ext cx="93600" cy="100080"/>
                </a:xfrm>
                <a:prstGeom prst="rect">
                  <a:avLst/>
                </a:prstGeom>
                <a:solidFill>
                  <a:srgbClr val="40004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3" name=""/>
                <p:cNvSpPr/>
                <p:nvPr/>
              </p:nvSpPr>
              <p:spPr>
                <a:xfrm>
                  <a:off x="8126280" y="5564160"/>
                  <a:ext cx="95400" cy="100080"/>
                </a:xfrm>
                <a:prstGeom prst="rect">
                  <a:avLst/>
                </a:prstGeom>
                <a:solidFill>
                  <a:srgbClr val="40004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4" name=""/>
                <p:cNvSpPr/>
                <p:nvPr/>
              </p:nvSpPr>
              <p:spPr>
                <a:xfrm>
                  <a:off x="8327880" y="5564160"/>
                  <a:ext cx="95400" cy="100080"/>
                </a:xfrm>
                <a:prstGeom prst="rect">
                  <a:avLst/>
                </a:prstGeom>
                <a:solidFill>
                  <a:srgbClr val="40004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5" name=""/>
                <p:cNvSpPr/>
                <p:nvPr/>
              </p:nvSpPr>
              <p:spPr>
                <a:xfrm>
                  <a:off x="8528040" y="5564160"/>
                  <a:ext cx="95400" cy="100080"/>
                </a:xfrm>
                <a:prstGeom prst="rect">
                  <a:avLst/>
                </a:prstGeom>
                <a:solidFill>
                  <a:srgbClr val="40004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6" name=""/>
                <p:cNvSpPr/>
                <p:nvPr/>
              </p:nvSpPr>
              <p:spPr>
                <a:xfrm>
                  <a:off x="8729640" y="5564160"/>
                  <a:ext cx="93600" cy="100080"/>
                </a:xfrm>
                <a:prstGeom prst="rect">
                  <a:avLst/>
                </a:prstGeom>
                <a:solidFill>
                  <a:srgbClr val="40004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7" name=""/>
                <p:cNvSpPr/>
                <p:nvPr/>
              </p:nvSpPr>
              <p:spPr>
                <a:xfrm>
                  <a:off x="8931240" y="5564160"/>
                  <a:ext cx="93600" cy="100080"/>
                </a:xfrm>
                <a:prstGeom prst="rect">
                  <a:avLst/>
                </a:prstGeom>
                <a:solidFill>
                  <a:srgbClr val="40004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08" name=""/>
              <p:cNvGrpSpPr/>
              <p:nvPr/>
            </p:nvGrpSpPr>
            <p:grpSpPr>
              <a:xfrm>
                <a:off x="7927920" y="5767560"/>
                <a:ext cx="1096920" cy="100080"/>
                <a:chOff x="7927920" y="5767560"/>
                <a:chExt cx="1096920" cy="100080"/>
              </a:xfrm>
            </p:grpSpPr>
            <p:sp>
              <p:nvSpPr>
                <p:cNvPr id="1609" name=""/>
                <p:cNvSpPr/>
                <p:nvPr/>
              </p:nvSpPr>
              <p:spPr>
                <a:xfrm>
                  <a:off x="7927920" y="5767560"/>
                  <a:ext cx="93600" cy="100080"/>
                </a:xfrm>
                <a:prstGeom prst="rect">
                  <a:avLst/>
                </a:prstGeom>
                <a:solidFill>
                  <a:srgbClr val="808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>
                  <a:off x="8126280" y="5767560"/>
                  <a:ext cx="95400" cy="100080"/>
                </a:xfrm>
                <a:prstGeom prst="rect">
                  <a:avLst/>
                </a:prstGeom>
                <a:solidFill>
                  <a:srgbClr val="808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1" name=""/>
                <p:cNvSpPr/>
                <p:nvPr/>
              </p:nvSpPr>
              <p:spPr>
                <a:xfrm>
                  <a:off x="8327880" y="5767560"/>
                  <a:ext cx="95400" cy="100080"/>
                </a:xfrm>
                <a:prstGeom prst="rect">
                  <a:avLst/>
                </a:prstGeom>
                <a:solidFill>
                  <a:srgbClr val="808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>
                  <a:off x="8528040" y="5767560"/>
                  <a:ext cx="95400" cy="100080"/>
                </a:xfrm>
                <a:prstGeom prst="rect">
                  <a:avLst/>
                </a:prstGeom>
                <a:solidFill>
                  <a:srgbClr val="808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>
                  <a:off x="8729640" y="5767560"/>
                  <a:ext cx="93600" cy="100080"/>
                </a:xfrm>
                <a:prstGeom prst="rect">
                  <a:avLst/>
                </a:prstGeom>
                <a:solidFill>
                  <a:srgbClr val="808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>
                  <a:off x="8931240" y="5767560"/>
                  <a:ext cx="93600" cy="100080"/>
                </a:xfrm>
                <a:prstGeom prst="rect">
                  <a:avLst/>
                </a:prstGeom>
                <a:solidFill>
                  <a:srgbClr val="808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15" name=""/>
              <p:cNvGrpSpPr/>
              <p:nvPr/>
            </p:nvGrpSpPr>
            <p:grpSpPr>
              <a:xfrm>
                <a:off x="7927920" y="5967360"/>
                <a:ext cx="1096920" cy="101520"/>
                <a:chOff x="7927920" y="5967360"/>
                <a:chExt cx="1096920" cy="101520"/>
              </a:xfrm>
            </p:grpSpPr>
            <p:sp>
              <p:nvSpPr>
                <p:cNvPr id="1616" name=""/>
                <p:cNvSpPr/>
                <p:nvPr/>
              </p:nvSpPr>
              <p:spPr>
                <a:xfrm>
                  <a:off x="7927920" y="5967360"/>
                  <a:ext cx="93600" cy="101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>
                  <a:off x="8126280" y="5967360"/>
                  <a:ext cx="95400" cy="101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8" name=""/>
                <p:cNvSpPr/>
                <p:nvPr/>
              </p:nvSpPr>
              <p:spPr>
                <a:xfrm>
                  <a:off x="8327880" y="5967360"/>
                  <a:ext cx="95400" cy="101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9" name=""/>
                <p:cNvSpPr/>
                <p:nvPr/>
              </p:nvSpPr>
              <p:spPr>
                <a:xfrm>
                  <a:off x="8528040" y="5967360"/>
                  <a:ext cx="95400" cy="101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0" name=""/>
                <p:cNvSpPr/>
                <p:nvPr/>
              </p:nvSpPr>
              <p:spPr>
                <a:xfrm>
                  <a:off x="8729640" y="5967360"/>
                  <a:ext cx="93600" cy="101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1" name=""/>
                <p:cNvSpPr/>
                <p:nvPr/>
              </p:nvSpPr>
              <p:spPr>
                <a:xfrm>
                  <a:off x="8931240" y="5967360"/>
                  <a:ext cx="93600" cy="1015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2" name=""/>
              <p:cNvGrpSpPr/>
              <p:nvPr/>
            </p:nvGrpSpPr>
            <p:grpSpPr>
              <a:xfrm>
                <a:off x="7927920" y="6170760"/>
                <a:ext cx="1096920" cy="101520"/>
                <a:chOff x="7927920" y="6170760"/>
                <a:chExt cx="1096920" cy="101520"/>
              </a:xfrm>
            </p:grpSpPr>
            <p:sp>
              <p:nvSpPr>
                <p:cNvPr id="1623" name=""/>
                <p:cNvSpPr/>
                <p:nvPr/>
              </p:nvSpPr>
              <p:spPr>
                <a:xfrm>
                  <a:off x="7927920" y="6170760"/>
                  <a:ext cx="93600" cy="101520"/>
                </a:xfrm>
                <a:prstGeom prst="rect">
                  <a:avLst/>
                </a:prstGeom>
                <a:solidFill>
                  <a:srgbClr val="00004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4" name=""/>
                <p:cNvSpPr/>
                <p:nvPr/>
              </p:nvSpPr>
              <p:spPr>
                <a:xfrm>
                  <a:off x="8126280" y="6170760"/>
                  <a:ext cx="95400" cy="101520"/>
                </a:xfrm>
                <a:prstGeom prst="rect">
                  <a:avLst/>
                </a:prstGeom>
                <a:solidFill>
                  <a:srgbClr val="00004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5" name=""/>
                <p:cNvSpPr/>
                <p:nvPr/>
              </p:nvSpPr>
              <p:spPr>
                <a:xfrm>
                  <a:off x="8327880" y="6170760"/>
                  <a:ext cx="95400" cy="101520"/>
                </a:xfrm>
                <a:prstGeom prst="rect">
                  <a:avLst/>
                </a:prstGeom>
                <a:solidFill>
                  <a:srgbClr val="00004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6" name=""/>
                <p:cNvSpPr/>
                <p:nvPr/>
              </p:nvSpPr>
              <p:spPr>
                <a:xfrm>
                  <a:off x="8528040" y="6170760"/>
                  <a:ext cx="95400" cy="101520"/>
                </a:xfrm>
                <a:prstGeom prst="rect">
                  <a:avLst/>
                </a:prstGeom>
                <a:solidFill>
                  <a:srgbClr val="00004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7" name=""/>
                <p:cNvSpPr/>
                <p:nvPr/>
              </p:nvSpPr>
              <p:spPr>
                <a:xfrm>
                  <a:off x="8729640" y="6170760"/>
                  <a:ext cx="93600" cy="101520"/>
                </a:xfrm>
                <a:prstGeom prst="rect">
                  <a:avLst/>
                </a:prstGeom>
                <a:solidFill>
                  <a:srgbClr val="00004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8" name=""/>
                <p:cNvSpPr/>
                <p:nvPr/>
              </p:nvSpPr>
              <p:spPr>
                <a:xfrm>
                  <a:off x="8931240" y="6170760"/>
                  <a:ext cx="93600" cy="101520"/>
                </a:xfrm>
                <a:prstGeom prst="rect">
                  <a:avLst/>
                </a:prstGeom>
                <a:solidFill>
                  <a:srgbClr val="00004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29" name=""/>
            <p:cNvSpPr/>
            <p:nvPr/>
          </p:nvSpPr>
          <p:spPr>
            <a:xfrm>
              <a:off x="457200" y="444600"/>
              <a:ext cx="8229600" cy="5511960"/>
            </a:xfrm>
            <a:prstGeom prst="rect">
              <a:avLst/>
            </a:prstGeom>
            <a:solidFill>
              <a:srgbClr val="0000c0"/>
            </a:solidFill>
            <a:ln w="12600">
              <a:solidFill>
                <a:srgbClr val="ff00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0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ock Performance</a:t>
            </a:r>
            <a:br>
              <a:rPr sz="36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rch 1992 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1" name=""/>
          <p:cNvGrpSpPr/>
          <p:nvPr/>
        </p:nvGrpSpPr>
        <p:grpSpPr>
          <a:xfrm>
            <a:off x="614520" y="1606680"/>
            <a:ext cx="7915320" cy="4255920"/>
            <a:chOff x="614520" y="1606680"/>
            <a:chExt cx="7915320" cy="4255920"/>
          </a:xfrm>
        </p:grpSpPr>
        <p:sp>
          <p:nvSpPr>
            <p:cNvPr id="1632" name=""/>
            <p:cNvSpPr/>
            <p:nvPr/>
          </p:nvSpPr>
          <p:spPr>
            <a:xfrm>
              <a:off x="1200240" y="1943280"/>
              <a:ext cx="7182000" cy="340992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33" name="" descr=""/>
            <p:cNvPicPr/>
            <p:nvPr/>
          </p:nvPicPr>
          <p:blipFill>
            <a:blip r:embed="rId1"/>
            <a:stretch/>
          </p:blipFill>
          <p:spPr>
            <a:xfrm>
              <a:off x="614520" y="1606680"/>
              <a:ext cx="7915320" cy="4255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4" name=""/>
          <p:cNvGrpSpPr/>
          <p:nvPr/>
        </p:nvGrpSpPr>
        <p:grpSpPr>
          <a:xfrm>
            <a:off x="-1440" y="0"/>
            <a:ext cx="9144000" cy="6400800"/>
            <a:chOff x="-1440" y="0"/>
            <a:chExt cx="9144000" cy="6400800"/>
          </a:xfrm>
        </p:grpSpPr>
        <p:grpSp>
          <p:nvGrpSpPr>
            <p:cNvPr id="1635" name=""/>
            <p:cNvGrpSpPr/>
            <p:nvPr/>
          </p:nvGrpSpPr>
          <p:grpSpPr>
            <a:xfrm>
              <a:off x="-1440" y="0"/>
              <a:ext cx="9144000" cy="6400800"/>
              <a:chOff x="-1440" y="0"/>
              <a:chExt cx="9144000" cy="6400800"/>
            </a:xfrm>
          </p:grpSpPr>
          <p:sp>
            <p:nvSpPr>
              <p:cNvPr id="1636" name=""/>
              <p:cNvSpPr/>
              <p:nvPr/>
            </p:nvSpPr>
            <p:spPr>
              <a:xfrm>
                <a:off x="-1440" y="0"/>
                <a:ext cx="9144000" cy="6400800"/>
              </a:xfrm>
              <a:prstGeom prst="rect">
                <a:avLst/>
              </a:prstGeom>
              <a:solidFill>
                <a:srgbClr val="404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7" name=""/>
              <p:cNvGrpSpPr/>
              <p:nvPr/>
            </p:nvGrpSpPr>
            <p:grpSpPr>
              <a:xfrm>
                <a:off x="379440" y="5546880"/>
                <a:ext cx="8439480" cy="711720"/>
                <a:chOff x="379440" y="5546880"/>
                <a:chExt cx="8439480" cy="711720"/>
              </a:xfrm>
            </p:grpSpPr>
            <p:sp>
              <p:nvSpPr>
                <p:cNvPr id="1638" name=""/>
                <p:cNvSpPr/>
                <p:nvPr/>
              </p:nvSpPr>
              <p:spPr>
                <a:xfrm>
                  <a:off x="379440" y="5546880"/>
                  <a:ext cx="584640" cy="711720"/>
                </a:xfrm>
                <a:custGeom>
                  <a:avLst/>
                  <a:gdLst/>
                  <a:ahLst/>
                  <a:rect l="0" t="0" r="r" b="b"/>
                  <a:pathLst>
                    <a:path w="1624" h="1977">
                      <a:moveTo>
                        <a:pt x="0" y="0"/>
                      </a:moveTo>
                      <a:lnTo>
                        <a:pt x="1624" y="0"/>
                      </a:lnTo>
                      <a:lnTo>
                        <a:pt x="1624" y="1977"/>
                      </a:lnTo>
                      <a:lnTo>
                        <a:pt x="0" y="1977"/>
                      </a:lnTo>
                      <a:lnTo>
                        <a:pt x="0" y="493"/>
                      </a:lnTo>
                      <a:lnTo>
                        <a:pt x="1219" y="493"/>
                      </a:lnTo>
                      <a:lnTo>
                        <a:pt x="1219" y="1482"/>
                      </a:lnTo>
                      <a:lnTo>
                        <a:pt x="405" y="1482"/>
                      </a:lnTo>
                      <a:lnTo>
                        <a:pt x="405" y="988"/>
                      </a:lnTo>
                      <a:lnTo>
                        <a:pt x="609" y="988"/>
                      </a:lnTo>
                      <a:lnTo>
                        <a:pt x="609" y="1235"/>
                      </a:lnTo>
                      <a:lnTo>
                        <a:pt x="1015" y="1235"/>
                      </a:lnTo>
                      <a:lnTo>
                        <a:pt x="1015" y="741"/>
                      </a:lnTo>
                      <a:lnTo>
                        <a:pt x="202" y="741"/>
                      </a:lnTo>
                      <a:lnTo>
                        <a:pt x="202" y="1730"/>
                      </a:lnTo>
                      <a:lnTo>
                        <a:pt x="1421" y="1730"/>
                      </a:lnTo>
                      <a:lnTo>
                        <a:pt x="1421" y="246"/>
                      </a:lnTo>
                      <a:lnTo>
                        <a:pt x="0" y="24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9" name=""/>
                <p:cNvSpPr/>
                <p:nvPr/>
              </p:nvSpPr>
              <p:spPr>
                <a:xfrm>
                  <a:off x="1093680" y="5546880"/>
                  <a:ext cx="584640" cy="711720"/>
                </a:xfrm>
                <a:custGeom>
                  <a:avLst/>
                  <a:gdLst/>
                  <a:ahLst/>
                  <a:rect l="0" t="0" r="r" b="b"/>
                  <a:pathLst>
                    <a:path w="1624" h="1977">
                      <a:moveTo>
                        <a:pt x="0" y="0"/>
                      </a:moveTo>
                      <a:lnTo>
                        <a:pt x="1624" y="0"/>
                      </a:lnTo>
                      <a:lnTo>
                        <a:pt x="1624" y="1977"/>
                      </a:lnTo>
                      <a:lnTo>
                        <a:pt x="0" y="1977"/>
                      </a:lnTo>
                      <a:lnTo>
                        <a:pt x="0" y="493"/>
                      </a:lnTo>
                      <a:lnTo>
                        <a:pt x="1219" y="493"/>
                      </a:lnTo>
                      <a:lnTo>
                        <a:pt x="1219" y="1482"/>
                      </a:lnTo>
                      <a:lnTo>
                        <a:pt x="405" y="1482"/>
                      </a:lnTo>
                      <a:lnTo>
                        <a:pt x="405" y="988"/>
                      </a:lnTo>
                      <a:lnTo>
                        <a:pt x="609" y="988"/>
                      </a:lnTo>
                      <a:lnTo>
                        <a:pt x="609" y="1235"/>
                      </a:lnTo>
                      <a:lnTo>
                        <a:pt x="1015" y="1235"/>
                      </a:lnTo>
                      <a:lnTo>
                        <a:pt x="1015" y="741"/>
                      </a:lnTo>
                      <a:lnTo>
                        <a:pt x="202" y="741"/>
                      </a:lnTo>
                      <a:lnTo>
                        <a:pt x="202" y="1730"/>
                      </a:lnTo>
                      <a:lnTo>
                        <a:pt x="1421" y="1730"/>
                      </a:lnTo>
                      <a:lnTo>
                        <a:pt x="1421" y="246"/>
                      </a:lnTo>
                      <a:lnTo>
                        <a:pt x="0" y="24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0" name=""/>
                <p:cNvSpPr/>
                <p:nvPr/>
              </p:nvSpPr>
              <p:spPr>
                <a:xfrm>
                  <a:off x="1808280" y="5546880"/>
                  <a:ext cx="582840" cy="711720"/>
                </a:xfrm>
                <a:custGeom>
                  <a:avLst/>
                  <a:gdLst/>
                  <a:ahLst/>
                  <a:rect l="0" t="0" r="r" b="b"/>
                  <a:pathLst>
                    <a:path w="1619" h="1977">
                      <a:moveTo>
                        <a:pt x="0" y="0"/>
                      </a:moveTo>
                      <a:lnTo>
                        <a:pt x="1619" y="0"/>
                      </a:lnTo>
                      <a:lnTo>
                        <a:pt x="1619" y="1977"/>
                      </a:lnTo>
                      <a:lnTo>
                        <a:pt x="0" y="1977"/>
                      </a:lnTo>
                      <a:lnTo>
                        <a:pt x="0" y="493"/>
                      </a:lnTo>
                      <a:lnTo>
                        <a:pt x="1214" y="493"/>
                      </a:lnTo>
                      <a:lnTo>
                        <a:pt x="1214" y="1482"/>
                      </a:lnTo>
                      <a:lnTo>
                        <a:pt x="404" y="1482"/>
                      </a:lnTo>
                      <a:lnTo>
                        <a:pt x="404" y="988"/>
                      </a:lnTo>
                      <a:lnTo>
                        <a:pt x="606" y="988"/>
                      </a:lnTo>
                      <a:lnTo>
                        <a:pt x="606" y="1235"/>
                      </a:lnTo>
                      <a:lnTo>
                        <a:pt x="1012" y="1235"/>
                      </a:lnTo>
                      <a:lnTo>
                        <a:pt x="1012" y="741"/>
                      </a:lnTo>
                      <a:lnTo>
                        <a:pt x="202" y="741"/>
                      </a:lnTo>
                      <a:lnTo>
                        <a:pt x="202" y="1730"/>
                      </a:lnTo>
                      <a:lnTo>
                        <a:pt x="1417" y="1730"/>
                      </a:lnTo>
                      <a:lnTo>
                        <a:pt x="1417" y="246"/>
                      </a:lnTo>
                      <a:lnTo>
                        <a:pt x="0" y="24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1" name=""/>
                <p:cNvSpPr/>
                <p:nvPr/>
              </p:nvSpPr>
              <p:spPr>
                <a:xfrm>
                  <a:off x="2521080" y="5546880"/>
                  <a:ext cx="586080" cy="711720"/>
                </a:xfrm>
                <a:custGeom>
                  <a:avLst/>
                  <a:gdLst/>
                  <a:ahLst/>
                  <a:rect l="0" t="0" r="r" b="b"/>
                  <a:pathLst>
                    <a:path w="1628" h="1977">
                      <a:moveTo>
                        <a:pt x="0" y="0"/>
                      </a:moveTo>
                      <a:lnTo>
                        <a:pt x="1628" y="0"/>
                      </a:lnTo>
                      <a:lnTo>
                        <a:pt x="1628" y="1977"/>
                      </a:lnTo>
                      <a:lnTo>
                        <a:pt x="0" y="1977"/>
                      </a:lnTo>
                      <a:lnTo>
                        <a:pt x="0" y="493"/>
                      </a:lnTo>
                      <a:lnTo>
                        <a:pt x="1221" y="493"/>
                      </a:lnTo>
                      <a:lnTo>
                        <a:pt x="1221" y="1482"/>
                      </a:lnTo>
                      <a:lnTo>
                        <a:pt x="406" y="1482"/>
                      </a:lnTo>
                      <a:lnTo>
                        <a:pt x="406" y="988"/>
                      </a:lnTo>
                      <a:lnTo>
                        <a:pt x="610" y="988"/>
                      </a:lnTo>
                      <a:lnTo>
                        <a:pt x="610" y="1235"/>
                      </a:lnTo>
                      <a:lnTo>
                        <a:pt x="1017" y="1235"/>
                      </a:lnTo>
                      <a:lnTo>
                        <a:pt x="1017" y="741"/>
                      </a:lnTo>
                      <a:lnTo>
                        <a:pt x="203" y="741"/>
                      </a:lnTo>
                      <a:lnTo>
                        <a:pt x="203" y="1730"/>
                      </a:lnTo>
                      <a:lnTo>
                        <a:pt x="1424" y="1730"/>
                      </a:lnTo>
                      <a:lnTo>
                        <a:pt x="1424" y="246"/>
                      </a:lnTo>
                      <a:lnTo>
                        <a:pt x="0" y="24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2" name=""/>
                <p:cNvSpPr/>
                <p:nvPr/>
              </p:nvSpPr>
              <p:spPr>
                <a:xfrm>
                  <a:off x="3235320" y="5546880"/>
                  <a:ext cx="584640" cy="711720"/>
                </a:xfrm>
                <a:custGeom>
                  <a:avLst/>
                  <a:gdLst/>
                  <a:ahLst/>
                  <a:rect l="0" t="0" r="r" b="b"/>
                  <a:pathLst>
                    <a:path w="1624" h="1977">
                      <a:moveTo>
                        <a:pt x="0" y="0"/>
                      </a:moveTo>
                      <a:lnTo>
                        <a:pt x="1624" y="0"/>
                      </a:lnTo>
                      <a:lnTo>
                        <a:pt x="1624" y="1977"/>
                      </a:lnTo>
                      <a:lnTo>
                        <a:pt x="0" y="1977"/>
                      </a:lnTo>
                      <a:lnTo>
                        <a:pt x="0" y="493"/>
                      </a:lnTo>
                      <a:lnTo>
                        <a:pt x="1219" y="493"/>
                      </a:lnTo>
                      <a:lnTo>
                        <a:pt x="1219" y="1482"/>
                      </a:lnTo>
                      <a:lnTo>
                        <a:pt x="405" y="1482"/>
                      </a:lnTo>
                      <a:lnTo>
                        <a:pt x="405" y="988"/>
                      </a:lnTo>
                      <a:lnTo>
                        <a:pt x="609" y="988"/>
                      </a:lnTo>
                      <a:lnTo>
                        <a:pt x="609" y="1235"/>
                      </a:lnTo>
                      <a:lnTo>
                        <a:pt x="1015" y="1235"/>
                      </a:lnTo>
                      <a:lnTo>
                        <a:pt x="1015" y="741"/>
                      </a:lnTo>
                      <a:lnTo>
                        <a:pt x="202" y="741"/>
                      </a:lnTo>
                      <a:lnTo>
                        <a:pt x="202" y="1730"/>
                      </a:lnTo>
                      <a:lnTo>
                        <a:pt x="1421" y="1730"/>
                      </a:lnTo>
                      <a:lnTo>
                        <a:pt x="1421" y="246"/>
                      </a:lnTo>
                      <a:lnTo>
                        <a:pt x="0" y="24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3" name=""/>
                <p:cNvSpPr/>
                <p:nvPr/>
              </p:nvSpPr>
              <p:spPr>
                <a:xfrm>
                  <a:off x="3949560" y="5546880"/>
                  <a:ext cx="584640" cy="711720"/>
                </a:xfrm>
                <a:custGeom>
                  <a:avLst/>
                  <a:gdLst/>
                  <a:ahLst/>
                  <a:rect l="0" t="0" r="r" b="b"/>
                  <a:pathLst>
                    <a:path w="1624" h="1977">
                      <a:moveTo>
                        <a:pt x="0" y="0"/>
                      </a:moveTo>
                      <a:lnTo>
                        <a:pt x="1624" y="0"/>
                      </a:lnTo>
                      <a:lnTo>
                        <a:pt x="1624" y="1977"/>
                      </a:lnTo>
                      <a:lnTo>
                        <a:pt x="0" y="1977"/>
                      </a:lnTo>
                      <a:lnTo>
                        <a:pt x="0" y="493"/>
                      </a:lnTo>
                      <a:lnTo>
                        <a:pt x="1219" y="493"/>
                      </a:lnTo>
                      <a:lnTo>
                        <a:pt x="1219" y="1482"/>
                      </a:lnTo>
                      <a:lnTo>
                        <a:pt x="405" y="1482"/>
                      </a:lnTo>
                      <a:lnTo>
                        <a:pt x="405" y="988"/>
                      </a:lnTo>
                      <a:lnTo>
                        <a:pt x="609" y="988"/>
                      </a:lnTo>
                      <a:lnTo>
                        <a:pt x="609" y="1235"/>
                      </a:lnTo>
                      <a:lnTo>
                        <a:pt x="1015" y="1235"/>
                      </a:lnTo>
                      <a:lnTo>
                        <a:pt x="1015" y="741"/>
                      </a:lnTo>
                      <a:lnTo>
                        <a:pt x="202" y="741"/>
                      </a:lnTo>
                      <a:lnTo>
                        <a:pt x="202" y="1730"/>
                      </a:lnTo>
                      <a:lnTo>
                        <a:pt x="1421" y="1730"/>
                      </a:lnTo>
                      <a:lnTo>
                        <a:pt x="1421" y="246"/>
                      </a:lnTo>
                      <a:lnTo>
                        <a:pt x="0" y="24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4" name=""/>
                <p:cNvSpPr/>
                <p:nvPr/>
              </p:nvSpPr>
              <p:spPr>
                <a:xfrm>
                  <a:off x="4664160" y="5546880"/>
                  <a:ext cx="584640" cy="711720"/>
                </a:xfrm>
                <a:custGeom>
                  <a:avLst/>
                  <a:gdLst/>
                  <a:ahLst/>
                  <a:rect l="0" t="0" r="r" b="b"/>
                  <a:pathLst>
                    <a:path w="1624" h="1977">
                      <a:moveTo>
                        <a:pt x="0" y="0"/>
                      </a:moveTo>
                      <a:lnTo>
                        <a:pt x="1624" y="0"/>
                      </a:lnTo>
                      <a:lnTo>
                        <a:pt x="1624" y="1977"/>
                      </a:lnTo>
                      <a:lnTo>
                        <a:pt x="0" y="1977"/>
                      </a:lnTo>
                      <a:lnTo>
                        <a:pt x="0" y="493"/>
                      </a:lnTo>
                      <a:lnTo>
                        <a:pt x="1219" y="493"/>
                      </a:lnTo>
                      <a:lnTo>
                        <a:pt x="1219" y="1482"/>
                      </a:lnTo>
                      <a:lnTo>
                        <a:pt x="405" y="1482"/>
                      </a:lnTo>
                      <a:lnTo>
                        <a:pt x="405" y="988"/>
                      </a:lnTo>
                      <a:lnTo>
                        <a:pt x="609" y="988"/>
                      </a:lnTo>
                      <a:lnTo>
                        <a:pt x="609" y="1235"/>
                      </a:lnTo>
                      <a:lnTo>
                        <a:pt x="1015" y="1235"/>
                      </a:lnTo>
                      <a:lnTo>
                        <a:pt x="1015" y="741"/>
                      </a:lnTo>
                      <a:lnTo>
                        <a:pt x="202" y="741"/>
                      </a:lnTo>
                      <a:lnTo>
                        <a:pt x="202" y="1730"/>
                      </a:lnTo>
                      <a:lnTo>
                        <a:pt x="1421" y="1730"/>
                      </a:lnTo>
                      <a:lnTo>
                        <a:pt x="1421" y="246"/>
                      </a:lnTo>
                      <a:lnTo>
                        <a:pt x="0" y="24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5" name=""/>
                <p:cNvSpPr/>
                <p:nvPr/>
              </p:nvSpPr>
              <p:spPr>
                <a:xfrm>
                  <a:off x="5378400" y="5546880"/>
                  <a:ext cx="584640" cy="711720"/>
                </a:xfrm>
                <a:custGeom>
                  <a:avLst/>
                  <a:gdLst/>
                  <a:ahLst/>
                  <a:rect l="0" t="0" r="r" b="b"/>
                  <a:pathLst>
                    <a:path w="1624" h="1977">
                      <a:moveTo>
                        <a:pt x="0" y="0"/>
                      </a:moveTo>
                      <a:lnTo>
                        <a:pt x="1624" y="0"/>
                      </a:lnTo>
                      <a:lnTo>
                        <a:pt x="1624" y="1977"/>
                      </a:lnTo>
                      <a:lnTo>
                        <a:pt x="0" y="1977"/>
                      </a:lnTo>
                      <a:lnTo>
                        <a:pt x="0" y="493"/>
                      </a:lnTo>
                      <a:lnTo>
                        <a:pt x="1219" y="493"/>
                      </a:lnTo>
                      <a:lnTo>
                        <a:pt x="1219" y="1482"/>
                      </a:lnTo>
                      <a:lnTo>
                        <a:pt x="405" y="1482"/>
                      </a:lnTo>
                      <a:lnTo>
                        <a:pt x="405" y="988"/>
                      </a:lnTo>
                      <a:lnTo>
                        <a:pt x="609" y="988"/>
                      </a:lnTo>
                      <a:lnTo>
                        <a:pt x="609" y="1235"/>
                      </a:lnTo>
                      <a:lnTo>
                        <a:pt x="1015" y="1235"/>
                      </a:lnTo>
                      <a:lnTo>
                        <a:pt x="1015" y="741"/>
                      </a:lnTo>
                      <a:lnTo>
                        <a:pt x="202" y="741"/>
                      </a:lnTo>
                      <a:lnTo>
                        <a:pt x="202" y="1730"/>
                      </a:lnTo>
                      <a:lnTo>
                        <a:pt x="1421" y="1730"/>
                      </a:lnTo>
                      <a:lnTo>
                        <a:pt x="1421" y="246"/>
                      </a:lnTo>
                      <a:lnTo>
                        <a:pt x="0" y="24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6" name=""/>
                <p:cNvSpPr/>
                <p:nvPr/>
              </p:nvSpPr>
              <p:spPr>
                <a:xfrm>
                  <a:off x="6091200" y="5546880"/>
                  <a:ext cx="586080" cy="711720"/>
                </a:xfrm>
                <a:custGeom>
                  <a:avLst/>
                  <a:gdLst/>
                  <a:ahLst/>
                  <a:rect l="0" t="0" r="r" b="b"/>
                  <a:pathLst>
                    <a:path w="1628" h="1977">
                      <a:moveTo>
                        <a:pt x="0" y="0"/>
                      </a:moveTo>
                      <a:lnTo>
                        <a:pt x="1628" y="0"/>
                      </a:lnTo>
                      <a:lnTo>
                        <a:pt x="1628" y="1977"/>
                      </a:lnTo>
                      <a:lnTo>
                        <a:pt x="0" y="1977"/>
                      </a:lnTo>
                      <a:lnTo>
                        <a:pt x="0" y="493"/>
                      </a:lnTo>
                      <a:lnTo>
                        <a:pt x="1221" y="493"/>
                      </a:lnTo>
                      <a:lnTo>
                        <a:pt x="1221" y="1482"/>
                      </a:lnTo>
                      <a:lnTo>
                        <a:pt x="406" y="1482"/>
                      </a:lnTo>
                      <a:lnTo>
                        <a:pt x="406" y="988"/>
                      </a:lnTo>
                      <a:lnTo>
                        <a:pt x="610" y="988"/>
                      </a:lnTo>
                      <a:lnTo>
                        <a:pt x="610" y="1235"/>
                      </a:lnTo>
                      <a:lnTo>
                        <a:pt x="1017" y="1235"/>
                      </a:lnTo>
                      <a:lnTo>
                        <a:pt x="1017" y="741"/>
                      </a:lnTo>
                      <a:lnTo>
                        <a:pt x="203" y="741"/>
                      </a:lnTo>
                      <a:lnTo>
                        <a:pt x="203" y="1730"/>
                      </a:lnTo>
                      <a:lnTo>
                        <a:pt x="1424" y="1730"/>
                      </a:lnTo>
                      <a:lnTo>
                        <a:pt x="1424" y="246"/>
                      </a:lnTo>
                      <a:lnTo>
                        <a:pt x="0" y="24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7" name=""/>
                <p:cNvSpPr/>
                <p:nvPr/>
              </p:nvSpPr>
              <p:spPr>
                <a:xfrm>
                  <a:off x="6807240" y="5546880"/>
                  <a:ext cx="582840" cy="711720"/>
                </a:xfrm>
                <a:custGeom>
                  <a:avLst/>
                  <a:gdLst/>
                  <a:ahLst/>
                  <a:rect l="0" t="0" r="r" b="b"/>
                  <a:pathLst>
                    <a:path w="1619" h="1977">
                      <a:moveTo>
                        <a:pt x="0" y="0"/>
                      </a:moveTo>
                      <a:lnTo>
                        <a:pt x="1619" y="0"/>
                      </a:lnTo>
                      <a:lnTo>
                        <a:pt x="1619" y="1977"/>
                      </a:lnTo>
                      <a:lnTo>
                        <a:pt x="0" y="1977"/>
                      </a:lnTo>
                      <a:lnTo>
                        <a:pt x="0" y="493"/>
                      </a:lnTo>
                      <a:lnTo>
                        <a:pt x="1214" y="493"/>
                      </a:lnTo>
                      <a:lnTo>
                        <a:pt x="1214" y="1482"/>
                      </a:lnTo>
                      <a:lnTo>
                        <a:pt x="404" y="1482"/>
                      </a:lnTo>
                      <a:lnTo>
                        <a:pt x="404" y="988"/>
                      </a:lnTo>
                      <a:lnTo>
                        <a:pt x="606" y="988"/>
                      </a:lnTo>
                      <a:lnTo>
                        <a:pt x="606" y="1235"/>
                      </a:lnTo>
                      <a:lnTo>
                        <a:pt x="1012" y="1235"/>
                      </a:lnTo>
                      <a:lnTo>
                        <a:pt x="1012" y="741"/>
                      </a:lnTo>
                      <a:lnTo>
                        <a:pt x="202" y="741"/>
                      </a:lnTo>
                      <a:lnTo>
                        <a:pt x="202" y="1730"/>
                      </a:lnTo>
                      <a:lnTo>
                        <a:pt x="1417" y="1730"/>
                      </a:lnTo>
                      <a:lnTo>
                        <a:pt x="1417" y="246"/>
                      </a:lnTo>
                      <a:lnTo>
                        <a:pt x="0" y="24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8" name=""/>
                <p:cNvSpPr/>
                <p:nvPr/>
              </p:nvSpPr>
              <p:spPr>
                <a:xfrm>
                  <a:off x="7520040" y="5546880"/>
                  <a:ext cx="584640" cy="711720"/>
                </a:xfrm>
                <a:custGeom>
                  <a:avLst/>
                  <a:gdLst/>
                  <a:ahLst/>
                  <a:rect l="0" t="0" r="r" b="b"/>
                  <a:pathLst>
                    <a:path w="1624" h="1977">
                      <a:moveTo>
                        <a:pt x="0" y="0"/>
                      </a:moveTo>
                      <a:lnTo>
                        <a:pt x="1624" y="0"/>
                      </a:lnTo>
                      <a:lnTo>
                        <a:pt x="1624" y="1977"/>
                      </a:lnTo>
                      <a:lnTo>
                        <a:pt x="0" y="1977"/>
                      </a:lnTo>
                      <a:lnTo>
                        <a:pt x="0" y="493"/>
                      </a:lnTo>
                      <a:lnTo>
                        <a:pt x="1219" y="493"/>
                      </a:lnTo>
                      <a:lnTo>
                        <a:pt x="1219" y="1482"/>
                      </a:lnTo>
                      <a:lnTo>
                        <a:pt x="405" y="1482"/>
                      </a:lnTo>
                      <a:lnTo>
                        <a:pt x="405" y="988"/>
                      </a:lnTo>
                      <a:lnTo>
                        <a:pt x="609" y="988"/>
                      </a:lnTo>
                      <a:lnTo>
                        <a:pt x="609" y="1235"/>
                      </a:lnTo>
                      <a:lnTo>
                        <a:pt x="1015" y="1235"/>
                      </a:lnTo>
                      <a:lnTo>
                        <a:pt x="1015" y="741"/>
                      </a:lnTo>
                      <a:lnTo>
                        <a:pt x="202" y="741"/>
                      </a:lnTo>
                      <a:lnTo>
                        <a:pt x="202" y="1730"/>
                      </a:lnTo>
                      <a:lnTo>
                        <a:pt x="1421" y="1730"/>
                      </a:lnTo>
                      <a:lnTo>
                        <a:pt x="1421" y="246"/>
                      </a:lnTo>
                      <a:lnTo>
                        <a:pt x="0" y="24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9" name=""/>
                <p:cNvSpPr/>
                <p:nvPr/>
              </p:nvSpPr>
              <p:spPr>
                <a:xfrm>
                  <a:off x="8234280" y="5546880"/>
                  <a:ext cx="584640" cy="711720"/>
                </a:xfrm>
                <a:custGeom>
                  <a:avLst/>
                  <a:gdLst/>
                  <a:ahLst/>
                  <a:rect l="0" t="0" r="r" b="b"/>
                  <a:pathLst>
                    <a:path w="1624" h="1977">
                      <a:moveTo>
                        <a:pt x="0" y="0"/>
                      </a:moveTo>
                      <a:lnTo>
                        <a:pt x="1624" y="0"/>
                      </a:lnTo>
                      <a:lnTo>
                        <a:pt x="1624" y="1977"/>
                      </a:lnTo>
                      <a:lnTo>
                        <a:pt x="0" y="1977"/>
                      </a:lnTo>
                      <a:lnTo>
                        <a:pt x="0" y="493"/>
                      </a:lnTo>
                      <a:lnTo>
                        <a:pt x="1219" y="493"/>
                      </a:lnTo>
                      <a:lnTo>
                        <a:pt x="1219" y="1482"/>
                      </a:lnTo>
                      <a:lnTo>
                        <a:pt x="405" y="1482"/>
                      </a:lnTo>
                      <a:lnTo>
                        <a:pt x="405" y="988"/>
                      </a:lnTo>
                      <a:lnTo>
                        <a:pt x="609" y="988"/>
                      </a:lnTo>
                      <a:lnTo>
                        <a:pt x="609" y="1235"/>
                      </a:lnTo>
                      <a:lnTo>
                        <a:pt x="1015" y="1235"/>
                      </a:lnTo>
                      <a:lnTo>
                        <a:pt x="1015" y="741"/>
                      </a:lnTo>
                      <a:lnTo>
                        <a:pt x="202" y="741"/>
                      </a:lnTo>
                      <a:lnTo>
                        <a:pt x="202" y="1730"/>
                      </a:lnTo>
                      <a:lnTo>
                        <a:pt x="1421" y="1730"/>
                      </a:lnTo>
                      <a:lnTo>
                        <a:pt x="1421" y="246"/>
                      </a:lnTo>
                      <a:lnTo>
                        <a:pt x="0" y="24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50" name=""/>
            <p:cNvSpPr/>
            <p:nvPr/>
          </p:nvSpPr>
          <p:spPr>
            <a:xfrm>
              <a:off x="353880" y="0"/>
              <a:ext cx="8432640" cy="5440320"/>
            </a:xfrm>
            <a:prstGeom prst="rect">
              <a:avLst/>
            </a:prstGeom>
            <a:solidFill>
              <a:srgbClr val="008080"/>
            </a:solidFill>
            <a:ln w="12600">
              <a:solidFill>
                <a:srgbClr val="00808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1" name=""/>
          <p:cNvSpPr txBox="1"/>
          <p:nvPr/>
        </p:nvSpPr>
        <p:spPr>
          <a:xfrm>
            <a:off x="990720" y="1522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  <a:ea typeface="Bookman Old Style"/>
              </a:rPr>
              <a:t>France:</a:t>
            </a:r>
            <a:br>
              <a:rPr sz="1800"/>
            </a:br>
            <a:r>
              <a:rPr b="1" lang="en-US" sz="3600" spc="-1" strike="noStrike">
                <a:solidFill>
                  <a:srgbClr val="ffa549"/>
                </a:solidFill>
                <a:latin typeface="Bookman Old Style"/>
                <a:ea typeface="Bookman Old Style"/>
              </a:rPr>
              <a:t>Hints for Business Travel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 txBox="1"/>
          <p:nvPr/>
        </p:nvSpPr>
        <p:spPr>
          <a:xfrm>
            <a:off x="990720" y="14479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a549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Paris has two airpor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8080"/>
              </a:buClr>
              <a:buSzPct val="75000"/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Charles de Gaulle Roissy (Northeast of city ce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8080"/>
              </a:buClr>
              <a:buSzPct val="75000"/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Orly (South of city ce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8080"/>
              </a:buClr>
              <a:buSzPct val="75000"/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Helicopter service available between air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a549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Business hours are generally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9:00 am to 12:30 pm an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3:30 pm to 6:30 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a549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Banking hours vary and some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banks close for lunch between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noon and 2:00 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3" name=""/>
          <p:cNvGrpSpPr/>
          <p:nvPr/>
        </p:nvGrpSpPr>
        <p:grpSpPr>
          <a:xfrm>
            <a:off x="4216320" y="1916280"/>
            <a:ext cx="4477320" cy="3468960"/>
            <a:chOff x="4216320" y="1916280"/>
            <a:chExt cx="4477320" cy="3468960"/>
          </a:xfrm>
        </p:grpSpPr>
        <p:sp>
          <p:nvSpPr>
            <p:cNvPr id="1654" name=""/>
            <p:cNvSpPr/>
            <p:nvPr/>
          </p:nvSpPr>
          <p:spPr>
            <a:xfrm>
              <a:off x="4216320" y="4681440"/>
              <a:ext cx="4353120" cy="703800"/>
            </a:xfrm>
            <a:custGeom>
              <a:avLst/>
              <a:gdLst/>
              <a:ahLst/>
              <a:rect l="0" t="0" r="r" b="b"/>
              <a:pathLst>
                <a:path w="12092" h="1955">
                  <a:moveTo>
                    <a:pt x="11876" y="0"/>
                  </a:moveTo>
                  <a:lnTo>
                    <a:pt x="11153" y="83"/>
                  </a:lnTo>
                  <a:lnTo>
                    <a:pt x="9755" y="238"/>
                  </a:lnTo>
                  <a:lnTo>
                    <a:pt x="8723" y="330"/>
                  </a:lnTo>
                  <a:lnTo>
                    <a:pt x="7568" y="463"/>
                  </a:lnTo>
                  <a:lnTo>
                    <a:pt x="6139" y="675"/>
                  </a:lnTo>
                  <a:lnTo>
                    <a:pt x="4127" y="900"/>
                  </a:lnTo>
                  <a:lnTo>
                    <a:pt x="2076" y="1165"/>
                  </a:lnTo>
                  <a:lnTo>
                    <a:pt x="0" y="1416"/>
                  </a:lnTo>
                  <a:lnTo>
                    <a:pt x="1137" y="1416"/>
                  </a:lnTo>
                  <a:lnTo>
                    <a:pt x="2522" y="1451"/>
                  </a:lnTo>
                  <a:lnTo>
                    <a:pt x="4109" y="1571"/>
                  </a:lnTo>
                  <a:lnTo>
                    <a:pt x="5851" y="1686"/>
                  </a:lnTo>
                  <a:lnTo>
                    <a:pt x="7299" y="1787"/>
                  </a:lnTo>
                  <a:lnTo>
                    <a:pt x="8904" y="1880"/>
                  </a:lnTo>
                  <a:lnTo>
                    <a:pt x="10394" y="1955"/>
                  </a:lnTo>
                  <a:lnTo>
                    <a:pt x="10094" y="1585"/>
                  </a:lnTo>
                  <a:lnTo>
                    <a:pt x="9411" y="1607"/>
                  </a:lnTo>
                  <a:lnTo>
                    <a:pt x="8961" y="1593"/>
                  </a:lnTo>
                  <a:lnTo>
                    <a:pt x="8476" y="1558"/>
                  </a:lnTo>
                  <a:lnTo>
                    <a:pt x="8242" y="1549"/>
                  </a:lnTo>
                  <a:lnTo>
                    <a:pt x="8039" y="1540"/>
                  </a:lnTo>
                  <a:lnTo>
                    <a:pt x="7845" y="1518"/>
                  </a:lnTo>
                  <a:lnTo>
                    <a:pt x="7647" y="1496"/>
                  </a:lnTo>
                  <a:lnTo>
                    <a:pt x="7484" y="1474"/>
                  </a:lnTo>
                  <a:lnTo>
                    <a:pt x="7329" y="1451"/>
                  </a:lnTo>
                  <a:lnTo>
                    <a:pt x="7193" y="1407"/>
                  </a:lnTo>
                  <a:lnTo>
                    <a:pt x="7065" y="1381"/>
                  </a:lnTo>
                  <a:lnTo>
                    <a:pt x="6941" y="1337"/>
                  </a:lnTo>
                  <a:lnTo>
                    <a:pt x="6836" y="1288"/>
                  </a:lnTo>
                  <a:lnTo>
                    <a:pt x="6730" y="1213"/>
                  </a:lnTo>
                  <a:lnTo>
                    <a:pt x="6659" y="1116"/>
                  </a:lnTo>
                  <a:lnTo>
                    <a:pt x="6659" y="1015"/>
                  </a:lnTo>
                  <a:lnTo>
                    <a:pt x="6690" y="940"/>
                  </a:lnTo>
                  <a:lnTo>
                    <a:pt x="6739" y="891"/>
                  </a:lnTo>
                  <a:lnTo>
                    <a:pt x="6862" y="812"/>
                  </a:lnTo>
                  <a:lnTo>
                    <a:pt x="7034" y="746"/>
                  </a:lnTo>
                  <a:lnTo>
                    <a:pt x="7202" y="710"/>
                  </a:lnTo>
                  <a:lnTo>
                    <a:pt x="7554" y="662"/>
                  </a:lnTo>
                  <a:lnTo>
                    <a:pt x="7938" y="609"/>
                  </a:lnTo>
                  <a:lnTo>
                    <a:pt x="8714" y="508"/>
                  </a:lnTo>
                  <a:lnTo>
                    <a:pt x="9486" y="423"/>
                  </a:lnTo>
                  <a:lnTo>
                    <a:pt x="10227" y="370"/>
                  </a:lnTo>
                  <a:lnTo>
                    <a:pt x="11003" y="304"/>
                  </a:lnTo>
                  <a:lnTo>
                    <a:pt x="12092" y="255"/>
                  </a:lnTo>
                  <a:lnTo>
                    <a:pt x="12008" y="136"/>
                  </a:lnTo>
                  <a:lnTo>
                    <a:pt x="1187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55" name=""/>
            <p:cNvGrpSpPr/>
            <p:nvPr/>
          </p:nvGrpSpPr>
          <p:grpSpPr>
            <a:xfrm>
              <a:off x="7050240" y="2401920"/>
              <a:ext cx="1026000" cy="2983320"/>
              <a:chOff x="7050240" y="2401920"/>
              <a:chExt cx="1026000" cy="2983320"/>
            </a:xfrm>
          </p:grpSpPr>
          <p:sp>
            <p:nvSpPr>
              <p:cNvPr id="1656" name=""/>
              <p:cNvSpPr/>
              <p:nvPr/>
            </p:nvSpPr>
            <p:spPr>
              <a:xfrm>
                <a:off x="7370640" y="3699000"/>
                <a:ext cx="587880" cy="763920"/>
              </a:xfrm>
              <a:custGeom>
                <a:avLst/>
                <a:gdLst/>
                <a:ahLst/>
                <a:rect l="0" t="0" r="r" b="b"/>
                <a:pathLst>
                  <a:path w="1633" h="2122">
                    <a:moveTo>
                      <a:pt x="1633" y="0"/>
                    </a:moveTo>
                    <a:lnTo>
                      <a:pt x="561" y="502"/>
                    </a:lnTo>
                    <a:lnTo>
                      <a:pt x="587" y="820"/>
                    </a:lnTo>
                    <a:lnTo>
                      <a:pt x="1178" y="1090"/>
                    </a:lnTo>
                    <a:lnTo>
                      <a:pt x="0" y="1800"/>
                    </a:lnTo>
                    <a:lnTo>
                      <a:pt x="119" y="2122"/>
                    </a:lnTo>
                    <a:lnTo>
                      <a:pt x="653" y="1800"/>
                    </a:lnTo>
                    <a:lnTo>
                      <a:pt x="807" y="1698"/>
                    </a:lnTo>
                    <a:lnTo>
                      <a:pt x="993" y="1610"/>
                    </a:lnTo>
                    <a:lnTo>
                      <a:pt x="1151" y="1570"/>
                    </a:lnTo>
                    <a:lnTo>
                      <a:pt x="1267" y="1628"/>
                    </a:lnTo>
                    <a:lnTo>
                      <a:pt x="1342" y="1681"/>
                    </a:lnTo>
                    <a:lnTo>
                      <a:pt x="1417" y="1769"/>
                    </a:lnTo>
                    <a:lnTo>
                      <a:pt x="1466" y="987"/>
                    </a:lnTo>
                    <a:lnTo>
                      <a:pt x="1041" y="754"/>
                    </a:lnTo>
                    <a:lnTo>
                      <a:pt x="1143" y="520"/>
                    </a:lnTo>
                    <a:lnTo>
                      <a:pt x="1602" y="286"/>
                    </a:lnTo>
                    <a:lnTo>
                      <a:pt x="16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7050240" y="2401920"/>
                <a:ext cx="1026000" cy="2983320"/>
              </a:xfrm>
              <a:custGeom>
                <a:avLst/>
                <a:gdLst/>
                <a:ahLst/>
                <a:rect l="0" t="0" r="r" b="b"/>
                <a:pathLst>
                  <a:path w="2850" h="8287">
                    <a:moveTo>
                      <a:pt x="2661" y="0"/>
                    </a:moveTo>
                    <a:lnTo>
                      <a:pt x="2524" y="1146"/>
                    </a:lnTo>
                    <a:lnTo>
                      <a:pt x="2321" y="2126"/>
                    </a:lnTo>
                    <a:lnTo>
                      <a:pt x="1950" y="3268"/>
                    </a:lnTo>
                    <a:lnTo>
                      <a:pt x="1659" y="4071"/>
                    </a:lnTo>
                    <a:lnTo>
                      <a:pt x="1539" y="4406"/>
                    </a:lnTo>
                    <a:lnTo>
                      <a:pt x="1381" y="4803"/>
                    </a:lnTo>
                    <a:lnTo>
                      <a:pt x="1187" y="5191"/>
                    </a:lnTo>
                    <a:lnTo>
                      <a:pt x="944" y="5596"/>
                    </a:lnTo>
                    <a:lnTo>
                      <a:pt x="674" y="5998"/>
                    </a:lnTo>
                    <a:lnTo>
                      <a:pt x="401" y="6369"/>
                    </a:lnTo>
                    <a:lnTo>
                      <a:pt x="0" y="6740"/>
                    </a:lnTo>
                    <a:lnTo>
                      <a:pt x="436" y="6876"/>
                    </a:lnTo>
                    <a:lnTo>
                      <a:pt x="777" y="6501"/>
                    </a:lnTo>
                    <a:lnTo>
                      <a:pt x="1015" y="6237"/>
                    </a:lnTo>
                    <a:lnTo>
                      <a:pt x="1178" y="6029"/>
                    </a:lnTo>
                    <a:lnTo>
                      <a:pt x="1381" y="5729"/>
                    </a:lnTo>
                    <a:lnTo>
                      <a:pt x="1579" y="5257"/>
                    </a:lnTo>
                    <a:lnTo>
                      <a:pt x="1747" y="4851"/>
                    </a:lnTo>
                    <a:lnTo>
                      <a:pt x="1985" y="4247"/>
                    </a:lnTo>
                    <a:lnTo>
                      <a:pt x="2189" y="3608"/>
                    </a:lnTo>
                    <a:lnTo>
                      <a:pt x="2590" y="1953"/>
                    </a:lnTo>
                    <a:lnTo>
                      <a:pt x="2189" y="6603"/>
                    </a:lnTo>
                    <a:lnTo>
                      <a:pt x="2189" y="7009"/>
                    </a:lnTo>
                    <a:lnTo>
                      <a:pt x="2193" y="7441"/>
                    </a:lnTo>
                    <a:lnTo>
                      <a:pt x="2189" y="8018"/>
                    </a:lnTo>
                    <a:lnTo>
                      <a:pt x="2524" y="8287"/>
                    </a:lnTo>
                    <a:lnTo>
                      <a:pt x="2590" y="6638"/>
                    </a:lnTo>
                    <a:lnTo>
                      <a:pt x="2691" y="4886"/>
                    </a:lnTo>
                    <a:lnTo>
                      <a:pt x="2727" y="3471"/>
                    </a:lnTo>
                    <a:lnTo>
                      <a:pt x="2793" y="1618"/>
                    </a:lnTo>
                    <a:lnTo>
                      <a:pt x="2850" y="61"/>
                    </a:lnTo>
                    <a:lnTo>
                      <a:pt x="26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58" name=""/>
            <p:cNvGrpSpPr/>
            <p:nvPr/>
          </p:nvGrpSpPr>
          <p:grpSpPr>
            <a:xfrm>
              <a:off x="7964640" y="2422440"/>
              <a:ext cx="729000" cy="2959560"/>
              <a:chOff x="7964640" y="2422440"/>
              <a:chExt cx="729000" cy="2959560"/>
            </a:xfrm>
          </p:grpSpPr>
          <p:grpSp>
            <p:nvGrpSpPr>
              <p:cNvPr id="1659" name=""/>
              <p:cNvGrpSpPr/>
              <p:nvPr/>
            </p:nvGrpSpPr>
            <p:grpSpPr>
              <a:xfrm>
                <a:off x="8058240" y="3691080"/>
                <a:ext cx="354240" cy="628920"/>
                <a:chOff x="8058240" y="3691080"/>
                <a:chExt cx="354240" cy="628920"/>
              </a:xfrm>
            </p:grpSpPr>
            <p:sp>
              <p:nvSpPr>
                <p:cNvPr id="1660" name=""/>
                <p:cNvSpPr/>
                <p:nvPr/>
              </p:nvSpPr>
              <p:spPr>
                <a:xfrm>
                  <a:off x="8082000" y="4059360"/>
                  <a:ext cx="330480" cy="260640"/>
                </a:xfrm>
                <a:custGeom>
                  <a:avLst/>
                  <a:gdLst/>
                  <a:ahLst/>
                  <a:rect l="0" t="0" r="r" b="b"/>
                  <a:pathLst>
                    <a:path w="918" h="724">
                      <a:moveTo>
                        <a:pt x="918" y="450"/>
                      </a:moveTo>
                      <a:lnTo>
                        <a:pt x="17" y="0"/>
                      </a:lnTo>
                      <a:lnTo>
                        <a:pt x="0" y="268"/>
                      </a:lnTo>
                      <a:lnTo>
                        <a:pt x="891" y="724"/>
                      </a:lnTo>
                      <a:lnTo>
                        <a:pt x="918" y="45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1" name=""/>
                <p:cNvSpPr/>
                <p:nvPr/>
              </p:nvSpPr>
              <p:spPr>
                <a:xfrm>
                  <a:off x="8058240" y="3691080"/>
                  <a:ext cx="275040" cy="287640"/>
                </a:xfrm>
                <a:custGeom>
                  <a:avLst/>
                  <a:gdLst/>
                  <a:ahLst/>
                  <a:rect l="0" t="0" r="r" b="b"/>
                  <a:pathLst>
                    <a:path w="764" h="799">
                      <a:moveTo>
                        <a:pt x="738" y="486"/>
                      </a:moveTo>
                      <a:lnTo>
                        <a:pt x="0" y="0"/>
                      </a:lnTo>
                      <a:lnTo>
                        <a:pt x="39" y="304"/>
                      </a:lnTo>
                      <a:lnTo>
                        <a:pt x="764" y="799"/>
                      </a:lnTo>
                      <a:lnTo>
                        <a:pt x="738" y="486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2" name=""/>
              <p:cNvGrpSpPr/>
              <p:nvPr/>
            </p:nvGrpSpPr>
            <p:grpSpPr>
              <a:xfrm>
                <a:off x="7964640" y="2422440"/>
                <a:ext cx="729000" cy="2959560"/>
                <a:chOff x="7964640" y="2422440"/>
                <a:chExt cx="729000" cy="2959560"/>
              </a:xfrm>
            </p:grpSpPr>
            <p:sp>
              <p:nvSpPr>
                <p:cNvPr id="1663" name=""/>
                <p:cNvSpPr/>
                <p:nvPr/>
              </p:nvSpPr>
              <p:spPr>
                <a:xfrm>
                  <a:off x="8128080" y="4495680"/>
                  <a:ext cx="344880" cy="332280"/>
                </a:xfrm>
                <a:custGeom>
                  <a:avLst/>
                  <a:gdLst/>
                  <a:ahLst/>
                  <a:rect l="0" t="0" r="r" b="b"/>
                  <a:pathLst>
                    <a:path w="958" h="923">
                      <a:moveTo>
                        <a:pt x="958" y="508"/>
                      </a:moveTo>
                      <a:lnTo>
                        <a:pt x="725" y="287"/>
                      </a:lnTo>
                      <a:lnTo>
                        <a:pt x="565" y="158"/>
                      </a:lnTo>
                      <a:lnTo>
                        <a:pt x="494" y="123"/>
                      </a:lnTo>
                      <a:lnTo>
                        <a:pt x="428" y="110"/>
                      </a:lnTo>
                      <a:lnTo>
                        <a:pt x="362" y="119"/>
                      </a:lnTo>
                      <a:lnTo>
                        <a:pt x="305" y="149"/>
                      </a:lnTo>
                      <a:lnTo>
                        <a:pt x="243" y="211"/>
                      </a:lnTo>
                      <a:lnTo>
                        <a:pt x="194" y="274"/>
                      </a:lnTo>
                      <a:lnTo>
                        <a:pt x="141" y="380"/>
                      </a:lnTo>
                      <a:lnTo>
                        <a:pt x="101" y="481"/>
                      </a:lnTo>
                      <a:lnTo>
                        <a:pt x="61" y="600"/>
                      </a:lnTo>
                      <a:lnTo>
                        <a:pt x="39" y="707"/>
                      </a:lnTo>
                      <a:lnTo>
                        <a:pt x="0" y="923"/>
                      </a:lnTo>
                      <a:lnTo>
                        <a:pt x="8" y="613"/>
                      </a:lnTo>
                      <a:lnTo>
                        <a:pt x="30" y="415"/>
                      </a:lnTo>
                      <a:lnTo>
                        <a:pt x="52" y="322"/>
                      </a:lnTo>
                      <a:lnTo>
                        <a:pt x="105" y="220"/>
                      </a:lnTo>
                      <a:lnTo>
                        <a:pt x="163" y="123"/>
                      </a:lnTo>
                      <a:lnTo>
                        <a:pt x="216" y="79"/>
                      </a:lnTo>
                      <a:lnTo>
                        <a:pt x="344" y="13"/>
                      </a:lnTo>
                      <a:lnTo>
                        <a:pt x="406" y="0"/>
                      </a:lnTo>
                      <a:lnTo>
                        <a:pt x="490" y="13"/>
                      </a:lnTo>
                      <a:lnTo>
                        <a:pt x="583" y="66"/>
                      </a:lnTo>
                      <a:lnTo>
                        <a:pt x="958" y="50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4" name=""/>
                <p:cNvSpPr/>
                <p:nvPr/>
              </p:nvSpPr>
              <p:spPr>
                <a:xfrm>
                  <a:off x="7964640" y="2422440"/>
                  <a:ext cx="729000" cy="2959560"/>
                </a:xfrm>
                <a:custGeom>
                  <a:avLst/>
                  <a:gdLst/>
                  <a:ahLst/>
                  <a:rect l="0" t="0" r="r" b="b"/>
                  <a:pathLst>
                    <a:path w="2025" h="8221">
                      <a:moveTo>
                        <a:pt x="573" y="0"/>
                      </a:moveTo>
                      <a:lnTo>
                        <a:pt x="608" y="608"/>
                      </a:lnTo>
                      <a:lnTo>
                        <a:pt x="674" y="1243"/>
                      </a:lnTo>
                      <a:lnTo>
                        <a:pt x="727" y="1785"/>
                      </a:lnTo>
                      <a:lnTo>
                        <a:pt x="776" y="2324"/>
                      </a:lnTo>
                      <a:lnTo>
                        <a:pt x="859" y="3167"/>
                      </a:lnTo>
                      <a:lnTo>
                        <a:pt x="926" y="3639"/>
                      </a:lnTo>
                      <a:lnTo>
                        <a:pt x="1009" y="4212"/>
                      </a:lnTo>
                      <a:lnTo>
                        <a:pt x="1076" y="4613"/>
                      </a:lnTo>
                      <a:lnTo>
                        <a:pt x="1143" y="4953"/>
                      </a:lnTo>
                      <a:lnTo>
                        <a:pt x="1244" y="5239"/>
                      </a:lnTo>
                      <a:lnTo>
                        <a:pt x="1284" y="5358"/>
                      </a:lnTo>
                      <a:lnTo>
                        <a:pt x="1363" y="5517"/>
                      </a:lnTo>
                      <a:lnTo>
                        <a:pt x="1465" y="5658"/>
                      </a:lnTo>
                      <a:lnTo>
                        <a:pt x="1579" y="5795"/>
                      </a:lnTo>
                      <a:lnTo>
                        <a:pt x="1795" y="5993"/>
                      </a:lnTo>
                      <a:lnTo>
                        <a:pt x="2025" y="6197"/>
                      </a:lnTo>
                      <a:lnTo>
                        <a:pt x="1681" y="6537"/>
                      </a:lnTo>
                      <a:lnTo>
                        <a:pt x="1412" y="6268"/>
                      </a:lnTo>
                      <a:lnTo>
                        <a:pt x="1178" y="6046"/>
                      </a:lnTo>
                      <a:lnTo>
                        <a:pt x="1037" y="5839"/>
                      </a:lnTo>
                      <a:lnTo>
                        <a:pt x="961" y="5654"/>
                      </a:lnTo>
                      <a:lnTo>
                        <a:pt x="908" y="5402"/>
                      </a:lnTo>
                      <a:lnTo>
                        <a:pt x="859" y="5133"/>
                      </a:lnTo>
                      <a:lnTo>
                        <a:pt x="485" y="1649"/>
                      </a:lnTo>
                      <a:lnTo>
                        <a:pt x="454" y="6969"/>
                      </a:lnTo>
                      <a:lnTo>
                        <a:pt x="454" y="7366"/>
                      </a:lnTo>
                      <a:lnTo>
                        <a:pt x="467" y="7754"/>
                      </a:lnTo>
                      <a:lnTo>
                        <a:pt x="0" y="8221"/>
                      </a:lnTo>
                      <a:lnTo>
                        <a:pt x="35" y="7009"/>
                      </a:lnTo>
                      <a:lnTo>
                        <a:pt x="136" y="5155"/>
                      </a:lnTo>
                      <a:lnTo>
                        <a:pt x="167" y="3370"/>
                      </a:lnTo>
                      <a:lnTo>
                        <a:pt x="268" y="1547"/>
                      </a:lnTo>
                      <a:lnTo>
                        <a:pt x="304" y="0"/>
                      </a:lnTo>
                      <a:lnTo>
                        <a:pt x="573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5" name=""/>
              <p:cNvSpPr/>
              <p:nvPr/>
            </p:nvSpPr>
            <p:spPr>
              <a:xfrm>
                <a:off x="8007480" y="3867120"/>
                <a:ext cx="322560" cy="344880"/>
              </a:xfrm>
              <a:custGeom>
                <a:avLst/>
                <a:gdLst/>
                <a:ahLst/>
                <a:rect l="0" t="0" r="r" b="b"/>
                <a:pathLst>
                  <a:path w="896" h="958">
                    <a:moveTo>
                      <a:pt x="891" y="0"/>
                    </a:moveTo>
                    <a:lnTo>
                      <a:pt x="0" y="613"/>
                    </a:lnTo>
                    <a:lnTo>
                      <a:pt x="4" y="958"/>
                    </a:lnTo>
                    <a:lnTo>
                      <a:pt x="896" y="287"/>
                    </a:lnTo>
                    <a:lnTo>
                      <a:pt x="891" y="0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7981920" y="4222800"/>
                <a:ext cx="430560" cy="514800"/>
              </a:xfrm>
              <a:custGeom>
                <a:avLst/>
                <a:gdLst/>
                <a:ahLst/>
                <a:rect l="0" t="0" r="r" b="b"/>
                <a:pathLst>
                  <a:path w="1196" h="1430">
                    <a:moveTo>
                      <a:pt x="0" y="1041"/>
                    </a:moveTo>
                    <a:lnTo>
                      <a:pt x="1196" y="0"/>
                    </a:lnTo>
                    <a:lnTo>
                      <a:pt x="1196" y="295"/>
                    </a:lnTo>
                    <a:lnTo>
                      <a:pt x="0" y="1430"/>
                    </a:lnTo>
                    <a:lnTo>
                      <a:pt x="0" y="1041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7" name=""/>
            <p:cNvSpPr/>
            <p:nvPr/>
          </p:nvSpPr>
          <p:spPr>
            <a:xfrm flipH="1" flipV="1">
              <a:off x="8124840" y="2440080"/>
              <a:ext cx="15840" cy="577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8" name=""/>
            <p:cNvGrpSpPr/>
            <p:nvPr/>
          </p:nvGrpSpPr>
          <p:grpSpPr>
            <a:xfrm>
              <a:off x="8029440" y="2509920"/>
              <a:ext cx="273240" cy="1414440"/>
              <a:chOff x="8029440" y="2509920"/>
              <a:chExt cx="273240" cy="1414440"/>
            </a:xfrm>
          </p:grpSpPr>
          <p:grpSp>
            <p:nvGrpSpPr>
              <p:cNvPr id="1669" name=""/>
              <p:cNvGrpSpPr/>
              <p:nvPr/>
            </p:nvGrpSpPr>
            <p:grpSpPr>
              <a:xfrm>
                <a:off x="8031240" y="2509920"/>
                <a:ext cx="189000" cy="604800"/>
                <a:chOff x="8031240" y="2509920"/>
                <a:chExt cx="189000" cy="604800"/>
              </a:xfrm>
            </p:grpSpPr>
            <p:sp>
              <p:nvSpPr>
                <p:cNvPr id="1670" name=""/>
                <p:cNvSpPr/>
                <p:nvPr/>
              </p:nvSpPr>
              <p:spPr>
                <a:xfrm flipV="1">
                  <a:off x="8042400" y="2509920"/>
                  <a:ext cx="133200" cy="36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1" name=""/>
                <p:cNvSpPr/>
                <p:nvPr/>
              </p:nvSpPr>
              <p:spPr>
                <a:xfrm flipV="1">
                  <a:off x="8069400" y="2597040"/>
                  <a:ext cx="106200" cy="28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2" name=""/>
                <p:cNvSpPr/>
                <p:nvPr/>
              </p:nvSpPr>
              <p:spPr>
                <a:xfrm flipV="1">
                  <a:off x="8070840" y="2693880"/>
                  <a:ext cx="111240" cy="31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3" name=""/>
                <p:cNvSpPr/>
                <p:nvPr/>
              </p:nvSpPr>
              <p:spPr>
                <a:xfrm flipV="1">
                  <a:off x="8051760" y="2906640"/>
                  <a:ext cx="158760" cy="54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4" name=""/>
                <p:cNvSpPr/>
                <p:nvPr/>
              </p:nvSpPr>
              <p:spPr>
                <a:xfrm flipV="1">
                  <a:off x="8056440" y="2786040"/>
                  <a:ext cx="144720" cy="4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5" name=""/>
                <p:cNvSpPr/>
                <p:nvPr/>
              </p:nvSpPr>
              <p:spPr>
                <a:xfrm flipV="1">
                  <a:off x="8031240" y="3036960"/>
                  <a:ext cx="189000" cy="77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6" name=""/>
              <p:cNvGrpSpPr/>
              <p:nvPr/>
            </p:nvGrpSpPr>
            <p:grpSpPr>
              <a:xfrm>
                <a:off x="8029440" y="3170160"/>
                <a:ext cx="273240" cy="754200"/>
                <a:chOff x="8029440" y="3170160"/>
                <a:chExt cx="273240" cy="754200"/>
              </a:xfrm>
            </p:grpSpPr>
            <p:sp>
              <p:nvSpPr>
                <p:cNvPr id="1677" name=""/>
                <p:cNvSpPr/>
                <p:nvPr/>
              </p:nvSpPr>
              <p:spPr>
                <a:xfrm flipV="1">
                  <a:off x="8048520" y="3375000"/>
                  <a:ext cx="84240" cy="38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8" name=""/>
                <p:cNvSpPr/>
                <p:nvPr/>
              </p:nvSpPr>
              <p:spPr>
                <a:xfrm flipV="1">
                  <a:off x="8042400" y="3224160"/>
                  <a:ext cx="83880" cy="39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11520" bIns="-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9" name=""/>
                <p:cNvSpPr/>
                <p:nvPr/>
              </p:nvSpPr>
              <p:spPr>
                <a:xfrm flipV="1">
                  <a:off x="8163000" y="3170160"/>
                  <a:ext cx="74520" cy="38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0" name=""/>
                <p:cNvSpPr/>
                <p:nvPr/>
              </p:nvSpPr>
              <p:spPr>
                <a:xfrm flipV="1">
                  <a:off x="8178840" y="3328920"/>
                  <a:ext cx="66600" cy="27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1" name=""/>
                <p:cNvSpPr/>
                <p:nvPr/>
              </p:nvSpPr>
              <p:spPr>
                <a:xfrm flipV="1">
                  <a:off x="8031240" y="3544920"/>
                  <a:ext cx="98280" cy="50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2" name=""/>
                <p:cNvSpPr/>
                <p:nvPr/>
              </p:nvSpPr>
              <p:spPr>
                <a:xfrm flipV="1">
                  <a:off x="8194680" y="3479760"/>
                  <a:ext cx="66600" cy="3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3" name=""/>
                <p:cNvSpPr/>
                <p:nvPr/>
              </p:nvSpPr>
              <p:spPr>
                <a:xfrm flipV="1">
                  <a:off x="8035920" y="3697200"/>
                  <a:ext cx="95400" cy="57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4" name=""/>
                <p:cNvSpPr/>
                <p:nvPr/>
              </p:nvSpPr>
              <p:spPr>
                <a:xfrm flipV="1">
                  <a:off x="8209080" y="3625920"/>
                  <a:ext cx="77760" cy="42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5" name=""/>
                <p:cNvSpPr/>
                <p:nvPr/>
              </p:nvSpPr>
              <p:spPr>
                <a:xfrm flipV="1">
                  <a:off x="8029440" y="3859200"/>
                  <a:ext cx="100080" cy="65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6" name=""/>
                <p:cNvSpPr/>
                <p:nvPr/>
              </p:nvSpPr>
              <p:spPr>
                <a:xfrm flipV="1">
                  <a:off x="8228160" y="3757680"/>
                  <a:ext cx="74520" cy="4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87" name=""/>
            <p:cNvSpPr/>
            <p:nvPr/>
          </p:nvSpPr>
          <p:spPr>
            <a:xfrm>
              <a:off x="7429680" y="4446720"/>
              <a:ext cx="427320" cy="417960"/>
            </a:xfrm>
            <a:custGeom>
              <a:avLst/>
              <a:gdLst/>
              <a:ahLst/>
              <a:rect l="0" t="0" r="r" b="b"/>
              <a:pathLst>
                <a:path w="1187" h="1161">
                  <a:moveTo>
                    <a:pt x="0" y="530"/>
                  </a:moveTo>
                  <a:lnTo>
                    <a:pt x="171" y="406"/>
                  </a:lnTo>
                  <a:lnTo>
                    <a:pt x="299" y="358"/>
                  </a:lnTo>
                  <a:lnTo>
                    <a:pt x="418" y="331"/>
                  </a:lnTo>
                  <a:lnTo>
                    <a:pt x="568" y="349"/>
                  </a:lnTo>
                  <a:lnTo>
                    <a:pt x="706" y="397"/>
                  </a:lnTo>
                  <a:lnTo>
                    <a:pt x="816" y="481"/>
                  </a:lnTo>
                  <a:lnTo>
                    <a:pt x="918" y="596"/>
                  </a:lnTo>
                  <a:lnTo>
                    <a:pt x="1010" y="755"/>
                  </a:lnTo>
                  <a:lnTo>
                    <a:pt x="1094" y="923"/>
                  </a:lnTo>
                  <a:lnTo>
                    <a:pt x="1143" y="1161"/>
                  </a:lnTo>
                  <a:lnTo>
                    <a:pt x="1187" y="327"/>
                  </a:lnTo>
                  <a:lnTo>
                    <a:pt x="366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88" name=""/>
            <p:cNvGrpSpPr/>
            <p:nvPr/>
          </p:nvGrpSpPr>
          <p:grpSpPr>
            <a:xfrm>
              <a:off x="8026560" y="2435400"/>
              <a:ext cx="112680" cy="1638000"/>
              <a:chOff x="8026560" y="2435400"/>
              <a:chExt cx="112680" cy="1638000"/>
            </a:xfrm>
          </p:grpSpPr>
          <p:grpSp>
            <p:nvGrpSpPr>
              <p:cNvPr id="1689" name=""/>
              <p:cNvGrpSpPr/>
              <p:nvPr/>
            </p:nvGrpSpPr>
            <p:grpSpPr>
              <a:xfrm>
                <a:off x="8026560" y="3554280"/>
                <a:ext cx="109440" cy="519120"/>
                <a:chOff x="8026560" y="3554280"/>
                <a:chExt cx="109440" cy="519120"/>
              </a:xfrm>
            </p:grpSpPr>
            <p:sp>
              <p:nvSpPr>
                <p:cNvPr id="1690" name=""/>
                <p:cNvSpPr/>
                <p:nvPr/>
              </p:nvSpPr>
              <p:spPr>
                <a:xfrm>
                  <a:off x="8026560" y="3922560"/>
                  <a:ext cx="109440" cy="74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1" name=""/>
                <p:cNvSpPr/>
                <p:nvPr/>
              </p:nvSpPr>
              <p:spPr>
                <a:xfrm flipH="1">
                  <a:off x="8026560" y="3865680"/>
                  <a:ext cx="99720" cy="207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2" name=""/>
                <p:cNvSpPr/>
                <p:nvPr/>
              </p:nvSpPr>
              <p:spPr>
                <a:xfrm flipH="1">
                  <a:off x="8026560" y="3703680"/>
                  <a:ext cx="102960" cy="216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3" name=""/>
                <p:cNvSpPr/>
                <p:nvPr/>
              </p:nvSpPr>
              <p:spPr>
                <a:xfrm>
                  <a:off x="8034480" y="3755880"/>
                  <a:ext cx="101520" cy="101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0760" bIns="50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4" name=""/>
                <p:cNvSpPr/>
                <p:nvPr/>
              </p:nvSpPr>
              <p:spPr>
                <a:xfrm>
                  <a:off x="8040600" y="3587760"/>
                  <a:ext cx="9540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5" name=""/>
                <p:cNvSpPr/>
                <p:nvPr/>
              </p:nvSpPr>
              <p:spPr>
                <a:xfrm flipV="1">
                  <a:off x="8035920" y="3554280"/>
                  <a:ext cx="93600" cy="190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6" name=""/>
              <p:cNvGrpSpPr/>
              <p:nvPr/>
            </p:nvGrpSpPr>
            <p:grpSpPr>
              <a:xfrm>
                <a:off x="8040600" y="2435400"/>
                <a:ext cx="98640" cy="1147680"/>
                <a:chOff x="8040600" y="2435400"/>
                <a:chExt cx="98640" cy="1147680"/>
              </a:xfrm>
            </p:grpSpPr>
            <p:sp>
              <p:nvSpPr>
                <p:cNvPr id="1697" name=""/>
                <p:cNvSpPr/>
                <p:nvPr/>
              </p:nvSpPr>
              <p:spPr>
                <a:xfrm>
                  <a:off x="8045280" y="3416400"/>
                  <a:ext cx="86040" cy="12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8" name=""/>
                <p:cNvSpPr/>
                <p:nvPr/>
              </p:nvSpPr>
              <p:spPr>
                <a:xfrm flipV="1">
                  <a:off x="8040600" y="3381480"/>
                  <a:ext cx="93600" cy="201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9" name=""/>
                <p:cNvSpPr/>
                <p:nvPr/>
              </p:nvSpPr>
              <p:spPr>
                <a:xfrm>
                  <a:off x="8048520" y="3260880"/>
                  <a:ext cx="85680" cy="112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0" name=""/>
                <p:cNvSpPr/>
                <p:nvPr/>
              </p:nvSpPr>
              <p:spPr>
                <a:xfrm flipH="1">
                  <a:off x="8043840" y="3225960"/>
                  <a:ext cx="87480" cy="183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1" name=""/>
                <p:cNvSpPr/>
                <p:nvPr/>
              </p:nvSpPr>
              <p:spPr>
                <a:xfrm>
                  <a:off x="8064360" y="3102120"/>
                  <a:ext cx="66960" cy="120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2" name=""/>
                <p:cNvSpPr/>
                <p:nvPr/>
              </p:nvSpPr>
              <p:spPr>
                <a:xfrm flipH="1">
                  <a:off x="8050320" y="3078000"/>
                  <a:ext cx="81000" cy="176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3" name=""/>
                <p:cNvSpPr/>
                <p:nvPr/>
              </p:nvSpPr>
              <p:spPr>
                <a:xfrm>
                  <a:off x="8069400" y="2960640"/>
                  <a:ext cx="6660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4" name=""/>
                <p:cNvSpPr/>
                <p:nvPr/>
              </p:nvSpPr>
              <p:spPr>
                <a:xfrm flipH="1">
                  <a:off x="8064360" y="2936880"/>
                  <a:ext cx="71640" cy="158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5" name=""/>
                <p:cNvSpPr/>
                <p:nvPr/>
              </p:nvSpPr>
              <p:spPr>
                <a:xfrm>
                  <a:off x="8072280" y="2828880"/>
                  <a:ext cx="66960" cy="108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6" name=""/>
                <p:cNvSpPr/>
                <p:nvPr/>
              </p:nvSpPr>
              <p:spPr>
                <a:xfrm flipH="1">
                  <a:off x="8072280" y="2813040"/>
                  <a:ext cx="57240" cy="13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7" name=""/>
                <p:cNvSpPr/>
                <p:nvPr/>
              </p:nvSpPr>
              <p:spPr>
                <a:xfrm>
                  <a:off x="8072280" y="2728800"/>
                  <a:ext cx="54000" cy="76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8" name=""/>
                <p:cNvSpPr/>
                <p:nvPr/>
              </p:nvSpPr>
              <p:spPr>
                <a:xfrm flipH="1">
                  <a:off x="8067600" y="2709720"/>
                  <a:ext cx="61920" cy="117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9" name=""/>
                <p:cNvSpPr/>
                <p:nvPr/>
              </p:nvSpPr>
              <p:spPr>
                <a:xfrm>
                  <a:off x="8074080" y="2625840"/>
                  <a:ext cx="57240" cy="79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0" name=""/>
                <p:cNvSpPr/>
                <p:nvPr/>
              </p:nvSpPr>
              <p:spPr>
                <a:xfrm flipH="1">
                  <a:off x="8074080" y="2614680"/>
                  <a:ext cx="50760" cy="104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1" name=""/>
                <p:cNvSpPr/>
                <p:nvPr/>
              </p:nvSpPr>
              <p:spPr>
                <a:xfrm>
                  <a:off x="8078760" y="2538360"/>
                  <a:ext cx="50760" cy="73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1960" bIns="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2" name=""/>
                <p:cNvSpPr/>
                <p:nvPr/>
              </p:nvSpPr>
              <p:spPr>
                <a:xfrm flipH="1">
                  <a:off x="8072280" y="2523960"/>
                  <a:ext cx="54000" cy="100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48960" bIns="48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3" name=""/>
                <p:cNvSpPr/>
                <p:nvPr/>
              </p:nvSpPr>
              <p:spPr>
                <a:xfrm>
                  <a:off x="8077320" y="2444760"/>
                  <a:ext cx="42840" cy="74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4" name=""/>
                <p:cNvSpPr/>
                <p:nvPr/>
              </p:nvSpPr>
              <p:spPr>
                <a:xfrm flipH="1">
                  <a:off x="8082000" y="2435400"/>
                  <a:ext cx="39600" cy="95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15" name=""/>
            <p:cNvGrpSpPr/>
            <p:nvPr/>
          </p:nvGrpSpPr>
          <p:grpSpPr>
            <a:xfrm>
              <a:off x="8126280" y="2433600"/>
              <a:ext cx="185760" cy="1488960"/>
              <a:chOff x="8126280" y="2433600"/>
              <a:chExt cx="185760" cy="1488960"/>
            </a:xfrm>
          </p:grpSpPr>
          <p:grpSp>
            <p:nvGrpSpPr>
              <p:cNvPr id="1716" name=""/>
              <p:cNvGrpSpPr/>
              <p:nvPr/>
            </p:nvGrpSpPr>
            <p:grpSpPr>
              <a:xfrm>
                <a:off x="8196120" y="3481560"/>
                <a:ext cx="115920" cy="441000"/>
                <a:chOff x="8196120" y="3481560"/>
                <a:chExt cx="115920" cy="441000"/>
              </a:xfrm>
            </p:grpSpPr>
            <p:sp>
              <p:nvSpPr>
                <p:cNvPr id="1717" name=""/>
                <p:cNvSpPr/>
                <p:nvPr/>
              </p:nvSpPr>
              <p:spPr>
                <a:xfrm flipH="1">
                  <a:off x="8231040" y="3637080"/>
                  <a:ext cx="52560" cy="168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8" name=""/>
                <p:cNvSpPr/>
                <p:nvPr/>
              </p:nvSpPr>
              <p:spPr>
                <a:xfrm>
                  <a:off x="8211960" y="3672000"/>
                  <a:ext cx="88920" cy="85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9" name=""/>
                <p:cNvSpPr/>
                <p:nvPr/>
              </p:nvSpPr>
              <p:spPr>
                <a:xfrm flipH="1">
                  <a:off x="8240760" y="3765600"/>
                  <a:ext cx="60120" cy="156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0" name=""/>
                <p:cNvSpPr/>
                <p:nvPr/>
              </p:nvSpPr>
              <p:spPr>
                <a:xfrm>
                  <a:off x="8229600" y="3808440"/>
                  <a:ext cx="82440" cy="58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1" name=""/>
                <p:cNvSpPr/>
                <p:nvPr/>
              </p:nvSpPr>
              <p:spPr>
                <a:xfrm>
                  <a:off x="8196120" y="3521160"/>
                  <a:ext cx="87480" cy="102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2" name=""/>
                <p:cNvSpPr/>
                <p:nvPr/>
              </p:nvSpPr>
              <p:spPr>
                <a:xfrm flipH="1">
                  <a:off x="8211960" y="3481560"/>
                  <a:ext cx="52560" cy="185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3" name=""/>
              <p:cNvGrpSpPr/>
              <p:nvPr/>
            </p:nvGrpSpPr>
            <p:grpSpPr>
              <a:xfrm>
                <a:off x="8126280" y="2433600"/>
                <a:ext cx="136800" cy="1073160"/>
                <a:chOff x="8126280" y="2433600"/>
                <a:chExt cx="136800" cy="1073160"/>
              </a:xfrm>
            </p:grpSpPr>
            <p:sp>
              <p:nvSpPr>
                <p:cNvPr id="1724" name=""/>
                <p:cNvSpPr/>
                <p:nvPr/>
              </p:nvSpPr>
              <p:spPr>
                <a:xfrm>
                  <a:off x="8178840" y="3360600"/>
                  <a:ext cx="84240" cy="120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5" name=""/>
                <p:cNvSpPr/>
                <p:nvPr/>
              </p:nvSpPr>
              <p:spPr>
                <a:xfrm flipV="1">
                  <a:off x="8196120" y="3340080"/>
                  <a:ext cx="47880" cy="166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6" name=""/>
                <p:cNvSpPr/>
                <p:nvPr/>
              </p:nvSpPr>
              <p:spPr>
                <a:xfrm>
                  <a:off x="8167680" y="3211560"/>
                  <a:ext cx="82440" cy="11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7" name=""/>
                <p:cNvSpPr/>
                <p:nvPr/>
              </p:nvSpPr>
              <p:spPr>
                <a:xfrm flipH="1">
                  <a:off x="8177040" y="3173400"/>
                  <a:ext cx="54000" cy="177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8" name=""/>
                <p:cNvSpPr/>
                <p:nvPr/>
              </p:nvSpPr>
              <p:spPr>
                <a:xfrm>
                  <a:off x="8153280" y="3068640"/>
                  <a:ext cx="77760" cy="100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48960" bIns="48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9" name=""/>
                <p:cNvSpPr/>
                <p:nvPr/>
              </p:nvSpPr>
              <p:spPr>
                <a:xfrm flipH="1">
                  <a:off x="8163000" y="3040200"/>
                  <a:ext cx="57240" cy="163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0" name=""/>
                <p:cNvSpPr/>
                <p:nvPr/>
              </p:nvSpPr>
              <p:spPr>
                <a:xfrm>
                  <a:off x="8139240" y="2941560"/>
                  <a:ext cx="85680" cy="96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1" name=""/>
                <p:cNvSpPr/>
                <p:nvPr/>
              </p:nvSpPr>
              <p:spPr>
                <a:xfrm flipV="1">
                  <a:off x="8148600" y="2917800"/>
                  <a:ext cx="54000" cy="142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2" name=""/>
                <p:cNvSpPr/>
                <p:nvPr/>
              </p:nvSpPr>
              <p:spPr>
                <a:xfrm>
                  <a:off x="8136000" y="2809800"/>
                  <a:ext cx="71280" cy="98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47520" bIns="47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3" name=""/>
                <p:cNvSpPr/>
                <p:nvPr/>
              </p:nvSpPr>
              <p:spPr>
                <a:xfrm flipH="1">
                  <a:off x="8143920" y="2789280"/>
                  <a:ext cx="52200" cy="13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4" name=""/>
                <p:cNvSpPr/>
                <p:nvPr/>
              </p:nvSpPr>
              <p:spPr>
                <a:xfrm>
                  <a:off x="8131320" y="2711520"/>
                  <a:ext cx="64800" cy="77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5" name=""/>
                <p:cNvSpPr/>
                <p:nvPr/>
              </p:nvSpPr>
              <p:spPr>
                <a:xfrm flipH="1">
                  <a:off x="8140680" y="2695680"/>
                  <a:ext cx="46080" cy="112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6" name=""/>
                <p:cNvSpPr/>
                <p:nvPr/>
              </p:nvSpPr>
              <p:spPr>
                <a:xfrm>
                  <a:off x="8131320" y="2611440"/>
                  <a:ext cx="52200" cy="81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7" name=""/>
                <p:cNvSpPr/>
                <p:nvPr/>
              </p:nvSpPr>
              <p:spPr>
                <a:xfrm flipH="1">
                  <a:off x="8139240" y="2600280"/>
                  <a:ext cx="4284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8" name=""/>
                <p:cNvSpPr/>
                <p:nvPr/>
              </p:nvSpPr>
              <p:spPr>
                <a:xfrm>
                  <a:off x="8131320" y="2523960"/>
                  <a:ext cx="47520" cy="68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 flipH="1">
                  <a:off x="8134200" y="2511360"/>
                  <a:ext cx="39960" cy="98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47520" bIns="47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0" name=""/>
                <p:cNvSpPr/>
                <p:nvPr/>
              </p:nvSpPr>
              <p:spPr>
                <a:xfrm>
                  <a:off x="8126280" y="2440080"/>
                  <a:ext cx="47880" cy="71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0160" bIns="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1" name=""/>
                <p:cNvSpPr/>
                <p:nvPr/>
              </p:nvSpPr>
              <p:spPr>
                <a:xfrm flipV="1">
                  <a:off x="8131320" y="2433600"/>
                  <a:ext cx="37800" cy="82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31320" bIns="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42" name=""/>
            <p:cNvGrpSpPr/>
            <p:nvPr/>
          </p:nvGrpSpPr>
          <p:grpSpPr>
            <a:xfrm>
              <a:off x="8037360" y="3889440"/>
              <a:ext cx="266760" cy="298440"/>
              <a:chOff x="8037360" y="3889440"/>
              <a:chExt cx="266760" cy="298440"/>
            </a:xfrm>
          </p:grpSpPr>
          <p:sp>
            <p:nvSpPr>
              <p:cNvPr id="1743" name=""/>
              <p:cNvSpPr/>
              <p:nvPr/>
            </p:nvSpPr>
            <p:spPr>
              <a:xfrm>
                <a:off x="8037360" y="4068720"/>
                <a:ext cx="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8304120" y="3889440"/>
                <a:ext cx="0" cy="10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8280360" y="3905280"/>
                <a:ext cx="0" cy="10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0400" bIns="50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8066160" y="4048200"/>
                <a:ext cx="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8097840" y="4025880"/>
                <a:ext cx="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8256600" y="3929040"/>
                <a:ext cx="0" cy="10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0400" bIns="50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8126280" y="4011480"/>
                <a:ext cx="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8155080" y="3994200"/>
                <a:ext cx="0" cy="10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8182080" y="3971880"/>
                <a:ext cx="0" cy="10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8205840" y="3959280"/>
                <a:ext cx="0" cy="10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8231040" y="3943440"/>
                <a:ext cx="0" cy="10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0400" bIns="50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4" name=""/>
            <p:cNvGrpSpPr/>
            <p:nvPr/>
          </p:nvGrpSpPr>
          <p:grpSpPr>
            <a:xfrm>
              <a:off x="8016840" y="4241880"/>
              <a:ext cx="372960" cy="461880"/>
              <a:chOff x="8016840" y="4241880"/>
              <a:chExt cx="372960" cy="461880"/>
            </a:xfrm>
          </p:grpSpPr>
          <p:sp>
            <p:nvSpPr>
              <p:cNvPr id="1755" name=""/>
              <p:cNvSpPr/>
              <p:nvPr/>
            </p:nvSpPr>
            <p:spPr>
              <a:xfrm>
                <a:off x="8016840" y="4575240"/>
                <a:ext cx="0" cy="12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8389800" y="4241880"/>
                <a:ext cx="0" cy="10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8366040" y="4268880"/>
                <a:ext cx="0" cy="106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8342280" y="4287960"/>
                <a:ext cx="0" cy="106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8240760" y="4379760"/>
                <a:ext cx="0" cy="10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8045280" y="4546440"/>
                <a:ext cx="0" cy="130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8072280" y="4519440"/>
                <a:ext cx="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8101080" y="4498920"/>
                <a:ext cx="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8213760" y="440064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8129520" y="4471920"/>
                <a:ext cx="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8186760" y="4427640"/>
                <a:ext cx="0" cy="10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8159760" y="4446720"/>
                <a:ext cx="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8318520" y="4307040"/>
                <a:ext cx="0" cy="106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8291520" y="4332240"/>
                <a:ext cx="0" cy="106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8265960" y="4356000"/>
                <a:ext cx="0" cy="106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0" name=""/>
            <p:cNvGrpSpPr/>
            <p:nvPr/>
          </p:nvGrpSpPr>
          <p:grpSpPr>
            <a:xfrm>
              <a:off x="8001000" y="4137120"/>
              <a:ext cx="131760" cy="425520"/>
              <a:chOff x="8001000" y="4137120"/>
              <a:chExt cx="131760" cy="425520"/>
            </a:xfrm>
          </p:grpSpPr>
          <p:sp>
            <p:nvSpPr>
              <p:cNvPr id="1771" name=""/>
              <p:cNvSpPr/>
              <p:nvPr/>
            </p:nvSpPr>
            <p:spPr>
              <a:xfrm flipH="1">
                <a:off x="8013600" y="4137120"/>
                <a:ext cx="11448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 flipH="1">
                <a:off x="8005680" y="4249800"/>
                <a:ext cx="120600" cy="23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 flipH="1">
                <a:off x="8018640" y="4348080"/>
                <a:ext cx="114120" cy="21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8074080" y="4172040"/>
                <a:ext cx="58680" cy="4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8021520" y="4200480"/>
                <a:ext cx="11124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8020080" y="4259160"/>
                <a:ext cx="109440" cy="7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8018640" y="4322880"/>
                <a:ext cx="109440" cy="7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8015400" y="4384800"/>
                <a:ext cx="109440" cy="7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8001000" y="4437000"/>
                <a:ext cx="9540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8008920" y="4495680"/>
                <a:ext cx="61920" cy="3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1" name=""/>
            <p:cNvSpPr/>
            <p:nvPr/>
          </p:nvSpPr>
          <p:spPr>
            <a:xfrm>
              <a:off x="8310600" y="3978360"/>
              <a:ext cx="27000" cy="17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2" name=""/>
            <p:cNvGrpSpPr/>
            <p:nvPr/>
          </p:nvGrpSpPr>
          <p:grpSpPr>
            <a:xfrm>
              <a:off x="8256600" y="3997440"/>
              <a:ext cx="122400" cy="320400"/>
              <a:chOff x="8256600" y="3997440"/>
              <a:chExt cx="122400" cy="320400"/>
            </a:xfrm>
          </p:grpSpPr>
          <p:sp>
            <p:nvSpPr>
              <p:cNvPr id="1783" name=""/>
              <p:cNvSpPr/>
              <p:nvPr/>
            </p:nvSpPr>
            <p:spPr>
              <a:xfrm flipH="1">
                <a:off x="8258040" y="3997440"/>
                <a:ext cx="76320" cy="149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 flipH="1">
                <a:off x="8272440" y="4070520"/>
                <a:ext cx="8100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 flipH="1">
                <a:off x="8285040" y="4152960"/>
                <a:ext cx="81000" cy="164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8275680" y="4014720"/>
                <a:ext cx="74520" cy="47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8258040" y="4064040"/>
                <a:ext cx="104760" cy="7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8256600" y="4127400"/>
                <a:ext cx="12240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8269200" y="4195800"/>
                <a:ext cx="98640" cy="60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8272440" y="4262400"/>
                <a:ext cx="57240" cy="3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1" name=""/>
            <p:cNvSpPr/>
            <p:nvPr/>
          </p:nvSpPr>
          <p:spPr>
            <a:xfrm flipH="1">
              <a:off x="8650440" y="4619520"/>
              <a:ext cx="4680" cy="7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2" name=""/>
            <p:cNvGrpSpPr/>
            <p:nvPr/>
          </p:nvGrpSpPr>
          <p:grpSpPr>
            <a:xfrm>
              <a:off x="8313840" y="4332240"/>
              <a:ext cx="365040" cy="419040"/>
              <a:chOff x="8313840" y="4332240"/>
              <a:chExt cx="365040" cy="419040"/>
            </a:xfrm>
          </p:grpSpPr>
          <p:sp>
            <p:nvSpPr>
              <p:cNvPr id="1793" name=""/>
              <p:cNvSpPr/>
              <p:nvPr/>
            </p:nvSpPr>
            <p:spPr>
              <a:xfrm flipH="1">
                <a:off x="8400960" y="4332240"/>
                <a:ext cx="15840" cy="27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 flipH="1">
                <a:off x="8340840" y="4387680"/>
                <a:ext cx="12600" cy="128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 flipH="1">
                <a:off x="8459640" y="4437000"/>
                <a:ext cx="17640" cy="217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 flipH="1">
                <a:off x="8516880" y="4519440"/>
                <a:ext cx="17640" cy="20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 flipH="1">
                <a:off x="8583480" y="4575240"/>
                <a:ext cx="9720" cy="176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8313840" y="4430880"/>
                <a:ext cx="198360" cy="5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8335800" y="4511520"/>
                <a:ext cx="26676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8389800" y="4594320"/>
                <a:ext cx="289080" cy="6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8477280" y="4683240"/>
                <a:ext cx="156960" cy="3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8362800" y="4381560"/>
                <a:ext cx="95400" cy="30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3" name=""/>
            <p:cNvGrpSpPr/>
            <p:nvPr/>
          </p:nvGrpSpPr>
          <p:grpSpPr>
            <a:xfrm>
              <a:off x="7964640" y="4619520"/>
              <a:ext cx="166680" cy="723960"/>
              <a:chOff x="7964640" y="4619520"/>
              <a:chExt cx="166680" cy="723960"/>
            </a:xfrm>
          </p:grpSpPr>
          <p:sp>
            <p:nvSpPr>
              <p:cNvPr id="1804" name=""/>
              <p:cNvSpPr/>
              <p:nvPr/>
            </p:nvSpPr>
            <p:spPr>
              <a:xfrm flipH="1">
                <a:off x="7985160" y="4619520"/>
                <a:ext cx="133200" cy="266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 flipH="1">
                <a:off x="7978680" y="4749840"/>
                <a:ext cx="147600" cy="307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 flipH="1">
                <a:off x="7975440" y="4913280"/>
                <a:ext cx="147960" cy="30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 flipH="1">
                <a:off x="7997760" y="5062680"/>
                <a:ext cx="128520" cy="28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8059680" y="4668840"/>
                <a:ext cx="6372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8002440" y="4719600"/>
                <a:ext cx="12564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7989840" y="4811760"/>
                <a:ext cx="136440" cy="10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7980480" y="4911840"/>
                <a:ext cx="142920" cy="10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7970760" y="5011560"/>
                <a:ext cx="160560" cy="10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7977240" y="5118120"/>
                <a:ext cx="149040" cy="9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7160" bIns="47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7964640" y="5214960"/>
                <a:ext cx="10152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7964640" y="5310360"/>
                <a:ext cx="47520" cy="2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6" name=""/>
            <p:cNvGrpSpPr/>
            <p:nvPr/>
          </p:nvGrpSpPr>
          <p:grpSpPr>
            <a:xfrm>
              <a:off x="7977240" y="1916280"/>
              <a:ext cx="227520" cy="522720"/>
              <a:chOff x="7977240" y="1916280"/>
              <a:chExt cx="227520" cy="522720"/>
            </a:xfrm>
          </p:grpSpPr>
          <p:sp>
            <p:nvSpPr>
              <p:cNvPr id="1817" name=""/>
              <p:cNvSpPr/>
              <p:nvPr/>
            </p:nvSpPr>
            <p:spPr>
              <a:xfrm>
                <a:off x="8070840" y="1943280"/>
                <a:ext cx="35280" cy="322560"/>
              </a:xfrm>
              <a:custGeom>
                <a:avLst/>
                <a:gdLst/>
                <a:ahLst/>
                <a:rect l="0" t="0" r="r" b="b"/>
                <a:pathLst>
                  <a:path w="98" h="896">
                    <a:moveTo>
                      <a:pt x="0" y="896"/>
                    </a:moveTo>
                    <a:lnTo>
                      <a:pt x="39" y="0"/>
                    </a:lnTo>
                    <a:lnTo>
                      <a:pt x="98" y="896"/>
                    </a:lnTo>
                    <a:lnTo>
                      <a:pt x="0" y="896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7996320" y="2262240"/>
                <a:ext cx="179640" cy="162360"/>
              </a:xfrm>
              <a:custGeom>
                <a:avLst/>
                <a:gdLst/>
                <a:ahLst/>
                <a:rect l="0" t="0" r="r" b="b"/>
                <a:pathLst>
                  <a:path w="499" h="451">
                    <a:moveTo>
                      <a:pt x="0" y="341"/>
                    </a:moveTo>
                    <a:lnTo>
                      <a:pt x="22" y="199"/>
                    </a:lnTo>
                    <a:lnTo>
                      <a:pt x="39" y="110"/>
                    </a:lnTo>
                    <a:lnTo>
                      <a:pt x="105" y="26"/>
                    </a:lnTo>
                    <a:lnTo>
                      <a:pt x="176" y="0"/>
                    </a:lnTo>
                    <a:lnTo>
                      <a:pt x="314" y="0"/>
                    </a:lnTo>
                    <a:lnTo>
                      <a:pt x="380" y="22"/>
                    </a:lnTo>
                    <a:lnTo>
                      <a:pt x="459" y="92"/>
                    </a:lnTo>
                    <a:lnTo>
                      <a:pt x="490" y="203"/>
                    </a:lnTo>
                    <a:lnTo>
                      <a:pt x="499" y="322"/>
                    </a:lnTo>
                    <a:lnTo>
                      <a:pt x="499" y="385"/>
                    </a:lnTo>
                    <a:lnTo>
                      <a:pt x="397" y="438"/>
                    </a:lnTo>
                    <a:lnTo>
                      <a:pt x="265" y="451"/>
                    </a:lnTo>
                    <a:lnTo>
                      <a:pt x="97" y="438"/>
                    </a:lnTo>
                    <a:lnTo>
                      <a:pt x="0" y="341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7997760" y="2262240"/>
                <a:ext cx="90720" cy="149760"/>
              </a:xfrm>
              <a:custGeom>
                <a:avLst/>
                <a:gdLst/>
                <a:ahLst/>
                <a:rect l="0" t="0" r="r" b="b"/>
                <a:pathLst>
                  <a:path w="252" h="416">
                    <a:moveTo>
                      <a:pt x="252" y="0"/>
                    </a:moveTo>
                    <a:lnTo>
                      <a:pt x="208" y="106"/>
                    </a:lnTo>
                    <a:lnTo>
                      <a:pt x="195" y="199"/>
                    </a:lnTo>
                    <a:lnTo>
                      <a:pt x="181" y="337"/>
                    </a:lnTo>
                    <a:lnTo>
                      <a:pt x="181" y="416"/>
                    </a:lnTo>
                    <a:lnTo>
                      <a:pt x="39" y="376"/>
                    </a:lnTo>
                    <a:lnTo>
                      <a:pt x="0" y="341"/>
                    </a:lnTo>
                    <a:lnTo>
                      <a:pt x="13" y="212"/>
                    </a:lnTo>
                    <a:lnTo>
                      <a:pt x="39" y="120"/>
                    </a:lnTo>
                    <a:lnTo>
                      <a:pt x="88" y="61"/>
                    </a:lnTo>
                    <a:lnTo>
                      <a:pt x="128" y="26"/>
                    </a:lnTo>
                    <a:lnTo>
                      <a:pt x="203" y="0"/>
                    </a:lnTo>
                    <a:lnTo>
                      <a:pt x="252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7977240" y="2378160"/>
                <a:ext cx="227520" cy="60840"/>
              </a:xfrm>
              <a:custGeom>
                <a:avLst/>
                <a:gdLst/>
                <a:ahLst/>
                <a:rect l="0" t="0" r="r" b="b"/>
                <a:pathLst>
                  <a:path w="632" h="169">
                    <a:moveTo>
                      <a:pt x="0" y="49"/>
                    </a:moveTo>
                    <a:lnTo>
                      <a:pt x="30" y="84"/>
                    </a:lnTo>
                    <a:lnTo>
                      <a:pt x="74" y="120"/>
                    </a:lnTo>
                    <a:lnTo>
                      <a:pt x="136" y="147"/>
                    </a:lnTo>
                    <a:lnTo>
                      <a:pt x="208" y="165"/>
                    </a:lnTo>
                    <a:lnTo>
                      <a:pt x="292" y="169"/>
                    </a:lnTo>
                    <a:lnTo>
                      <a:pt x="358" y="169"/>
                    </a:lnTo>
                    <a:lnTo>
                      <a:pt x="450" y="156"/>
                    </a:lnTo>
                    <a:lnTo>
                      <a:pt x="544" y="129"/>
                    </a:lnTo>
                    <a:lnTo>
                      <a:pt x="588" y="106"/>
                    </a:lnTo>
                    <a:lnTo>
                      <a:pt x="623" y="71"/>
                    </a:lnTo>
                    <a:lnTo>
                      <a:pt x="632" y="49"/>
                    </a:lnTo>
                    <a:lnTo>
                      <a:pt x="606" y="8"/>
                    </a:lnTo>
                    <a:lnTo>
                      <a:pt x="557" y="17"/>
                    </a:lnTo>
                    <a:lnTo>
                      <a:pt x="517" y="49"/>
                    </a:lnTo>
                    <a:lnTo>
                      <a:pt x="437" y="71"/>
                    </a:lnTo>
                    <a:lnTo>
                      <a:pt x="353" y="84"/>
                    </a:lnTo>
                    <a:lnTo>
                      <a:pt x="274" y="84"/>
                    </a:lnTo>
                    <a:lnTo>
                      <a:pt x="199" y="67"/>
                    </a:lnTo>
                    <a:lnTo>
                      <a:pt x="132" y="49"/>
                    </a:lnTo>
                    <a:lnTo>
                      <a:pt x="74" y="26"/>
                    </a:lnTo>
                    <a:lnTo>
                      <a:pt x="39" y="4"/>
                    </a:lnTo>
                    <a:lnTo>
                      <a:pt x="13" y="0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8070840" y="1916280"/>
                <a:ext cx="17640" cy="20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0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"/>
          <p:cNvSpPr/>
          <p:nvPr/>
        </p:nvSpPr>
        <p:spPr>
          <a:xfrm>
            <a:off x="2629080" y="5048280"/>
            <a:ext cx="3828960" cy="324000"/>
          </a:xfrm>
          <a:prstGeom prst="rect">
            <a:avLst/>
          </a:prstGeom>
          <a:solidFill>
            <a:srgbClr val="820082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1714680" y="2095560"/>
            <a:ext cx="6039000" cy="2362320"/>
          </a:xfrm>
          <a:prstGeom prst="rect">
            <a:avLst/>
          </a:prstGeom>
          <a:solidFill>
            <a:srgbClr val="820082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4" name=""/>
          <p:cNvGrpSpPr/>
          <p:nvPr/>
        </p:nvGrpSpPr>
        <p:grpSpPr>
          <a:xfrm>
            <a:off x="0" y="0"/>
            <a:ext cx="9133200" cy="6370560"/>
            <a:chOff x="0" y="0"/>
            <a:chExt cx="9133200" cy="6370560"/>
          </a:xfrm>
        </p:grpSpPr>
        <p:sp>
          <p:nvSpPr>
            <p:cNvPr id="1825" name=""/>
            <p:cNvSpPr/>
            <p:nvPr/>
          </p:nvSpPr>
          <p:spPr>
            <a:xfrm>
              <a:off x="0" y="0"/>
              <a:ext cx="8551800" cy="496800"/>
            </a:xfrm>
            <a:prstGeom prst="rect">
              <a:avLst/>
            </a:prstGeom>
            <a:gradFill rotWithShape="0">
              <a:gsLst>
                <a:gs pos="0">
                  <a:srgbClr val="600060"/>
                </a:gs>
                <a:gs pos="100000">
                  <a:srgbClr val="6f196f"/>
                </a:gs>
              </a:gsLst>
              <a:lin ang="0"/>
            </a:gradFill>
            <a:ln w="12600">
              <a:solidFill>
                <a:srgbClr val="ff00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8658360" y="0"/>
              <a:ext cx="474840" cy="5761080"/>
            </a:xfrm>
            <a:prstGeom prst="rect">
              <a:avLst/>
            </a:prstGeom>
            <a:gradFill rotWithShape="0">
              <a:gsLst>
                <a:gs pos="0">
                  <a:srgbClr val="600060"/>
                </a:gs>
                <a:gs pos="100000">
                  <a:srgbClr val="6f196f"/>
                </a:gs>
              </a:gsLst>
              <a:lin ang="5400000"/>
            </a:gradFill>
            <a:ln w="12600">
              <a:solidFill>
                <a:srgbClr val="ff00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581040" y="5873760"/>
              <a:ext cx="8551800" cy="496800"/>
            </a:xfrm>
            <a:prstGeom prst="rect">
              <a:avLst/>
            </a:prstGeom>
            <a:gradFill rotWithShape="0">
              <a:gsLst>
                <a:gs pos="0">
                  <a:srgbClr val="600060"/>
                </a:gs>
                <a:gs pos="100000">
                  <a:srgbClr val="6f196f"/>
                </a:gs>
              </a:gsLst>
              <a:lin ang="0"/>
            </a:gradFill>
            <a:ln w="12600">
              <a:solidFill>
                <a:srgbClr val="ff00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0" y="609480"/>
              <a:ext cx="474840" cy="5761080"/>
            </a:xfrm>
            <a:prstGeom prst="rect">
              <a:avLst/>
            </a:prstGeom>
            <a:gradFill rotWithShape="0">
              <a:gsLst>
                <a:gs pos="0">
                  <a:srgbClr val="600060"/>
                </a:gs>
                <a:gs pos="100000">
                  <a:srgbClr val="6f196f"/>
                </a:gs>
              </a:gsLst>
              <a:lin ang="5400000"/>
            </a:gradFill>
            <a:ln w="12600">
              <a:solidFill>
                <a:srgbClr val="ff00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576360" y="603360"/>
              <a:ext cx="7958160" cy="5157720"/>
            </a:xfrm>
            <a:prstGeom prst="rect">
              <a:avLst/>
            </a:prstGeom>
            <a:noFill/>
            <a:ln w="12600">
              <a:solidFill>
                <a:srgbClr val="ff00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30" name=""/>
          <p:cNvSpPr txBox="1"/>
          <p:nvPr/>
        </p:nvSpPr>
        <p:spPr>
          <a:xfrm>
            <a:off x="990720" y="8571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80"/>
                </a:solidFill>
                <a:latin typeface="Arial"/>
                <a:ea typeface="Arial"/>
              </a:rPr>
              <a:t>Western Region Sales Results</a:t>
            </a:r>
            <a:br>
              <a:rPr sz="36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iscal Results 199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1" name="" descr=""/>
          <p:cNvPicPr/>
          <p:nvPr/>
        </p:nvPicPr>
        <p:blipFill>
          <a:blip r:embed="rId1"/>
          <a:stretch/>
        </p:blipFill>
        <p:spPr>
          <a:xfrm>
            <a:off x="544680" y="1733400"/>
            <a:ext cx="818028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004760"/>
            <a:ext cx="9132840" cy="123840"/>
          </a:xfrm>
          <a:prstGeom prst="rect">
            <a:avLst/>
          </a:prstGeom>
          <a:solidFill>
            <a:srgbClr val="4040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66560" y="3816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4040ff"/>
                </a:solidFill>
                <a:latin typeface="Arial"/>
                <a:ea typeface="Arial"/>
              </a:rPr>
              <a:t>Today’s Local Weath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918040" y="1225440"/>
            <a:ext cx="2773440" cy="4921560"/>
            <a:chOff x="5918040" y="1225440"/>
            <a:chExt cx="2773440" cy="4921560"/>
          </a:xfrm>
        </p:grpSpPr>
        <p:grpSp>
          <p:nvGrpSpPr>
            <p:cNvPr id="44" name=""/>
            <p:cNvGrpSpPr/>
            <p:nvPr/>
          </p:nvGrpSpPr>
          <p:grpSpPr>
            <a:xfrm>
              <a:off x="5918040" y="1225440"/>
              <a:ext cx="1913400" cy="1202040"/>
              <a:chOff x="5918040" y="1225440"/>
              <a:chExt cx="1913400" cy="1202040"/>
            </a:xfrm>
          </p:grpSpPr>
          <p:sp>
            <p:nvSpPr>
              <p:cNvPr id="45" name=""/>
              <p:cNvSpPr/>
              <p:nvPr/>
            </p:nvSpPr>
            <p:spPr>
              <a:xfrm>
                <a:off x="6713640" y="1833480"/>
                <a:ext cx="493920" cy="362160"/>
              </a:xfrm>
              <a:custGeom>
                <a:avLst/>
                <a:gdLst/>
                <a:ahLst/>
                <a:rect l="0" t="0" r="r" b="b"/>
                <a:pathLst>
                  <a:path w="1372" h="1006">
                    <a:moveTo>
                      <a:pt x="0" y="609"/>
                    </a:moveTo>
                    <a:lnTo>
                      <a:pt x="39" y="569"/>
                    </a:lnTo>
                    <a:lnTo>
                      <a:pt x="79" y="530"/>
                    </a:lnTo>
                    <a:lnTo>
                      <a:pt x="123" y="489"/>
                    </a:lnTo>
                    <a:lnTo>
                      <a:pt x="176" y="445"/>
                    </a:lnTo>
                    <a:lnTo>
                      <a:pt x="224" y="405"/>
                    </a:lnTo>
                    <a:lnTo>
                      <a:pt x="273" y="370"/>
                    </a:lnTo>
                    <a:lnTo>
                      <a:pt x="321" y="339"/>
                    </a:lnTo>
                    <a:lnTo>
                      <a:pt x="392" y="295"/>
                    </a:lnTo>
                    <a:lnTo>
                      <a:pt x="458" y="255"/>
                    </a:lnTo>
                    <a:lnTo>
                      <a:pt x="533" y="220"/>
                    </a:lnTo>
                    <a:lnTo>
                      <a:pt x="621" y="176"/>
                    </a:lnTo>
                    <a:lnTo>
                      <a:pt x="715" y="136"/>
                    </a:lnTo>
                    <a:lnTo>
                      <a:pt x="799" y="105"/>
                    </a:lnTo>
                    <a:lnTo>
                      <a:pt x="896" y="74"/>
                    </a:lnTo>
                    <a:lnTo>
                      <a:pt x="997" y="44"/>
                    </a:lnTo>
                    <a:lnTo>
                      <a:pt x="1094" y="26"/>
                    </a:lnTo>
                    <a:lnTo>
                      <a:pt x="1244" y="0"/>
                    </a:lnTo>
                    <a:lnTo>
                      <a:pt x="1372" y="396"/>
                    </a:lnTo>
                    <a:lnTo>
                      <a:pt x="1288" y="410"/>
                    </a:lnTo>
                    <a:lnTo>
                      <a:pt x="1169" y="436"/>
                    </a:lnTo>
                    <a:lnTo>
                      <a:pt x="1063" y="463"/>
                    </a:lnTo>
                    <a:lnTo>
                      <a:pt x="957" y="493"/>
                    </a:lnTo>
                    <a:lnTo>
                      <a:pt x="869" y="525"/>
                    </a:lnTo>
                    <a:lnTo>
                      <a:pt x="790" y="556"/>
                    </a:lnTo>
                    <a:lnTo>
                      <a:pt x="719" y="587"/>
                    </a:lnTo>
                    <a:lnTo>
                      <a:pt x="648" y="622"/>
                    </a:lnTo>
                    <a:lnTo>
                      <a:pt x="582" y="658"/>
                    </a:lnTo>
                    <a:lnTo>
                      <a:pt x="515" y="693"/>
                    </a:lnTo>
                    <a:lnTo>
                      <a:pt x="458" y="733"/>
                    </a:lnTo>
                    <a:lnTo>
                      <a:pt x="405" y="768"/>
                    </a:lnTo>
                    <a:lnTo>
                      <a:pt x="361" y="799"/>
                    </a:lnTo>
                    <a:lnTo>
                      <a:pt x="308" y="838"/>
                    </a:lnTo>
                    <a:lnTo>
                      <a:pt x="268" y="874"/>
                    </a:lnTo>
                    <a:lnTo>
                      <a:pt x="229" y="904"/>
                    </a:lnTo>
                    <a:lnTo>
                      <a:pt x="194" y="940"/>
                    </a:lnTo>
                    <a:lnTo>
                      <a:pt x="167" y="966"/>
                    </a:lnTo>
                    <a:lnTo>
                      <a:pt x="132" y="1006"/>
                    </a:lnTo>
                    <a:lnTo>
                      <a:pt x="0" y="609"/>
                    </a:lnTo>
                    <a:close/>
                  </a:path>
                </a:pathLst>
              </a:custGeom>
              <a:solidFill>
                <a:srgbClr val="9f9f9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" name=""/>
              <p:cNvGrpSpPr/>
              <p:nvPr/>
            </p:nvGrpSpPr>
            <p:grpSpPr>
              <a:xfrm>
                <a:off x="6815160" y="1743120"/>
                <a:ext cx="245880" cy="276120"/>
                <a:chOff x="6815160" y="1743120"/>
                <a:chExt cx="245880" cy="276120"/>
              </a:xfrm>
            </p:grpSpPr>
            <p:sp>
              <p:nvSpPr>
                <p:cNvPr id="47" name=""/>
                <p:cNvSpPr/>
                <p:nvPr/>
              </p:nvSpPr>
              <p:spPr>
                <a:xfrm flipH="1">
                  <a:off x="6835680" y="1747800"/>
                  <a:ext cx="196920" cy="27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flipH="1" flipV="1">
                  <a:off x="6819840" y="1835280"/>
                  <a:ext cx="241200" cy="79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032600" y="1743120"/>
                  <a:ext cx="28440" cy="171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 flipH="1">
                  <a:off x="6834240" y="1914480"/>
                  <a:ext cx="226800" cy="104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 flipH="1" flipV="1">
                  <a:off x="6815160" y="1833480"/>
                  <a:ext cx="20520" cy="185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" name=""/>
              <p:cNvGrpSpPr/>
              <p:nvPr/>
            </p:nvGrpSpPr>
            <p:grpSpPr>
              <a:xfrm>
                <a:off x="6556320" y="1671480"/>
                <a:ext cx="617760" cy="308160"/>
                <a:chOff x="6556320" y="1671480"/>
                <a:chExt cx="617760" cy="308160"/>
              </a:xfrm>
            </p:grpSpPr>
            <p:sp>
              <p:nvSpPr>
                <p:cNvPr id="53" name=""/>
                <p:cNvSpPr/>
                <p:nvPr/>
              </p:nvSpPr>
              <p:spPr>
                <a:xfrm flipV="1">
                  <a:off x="6562800" y="1673280"/>
                  <a:ext cx="609480" cy="304920"/>
                </a:xfrm>
                <a:prstGeom prst="line">
                  <a:avLst/>
                </a:prstGeom>
                <a:ln w="25560">
                  <a:solidFill>
                    <a:srgbClr val="bfbfb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 flipV="1">
                  <a:off x="6556320" y="1671480"/>
                  <a:ext cx="617760" cy="308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" name=""/>
              <p:cNvGrpSpPr/>
              <p:nvPr/>
            </p:nvGrpSpPr>
            <p:grpSpPr>
              <a:xfrm>
                <a:off x="6550200" y="1501920"/>
                <a:ext cx="470160" cy="308160"/>
                <a:chOff x="6550200" y="1501920"/>
                <a:chExt cx="470160" cy="308160"/>
              </a:xfrm>
            </p:grpSpPr>
            <p:grpSp>
              <p:nvGrpSpPr>
                <p:cNvPr id="56" name=""/>
                <p:cNvGrpSpPr/>
                <p:nvPr/>
              </p:nvGrpSpPr>
              <p:grpSpPr>
                <a:xfrm>
                  <a:off x="6550200" y="1501920"/>
                  <a:ext cx="470160" cy="308160"/>
                  <a:chOff x="6550200" y="1501920"/>
                  <a:chExt cx="470160" cy="308160"/>
                </a:xfrm>
              </p:grpSpPr>
              <p:sp>
                <p:nvSpPr>
                  <p:cNvPr id="57" name=""/>
                  <p:cNvSpPr/>
                  <p:nvPr/>
                </p:nvSpPr>
                <p:spPr>
                  <a:xfrm>
                    <a:off x="6550200" y="1501920"/>
                    <a:ext cx="371880" cy="308160"/>
                  </a:xfrm>
                  <a:custGeom>
                    <a:avLst/>
                    <a:gdLst/>
                    <a:ahLst/>
                    <a:rect l="0" t="0" r="r" b="b"/>
                    <a:pathLst>
                      <a:path w="1033" h="856">
                        <a:moveTo>
                          <a:pt x="0" y="401"/>
                        </a:moveTo>
                        <a:lnTo>
                          <a:pt x="746" y="0"/>
                        </a:lnTo>
                        <a:lnTo>
                          <a:pt x="1033" y="455"/>
                        </a:lnTo>
                        <a:lnTo>
                          <a:pt x="292" y="856"/>
                        </a:lnTo>
                        <a:lnTo>
                          <a:pt x="0" y="401"/>
                        </a:lnTo>
                        <a:close/>
                      </a:path>
                    </a:pathLst>
                  </a:custGeom>
                  <a:solidFill>
                    <a:srgbClr val="bfd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6818400" y="1501920"/>
                    <a:ext cx="201960" cy="184680"/>
                  </a:xfrm>
                  <a:custGeom>
                    <a:avLst/>
                    <a:gdLst/>
                    <a:ahLst/>
                    <a:rect l="0" t="0" r="r" b="b"/>
                    <a:pathLst>
                      <a:path w="561" h="513">
                        <a:moveTo>
                          <a:pt x="0" y="0"/>
                        </a:moveTo>
                        <a:lnTo>
                          <a:pt x="411" y="265"/>
                        </a:lnTo>
                        <a:lnTo>
                          <a:pt x="561" y="513"/>
                        </a:lnTo>
                        <a:lnTo>
                          <a:pt x="287" y="45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fbfb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6656400" y="1665360"/>
                    <a:ext cx="360720" cy="144720"/>
                  </a:xfrm>
                  <a:custGeom>
                    <a:avLst/>
                    <a:gdLst/>
                    <a:ahLst/>
                    <a:rect l="0" t="0" r="r" b="b"/>
                    <a:pathLst>
                      <a:path w="1002" h="402">
                        <a:moveTo>
                          <a:pt x="0" y="402"/>
                        </a:moveTo>
                        <a:lnTo>
                          <a:pt x="737" y="0"/>
                        </a:lnTo>
                        <a:lnTo>
                          <a:pt x="1002" y="52"/>
                        </a:lnTo>
                        <a:lnTo>
                          <a:pt x="445" y="331"/>
                        </a:lnTo>
                        <a:lnTo>
                          <a:pt x="0" y="402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626160" y="1569960"/>
                  <a:ext cx="195480" cy="135000"/>
                  <a:chOff x="6626160" y="1569960"/>
                  <a:chExt cx="195480" cy="13500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>
                    <a:off x="6626160" y="1622520"/>
                    <a:ext cx="88920" cy="82440"/>
                  </a:xfrm>
                  <a:prstGeom prst="ellipse">
                    <a:avLst/>
                  </a:prstGeom>
                  <a:solidFill>
                    <a:srgbClr val="1212fb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31320" bIns="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6732720" y="1569960"/>
                    <a:ext cx="88920" cy="82440"/>
                  </a:xfrm>
                  <a:prstGeom prst="ellipse">
                    <a:avLst/>
                  </a:prstGeom>
                  <a:solidFill>
                    <a:srgbClr val="1212fb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31320" bIns="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3" name=""/>
              <p:cNvGrpSpPr/>
              <p:nvPr/>
            </p:nvGrpSpPr>
            <p:grpSpPr>
              <a:xfrm>
                <a:off x="5918040" y="1790640"/>
                <a:ext cx="776520" cy="636840"/>
                <a:chOff x="5918040" y="1790640"/>
                <a:chExt cx="776520" cy="63684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5918040" y="1790640"/>
                  <a:ext cx="776520" cy="636840"/>
                </a:xfrm>
                <a:custGeom>
                  <a:avLst/>
                  <a:gdLst/>
                  <a:ahLst/>
                  <a:rect l="0" t="0" r="r" b="b"/>
                  <a:pathLst>
                    <a:path w="2157" h="1769">
                      <a:moveTo>
                        <a:pt x="0" y="824"/>
                      </a:moveTo>
                      <a:lnTo>
                        <a:pt x="1539" y="0"/>
                      </a:lnTo>
                      <a:lnTo>
                        <a:pt x="2157" y="949"/>
                      </a:lnTo>
                      <a:lnTo>
                        <a:pt x="612" y="1769"/>
                      </a:lnTo>
                      <a:lnTo>
                        <a:pt x="0" y="824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" name=""/>
                <p:cNvGrpSpPr/>
                <p:nvPr/>
              </p:nvGrpSpPr>
              <p:grpSpPr>
                <a:xfrm>
                  <a:off x="5967360" y="1844640"/>
                  <a:ext cx="674640" cy="531720"/>
                  <a:chOff x="5967360" y="1844640"/>
                  <a:chExt cx="674640" cy="531720"/>
                </a:xfrm>
              </p:grpSpPr>
              <p:grpSp>
                <p:nvGrpSpPr>
                  <p:cNvPr id="66" name=""/>
                  <p:cNvGrpSpPr/>
                  <p:nvPr/>
                </p:nvGrpSpPr>
                <p:grpSpPr>
                  <a:xfrm>
                    <a:off x="6014880" y="1844640"/>
                    <a:ext cx="584280" cy="531720"/>
                    <a:chOff x="6014880" y="1844640"/>
                    <a:chExt cx="584280" cy="531720"/>
                  </a:xfrm>
                </p:grpSpPr>
                <p:sp>
                  <p:nvSpPr>
                    <p:cNvPr id="67" name=""/>
                    <p:cNvSpPr/>
                    <p:nvPr/>
                  </p:nvSpPr>
                  <p:spPr>
                    <a:xfrm>
                      <a:off x="6380280" y="1844640"/>
                      <a:ext cx="218880" cy="3398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" name=""/>
                    <p:cNvSpPr/>
                    <p:nvPr/>
                  </p:nvSpPr>
                  <p:spPr>
                    <a:xfrm>
                      <a:off x="6288120" y="1895400"/>
                      <a:ext cx="217440" cy="3333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" name=""/>
                    <p:cNvSpPr/>
                    <p:nvPr/>
                  </p:nvSpPr>
                  <p:spPr>
                    <a:xfrm>
                      <a:off x="6195960" y="1943280"/>
                      <a:ext cx="219240" cy="3362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" name=""/>
                    <p:cNvSpPr/>
                    <p:nvPr/>
                  </p:nvSpPr>
                  <p:spPr>
                    <a:xfrm>
                      <a:off x="6102360" y="1986120"/>
                      <a:ext cx="223920" cy="3441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" name=""/>
                    <p:cNvSpPr/>
                    <p:nvPr/>
                  </p:nvSpPr>
                  <p:spPr>
                    <a:xfrm>
                      <a:off x="6014880" y="2038320"/>
                      <a:ext cx="216000" cy="3380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" name=""/>
                  <p:cNvGrpSpPr/>
                  <p:nvPr/>
                </p:nvGrpSpPr>
                <p:grpSpPr>
                  <a:xfrm>
                    <a:off x="5967360" y="1865160"/>
                    <a:ext cx="674640" cy="489240"/>
                    <a:chOff x="5967360" y="1865160"/>
                    <a:chExt cx="674640" cy="489240"/>
                  </a:xfrm>
                </p:grpSpPr>
                <p:sp>
                  <p:nvSpPr>
                    <p:cNvPr id="73" name=""/>
                    <p:cNvSpPr/>
                    <p:nvPr/>
                  </p:nvSpPr>
                  <p:spPr>
                    <a:xfrm flipV="1">
                      <a:off x="5967360" y="1865160"/>
                      <a:ext cx="547920" cy="2876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" name=""/>
                    <p:cNvSpPr/>
                    <p:nvPr/>
                  </p:nvSpPr>
                  <p:spPr>
                    <a:xfrm flipV="1">
                      <a:off x="6012000" y="1930320"/>
                      <a:ext cx="542880" cy="2905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" name=""/>
                    <p:cNvSpPr/>
                    <p:nvPr/>
                  </p:nvSpPr>
                  <p:spPr>
                    <a:xfrm flipV="1">
                      <a:off x="6053040" y="1996920"/>
                      <a:ext cx="549360" cy="2923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" name=""/>
                    <p:cNvSpPr/>
                    <p:nvPr/>
                  </p:nvSpPr>
                  <p:spPr>
                    <a:xfrm flipV="1">
                      <a:off x="6095880" y="2063880"/>
                      <a:ext cx="546120" cy="2905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7" name=""/>
              <p:cNvGrpSpPr/>
              <p:nvPr/>
            </p:nvGrpSpPr>
            <p:grpSpPr>
              <a:xfrm>
                <a:off x="7054920" y="1225440"/>
                <a:ext cx="776520" cy="636840"/>
                <a:chOff x="7054920" y="1225440"/>
                <a:chExt cx="776520" cy="63684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7054920" y="1225440"/>
                  <a:ext cx="776520" cy="636840"/>
                </a:xfrm>
                <a:custGeom>
                  <a:avLst/>
                  <a:gdLst/>
                  <a:ahLst/>
                  <a:rect l="0" t="0" r="r" b="b"/>
                  <a:pathLst>
                    <a:path w="2157" h="1769">
                      <a:moveTo>
                        <a:pt x="0" y="820"/>
                      </a:moveTo>
                      <a:lnTo>
                        <a:pt x="1544" y="0"/>
                      </a:lnTo>
                      <a:lnTo>
                        <a:pt x="2157" y="949"/>
                      </a:lnTo>
                      <a:lnTo>
                        <a:pt x="612" y="1769"/>
                      </a:lnTo>
                      <a:lnTo>
                        <a:pt x="0" y="82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9" name=""/>
                <p:cNvGrpSpPr/>
                <p:nvPr/>
              </p:nvGrpSpPr>
              <p:grpSpPr>
                <a:xfrm>
                  <a:off x="7105680" y="1279440"/>
                  <a:ext cx="674640" cy="531720"/>
                  <a:chOff x="7105680" y="1279440"/>
                  <a:chExt cx="674640" cy="531720"/>
                </a:xfrm>
              </p:grpSpPr>
              <p:grpSp>
                <p:nvGrpSpPr>
                  <p:cNvPr id="80" name=""/>
                  <p:cNvGrpSpPr/>
                  <p:nvPr/>
                </p:nvGrpSpPr>
                <p:grpSpPr>
                  <a:xfrm>
                    <a:off x="7151760" y="1279440"/>
                    <a:ext cx="585720" cy="531720"/>
                    <a:chOff x="7151760" y="1279440"/>
                    <a:chExt cx="585720" cy="531720"/>
                  </a:xfrm>
                </p:grpSpPr>
                <p:sp>
                  <p:nvSpPr>
                    <p:cNvPr id="81" name=""/>
                    <p:cNvSpPr/>
                    <p:nvPr/>
                  </p:nvSpPr>
                  <p:spPr>
                    <a:xfrm>
                      <a:off x="7518240" y="1279440"/>
                      <a:ext cx="219240" cy="3398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" name=""/>
                    <p:cNvSpPr/>
                    <p:nvPr/>
                  </p:nvSpPr>
                  <p:spPr>
                    <a:xfrm>
                      <a:off x="7426440" y="1328760"/>
                      <a:ext cx="217440" cy="334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" name=""/>
                    <p:cNvSpPr/>
                    <p:nvPr/>
                  </p:nvSpPr>
                  <p:spPr>
                    <a:xfrm>
                      <a:off x="7334280" y="1378080"/>
                      <a:ext cx="218880" cy="3366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" name=""/>
                    <p:cNvSpPr/>
                    <p:nvPr/>
                  </p:nvSpPr>
                  <p:spPr>
                    <a:xfrm>
                      <a:off x="7240680" y="1420920"/>
                      <a:ext cx="222120" cy="3445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" name=""/>
                    <p:cNvSpPr/>
                    <p:nvPr/>
                  </p:nvSpPr>
                  <p:spPr>
                    <a:xfrm>
                      <a:off x="7151760" y="1473120"/>
                      <a:ext cx="217440" cy="3380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6" name=""/>
                  <p:cNvGrpSpPr/>
                  <p:nvPr/>
                </p:nvGrpSpPr>
                <p:grpSpPr>
                  <a:xfrm>
                    <a:off x="7105680" y="1300320"/>
                    <a:ext cx="674640" cy="488880"/>
                    <a:chOff x="7105680" y="1300320"/>
                    <a:chExt cx="674640" cy="488880"/>
                  </a:xfrm>
                </p:grpSpPr>
                <p:sp>
                  <p:nvSpPr>
                    <p:cNvPr id="87" name=""/>
                    <p:cNvSpPr/>
                    <p:nvPr/>
                  </p:nvSpPr>
                  <p:spPr>
                    <a:xfrm flipV="1">
                      <a:off x="7105680" y="1300320"/>
                      <a:ext cx="547560" cy="2872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" name=""/>
                    <p:cNvSpPr/>
                    <p:nvPr/>
                  </p:nvSpPr>
                  <p:spPr>
                    <a:xfrm flipV="1">
                      <a:off x="7149960" y="1365120"/>
                      <a:ext cx="541440" cy="2890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" name=""/>
                    <p:cNvSpPr/>
                    <p:nvPr/>
                  </p:nvSpPr>
                  <p:spPr>
                    <a:xfrm flipV="1">
                      <a:off x="7191360" y="1432080"/>
                      <a:ext cx="547560" cy="2919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" name=""/>
                    <p:cNvSpPr/>
                    <p:nvPr/>
                  </p:nvSpPr>
                  <p:spPr>
                    <a:xfrm flipV="1">
                      <a:off x="7234200" y="1498680"/>
                      <a:ext cx="546120" cy="2905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91" name=""/>
              <p:cNvSpPr/>
              <p:nvPr/>
            </p:nvSpPr>
            <p:spPr>
              <a:xfrm>
                <a:off x="6718320" y="1712880"/>
                <a:ext cx="179640" cy="287640"/>
              </a:xfrm>
              <a:custGeom>
                <a:avLst/>
                <a:gdLst/>
                <a:ahLst/>
                <a:rect l="0" t="0" r="r" b="b"/>
                <a:pathLst>
                  <a:path w="499" h="799">
                    <a:moveTo>
                      <a:pt x="171" y="0"/>
                    </a:moveTo>
                    <a:lnTo>
                      <a:pt x="499" y="0"/>
                    </a:lnTo>
                    <a:lnTo>
                      <a:pt x="433" y="114"/>
                    </a:lnTo>
                    <a:lnTo>
                      <a:pt x="393" y="216"/>
                    </a:lnTo>
                    <a:lnTo>
                      <a:pt x="362" y="343"/>
                    </a:lnTo>
                    <a:lnTo>
                      <a:pt x="353" y="428"/>
                    </a:lnTo>
                    <a:lnTo>
                      <a:pt x="349" y="534"/>
                    </a:lnTo>
                    <a:lnTo>
                      <a:pt x="353" y="600"/>
                    </a:lnTo>
                    <a:lnTo>
                      <a:pt x="358" y="675"/>
                    </a:lnTo>
                    <a:lnTo>
                      <a:pt x="367" y="733"/>
                    </a:lnTo>
                    <a:lnTo>
                      <a:pt x="380" y="799"/>
                    </a:lnTo>
                    <a:lnTo>
                      <a:pt x="26" y="799"/>
                    </a:lnTo>
                    <a:lnTo>
                      <a:pt x="17" y="746"/>
                    </a:lnTo>
                    <a:lnTo>
                      <a:pt x="4" y="684"/>
                    </a:lnTo>
                    <a:lnTo>
                      <a:pt x="0" y="618"/>
                    </a:lnTo>
                    <a:lnTo>
                      <a:pt x="0" y="552"/>
                    </a:lnTo>
                    <a:lnTo>
                      <a:pt x="4" y="490"/>
                    </a:lnTo>
                    <a:lnTo>
                      <a:pt x="8" y="441"/>
                    </a:lnTo>
                    <a:lnTo>
                      <a:pt x="13" y="379"/>
                    </a:lnTo>
                    <a:lnTo>
                      <a:pt x="30" y="317"/>
                    </a:lnTo>
                    <a:lnTo>
                      <a:pt x="48" y="255"/>
                    </a:lnTo>
                    <a:lnTo>
                      <a:pt x="74" y="176"/>
                    </a:lnTo>
                    <a:lnTo>
                      <a:pt x="105" y="119"/>
                    </a:lnTo>
                    <a:lnTo>
                      <a:pt x="136" y="52"/>
                    </a:lnTo>
                    <a:lnTo>
                      <a:pt x="171" y="0"/>
                    </a:lnTo>
                    <a:close/>
                  </a:path>
                </a:pathLst>
              </a:custGeom>
              <a:solidFill>
                <a:srgbClr val="5f5f5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791400" y="1606680"/>
                <a:ext cx="302040" cy="289440"/>
              </a:xfrm>
              <a:custGeom>
                <a:avLst/>
                <a:gdLst/>
                <a:ahLst/>
                <a:rect l="0" t="0" r="r" b="b"/>
                <a:pathLst>
                  <a:path w="839" h="804">
                    <a:moveTo>
                      <a:pt x="0" y="711"/>
                    </a:moveTo>
                    <a:lnTo>
                      <a:pt x="17" y="654"/>
                    </a:lnTo>
                    <a:lnTo>
                      <a:pt x="44" y="574"/>
                    </a:lnTo>
                    <a:lnTo>
                      <a:pt x="74" y="503"/>
                    </a:lnTo>
                    <a:lnTo>
                      <a:pt x="114" y="424"/>
                    </a:lnTo>
                    <a:lnTo>
                      <a:pt x="158" y="353"/>
                    </a:lnTo>
                    <a:lnTo>
                      <a:pt x="202" y="292"/>
                    </a:lnTo>
                    <a:lnTo>
                      <a:pt x="252" y="239"/>
                    </a:lnTo>
                    <a:lnTo>
                      <a:pt x="314" y="176"/>
                    </a:lnTo>
                    <a:lnTo>
                      <a:pt x="358" y="141"/>
                    </a:lnTo>
                    <a:lnTo>
                      <a:pt x="393" y="110"/>
                    </a:lnTo>
                    <a:lnTo>
                      <a:pt x="468" y="61"/>
                    </a:lnTo>
                    <a:lnTo>
                      <a:pt x="516" y="26"/>
                    </a:lnTo>
                    <a:lnTo>
                      <a:pt x="565" y="0"/>
                    </a:lnTo>
                    <a:lnTo>
                      <a:pt x="839" y="92"/>
                    </a:lnTo>
                    <a:lnTo>
                      <a:pt x="756" y="141"/>
                    </a:lnTo>
                    <a:lnTo>
                      <a:pt x="703" y="176"/>
                    </a:lnTo>
                    <a:lnTo>
                      <a:pt x="645" y="217"/>
                    </a:lnTo>
                    <a:lnTo>
                      <a:pt x="596" y="261"/>
                    </a:lnTo>
                    <a:lnTo>
                      <a:pt x="552" y="300"/>
                    </a:lnTo>
                    <a:lnTo>
                      <a:pt x="516" y="340"/>
                    </a:lnTo>
                    <a:lnTo>
                      <a:pt x="472" y="397"/>
                    </a:lnTo>
                    <a:lnTo>
                      <a:pt x="433" y="450"/>
                    </a:lnTo>
                    <a:lnTo>
                      <a:pt x="402" y="499"/>
                    </a:lnTo>
                    <a:lnTo>
                      <a:pt x="367" y="565"/>
                    </a:lnTo>
                    <a:lnTo>
                      <a:pt x="331" y="632"/>
                    </a:lnTo>
                    <a:lnTo>
                      <a:pt x="309" y="685"/>
                    </a:lnTo>
                    <a:lnTo>
                      <a:pt x="287" y="747"/>
                    </a:lnTo>
                    <a:lnTo>
                      <a:pt x="278" y="804"/>
                    </a:lnTo>
                    <a:lnTo>
                      <a:pt x="0" y="711"/>
                    </a:lnTo>
                    <a:close/>
                  </a:path>
                </a:pathLst>
              </a:custGeom>
              <a:solidFill>
                <a:srgbClr val="bfbfb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6265800" y="3846600"/>
              <a:ext cx="2425680" cy="2300400"/>
              <a:chOff x="6265800" y="3846600"/>
              <a:chExt cx="2425680" cy="2300400"/>
            </a:xfrm>
          </p:grpSpPr>
          <p:sp>
            <p:nvSpPr>
              <p:cNvPr id="94" name=""/>
              <p:cNvSpPr/>
              <p:nvPr/>
            </p:nvSpPr>
            <p:spPr>
              <a:xfrm>
                <a:off x="6265800" y="3846600"/>
                <a:ext cx="2425680" cy="2300400"/>
              </a:xfrm>
              <a:prstGeom prst="ellipse">
                <a:avLst/>
              </a:prstGeom>
              <a:solidFill>
                <a:srgbClr val="404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" name=""/>
              <p:cNvGrpSpPr/>
              <p:nvPr/>
            </p:nvGrpSpPr>
            <p:grpSpPr>
              <a:xfrm>
                <a:off x="6703920" y="3849840"/>
                <a:ext cx="1964160" cy="2227680"/>
                <a:chOff x="6703920" y="3849840"/>
                <a:chExt cx="1964160" cy="2227680"/>
              </a:xfrm>
            </p:grpSpPr>
            <p:grpSp>
              <p:nvGrpSpPr>
                <p:cNvPr id="96" name=""/>
                <p:cNvGrpSpPr/>
                <p:nvPr/>
              </p:nvGrpSpPr>
              <p:grpSpPr>
                <a:xfrm>
                  <a:off x="6703920" y="4046400"/>
                  <a:ext cx="927360" cy="2031120"/>
                  <a:chOff x="6703920" y="4046400"/>
                  <a:chExt cx="927360" cy="2031120"/>
                </a:xfrm>
              </p:grpSpPr>
              <p:grpSp>
                <p:nvGrpSpPr>
                  <p:cNvPr id="97" name=""/>
                  <p:cNvGrpSpPr/>
                  <p:nvPr/>
                </p:nvGrpSpPr>
                <p:grpSpPr>
                  <a:xfrm>
                    <a:off x="6970680" y="5210280"/>
                    <a:ext cx="659160" cy="867240"/>
                    <a:chOff x="6970680" y="5210280"/>
                    <a:chExt cx="659160" cy="867240"/>
                  </a:xfrm>
                </p:grpSpPr>
                <p:sp>
                  <p:nvSpPr>
                    <p:cNvPr id="98" name=""/>
                    <p:cNvSpPr/>
                    <p:nvPr/>
                  </p:nvSpPr>
                  <p:spPr>
                    <a:xfrm>
                      <a:off x="6970680" y="5210280"/>
                      <a:ext cx="659160" cy="8384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831" h="2329">
                          <a:moveTo>
                            <a:pt x="216" y="66"/>
                          </a:moveTo>
                          <a:lnTo>
                            <a:pt x="321" y="0"/>
                          </a:lnTo>
                          <a:lnTo>
                            <a:pt x="414" y="0"/>
                          </a:lnTo>
                          <a:lnTo>
                            <a:pt x="440" y="4"/>
                          </a:lnTo>
                          <a:lnTo>
                            <a:pt x="440" y="26"/>
                          </a:lnTo>
                          <a:lnTo>
                            <a:pt x="440" y="57"/>
                          </a:lnTo>
                          <a:lnTo>
                            <a:pt x="463" y="66"/>
                          </a:lnTo>
                          <a:lnTo>
                            <a:pt x="476" y="39"/>
                          </a:lnTo>
                          <a:lnTo>
                            <a:pt x="489" y="4"/>
                          </a:lnTo>
                          <a:lnTo>
                            <a:pt x="507" y="4"/>
                          </a:lnTo>
                          <a:lnTo>
                            <a:pt x="520" y="26"/>
                          </a:lnTo>
                          <a:lnTo>
                            <a:pt x="551" y="48"/>
                          </a:lnTo>
                          <a:lnTo>
                            <a:pt x="582" y="66"/>
                          </a:lnTo>
                          <a:lnTo>
                            <a:pt x="665" y="66"/>
                          </a:lnTo>
                          <a:lnTo>
                            <a:pt x="709" y="74"/>
                          </a:lnTo>
                          <a:lnTo>
                            <a:pt x="732" y="79"/>
                          </a:lnTo>
                          <a:lnTo>
                            <a:pt x="754" y="79"/>
                          </a:lnTo>
                          <a:lnTo>
                            <a:pt x="789" y="97"/>
                          </a:lnTo>
                          <a:lnTo>
                            <a:pt x="802" y="119"/>
                          </a:lnTo>
                          <a:lnTo>
                            <a:pt x="802" y="141"/>
                          </a:lnTo>
                          <a:lnTo>
                            <a:pt x="859" y="158"/>
                          </a:lnTo>
                          <a:lnTo>
                            <a:pt x="895" y="198"/>
                          </a:lnTo>
                          <a:lnTo>
                            <a:pt x="949" y="242"/>
                          </a:lnTo>
                          <a:lnTo>
                            <a:pt x="979" y="260"/>
                          </a:lnTo>
                          <a:lnTo>
                            <a:pt x="1002" y="260"/>
                          </a:lnTo>
                          <a:lnTo>
                            <a:pt x="1054" y="260"/>
                          </a:lnTo>
                          <a:lnTo>
                            <a:pt x="1094" y="277"/>
                          </a:lnTo>
                          <a:lnTo>
                            <a:pt x="1129" y="317"/>
                          </a:lnTo>
                          <a:lnTo>
                            <a:pt x="1187" y="348"/>
                          </a:lnTo>
                          <a:lnTo>
                            <a:pt x="1218" y="383"/>
                          </a:lnTo>
                          <a:lnTo>
                            <a:pt x="1231" y="432"/>
                          </a:lnTo>
                          <a:lnTo>
                            <a:pt x="1209" y="454"/>
                          </a:lnTo>
                          <a:lnTo>
                            <a:pt x="1187" y="498"/>
                          </a:lnTo>
                          <a:lnTo>
                            <a:pt x="1218" y="529"/>
                          </a:lnTo>
                          <a:lnTo>
                            <a:pt x="1240" y="537"/>
                          </a:lnTo>
                          <a:lnTo>
                            <a:pt x="1275" y="511"/>
                          </a:lnTo>
                          <a:lnTo>
                            <a:pt x="1328" y="498"/>
                          </a:lnTo>
                          <a:lnTo>
                            <a:pt x="1372" y="511"/>
                          </a:lnTo>
                          <a:lnTo>
                            <a:pt x="1407" y="511"/>
                          </a:lnTo>
                          <a:lnTo>
                            <a:pt x="1460" y="533"/>
                          </a:lnTo>
                          <a:lnTo>
                            <a:pt x="1509" y="560"/>
                          </a:lnTo>
                          <a:lnTo>
                            <a:pt x="1562" y="560"/>
                          </a:lnTo>
                          <a:lnTo>
                            <a:pt x="1628" y="564"/>
                          </a:lnTo>
                          <a:lnTo>
                            <a:pt x="1689" y="608"/>
                          </a:lnTo>
                          <a:lnTo>
                            <a:pt x="1756" y="621"/>
                          </a:lnTo>
                          <a:lnTo>
                            <a:pt x="1804" y="639"/>
                          </a:lnTo>
                          <a:lnTo>
                            <a:pt x="1831" y="683"/>
                          </a:lnTo>
                          <a:lnTo>
                            <a:pt x="1822" y="732"/>
                          </a:lnTo>
                          <a:lnTo>
                            <a:pt x="1791" y="780"/>
                          </a:lnTo>
                          <a:lnTo>
                            <a:pt x="1756" y="820"/>
                          </a:lnTo>
                          <a:lnTo>
                            <a:pt x="1716" y="864"/>
                          </a:lnTo>
                          <a:lnTo>
                            <a:pt x="1698" y="917"/>
                          </a:lnTo>
                          <a:lnTo>
                            <a:pt x="1650" y="952"/>
                          </a:lnTo>
                          <a:lnTo>
                            <a:pt x="1681" y="1005"/>
                          </a:lnTo>
                          <a:lnTo>
                            <a:pt x="1676" y="1071"/>
                          </a:lnTo>
                          <a:lnTo>
                            <a:pt x="1645" y="1124"/>
                          </a:lnTo>
                          <a:lnTo>
                            <a:pt x="1645" y="1178"/>
                          </a:lnTo>
                          <a:lnTo>
                            <a:pt x="1619" y="1226"/>
                          </a:lnTo>
                          <a:lnTo>
                            <a:pt x="1584" y="1248"/>
                          </a:lnTo>
                          <a:lnTo>
                            <a:pt x="1539" y="1266"/>
                          </a:lnTo>
                          <a:lnTo>
                            <a:pt x="1487" y="1266"/>
                          </a:lnTo>
                          <a:lnTo>
                            <a:pt x="1407" y="1279"/>
                          </a:lnTo>
                          <a:lnTo>
                            <a:pt x="1345" y="1323"/>
                          </a:lnTo>
                          <a:lnTo>
                            <a:pt x="1315" y="1368"/>
                          </a:lnTo>
                          <a:lnTo>
                            <a:pt x="1293" y="1390"/>
                          </a:lnTo>
                          <a:lnTo>
                            <a:pt x="1328" y="1416"/>
                          </a:lnTo>
                          <a:lnTo>
                            <a:pt x="1328" y="1456"/>
                          </a:lnTo>
                          <a:lnTo>
                            <a:pt x="1240" y="1517"/>
                          </a:lnTo>
                          <a:lnTo>
                            <a:pt x="1187" y="1614"/>
                          </a:lnTo>
                          <a:lnTo>
                            <a:pt x="1116" y="1667"/>
                          </a:lnTo>
                          <a:lnTo>
                            <a:pt x="1059" y="1672"/>
                          </a:lnTo>
                          <a:lnTo>
                            <a:pt x="984" y="1619"/>
                          </a:lnTo>
                          <a:lnTo>
                            <a:pt x="979" y="1689"/>
                          </a:lnTo>
                          <a:lnTo>
                            <a:pt x="1015" y="1725"/>
                          </a:lnTo>
                          <a:lnTo>
                            <a:pt x="1006" y="1786"/>
                          </a:lnTo>
                          <a:lnTo>
                            <a:pt x="903" y="1839"/>
                          </a:lnTo>
                          <a:lnTo>
                            <a:pt x="859" y="1831"/>
                          </a:lnTo>
                          <a:lnTo>
                            <a:pt x="811" y="1914"/>
                          </a:lnTo>
                          <a:lnTo>
                            <a:pt x="762" y="1923"/>
                          </a:lnTo>
                          <a:lnTo>
                            <a:pt x="745" y="1958"/>
                          </a:lnTo>
                          <a:lnTo>
                            <a:pt x="762" y="1998"/>
                          </a:lnTo>
                          <a:lnTo>
                            <a:pt x="718" y="2051"/>
                          </a:lnTo>
                          <a:lnTo>
                            <a:pt x="758" y="2135"/>
                          </a:lnTo>
                          <a:lnTo>
                            <a:pt x="718" y="2197"/>
                          </a:lnTo>
                          <a:lnTo>
                            <a:pt x="687" y="2258"/>
                          </a:lnTo>
                          <a:lnTo>
                            <a:pt x="718" y="2307"/>
                          </a:lnTo>
                          <a:lnTo>
                            <a:pt x="643" y="2307"/>
                          </a:lnTo>
                          <a:lnTo>
                            <a:pt x="582" y="2329"/>
                          </a:lnTo>
                          <a:lnTo>
                            <a:pt x="507" y="2219"/>
                          </a:lnTo>
                          <a:lnTo>
                            <a:pt x="485" y="2130"/>
                          </a:lnTo>
                          <a:lnTo>
                            <a:pt x="485" y="1936"/>
                          </a:lnTo>
                          <a:lnTo>
                            <a:pt x="414" y="1857"/>
                          </a:lnTo>
                          <a:lnTo>
                            <a:pt x="423" y="1738"/>
                          </a:lnTo>
                          <a:lnTo>
                            <a:pt x="458" y="1654"/>
                          </a:lnTo>
                          <a:lnTo>
                            <a:pt x="436" y="1570"/>
                          </a:lnTo>
                          <a:lnTo>
                            <a:pt x="436" y="1478"/>
                          </a:lnTo>
                          <a:lnTo>
                            <a:pt x="440" y="1248"/>
                          </a:lnTo>
                          <a:lnTo>
                            <a:pt x="467" y="1142"/>
                          </a:lnTo>
                          <a:lnTo>
                            <a:pt x="418" y="1075"/>
                          </a:lnTo>
                          <a:lnTo>
                            <a:pt x="370" y="1036"/>
                          </a:lnTo>
                          <a:lnTo>
                            <a:pt x="330" y="1009"/>
                          </a:lnTo>
                          <a:lnTo>
                            <a:pt x="326" y="978"/>
                          </a:lnTo>
                          <a:lnTo>
                            <a:pt x="295" y="983"/>
                          </a:lnTo>
                          <a:lnTo>
                            <a:pt x="251" y="992"/>
                          </a:lnTo>
                          <a:lnTo>
                            <a:pt x="238" y="970"/>
                          </a:lnTo>
                          <a:lnTo>
                            <a:pt x="207" y="943"/>
                          </a:lnTo>
                          <a:lnTo>
                            <a:pt x="185" y="899"/>
                          </a:lnTo>
                          <a:lnTo>
                            <a:pt x="194" y="881"/>
                          </a:lnTo>
                          <a:lnTo>
                            <a:pt x="176" y="833"/>
                          </a:lnTo>
                          <a:lnTo>
                            <a:pt x="149" y="784"/>
                          </a:lnTo>
                          <a:lnTo>
                            <a:pt x="141" y="780"/>
                          </a:lnTo>
                          <a:lnTo>
                            <a:pt x="141" y="758"/>
                          </a:lnTo>
                          <a:lnTo>
                            <a:pt x="127" y="740"/>
                          </a:lnTo>
                          <a:lnTo>
                            <a:pt x="97" y="692"/>
                          </a:lnTo>
                          <a:lnTo>
                            <a:pt x="92" y="674"/>
                          </a:lnTo>
                          <a:lnTo>
                            <a:pt x="52" y="648"/>
                          </a:lnTo>
                          <a:lnTo>
                            <a:pt x="48" y="599"/>
                          </a:lnTo>
                          <a:lnTo>
                            <a:pt x="26" y="568"/>
                          </a:lnTo>
                          <a:lnTo>
                            <a:pt x="0" y="533"/>
                          </a:lnTo>
                          <a:lnTo>
                            <a:pt x="48" y="498"/>
                          </a:lnTo>
                          <a:lnTo>
                            <a:pt x="88" y="480"/>
                          </a:lnTo>
                          <a:lnTo>
                            <a:pt x="48" y="458"/>
                          </a:lnTo>
                          <a:lnTo>
                            <a:pt x="30" y="410"/>
                          </a:lnTo>
                          <a:lnTo>
                            <a:pt x="44" y="374"/>
                          </a:lnTo>
                          <a:lnTo>
                            <a:pt x="88" y="343"/>
                          </a:lnTo>
                          <a:lnTo>
                            <a:pt x="132" y="321"/>
                          </a:lnTo>
                          <a:lnTo>
                            <a:pt x="171" y="268"/>
                          </a:lnTo>
                          <a:lnTo>
                            <a:pt x="194" y="238"/>
                          </a:lnTo>
                          <a:lnTo>
                            <a:pt x="185" y="198"/>
                          </a:lnTo>
                          <a:lnTo>
                            <a:pt x="185" y="158"/>
                          </a:lnTo>
                          <a:lnTo>
                            <a:pt x="216" y="66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" name=""/>
                    <p:cNvSpPr/>
                    <p:nvPr/>
                  </p:nvSpPr>
                  <p:spPr>
                    <a:xfrm>
                      <a:off x="7202520" y="6051600"/>
                      <a:ext cx="7488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08" h="72">
                          <a:moveTo>
                            <a:pt x="70" y="0"/>
                          </a:moveTo>
                          <a:lnTo>
                            <a:pt x="0" y="45"/>
                          </a:lnTo>
                          <a:lnTo>
                            <a:pt x="44" y="72"/>
                          </a:lnTo>
                          <a:lnTo>
                            <a:pt x="133" y="72"/>
                          </a:lnTo>
                          <a:lnTo>
                            <a:pt x="208" y="72"/>
                          </a:lnTo>
                          <a:lnTo>
                            <a:pt x="137" y="31"/>
                          </a:lnTo>
                          <a:lnTo>
                            <a:pt x="7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" name=""/>
                  <p:cNvGrpSpPr/>
                  <p:nvPr/>
                </p:nvGrpSpPr>
                <p:grpSpPr>
                  <a:xfrm>
                    <a:off x="6703920" y="4129200"/>
                    <a:ext cx="927360" cy="1135440"/>
                    <a:chOff x="6703920" y="4129200"/>
                    <a:chExt cx="927360" cy="1135440"/>
                  </a:xfrm>
                </p:grpSpPr>
                <p:sp>
                  <p:nvSpPr>
                    <p:cNvPr id="101" name=""/>
                    <p:cNvSpPr/>
                    <p:nvPr/>
                  </p:nvSpPr>
                  <p:spPr>
                    <a:xfrm>
                      <a:off x="7211880" y="4511520"/>
                      <a:ext cx="24120" cy="306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fill="none" w="67" h="85">
                          <a:moveTo>
                            <a:pt x="0" y="62"/>
                          </a:moveTo>
                          <a:lnTo>
                            <a:pt x="67" y="85"/>
                          </a:lnTo>
                          <a:lnTo>
                            <a:pt x="67" y="53"/>
                          </a:lnTo>
                          <a:lnTo>
                            <a:pt x="67" y="13"/>
                          </a:lnTo>
                          <a:lnTo>
                            <a:pt x="36" y="0"/>
                          </a:lnTo>
                          <a:lnTo>
                            <a:pt x="22" y="31"/>
                          </a:lnTo>
                          <a:lnTo>
                            <a:pt x="0" y="62"/>
                          </a:lnTo>
                        </a:path>
                      </a:pathLst>
                    </a:custGeom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-20520" bIns="-20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2" name=""/>
                    <p:cNvGrpSpPr/>
                    <p:nvPr/>
                  </p:nvGrpSpPr>
                  <p:grpSpPr>
                    <a:xfrm>
                      <a:off x="6703920" y="4129200"/>
                      <a:ext cx="927360" cy="1135440"/>
                      <a:chOff x="6703920" y="4129200"/>
                      <a:chExt cx="927360" cy="1135440"/>
                    </a:xfrm>
                  </p:grpSpPr>
                  <p:sp>
                    <p:nvSpPr>
                      <p:cNvPr id="103" name=""/>
                      <p:cNvSpPr/>
                      <p:nvPr/>
                    </p:nvSpPr>
                    <p:spPr>
                      <a:xfrm>
                        <a:off x="6703920" y="4129200"/>
                        <a:ext cx="665640" cy="113544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849" h="3154">
                            <a:moveTo>
                              <a:pt x="953" y="3084"/>
                            </a:moveTo>
                            <a:lnTo>
                              <a:pt x="874" y="3018"/>
                            </a:lnTo>
                            <a:lnTo>
                              <a:pt x="807" y="3027"/>
                            </a:lnTo>
                            <a:lnTo>
                              <a:pt x="741" y="2969"/>
                            </a:lnTo>
                            <a:lnTo>
                              <a:pt x="728" y="2899"/>
                            </a:lnTo>
                            <a:lnTo>
                              <a:pt x="763" y="2872"/>
                            </a:lnTo>
                            <a:lnTo>
                              <a:pt x="763" y="2850"/>
                            </a:lnTo>
                            <a:lnTo>
                              <a:pt x="790" y="2815"/>
                            </a:lnTo>
                            <a:lnTo>
                              <a:pt x="755" y="2736"/>
                            </a:lnTo>
                            <a:lnTo>
                              <a:pt x="702" y="2731"/>
                            </a:lnTo>
                            <a:lnTo>
                              <a:pt x="636" y="2678"/>
                            </a:lnTo>
                            <a:lnTo>
                              <a:pt x="636" y="2647"/>
                            </a:lnTo>
                            <a:lnTo>
                              <a:pt x="697" y="2555"/>
                            </a:lnTo>
                            <a:lnTo>
                              <a:pt x="680" y="2533"/>
                            </a:lnTo>
                            <a:lnTo>
                              <a:pt x="605" y="2502"/>
                            </a:lnTo>
                            <a:lnTo>
                              <a:pt x="561" y="2533"/>
                            </a:lnTo>
                            <a:lnTo>
                              <a:pt x="543" y="2564"/>
                            </a:lnTo>
                            <a:lnTo>
                              <a:pt x="472" y="2555"/>
                            </a:lnTo>
                            <a:lnTo>
                              <a:pt x="418" y="2528"/>
                            </a:lnTo>
                            <a:lnTo>
                              <a:pt x="366" y="2436"/>
                            </a:lnTo>
                            <a:lnTo>
                              <a:pt x="396" y="2360"/>
                            </a:lnTo>
                            <a:lnTo>
                              <a:pt x="410" y="2302"/>
                            </a:lnTo>
                            <a:lnTo>
                              <a:pt x="427" y="2272"/>
                            </a:lnTo>
                            <a:lnTo>
                              <a:pt x="464" y="2241"/>
                            </a:lnTo>
                            <a:lnTo>
                              <a:pt x="490" y="2205"/>
                            </a:lnTo>
                            <a:lnTo>
                              <a:pt x="543" y="2170"/>
                            </a:lnTo>
                            <a:lnTo>
                              <a:pt x="591" y="2148"/>
                            </a:lnTo>
                            <a:lnTo>
                              <a:pt x="636" y="2179"/>
                            </a:lnTo>
                            <a:lnTo>
                              <a:pt x="680" y="2188"/>
                            </a:lnTo>
                            <a:lnTo>
                              <a:pt x="706" y="2227"/>
                            </a:lnTo>
                            <a:lnTo>
                              <a:pt x="746" y="2223"/>
                            </a:lnTo>
                            <a:lnTo>
                              <a:pt x="799" y="2205"/>
                            </a:lnTo>
                            <a:lnTo>
                              <a:pt x="838" y="2227"/>
                            </a:lnTo>
                            <a:lnTo>
                              <a:pt x="918" y="2302"/>
                            </a:lnTo>
                            <a:lnTo>
                              <a:pt x="891" y="2360"/>
                            </a:lnTo>
                            <a:lnTo>
                              <a:pt x="918" y="2392"/>
                            </a:lnTo>
                            <a:lnTo>
                              <a:pt x="918" y="2409"/>
                            </a:lnTo>
                            <a:lnTo>
                              <a:pt x="949" y="2440"/>
                            </a:lnTo>
                            <a:lnTo>
                              <a:pt x="979" y="2467"/>
                            </a:lnTo>
                            <a:lnTo>
                              <a:pt x="993" y="2453"/>
                            </a:lnTo>
                            <a:lnTo>
                              <a:pt x="993" y="2400"/>
                            </a:lnTo>
                            <a:lnTo>
                              <a:pt x="988" y="2329"/>
                            </a:lnTo>
                            <a:lnTo>
                              <a:pt x="988" y="2263"/>
                            </a:lnTo>
                            <a:lnTo>
                              <a:pt x="979" y="2241"/>
                            </a:lnTo>
                            <a:lnTo>
                              <a:pt x="1010" y="2201"/>
                            </a:lnTo>
                            <a:lnTo>
                              <a:pt x="1068" y="2188"/>
                            </a:lnTo>
                            <a:lnTo>
                              <a:pt x="1090" y="2166"/>
                            </a:lnTo>
                            <a:lnTo>
                              <a:pt x="1129" y="2179"/>
                            </a:lnTo>
                            <a:lnTo>
                              <a:pt x="1165" y="2148"/>
                            </a:lnTo>
                            <a:lnTo>
                              <a:pt x="1218" y="2104"/>
                            </a:lnTo>
                            <a:lnTo>
                              <a:pt x="1248" y="2091"/>
                            </a:lnTo>
                            <a:lnTo>
                              <a:pt x="1235" y="2055"/>
                            </a:lnTo>
                            <a:lnTo>
                              <a:pt x="1279" y="2007"/>
                            </a:lnTo>
                            <a:lnTo>
                              <a:pt x="1315" y="1967"/>
                            </a:lnTo>
                            <a:lnTo>
                              <a:pt x="1345" y="1950"/>
                            </a:lnTo>
                            <a:lnTo>
                              <a:pt x="1426" y="1958"/>
                            </a:lnTo>
                            <a:lnTo>
                              <a:pt x="1413" y="1906"/>
                            </a:lnTo>
                            <a:lnTo>
                              <a:pt x="1483" y="1866"/>
                            </a:lnTo>
                            <a:lnTo>
                              <a:pt x="1549" y="1844"/>
                            </a:lnTo>
                            <a:lnTo>
                              <a:pt x="1607" y="1835"/>
                            </a:lnTo>
                            <a:lnTo>
                              <a:pt x="1585" y="1888"/>
                            </a:lnTo>
                            <a:lnTo>
                              <a:pt x="1646" y="1831"/>
                            </a:lnTo>
                            <a:lnTo>
                              <a:pt x="1615" y="1795"/>
                            </a:lnTo>
                            <a:lnTo>
                              <a:pt x="1611" y="1720"/>
                            </a:lnTo>
                            <a:lnTo>
                              <a:pt x="1549" y="1720"/>
                            </a:lnTo>
                            <a:lnTo>
                              <a:pt x="1563" y="1681"/>
                            </a:lnTo>
                            <a:lnTo>
                              <a:pt x="1748" y="1681"/>
                            </a:lnTo>
                            <a:lnTo>
                              <a:pt x="1849" y="1623"/>
                            </a:lnTo>
                            <a:lnTo>
                              <a:pt x="1840" y="1584"/>
                            </a:lnTo>
                            <a:lnTo>
                              <a:pt x="1792" y="1539"/>
                            </a:lnTo>
                            <a:lnTo>
                              <a:pt x="1792" y="1469"/>
                            </a:lnTo>
                            <a:lnTo>
                              <a:pt x="1761" y="1456"/>
                            </a:lnTo>
                            <a:lnTo>
                              <a:pt x="1743" y="1407"/>
                            </a:lnTo>
                            <a:lnTo>
                              <a:pt x="1721" y="1381"/>
                            </a:lnTo>
                            <a:lnTo>
                              <a:pt x="1686" y="1390"/>
                            </a:lnTo>
                            <a:lnTo>
                              <a:pt x="1615" y="1337"/>
                            </a:lnTo>
                            <a:lnTo>
                              <a:pt x="1593" y="1275"/>
                            </a:lnTo>
                            <a:lnTo>
                              <a:pt x="1527" y="1204"/>
                            </a:lnTo>
                            <a:lnTo>
                              <a:pt x="1430" y="1293"/>
                            </a:lnTo>
                            <a:lnTo>
                              <a:pt x="1430" y="1403"/>
                            </a:lnTo>
                            <a:lnTo>
                              <a:pt x="1408" y="1434"/>
                            </a:lnTo>
                            <a:lnTo>
                              <a:pt x="1368" y="1438"/>
                            </a:lnTo>
                            <a:lnTo>
                              <a:pt x="1345" y="1456"/>
                            </a:lnTo>
                            <a:lnTo>
                              <a:pt x="1332" y="1513"/>
                            </a:lnTo>
                            <a:lnTo>
                              <a:pt x="1301" y="1570"/>
                            </a:lnTo>
                            <a:lnTo>
                              <a:pt x="1262" y="1513"/>
                            </a:lnTo>
                            <a:lnTo>
                              <a:pt x="1293" y="1438"/>
                            </a:lnTo>
                            <a:lnTo>
                              <a:pt x="1284" y="1381"/>
                            </a:lnTo>
                            <a:lnTo>
                              <a:pt x="1240" y="1359"/>
                            </a:lnTo>
                            <a:lnTo>
                              <a:pt x="1160" y="1240"/>
                            </a:lnTo>
                            <a:lnTo>
                              <a:pt x="1165" y="1200"/>
                            </a:lnTo>
                            <a:lnTo>
                              <a:pt x="1262" y="1085"/>
                            </a:lnTo>
                            <a:lnTo>
                              <a:pt x="1332" y="1085"/>
                            </a:lnTo>
                            <a:lnTo>
                              <a:pt x="1391" y="1081"/>
                            </a:lnTo>
                            <a:lnTo>
                              <a:pt x="1417" y="1032"/>
                            </a:lnTo>
                            <a:lnTo>
                              <a:pt x="1492" y="1041"/>
                            </a:lnTo>
                            <a:lnTo>
                              <a:pt x="1518" y="1010"/>
                            </a:lnTo>
                            <a:lnTo>
                              <a:pt x="1585" y="1015"/>
                            </a:lnTo>
                            <a:lnTo>
                              <a:pt x="1549" y="971"/>
                            </a:lnTo>
                            <a:lnTo>
                              <a:pt x="1540" y="904"/>
                            </a:lnTo>
                            <a:lnTo>
                              <a:pt x="1483" y="971"/>
                            </a:lnTo>
                            <a:lnTo>
                              <a:pt x="1439" y="953"/>
                            </a:lnTo>
                            <a:lnTo>
                              <a:pt x="1496" y="878"/>
                            </a:lnTo>
                            <a:lnTo>
                              <a:pt x="1492" y="803"/>
                            </a:lnTo>
                            <a:lnTo>
                              <a:pt x="1439" y="852"/>
                            </a:lnTo>
                            <a:lnTo>
                              <a:pt x="1385" y="904"/>
                            </a:lnTo>
                            <a:lnTo>
                              <a:pt x="1218" y="776"/>
                            </a:lnTo>
                            <a:lnTo>
                              <a:pt x="1226" y="546"/>
                            </a:lnTo>
                            <a:lnTo>
                              <a:pt x="1147" y="471"/>
                            </a:lnTo>
                            <a:lnTo>
                              <a:pt x="1138" y="383"/>
                            </a:lnTo>
                            <a:lnTo>
                              <a:pt x="1187" y="273"/>
                            </a:lnTo>
                            <a:lnTo>
                              <a:pt x="1209" y="149"/>
                            </a:lnTo>
                            <a:lnTo>
                              <a:pt x="1143" y="83"/>
                            </a:lnTo>
                            <a:lnTo>
                              <a:pt x="1072" y="74"/>
                            </a:lnTo>
                            <a:lnTo>
                              <a:pt x="1032" y="52"/>
                            </a:lnTo>
                            <a:lnTo>
                              <a:pt x="1024" y="0"/>
                            </a:lnTo>
                            <a:lnTo>
                              <a:pt x="957" y="83"/>
                            </a:lnTo>
                            <a:lnTo>
                              <a:pt x="896" y="92"/>
                            </a:lnTo>
                            <a:lnTo>
                              <a:pt x="874" y="22"/>
                            </a:lnTo>
                            <a:lnTo>
                              <a:pt x="830" y="39"/>
                            </a:lnTo>
                            <a:lnTo>
                              <a:pt x="777" y="48"/>
                            </a:lnTo>
                            <a:lnTo>
                              <a:pt x="640" y="180"/>
                            </a:lnTo>
                            <a:lnTo>
                              <a:pt x="591" y="163"/>
                            </a:lnTo>
                            <a:lnTo>
                              <a:pt x="530" y="66"/>
                            </a:lnTo>
                            <a:lnTo>
                              <a:pt x="538" y="149"/>
                            </a:lnTo>
                            <a:lnTo>
                              <a:pt x="583" y="216"/>
                            </a:lnTo>
                            <a:lnTo>
                              <a:pt x="658" y="268"/>
                            </a:lnTo>
                            <a:lnTo>
                              <a:pt x="702" y="273"/>
                            </a:lnTo>
                            <a:lnTo>
                              <a:pt x="706" y="330"/>
                            </a:lnTo>
                            <a:lnTo>
                              <a:pt x="741" y="374"/>
                            </a:lnTo>
                            <a:lnTo>
                              <a:pt x="719" y="418"/>
                            </a:lnTo>
                            <a:lnTo>
                              <a:pt x="719" y="498"/>
                            </a:lnTo>
                            <a:lnTo>
                              <a:pt x="680" y="621"/>
                            </a:lnTo>
                            <a:lnTo>
                              <a:pt x="578" y="790"/>
                            </a:lnTo>
                            <a:lnTo>
                              <a:pt x="534" y="799"/>
                            </a:lnTo>
                            <a:lnTo>
                              <a:pt x="458" y="957"/>
                            </a:lnTo>
                            <a:lnTo>
                              <a:pt x="432" y="1050"/>
                            </a:lnTo>
                            <a:lnTo>
                              <a:pt x="383" y="1037"/>
                            </a:lnTo>
                            <a:lnTo>
                              <a:pt x="379" y="1068"/>
                            </a:lnTo>
                            <a:lnTo>
                              <a:pt x="317" y="1125"/>
                            </a:lnTo>
                            <a:lnTo>
                              <a:pt x="251" y="1165"/>
                            </a:lnTo>
                            <a:lnTo>
                              <a:pt x="163" y="1244"/>
                            </a:lnTo>
                            <a:lnTo>
                              <a:pt x="97" y="1323"/>
                            </a:lnTo>
                            <a:lnTo>
                              <a:pt x="101" y="1385"/>
                            </a:lnTo>
                            <a:lnTo>
                              <a:pt x="74" y="1416"/>
                            </a:lnTo>
                            <a:lnTo>
                              <a:pt x="48" y="1451"/>
                            </a:lnTo>
                            <a:lnTo>
                              <a:pt x="30" y="1504"/>
                            </a:lnTo>
                            <a:lnTo>
                              <a:pt x="48" y="1562"/>
                            </a:lnTo>
                            <a:lnTo>
                              <a:pt x="61" y="1650"/>
                            </a:lnTo>
                            <a:lnTo>
                              <a:pt x="35" y="1694"/>
                            </a:lnTo>
                            <a:lnTo>
                              <a:pt x="8" y="1791"/>
                            </a:lnTo>
                            <a:lnTo>
                              <a:pt x="0" y="1910"/>
                            </a:lnTo>
                            <a:lnTo>
                              <a:pt x="13" y="1967"/>
                            </a:lnTo>
                            <a:lnTo>
                              <a:pt x="0" y="2077"/>
                            </a:lnTo>
                            <a:lnTo>
                              <a:pt x="35" y="2117"/>
                            </a:lnTo>
                            <a:lnTo>
                              <a:pt x="52" y="1936"/>
                            </a:lnTo>
                            <a:lnTo>
                              <a:pt x="52" y="1804"/>
                            </a:lnTo>
                            <a:lnTo>
                              <a:pt x="92" y="1756"/>
                            </a:lnTo>
                            <a:lnTo>
                              <a:pt x="101" y="1822"/>
                            </a:lnTo>
                            <a:lnTo>
                              <a:pt x="88" y="1866"/>
                            </a:lnTo>
                            <a:lnTo>
                              <a:pt x="88" y="1914"/>
                            </a:lnTo>
                            <a:lnTo>
                              <a:pt x="83" y="1998"/>
                            </a:lnTo>
                            <a:lnTo>
                              <a:pt x="110" y="2077"/>
                            </a:lnTo>
                            <a:lnTo>
                              <a:pt x="114" y="2161"/>
                            </a:lnTo>
                            <a:lnTo>
                              <a:pt x="127" y="2201"/>
                            </a:lnTo>
                            <a:lnTo>
                              <a:pt x="145" y="2249"/>
                            </a:lnTo>
                            <a:lnTo>
                              <a:pt x="114" y="2302"/>
                            </a:lnTo>
                            <a:lnTo>
                              <a:pt x="127" y="2374"/>
                            </a:lnTo>
                            <a:lnTo>
                              <a:pt x="158" y="2462"/>
                            </a:lnTo>
                            <a:lnTo>
                              <a:pt x="216" y="2511"/>
                            </a:lnTo>
                            <a:lnTo>
                              <a:pt x="282" y="2581"/>
                            </a:lnTo>
                            <a:lnTo>
                              <a:pt x="330" y="2634"/>
                            </a:lnTo>
                            <a:lnTo>
                              <a:pt x="366" y="2625"/>
                            </a:lnTo>
                            <a:lnTo>
                              <a:pt x="410" y="2661"/>
                            </a:lnTo>
                            <a:lnTo>
                              <a:pt x="445" y="2678"/>
                            </a:lnTo>
                            <a:lnTo>
                              <a:pt x="468" y="2722"/>
                            </a:lnTo>
                            <a:lnTo>
                              <a:pt x="561" y="2806"/>
                            </a:lnTo>
                            <a:lnTo>
                              <a:pt x="591" y="2815"/>
                            </a:lnTo>
                            <a:lnTo>
                              <a:pt x="658" y="2868"/>
                            </a:lnTo>
                            <a:lnTo>
                              <a:pt x="658" y="2947"/>
                            </a:lnTo>
                            <a:lnTo>
                              <a:pt x="733" y="3027"/>
                            </a:lnTo>
                            <a:lnTo>
                              <a:pt x="799" y="3097"/>
                            </a:lnTo>
                            <a:lnTo>
                              <a:pt x="834" y="3106"/>
                            </a:lnTo>
                            <a:lnTo>
                              <a:pt x="865" y="3084"/>
                            </a:lnTo>
                            <a:lnTo>
                              <a:pt x="882" y="3075"/>
                            </a:lnTo>
                            <a:lnTo>
                              <a:pt x="935" y="3154"/>
                            </a:lnTo>
                            <a:lnTo>
                              <a:pt x="953" y="3084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4" name=""/>
                      <p:cNvSpPr/>
                      <p:nvPr/>
                    </p:nvSpPr>
                    <p:spPr>
                      <a:xfrm>
                        <a:off x="6996240" y="5025960"/>
                        <a:ext cx="116280" cy="7164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3" h="199">
                            <a:moveTo>
                              <a:pt x="4" y="0"/>
                            </a:moveTo>
                            <a:lnTo>
                              <a:pt x="93" y="17"/>
                            </a:lnTo>
                            <a:lnTo>
                              <a:pt x="146" y="61"/>
                            </a:lnTo>
                            <a:lnTo>
                              <a:pt x="181" y="92"/>
                            </a:lnTo>
                            <a:lnTo>
                              <a:pt x="208" y="97"/>
                            </a:lnTo>
                            <a:lnTo>
                              <a:pt x="253" y="133"/>
                            </a:lnTo>
                            <a:lnTo>
                              <a:pt x="288" y="172"/>
                            </a:lnTo>
                            <a:lnTo>
                              <a:pt x="323" y="199"/>
                            </a:lnTo>
                            <a:lnTo>
                              <a:pt x="248" y="199"/>
                            </a:lnTo>
                            <a:lnTo>
                              <a:pt x="199" y="155"/>
                            </a:lnTo>
                            <a:lnTo>
                              <a:pt x="137" y="137"/>
                            </a:lnTo>
                            <a:lnTo>
                              <a:pt x="106" y="97"/>
                            </a:lnTo>
                            <a:lnTo>
                              <a:pt x="44" y="70"/>
                            </a:lnTo>
                            <a:lnTo>
                              <a:pt x="0" y="48"/>
                            </a:lnTo>
                            <a:lnTo>
                              <a:pt x="4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20520" bIns="205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5" name=""/>
                      <p:cNvSpPr/>
                      <p:nvPr/>
                    </p:nvSpPr>
                    <p:spPr>
                      <a:xfrm>
                        <a:off x="7110360" y="5102280"/>
                        <a:ext cx="66960" cy="3204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86" h="89">
                            <a:moveTo>
                              <a:pt x="0" y="49"/>
                            </a:moveTo>
                            <a:lnTo>
                              <a:pt x="57" y="0"/>
                            </a:lnTo>
                            <a:lnTo>
                              <a:pt x="120" y="8"/>
                            </a:lnTo>
                            <a:lnTo>
                              <a:pt x="186" y="62"/>
                            </a:lnTo>
                            <a:lnTo>
                              <a:pt x="186" y="80"/>
                            </a:lnTo>
                            <a:lnTo>
                              <a:pt x="142" y="89"/>
                            </a:lnTo>
                            <a:lnTo>
                              <a:pt x="106" y="71"/>
                            </a:lnTo>
                            <a:lnTo>
                              <a:pt x="57" y="71"/>
                            </a:lnTo>
                            <a:lnTo>
                              <a:pt x="0" y="49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-19080" bIns="-19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6" name=""/>
                      <p:cNvSpPr/>
                      <p:nvPr/>
                    </p:nvSpPr>
                    <p:spPr>
                      <a:xfrm>
                        <a:off x="7153200" y="4341960"/>
                        <a:ext cx="63720" cy="7164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77" h="199">
                            <a:moveTo>
                              <a:pt x="39" y="0"/>
                            </a:moveTo>
                            <a:lnTo>
                              <a:pt x="83" y="30"/>
                            </a:lnTo>
                            <a:lnTo>
                              <a:pt x="102" y="26"/>
                            </a:lnTo>
                            <a:lnTo>
                              <a:pt x="168" y="83"/>
                            </a:lnTo>
                            <a:lnTo>
                              <a:pt x="177" y="111"/>
                            </a:lnTo>
                            <a:lnTo>
                              <a:pt x="150" y="128"/>
                            </a:lnTo>
                            <a:lnTo>
                              <a:pt x="150" y="142"/>
                            </a:lnTo>
                            <a:lnTo>
                              <a:pt x="128" y="150"/>
                            </a:lnTo>
                            <a:lnTo>
                              <a:pt x="128" y="159"/>
                            </a:lnTo>
                            <a:lnTo>
                              <a:pt x="106" y="199"/>
                            </a:lnTo>
                            <a:lnTo>
                              <a:pt x="74" y="177"/>
                            </a:lnTo>
                            <a:lnTo>
                              <a:pt x="52" y="186"/>
                            </a:lnTo>
                            <a:lnTo>
                              <a:pt x="0" y="120"/>
                            </a:lnTo>
                            <a:lnTo>
                              <a:pt x="30" y="70"/>
                            </a:lnTo>
                            <a:lnTo>
                              <a:pt x="39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20520" bIns="205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7" name=""/>
                      <p:cNvSpPr/>
                      <p:nvPr/>
                    </p:nvSpPr>
                    <p:spPr>
                      <a:xfrm>
                        <a:off x="7218360" y="4324320"/>
                        <a:ext cx="41760" cy="3384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16" h="94">
                            <a:moveTo>
                              <a:pt x="0" y="53"/>
                            </a:moveTo>
                            <a:lnTo>
                              <a:pt x="67" y="94"/>
                            </a:lnTo>
                            <a:lnTo>
                              <a:pt x="80" y="76"/>
                            </a:lnTo>
                            <a:lnTo>
                              <a:pt x="116" y="36"/>
                            </a:lnTo>
                            <a:lnTo>
                              <a:pt x="99" y="13"/>
                            </a:lnTo>
                            <a:lnTo>
                              <a:pt x="75" y="22"/>
                            </a:lnTo>
                            <a:lnTo>
                              <a:pt x="67" y="0"/>
                            </a:lnTo>
                            <a:lnTo>
                              <a:pt x="49" y="27"/>
                            </a:lnTo>
                            <a:lnTo>
                              <a:pt x="0" y="53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-17280" bIns="-17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8" name=""/>
                      <p:cNvSpPr/>
                      <p:nvPr/>
                    </p:nvSpPr>
                    <p:spPr>
                      <a:xfrm>
                        <a:off x="7164360" y="4311720"/>
                        <a:ext cx="41760" cy="241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16" h="67">
                            <a:moveTo>
                              <a:pt x="0" y="0"/>
                            </a:moveTo>
                            <a:lnTo>
                              <a:pt x="62" y="0"/>
                            </a:lnTo>
                            <a:lnTo>
                              <a:pt x="116" y="62"/>
                            </a:lnTo>
                            <a:lnTo>
                              <a:pt x="67" y="67"/>
                            </a:lnTo>
                            <a:lnTo>
                              <a:pt x="67" y="49"/>
                            </a:lnTo>
                            <a:lnTo>
                              <a:pt x="40" y="67"/>
                            </a:lnTo>
                            <a:lnTo>
                              <a:pt x="36" y="67"/>
                            </a:lnTo>
                            <a:lnTo>
                              <a:pt x="17" y="49"/>
                            </a:lnTo>
                            <a:lnTo>
                              <a:pt x="22" y="3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-27000" bIns="-27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9" name=""/>
                      <p:cNvSpPr/>
                      <p:nvPr/>
                    </p:nvSpPr>
                    <p:spPr>
                      <a:xfrm>
                        <a:off x="7257960" y="4414680"/>
                        <a:ext cx="100440" cy="17028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279" h="473">
                            <a:moveTo>
                              <a:pt x="120" y="261"/>
                            </a:moveTo>
                            <a:lnTo>
                              <a:pt x="75" y="322"/>
                            </a:lnTo>
                            <a:lnTo>
                              <a:pt x="52" y="322"/>
                            </a:lnTo>
                            <a:lnTo>
                              <a:pt x="35" y="331"/>
                            </a:lnTo>
                            <a:lnTo>
                              <a:pt x="13" y="336"/>
                            </a:lnTo>
                            <a:lnTo>
                              <a:pt x="8" y="349"/>
                            </a:lnTo>
                            <a:lnTo>
                              <a:pt x="44" y="353"/>
                            </a:lnTo>
                            <a:lnTo>
                              <a:pt x="61" y="363"/>
                            </a:lnTo>
                            <a:lnTo>
                              <a:pt x="75" y="385"/>
                            </a:lnTo>
                            <a:lnTo>
                              <a:pt x="75" y="394"/>
                            </a:lnTo>
                            <a:lnTo>
                              <a:pt x="106" y="416"/>
                            </a:lnTo>
                            <a:lnTo>
                              <a:pt x="106" y="434"/>
                            </a:lnTo>
                            <a:lnTo>
                              <a:pt x="120" y="434"/>
                            </a:lnTo>
                            <a:lnTo>
                              <a:pt x="172" y="473"/>
                            </a:lnTo>
                            <a:lnTo>
                              <a:pt x="159" y="442"/>
                            </a:lnTo>
                            <a:lnTo>
                              <a:pt x="159" y="416"/>
                            </a:lnTo>
                            <a:lnTo>
                              <a:pt x="177" y="416"/>
                            </a:lnTo>
                            <a:lnTo>
                              <a:pt x="190" y="429"/>
                            </a:lnTo>
                            <a:lnTo>
                              <a:pt x="203" y="429"/>
                            </a:lnTo>
                            <a:lnTo>
                              <a:pt x="213" y="434"/>
                            </a:lnTo>
                            <a:lnTo>
                              <a:pt x="222" y="429"/>
                            </a:lnTo>
                            <a:lnTo>
                              <a:pt x="222" y="403"/>
                            </a:lnTo>
                            <a:lnTo>
                              <a:pt x="203" y="385"/>
                            </a:lnTo>
                            <a:lnTo>
                              <a:pt x="199" y="353"/>
                            </a:lnTo>
                            <a:lnTo>
                              <a:pt x="208" y="322"/>
                            </a:lnTo>
                            <a:lnTo>
                              <a:pt x="266" y="381"/>
                            </a:lnTo>
                            <a:lnTo>
                              <a:pt x="266" y="344"/>
                            </a:lnTo>
                            <a:lnTo>
                              <a:pt x="279" y="305"/>
                            </a:lnTo>
                            <a:lnTo>
                              <a:pt x="240" y="261"/>
                            </a:lnTo>
                            <a:lnTo>
                              <a:pt x="235" y="239"/>
                            </a:lnTo>
                            <a:lnTo>
                              <a:pt x="240" y="177"/>
                            </a:lnTo>
                            <a:lnTo>
                              <a:pt x="181" y="110"/>
                            </a:lnTo>
                            <a:lnTo>
                              <a:pt x="128" y="70"/>
                            </a:lnTo>
                            <a:lnTo>
                              <a:pt x="142" y="48"/>
                            </a:lnTo>
                            <a:lnTo>
                              <a:pt x="120" y="35"/>
                            </a:lnTo>
                            <a:lnTo>
                              <a:pt x="120" y="13"/>
                            </a:lnTo>
                            <a:lnTo>
                              <a:pt x="75" y="48"/>
                            </a:lnTo>
                            <a:lnTo>
                              <a:pt x="61" y="39"/>
                            </a:lnTo>
                            <a:lnTo>
                              <a:pt x="75" y="17"/>
                            </a:lnTo>
                            <a:lnTo>
                              <a:pt x="75" y="0"/>
                            </a:lnTo>
                            <a:lnTo>
                              <a:pt x="52" y="0"/>
                            </a:lnTo>
                            <a:lnTo>
                              <a:pt x="30" y="8"/>
                            </a:lnTo>
                            <a:lnTo>
                              <a:pt x="0" y="17"/>
                            </a:lnTo>
                            <a:lnTo>
                              <a:pt x="0" y="39"/>
                            </a:lnTo>
                            <a:lnTo>
                              <a:pt x="0" y="66"/>
                            </a:lnTo>
                            <a:lnTo>
                              <a:pt x="8" y="74"/>
                            </a:lnTo>
                            <a:lnTo>
                              <a:pt x="44" y="92"/>
                            </a:lnTo>
                            <a:lnTo>
                              <a:pt x="35" y="120"/>
                            </a:lnTo>
                            <a:lnTo>
                              <a:pt x="52" y="133"/>
                            </a:lnTo>
                            <a:lnTo>
                              <a:pt x="66" y="142"/>
                            </a:lnTo>
                            <a:lnTo>
                              <a:pt x="98" y="142"/>
                            </a:lnTo>
                            <a:lnTo>
                              <a:pt x="120" y="159"/>
                            </a:lnTo>
                            <a:lnTo>
                              <a:pt x="120" y="195"/>
                            </a:lnTo>
                            <a:lnTo>
                              <a:pt x="120" y="230"/>
                            </a:lnTo>
                            <a:lnTo>
                              <a:pt x="120" y="261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0" name=""/>
                      <p:cNvSpPr/>
                      <p:nvPr/>
                    </p:nvSpPr>
                    <p:spPr>
                      <a:xfrm>
                        <a:off x="7307280" y="4321080"/>
                        <a:ext cx="98640" cy="7668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274" h="213">
                            <a:moveTo>
                              <a:pt x="0" y="159"/>
                            </a:moveTo>
                            <a:lnTo>
                              <a:pt x="66" y="213"/>
                            </a:lnTo>
                            <a:lnTo>
                              <a:pt x="105" y="178"/>
                            </a:lnTo>
                            <a:lnTo>
                              <a:pt x="127" y="182"/>
                            </a:lnTo>
                            <a:lnTo>
                              <a:pt x="186" y="106"/>
                            </a:lnTo>
                            <a:lnTo>
                              <a:pt x="212" y="115"/>
                            </a:lnTo>
                            <a:lnTo>
                              <a:pt x="256" y="67"/>
                            </a:lnTo>
                            <a:lnTo>
                              <a:pt x="252" y="48"/>
                            </a:lnTo>
                            <a:lnTo>
                              <a:pt x="274" y="35"/>
                            </a:lnTo>
                            <a:lnTo>
                              <a:pt x="261" y="22"/>
                            </a:lnTo>
                            <a:lnTo>
                              <a:pt x="217" y="22"/>
                            </a:lnTo>
                            <a:lnTo>
                              <a:pt x="186" y="17"/>
                            </a:lnTo>
                            <a:lnTo>
                              <a:pt x="164" y="0"/>
                            </a:lnTo>
                            <a:lnTo>
                              <a:pt x="127" y="4"/>
                            </a:lnTo>
                            <a:lnTo>
                              <a:pt x="114" y="22"/>
                            </a:lnTo>
                            <a:lnTo>
                              <a:pt x="114" y="39"/>
                            </a:lnTo>
                            <a:lnTo>
                              <a:pt x="114" y="84"/>
                            </a:lnTo>
                            <a:lnTo>
                              <a:pt x="97" y="89"/>
                            </a:lnTo>
                            <a:lnTo>
                              <a:pt x="83" y="106"/>
                            </a:lnTo>
                            <a:lnTo>
                              <a:pt x="35" y="150"/>
                            </a:lnTo>
                            <a:lnTo>
                              <a:pt x="0" y="159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25560" bIns="25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1" name=""/>
                      <p:cNvSpPr/>
                      <p:nvPr/>
                    </p:nvSpPr>
                    <p:spPr>
                      <a:xfrm>
                        <a:off x="7580160" y="4508640"/>
                        <a:ext cx="51120" cy="4176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42" h="116">
                            <a:moveTo>
                              <a:pt x="0" y="62"/>
                            </a:moveTo>
                            <a:lnTo>
                              <a:pt x="48" y="26"/>
                            </a:lnTo>
                            <a:lnTo>
                              <a:pt x="66" y="26"/>
                            </a:lnTo>
                            <a:lnTo>
                              <a:pt x="66" y="13"/>
                            </a:lnTo>
                            <a:lnTo>
                              <a:pt x="80" y="0"/>
                            </a:lnTo>
                            <a:lnTo>
                              <a:pt x="98" y="8"/>
                            </a:lnTo>
                            <a:lnTo>
                              <a:pt x="124" y="31"/>
                            </a:lnTo>
                            <a:lnTo>
                              <a:pt x="124" y="45"/>
                            </a:lnTo>
                            <a:lnTo>
                              <a:pt x="142" y="53"/>
                            </a:lnTo>
                            <a:lnTo>
                              <a:pt x="142" y="75"/>
                            </a:lnTo>
                            <a:lnTo>
                              <a:pt x="124" y="80"/>
                            </a:lnTo>
                            <a:lnTo>
                              <a:pt x="124" y="94"/>
                            </a:lnTo>
                            <a:lnTo>
                              <a:pt x="102" y="116"/>
                            </a:lnTo>
                            <a:lnTo>
                              <a:pt x="35" y="116"/>
                            </a:lnTo>
                            <a:lnTo>
                              <a:pt x="26" y="99"/>
                            </a:lnTo>
                            <a:lnTo>
                              <a:pt x="0" y="62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-9360" bIns="-9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2" name=""/>
                      <p:cNvSpPr/>
                      <p:nvPr/>
                    </p:nvSpPr>
                    <p:spPr>
                      <a:xfrm>
                        <a:off x="7377120" y="4329000"/>
                        <a:ext cx="178200" cy="28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495" h="782">
                            <a:moveTo>
                              <a:pt x="0" y="234"/>
                            </a:moveTo>
                            <a:lnTo>
                              <a:pt x="0" y="163"/>
                            </a:lnTo>
                            <a:lnTo>
                              <a:pt x="22" y="154"/>
                            </a:lnTo>
                            <a:lnTo>
                              <a:pt x="17" y="141"/>
                            </a:lnTo>
                            <a:lnTo>
                              <a:pt x="70" y="83"/>
                            </a:lnTo>
                            <a:lnTo>
                              <a:pt x="101" y="61"/>
                            </a:lnTo>
                            <a:lnTo>
                              <a:pt x="119" y="52"/>
                            </a:lnTo>
                            <a:lnTo>
                              <a:pt x="150" y="30"/>
                            </a:lnTo>
                            <a:lnTo>
                              <a:pt x="164" y="30"/>
                            </a:lnTo>
                            <a:lnTo>
                              <a:pt x="177" y="26"/>
                            </a:lnTo>
                            <a:lnTo>
                              <a:pt x="195" y="8"/>
                            </a:lnTo>
                            <a:lnTo>
                              <a:pt x="221" y="8"/>
                            </a:lnTo>
                            <a:lnTo>
                              <a:pt x="269" y="0"/>
                            </a:lnTo>
                            <a:lnTo>
                              <a:pt x="300" y="35"/>
                            </a:lnTo>
                            <a:lnTo>
                              <a:pt x="300" y="52"/>
                            </a:lnTo>
                            <a:lnTo>
                              <a:pt x="318" y="61"/>
                            </a:lnTo>
                            <a:lnTo>
                              <a:pt x="362" y="17"/>
                            </a:lnTo>
                            <a:lnTo>
                              <a:pt x="367" y="61"/>
                            </a:lnTo>
                            <a:lnTo>
                              <a:pt x="390" y="127"/>
                            </a:lnTo>
                            <a:lnTo>
                              <a:pt x="403" y="185"/>
                            </a:lnTo>
                            <a:lnTo>
                              <a:pt x="447" y="247"/>
                            </a:lnTo>
                            <a:lnTo>
                              <a:pt x="451" y="274"/>
                            </a:lnTo>
                            <a:lnTo>
                              <a:pt x="460" y="336"/>
                            </a:lnTo>
                            <a:lnTo>
                              <a:pt x="478" y="362"/>
                            </a:lnTo>
                            <a:lnTo>
                              <a:pt x="495" y="424"/>
                            </a:lnTo>
                            <a:lnTo>
                              <a:pt x="478" y="464"/>
                            </a:lnTo>
                            <a:lnTo>
                              <a:pt x="478" y="481"/>
                            </a:lnTo>
                            <a:lnTo>
                              <a:pt x="447" y="490"/>
                            </a:lnTo>
                            <a:lnTo>
                              <a:pt x="412" y="512"/>
                            </a:lnTo>
                            <a:lnTo>
                              <a:pt x="394" y="525"/>
                            </a:lnTo>
                            <a:lnTo>
                              <a:pt x="398" y="543"/>
                            </a:lnTo>
                            <a:lnTo>
                              <a:pt x="367" y="574"/>
                            </a:lnTo>
                            <a:lnTo>
                              <a:pt x="344" y="583"/>
                            </a:lnTo>
                            <a:lnTo>
                              <a:pt x="331" y="583"/>
                            </a:lnTo>
                            <a:lnTo>
                              <a:pt x="300" y="606"/>
                            </a:lnTo>
                            <a:lnTo>
                              <a:pt x="309" y="628"/>
                            </a:lnTo>
                            <a:lnTo>
                              <a:pt x="269" y="654"/>
                            </a:lnTo>
                            <a:lnTo>
                              <a:pt x="269" y="681"/>
                            </a:lnTo>
                            <a:lnTo>
                              <a:pt x="261" y="711"/>
                            </a:lnTo>
                            <a:lnTo>
                              <a:pt x="261" y="747"/>
                            </a:lnTo>
                            <a:lnTo>
                              <a:pt x="256" y="764"/>
                            </a:lnTo>
                            <a:lnTo>
                              <a:pt x="239" y="782"/>
                            </a:lnTo>
                            <a:lnTo>
                              <a:pt x="203" y="782"/>
                            </a:lnTo>
                            <a:lnTo>
                              <a:pt x="177" y="778"/>
                            </a:lnTo>
                            <a:lnTo>
                              <a:pt x="133" y="756"/>
                            </a:lnTo>
                            <a:lnTo>
                              <a:pt x="110" y="729"/>
                            </a:lnTo>
                            <a:lnTo>
                              <a:pt x="110" y="711"/>
                            </a:lnTo>
                            <a:lnTo>
                              <a:pt x="110" y="685"/>
                            </a:lnTo>
                            <a:lnTo>
                              <a:pt x="92" y="654"/>
                            </a:lnTo>
                            <a:lnTo>
                              <a:pt x="83" y="628"/>
                            </a:lnTo>
                            <a:lnTo>
                              <a:pt x="88" y="606"/>
                            </a:lnTo>
                            <a:lnTo>
                              <a:pt x="83" y="574"/>
                            </a:lnTo>
                            <a:lnTo>
                              <a:pt x="70" y="565"/>
                            </a:lnTo>
                            <a:lnTo>
                              <a:pt x="92" y="543"/>
                            </a:lnTo>
                            <a:lnTo>
                              <a:pt x="110" y="512"/>
                            </a:lnTo>
                            <a:lnTo>
                              <a:pt x="105" y="494"/>
                            </a:lnTo>
                            <a:lnTo>
                              <a:pt x="97" y="468"/>
                            </a:lnTo>
                            <a:lnTo>
                              <a:pt x="79" y="441"/>
                            </a:lnTo>
                            <a:lnTo>
                              <a:pt x="88" y="402"/>
                            </a:lnTo>
                            <a:lnTo>
                              <a:pt x="79" y="358"/>
                            </a:lnTo>
                            <a:lnTo>
                              <a:pt x="70" y="318"/>
                            </a:lnTo>
                            <a:lnTo>
                              <a:pt x="61" y="274"/>
                            </a:lnTo>
                            <a:lnTo>
                              <a:pt x="35" y="256"/>
                            </a:lnTo>
                            <a:lnTo>
                              <a:pt x="0" y="234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3" name=""/>
                      <p:cNvSpPr/>
                      <p:nvPr/>
                    </p:nvSpPr>
                    <p:spPr>
                      <a:xfrm>
                        <a:off x="7331040" y="4730760"/>
                        <a:ext cx="59040" cy="5580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64" h="155">
                            <a:moveTo>
                              <a:pt x="0" y="111"/>
                            </a:moveTo>
                            <a:lnTo>
                              <a:pt x="61" y="133"/>
                            </a:lnTo>
                            <a:lnTo>
                              <a:pt x="102" y="137"/>
                            </a:lnTo>
                            <a:lnTo>
                              <a:pt x="128" y="146"/>
                            </a:lnTo>
                            <a:lnTo>
                              <a:pt x="146" y="155"/>
                            </a:lnTo>
                            <a:lnTo>
                              <a:pt x="164" y="128"/>
                            </a:lnTo>
                            <a:lnTo>
                              <a:pt x="155" y="111"/>
                            </a:lnTo>
                            <a:lnTo>
                              <a:pt x="164" y="93"/>
                            </a:lnTo>
                            <a:lnTo>
                              <a:pt x="155" y="74"/>
                            </a:lnTo>
                            <a:lnTo>
                              <a:pt x="142" y="84"/>
                            </a:lnTo>
                            <a:lnTo>
                              <a:pt x="102" y="44"/>
                            </a:lnTo>
                            <a:lnTo>
                              <a:pt x="102" y="17"/>
                            </a:lnTo>
                            <a:lnTo>
                              <a:pt x="120" y="4"/>
                            </a:lnTo>
                            <a:lnTo>
                              <a:pt x="106" y="0"/>
                            </a:lnTo>
                            <a:lnTo>
                              <a:pt x="61" y="17"/>
                            </a:lnTo>
                            <a:lnTo>
                              <a:pt x="61" y="39"/>
                            </a:lnTo>
                            <a:lnTo>
                              <a:pt x="52" y="70"/>
                            </a:lnTo>
                            <a:lnTo>
                              <a:pt x="30" y="102"/>
                            </a:lnTo>
                            <a:lnTo>
                              <a:pt x="0" y="111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4680" bIns="4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14" name=""/>
                  <p:cNvGrpSpPr/>
                  <p:nvPr/>
                </p:nvGrpSpPr>
                <p:grpSpPr>
                  <a:xfrm>
                    <a:off x="7045200" y="4692600"/>
                    <a:ext cx="124560" cy="110160"/>
                    <a:chOff x="7045200" y="4692600"/>
                    <a:chExt cx="124560" cy="110160"/>
                  </a:xfrm>
                </p:grpSpPr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7045200" y="4692600"/>
                      <a:ext cx="82800" cy="878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30" h="244">
                          <a:moveTo>
                            <a:pt x="0" y="22"/>
                          </a:moveTo>
                          <a:lnTo>
                            <a:pt x="30" y="8"/>
                          </a:lnTo>
                          <a:lnTo>
                            <a:pt x="44" y="13"/>
                          </a:lnTo>
                          <a:lnTo>
                            <a:pt x="66" y="8"/>
                          </a:lnTo>
                          <a:lnTo>
                            <a:pt x="101" y="0"/>
                          </a:lnTo>
                          <a:lnTo>
                            <a:pt x="124" y="13"/>
                          </a:lnTo>
                          <a:lnTo>
                            <a:pt x="142" y="13"/>
                          </a:lnTo>
                          <a:lnTo>
                            <a:pt x="150" y="39"/>
                          </a:lnTo>
                          <a:lnTo>
                            <a:pt x="168" y="48"/>
                          </a:lnTo>
                          <a:lnTo>
                            <a:pt x="164" y="71"/>
                          </a:lnTo>
                          <a:lnTo>
                            <a:pt x="168" y="93"/>
                          </a:lnTo>
                          <a:lnTo>
                            <a:pt x="172" y="111"/>
                          </a:lnTo>
                          <a:lnTo>
                            <a:pt x="203" y="146"/>
                          </a:lnTo>
                          <a:lnTo>
                            <a:pt x="217" y="155"/>
                          </a:lnTo>
                          <a:lnTo>
                            <a:pt x="230" y="159"/>
                          </a:lnTo>
                          <a:lnTo>
                            <a:pt x="230" y="177"/>
                          </a:lnTo>
                          <a:lnTo>
                            <a:pt x="208" y="200"/>
                          </a:lnTo>
                          <a:lnTo>
                            <a:pt x="172" y="244"/>
                          </a:lnTo>
                          <a:lnTo>
                            <a:pt x="164" y="240"/>
                          </a:lnTo>
                          <a:lnTo>
                            <a:pt x="155" y="218"/>
                          </a:lnTo>
                          <a:lnTo>
                            <a:pt x="159" y="181"/>
                          </a:lnTo>
                          <a:lnTo>
                            <a:pt x="168" y="168"/>
                          </a:lnTo>
                          <a:lnTo>
                            <a:pt x="164" y="150"/>
                          </a:lnTo>
                          <a:lnTo>
                            <a:pt x="110" y="159"/>
                          </a:lnTo>
                          <a:lnTo>
                            <a:pt x="66" y="191"/>
                          </a:lnTo>
                          <a:lnTo>
                            <a:pt x="66" y="209"/>
                          </a:lnTo>
                          <a:lnTo>
                            <a:pt x="57" y="231"/>
                          </a:lnTo>
                          <a:lnTo>
                            <a:pt x="30" y="235"/>
                          </a:lnTo>
                          <a:lnTo>
                            <a:pt x="17" y="222"/>
                          </a:lnTo>
                          <a:lnTo>
                            <a:pt x="30" y="200"/>
                          </a:lnTo>
                          <a:lnTo>
                            <a:pt x="30" y="181"/>
                          </a:lnTo>
                          <a:lnTo>
                            <a:pt x="39" y="177"/>
                          </a:lnTo>
                          <a:lnTo>
                            <a:pt x="35" y="159"/>
                          </a:lnTo>
                          <a:lnTo>
                            <a:pt x="61" y="128"/>
                          </a:lnTo>
                          <a:lnTo>
                            <a:pt x="79" y="128"/>
                          </a:lnTo>
                          <a:lnTo>
                            <a:pt x="101" y="133"/>
                          </a:lnTo>
                          <a:lnTo>
                            <a:pt x="114" y="115"/>
                          </a:lnTo>
                          <a:lnTo>
                            <a:pt x="133" y="115"/>
                          </a:lnTo>
                          <a:lnTo>
                            <a:pt x="137" y="102"/>
                          </a:lnTo>
                          <a:lnTo>
                            <a:pt x="88" y="98"/>
                          </a:lnTo>
                          <a:lnTo>
                            <a:pt x="92" y="57"/>
                          </a:lnTo>
                          <a:lnTo>
                            <a:pt x="74" y="57"/>
                          </a:lnTo>
                          <a:lnTo>
                            <a:pt x="44" y="57"/>
                          </a:lnTo>
                          <a:lnTo>
                            <a:pt x="0" y="22"/>
                          </a:lnTo>
                          <a:close/>
                        </a:path>
                      </a:pathLst>
                    </a:custGeom>
                    <a:solidFill>
                      <a:srgbClr val="0303dd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36720" bIns="36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7093080" y="4791240"/>
                      <a:ext cx="33840" cy="115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94" h="32">
                          <a:moveTo>
                            <a:pt x="0" y="23"/>
                          </a:moveTo>
                          <a:lnTo>
                            <a:pt x="53" y="32"/>
                          </a:lnTo>
                          <a:lnTo>
                            <a:pt x="94" y="4"/>
                          </a:lnTo>
                          <a:lnTo>
                            <a:pt x="53" y="0"/>
                          </a:lnTo>
                          <a:lnTo>
                            <a:pt x="31" y="9"/>
                          </a:lnTo>
                          <a:lnTo>
                            <a:pt x="0" y="23"/>
                          </a:lnTo>
                          <a:close/>
                        </a:path>
                      </a:pathLst>
                    </a:custGeom>
                    <a:solidFill>
                      <a:srgbClr val="0303dd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-39600" bIns="-39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7139160" y="4784760"/>
                      <a:ext cx="30600" cy="115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85" h="32">
                          <a:moveTo>
                            <a:pt x="0" y="23"/>
                          </a:moveTo>
                          <a:lnTo>
                            <a:pt x="45" y="32"/>
                          </a:lnTo>
                          <a:lnTo>
                            <a:pt x="85" y="4"/>
                          </a:lnTo>
                          <a:lnTo>
                            <a:pt x="62" y="0"/>
                          </a:lnTo>
                          <a:lnTo>
                            <a:pt x="0" y="23"/>
                          </a:lnTo>
                          <a:close/>
                        </a:path>
                      </a:pathLst>
                    </a:custGeom>
                    <a:solidFill>
                      <a:srgbClr val="0303dd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-39600" bIns="-39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8" name=""/>
                  <p:cNvGrpSpPr/>
                  <p:nvPr/>
                </p:nvGrpSpPr>
                <p:grpSpPr>
                  <a:xfrm>
                    <a:off x="7394400" y="4046400"/>
                    <a:ext cx="27360" cy="41760"/>
                    <a:chOff x="7394400" y="4046400"/>
                    <a:chExt cx="27360" cy="41760"/>
                  </a:xfrm>
                </p:grpSpPr>
                <p:sp>
                  <p:nvSpPr>
                    <p:cNvPr id="119" name=""/>
                    <p:cNvSpPr/>
                    <p:nvPr/>
                  </p:nvSpPr>
                  <p:spPr>
                    <a:xfrm>
                      <a:off x="7394400" y="4067280"/>
                      <a:ext cx="27360" cy="208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6" h="58">
                          <a:moveTo>
                            <a:pt x="0" y="40"/>
                          </a:moveTo>
                          <a:lnTo>
                            <a:pt x="76" y="58"/>
                          </a:lnTo>
                          <a:lnTo>
                            <a:pt x="72" y="26"/>
                          </a:lnTo>
                          <a:lnTo>
                            <a:pt x="72" y="0"/>
                          </a:lnTo>
                          <a:lnTo>
                            <a:pt x="36" y="17"/>
                          </a:lnTo>
                          <a:lnTo>
                            <a:pt x="0" y="40"/>
                          </a:lnTo>
                          <a:close/>
                        </a:path>
                      </a:pathLst>
                    </a:custGeom>
                    <a:solidFill>
                      <a:srgbClr val="00ae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7394400" y="4046400"/>
                      <a:ext cx="22680" cy="97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63" h="27">
                          <a:moveTo>
                            <a:pt x="0" y="18"/>
                          </a:moveTo>
                          <a:lnTo>
                            <a:pt x="63" y="0"/>
                          </a:lnTo>
                          <a:lnTo>
                            <a:pt x="59" y="27"/>
                          </a:lnTo>
                          <a:lnTo>
                            <a:pt x="0" y="18"/>
                          </a:lnTo>
                          <a:close/>
                        </a:path>
                      </a:pathLst>
                    </a:custGeom>
                    <a:solidFill>
                      <a:srgbClr val="00ae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-41400" bIns="-41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21" name=""/>
                <p:cNvGrpSpPr/>
                <p:nvPr/>
              </p:nvGrpSpPr>
              <p:grpSpPr>
                <a:xfrm>
                  <a:off x="7077240" y="3849840"/>
                  <a:ext cx="1590840" cy="1873440"/>
                  <a:chOff x="7077240" y="3849840"/>
                  <a:chExt cx="1590840" cy="187344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7805880" y="4675320"/>
                    <a:ext cx="862200" cy="1047960"/>
                  </a:xfrm>
                  <a:custGeom>
                    <a:avLst/>
                    <a:gdLst/>
                    <a:ahLst/>
                    <a:rect l="0" t="0" r="r" b="b"/>
                    <a:pathLst>
                      <a:path w="2395" h="2911">
                        <a:moveTo>
                          <a:pt x="194" y="440"/>
                        </a:moveTo>
                        <a:lnTo>
                          <a:pt x="335" y="392"/>
                        </a:lnTo>
                        <a:lnTo>
                          <a:pt x="401" y="291"/>
                        </a:lnTo>
                        <a:lnTo>
                          <a:pt x="463" y="268"/>
                        </a:lnTo>
                        <a:lnTo>
                          <a:pt x="560" y="198"/>
                        </a:lnTo>
                        <a:lnTo>
                          <a:pt x="657" y="308"/>
                        </a:lnTo>
                        <a:lnTo>
                          <a:pt x="709" y="268"/>
                        </a:lnTo>
                        <a:lnTo>
                          <a:pt x="745" y="282"/>
                        </a:lnTo>
                        <a:lnTo>
                          <a:pt x="784" y="260"/>
                        </a:lnTo>
                        <a:lnTo>
                          <a:pt x="815" y="260"/>
                        </a:lnTo>
                        <a:lnTo>
                          <a:pt x="881" y="268"/>
                        </a:lnTo>
                        <a:lnTo>
                          <a:pt x="956" y="229"/>
                        </a:lnTo>
                        <a:lnTo>
                          <a:pt x="903" y="171"/>
                        </a:lnTo>
                        <a:lnTo>
                          <a:pt x="978" y="97"/>
                        </a:lnTo>
                        <a:lnTo>
                          <a:pt x="1045" y="97"/>
                        </a:lnTo>
                        <a:lnTo>
                          <a:pt x="1128" y="17"/>
                        </a:lnTo>
                        <a:lnTo>
                          <a:pt x="1195" y="17"/>
                        </a:lnTo>
                        <a:lnTo>
                          <a:pt x="1226" y="0"/>
                        </a:lnTo>
                        <a:lnTo>
                          <a:pt x="1323" y="17"/>
                        </a:lnTo>
                        <a:lnTo>
                          <a:pt x="1368" y="48"/>
                        </a:lnTo>
                        <a:lnTo>
                          <a:pt x="1403" y="57"/>
                        </a:lnTo>
                        <a:lnTo>
                          <a:pt x="1473" y="88"/>
                        </a:lnTo>
                        <a:lnTo>
                          <a:pt x="1548" y="119"/>
                        </a:lnTo>
                        <a:lnTo>
                          <a:pt x="1614" y="158"/>
                        </a:lnTo>
                        <a:lnTo>
                          <a:pt x="1703" y="238"/>
                        </a:lnTo>
                        <a:lnTo>
                          <a:pt x="1734" y="291"/>
                        </a:lnTo>
                        <a:lnTo>
                          <a:pt x="1831" y="282"/>
                        </a:lnTo>
                        <a:lnTo>
                          <a:pt x="1972" y="299"/>
                        </a:lnTo>
                        <a:lnTo>
                          <a:pt x="2047" y="339"/>
                        </a:lnTo>
                        <a:lnTo>
                          <a:pt x="2197" y="238"/>
                        </a:lnTo>
                        <a:lnTo>
                          <a:pt x="2183" y="180"/>
                        </a:lnTo>
                        <a:lnTo>
                          <a:pt x="2236" y="119"/>
                        </a:lnTo>
                        <a:lnTo>
                          <a:pt x="2294" y="97"/>
                        </a:lnTo>
                        <a:lnTo>
                          <a:pt x="2316" y="180"/>
                        </a:lnTo>
                        <a:lnTo>
                          <a:pt x="2324" y="291"/>
                        </a:lnTo>
                        <a:lnTo>
                          <a:pt x="2360" y="410"/>
                        </a:lnTo>
                        <a:lnTo>
                          <a:pt x="2360" y="502"/>
                        </a:lnTo>
                        <a:lnTo>
                          <a:pt x="2302" y="573"/>
                        </a:lnTo>
                        <a:lnTo>
                          <a:pt x="2369" y="595"/>
                        </a:lnTo>
                        <a:lnTo>
                          <a:pt x="2346" y="683"/>
                        </a:lnTo>
                        <a:lnTo>
                          <a:pt x="2324" y="793"/>
                        </a:lnTo>
                        <a:lnTo>
                          <a:pt x="2294" y="873"/>
                        </a:lnTo>
                        <a:lnTo>
                          <a:pt x="2249" y="943"/>
                        </a:lnTo>
                        <a:lnTo>
                          <a:pt x="2227" y="992"/>
                        </a:lnTo>
                        <a:lnTo>
                          <a:pt x="2236" y="1067"/>
                        </a:lnTo>
                        <a:lnTo>
                          <a:pt x="2258" y="1155"/>
                        </a:lnTo>
                        <a:lnTo>
                          <a:pt x="2236" y="1217"/>
                        </a:lnTo>
                        <a:lnTo>
                          <a:pt x="2249" y="1265"/>
                        </a:lnTo>
                        <a:lnTo>
                          <a:pt x="2272" y="1305"/>
                        </a:lnTo>
                        <a:lnTo>
                          <a:pt x="2302" y="1367"/>
                        </a:lnTo>
                        <a:lnTo>
                          <a:pt x="2395" y="1460"/>
                        </a:lnTo>
                        <a:lnTo>
                          <a:pt x="2373" y="1539"/>
                        </a:lnTo>
                        <a:lnTo>
                          <a:pt x="2338" y="1694"/>
                        </a:lnTo>
                        <a:lnTo>
                          <a:pt x="2289" y="1857"/>
                        </a:lnTo>
                        <a:lnTo>
                          <a:pt x="2245" y="1980"/>
                        </a:lnTo>
                        <a:lnTo>
                          <a:pt x="2188" y="2113"/>
                        </a:lnTo>
                        <a:lnTo>
                          <a:pt x="2113" y="2276"/>
                        </a:lnTo>
                        <a:lnTo>
                          <a:pt x="2042" y="2399"/>
                        </a:lnTo>
                        <a:lnTo>
                          <a:pt x="1963" y="2536"/>
                        </a:lnTo>
                        <a:lnTo>
                          <a:pt x="1892" y="2638"/>
                        </a:lnTo>
                        <a:lnTo>
                          <a:pt x="1813" y="2748"/>
                        </a:lnTo>
                        <a:lnTo>
                          <a:pt x="1707" y="2871"/>
                        </a:lnTo>
                        <a:lnTo>
                          <a:pt x="1619" y="2911"/>
                        </a:lnTo>
                        <a:lnTo>
                          <a:pt x="1539" y="2889"/>
                        </a:lnTo>
                        <a:lnTo>
                          <a:pt x="1495" y="2796"/>
                        </a:lnTo>
                        <a:lnTo>
                          <a:pt x="1517" y="2779"/>
                        </a:lnTo>
                        <a:lnTo>
                          <a:pt x="1539" y="2708"/>
                        </a:lnTo>
                        <a:lnTo>
                          <a:pt x="1495" y="2668"/>
                        </a:lnTo>
                        <a:lnTo>
                          <a:pt x="1495" y="2615"/>
                        </a:lnTo>
                        <a:lnTo>
                          <a:pt x="1465" y="2576"/>
                        </a:lnTo>
                        <a:lnTo>
                          <a:pt x="1465" y="2448"/>
                        </a:lnTo>
                        <a:lnTo>
                          <a:pt x="1425" y="2355"/>
                        </a:lnTo>
                        <a:lnTo>
                          <a:pt x="1403" y="2302"/>
                        </a:lnTo>
                        <a:lnTo>
                          <a:pt x="1359" y="2254"/>
                        </a:lnTo>
                        <a:lnTo>
                          <a:pt x="1293" y="2192"/>
                        </a:lnTo>
                        <a:lnTo>
                          <a:pt x="1345" y="2104"/>
                        </a:lnTo>
                        <a:lnTo>
                          <a:pt x="1359" y="2033"/>
                        </a:lnTo>
                        <a:lnTo>
                          <a:pt x="1359" y="1989"/>
                        </a:lnTo>
                        <a:lnTo>
                          <a:pt x="1403" y="1963"/>
                        </a:lnTo>
                        <a:lnTo>
                          <a:pt x="1381" y="1901"/>
                        </a:lnTo>
                        <a:lnTo>
                          <a:pt x="1368" y="1822"/>
                        </a:lnTo>
                        <a:lnTo>
                          <a:pt x="1345" y="1742"/>
                        </a:lnTo>
                        <a:lnTo>
                          <a:pt x="1128" y="1579"/>
                        </a:lnTo>
                        <a:lnTo>
                          <a:pt x="1111" y="1531"/>
                        </a:lnTo>
                        <a:lnTo>
                          <a:pt x="1128" y="1415"/>
                        </a:lnTo>
                        <a:lnTo>
                          <a:pt x="1075" y="1367"/>
                        </a:lnTo>
                        <a:lnTo>
                          <a:pt x="1023" y="1397"/>
                        </a:lnTo>
                        <a:lnTo>
                          <a:pt x="912" y="1406"/>
                        </a:lnTo>
                        <a:lnTo>
                          <a:pt x="873" y="1358"/>
                        </a:lnTo>
                        <a:lnTo>
                          <a:pt x="806" y="1415"/>
                        </a:lnTo>
                        <a:lnTo>
                          <a:pt x="776" y="1478"/>
                        </a:lnTo>
                        <a:lnTo>
                          <a:pt x="701" y="1478"/>
                        </a:lnTo>
                        <a:lnTo>
                          <a:pt x="648" y="1517"/>
                        </a:lnTo>
                        <a:lnTo>
                          <a:pt x="568" y="1517"/>
                        </a:lnTo>
                        <a:lnTo>
                          <a:pt x="485" y="1579"/>
                        </a:lnTo>
                        <a:lnTo>
                          <a:pt x="379" y="1570"/>
                        </a:lnTo>
                        <a:lnTo>
                          <a:pt x="238" y="1469"/>
                        </a:lnTo>
                        <a:lnTo>
                          <a:pt x="119" y="1389"/>
                        </a:lnTo>
                        <a:lnTo>
                          <a:pt x="66" y="1327"/>
                        </a:lnTo>
                        <a:lnTo>
                          <a:pt x="66" y="1146"/>
                        </a:lnTo>
                        <a:lnTo>
                          <a:pt x="0" y="1093"/>
                        </a:lnTo>
                        <a:lnTo>
                          <a:pt x="0" y="1036"/>
                        </a:lnTo>
                        <a:lnTo>
                          <a:pt x="13" y="983"/>
                        </a:lnTo>
                        <a:lnTo>
                          <a:pt x="57" y="917"/>
                        </a:lnTo>
                        <a:lnTo>
                          <a:pt x="22" y="855"/>
                        </a:lnTo>
                        <a:lnTo>
                          <a:pt x="57" y="784"/>
                        </a:lnTo>
                        <a:lnTo>
                          <a:pt x="110" y="754"/>
                        </a:lnTo>
                        <a:lnTo>
                          <a:pt x="149" y="714"/>
                        </a:lnTo>
                        <a:lnTo>
                          <a:pt x="149" y="670"/>
                        </a:lnTo>
                        <a:lnTo>
                          <a:pt x="110" y="643"/>
                        </a:lnTo>
                        <a:lnTo>
                          <a:pt x="110" y="595"/>
                        </a:lnTo>
                        <a:lnTo>
                          <a:pt x="141" y="560"/>
                        </a:lnTo>
                        <a:lnTo>
                          <a:pt x="194" y="440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3" name=""/>
                  <p:cNvGrpSpPr/>
                  <p:nvPr/>
                </p:nvGrpSpPr>
                <p:grpSpPr>
                  <a:xfrm>
                    <a:off x="8494560" y="5059440"/>
                    <a:ext cx="97560" cy="222480"/>
                    <a:chOff x="8494560" y="5059440"/>
                    <a:chExt cx="97560" cy="222480"/>
                  </a:xfrm>
                </p:grpSpPr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8494560" y="5059440"/>
                      <a:ext cx="39960" cy="622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11" h="173">
                          <a:moveTo>
                            <a:pt x="80" y="0"/>
                          </a:moveTo>
                          <a:lnTo>
                            <a:pt x="0" y="49"/>
                          </a:lnTo>
                          <a:lnTo>
                            <a:pt x="35" y="120"/>
                          </a:lnTo>
                          <a:lnTo>
                            <a:pt x="58" y="173"/>
                          </a:lnTo>
                          <a:lnTo>
                            <a:pt x="111" y="128"/>
                          </a:lnTo>
                          <a:lnTo>
                            <a:pt x="80" y="0"/>
                          </a:lnTo>
                          <a:close/>
                        </a:path>
                      </a:pathLst>
                    </a:custGeom>
                    <a:solidFill>
                      <a:srgbClr val="0303dd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11160" bIns="11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8561520" y="5218200"/>
                      <a:ext cx="30600" cy="637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85" h="177">
                          <a:moveTo>
                            <a:pt x="53" y="0"/>
                          </a:moveTo>
                          <a:lnTo>
                            <a:pt x="0" y="35"/>
                          </a:lnTo>
                          <a:lnTo>
                            <a:pt x="13" y="93"/>
                          </a:lnTo>
                          <a:lnTo>
                            <a:pt x="23" y="168"/>
                          </a:lnTo>
                          <a:lnTo>
                            <a:pt x="85" y="177"/>
                          </a:lnTo>
                          <a:lnTo>
                            <a:pt x="85" y="120"/>
                          </a:lnTo>
                          <a:lnTo>
                            <a:pt x="53" y="0"/>
                          </a:lnTo>
                          <a:close/>
                        </a:path>
                      </a:pathLst>
                    </a:custGeom>
                    <a:solidFill>
                      <a:srgbClr val="0303dd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12600" bIns="12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6" name=""/>
                  <p:cNvSpPr/>
                  <p:nvPr/>
                </p:nvSpPr>
                <p:spPr>
                  <a:xfrm>
                    <a:off x="7077240" y="3849840"/>
                    <a:ext cx="1492560" cy="989280"/>
                  </a:xfrm>
                  <a:custGeom>
                    <a:avLst/>
                    <a:gdLst/>
                    <a:ahLst/>
                    <a:rect l="0" t="0" r="r" b="b"/>
                    <a:pathLst>
                      <a:path w="4146" h="2748">
                        <a:moveTo>
                          <a:pt x="2019" y="2558"/>
                        </a:moveTo>
                        <a:lnTo>
                          <a:pt x="2077" y="2633"/>
                        </a:lnTo>
                        <a:lnTo>
                          <a:pt x="2054" y="2677"/>
                        </a:lnTo>
                        <a:lnTo>
                          <a:pt x="2082" y="2712"/>
                        </a:lnTo>
                        <a:lnTo>
                          <a:pt x="2117" y="2748"/>
                        </a:lnTo>
                        <a:lnTo>
                          <a:pt x="2174" y="2739"/>
                        </a:lnTo>
                        <a:lnTo>
                          <a:pt x="2227" y="2677"/>
                        </a:lnTo>
                        <a:lnTo>
                          <a:pt x="2289" y="2638"/>
                        </a:lnTo>
                        <a:lnTo>
                          <a:pt x="2320" y="2602"/>
                        </a:lnTo>
                        <a:lnTo>
                          <a:pt x="2311" y="2563"/>
                        </a:lnTo>
                        <a:lnTo>
                          <a:pt x="2298" y="2523"/>
                        </a:lnTo>
                        <a:lnTo>
                          <a:pt x="2298" y="2474"/>
                        </a:lnTo>
                        <a:lnTo>
                          <a:pt x="2333" y="2457"/>
                        </a:lnTo>
                        <a:lnTo>
                          <a:pt x="2333" y="2413"/>
                        </a:lnTo>
                        <a:lnTo>
                          <a:pt x="2320" y="2386"/>
                        </a:lnTo>
                        <a:lnTo>
                          <a:pt x="2342" y="2364"/>
                        </a:lnTo>
                        <a:lnTo>
                          <a:pt x="2382" y="2364"/>
                        </a:lnTo>
                        <a:lnTo>
                          <a:pt x="2395" y="2342"/>
                        </a:lnTo>
                        <a:lnTo>
                          <a:pt x="2395" y="2311"/>
                        </a:lnTo>
                        <a:lnTo>
                          <a:pt x="2408" y="2285"/>
                        </a:lnTo>
                        <a:lnTo>
                          <a:pt x="2501" y="2298"/>
                        </a:lnTo>
                        <a:lnTo>
                          <a:pt x="2536" y="2324"/>
                        </a:lnTo>
                        <a:lnTo>
                          <a:pt x="2699" y="2307"/>
                        </a:lnTo>
                        <a:lnTo>
                          <a:pt x="2708" y="2272"/>
                        </a:lnTo>
                        <a:lnTo>
                          <a:pt x="2655" y="2236"/>
                        </a:lnTo>
                        <a:lnTo>
                          <a:pt x="2545" y="2241"/>
                        </a:lnTo>
                        <a:lnTo>
                          <a:pt x="2492" y="2236"/>
                        </a:lnTo>
                        <a:lnTo>
                          <a:pt x="2474" y="2214"/>
                        </a:lnTo>
                        <a:lnTo>
                          <a:pt x="2474" y="2179"/>
                        </a:lnTo>
                        <a:lnTo>
                          <a:pt x="2492" y="2161"/>
                        </a:lnTo>
                        <a:lnTo>
                          <a:pt x="2536" y="2192"/>
                        </a:lnTo>
                        <a:lnTo>
                          <a:pt x="2602" y="2192"/>
                        </a:lnTo>
                        <a:lnTo>
                          <a:pt x="2642" y="2197"/>
                        </a:lnTo>
                        <a:lnTo>
                          <a:pt x="2686" y="2197"/>
                        </a:lnTo>
                        <a:lnTo>
                          <a:pt x="2717" y="2223"/>
                        </a:lnTo>
                        <a:lnTo>
                          <a:pt x="2774" y="2245"/>
                        </a:lnTo>
                        <a:lnTo>
                          <a:pt x="2818" y="2254"/>
                        </a:lnTo>
                        <a:lnTo>
                          <a:pt x="2818" y="2214"/>
                        </a:lnTo>
                        <a:lnTo>
                          <a:pt x="2854" y="2197"/>
                        </a:lnTo>
                        <a:lnTo>
                          <a:pt x="2836" y="2166"/>
                        </a:lnTo>
                        <a:lnTo>
                          <a:pt x="2809" y="2139"/>
                        </a:lnTo>
                        <a:lnTo>
                          <a:pt x="2814" y="2113"/>
                        </a:lnTo>
                        <a:lnTo>
                          <a:pt x="2832" y="2091"/>
                        </a:lnTo>
                        <a:lnTo>
                          <a:pt x="2867" y="2042"/>
                        </a:lnTo>
                        <a:lnTo>
                          <a:pt x="2889" y="2073"/>
                        </a:lnTo>
                        <a:lnTo>
                          <a:pt x="2871" y="2113"/>
                        </a:lnTo>
                        <a:lnTo>
                          <a:pt x="2902" y="2130"/>
                        </a:lnTo>
                        <a:lnTo>
                          <a:pt x="2937" y="2139"/>
                        </a:lnTo>
                        <a:lnTo>
                          <a:pt x="2968" y="2161"/>
                        </a:lnTo>
                        <a:lnTo>
                          <a:pt x="3012" y="2161"/>
                        </a:lnTo>
                        <a:lnTo>
                          <a:pt x="3052" y="2152"/>
                        </a:lnTo>
                        <a:lnTo>
                          <a:pt x="3065" y="2126"/>
                        </a:lnTo>
                        <a:lnTo>
                          <a:pt x="3065" y="2095"/>
                        </a:lnTo>
                        <a:lnTo>
                          <a:pt x="3087" y="2073"/>
                        </a:lnTo>
                        <a:lnTo>
                          <a:pt x="3131" y="2051"/>
                        </a:lnTo>
                        <a:lnTo>
                          <a:pt x="3149" y="2029"/>
                        </a:lnTo>
                        <a:lnTo>
                          <a:pt x="3140" y="2003"/>
                        </a:lnTo>
                        <a:lnTo>
                          <a:pt x="3153" y="1972"/>
                        </a:lnTo>
                        <a:lnTo>
                          <a:pt x="3202" y="2029"/>
                        </a:lnTo>
                        <a:lnTo>
                          <a:pt x="3228" y="2069"/>
                        </a:lnTo>
                        <a:lnTo>
                          <a:pt x="3237" y="2086"/>
                        </a:lnTo>
                        <a:lnTo>
                          <a:pt x="3259" y="2126"/>
                        </a:lnTo>
                        <a:lnTo>
                          <a:pt x="3277" y="2152"/>
                        </a:lnTo>
                        <a:lnTo>
                          <a:pt x="3273" y="2192"/>
                        </a:lnTo>
                        <a:lnTo>
                          <a:pt x="3268" y="2223"/>
                        </a:lnTo>
                        <a:lnTo>
                          <a:pt x="3290" y="2263"/>
                        </a:lnTo>
                        <a:lnTo>
                          <a:pt x="3334" y="2285"/>
                        </a:lnTo>
                        <a:lnTo>
                          <a:pt x="3374" y="2285"/>
                        </a:lnTo>
                        <a:lnTo>
                          <a:pt x="3418" y="2276"/>
                        </a:lnTo>
                        <a:lnTo>
                          <a:pt x="3493" y="2285"/>
                        </a:lnTo>
                        <a:lnTo>
                          <a:pt x="3577" y="2329"/>
                        </a:lnTo>
                        <a:lnTo>
                          <a:pt x="3621" y="2324"/>
                        </a:lnTo>
                        <a:lnTo>
                          <a:pt x="3656" y="2360"/>
                        </a:lnTo>
                        <a:lnTo>
                          <a:pt x="3687" y="2386"/>
                        </a:lnTo>
                        <a:lnTo>
                          <a:pt x="3753" y="2413"/>
                        </a:lnTo>
                        <a:lnTo>
                          <a:pt x="3797" y="2408"/>
                        </a:lnTo>
                        <a:lnTo>
                          <a:pt x="3850" y="2426"/>
                        </a:lnTo>
                        <a:lnTo>
                          <a:pt x="3908" y="2466"/>
                        </a:lnTo>
                        <a:lnTo>
                          <a:pt x="3978" y="2532"/>
                        </a:lnTo>
                        <a:lnTo>
                          <a:pt x="4040" y="2580"/>
                        </a:lnTo>
                        <a:lnTo>
                          <a:pt x="4075" y="2518"/>
                        </a:lnTo>
                        <a:lnTo>
                          <a:pt x="4093" y="2466"/>
                        </a:lnTo>
                        <a:lnTo>
                          <a:pt x="4124" y="2399"/>
                        </a:lnTo>
                        <a:lnTo>
                          <a:pt x="4137" y="2307"/>
                        </a:lnTo>
                        <a:lnTo>
                          <a:pt x="4146" y="2201"/>
                        </a:lnTo>
                        <a:lnTo>
                          <a:pt x="4132" y="2183"/>
                        </a:lnTo>
                        <a:lnTo>
                          <a:pt x="4146" y="2060"/>
                        </a:lnTo>
                        <a:lnTo>
                          <a:pt x="4141" y="1985"/>
                        </a:lnTo>
                        <a:lnTo>
                          <a:pt x="4124" y="1932"/>
                        </a:lnTo>
                        <a:lnTo>
                          <a:pt x="4124" y="1861"/>
                        </a:lnTo>
                        <a:lnTo>
                          <a:pt x="4088" y="1831"/>
                        </a:lnTo>
                        <a:lnTo>
                          <a:pt x="4071" y="1800"/>
                        </a:lnTo>
                        <a:lnTo>
                          <a:pt x="4049" y="1747"/>
                        </a:lnTo>
                        <a:lnTo>
                          <a:pt x="4049" y="1711"/>
                        </a:lnTo>
                        <a:lnTo>
                          <a:pt x="4022" y="1681"/>
                        </a:lnTo>
                        <a:lnTo>
                          <a:pt x="3978" y="1681"/>
                        </a:lnTo>
                        <a:lnTo>
                          <a:pt x="3938" y="1681"/>
                        </a:lnTo>
                        <a:lnTo>
                          <a:pt x="3921" y="1716"/>
                        </a:lnTo>
                        <a:lnTo>
                          <a:pt x="3890" y="1720"/>
                        </a:lnTo>
                        <a:lnTo>
                          <a:pt x="3846" y="1720"/>
                        </a:lnTo>
                        <a:lnTo>
                          <a:pt x="3846" y="1778"/>
                        </a:lnTo>
                        <a:lnTo>
                          <a:pt x="3863" y="1813"/>
                        </a:lnTo>
                        <a:lnTo>
                          <a:pt x="3855" y="1844"/>
                        </a:lnTo>
                        <a:lnTo>
                          <a:pt x="3841" y="1883"/>
                        </a:lnTo>
                        <a:lnTo>
                          <a:pt x="3806" y="1892"/>
                        </a:lnTo>
                        <a:lnTo>
                          <a:pt x="3775" y="1892"/>
                        </a:lnTo>
                        <a:lnTo>
                          <a:pt x="3749" y="1879"/>
                        </a:lnTo>
                        <a:lnTo>
                          <a:pt x="3727" y="1870"/>
                        </a:lnTo>
                        <a:lnTo>
                          <a:pt x="3709" y="1870"/>
                        </a:lnTo>
                        <a:lnTo>
                          <a:pt x="3678" y="1866"/>
                        </a:lnTo>
                        <a:lnTo>
                          <a:pt x="3643" y="1861"/>
                        </a:lnTo>
                        <a:lnTo>
                          <a:pt x="3612" y="1857"/>
                        </a:lnTo>
                        <a:lnTo>
                          <a:pt x="3590" y="1822"/>
                        </a:lnTo>
                        <a:lnTo>
                          <a:pt x="3630" y="1795"/>
                        </a:lnTo>
                        <a:lnTo>
                          <a:pt x="3656" y="1791"/>
                        </a:lnTo>
                        <a:lnTo>
                          <a:pt x="3669" y="1800"/>
                        </a:lnTo>
                        <a:lnTo>
                          <a:pt x="3696" y="1800"/>
                        </a:lnTo>
                        <a:lnTo>
                          <a:pt x="3753" y="1773"/>
                        </a:lnTo>
                        <a:lnTo>
                          <a:pt x="3780" y="1729"/>
                        </a:lnTo>
                        <a:lnTo>
                          <a:pt x="3815" y="1681"/>
                        </a:lnTo>
                        <a:lnTo>
                          <a:pt x="3846" y="1637"/>
                        </a:lnTo>
                        <a:lnTo>
                          <a:pt x="3868" y="1606"/>
                        </a:lnTo>
                        <a:lnTo>
                          <a:pt x="3903" y="1579"/>
                        </a:lnTo>
                        <a:lnTo>
                          <a:pt x="3908" y="1535"/>
                        </a:lnTo>
                        <a:lnTo>
                          <a:pt x="3934" y="1451"/>
                        </a:lnTo>
                        <a:lnTo>
                          <a:pt x="3806" y="1287"/>
                        </a:lnTo>
                        <a:lnTo>
                          <a:pt x="3687" y="1137"/>
                        </a:lnTo>
                        <a:lnTo>
                          <a:pt x="3564" y="1009"/>
                        </a:lnTo>
                        <a:lnTo>
                          <a:pt x="3440" y="895"/>
                        </a:lnTo>
                        <a:lnTo>
                          <a:pt x="3347" y="811"/>
                        </a:lnTo>
                        <a:lnTo>
                          <a:pt x="3268" y="745"/>
                        </a:lnTo>
                        <a:lnTo>
                          <a:pt x="3167" y="665"/>
                        </a:lnTo>
                        <a:lnTo>
                          <a:pt x="3061" y="590"/>
                        </a:lnTo>
                        <a:lnTo>
                          <a:pt x="2924" y="498"/>
                        </a:lnTo>
                        <a:lnTo>
                          <a:pt x="2809" y="427"/>
                        </a:lnTo>
                        <a:lnTo>
                          <a:pt x="2699" y="374"/>
                        </a:lnTo>
                        <a:lnTo>
                          <a:pt x="2580" y="321"/>
                        </a:lnTo>
                        <a:lnTo>
                          <a:pt x="2443" y="260"/>
                        </a:lnTo>
                        <a:lnTo>
                          <a:pt x="2245" y="185"/>
                        </a:lnTo>
                        <a:lnTo>
                          <a:pt x="2032" y="119"/>
                        </a:lnTo>
                        <a:lnTo>
                          <a:pt x="1852" y="74"/>
                        </a:lnTo>
                        <a:lnTo>
                          <a:pt x="1715" y="52"/>
                        </a:lnTo>
                        <a:lnTo>
                          <a:pt x="1525" y="22"/>
                        </a:lnTo>
                        <a:lnTo>
                          <a:pt x="1296" y="4"/>
                        </a:lnTo>
                        <a:lnTo>
                          <a:pt x="996" y="0"/>
                        </a:lnTo>
                        <a:lnTo>
                          <a:pt x="762" y="13"/>
                        </a:lnTo>
                        <a:lnTo>
                          <a:pt x="740" y="52"/>
                        </a:lnTo>
                        <a:lnTo>
                          <a:pt x="692" y="66"/>
                        </a:lnTo>
                        <a:lnTo>
                          <a:pt x="661" y="74"/>
                        </a:lnTo>
                        <a:lnTo>
                          <a:pt x="599" y="74"/>
                        </a:lnTo>
                        <a:lnTo>
                          <a:pt x="537" y="97"/>
                        </a:lnTo>
                        <a:lnTo>
                          <a:pt x="463" y="105"/>
                        </a:lnTo>
                        <a:lnTo>
                          <a:pt x="410" y="163"/>
                        </a:lnTo>
                        <a:lnTo>
                          <a:pt x="401" y="207"/>
                        </a:lnTo>
                        <a:lnTo>
                          <a:pt x="357" y="260"/>
                        </a:lnTo>
                        <a:lnTo>
                          <a:pt x="304" y="260"/>
                        </a:lnTo>
                        <a:lnTo>
                          <a:pt x="255" y="304"/>
                        </a:lnTo>
                        <a:lnTo>
                          <a:pt x="255" y="242"/>
                        </a:lnTo>
                        <a:lnTo>
                          <a:pt x="295" y="141"/>
                        </a:lnTo>
                        <a:lnTo>
                          <a:pt x="304" y="92"/>
                        </a:lnTo>
                        <a:lnTo>
                          <a:pt x="194" y="123"/>
                        </a:lnTo>
                        <a:lnTo>
                          <a:pt x="105" y="145"/>
                        </a:lnTo>
                        <a:lnTo>
                          <a:pt x="110" y="185"/>
                        </a:lnTo>
                        <a:lnTo>
                          <a:pt x="180" y="229"/>
                        </a:lnTo>
                        <a:lnTo>
                          <a:pt x="171" y="260"/>
                        </a:lnTo>
                        <a:lnTo>
                          <a:pt x="158" y="308"/>
                        </a:lnTo>
                        <a:lnTo>
                          <a:pt x="119" y="348"/>
                        </a:lnTo>
                        <a:lnTo>
                          <a:pt x="66" y="392"/>
                        </a:lnTo>
                        <a:lnTo>
                          <a:pt x="61" y="454"/>
                        </a:lnTo>
                        <a:lnTo>
                          <a:pt x="35" y="515"/>
                        </a:lnTo>
                        <a:lnTo>
                          <a:pt x="44" y="564"/>
                        </a:lnTo>
                        <a:lnTo>
                          <a:pt x="110" y="555"/>
                        </a:lnTo>
                        <a:lnTo>
                          <a:pt x="105" y="630"/>
                        </a:lnTo>
                        <a:lnTo>
                          <a:pt x="48" y="661"/>
                        </a:lnTo>
                        <a:lnTo>
                          <a:pt x="0" y="705"/>
                        </a:lnTo>
                        <a:lnTo>
                          <a:pt x="57" y="758"/>
                        </a:lnTo>
                        <a:lnTo>
                          <a:pt x="123" y="701"/>
                        </a:lnTo>
                        <a:lnTo>
                          <a:pt x="158" y="696"/>
                        </a:lnTo>
                        <a:lnTo>
                          <a:pt x="216" y="683"/>
                        </a:lnTo>
                        <a:lnTo>
                          <a:pt x="264" y="665"/>
                        </a:lnTo>
                        <a:lnTo>
                          <a:pt x="304" y="661"/>
                        </a:lnTo>
                        <a:lnTo>
                          <a:pt x="357" y="617"/>
                        </a:lnTo>
                        <a:lnTo>
                          <a:pt x="401" y="555"/>
                        </a:lnTo>
                        <a:lnTo>
                          <a:pt x="449" y="542"/>
                        </a:lnTo>
                        <a:lnTo>
                          <a:pt x="493" y="520"/>
                        </a:lnTo>
                        <a:lnTo>
                          <a:pt x="555" y="511"/>
                        </a:lnTo>
                        <a:lnTo>
                          <a:pt x="577" y="520"/>
                        </a:lnTo>
                        <a:lnTo>
                          <a:pt x="617" y="515"/>
                        </a:lnTo>
                        <a:lnTo>
                          <a:pt x="648" y="502"/>
                        </a:lnTo>
                        <a:lnTo>
                          <a:pt x="723" y="502"/>
                        </a:lnTo>
                        <a:lnTo>
                          <a:pt x="745" y="511"/>
                        </a:lnTo>
                        <a:lnTo>
                          <a:pt x="824" y="520"/>
                        </a:lnTo>
                        <a:lnTo>
                          <a:pt x="877" y="502"/>
                        </a:lnTo>
                        <a:lnTo>
                          <a:pt x="921" y="463"/>
                        </a:lnTo>
                        <a:lnTo>
                          <a:pt x="987" y="471"/>
                        </a:lnTo>
                        <a:lnTo>
                          <a:pt x="1049" y="463"/>
                        </a:lnTo>
                        <a:lnTo>
                          <a:pt x="1080" y="463"/>
                        </a:lnTo>
                        <a:lnTo>
                          <a:pt x="1075" y="515"/>
                        </a:lnTo>
                        <a:lnTo>
                          <a:pt x="1098" y="533"/>
                        </a:lnTo>
                        <a:lnTo>
                          <a:pt x="1133" y="555"/>
                        </a:lnTo>
                        <a:lnTo>
                          <a:pt x="1172" y="529"/>
                        </a:lnTo>
                        <a:lnTo>
                          <a:pt x="1221" y="546"/>
                        </a:lnTo>
                        <a:lnTo>
                          <a:pt x="1265" y="568"/>
                        </a:lnTo>
                        <a:lnTo>
                          <a:pt x="1322" y="582"/>
                        </a:lnTo>
                        <a:lnTo>
                          <a:pt x="1411" y="590"/>
                        </a:lnTo>
                        <a:lnTo>
                          <a:pt x="1309" y="604"/>
                        </a:lnTo>
                        <a:lnTo>
                          <a:pt x="1265" y="617"/>
                        </a:lnTo>
                        <a:lnTo>
                          <a:pt x="1247" y="639"/>
                        </a:lnTo>
                        <a:lnTo>
                          <a:pt x="1283" y="705"/>
                        </a:lnTo>
                        <a:lnTo>
                          <a:pt x="1314" y="740"/>
                        </a:lnTo>
                        <a:lnTo>
                          <a:pt x="1384" y="732"/>
                        </a:lnTo>
                        <a:lnTo>
                          <a:pt x="1437" y="745"/>
                        </a:lnTo>
                        <a:lnTo>
                          <a:pt x="1499" y="771"/>
                        </a:lnTo>
                        <a:lnTo>
                          <a:pt x="1569" y="776"/>
                        </a:lnTo>
                        <a:lnTo>
                          <a:pt x="1609" y="780"/>
                        </a:lnTo>
                        <a:lnTo>
                          <a:pt x="1706" y="723"/>
                        </a:lnTo>
                        <a:lnTo>
                          <a:pt x="1724" y="727"/>
                        </a:lnTo>
                        <a:lnTo>
                          <a:pt x="1675" y="776"/>
                        </a:lnTo>
                        <a:lnTo>
                          <a:pt x="1733" y="833"/>
                        </a:lnTo>
                        <a:lnTo>
                          <a:pt x="1838" y="811"/>
                        </a:lnTo>
                        <a:lnTo>
                          <a:pt x="1856" y="798"/>
                        </a:lnTo>
                        <a:lnTo>
                          <a:pt x="1856" y="758"/>
                        </a:lnTo>
                        <a:lnTo>
                          <a:pt x="1896" y="776"/>
                        </a:lnTo>
                        <a:lnTo>
                          <a:pt x="1966" y="824"/>
                        </a:lnTo>
                        <a:lnTo>
                          <a:pt x="1896" y="815"/>
                        </a:lnTo>
                        <a:lnTo>
                          <a:pt x="1878" y="829"/>
                        </a:lnTo>
                        <a:lnTo>
                          <a:pt x="1852" y="837"/>
                        </a:lnTo>
                        <a:lnTo>
                          <a:pt x="1812" y="851"/>
                        </a:lnTo>
                        <a:lnTo>
                          <a:pt x="1772" y="851"/>
                        </a:lnTo>
                        <a:lnTo>
                          <a:pt x="1724" y="886"/>
                        </a:lnTo>
                        <a:lnTo>
                          <a:pt x="1772" y="903"/>
                        </a:lnTo>
                        <a:lnTo>
                          <a:pt x="1905" y="899"/>
                        </a:lnTo>
                        <a:lnTo>
                          <a:pt x="1891" y="948"/>
                        </a:lnTo>
                        <a:lnTo>
                          <a:pt x="1878" y="1005"/>
                        </a:lnTo>
                        <a:lnTo>
                          <a:pt x="1918" y="1009"/>
                        </a:lnTo>
                        <a:lnTo>
                          <a:pt x="1949" y="1036"/>
                        </a:lnTo>
                        <a:lnTo>
                          <a:pt x="1966" y="1098"/>
                        </a:lnTo>
                        <a:lnTo>
                          <a:pt x="1988" y="1128"/>
                        </a:lnTo>
                        <a:lnTo>
                          <a:pt x="1984" y="1159"/>
                        </a:lnTo>
                        <a:lnTo>
                          <a:pt x="1984" y="1203"/>
                        </a:lnTo>
                        <a:lnTo>
                          <a:pt x="2113" y="1305"/>
                        </a:lnTo>
                        <a:lnTo>
                          <a:pt x="2104" y="1349"/>
                        </a:lnTo>
                        <a:lnTo>
                          <a:pt x="2086" y="1367"/>
                        </a:lnTo>
                        <a:lnTo>
                          <a:pt x="2059" y="1353"/>
                        </a:lnTo>
                        <a:lnTo>
                          <a:pt x="2032" y="1344"/>
                        </a:lnTo>
                        <a:lnTo>
                          <a:pt x="2006" y="1349"/>
                        </a:lnTo>
                        <a:lnTo>
                          <a:pt x="1997" y="1349"/>
                        </a:lnTo>
                        <a:lnTo>
                          <a:pt x="2041" y="1300"/>
                        </a:lnTo>
                        <a:lnTo>
                          <a:pt x="2032" y="1265"/>
                        </a:lnTo>
                        <a:lnTo>
                          <a:pt x="1988" y="1256"/>
                        </a:lnTo>
                        <a:lnTo>
                          <a:pt x="1966" y="1256"/>
                        </a:lnTo>
                        <a:lnTo>
                          <a:pt x="1944" y="1265"/>
                        </a:lnTo>
                        <a:lnTo>
                          <a:pt x="1900" y="1287"/>
                        </a:lnTo>
                        <a:lnTo>
                          <a:pt x="1878" y="1305"/>
                        </a:lnTo>
                        <a:lnTo>
                          <a:pt x="1825" y="1314"/>
                        </a:lnTo>
                        <a:lnTo>
                          <a:pt x="1785" y="1314"/>
                        </a:lnTo>
                        <a:lnTo>
                          <a:pt x="1790" y="1353"/>
                        </a:lnTo>
                        <a:lnTo>
                          <a:pt x="1790" y="1407"/>
                        </a:lnTo>
                        <a:lnTo>
                          <a:pt x="1785" y="1456"/>
                        </a:lnTo>
                        <a:lnTo>
                          <a:pt x="1794" y="1500"/>
                        </a:lnTo>
                        <a:lnTo>
                          <a:pt x="1812" y="1535"/>
                        </a:lnTo>
                        <a:lnTo>
                          <a:pt x="1807" y="1570"/>
                        </a:lnTo>
                        <a:lnTo>
                          <a:pt x="1830" y="1597"/>
                        </a:lnTo>
                        <a:lnTo>
                          <a:pt x="1860" y="1619"/>
                        </a:lnTo>
                        <a:lnTo>
                          <a:pt x="1856" y="1650"/>
                        </a:lnTo>
                        <a:lnTo>
                          <a:pt x="1891" y="1667"/>
                        </a:lnTo>
                        <a:lnTo>
                          <a:pt x="1869" y="1716"/>
                        </a:lnTo>
                        <a:lnTo>
                          <a:pt x="1878" y="1773"/>
                        </a:lnTo>
                        <a:lnTo>
                          <a:pt x="1905" y="1813"/>
                        </a:lnTo>
                        <a:lnTo>
                          <a:pt x="1953" y="1879"/>
                        </a:lnTo>
                        <a:lnTo>
                          <a:pt x="1975" y="1879"/>
                        </a:lnTo>
                        <a:lnTo>
                          <a:pt x="2006" y="1892"/>
                        </a:lnTo>
                        <a:lnTo>
                          <a:pt x="2054" y="1839"/>
                        </a:lnTo>
                        <a:lnTo>
                          <a:pt x="2086" y="1817"/>
                        </a:lnTo>
                        <a:lnTo>
                          <a:pt x="2126" y="1853"/>
                        </a:lnTo>
                        <a:lnTo>
                          <a:pt x="2157" y="1861"/>
                        </a:lnTo>
                        <a:lnTo>
                          <a:pt x="2201" y="1848"/>
                        </a:lnTo>
                        <a:lnTo>
                          <a:pt x="2205" y="1808"/>
                        </a:lnTo>
                        <a:lnTo>
                          <a:pt x="2161" y="1764"/>
                        </a:lnTo>
                        <a:lnTo>
                          <a:pt x="2126" y="1729"/>
                        </a:lnTo>
                        <a:lnTo>
                          <a:pt x="2117" y="1698"/>
                        </a:lnTo>
                        <a:lnTo>
                          <a:pt x="2077" y="1667"/>
                        </a:lnTo>
                        <a:lnTo>
                          <a:pt x="2041" y="1663"/>
                        </a:lnTo>
                        <a:lnTo>
                          <a:pt x="2028" y="1610"/>
                        </a:lnTo>
                        <a:lnTo>
                          <a:pt x="2006" y="1579"/>
                        </a:lnTo>
                        <a:lnTo>
                          <a:pt x="1984" y="1557"/>
                        </a:lnTo>
                        <a:lnTo>
                          <a:pt x="1975" y="1495"/>
                        </a:lnTo>
                        <a:lnTo>
                          <a:pt x="1988" y="1487"/>
                        </a:lnTo>
                        <a:lnTo>
                          <a:pt x="2028" y="1526"/>
                        </a:lnTo>
                        <a:lnTo>
                          <a:pt x="2032" y="1557"/>
                        </a:lnTo>
                        <a:lnTo>
                          <a:pt x="2059" y="1588"/>
                        </a:lnTo>
                        <a:lnTo>
                          <a:pt x="2091" y="1619"/>
                        </a:lnTo>
                        <a:lnTo>
                          <a:pt x="2113" y="1637"/>
                        </a:lnTo>
                        <a:lnTo>
                          <a:pt x="2139" y="1610"/>
                        </a:lnTo>
                        <a:lnTo>
                          <a:pt x="2157" y="1597"/>
                        </a:lnTo>
                        <a:lnTo>
                          <a:pt x="2183" y="1588"/>
                        </a:lnTo>
                        <a:lnTo>
                          <a:pt x="2192" y="1566"/>
                        </a:lnTo>
                        <a:lnTo>
                          <a:pt x="2223" y="1557"/>
                        </a:lnTo>
                        <a:lnTo>
                          <a:pt x="2201" y="1588"/>
                        </a:lnTo>
                        <a:lnTo>
                          <a:pt x="2214" y="1619"/>
                        </a:lnTo>
                        <a:lnTo>
                          <a:pt x="2249" y="1637"/>
                        </a:lnTo>
                        <a:lnTo>
                          <a:pt x="2245" y="1667"/>
                        </a:lnTo>
                        <a:lnTo>
                          <a:pt x="2214" y="1698"/>
                        </a:lnTo>
                        <a:lnTo>
                          <a:pt x="2227" y="1729"/>
                        </a:lnTo>
                        <a:lnTo>
                          <a:pt x="2267" y="1747"/>
                        </a:lnTo>
                        <a:lnTo>
                          <a:pt x="2289" y="1778"/>
                        </a:lnTo>
                        <a:lnTo>
                          <a:pt x="2267" y="1813"/>
                        </a:lnTo>
                        <a:lnTo>
                          <a:pt x="2245" y="1848"/>
                        </a:lnTo>
                        <a:lnTo>
                          <a:pt x="2249" y="1875"/>
                        </a:lnTo>
                        <a:lnTo>
                          <a:pt x="2232" y="1901"/>
                        </a:lnTo>
                        <a:lnTo>
                          <a:pt x="2214" y="1932"/>
                        </a:lnTo>
                        <a:lnTo>
                          <a:pt x="2192" y="1954"/>
                        </a:lnTo>
                        <a:lnTo>
                          <a:pt x="2170" y="1932"/>
                        </a:lnTo>
                        <a:lnTo>
                          <a:pt x="2130" y="1932"/>
                        </a:lnTo>
                        <a:lnTo>
                          <a:pt x="2108" y="1910"/>
                        </a:lnTo>
                        <a:lnTo>
                          <a:pt x="2100" y="1879"/>
                        </a:lnTo>
                        <a:lnTo>
                          <a:pt x="2068" y="1870"/>
                        </a:lnTo>
                        <a:lnTo>
                          <a:pt x="2059" y="1892"/>
                        </a:lnTo>
                        <a:lnTo>
                          <a:pt x="2077" y="1910"/>
                        </a:lnTo>
                        <a:lnTo>
                          <a:pt x="2082" y="1941"/>
                        </a:lnTo>
                        <a:lnTo>
                          <a:pt x="2082" y="1963"/>
                        </a:lnTo>
                        <a:lnTo>
                          <a:pt x="2108" y="1958"/>
                        </a:lnTo>
                        <a:lnTo>
                          <a:pt x="2130" y="1972"/>
                        </a:lnTo>
                        <a:lnTo>
                          <a:pt x="2130" y="2003"/>
                        </a:lnTo>
                        <a:lnTo>
                          <a:pt x="2104" y="2042"/>
                        </a:lnTo>
                        <a:lnTo>
                          <a:pt x="2113" y="2091"/>
                        </a:lnTo>
                        <a:lnTo>
                          <a:pt x="2100" y="2152"/>
                        </a:lnTo>
                        <a:lnTo>
                          <a:pt x="2108" y="2214"/>
                        </a:lnTo>
                        <a:lnTo>
                          <a:pt x="2100" y="2245"/>
                        </a:lnTo>
                        <a:lnTo>
                          <a:pt x="2059" y="2276"/>
                        </a:lnTo>
                        <a:lnTo>
                          <a:pt x="2059" y="2307"/>
                        </a:lnTo>
                        <a:lnTo>
                          <a:pt x="2082" y="2342"/>
                        </a:lnTo>
                        <a:lnTo>
                          <a:pt x="2117" y="2351"/>
                        </a:lnTo>
                        <a:lnTo>
                          <a:pt x="2161" y="2373"/>
                        </a:lnTo>
                        <a:lnTo>
                          <a:pt x="2179" y="2413"/>
                        </a:lnTo>
                        <a:lnTo>
                          <a:pt x="2161" y="2426"/>
                        </a:lnTo>
                        <a:lnTo>
                          <a:pt x="2113" y="2474"/>
                        </a:lnTo>
                        <a:lnTo>
                          <a:pt x="2063" y="2496"/>
                        </a:lnTo>
                        <a:lnTo>
                          <a:pt x="2019" y="255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7" name=""/>
                  <p:cNvGrpSpPr/>
                  <p:nvPr/>
                </p:nvGrpSpPr>
                <p:grpSpPr>
                  <a:xfrm>
                    <a:off x="7632720" y="4195800"/>
                    <a:ext cx="501840" cy="527400"/>
                    <a:chOff x="7632720" y="4195800"/>
                    <a:chExt cx="501840" cy="527400"/>
                  </a:xfrm>
                </p:grpSpPr>
                <p:sp>
                  <p:nvSpPr>
                    <p:cNvPr id="128" name=""/>
                    <p:cNvSpPr/>
                    <p:nvPr/>
                  </p:nvSpPr>
                  <p:spPr>
                    <a:xfrm>
                      <a:off x="7732800" y="4614840"/>
                      <a:ext cx="33840" cy="432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94" h="120">
                          <a:moveTo>
                            <a:pt x="8" y="0"/>
                          </a:moveTo>
                          <a:lnTo>
                            <a:pt x="0" y="44"/>
                          </a:lnTo>
                          <a:lnTo>
                            <a:pt x="8" y="98"/>
                          </a:lnTo>
                          <a:lnTo>
                            <a:pt x="36" y="98"/>
                          </a:lnTo>
                          <a:lnTo>
                            <a:pt x="94" y="120"/>
                          </a:lnTo>
                          <a:lnTo>
                            <a:pt x="72" y="71"/>
                          </a:lnTo>
                          <a:lnTo>
                            <a:pt x="85" y="48"/>
                          </a:lnTo>
                          <a:lnTo>
                            <a:pt x="8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-7920" bIns="-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7734240" y="4565520"/>
                      <a:ext cx="90720" cy="1036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52" h="288">
                          <a:moveTo>
                            <a:pt x="13" y="0"/>
                          </a:moveTo>
                          <a:lnTo>
                            <a:pt x="88" y="39"/>
                          </a:lnTo>
                          <a:lnTo>
                            <a:pt x="119" y="39"/>
                          </a:lnTo>
                          <a:lnTo>
                            <a:pt x="119" y="80"/>
                          </a:lnTo>
                          <a:lnTo>
                            <a:pt x="150" y="111"/>
                          </a:lnTo>
                          <a:lnTo>
                            <a:pt x="172" y="137"/>
                          </a:lnTo>
                          <a:lnTo>
                            <a:pt x="208" y="133"/>
                          </a:lnTo>
                          <a:lnTo>
                            <a:pt x="243" y="164"/>
                          </a:lnTo>
                          <a:lnTo>
                            <a:pt x="234" y="195"/>
                          </a:lnTo>
                          <a:lnTo>
                            <a:pt x="252" y="218"/>
                          </a:lnTo>
                          <a:lnTo>
                            <a:pt x="208" y="253"/>
                          </a:lnTo>
                          <a:lnTo>
                            <a:pt x="172" y="284"/>
                          </a:lnTo>
                          <a:lnTo>
                            <a:pt x="150" y="288"/>
                          </a:lnTo>
                          <a:lnTo>
                            <a:pt x="142" y="266"/>
                          </a:lnTo>
                          <a:lnTo>
                            <a:pt x="150" y="235"/>
                          </a:lnTo>
                          <a:lnTo>
                            <a:pt x="142" y="208"/>
                          </a:lnTo>
                          <a:lnTo>
                            <a:pt x="142" y="150"/>
                          </a:lnTo>
                          <a:lnTo>
                            <a:pt x="97" y="124"/>
                          </a:lnTo>
                          <a:lnTo>
                            <a:pt x="57" y="124"/>
                          </a:lnTo>
                          <a:lnTo>
                            <a:pt x="52" y="102"/>
                          </a:lnTo>
                          <a:lnTo>
                            <a:pt x="35" y="80"/>
                          </a:lnTo>
                          <a:lnTo>
                            <a:pt x="0" y="61"/>
                          </a:lnTo>
                          <a:lnTo>
                            <a:pt x="13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7959600" y="4692600"/>
                      <a:ext cx="25920" cy="306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" h="85">
                          <a:moveTo>
                            <a:pt x="0" y="0"/>
                          </a:moveTo>
                          <a:lnTo>
                            <a:pt x="13" y="76"/>
                          </a:lnTo>
                          <a:lnTo>
                            <a:pt x="72" y="85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-20520" bIns="-20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8024760" y="4697280"/>
                      <a:ext cx="32040" cy="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89" h="72">
                          <a:moveTo>
                            <a:pt x="0" y="59"/>
                          </a:moveTo>
                          <a:lnTo>
                            <a:pt x="45" y="0"/>
                          </a:lnTo>
                          <a:lnTo>
                            <a:pt x="89" y="17"/>
                          </a:lnTo>
                          <a:lnTo>
                            <a:pt x="53" y="72"/>
                          </a:lnTo>
                          <a:lnTo>
                            <a:pt x="0" y="59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8097840" y="4654440"/>
                      <a:ext cx="36720" cy="320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02" h="89">
                          <a:moveTo>
                            <a:pt x="0" y="58"/>
                          </a:moveTo>
                          <a:lnTo>
                            <a:pt x="102" y="89"/>
                          </a:lnTo>
                          <a:lnTo>
                            <a:pt x="48" y="0"/>
                          </a:lnTo>
                          <a:lnTo>
                            <a:pt x="0" y="58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-19080" bIns="-19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7632720" y="4195800"/>
                      <a:ext cx="109800" cy="478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305" h="133">
                          <a:moveTo>
                            <a:pt x="0" y="84"/>
                          </a:moveTo>
                          <a:lnTo>
                            <a:pt x="141" y="93"/>
                          </a:lnTo>
                          <a:lnTo>
                            <a:pt x="181" y="124"/>
                          </a:lnTo>
                          <a:lnTo>
                            <a:pt x="225" y="133"/>
                          </a:lnTo>
                          <a:lnTo>
                            <a:pt x="305" y="102"/>
                          </a:lnTo>
                          <a:lnTo>
                            <a:pt x="261" y="61"/>
                          </a:lnTo>
                          <a:lnTo>
                            <a:pt x="195" y="61"/>
                          </a:lnTo>
                          <a:lnTo>
                            <a:pt x="172" y="0"/>
                          </a:lnTo>
                          <a:lnTo>
                            <a:pt x="119" y="8"/>
                          </a:lnTo>
                          <a:lnTo>
                            <a:pt x="0" y="84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-3240" bIns="-3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4" name=""/>
                  <p:cNvSpPr/>
                  <p:nvPr/>
                </p:nvSpPr>
                <p:spPr>
                  <a:xfrm>
                    <a:off x="8116920" y="4317840"/>
                    <a:ext cx="171720" cy="109800"/>
                  </a:xfrm>
                  <a:custGeom>
                    <a:avLst/>
                    <a:gdLst/>
                    <a:ahLst/>
                    <a:rect l="0" t="0" r="r" b="b"/>
                    <a:pathLst>
                      <a:path w="477" h="305">
                        <a:moveTo>
                          <a:pt x="464" y="190"/>
                        </a:moveTo>
                        <a:lnTo>
                          <a:pt x="477" y="278"/>
                        </a:lnTo>
                        <a:lnTo>
                          <a:pt x="424" y="296"/>
                        </a:lnTo>
                        <a:lnTo>
                          <a:pt x="367" y="305"/>
                        </a:lnTo>
                        <a:lnTo>
                          <a:pt x="318" y="278"/>
                        </a:lnTo>
                        <a:lnTo>
                          <a:pt x="287" y="239"/>
                        </a:lnTo>
                        <a:lnTo>
                          <a:pt x="265" y="217"/>
                        </a:lnTo>
                        <a:lnTo>
                          <a:pt x="194" y="225"/>
                        </a:lnTo>
                        <a:lnTo>
                          <a:pt x="132" y="230"/>
                        </a:lnTo>
                        <a:lnTo>
                          <a:pt x="88" y="217"/>
                        </a:lnTo>
                        <a:lnTo>
                          <a:pt x="66" y="177"/>
                        </a:lnTo>
                        <a:lnTo>
                          <a:pt x="0" y="177"/>
                        </a:lnTo>
                        <a:lnTo>
                          <a:pt x="4" y="136"/>
                        </a:lnTo>
                        <a:lnTo>
                          <a:pt x="17" y="105"/>
                        </a:lnTo>
                        <a:lnTo>
                          <a:pt x="4" y="74"/>
                        </a:lnTo>
                        <a:lnTo>
                          <a:pt x="13" y="48"/>
                        </a:lnTo>
                        <a:lnTo>
                          <a:pt x="22" y="22"/>
                        </a:lnTo>
                        <a:lnTo>
                          <a:pt x="66" y="0"/>
                        </a:lnTo>
                        <a:lnTo>
                          <a:pt x="110" y="4"/>
                        </a:lnTo>
                        <a:lnTo>
                          <a:pt x="110" y="44"/>
                        </a:lnTo>
                        <a:lnTo>
                          <a:pt x="110" y="74"/>
                        </a:lnTo>
                        <a:lnTo>
                          <a:pt x="123" y="88"/>
                        </a:lnTo>
                        <a:lnTo>
                          <a:pt x="154" y="97"/>
                        </a:lnTo>
                        <a:lnTo>
                          <a:pt x="176" y="105"/>
                        </a:lnTo>
                        <a:lnTo>
                          <a:pt x="202" y="92"/>
                        </a:lnTo>
                        <a:lnTo>
                          <a:pt x="224" y="92"/>
                        </a:lnTo>
                        <a:lnTo>
                          <a:pt x="247" y="66"/>
                        </a:lnTo>
                        <a:lnTo>
                          <a:pt x="274" y="74"/>
                        </a:lnTo>
                        <a:lnTo>
                          <a:pt x="296" y="105"/>
                        </a:lnTo>
                        <a:lnTo>
                          <a:pt x="292" y="123"/>
                        </a:lnTo>
                        <a:lnTo>
                          <a:pt x="340" y="123"/>
                        </a:lnTo>
                        <a:lnTo>
                          <a:pt x="389" y="114"/>
                        </a:lnTo>
                        <a:lnTo>
                          <a:pt x="411" y="132"/>
                        </a:lnTo>
                        <a:lnTo>
                          <a:pt x="464" y="190"/>
                        </a:lnTo>
                        <a:close/>
                      </a:path>
                    </a:pathLst>
                  </a:custGeom>
                  <a:solidFill>
                    <a:srgbClr val="0303dd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5" name=""/>
            <p:cNvGrpSpPr/>
            <p:nvPr/>
          </p:nvGrpSpPr>
          <p:grpSpPr>
            <a:xfrm>
              <a:off x="6791400" y="1776240"/>
              <a:ext cx="1612800" cy="3106800"/>
              <a:chOff x="6791400" y="1776240"/>
              <a:chExt cx="1612800" cy="3106800"/>
            </a:xfrm>
          </p:grpSpPr>
          <p:grpSp>
            <p:nvGrpSpPr>
              <p:cNvPr id="136" name=""/>
              <p:cNvGrpSpPr/>
              <p:nvPr/>
            </p:nvGrpSpPr>
            <p:grpSpPr>
              <a:xfrm>
                <a:off x="6791400" y="1882800"/>
                <a:ext cx="0" cy="2976480"/>
                <a:chOff x="6791400" y="1882800"/>
                <a:chExt cx="0" cy="297648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6791400" y="1882800"/>
                  <a:ext cx="0" cy="18108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791400" y="2136600"/>
                  <a:ext cx="0" cy="18108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6791400" y="2392200"/>
                  <a:ext cx="0" cy="17964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6791400" y="2646360"/>
                  <a:ext cx="0" cy="17928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6791400" y="2900520"/>
                  <a:ext cx="0" cy="17928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6791400" y="3152880"/>
                  <a:ext cx="0" cy="18252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6791400" y="3408480"/>
                  <a:ext cx="0" cy="18072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6791400" y="3662280"/>
                  <a:ext cx="0" cy="18108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791400" y="3916440"/>
                  <a:ext cx="0" cy="17928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791400" y="4170240"/>
                  <a:ext cx="0" cy="17964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791400" y="4424400"/>
                  <a:ext cx="0" cy="18108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791400" y="4680000"/>
                  <a:ext cx="0" cy="17928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6946920" y="1817640"/>
                <a:ext cx="0" cy="3065400"/>
                <a:chOff x="6946920" y="1817640"/>
                <a:chExt cx="0" cy="306540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6946920" y="1817640"/>
                  <a:ext cx="0" cy="17928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6946920" y="2079720"/>
                  <a:ext cx="0" cy="18072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6946920" y="2343240"/>
                  <a:ext cx="0" cy="17928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6946920" y="2604960"/>
                  <a:ext cx="0" cy="17964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6946920" y="2867040"/>
                  <a:ext cx="0" cy="17928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6946920" y="3129120"/>
                  <a:ext cx="0" cy="18072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946920" y="3390840"/>
                  <a:ext cx="0" cy="18108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6946920" y="3654360"/>
                  <a:ext cx="0" cy="17928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6946920" y="3916440"/>
                  <a:ext cx="0" cy="17928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6946920" y="4178160"/>
                  <a:ext cx="0" cy="18108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6946920" y="4440240"/>
                  <a:ext cx="0" cy="18108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946920" y="4703760"/>
                  <a:ext cx="0" cy="17928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"/>
              <p:cNvSpPr/>
              <p:nvPr/>
            </p:nvSpPr>
            <p:spPr>
              <a:xfrm>
                <a:off x="6823080" y="1866960"/>
                <a:ext cx="74520" cy="17136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929280" y="2112840"/>
                <a:ext cx="74880" cy="17316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035840" y="2359080"/>
                <a:ext cx="74520" cy="17136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142040" y="2604960"/>
                <a:ext cx="74880" cy="17172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250040" y="2849400"/>
                <a:ext cx="74520" cy="17316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356600" y="3097080"/>
                <a:ext cx="74520" cy="17172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462800" y="3341520"/>
                <a:ext cx="74520" cy="17316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569360" y="3589200"/>
                <a:ext cx="74520" cy="17172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675560" y="3833640"/>
                <a:ext cx="74520" cy="17316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781760" y="4081320"/>
                <a:ext cx="73080" cy="17172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888320" y="4325760"/>
                <a:ext cx="73080" cy="17172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994520" y="4572000"/>
                <a:ext cx="49320" cy="12240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962760" y="1776240"/>
                <a:ext cx="90360" cy="16524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085160" y="2014560"/>
                <a:ext cx="91800" cy="16344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209000" y="2251080"/>
                <a:ext cx="88560" cy="16524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331040" y="2489040"/>
                <a:ext cx="90360" cy="16524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454880" y="2727360"/>
                <a:ext cx="90360" cy="16344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577280" y="2965320"/>
                <a:ext cx="90360" cy="16380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699320" y="3203640"/>
                <a:ext cx="90720" cy="16344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823160" y="3441600"/>
                <a:ext cx="90360" cy="16200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947000" y="3678120"/>
                <a:ext cx="88920" cy="16524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067600" y="3916440"/>
                <a:ext cx="92160" cy="164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191440" y="4154400"/>
                <a:ext cx="90720" cy="16344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8315280" y="4390920"/>
                <a:ext cx="88920" cy="16524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6778800" y="1757520"/>
              <a:ext cx="1606320" cy="3106440"/>
              <a:chOff x="6778800" y="1757520"/>
              <a:chExt cx="1606320" cy="3106440"/>
            </a:xfrm>
          </p:grpSpPr>
          <p:grpSp>
            <p:nvGrpSpPr>
              <p:cNvPr id="187" name=""/>
              <p:cNvGrpSpPr/>
              <p:nvPr/>
            </p:nvGrpSpPr>
            <p:grpSpPr>
              <a:xfrm>
                <a:off x="6778800" y="1863720"/>
                <a:ext cx="0" cy="2975040"/>
                <a:chOff x="6778800" y="1863720"/>
                <a:chExt cx="0" cy="297504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6778800" y="1863720"/>
                  <a:ext cx="0" cy="179280"/>
                </a:xfrm>
                <a:prstGeom prst="line">
                  <a:avLst/>
                </a:prstGeom>
                <a:ln w="25560">
                  <a:solidFill>
                    <a:srgbClr val="ef91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6778800" y="2116080"/>
                  <a:ext cx="0" cy="181080"/>
                </a:xfrm>
                <a:prstGeom prst="line">
                  <a:avLst/>
                </a:prstGeom>
                <a:ln w="25560">
                  <a:solidFill>
                    <a:srgbClr val="ef91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6778800" y="2370240"/>
                  <a:ext cx="0" cy="180720"/>
                </a:xfrm>
                <a:prstGeom prst="line">
                  <a:avLst/>
                </a:prstGeom>
                <a:ln w="25560">
                  <a:solidFill>
                    <a:srgbClr val="ef91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6778800" y="2624040"/>
                  <a:ext cx="0" cy="182520"/>
                </a:xfrm>
                <a:prstGeom prst="line">
                  <a:avLst/>
                </a:prstGeom>
                <a:ln w="25560">
                  <a:solidFill>
                    <a:srgbClr val="ef91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6778800" y="2879640"/>
                  <a:ext cx="0" cy="179640"/>
                </a:xfrm>
                <a:prstGeom prst="line">
                  <a:avLst/>
                </a:prstGeom>
                <a:ln w="25560">
                  <a:solidFill>
                    <a:srgbClr val="ef91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6778800" y="3133800"/>
                  <a:ext cx="0" cy="179280"/>
                </a:xfrm>
                <a:prstGeom prst="line">
                  <a:avLst/>
                </a:prstGeom>
                <a:ln w="25560">
                  <a:solidFill>
                    <a:srgbClr val="ef91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6778800" y="3387600"/>
                  <a:ext cx="0" cy="179640"/>
                </a:xfrm>
                <a:prstGeom prst="line">
                  <a:avLst/>
                </a:prstGeom>
                <a:ln w="25560">
                  <a:solidFill>
                    <a:srgbClr val="ef91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6778800" y="3641760"/>
                  <a:ext cx="0" cy="179280"/>
                </a:xfrm>
                <a:prstGeom prst="line">
                  <a:avLst/>
                </a:prstGeom>
                <a:ln w="25560">
                  <a:solidFill>
                    <a:srgbClr val="ef91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778800" y="3895560"/>
                  <a:ext cx="0" cy="181080"/>
                </a:xfrm>
                <a:prstGeom prst="line">
                  <a:avLst/>
                </a:prstGeom>
                <a:ln w="25560">
                  <a:solidFill>
                    <a:srgbClr val="ef91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6778800" y="4149720"/>
                  <a:ext cx="0" cy="181080"/>
                </a:xfrm>
                <a:prstGeom prst="line">
                  <a:avLst/>
                </a:prstGeom>
                <a:ln w="25560">
                  <a:solidFill>
                    <a:srgbClr val="ef91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6778800" y="4403880"/>
                  <a:ext cx="0" cy="180720"/>
                </a:xfrm>
                <a:prstGeom prst="line">
                  <a:avLst/>
                </a:prstGeom>
                <a:ln w="25560">
                  <a:solidFill>
                    <a:srgbClr val="ef91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6778800" y="4657680"/>
                  <a:ext cx="0" cy="181080"/>
                </a:xfrm>
                <a:prstGeom prst="line">
                  <a:avLst/>
                </a:prstGeom>
                <a:ln w="25560">
                  <a:solidFill>
                    <a:srgbClr val="ef91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6934320" y="1798560"/>
                <a:ext cx="0" cy="3065400"/>
                <a:chOff x="6934320" y="1798560"/>
                <a:chExt cx="0" cy="30654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6934320" y="1798560"/>
                  <a:ext cx="0" cy="179640"/>
                </a:xfrm>
                <a:prstGeom prst="line">
                  <a:avLst/>
                </a:prstGeom>
                <a:ln w="25560">
                  <a:solidFill>
                    <a:srgbClr val="ef91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6934320" y="2060640"/>
                  <a:ext cx="0" cy="179280"/>
                </a:xfrm>
                <a:prstGeom prst="line">
                  <a:avLst/>
                </a:prstGeom>
                <a:ln w="25560">
                  <a:solidFill>
                    <a:srgbClr val="ef91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6934320" y="2322360"/>
                  <a:ext cx="0" cy="179640"/>
                </a:xfrm>
                <a:prstGeom prst="line">
                  <a:avLst/>
                </a:prstGeom>
                <a:ln w="25560">
                  <a:solidFill>
                    <a:srgbClr val="ef91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6934320" y="2584440"/>
                  <a:ext cx="0" cy="181080"/>
                </a:xfrm>
                <a:prstGeom prst="line">
                  <a:avLst/>
                </a:prstGeom>
                <a:ln w="25560">
                  <a:solidFill>
                    <a:srgbClr val="ef91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6934320" y="2847960"/>
                  <a:ext cx="0" cy="179280"/>
                </a:xfrm>
                <a:prstGeom prst="line">
                  <a:avLst/>
                </a:prstGeom>
                <a:ln w="25560">
                  <a:solidFill>
                    <a:srgbClr val="ef91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6934320" y="3110040"/>
                  <a:ext cx="0" cy="179280"/>
                </a:xfrm>
                <a:prstGeom prst="line">
                  <a:avLst/>
                </a:prstGeom>
                <a:ln w="25560">
                  <a:solidFill>
                    <a:srgbClr val="ef91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6934320" y="3371760"/>
                  <a:ext cx="0" cy="179640"/>
                </a:xfrm>
                <a:prstGeom prst="line">
                  <a:avLst/>
                </a:prstGeom>
                <a:ln w="25560">
                  <a:solidFill>
                    <a:srgbClr val="ef91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6934320" y="3633840"/>
                  <a:ext cx="0" cy="181080"/>
                </a:xfrm>
                <a:prstGeom prst="line">
                  <a:avLst/>
                </a:prstGeom>
                <a:ln w="25560">
                  <a:solidFill>
                    <a:srgbClr val="ef91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934320" y="3895560"/>
                  <a:ext cx="0" cy="181080"/>
                </a:xfrm>
                <a:prstGeom prst="line">
                  <a:avLst/>
                </a:prstGeom>
                <a:ln w="25560">
                  <a:solidFill>
                    <a:srgbClr val="ef91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6934320" y="4157640"/>
                  <a:ext cx="0" cy="181080"/>
                </a:xfrm>
                <a:prstGeom prst="line">
                  <a:avLst/>
                </a:prstGeom>
                <a:ln w="25560">
                  <a:solidFill>
                    <a:srgbClr val="ef91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6934320" y="4419720"/>
                  <a:ext cx="0" cy="180720"/>
                </a:xfrm>
                <a:prstGeom prst="line">
                  <a:avLst/>
                </a:prstGeom>
                <a:ln w="25560">
                  <a:solidFill>
                    <a:srgbClr val="ef91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934320" y="4681440"/>
                  <a:ext cx="0" cy="182520"/>
                </a:xfrm>
                <a:prstGeom prst="line">
                  <a:avLst/>
                </a:prstGeom>
                <a:ln w="25560">
                  <a:solidFill>
                    <a:srgbClr val="ef91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3" name=""/>
              <p:cNvSpPr/>
              <p:nvPr/>
            </p:nvSpPr>
            <p:spPr>
              <a:xfrm>
                <a:off x="6804000" y="1846440"/>
                <a:ext cx="73080" cy="172800"/>
              </a:xfrm>
              <a:prstGeom prst="line">
                <a:avLst/>
              </a:prstGeom>
              <a:ln w="25560">
                <a:solidFill>
                  <a:srgbClr val="ef91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910560" y="2092320"/>
                <a:ext cx="72720" cy="171360"/>
              </a:xfrm>
              <a:prstGeom prst="line">
                <a:avLst/>
              </a:prstGeom>
              <a:ln w="25560">
                <a:solidFill>
                  <a:srgbClr val="ef91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016760" y="2338560"/>
                <a:ext cx="73080" cy="172800"/>
              </a:xfrm>
              <a:prstGeom prst="line">
                <a:avLst/>
              </a:prstGeom>
              <a:ln w="25560">
                <a:solidFill>
                  <a:srgbClr val="ef91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122960" y="2584440"/>
                <a:ext cx="73080" cy="171360"/>
              </a:xfrm>
              <a:prstGeom prst="line">
                <a:avLst/>
              </a:prstGeom>
              <a:ln w="25560">
                <a:solidFill>
                  <a:srgbClr val="ef91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229520" y="2830680"/>
                <a:ext cx="73080" cy="171360"/>
              </a:xfrm>
              <a:prstGeom prst="line">
                <a:avLst/>
              </a:prstGeom>
              <a:ln w="25560">
                <a:solidFill>
                  <a:srgbClr val="ef91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335720" y="3075120"/>
                <a:ext cx="73080" cy="172800"/>
              </a:xfrm>
              <a:prstGeom prst="line">
                <a:avLst/>
              </a:prstGeom>
              <a:ln w="25560">
                <a:solidFill>
                  <a:srgbClr val="ef91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442280" y="3322800"/>
                <a:ext cx="73080" cy="171360"/>
              </a:xfrm>
              <a:prstGeom prst="line">
                <a:avLst/>
              </a:prstGeom>
              <a:ln w="25560">
                <a:solidFill>
                  <a:srgbClr val="ef91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548480" y="3567240"/>
                <a:ext cx="73080" cy="172800"/>
              </a:xfrm>
              <a:prstGeom prst="line">
                <a:avLst/>
              </a:prstGeom>
              <a:ln w="25560">
                <a:solidFill>
                  <a:srgbClr val="ef91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656480" y="3814920"/>
                <a:ext cx="73080" cy="171360"/>
              </a:xfrm>
              <a:prstGeom prst="line">
                <a:avLst/>
              </a:prstGeom>
              <a:ln w="25560">
                <a:solidFill>
                  <a:srgbClr val="ef91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763040" y="4059360"/>
                <a:ext cx="72720" cy="172800"/>
              </a:xfrm>
              <a:prstGeom prst="line">
                <a:avLst/>
              </a:prstGeom>
              <a:ln w="25560">
                <a:solidFill>
                  <a:srgbClr val="ef91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869240" y="4307040"/>
                <a:ext cx="73080" cy="171360"/>
              </a:xfrm>
              <a:prstGeom prst="line">
                <a:avLst/>
              </a:prstGeom>
              <a:ln w="25560">
                <a:solidFill>
                  <a:srgbClr val="ef91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975440" y="4551480"/>
                <a:ext cx="49320" cy="123840"/>
              </a:xfrm>
              <a:prstGeom prst="line">
                <a:avLst/>
              </a:prstGeom>
              <a:ln w="25560">
                <a:solidFill>
                  <a:srgbClr val="ef91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942240" y="1757520"/>
                <a:ext cx="90360" cy="161640"/>
              </a:xfrm>
              <a:prstGeom prst="line">
                <a:avLst/>
              </a:prstGeom>
              <a:ln w="25560">
                <a:solidFill>
                  <a:srgbClr val="ef91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066080" y="1994040"/>
                <a:ext cx="88920" cy="163440"/>
              </a:xfrm>
              <a:prstGeom prst="line">
                <a:avLst/>
              </a:prstGeom>
              <a:ln w="25560">
                <a:solidFill>
                  <a:srgbClr val="ef91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188120" y="2232000"/>
                <a:ext cx="90720" cy="165240"/>
              </a:xfrm>
              <a:prstGeom prst="line">
                <a:avLst/>
              </a:prstGeom>
              <a:ln w="25560">
                <a:solidFill>
                  <a:srgbClr val="ef91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311960" y="2470320"/>
                <a:ext cx="88920" cy="163440"/>
              </a:xfrm>
              <a:prstGeom prst="line">
                <a:avLst/>
              </a:prstGeom>
              <a:ln w="25560">
                <a:solidFill>
                  <a:srgbClr val="ef91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434360" y="2706840"/>
                <a:ext cx="88920" cy="164880"/>
              </a:xfrm>
              <a:prstGeom prst="line">
                <a:avLst/>
              </a:prstGeom>
              <a:ln w="25560">
                <a:solidFill>
                  <a:srgbClr val="ef91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556400" y="2944800"/>
                <a:ext cx="90720" cy="165240"/>
              </a:xfrm>
              <a:prstGeom prst="line">
                <a:avLst/>
              </a:prstGeom>
              <a:ln w="25560">
                <a:solidFill>
                  <a:srgbClr val="ef91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680240" y="3182760"/>
                <a:ext cx="88920" cy="163800"/>
              </a:xfrm>
              <a:prstGeom prst="line">
                <a:avLst/>
              </a:prstGeom>
              <a:ln w="25560">
                <a:solidFill>
                  <a:srgbClr val="ef91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804080" y="3419640"/>
                <a:ext cx="88920" cy="164880"/>
              </a:xfrm>
              <a:prstGeom prst="line">
                <a:avLst/>
              </a:prstGeom>
              <a:ln w="25560">
                <a:solidFill>
                  <a:srgbClr val="ef91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924680" y="3657600"/>
                <a:ext cx="90720" cy="163440"/>
              </a:xfrm>
              <a:prstGeom prst="line">
                <a:avLst/>
              </a:prstGeom>
              <a:ln w="25560">
                <a:solidFill>
                  <a:srgbClr val="ef91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8048520" y="3895560"/>
                <a:ext cx="88920" cy="163800"/>
              </a:xfrm>
              <a:prstGeom prst="line">
                <a:avLst/>
              </a:prstGeom>
              <a:ln w="25560">
                <a:solidFill>
                  <a:srgbClr val="ef91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8172360" y="4133880"/>
                <a:ext cx="88920" cy="163440"/>
              </a:xfrm>
              <a:prstGeom prst="line">
                <a:avLst/>
              </a:prstGeom>
              <a:ln w="25560">
                <a:solidFill>
                  <a:srgbClr val="ef91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8292960" y="4371840"/>
                <a:ext cx="92160" cy="162000"/>
              </a:xfrm>
              <a:prstGeom prst="line">
                <a:avLst/>
              </a:prstGeom>
              <a:ln w="25560">
                <a:solidFill>
                  <a:srgbClr val="ef91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6767640" y="1735200"/>
              <a:ext cx="1595160" cy="3106800"/>
              <a:chOff x="6767640" y="1735200"/>
              <a:chExt cx="1595160" cy="310680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6767640" y="1841400"/>
                <a:ext cx="0" cy="2976840"/>
                <a:chOff x="6767640" y="1841400"/>
                <a:chExt cx="0" cy="297684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6767640" y="1841400"/>
                  <a:ext cx="0" cy="182520"/>
                </a:xfrm>
                <a:prstGeom prst="line">
                  <a:avLst/>
                </a:prstGeom>
                <a:ln w="25560">
                  <a:solidFill>
                    <a:srgbClr val="ffff4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6767640" y="2097000"/>
                  <a:ext cx="0" cy="179640"/>
                </a:xfrm>
                <a:prstGeom prst="line">
                  <a:avLst/>
                </a:prstGeom>
                <a:ln w="25560">
                  <a:solidFill>
                    <a:srgbClr val="ffff4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767640" y="2351160"/>
                  <a:ext cx="0" cy="179280"/>
                </a:xfrm>
                <a:prstGeom prst="line">
                  <a:avLst/>
                </a:prstGeom>
                <a:ln w="25560">
                  <a:solidFill>
                    <a:srgbClr val="ffff4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767640" y="2604960"/>
                  <a:ext cx="0" cy="179640"/>
                </a:xfrm>
                <a:prstGeom prst="line">
                  <a:avLst/>
                </a:prstGeom>
                <a:ln w="25560">
                  <a:solidFill>
                    <a:srgbClr val="ffff4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767640" y="2859120"/>
                  <a:ext cx="0" cy="179280"/>
                </a:xfrm>
                <a:prstGeom prst="line">
                  <a:avLst/>
                </a:prstGeom>
                <a:ln w="25560">
                  <a:solidFill>
                    <a:srgbClr val="ffff4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6767640" y="3111480"/>
                  <a:ext cx="0" cy="182520"/>
                </a:xfrm>
                <a:prstGeom prst="line">
                  <a:avLst/>
                </a:prstGeom>
                <a:ln w="25560">
                  <a:solidFill>
                    <a:srgbClr val="ffff4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6767640" y="3367080"/>
                  <a:ext cx="0" cy="181080"/>
                </a:xfrm>
                <a:prstGeom prst="line">
                  <a:avLst/>
                </a:prstGeom>
                <a:ln w="25560">
                  <a:solidFill>
                    <a:srgbClr val="ffff4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6767640" y="3621240"/>
                  <a:ext cx="0" cy="180720"/>
                </a:xfrm>
                <a:prstGeom prst="line">
                  <a:avLst/>
                </a:prstGeom>
                <a:ln w="25560">
                  <a:solidFill>
                    <a:srgbClr val="ffff4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6767640" y="3875040"/>
                  <a:ext cx="0" cy="179280"/>
                </a:xfrm>
                <a:prstGeom prst="line">
                  <a:avLst/>
                </a:prstGeom>
                <a:ln w="25560">
                  <a:solidFill>
                    <a:srgbClr val="ffff4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6767640" y="4129200"/>
                  <a:ext cx="0" cy="179280"/>
                </a:xfrm>
                <a:prstGeom prst="line">
                  <a:avLst/>
                </a:prstGeom>
                <a:ln w="25560">
                  <a:solidFill>
                    <a:srgbClr val="ffff4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6767640" y="4383000"/>
                  <a:ext cx="0" cy="181080"/>
                </a:xfrm>
                <a:prstGeom prst="line">
                  <a:avLst/>
                </a:prstGeom>
                <a:ln w="25560">
                  <a:solidFill>
                    <a:srgbClr val="ffff4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6767640" y="4638600"/>
                  <a:ext cx="0" cy="179640"/>
                </a:xfrm>
                <a:prstGeom prst="line">
                  <a:avLst/>
                </a:prstGeom>
                <a:ln w="25560">
                  <a:solidFill>
                    <a:srgbClr val="ffff4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6921360" y="1776240"/>
                <a:ext cx="0" cy="3065760"/>
                <a:chOff x="6921360" y="1776240"/>
                <a:chExt cx="0" cy="306576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6921360" y="1776240"/>
                  <a:ext cx="0" cy="181080"/>
                </a:xfrm>
                <a:prstGeom prst="line">
                  <a:avLst/>
                </a:prstGeom>
                <a:ln w="25560">
                  <a:solidFill>
                    <a:srgbClr val="ffff4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6921360" y="2038320"/>
                  <a:ext cx="0" cy="181080"/>
                </a:xfrm>
                <a:prstGeom prst="line">
                  <a:avLst/>
                </a:prstGeom>
                <a:ln w="25560">
                  <a:solidFill>
                    <a:srgbClr val="ffff4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6921360" y="2301840"/>
                  <a:ext cx="0" cy="179280"/>
                </a:xfrm>
                <a:prstGeom prst="line">
                  <a:avLst/>
                </a:prstGeom>
                <a:ln w="25560">
                  <a:solidFill>
                    <a:srgbClr val="ffff4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6921360" y="2563920"/>
                  <a:ext cx="0" cy="179280"/>
                </a:xfrm>
                <a:prstGeom prst="line">
                  <a:avLst/>
                </a:prstGeom>
                <a:ln w="25560">
                  <a:solidFill>
                    <a:srgbClr val="ffff4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6921360" y="2825640"/>
                  <a:ext cx="0" cy="181080"/>
                </a:xfrm>
                <a:prstGeom prst="line">
                  <a:avLst/>
                </a:prstGeom>
                <a:ln w="25560">
                  <a:solidFill>
                    <a:srgbClr val="ffff4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6921360" y="3087720"/>
                  <a:ext cx="0" cy="181080"/>
                </a:xfrm>
                <a:prstGeom prst="line">
                  <a:avLst/>
                </a:prstGeom>
                <a:ln w="25560">
                  <a:solidFill>
                    <a:srgbClr val="ffff4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921360" y="3351240"/>
                  <a:ext cx="0" cy="179280"/>
                </a:xfrm>
                <a:prstGeom prst="line">
                  <a:avLst/>
                </a:prstGeom>
                <a:ln w="25560">
                  <a:solidFill>
                    <a:srgbClr val="ffff4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921360" y="3613320"/>
                  <a:ext cx="0" cy="179280"/>
                </a:xfrm>
                <a:prstGeom prst="line">
                  <a:avLst/>
                </a:prstGeom>
                <a:ln w="25560">
                  <a:solidFill>
                    <a:srgbClr val="ffff4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6921360" y="3875040"/>
                  <a:ext cx="0" cy="179280"/>
                </a:xfrm>
                <a:prstGeom prst="line">
                  <a:avLst/>
                </a:prstGeom>
                <a:ln w="25560">
                  <a:solidFill>
                    <a:srgbClr val="ffff4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6921360" y="4137120"/>
                  <a:ext cx="0" cy="180720"/>
                </a:xfrm>
                <a:prstGeom prst="line">
                  <a:avLst/>
                </a:prstGeom>
                <a:ln w="25560">
                  <a:solidFill>
                    <a:srgbClr val="ffff4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6921360" y="4400640"/>
                  <a:ext cx="0" cy="179280"/>
                </a:xfrm>
                <a:prstGeom prst="line">
                  <a:avLst/>
                </a:prstGeom>
                <a:ln w="25560">
                  <a:solidFill>
                    <a:srgbClr val="ffff4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921360" y="4662360"/>
                  <a:ext cx="0" cy="179640"/>
                </a:xfrm>
                <a:prstGeom prst="line">
                  <a:avLst/>
                </a:prstGeom>
                <a:ln w="25560">
                  <a:solidFill>
                    <a:srgbClr val="ffff4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4" name=""/>
              <p:cNvSpPr/>
              <p:nvPr/>
            </p:nvSpPr>
            <p:spPr>
              <a:xfrm>
                <a:off x="6781680" y="1825560"/>
                <a:ext cx="74880" cy="171360"/>
              </a:xfrm>
              <a:prstGeom prst="line">
                <a:avLst/>
              </a:prstGeom>
              <a:ln w="25560">
                <a:solidFill>
                  <a:srgbClr val="ffff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888240" y="2071800"/>
                <a:ext cx="74520" cy="172800"/>
              </a:xfrm>
              <a:prstGeom prst="line">
                <a:avLst/>
              </a:prstGeom>
              <a:ln w="25560">
                <a:solidFill>
                  <a:srgbClr val="ffff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994440" y="2317680"/>
                <a:ext cx="74520" cy="171360"/>
              </a:xfrm>
              <a:prstGeom prst="line">
                <a:avLst/>
              </a:prstGeom>
              <a:ln w="25560">
                <a:solidFill>
                  <a:srgbClr val="ffff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102440" y="2563920"/>
                <a:ext cx="74520" cy="172800"/>
              </a:xfrm>
              <a:prstGeom prst="line">
                <a:avLst/>
              </a:prstGeom>
              <a:ln w="25560">
                <a:solidFill>
                  <a:srgbClr val="ffff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209000" y="2809800"/>
                <a:ext cx="74520" cy="171360"/>
              </a:xfrm>
              <a:prstGeom prst="line">
                <a:avLst/>
              </a:prstGeom>
              <a:ln w="25560">
                <a:solidFill>
                  <a:srgbClr val="ffff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315200" y="3056040"/>
                <a:ext cx="74520" cy="171360"/>
              </a:xfrm>
              <a:prstGeom prst="line">
                <a:avLst/>
              </a:prstGeom>
              <a:ln w="25560">
                <a:solidFill>
                  <a:srgbClr val="ffff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421400" y="3300480"/>
                <a:ext cx="74880" cy="172800"/>
              </a:xfrm>
              <a:prstGeom prst="line">
                <a:avLst/>
              </a:prstGeom>
              <a:ln w="25560">
                <a:solidFill>
                  <a:srgbClr val="ffff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527960" y="3548160"/>
                <a:ext cx="74520" cy="171360"/>
              </a:xfrm>
              <a:prstGeom prst="line">
                <a:avLst/>
              </a:prstGeom>
              <a:ln w="25560">
                <a:solidFill>
                  <a:srgbClr val="ffff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634160" y="3792600"/>
                <a:ext cx="74880" cy="172800"/>
              </a:xfrm>
              <a:prstGeom prst="line">
                <a:avLst/>
              </a:prstGeom>
              <a:ln w="25560">
                <a:solidFill>
                  <a:srgbClr val="ffff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740720" y="4040280"/>
                <a:ext cx="74520" cy="171360"/>
              </a:xfrm>
              <a:prstGeom prst="line">
                <a:avLst/>
              </a:prstGeom>
              <a:ln w="25560">
                <a:solidFill>
                  <a:srgbClr val="ffff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846920" y="4284720"/>
                <a:ext cx="74880" cy="173160"/>
              </a:xfrm>
              <a:prstGeom prst="line">
                <a:avLst/>
              </a:prstGeom>
              <a:ln w="25560">
                <a:solidFill>
                  <a:srgbClr val="ffff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953480" y="4532400"/>
                <a:ext cx="48960" cy="120600"/>
              </a:xfrm>
              <a:prstGeom prst="line">
                <a:avLst/>
              </a:prstGeom>
              <a:ln w="25560">
                <a:solidFill>
                  <a:srgbClr val="ffff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921360" y="1735200"/>
                <a:ext cx="90720" cy="164880"/>
              </a:xfrm>
              <a:prstGeom prst="line">
                <a:avLst/>
              </a:prstGeom>
              <a:ln w="25560">
                <a:solidFill>
                  <a:srgbClr val="ffff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045200" y="1973160"/>
                <a:ext cx="90720" cy="163440"/>
              </a:xfrm>
              <a:prstGeom prst="line">
                <a:avLst/>
              </a:prstGeom>
              <a:ln w="25560">
                <a:solidFill>
                  <a:srgbClr val="ffff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167600" y="2211480"/>
                <a:ext cx="90360" cy="163440"/>
              </a:xfrm>
              <a:prstGeom prst="line">
                <a:avLst/>
              </a:prstGeom>
              <a:ln w="25560">
                <a:solidFill>
                  <a:srgbClr val="ffff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289640" y="2448000"/>
                <a:ext cx="90720" cy="164880"/>
              </a:xfrm>
              <a:prstGeom prst="line">
                <a:avLst/>
              </a:prstGeom>
              <a:ln w="25560">
                <a:solidFill>
                  <a:srgbClr val="ffff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413480" y="2687760"/>
                <a:ext cx="90720" cy="161640"/>
              </a:xfrm>
              <a:prstGeom prst="line">
                <a:avLst/>
              </a:prstGeom>
              <a:ln w="25560">
                <a:solidFill>
                  <a:srgbClr val="ffff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537320" y="2924280"/>
                <a:ext cx="88920" cy="163440"/>
              </a:xfrm>
              <a:prstGeom prst="line">
                <a:avLst/>
              </a:prstGeom>
              <a:ln w="25560">
                <a:solidFill>
                  <a:srgbClr val="ffff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658280" y="3162240"/>
                <a:ext cx="91800" cy="163440"/>
              </a:xfrm>
              <a:prstGeom prst="line">
                <a:avLst/>
              </a:prstGeom>
              <a:ln w="25560">
                <a:solidFill>
                  <a:srgbClr val="ffff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781760" y="3400560"/>
                <a:ext cx="90720" cy="163440"/>
              </a:xfrm>
              <a:prstGeom prst="line">
                <a:avLst/>
              </a:prstGeom>
              <a:ln w="25560">
                <a:solidFill>
                  <a:srgbClr val="ffff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905600" y="3637080"/>
                <a:ext cx="88920" cy="164880"/>
              </a:xfrm>
              <a:prstGeom prst="line">
                <a:avLst/>
              </a:prstGeom>
              <a:ln w="25560">
                <a:solidFill>
                  <a:srgbClr val="ffff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8028000" y="3875040"/>
                <a:ext cx="90360" cy="165240"/>
              </a:xfrm>
              <a:prstGeom prst="line">
                <a:avLst/>
              </a:prstGeom>
              <a:ln w="25560">
                <a:solidFill>
                  <a:srgbClr val="ffff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150400" y="4113360"/>
                <a:ext cx="91800" cy="163440"/>
              </a:xfrm>
              <a:prstGeom prst="line">
                <a:avLst/>
              </a:prstGeom>
              <a:ln w="25560">
                <a:solidFill>
                  <a:srgbClr val="ffff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273880" y="4349880"/>
                <a:ext cx="88920" cy="164880"/>
              </a:xfrm>
              <a:prstGeom prst="line">
                <a:avLst/>
              </a:prstGeom>
              <a:ln w="25560">
                <a:solidFill>
                  <a:srgbClr val="ffff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88" name=""/>
          <p:cNvSpPr txBox="1"/>
          <p:nvPr/>
        </p:nvSpPr>
        <p:spPr>
          <a:xfrm>
            <a:off x="1295280" y="3124080"/>
            <a:ext cx="34290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e0e0e0"/>
                </a:solidFill>
                <a:latin typeface="Arial"/>
                <a:ea typeface="Arial"/>
              </a:rPr>
              <a:t>HIGH   -   9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1295280" y="4419720"/>
            <a:ext cx="34290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e0e0e0"/>
                </a:solidFill>
                <a:latin typeface="Arial"/>
                <a:ea typeface="Arial"/>
              </a:rPr>
              <a:t>LOW    -   7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1295280" y="1828800"/>
            <a:ext cx="27432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e0e0e0"/>
                </a:solidFill>
                <a:latin typeface="Arial"/>
                <a:ea typeface="Arial"/>
              </a:rPr>
              <a:t>Sun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"/>
          <p:cNvGrpSpPr/>
          <p:nvPr/>
        </p:nvGrpSpPr>
        <p:grpSpPr>
          <a:xfrm>
            <a:off x="0" y="5810400"/>
            <a:ext cx="9132840" cy="212400"/>
            <a:chOff x="0" y="5810400"/>
            <a:chExt cx="9132840" cy="212400"/>
          </a:xfrm>
        </p:grpSpPr>
        <p:sp>
          <p:nvSpPr>
            <p:cNvPr id="292" name=""/>
            <p:cNvSpPr/>
            <p:nvPr/>
          </p:nvSpPr>
          <p:spPr>
            <a:xfrm>
              <a:off x="0" y="5810400"/>
              <a:ext cx="913284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0" y="5881680"/>
              <a:ext cx="913284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0" y="5951520"/>
              <a:ext cx="913284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0" y="6022800"/>
              <a:ext cx="913284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6" name=""/>
          <p:cNvSpPr txBox="1"/>
          <p:nvPr/>
        </p:nvSpPr>
        <p:spPr>
          <a:xfrm>
            <a:off x="990720" y="2667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Save on Air Fares with </a:t>
            </a:r>
            <a:br>
              <a:rPr sz="3600"/>
            </a:br>
            <a:r>
              <a:rPr b="1" lang="en-US" sz="36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“Hidden” Ci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990720" y="1619280"/>
            <a:ext cx="7353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Save on a Dallas-Philadelphia airline ticket by buying a San Antonio-Dallas-Philadelphia tick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60000"/>
              <a:buFont typeface="Monotype Sort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Milwaukee and Toronto are “hidden” cities to Chica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60000"/>
              <a:buFont typeface="Monotype Sort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  <a:ea typeface="Book Antiqua"/>
              </a:rPr>
              <a:t>San Antonio is a “hidden” city to Dall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730520" y="3753000"/>
            <a:ext cx="5394600" cy="1876680"/>
            <a:chOff x="1730520" y="3753000"/>
            <a:chExt cx="5394600" cy="1876680"/>
          </a:xfrm>
        </p:grpSpPr>
        <p:sp>
          <p:nvSpPr>
            <p:cNvPr id="299" name=""/>
            <p:cNvSpPr/>
            <p:nvPr/>
          </p:nvSpPr>
          <p:spPr>
            <a:xfrm>
              <a:off x="6869160" y="4027320"/>
              <a:ext cx="252720" cy="252720"/>
            </a:xfrm>
            <a:custGeom>
              <a:avLst/>
              <a:gdLst/>
              <a:ahLst/>
              <a:rect l="0" t="0" r="r" b="b"/>
              <a:pathLst>
                <a:path w="702" h="702">
                  <a:moveTo>
                    <a:pt x="702" y="0"/>
                  </a:moveTo>
                  <a:lnTo>
                    <a:pt x="0" y="330"/>
                  </a:lnTo>
                  <a:lnTo>
                    <a:pt x="0" y="702"/>
                  </a:lnTo>
                  <a:lnTo>
                    <a:pt x="702" y="374"/>
                  </a:lnTo>
                  <a:lnTo>
                    <a:pt x="702" y="0"/>
                  </a:lnTo>
                  <a:close/>
                </a:path>
              </a:pathLst>
            </a:custGeom>
            <a:solidFill>
              <a:srgbClr val="5656a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775560" y="4146480"/>
              <a:ext cx="93960" cy="190800"/>
            </a:xfrm>
            <a:custGeom>
              <a:avLst/>
              <a:gdLst/>
              <a:ahLst/>
              <a:rect l="0" t="0" r="r" b="b"/>
              <a:pathLst>
                <a:path w="261" h="530">
                  <a:moveTo>
                    <a:pt x="0" y="151"/>
                  </a:moveTo>
                  <a:lnTo>
                    <a:pt x="229" y="67"/>
                  </a:lnTo>
                  <a:lnTo>
                    <a:pt x="261" y="0"/>
                  </a:lnTo>
                  <a:lnTo>
                    <a:pt x="261" y="369"/>
                  </a:lnTo>
                  <a:lnTo>
                    <a:pt x="229" y="458"/>
                  </a:lnTo>
                  <a:lnTo>
                    <a:pt x="0" y="530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2b2b72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69080" y="4238640"/>
              <a:ext cx="24120" cy="49680"/>
            </a:xfrm>
            <a:custGeom>
              <a:avLst/>
              <a:gdLst/>
              <a:ahLst/>
              <a:rect l="0" t="0" r="r" b="b"/>
              <a:pathLst>
                <a:path w="67" h="138">
                  <a:moveTo>
                    <a:pt x="67" y="0"/>
                  </a:moveTo>
                  <a:lnTo>
                    <a:pt x="0" y="52"/>
                  </a:lnTo>
                  <a:lnTo>
                    <a:pt x="67" y="138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2b2b72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859440" y="4146480"/>
              <a:ext cx="9720" cy="162360"/>
            </a:xfrm>
            <a:custGeom>
              <a:avLst/>
              <a:gdLst/>
              <a:ahLst/>
              <a:rect l="0" t="0" r="r" b="b"/>
              <a:pathLst>
                <a:path w="27" h="451">
                  <a:moveTo>
                    <a:pt x="23" y="0"/>
                  </a:moveTo>
                  <a:lnTo>
                    <a:pt x="0" y="71"/>
                  </a:lnTo>
                  <a:lnTo>
                    <a:pt x="0" y="451"/>
                  </a:lnTo>
                  <a:lnTo>
                    <a:pt x="27" y="377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2b2b72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008680" y="5137200"/>
              <a:ext cx="63720" cy="146520"/>
            </a:xfrm>
            <a:custGeom>
              <a:avLst/>
              <a:gdLst/>
              <a:ahLst/>
              <a:rect l="0" t="0" r="r" b="b"/>
              <a:pathLst>
                <a:path w="177" h="407">
                  <a:moveTo>
                    <a:pt x="0" y="71"/>
                  </a:moveTo>
                  <a:lnTo>
                    <a:pt x="82" y="231"/>
                  </a:lnTo>
                  <a:lnTo>
                    <a:pt x="82" y="407"/>
                  </a:lnTo>
                  <a:lnTo>
                    <a:pt x="177" y="364"/>
                  </a:lnTo>
                  <a:lnTo>
                    <a:pt x="177" y="0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4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072040" y="5130720"/>
              <a:ext cx="214560" cy="138600"/>
            </a:xfrm>
            <a:custGeom>
              <a:avLst/>
              <a:gdLst/>
              <a:ahLst/>
              <a:rect l="0" t="0" r="r" b="b"/>
              <a:pathLst>
                <a:path w="596" h="385">
                  <a:moveTo>
                    <a:pt x="0" y="14"/>
                  </a:moveTo>
                  <a:lnTo>
                    <a:pt x="252" y="0"/>
                  </a:lnTo>
                  <a:lnTo>
                    <a:pt x="596" y="0"/>
                  </a:lnTo>
                  <a:lnTo>
                    <a:pt x="596" y="375"/>
                  </a:lnTo>
                  <a:lnTo>
                    <a:pt x="252" y="375"/>
                  </a:lnTo>
                  <a:lnTo>
                    <a:pt x="0" y="385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b2b72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289480" y="5132520"/>
              <a:ext cx="100440" cy="187560"/>
            </a:xfrm>
            <a:custGeom>
              <a:avLst/>
              <a:gdLst/>
              <a:ahLst/>
              <a:rect l="0" t="0" r="r" b="b"/>
              <a:pathLst>
                <a:path w="279" h="521">
                  <a:moveTo>
                    <a:pt x="0" y="0"/>
                  </a:moveTo>
                  <a:lnTo>
                    <a:pt x="0" y="369"/>
                  </a:lnTo>
                  <a:lnTo>
                    <a:pt x="279" y="521"/>
                  </a:lnTo>
                  <a:lnTo>
                    <a:pt x="279" y="1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56a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389560" y="5167440"/>
              <a:ext cx="125640" cy="151200"/>
            </a:xfrm>
            <a:custGeom>
              <a:avLst/>
              <a:gdLst/>
              <a:ahLst/>
              <a:rect l="0" t="0" r="r" b="b"/>
              <a:pathLst>
                <a:path w="349" h="420">
                  <a:moveTo>
                    <a:pt x="0" y="52"/>
                  </a:moveTo>
                  <a:lnTo>
                    <a:pt x="349" y="0"/>
                  </a:lnTo>
                  <a:lnTo>
                    <a:pt x="349" y="372"/>
                  </a:lnTo>
                  <a:lnTo>
                    <a:pt x="0" y="42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4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597640" y="5297400"/>
              <a:ext cx="81360" cy="208440"/>
            </a:xfrm>
            <a:custGeom>
              <a:avLst/>
              <a:gdLst/>
              <a:ahLst/>
              <a:rect l="0" t="0" r="r" b="b"/>
              <a:pathLst>
                <a:path w="226" h="579">
                  <a:moveTo>
                    <a:pt x="0" y="0"/>
                  </a:moveTo>
                  <a:lnTo>
                    <a:pt x="226" y="207"/>
                  </a:lnTo>
                  <a:lnTo>
                    <a:pt x="226" y="579"/>
                  </a:lnTo>
                  <a:lnTo>
                    <a:pt x="0" y="3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56a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514840" y="5167440"/>
              <a:ext cx="103680" cy="189360"/>
            </a:xfrm>
            <a:custGeom>
              <a:avLst/>
              <a:gdLst/>
              <a:ahLst/>
              <a:rect l="0" t="0" r="r" b="b"/>
              <a:pathLst>
                <a:path w="288" h="526">
                  <a:moveTo>
                    <a:pt x="0" y="0"/>
                  </a:moveTo>
                  <a:lnTo>
                    <a:pt x="288" y="190"/>
                  </a:lnTo>
                  <a:lnTo>
                    <a:pt x="225" y="360"/>
                  </a:lnTo>
                  <a:lnTo>
                    <a:pt x="225" y="526"/>
                  </a:lnTo>
                  <a:lnTo>
                    <a:pt x="0" y="3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b2b72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260960" y="5184720"/>
              <a:ext cx="217800" cy="235440"/>
            </a:xfrm>
            <a:custGeom>
              <a:avLst/>
              <a:gdLst/>
              <a:ahLst/>
              <a:rect l="0" t="0" r="r" b="b"/>
              <a:pathLst>
                <a:path w="605" h="654">
                  <a:moveTo>
                    <a:pt x="54" y="654"/>
                  </a:moveTo>
                  <a:lnTo>
                    <a:pt x="0" y="448"/>
                  </a:lnTo>
                  <a:lnTo>
                    <a:pt x="124" y="239"/>
                  </a:lnTo>
                  <a:lnTo>
                    <a:pt x="605" y="0"/>
                  </a:lnTo>
                  <a:lnTo>
                    <a:pt x="605" y="367"/>
                  </a:lnTo>
                  <a:lnTo>
                    <a:pt x="132" y="601"/>
                  </a:lnTo>
                  <a:lnTo>
                    <a:pt x="54" y="654"/>
                  </a:lnTo>
                  <a:close/>
                </a:path>
              </a:pathLst>
            </a:custGeom>
            <a:solidFill>
              <a:srgbClr val="2b2b72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478400" y="5165640"/>
              <a:ext cx="124200" cy="149760"/>
            </a:xfrm>
            <a:custGeom>
              <a:avLst/>
              <a:gdLst/>
              <a:ahLst/>
              <a:rect l="0" t="0" r="r" b="b"/>
              <a:pathLst>
                <a:path w="345" h="416">
                  <a:moveTo>
                    <a:pt x="0" y="57"/>
                  </a:moveTo>
                  <a:lnTo>
                    <a:pt x="0" y="416"/>
                  </a:lnTo>
                  <a:lnTo>
                    <a:pt x="345" y="364"/>
                  </a:lnTo>
                  <a:lnTo>
                    <a:pt x="345" y="0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4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602240" y="5165640"/>
              <a:ext cx="246600" cy="184680"/>
            </a:xfrm>
            <a:custGeom>
              <a:avLst/>
              <a:gdLst/>
              <a:ahLst/>
              <a:rect l="0" t="0" r="r" b="b"/>
              <a:pathLst>
                <a:path w="685" h="513">
                  <a:moveTo>
                    <a:pt x="0" y="0"/>
                  </a:moveTo>
                  <a:lnTo>
                    <a:pt x="685" y="149"/>
                  </a:lnTo>
                  <a:lnTo>
                    <a:pt x="685" y="513"/>
                  </a:lnTo>
                  <a:lnTo>
                    <a:pt x="0" y="3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b2b72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848120" y="5218200"/>
              <a:ext cx="192600" cy="136800"/>
            </a:xfrm>
            <a:custGeom>
              <a:avLst/>
              <a:gdLst/>
              <a:ahLst/>
              <a:rect l="0" t="0" r="r" b="b"/>
              <a:pathLst>
                <a:path w="535" h="380">
                  <a:moveTo>
                    <a:pt x="0" y="0"/>
                  </a:moveTo>
                  <a:lnTo>
                    <a:pt x="0" y="365"/>
                  </a:lnTo>
                  <a:lnTo>
                    <a:pt x="535" y="380"/>
                  </a:lnTo>
                  <a:lnTo>
                    <a:pt x="535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56a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826240" y="5430960"/>
              <a:ext cx="105120" cy="194040"/>
            </a:xfrm>
            <a:custGeom>
              <a:avLst/>
              <a:gdLst/>
              <a:ahLst/>
              <a:rect l="0" t="0" r="r" b="b"/>
              <a:pathLst>
                <a:path w="292" h="539">
                  <a:moveTo>
                    <a:pt x="0" y="174"/>
                  </a:moveTo>
                  <a:lnTo>
                    <a:pt x="292" y="0"/>
                  </a:lnTo>
                  <a:lnTo>
                    <a:pt x="292" y="362"/>
                  </a:lnTo>
                  <a:lnTo>
                    <a:pt x="0" y="539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00004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676840" y="5372280"/>
              <a:ext cx="33840" cy="133560"/>
            </a:xfrm>
            <a:custGeom>
              <a:avLst/>
              <a:gdLst/>
              <a:ahLst/>
              <a:rect l="0" t="0" r="r" b="b"/>
              <a:pathLst>
                <a:path w="94" h="371">
                  <a:moveTo>
                    <a:pt x="0" y="0"/>
                  </a:moveTo>
                  <a:lnTo>
                    <a:pt x="0" y="371"/>
                  </a:lnTo>
                  <a:lnTo>
                    <a:pt x="94" y="371"/>
                  </a:lnTo>
                  <a:lnTo>
                    <a:pt x="94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56a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738760" y="5492880"/>
              <a:ext cx="87840" cy="135360"/>
            </a:xfrm>
            <a:custGeom>
              <a:avLst/>
              <a:gdLst/>
              <a:ahLst/>
              <a:rect l="0" t="0" r="r" b="b"/>
              <a:pathLst>
                <a:path w="244" h="376">
                  <a:moveTo>
                    <a:pt x="0" y="9"/>
                  </a:moveTo>
                  <a:lnTo>
                    <a:pt x="244" y="0"/>
                  </a:lnTo>
                  <a:lnTo>
                    <a:pt x="244" y="362"/>
                  </a:lnTo>
                  <a:lnTo>
                    <a:pt x="0" y="376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5656a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708520" y="5372280"/>
              <a:ext cx="30600" cy="257400"/>
            </a:xfrm>
            <a:custGeom>
              <a:avLst/>
              <a:gdLst/>
              <a:ahLst/>
              <a:rect l="0" t="0" r="r" b="b"/>
              <a:pathLst>
                <a:path w="85" h="715">
                  <a:moveTo>
                    <a:pt x="0" y="0"/>
                  </a:moveTo>
                  <a:lnTo>
                    <a:pt x="85" y="354"/>
                  </a:lnTo>
                  <a:lnTo>
                    <a:pt x="85" y="715"/>
                  </a:lnTo>
                  <a:lnTo>
                    <a:pt x="0" y="3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b2b72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826240" y="4970520"/>
              <a:ext cx="89280" cy="151200"/>
            </a:xfrm>
            <a:custGeom>
              <a:avLst/>
              <a:gdLst/>
              <a:ahLst/>
              <a:rect l="0" t="0" r="r" b="b"/>
              <a:pathLst>
                <a:path w="248" h="420">
                  <a:moveTo>
                    <a:pt x="0" y="52"/>
                  </a:moveTo>
                  <a:lnTo>
                    <a:pt x="248" y="0"/>
                  </a:lnTo>
                  <a:lnTo>
                    <a:pt x="248" y="368"/>
                  </a:lnTo>
                  <a:lnTo>
                    <a:pt x="0" y="42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4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915160" y="4894200"/>
              <a:ext cx="119520" cy="211320"/>
            </a:xfrm>
            <a:custGeom>
              <a:avLst/>
              <a:gdLst/>
              <a:ahLst/>
              <a:rect l="0" t="0" r="r" b="b"/>
              <a:pathLst>
                <a:path w="332" h="587">
                  <a:moveTo>
                    <a:pt x="0" y="210"/>
                  </a:moveTo>
                  <a:lnTo>
                    <a:pt x="332" y="0"/>
                  </a:lnTo>
                  <a:lnTo>
                    <a:pt x="332" y="372"/>
                  </a:lnTo>
                  <a:lnTo>
                    <a:pt x="0" y="587"/>
                  </a:lnTo>
                  <a:lnTo>
                    <a:pt x="0" y="210"/>
                  </a:lnTo>
                  <a:close/>
                </a:path>
              </a:pathLst>
            </a:custGeom>
            <a:solidFill>
              <a:srgbClr val="2b2b72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033960" y="4843440"/>
              <a:ext cx="55800" cy="184680"/>
            </a:xfrm>
            <a:custGeom>
              <a:avLst/>
              <a:gdLst/>
              <a:ahLst/>
              <a:rect l="0" t="0" r="r" b="b"/>
              <a:pathLst>
                <a:path w="155" h="513">
                  <a:moveTo>
                    <a:pt x="0" y="149"/>
                  </a:moveTo>
                  <a:lnTo>
                    <a:pt x="0" y="513"/>
                  </a:lnTo>
                  <a:lnTo>
                    <a:pt x="155" y="361"/>
                  </a:lnTo>
                  <a:lnTo>
                    <a:pt x="155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00004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756400" y="4991040"/>
              <a:ext cx="70200" cy="200520"/>
            </a:xfrm>
            <a:custGeom>
              <a:avLst/>
              <a:gdLst/>
              <a:ahLst/>
              <a:rect l="0" t="0" r="r" b="b"/>
              <a:pathLst>
                <a:path w="195" h="557">
                  <a:moveTo>
                    <a:pt x="195" y="0"/>
                  </a:moveTo>
                  <a:lnTo>
                    <a:pt x="195" y="381"/>
                  </a:lnTo>
                  <a:lnTo>
                    <a:pt x="163" y="485"/>
                  </a:lnTo>
                  <a:lnTo>
                    <a:pt x="115" y="557"/>
                  </a:lnTo>
                  <a:lnTo>
                    <a:pt x="39" y="490"/>
                  </a:lnTo>
                  <a:lnTo>
                    <a:pt x="0" y="357"/>
                  </a:lnTo>
                  <a:lnTo>
                    <a:pt x="155" y="122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2b2b72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089760" y="4818240"/>
              <a:ext cx="132120" cy="157680"/>
            </a:xfrm>
            <a:custGeom>
              <a:avLst/>
              <a:gdLst/>
              <a:ahLst/>
              <a:rect l="0" t="0" r="r" b="b"/>
              <a:pathLst>
                <a:path w="367" h="438">
                  <a:moveTo>
                    <a:pt x="0" y="67"/>
                  </a:moveTo>
                  <a:lnTo>
                    <a:pt x="367" y="0"/>
                  </a:lnTo>
                  <a:lnTo>
                    <a:pt x="367" y="366"/>
                  </a:lnTo>
                  <a:lnTo>
                    <a:pt x="0" y="438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2b2b72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221520" y="4757760"/>
              <a:ext cx="95760" cy="192600"/>
            </a:xfrm>
            <a:custGeom>
              <a:avLst/>
              <a:gdLst/>
              <a:ahLst/>
              <a:rect l="0" t="0" r="r" b="b"/>
              <a:pathLst>
                <a:path w="266" h="535">
                  <a:moveTo>
                    <a:pt x="0" y="168"/>
                  </a:moveTo>
                  <a:lnTo>
                    <a:pt x="0" y="535"/>
                  </a:lnTo>
                  <a:lnTo>
                    <a:pt x="266" y="367"/>
                  </a:lnTo>
                  <a:lnTo>
                    <a:pt x="266" y="0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00004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378480" y="4459320"/>
              <a:ext cx="66960" cy="189360"/>
            </a:xfrm>
            <a:custGeom>
              <a:avLst/>
              <a:gdLst/>
              <a:ahLst/>
              <a:rect l="0" t="0" r="r" b="b"/>
              <a:pathLst>
                <a:path w="186" h="526">
                  <a:moveTo>
                    <a:pt x="0" y="151"/>
                  </a:moveTo>
                  <a:lnTo>
                    <a:pt x="186" y="0"/>
                  </a:lnTo>
                  <a:lnTo>
                    <a:pt x="186" y="370"/>
                  </a:lnTo>
                  <a:lnTo>
                    <a:pt x="0" y="526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5656a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319800" y="4467240"/>
              <a:ext cx="59040" cy="182880"/>
            </a:xfrm>
            <a:custGeom>
              <a:avLst/>
              <a:gdLst/>
              <a:ahLst/>
              <a:rect l="0" t="0" r="r" b="b"/>
              <a:pathLst>
                <a:path w="164" h="508">
                  <a:moveTo>
                    <a:pt x="0" y="0"/>
                  </a:moveTo>
                  <a:lnTo>
                    <a:pt x="164" y="132"/>
                  </a:lnTo>
                  <a:lnTo>
                    <a:pt x="164" y="508"/>
                  </a:lnTo>
                  <a:lnTo>
                    <a:pt x="0" y="3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b2b72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289560" y="4532400"/>
              <a:ext cx="73440" cy="216360"/>
            </a:xfrm>
            <a:custGeom>
              <a:avLst/>
              <a:gdLst/>
              <a:ahLst/>
              <a:rect l="0" t="0" r="r" b="b"/>
              <a:pathLst>
                <a:path w="204" h="601">
                  <a:moveTo>
                    <a:pt x="204" y="0"/>
                  </a:moveTo>
                  <a:lnTo>
                    <a:pt x="0" y="233"/>
                  </a:lnTo>
                  <a:lnTo>
                    <a:pt x="0" y="601"/>
                  </a:lnTo>
                  <a:lnTo>
                    <a:pt x="204" y="377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2b2b72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243480" y="4618080"/>
              <a:ext cx="46440" cy="97200"/>
            </a:xfrm>
            <a:custGeom>
              <a:avLst/>
              <a:gdLst/>
              <a:ahLst/>
              <a:rect l="0" t="0" r="r" b="b"/>
              <a:pathLst>
                <a:path w="129" h="270">
                  <a:moveTo>
                    <a:pt x="129" y="0"/>
                  </a:moveTo>
                  <a:lnTo>
                    <a:pt x="0" y="81"/>
                  </a:lnTo>
                  <a:lnTo>
                    <a:pt x="129" y="270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2b2b72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6080" bIns="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778800" y="4307040"/>
              <a:ext cx="76680" cy="149760"/>
            </a:xfrm>
            <a:custGeom>
              <a:avLst/>
              <a:gdLst/>
              <a:ahLst/>
              <a:rect l="0" t="0" r="r" b="b"/>
              <a:pathLst>
                <a:path w="213" h="416">
                  <a:moveTo>
                    <a:pt x="0" y="47"/>
                  </a:moveTo>
                  <a:lnTo>
                    <a:pt x="213" y="0"/>
                  </a:lnTo>
                  <a:lnTo>
                    <a:pt x="213" y="368"/>
                  </a:lnTo>
                  <a:lnTo>
                    <a:pt x="0" y="416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5656a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734160" y="4302000"/>
              <a:ext cx="44640" cy="152640"/>
            </a:xfrm>
            <a:custGeom>
              <a:avLst/>
              <a:gdLst/>
              <a:ahLst/>
              <a:rect l="0" t="0" r="r" b="b"/>
              <a:pathLst>
                <a:path w="124" h="424">
                  <a:moveTo>
                    <a:pt x="0" y="0"/>
                  </a:moveTo>
                  <a:lnTo>
                    <a:pt x="124" y="66"/>
                  </a:lnTo>
                  <a:lnTo>
                    <a:pt x="124" y="424"/>
                  </a:lnTo>
                  <a:lnTo>
                    <a:pt x="0" y="3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b2b72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708600" y="4305240"/>
              <a:ext cx="25920" cy="162360"/>
            </a:xfrm>
            <a:custGeom>
              <a:avLst/>
              <a:gdLst/>
              <a:ahLst/>
              <a:rect l="0" t="0" r="r" b="b"/>
              <a:pathLst>
                <a:path w="72" h="451">
                  <a:moveTo>
                    <a:pt x="72" y="0"/>
                  </a:moveTo>
                  <a:lnTo>
                    <a:pt x="72" y="350"/>
                  </a:lnTo>
                  <a:lnTo>
                    <a:pt x="0" y="451"/>
                  </a:lnTo>
                  <a:lnTo>
                    <a:pt x="0" y="7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2b2b72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507000" y="4332240"/>
              <a:ext cx="201960" cy="149760"/>
            </a:xfrm>
            <a:custGeom>
              <a:avLst/>
              <a:gdLst/>
              <a:ahLst/>
              <a:rect l="0" t="0" r="r" b="b"/>
              <a:pathLst>
                <a:path w="561" h="416">
                  <a:moveTo>
                    <a:pt x="561" y="0"/>
                  </a:moveTo>
                  <a:lnTo>
                    <a:pt x="443" y="9"/>
                  </a:lnTo>
                  <a:lnTo>
                    <a:pt x="0" y="47"/>
                  </a:lnTo>
                  <a:lnTo>
                    <a:pt x="0" y="416"/>
                  </a:lnTo>
                  <a:lnTo>
                    <a:pt x="451" y="382"/>
                  </a:lnTo>
                  <a:lnTo>
                    <a:pt x="561" y="373"/>
                  </a:lnTo>
                  <a:lnTo>
                    <a:pt x="561" y="0"/>
                  </a:lnTo>
                  <a:close/>
                </a:path>
              </a:pathLst>
            </a:custGeom>
            <a:solidFill>
              <a:srgbClr val="2b2b72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437160" y="4352760"/>
              <a:ext cx="70200" cy="171720"/>
            </a:xfrm>
            <a:custGeom>
              <a:avLst/>
              <a:gdLst/>
              <a:ahLst/>
              <a:rect l="0" t="0" r="r" b="b"/>
              <a:pathLst>
                <a:path w="195" h="477">
                  <a:moveTo>
                    <a:pt x="195" y="0"/>
                  </a:moveTo>
                  <a:lnTo>
                    <a:pt x="195" y="362"/>
                  </a:lnTo>
                  <a:lnTo>
                    <a:pt x="69" y="410"/>
                  </a:lnTo>
                  <a:lnTo>
                    <a:pt x="23" y="477"/>
                  </a:lnTo>
                  <a:lnTo>
                    <a:pt x="23" y="295"/>
                  </a:lnTo>
                  <a:lnTo>
                    <a:pt x="54" y="150"/>
                  </a:lnTo>
                  <a:lnTo>
                    <a:pt x="0" y="138"/>
                  </a:lnTo>
                  <a:lnTo>
                    <a:pt x="62" y="52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00004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792440" y="4505400"/>
              <a:ext cx="325800" cy="465480"/>
            </a:xfrm>
            <a:custGeom>
              <a:avLst/>
              <a:gdLst/>
              <a:ahLst/>
              <a:rect l="0" t="0" r="r" b="b"/>
              <a:pathLst>
                <a:path w="905" h="1293">
                  <a:moveTo>
                    <a:pt x="0" y="0"/>
                  </a:moveTo>
                  <a:lnTo>
                    <a:pt x="0" y="366"/>
                  </a:lnTo>
                  <a:lnTo>
                    <a:pt x="323" y="668"/>
                  </a:lnTo>
                  <a:lnTo>
                    <a:pt x="905" y="1293"/>
                  </a:lnTo>
                  <a:lnTo>
                    <a:pt x="905" y="934"/>
                  </a:lnTo>
                  <a:lnTo>
                    <a:pt x="362" y="3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56a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117880" y="4843440"/>
              <a:ext cx="76680" cy="128880"/>
            </a:xfrm>
            <a:custGeom>
              <a:avLst/>
              <a:gdLst/>
              <a:ahLst/>
              <a:rect l="0" t="0" r="r" b="b"/>
              <a:pathLst>
                <a:path w="213" h="358">
                  <a:moveTo>
                    <a:pt x="0" y="0"/>
                  </a:moveTo>
                  <a:lnTo>
                    <a:pt x="213" y="0"/>
                  </a:lnTo>
                  <a:lnTo>
                    <a:pt x="213" y="358"/>
                  </a:lnTo>
                  <a:lnTo>
                    <a:pt x="0" y="3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4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197080" y="4843440"/>
              <a:ext cx="232200" cy="241560"/>
            </a:xfrm>
            <a:custGeom>
              <a:avLst/>
              <a:gdLst/>
              <a:ahLst/>
              <a:rect l="0" t="0" r="r" b="b"/>
              <a:pathLst>
                <a:path w="645" h="671">
                  <a:moveTo>
                    <a:pt x="0" y="0"/>
                  </a:moveTo>
                  <a:lnTo>
                    <a:pt x="0" y="356"/>
                  </a:lnTo>
                  <a:lnTo>
                    <a:pt x="645" y="671"/>
                  </a:lnTo>
                  <a:lnTo>
                    <a:pt x="645" y="30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56a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428920" y="4950000"/>
              <a:ext cx="260640" cy="136800"/>
            </a:xfrm>
            <a:custGeom>
              <a:avLst/>
              <a:gdLst/>
              <a:ahLst/>
              <a:rect l="0" t="0" r="r" b="b"/>
              <a:pathLst>
                <a:path w="724" h="380">
                  <a:moveTo>
                    <a:pt x="0" y="4"/>
                  </a:moveTo>
                  <a:lnTo>
                    <a:pt x="0" y="380"/>
                  </a:lnTo>
                  <a:lnTo>
                    <a:pt x="724" y="380"/>
                  </a:lnTo>
                  <a:lnTo>
                    <a:pt x="72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4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85960" y="4979880"/>
              <a:ext cx="316440" cy="224280"/>
            </a:xfrm>
            <a:custGeom>
              <a:avLst/>
              <a:gdLst/>
              <a:ahLst/>
              <a:rect l="0" t="0" r="r" b="b"/>
              <a:pathLst>
                <a:path w="879" h="623">
                  <a:moveTo>
                    <a:pt x="0" y="0"/>
                  </a:moveTo>
                  <a:lnTo>
                    <a:pt x="879" y="256"/>
                  </a:lnTo>
                  <a:lnTo>
                    <a:pt x="879" y="623"/>
                  </a:lnTo>
                  <a:lnTo>
                    <a:pt x="0" y="3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56a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002040" y="5073480"/>
              <a:ext cx="255960" cy="125640"/>
            </a:xfrm>
            <a:custGeom>
              <a:avLst/>
              <a:gdLst/>
              <a:ahLst/>
              <a:rect l="0" t="0" r="r" b="b"/>
              <a:pathLst>
                <a:path w="711" h="349">
                  <a:moveTo>
                    <a:pt x="0" y="0"/>
                  </a:moveTo>
                  <a:lnTo>
                    <a:pt x="711" y="0"/>
                  </a:lnTo>
                  <a:lnTo>
                    <a:pt x="711" y="349"/>
                  </a:lnTo>
                  <a:lnTo>
                    <a:pt x="0" y="3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4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257640" y="5013360"/>
              <a:ext cx="106560" cy="130680"/>
            </a:xfrm>
            <a:custGeom>
              <a:avLst/>
              <a:gdLst/>
              <a:ahLst/>
              <a:rect l="0" t="0" r="r" b="b"/>
              <a:pathLst>
                <a:path w="296" h="363">
                  <a:moveTo>
                    <a:pt x="0" y="4"/>
                  </a:moveTo>
                  <a:lnTo>
                    <a:pt x="0" y="363"/>
                  </a:lnTo>
                  <a:lnTo>
                    <a:pt x="296" y="363"/>
                  </a:lnTo>
                  <a:lnTo>
                    <a:pt x="296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2b2b72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363840" y="5016600"/>
              <a:ext cx="186120" cy="225720"/>
            </a:xfrm>
            <a:custGeom>
              <a:avLst/>
              <a:gdLst/>
              <a:ahLst/>
              <a:rect l="0" t="0" r="r" b="b"/>
              <a:pathLst>
                <a:path w="517" h="627">
                  <a:moveTo>
                    <a:pt x="0" y="0"/>
                  </a:moveTo>
                  <a:lnTo>
                    <a:pt x="517" y="260"/>
                  </a:lnTo>
                  <a:lnTo>
                    <a:pt x="517" y="627"/>
                  </a:lnTo>
                  <a:lnTo>
                    <a:pt x="0" y="3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4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549600" y="5110200"/>
              <a:ext cx="84600" cy="225720"/>
            </a:xfrm>
            <a:custGeom>
              <a:avLst/>
              <a:gdLst/>
              <a:ahLst/>
              <a:rect l="0" t="0" r="r" b="b"/>
              <a:pathLst>
                <a:path w="235" h="627">
                  <a:moveTo>
                    <a:pt x="0" y="0"/>
                  </a:moveTo>
                  <a:lnTo>
                    <a:pt x="235" y="259"/>
                  </a:lnTo>
                  <a:lnTo>
                    <a:pt x="235" y="627"/>
                  </a:lnTo>
                  <a:lnTo>
                    <a:pt x="0" y="3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b2b72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633840" y="5203800"/>
              <a:ext cx="92520" cy="165600"/>
            </a:xfrm>
            <a:custGeom>
              <a:avLst/>
              <a:gdLst/>
              <a:ahLst/>
              <a:rect l="0" t="0" r="r" b="b"/>
              <a:pathLst>
                <a:path w="257" h="460">
                  <a:moveTo>
                    <a:pt x="0" y="0"/>
                  </a:moveTo>
                  <a:lnTo>
                    <a:pt x="257" y="93"/>
                  </a:lnTo>
                  <a:lnTo>
                    <a:pt x="257" y="460"/>
                  </a:lnTo>
                  <a:lnTo>
                    <a:pt x="0" y="3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56a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726000" y="5194440"/>
              <a:ext cx="63720" cy="170280"/>
            </a:xfrm>
            <a:custGeom>
              <a:avLst/>
              <a:gdLst/>
              <a:ahLst/>
              <a:rect l="0" t="0" r="r" b="b"/>
              <a:pathLst>
                <a:path w="177" h="473">
                  <a:moveTo>
                    <a:pt x="177" y="0"/>
                  </a:moveTo>
                  <a:lnTo>
                    <a:pt x="0" y="121"/>
                  </a:lnTo>
                  <a:lnTo>
                    <a:pt x="0" y="473"/>
                  </a:lnTo>
                  <a:lnTo>
                    <a:pt x="177" y="357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00004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789360" y="5194440"/>
              <a:ext cx="119520" cy="154440"/>
            </a:xfrm>
            <a:custGeom>
              <a:avLst/>
              <a:gdLst/>
              <a:ahLst/>
              <a:rect l="0" t="0" r="r" b="b"/>
              <a:pathLst>
                <a:path w="332" h="429">
                  <a:moveTo>
                    <a:pt x="0" y="0"/>
                  </a:moveTo>
                  <a:lnTo>
                    <a:pt x="332" y="69"/>
                  </a:lnTo>
                  <a:lnTo>
                    <a:pt x="332" y="429"/>
                  </a:lnTo>
                  <a:lnTo>
                    <a:pt x="0" y="3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b2b72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056120" y="5369040"/>
              <a:ext cx="227520" cy="179640"/>
            </a:xfrm>
            <a:custGeom>
              <a:avLst/>
              <a:gdLst/>
              <a:ahLst/>
              <a:rect l="0" t="0" r="r" b="b"/>
              <a:pathLst>
                <a:path w="632" h="499">
                  <a:moveTo>
                    <a:pt x="0" y="0"/>
                  </a:moveTo>
                  <a:lnTo>
                    <a:pt x="632" y="128"/>
                  </a:lnTo>
                  <a:lnTo>
                    <a:pt x="632" y="499"/>
                  </a:lnTo>
                  <a:lnTo>
                    <a:pt x="0" y="3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56a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908520" y="5216400"/>
              <a:ext cx="147960" cy="286200"/>
            </a:xfrm>
            <a:custGeom>
              <a:avLst/>
              <a:gdLst/>
              <a:ahLst/>
              <a:rect l="0" t="0" r="r" b="b"/>
              <a:pathLst>
                <a:path w="411" h="795">
                  <a:moveTo>
                    <a:pt x="0" y="0"/>
                  </a:moveTo>
                  <a:lnTo>
                    <a:pt x="411" y="428"/>
                  </a:lnTo>
                  <a:lnTo>
                    <a:pt x="411" y="795"/>
                  </a:lnTo>
                  <a:lnTo>
                    <a:pt x="0" y="3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56a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733400" y="3828960"/>
              <a:ext cx="49680" cy="221040"/>
            </a:xfrm>
            <a:custGeom>
              <a:avLst/>
              <a:gdLst/>
              <a:ahLst/>
              <a:rect l="0" t="0" r="r" b="b"/>
              <a:pathLst>
                <a:path w="138" h="614">
                  <a:moveTo>
                    <a:pt x="0" y="0"/>
                  </a:moveTo>
                  <a:lnTo>
                    <a:pt x="138" y="376"/>
                  </a:lnTo>
                  <a:lnTo>
                    <a:pt x="92" y="614"/>
                  </a:lnTo>
                  <a:lnTo>
                    <a:pt x="0" y="3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4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730520" y="4390920"/>
              <a:ext cx="79560" cy="182880"/>
            </a:xfrm>
            <a:custGeom>
              <a:avLst/>
              <a:gdLst/>
              <a:ahLst/>
              <a:rect l="0" t="0" r="r" b="b"/>
              <a:pathLst>
                <a:path w="221" h="508">
                  <a:moveTo>
                    <a:pt x="0" y="0"/>
                  </a:moveTo>
                  <a:lnTo>
                    <a:pt x="221" y="188"/>
                  </a:lnTo>
                  <a:lnTo>
                    <a:pt x="174" y="312"/>
                  </a:lnTo>
                  <a:lnTo>
                    <a:pt x="174" y="508"/>
                  </a:lnTo>
                  <a:lnTo>
                    <a:pt x="0" y="3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4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237280" y="3973680"/>
              <a:ext cx="297360" cy="154440"/>
            </a:xfrm>
            <a:custGeom>
              <a:avLst/>
              <a:gdLst/>
              <a:ahLst/>
              <a:rect l="0" t="0" r="r" b="b"/>
              <a:pathLst>
                <a:path w="826" h="429">
                  <a:moveTo>
                    <a:pt x="0" y="62"/>
                  </a:moveTo>
                  <a:lnTo>
                    <a:pt x="826" y="0"/>
                  </a:lnTo>
                  <a:lnTo>
                    <a:pt x="826" y="358"/>
                  </a:lnTo>
                  <a:lnTo>
                    <a:pt x="0" y="429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00004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135400" y="3995640"/>
              <a:ext cx="116280" cy="198720"/>
            </a:xfrm>
            <a:custGeom>
              <a:avLst/>
              <a:gdLst/>
              <a:ahLst/>
              <a:rect l="0" t="0" r="r" b="b"/>
              <a:pathLst>
                <a:path w="323" h="552">
                  <a:moveTo>
                    <a:pt x="323" y="0"/>
                  </a:moveTo>
                  <a:lnTo>
                    <a:pt x="323" y="361"/>
                  </a:lnTo>
                  <a:lnTo>
                    <a:pt x="0" y="552"/>
                  </a:lnTo>
                  <a:lnTo>
                    <a:pt x="0" y="188"/>
                  </a:lnTo>
                  <a:lnTo>
                    <a:pt x="323" y="0"/>
                  </a:lnTo>
                  <a:close/>
                </a:path>
              </a:pathLst>
            </a:custGeom>
            <a:solidFill>
              <a:srgbClr val="00004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727520" y="3803760"/>
              <a:ext cx="168480" cy="138600"/>
            </a:xfrm>
            <a:custGeom>
              <a:avLst/>
              <a:gdLst/>
              <a:ahLst/>
              <a:rect l="0" t="0" r="r" b="b"/>
              <a:pathLst>
                <a:path w="468" h="385">
                  <a:moveTo>
                    <a:pt x="468" y="0"/>
                  </a:moveTo>
                  <a:lnTo>
                    <a:pt x="54" y="235"/>
                  </a:lnTo>
                  <a:lnTo>
                    <a:pt x="0" y="371"/>
                  </a:lnTo>
                  <a:lnTo>
                    <a:pt x="374" y="293"/>
                  </a:lnTo>
                  <a:lnTo>
                    <a:pt x="468" y="385"/>
                  </a:lnTo>
                  <a:lnTo>
                    <a:pt x="468" y="0"/>
                  </a:lnTo>
                  <a:close/>
                </a:path>
              </a:pathLst>
            </a:custGeom>
            <a:solidFill>
              <a:srgbClr val="00004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083200" y="3881520"/>
              <a:ext cx="92520" cy="68760"/>
            </a:xfrm>
            <a:custGeom>
              <a:avLst/>
              <a:gdLst/>
              <a:ahLst/>
              <a:rect l="0" t="0" r="r" b="b"/>
              <a:pathLst>
                <a:path w="257" h="191">
                  <a:moveTo>
                    <a:pt x="257" y="0"/>
                  </a:moveTo>
                  <a:lnTo>
                    <a:pt x="0" y="130"/>
                  </a:lnTo>
                  <a:lnTo>
                    <a:pt x="257" y="191"/>
                  </a:lnTo>
                  <a:lnTo>
                    <a:pt x="257" y="0"/>
                  </a:lnTo>
                  <a:close/>
                </a:path>
              </a:pathLst>
            </a:custGeom>
            <a:solidFill>
              <a:srgbClr val="00004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178600" y="4070520"/>
              <a:ext cx="65520" cy="187560"/>
            </a:xfrm>
            <a:custGeom>
              <a:avLst/>
              <a:gdLst/>
              <a:ahLst/>
              <a:rect l="0" t="0" r="r" b="b"/>
              <a:pathLst>
                <a:path w="182" h="521">
                  <a:moveTo>
                    <a:pt x="182" y="0"/>
                  </a:moveTo>
                  <a:lnTo>
                    <a:pt x="0" y="143"/>
                  </a:lnTo>
                  <a:lnTo>
                    <a:pt x="0" y="521"/>
                  </a:lnTo>
                  <a:lnTo>
                    <a:pt x="182" y="366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00004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151600" y="4130640"/>
              <a:ext cx="24120" cy="155880"/>
            </a:xfrm>
            <a:custGeom>
              <a:avLst/>
              <a:gdLst/>
              <a:ahLst/>
              <a:rect l="0" t="0" r="r" b="b"/>
              <a:pathLst>
                <a:path w="67" h="433">
                  <a:moveTo>
                    <a:pt x="67" y="0"/>
                  </a:moveTo>
                  <a:lnTo>
                    <a:pt x="67" y="350"/>
                  </a:lnTo>
                  <a:lnTo>
                    <a:pt x="52" y="433"/>
                  </a:lnTo>
                  <a:lnTo>
                    <a:pt x="0" y="34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4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535720" y="4098960"/>
              <a:ext cx="79560" cy="70200"/>
            </a:xfrm>
            <a:custGeom>
              <a:avLst/>
              <a:gdLst/>
              <a:ahLst/>
              <a:rect l="0" t="0" r="r" b="b"/>
              <a:pathLst>
                <a:path w="221" h="195">
                  <a:moveTo>
                    <a:pt x="221" y="0"/>
                  </a:moveTo>
                  <a:lnTo>
                    <a:pt x="0" y="137"/>
                  </a:lnTo>
                  <a:lnTo>
                    <a:pt x="62" y="195"/>
                  </a:lnTo>
                  <a:lnTo>
                    <a:pt x="221" y="137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00004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584680" y="4228920"/>
              <a:ext cx="84600" cy="98640"/>
            </a:xfrm>
            <a:custGeom>
              <a:avLst/>
              <a:gdLst/>
              <a:ahLst/>
              <a:rect l="0" t="0" r="r" b="b"/>
              <a:pathLst>
                <a:path w="235" h="274">
                  <a:moveTo>
                    <a:pt x="235" y="0"/>
                  </a:moveTo>
                  <a:lnTo>
                    <a:pt x="0" y="184"/>
                  </a:lnTo>
                  <a:lnTo>
                    <a:pt x="0" y="217"/>
                  </a:lnTo>
                  <a:lnTo>
                    <a:pt x="175" y="274"/>
                  </a:lnTo>
                  <a:lnTo>
                    <a:pt x="235" y="274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00004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7520" bIns="47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730520" y="3753000"/>
              <a:ext cx="5394600" cy="1744920"/>
            </a:xfrm>
            <a:custGeom>
              <a:avLst/>
              <a:gdLst/>
              <a:ahLst/>
              <a:rect l="0" t="0" r="r" b="b"/>
              <a:pathLst>
                <a:path w="14985" h="4847">
                  <a:moveTo>
                    <a:pt x="7619" y="0"/>
                  </a:moveTo>
                  <a:lnTo>
                    <a:pt x="433" y="0"/>
                  </a:lnTo>
                  <a:lnTo>
                    <a:pt x="515" y="202"/>
                  </a:lnTo>
                  <a:lnTo>
                    <a:pt x="466" y="260"/>
                  </a:lnTo>
                  <a:lnTo>
                    <a:pt x="8" y="211"/>
                  </a:lnTo>
                  <a:lnTo>
                    <a:pt x="147" y="595"/>
                  </a:lnTo>
                  <a:lnTo>
                    <a:pt x="24" y="1300"/>
                  </a:lnTo>
                  <a:lnTo>
                    <a:pt x="77" y="1494"/>
                  </a:lnTo>
                  <a:lnTo>
                    <a:pt x="0" y="1777"/>
                  </a:lnTo>
                  <a:lnTo>
                    <a:pt x="225" y="1953"/>
                  </a:lnTo>
                  <a:lnTo>
                    <a:pt x="171" y="2090"/>
                  </a:lnTo>
                  <a:lnTo>
                    <a:pt x="527" y="2426"/>
                  </a:lnTo>
                  <a:lnTo>
                    <a:pt x="1096" y="3034"/>
                  </a:lnTo>
                  <a:lnTo>
                    <a:pt x="1305" y="3034"/>
                  </a:lnTo>
                  <a:lnTo>
                    <a:pt x="1943" y="3334"/>
                  </a:lnTo>
                  <a:lnTo>
                    <a:pt x="2659" y="3330"/>
                  </a:lnTo>
                  <a:lnTo>
                    <a:pt x="2659" y="3409"/>
                  </a:lnTo>
                  <a:lnTo>
                    <a:pt x="3531" y="3661"/>
                  </a:lnTo>
                  <a:lnTo>
                    <a:pt x="4247" y="3661"/>
                  </a:lnTo>
                  <a:lnTo>
                    <a:pt x="4247" y="3502"/>
                  </a:lnTo>
                  <a:lnTo>
                    <a:pt x="4537" y="3502"/>
                  </a:lnTo>
                  <a:lnTo>
                    <a:pt x="5057" y="3771"/>
                  </a:lnTo>
                  <a:lnTo>
                    <a:pt x="5298" y="4031"/>
                  </a:lnTo>
                  <a:lnTo>
                    <a:pt x="5548" y="4119"/>
                  </a:lnTo>
                  <a:lnTo>
                    <a:pt x="5716" y="4005"/>
                  </a:lnTo>
                  <a:lnTo>
                    <a:pt x="6055" y="4071"/>
                  </a:lnTo>
                  <a:lnTo>
                    <a:pt x="6465" y="4494"/>
                  </a:lnTo>
                  <a:lnTo>
                    <a:pt x="7095" y="4631"/>
                  </a:lnTo>
                  <a:lnTo>
                    <a:pt x="7033" y="4406"/>
                  </a:lnTo>
                  <a:lnTo>
                    <a:pt x="7152" y="4221"/>
                  </a:lnTo>
                  <a:lnTo>
                    <a:pt x="7640" y="3974"/>
                  </a:lnTo>
                  <a:lnTo>
                    <a:pt x="7980" y="3925"/>
                  </a:lnTo>
                  <a:lnTo>
                    <a:pt x="8663" y="4071"/>
                  </a:lnTo>
                  <a:lnTo>
                    <a:pt x="9203" y="4084"/>
                  </a:lnTo>
                  <a:lnTo>
                    <a:pt x="9101" y="3916"/>
                  </a:lnTo>
                  <a:lnTo>
                    <a:pt x="9289" y="3841"/>
                  </a:lnTo>
                  <a:lnTo>
                    <a:pt x="9543" y="3828"/>
                  </a:lnTo>
                  <a:lnTo>
                    <a:pt x="9874" y="3828"/>
                  </a:lnTo>
                  <a:lnTo>
                    <a:pt x="10165" y="3982"/>
                  </a:lnTo>
                  <a:lnTo>
                    <a:pt x="10521" y="3938"/>
                  </a:lnTo>
                  <a:lnTo>
                    <a:pt x="10791" y="4119"/>
                  </a:lnTo>
                  <a:lnTo>
                    <a:pt x="10733" y="4291"/>
                  </a:lnTo>
                  <a:lnTo>
                    <a:pt x="10967" y="4498"/>
                  </a:lnTo>
                  <a:lnTo>
                    <a:pt x="11061" y="4498"/>
                  </a:lnTo>
                  <a:lnTo>
                    <a:pt x="11130" y="4847"/>
                  </a:lnTo>
                  <a:lnTo>
                    <a:pt x="11376" y="4829"/>
                  </a:lnTo>
                  <a:lnTo>
                    <a:pt x="11674" y="4662"/>
                  </a:lnTo>
                  <a:lnTo>
                    <a:pt x="11638" y="4490"/>
                  </a:lnTo>
                  <a:lnTo>
                    <a:pt x="11527" y="4265"/>
                  </a:lnTo>
                  <a:lnTo>
                    <a:pt x="11233" y="3952"/>
                  </a:lnTo>
                  <a:lnTo>
                    <a:pt x="11192" y="3806"/>
                  </a:lnTo>
                  <a:lnTo>
                    <a:pt x="11343" y="3550"/>
                  </a:lnTo>
                  <a:lnTo>
                    <a:pt x="11376" y="3436"/>
                  </a:lnTo>
                  <a:lnTo>
                    <a:pt x="11638" y="3383"/>
                  </a:lnTo>
                  <a:lnTo>
                    <a:pt x="11961" y="3171"/>
                  </a:lnTo>
                  <a:lnTo>
                    <a:pt x="12112" y="3030"/>
                  </a:lnTo>
                  <a:lnTo>
                    <a:pt x="12476" y="2959"/>
                  </a:lnTo>
                  <a:lnTo>
                    <a:pt x="12738" y="2787"/>
                  </a:lnTo>
                  <a:lnTo>
                    <a:pt x="12538" y="2479"/>
                  </a:lnTo>
                  <a:lnTo>
                    <a:pt x="12685" y="2381"/>
                  </a:lnTo>
                  <a:lnTo>
                    <a:pt x="12824" y="2218"/>
                  </a:lnTo>
                  <a:lnTo>
                    <a:pt x="12882" y="2160"/>
                  </a:lnTo>
                  <a:lnTo>
                    <a:pt x="12742" y="2068"/>
                  </a:lnTo>
                  <a:lnTo>
                    <a:pt x="12751" y="1984"/>
                  </a:lnTo>
                  <a:lnTo>
                    <a:pt x="12910" y="2116"/>
                  </a:lnTo>
                  <a:lnTo>
                    <a:pt x="13082" y="1971"/>
                  </a:lnTo>
                  <a:lnTo>
                    <a:pt x="13127" y="1830"/>
                  </a:lnTo>
                  <a:lnTo>
                    <a:pt x="13057" y="1790"/>
                  </a:lnTo>
                  <a:lnTo>
                    <a:pt x="13074" y="1772"/>
                  </a:lnTo>
                  <a:lnTo>
                    <a:pt x="13127" y="1724"/>
                  </a:lnTo>
                  <a:lnTo>
                    <a:pt x="13229" y="1658"/>
                  </a:lnTo>
                  <a:lnTo>
                    <a:pt x="13712" y="1618"/>
                  </a:lnTo>
                  <a:lnTo>
                    <a:pt x="13831" y="1609"/>
                  </a:lnTo>
                  <a:lnTo>
                    <a:pt x="13900" y="1508"/>
                  </a:lnTo>
                  <a:lnTo>
                    <a:pt x="14031" y="1583"/>
                  </a:lnTo>
                  <a:lnTo>
                    <a:pt x="14252" y="1534"/>
                  </a:lnTo>
                  <a:lnTo>
                    <a:pt x="14072" y="1521"/>
                  </a:lnTo>
                  <a:lnTo>
                    <a:pt x="13962" y="1380"/>
                  </a:lnTo>
                  <a:lnTo>
                    <a:pt x="14048" y="1336"/>
                  </a:lnTo>
                  <a:lnTo>
                    <a:pt x="13990" y="1256"/>
                  </a:lnTo>
                  <a:lnTo>
                    <a:pt x="14023" y="1234"/>
                  </a:lnTo>
                  <a:lnTo>
                    <a:pt x="14252" y="1155"/>
                  </a:lnTo>
                  <a:lnTo>
                    <a:pt x="14281" y="1089"/>
                  </a:lnTo>
                  <a:lnTo>
                    <a:pt x="14985" y="776"/>
                  </a:lnTo>
                  <a:lnTo>
                    <a:pt x="14944" y="657"/>
                  </a:lnTo>
                  <a:lnTo>
                    <a:pt x="14837" y="621"/>
                  </a:lnTo>
                  <a:lnTo>
                    <a:pt x="14743" y="361"/>
                  </a:lnTo>
                  <a:lnTo>
                    <a:pt x="14539" y="401"/>
                  </a:lnTo>
                  <a:lnTo>
                    <a:pt x="14449" y="361"/>
                  </a:lnTo>
                  <a:lnTo>
                    <a:pt x="14244" y="445"/>
                  </a:lnTo>
                  <a:lnTo>
                    <a:pt x="14031" y="696"/>
                  </a:lnTo>
                  <a:lnTo>
                    <a:pt x="13847" y="851"/>
                  </a:lnTo>
                  <a:lnTo>
                    <a:pt x="13287" y="851"/>
                  </a:lnTo>
                  <a:lnTo>
                    <a:pt x="12922" y="855"/>
                  </a:lnTo>
                  <a:lnTo>
                    <a:pt x="12550" y="1067"/>
                  </a:lnTo>
                  <a:lnTo>
                    <a:pt x="12624" y="1150"/>
                  </a:lnTo>
                  <a:lnTo>
                    <a:pt x="12395" y="1247"/>
                  </a:lnTo>
                  <a:lnTo>
                    <a:pt x="12137" y="1230"/>
                  </a:lnTo>
                  <a:lnTo>
                    <a:pt x="11854" y="1221"/>
                  </a:lnTo>
                  <a:lnTo>
                    <a:pt x="11789" y="1331"/>
                  </a:lnTo>
                  <a:lnTo>
                    <a:pt x="11666" y="1411"/>
                  </a:lnTo>
                  <a:lnTo>
                    <a:pt x="11474" y="1499"/>
                  </a:lnTo>
                  <a:lnTo>
                    <a:pt x="11134" y="1596"/>
                  </a:lnTo>
                  <a:lnTo>
                    <a:pt x="10881" y="1596"/>
                  </a:lnTo>
                  <a:lnTo>
                    <a:pt x="10721" y="1547"/>
                  </a:lnTo>
                  <a:lnTo>
                    <a:pt x="10721" y="1494"/>
                  </a:lnTo>
                  <a:lnTo>
                    <a:pt x="10950" y="1314"/>
                  </a:lnTo>
                  <a:lnTo>
                    <a:pt x="10917" y="1089"/>
                  </a:lnTo>
                  <a:lnTo>
                    <a:pt x="10840" y="1080"/>
                  </a:lnTo>
                  <a:lnTo>
                    <a:pt x="10627" y="1159"/>
                  </a:lnTo>
                  <a:lnTo>
                    <a:pt x="10574" y="1098"/>
                  </a:lnTo>
                  <a:lnTo>
                    <a:pt x="10787" y="970"/>
                  </a:lnTo>
                  <a:lnTo>
                    <a:pt x="10709" y="798"/>
                  </a:lnTo>
                  <a:lnTo>
                    <a:pt x="10349" y="732"/>
                  </a:lnTo>
                  <a:lnTo>
                    <a:pt x="9972" y="952"/>
                  </a:lnTo>
                  <a:lnTo>
                    <a:pt x="9850" y="1150"/>
                  </a:lnTo>
                  <a:lnTo>
                    <a:pt x="9931" y="1309"/>
                  </a:lnTo>
                  <a:lnTo>
                    <a:pt x="9796" y="1543"/>
                  </a:lnTo>
                  <a:lnTo>
                    <a:pt x="9669" y="1574"/>
                  </a:lnTo>
                  <a:lnTo>
                    <a:pt x="9592" y="1547"/>
                  </a:lnTo>
                  <a:lnTo>
                    <a:pt x="9506" y="1384"/>
                  </a:lnTo>
                  <a:lnTo>
                    <a:pt x="9575" y="1045"/>
                  </a:lnTo>
                  <a:lnTo>
                    <a:pt x="9764" y="886"/>
                  </a:lnTo>
                  <a:lnTo>
                    <a:pt x="9694" y="846"/>
                  </a:lnTo>
                  <a:lnTo>
                    <a:pt x="9465" y="855"/>
                  </a:lnTo>
                  <a:lnTo>
                    <a:pt x="9772" y="674"/>
                  </a:lnTo>
                  <a:lnTo>
                    <a:pt x="10566" y="604"/>
                  </a:lnTo>
                  <a:lnTo>
                    <a:pt x="10230" y="471"/>
                  </a:lnTo>
                  <a:lnTo>
                    <a:pt x="9755" y="595"/>
                  </a:lnTo>
                  <a:lnTo>
                    <a:pt x="9330" y="489"/>
                  </a:lnTo>
                  <a:lnTo>
                    <a:pt x="9575" y="361"/>
                  </a:lnTo>
                  <a:lnTo>
                    <a:pt x="9363" y="339"/>
                  </a:lnTo>
                  <a:lnTo>
                    <a:pt x="8790" y="520"/>
                  </a:lnTo>
                  <a:lnTo>
                    <a:pt x="8692" y="432"/>
                  </a:lnTo>
                  <a:lnTo>
                    <a:pt x="8331" y="507"/>
                  </a:lnTo>
                  <a:lnTo>
                    <a:pt x="8405" y="370"/>
                  </a:lnTo>
                  <a:lnTo>
                    <a:pt x="8802" y="136"/>
                  </a:lnTo>
                  <a:lnTo>
                    <a:pt x="7619" y="0"/>
                  </a:lnTo>
                  <a:close/>
                </a:path>
              </a:pathLst>
            </a:custGeom>
            <a:solidFill>
              <a:srgbClr val="2b2b72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7" name=""/>
          <p:cNvSpPr txBox="1"/>
          <p:nvPr/>
        </p:nvSpPr>
        <p:spPr>
          <a:xfrm>
            <a:off x="1542960" y="3511440"/>
            <a:ext cx="7277040" cy="243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60000"/>
              </a:lnSpc>
              <a:tabLst>
                <a:tab algn="ctr" pos="2171520"/>
                <a:tab algn="ctr" pos="3085920"/>
                <a:tab algn="ctr" pos="394344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Monotype Sorts"/>
                <a:ea typeface="Monotype Sorts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Monotype Sorts"/>
                <a:ea typeface="Monotype Sorts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Monotype Sorts"/>
                <a:ea typeface="Monotype Sorts"/>
              </a:rPr>
              <a:t>	</a:t>
            </a:r>
            <a:r>
              <a:rPr b="1" lang="en-US" sz="4400" spc="-1" strike="noStrike">
                <a:solidFill>
                  <a:srgbClr val="fc0128"/>
                </a:solidFill>
                <a:latin typeface="Monotype Sorts"/>
                <a:ea typeface="Monotype Sorts"/>
              </a:rPr>
              <a:t>✈</a:t>
            </a:r>
            <a:r>
              <a:rPr b="1" lang="en-US" sz="4400" spc="-1" strike="noStrike">
                <a:solidFill>
                  <a:srgbClr val="fc0128"/>
                </a:solidFill>
                <a:latin typeface="Monotype Sorts"/>
                <a:ea typeface="Monotype Sorts"/>
              </a:rPr>
              <a:t>	</a:t>
            </a:r>
            <a:r>
              <a:rPr b="1" lang="en-US" sz="4400" spc="-1" strike="noStrike">
                <a:solidFill>
                  <a:srgbClr val="fc0128"/>
                </a:solidFill>
                <a:latin typeface="Monotype Sorts"/>
                <a:ea typeface="Monotype Sorts"/>
              </a:rPr>
              <a:t>✈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60000"/>
              </a:lnSpc>
              <a:tabLst>
                <a:tab algn="ctr" pos="2171520"/>
                <a:tab algn="ctr" pos="3085920"/>
                <a:tab algn="ctr" pos="3943440"/>
              </a:tabLst>
            </a:pPr>
            <a:r>
              <a:rPr b="1" lang="en-US" sz="800" spc="-1" strike="noStrike">
                <a:solidFill>
                  <a:srgbClr val="fc0128"/>
                </a:solidFill>
                <a:latin typeface="Monotype Sorts"/>
                <a:ea typeface="Monotype Sorts"/>
              </a:rPr>
              <a:t>	</a:t>
            </a:r>
            <a:r>
              <a:rPr b="1" lang="en-US" sz="4400" spc="-1" strike="noStrike">
                <a:solidFill>
                  <a:srgbClr val="fc0128"/>
                </a:solidFill>
                <a:latin typeface="Monotype Sorts"/>
                <a:ea typeface="Monotype Sorts"/>
              </a:rPr>
              <a:t>	</a:t>
            </a:r>
            <a:r>
              <a:rPr b="1" lang="en-US" sz="4400" spc="-1" strike="noStrike">
                <a:solidFill>
                  <a:srgbClr val="c0c0c0"/>
                </a:solidFill>
                <a:latin typeface="Monotype Sorts"/>
                <a:ea typeface="Monotype Sorts"/>
              </a:rPr>
              <a:t>✈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"/>
          <p:cNvGrpSpPr/>
          <p:nvPr/>
        </p:nvGrpSpPr>
        <p:grpSpPr>
          <a:xfrm>
            <a:off x="0" y="19080"/>
            <a:ext cx="9133560" cy="6390000"/>
            <a:chOff x="0" y="19080"/>
            <a:chExt cx="9133560" cy="6390000"/>
          </a:xfrm>
        </p:grpSpPr>
        <p:sp>
          <p:nvSpPr>
            <p:cNvPr id="359" name=""/>
            <p:cNvSpPr/>
            <p:nvPr/>
          </p:nvSpPr>
          <p:spPr>
            <a:xfrm>
              <a:off x="0" y="19080"/>
              <a:ext cx="309960" cy="1608480"/>
            </a:xfrm>
            <a:custGeom>
              <a:avLst/>
              <a:gdLst/>
              <a:ahLst/>
              <a:rect l="0" t="0" r="r" b="b"/>
              <a:pathLst>
                <a:path w="861" h="4468">
                  <a:moveTo>
                    <a:pt x="0" y="0"/>
                  </a:moveTo>
                  <a:lnTo>
                    <a:pt x="861" y="0"/>
                  </a:lnTo>
                  <a:lnTo>
                    <a:pt x="0" y="44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480" y="19080"/>
              <a:ext cx="814680" cy="4296240"/>
            </a:xfrm>
            <a:custGeom>
              <a:avLst/>
              <a:gdLst/>
              <a:ahLst/>
              <a:rect l="0" t="0" r="r" b="b"/>
              <a:pathLst>
                <a:path w="2263" h="11934">
                  <a:moveTo>
                    <a:pt x="0" y="5977"/>
                  </a:moveTo>
                  <a:lnTo>
                    <a:pt x="0" y="11934"/>
                  </a:lnTo>
                  <a:lnTo>
                    <a:pt x="2263" y="0"/>
                  </a:lnTo>
                  <a:lnTo>
                    <a:pt x="1143" y="0"/>
                  </a:lnTo>
                  <a:lnTo>
                    <a:pt x="0" y="5977"/>
                  </a:lnTo>
                  <a:close/>
                </a:path>
              </a:pathLst>
            </a:custGeom>
            <a:solidFill>
              <a:srgbClr val="006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0" y="19080"/>
              <a:ext cx="1327680" cy="6390000"/>
            </a:xfrm>
            <a:custGeom>
              <a:avLst/>
              <a:gdLst/>
              <a:ahLst/>
              <a:rect l="0" t="0" r="r" b="b"/>
              <a:pathLst>
                <a:path w="3688" h="17750">
                  <a:moveTo>
                    <a:pt x="2563" y="0"/>
                  </a:moveTo>
                  <a:lnTo>
                    <a:pt x="3688" y="0"/>
                  </a:lnTo>
                  <a:lnTo>
                    <a:pt x="317" y="17750"/>
                  </a:lnTo>
                  <a:lnTo>
                    <a:pt x="0" y="17750"/>
                  </a:lnTo>
                  <a:lnTo>
                    <a:pt x="0" y="13423"/>
                  </a:lnTo>
                  <a:lnTo>
                    <a:pt x="2563" y="0"/>
                  </a:lnTo>
                  <a:close/>
                </a:path>
              </a:pathLst>
            </a:custGeom>
            <a:solidFill>
              <a:srgbClr val="006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16000" y="19080"/>
              <a:ext cx="1613160" cy="6390000"/>
            </a:xfrm>
            <a:custGeom>
              <a:avLst/>
              <a:gdLst/>
              <a:ahLst/>
              <a:rect l="0" t="0" r="r" b="b"/>
              <a:pathLst>
                <a:path w="4481" h="17750">
                  <a:moveTo>
                    <a:pt x="3364" y="0"/>
                  </a:moveTo>
                  <a:lnTo>
                    <a:pt x="4481" y="0"/>
                  </a:lnTo>
                  <a:lnTo>
                    <a:pt x="1121" y="17750"/>
                  </a:lnTo>
                  <a:lnTo>
                    <a:pt x="0" y="17750"/>
                  </a:lnTo>
                  <a:lnTo>
                    <a:pt x="3364" y="0"/>
                  </a:lnTo>
                  <a:close/>
                </a:path>
              </a:pathLst>
            </a:custGeom>
            <a:solidFill>
              <a:srgbClr val="006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23960" y="19080"/>
              <a:ext cx="1613160" cy="6390000"/>
            </a:xfrm>
            <a:custGeom>
              <a:avLst/>
              <a:gdLst/>
              <a:ahLst/>
              <a:rect l="0" t="0" r="r" b="b"/>
              <a:pathLst>
                <a:path w="4481" h="17750">
                  <a:moveTo>
                    <a:pt x="3364" y="0"/>
                  </a:moveTo>
                  <a:lnTo>
                    <a:pt x="4481" y="0"/>
                  </a:lnTo>
                  <a:lnTo>
                    <a:pt x="1121" y="17750"/>
                  </a:lnTo>
                  <a:lnTo>
                    <a:pt x="0" y="17750"/>
                  </a:lnTo>
                  <a:lnTo>
                    <a:pt x="3364" y="0"/>
                  </a:lnTo>
                  <a:close/>
                </a:path>
              </a:pathLst>
            </a:custGeom>
            <a:solidFill>
              <a:srgbClr val="006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231920" y="19080"/>
              <a:ext cx="1613160" cy="6390000"/>
            </a:xfrm>
            <a:custGeom>
              <a:avLst/>
              <a:gdLst/>
              <a:ahLst/>
              <a:rect l="0" t="0" r="r" b="b"/>
              <a:pathLst>
                <a:path w="4481" h="17750">
                  <a:moveTo>
                    <a:pt x="3364" y="0"/>
                  </a:moveTo>
                  <a:lnTo>
                    <a:pt x="4481" y="0"/>
                  </a:lnTo>
                  <a:lnTo>
                    <a:pt x="1121" y="17750"/>
                  </a:lnTo>
                  <a:lnTo>
                    <a:pt x="0" y="17750"/>
                  </a:lnTo>
                  <a:lnTo>
                    <a:pt x="3364" y="0"/>
                  </a:lnTo>
                  <a:close/>
                </a:path>
              </a:pathLst>
            </a:custGeom>
            <a:solidFill>
              <a:srgbClr val="006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739880" y="19080"/>
              <a:ext cx="1613160" cy="6390000"/>
            </a:xfrm>
            <a:custGeom>
              <a:avLst/>
              <a:gdLst/>
              <a:ahLst/>
              <a:rect l="0" t="0" r="r" b="b"/>
              <a:pathLst>
                <a:path w="4481" h="17750">
                  <a:moveTo>
                    <a:pt x="3364" y="0"/>
                  </a:moveTo>
                  <a:lnTo>
                    <a:pt x="4481" y="0"/>
                  </a:lnTo>
                  <a:lnTo>
                    <a:pt x="1121" y="17750"/>
                  </a:lnTo>
                  <a:lnTo>
                    <a:pt x="0" y="17750"/>
                  </a:lnTo>
                  <a:lnTo>
                    <a:pt x="3364" y="0"/>
                  </a:lnTo>
                  <a:close/>
                </a:path>
              </a:pathLst>
            </a:custGeom>
            <a:solidFill>
              <a:srgbClr val="006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247840" y="19080"/>
              <a:ext cx="1613160" cy="6390000"/>
            </a:xfrm>
            <a:custGeom>
              <a:avLst/>
              <a:gdLst/>
              <a:ahLst/>
              <a:rect l="0" t="0" r="r" b="b"/>
              <a:pathLst>
                <a:path w="4481" h="17750">
                  <a:moveTo>
                    <a:pt x="3364" y="0"/>
                  </a:moveTo>
                  <a:lnTo>
                    <a:pt x="4481" y="0"/>
                  </a:lnTo>
                  <a:lnTo>
                    <a:pt x="1121" y="17750"/>
                  </a:lnTo>
                  <a:lnTo>
                    <a:pt x="0" y="17750"/>
                  </a:lnTo>
                  <a:lnTo>
                    <a:pt x="3364" y="0"/>
                  </a:lnTo>
                  <a:close/>
                </a:path>
              </a:pathLst>
            </a:custGeom>
            <a:solidFill>
              <a:srgbClr val="006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755800" y="19080"/>
              <a:ext cx="1613160" cy="6390000"/>
            </a:xfrm>
            <a:custGeom>
              <a:avLst/>
              <a:gdLst/>
              <a:ahLst/>
              <a:rect l="0" t="0" r="r" b="b"/>
              <a:pathLst>
                <a:path w="4481" h="17750">
                  <a:moveTo>
                    <a:pt x="3364" y="0"/>
                  </a:moveTo>
                  <a:lnTo>
                    <a:pt x="4481" y="0"/>
                  </a:lnTo>
                  <a:lnTo>
                    <a:pt x="1121" y="17750"/>
                  </a:lnTo>
                  <a:lnTo>
                    <a:pt x="0" y="17750"/>
                  </a:lnTo>
                  <a:lnTo>
                    <a:pt x="3364" y="0"/>
                  </a:lnTo>
                  <a:close/>
                </a:path>
              </a:pathLst>
            </a:custGeom>
            <a:solidFill>
              <a:srgbClr val="006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263760" y="19080"/>
              <a:ext cx="1613160" cy="6390000"/>
            </a:xfrm>
            <a:custGeom>
              <a:avLst/>
              <a:gdLst/>
              <a:ahLst/>
              <a:rect l="0" t="0" r="r" b="b"/>
              <a:pathLst>
                <a:path w="4481" h="17750">
                  <a:moveTo>
                    <a:pt x="3364" y="0"/>
                  </a:moveTo>
                  <a:lnTo>
                    <a:pt x="4481" y="0"/>
                  </a:lnTo>
                  <a:lnTo>
                    <a:pt x="1121" y="17750"/>
                  </a:lnTo>
                  <a:lnTo>
                    <a:pt x="0" y="17750"/>
                  </a:lnTo>
                  <a:lnTo>
                    <a:pt x="3364" y="0"/>
                  </a:lnTo>
                  <a:close/>
                </a:path>
              </a:pathLst>
            </a:custGeom>
            <a:solidFill>
              <a:srgbClr val="006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771720" y="19080"/>
              <a:ext cx="1613160" cy="6390000"/>
            </a:xfrm>
            <a:custGeom>
              <a:avLst/>
              <a:gdLst/>
              <a:ahLst/>
              <a:rect l="0" t="0" r="r" b="b"/>
              <a:pathLst>
                <a:path w="4481" h="17750">
                  <a:moveTo>
                    <a:pt x="3364" y="0"/>
                  </a:moveTo>
                  <a:lnTo>
                    <a:pt x="4481" y="0"/>
                  </a:lnTo>
                  <a:lnTo>
                    <a:pt x="1121" y="17750"/>
                  </a:lnTo>
                  <a:lnTo>
                    <a:pt x="0" y="17750"/>
                  </a:lnTo>
                  <a:lnTo>
                    <a:pt x="3364" y="0"/>
                  </a:lnTo>
                  <a:close/>
                </a:path>
              </a:pathLst>
            </a:custGeom>
            <a:solidFill>
              <a:srgbClr val="006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280040" y="19080"/>
              <a:ext cx="1613160" cy="6390000"/>
            </a:xfrm>
            <a:custGeom>
              <a:avLst/>
              <a:gdLst/>
              <a:ahLst/>
              <a:rect l="0" t="0" r="r" b="b"/>
              <a:pathLst>
                <a:path w="4481" h="17750">
                  <a:moveTo>
                    <a:pt x="3364" y="0"/>
                  </a:moveTo>
                  <a:lnTo>
                    <a:pt x="4481" y="0"/>
                  </a:lnTo>
                  <a:lnTo>
                    <a:pt x="1121" y="17750"/>
                  </a:lnTo>
                  <a:lnTo>
                    <a:pt x="0" y="17750"/>
                  </a:lnTo>
                  <a:lnTo>
                    <a:pt x="3364" y="0"/>
                  </a:lnTo>
                  <a:close/>
                </a:path>
              </a:pathLst>
            </a:custGeom>
            <a:solidFill>
              <a:srgbClr val="006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788000" y="19080"/>
              <a:ext cx="1613160" cy="6390000"/>
            </a:xfrm>
            <a:custGeom>
              <a:avLst/>
              <a:gdLst/>
              <a:ahLst/>
              <a:rect l="0" t="0" r="r" b="b"/>
              <a:pathLst>
                <a:path w="4481" h="17750">
                  <a:moveTo>
                    <a:pt x="3364" y="0"/>
                  </a:moveTo>
                  <a:lnTo>
                    <a:pt x="4481" y="0"/>
                  </a:lnTo>
                  <a:lnTo>
                    <a:pt x="1121" y="17750"/>
                  </a:lnTo>
                  <a:lnTo>
                    <a:pt x="0" y="17750"/>
                  </a:lnTo>
                  <a:lnTo>
                    <a:pt x="3364" y="0"/>
                  </a:lnTo>
                  <a:close/>
                </a:path>
              </a:pathLst>
            </a:custGeom>
            <a:solidFill>
              <a:srgbClr val="006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295960" y="19080"/>
              <a:ext cx="1613160" cy="6390000"/>
            </a:xfrm>
            <a:custGeom>
              <a:avLst/>
              <a:gdLst/>
              <a:ahLst/>
              <a:rect l="0" t="0" r="r" b="b"/>
              <a:pathLst>
                <a:path w="4481" h="17750">
                  <a:moveTo>
                    <a:pt x="3364" y="0"/>
                  </a:moveTo>
                  <a:lnTo>
                    <a:pt x="4481" y="0"/>
                  </a:lnTo>
                  <a:lnTo>
                    <a:pt x="1121" y="17750"/>
                  </a:lnTo>
                  <a:lnTo>
                    <a:pt x="0" y="17750"/>
                  </a:lnTo>
                  <a:lnTo>
                    <a:pt x="3364" y="0"/>
                  </a:lnTo>
                  <a:close/>
                </a:path>
              </a:pathLst>
            </a:custGeom>
            <a:solidFill>
              <a:srgbClr val="006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803920" y="19080"/>
              <a:ext cx="1613160" cy="6390000"/>
            </a:xfrm>
            <a:custGeom>
              <a:avLst/>
              <a:gdLst/>
              <a:ahLst/>
              <a:rect l="0" t="0" r="r" b="b"/>
              <a:pathLst>
                <a:path w="4481" h="17750">
                  <a:moveTo>
                    <a:pt x="3364" y="0"/>
                  </a:moveTo>
                  <a:lnTo>
                    <a:pt x="4481" y="0"/>
                  </a:lnTo>
                  <a:lnTo>
                    <a:pt x="1121" y="17750"/>
                  </a:lnTo>
                  <a:lnTo>
                    <a:pt x="0" y="17750"/>
                  </a:lnTo>
                  <a:lnTo>
                    <a:pt x="3364" y="0"/>
                  </a:lnTo>
                  <a:close/>
                </a:path>
              </a:pathLst>
            </a:custGeom>
            <a:solidFill>
              <a:srgbClr val="006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311880" y="19080"/>
              <a:ext cx="1613160" cy="6390000"/>
            </a:xfrm>
            <a:custGeom>
              <a:avLst/>
              <a:gdLst/>
              <a:ahLst/>
              <a:rect l="0" t="0" r="r" b="b"/>
              <a:pathLst>
                <a:path w="4481" h="17750">
                  <a:moveTo>
                    <a:pt x="3364" y="0"/>
                  </a:moveTo>
                  <a:lnTo>
                    <a:pt x="4481" y="0"/>
                  </a:lnTo>
                  <a:lnTo>
                    <a:pt x="1121" y="17750"/>
                  </a:lnTo>
                  <a:lnTo>
                    <a:pt x="0" y="17750"/>
                  </a:lnTo>
                  <a:lnTo>
                    <a:pt x="3364" y="0"/>
                  </a:lnTo>
                  <a:close/>
                </a:path>
              </a:pathLst>
            </a:custGeom>
            <a:solidFill>
              <a:srgbClr val="006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819840" y="19080"/>
              <a:ext cx="1613160" cy="6390000"/>
            </a:xfrm>
            <a:custGeom>
              <a:avLst/>
              <a:gdLst/>
              <a:ahLst/>
              <a:rect l="0" t="0" r="r" b="b"/>
              <a:pathLst>
                <a:path w="4481" h="17750">
                  <a:moveTo>
                    <a:pt x="3364" y="0"/>
                  </a:moveTo>
                  <a:lnTo>
                    <a:pt x="4481" y="0"/>
                  </a:lnTo>
                  <a:lnTo>
                    <a:pt x="1121" y="17750"/>
                  </a:lnTo>
                  <a:lnTo>
                    <a:pt x="0" y="17750"/>
                  </a:lnTo>
                  <a:lnTo>
                    <a:pt x="3364" y="0"/>
                  </a:lnTo>
                  <a:close/>
                </a:path>
              </a:pathLst>
            </a:custGeom>
            <a:solidFill>
              <a:srgbClr val="006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327800" y="19080"/>
              <a:ext cx="1613160" cy="6390000"/>
            </a:xfrm>
            <a:custGeom>
              <a:avLst/>
              <a:gdLst/>
              <a:ahLst/>
              <a:rect l="0" t="0" r="r" b="b"/>
              <a:pathLst>
                <a:path w="4481" h="17750">
                  <a:moveTo>
                    <a:pt x="3364" y="0"/>
                  </a:moveTo>
                  <a:lnTo>
                    <a:pt x="4481" y="0"/>
                  </a:lnTo>
                  <a:lnTo>
                    <a:pt x="1121" y="17750"/>
                  </a:lnTo>
                  <a:lnTo>
                    <a:pt x="0" y="17750"/>
                  </a:lnTo>
                  <a:lnTo>
                    <a:pt x="3364" y="0"/>
                  </a:lnTo>
                  <a:close/>
                </a:path>
              </a:pathLst>
            </a:custGeom>
            <a:solidFill>
              <a:srgbClr val="006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834320" y="19080"/>
              <a:ext cx="1298880" cy="6390000"/>
            </a:xfrm>
            <a:custGeom>
              <a:avLst/>
              <a:gdLst/>
              <a:ahLst/>
              <a:rect l="0" t="0" r="r" b="b"/>
              <a:pathLst>
                <a:path w="3608" h="17750">
                  <a:moveTo>
                    <a:pt x="1109" y="17750"/>
                  </a:moveTo>
                  <a:lnTo>
                    <a:pt x="0" y="17750"/>
                  </a:lnTo>
                  <a:lnTo>
                    <a:pt x="3365" y="0"/>
                  </a:lnTo>
                  <a:lnTo>
                    <a:pt x="3608" y="0"/>
                  </a:lnTo>
                  <a:lnTo>
                    <a:pt x="3608" y="4552"/>
                  </a:lnTo>
                  <a:lnTo>
                    <a:pt x="1109" y="17750"/>
                  </a:lnTo>
                  <a:close/>
                </a:path>
              </a:pathLst>
            </a:custGeom>
            <a:solidFill>
              <a:srgbClr val="006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325000" y="2192400"/>
              <a:ext cx="808560" cy="4216680"/>
            </a:xfrm>
            <a:custGeom>
              <a:avLst/>
              <a:gdLst/>
              <a:ahLst/>
              <a:rect l="0" t="0" r="r" b="b"/>
              <a:pathLst>
                <a:path w="2246" h="11713">
                  <a:moveTo>
                    <a:pt x="2246" y="5784"/>
                  </a:moveTo>
                  <a:lnTo>
                    <a:pt x="2246" y="0"/>
                  </a:lnTo>
                  <a:lnTo>
                    <a:pt x="0" y="11713"/>
                  </a:lnTo>
                  <a:lnTo>
                    <a:pt x="1123" y="11713"/>
                  </a:lnTo>
                  <a:lnTo>
                    <a:pt x="2246" y="5784"/>
                  </a:lnTo>
                  <a:close/>
                </a:path>
              </a:pathLst>
            </a:custGeom>
            <a:solidFill>
              <a:srgbClr val="006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831160" y="4792680"/>
              <a:ext cx="302040" cy="1616400"/>
            </a:xfrm>
            <a:custGeom>
              <a:avLst/>
              <a:gdLst/>
              <a:ahLst/>
              <a:rect l="0" t="0" r="r" b="b"/>
              <a:pathLst>
                <a:path w="839" h="4490">
                  <a:moveTo>
                    <a:pt x="0" y="4490"/>
                  </a:moveTo>
                  <a:lnTo>
                    <a:pt x="839" y="0"/>
                  </a:lnTo>
                  <a:lnTo>
                    <a:pt x="839" y="4490"/>
                  </a:lnTo>
                  <a:lnTo>
                    <a:pt x="0" y="4490"/>
                  </a:lnTo>
                  <a:close/>
                </a:path>
              </a:pathLst>
            </a:custGeom>
            <a:solidFill>
              <a:srgbClr val="006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1492200" y="0"/>
            <a:ext cx="6310800" cy="6339240"/>
            <a:chOff x="1492200" y="0"/>
            <a:chExt cx="6310800" cy="6339240"/>
          </a:xfrm>
        </p:grpSpPr>
        <p:grpSp>
          <p:nvGrpSpPr>
            <p:cNvPr id="381" name=""/>
            <p:cNvGrpSpPr/>
            <p:nvPr/>
          </p:nvGrpSpPr>
          <p:grpSpPr>
            <a:xfrm>
              <a:off x="1531800" y="63360"/>
              <a:ext cx="6271200" cy="6275880"/>
              <a:chOff x="1531800" y="63360"/>
              <a:chExt cx="6271200" cy="6275880"/>
            </a:xfrm>
          </p:grpSpPr>
          <p:sp>
            <p:nvSpPr>
              <p:cNvPr id="382" name=""/>
              <p:cNvSpPr/>
              <p:nvPr/>
            </p:nvSpPr>
            <p:spPr>
              <a:xfrm>
                <a:off x="3198960" y="1384200"/>
                <a:ext cx="1397520" cy="1505160"/>
              </a:xfrm>
              <a:custGeom>
                <a:avLst/>
                <a:gdLst/>
                <a:ahLst/>
                <a:rect l="0" t="0" r="r" b="b"/>
                <a:pathLst>
                  <a:path w="3882" h="4181">
                    <a:moveTo>
                      <a:pt x="3371" y="185"/>
                    </a:moveTo>
                    <a:lnTo>
                      <a:pt x="971" y="956"/>
                    </a:lnTo>
                    <a:lnTo>
                      <a:pt x="529" y="1693"/>
                    </a:lnTo>
                    <a:lnTo>
                      <a:pt x="110" y="1944"/>
                    </a:lnTo>
                    <a:lnTo>
                      <a:pt x="194" y="2563"/>
                    </a:lnTo>
                    <a:lnTo>
                      <a:pt x="0" y="2929"/>
                    </a:lnTo>
                    <a:lnTo>
                      <a:pt x="127" y="3228"/>
                    </a:lnTo>
                    <a:lnTo>
                      <a:pt x="308" y="4181"/>
                    </a:lnTo>
                    <a:lnTo>
                      <a:pt x="692" y="4181"/>
                    </a:lnTo>
                    <a:lnTo>
                      <a:pt x="639" y="2505"/>
                    </a:lnTo>
                    <a:lnTo>
                      <a:pt x="939" y="2307"/>
                    </a:lnTo>
                    <a:lnTo>
                      <a:pt x="3018" y="2320"/>
                    </a:lnTo>
                    <a:lnTo>
                      <a:pt x="3543" y="1314"/>
                    </a:lnTo>
                    <a:lnTo>
                      <a:pt x="3882" y="0"/>
                    </a:lnTo>
                    <a:lnTo>
                      <a:pt x="3371" y="1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959120" y="1209600"/>
                <a:ext cx="1592640" cy="1313280"/>
              </a:xfrm>
              <a:custGeom>
                <a:avLst/>
                <a:gdLst/>
                <a:ahLst/>
                <a:rect l="0" t="0" r="r" b="b"/>
                <a:pathLst>
                  <a:path w="4424" h="3648">
                    <a:moveTo>
                      <a:pt x="1844" y="0"/>
                    </a:moveTo>
                    <a:lnTo>
                      <a:pt x="1319" y="414"/>
                    </a:lnTo>
                    <a:lnTo>
                      <a:pt x="1539" y="2254"/>
                    </a:lnTo>
                    <a:lnTo>
                      <a:pt x="0" y="2267"/>
                    </a:lnTo>
                    <a:lnTo>
                      <a:pt x="44" y="2947"/>
                    </a:lnTo>
                    <a:lnTo>
                      <a:pt x="1143" y="3000"/>
                    </a:lnTo>
                    <a:lnTo>
                      <a:pt x="1226" y="3648"/>
                    </a:lnTo>
                    <a:lnTo>
                      <a:pt x="1747" y="3648"/>
                    </a:lnTo>
                    <a:lnTo>
                      <a:pt x="2003" y="2978"/>
                    </a:lnTo>
                    <a:lnTo>
                      <a:pt x="2417" y="3022"/>
                    </a:lnTo>
                    <a:lnTo>
                      <a:pt x="3988" y="2210"/>
                    </a:lnTo>
                    <a:lnTo>
                      <a:pt x="4424" y="1456"/>
                    </a:lnTo>
                    <a:lnTo>
                      <a:pt x="18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298600" y="65160"/>
                <a:ext cx="725760" cy="854280"/>
              </a:xfrm>
              <a:custGeom>
                <a:avLst/>
                <a:gdLst/>
                <a:ahLst/>
                <a:rect l="0" t="0" r="r" b="b"/>
                <a:pathLst>
                  <a:path w="2016" h="2373">
                    <a:moveTo>
                      <a:pt x="2016" y="0"/>
                    </a:moveTo>
                    <a:lnTo>
                      <a:pt x="1698" y="507"/>
                    </a:lnTo>
                    <a:lnTo>
                      <a:pt x="330" y="1363"/>
                    </a:lnTo>
                    <a:lnTo>
                      <a:pt x="0" y="2232"/>
                    </a:lnTo>
                    <a:lnTo>
                      <a:pt x="515" y="2373"/>
                    </a:lnTo>
                    <a:lnTo>
                      <a:pt x="564" y="2122"/>
                    </a:lnTo>
                    <a:lnTo>
                      <a:pt x="1844" y="1244"/>
                    </a:lnTo>
                    <a:lnTo>
                      <a:pt x="20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682640" y="868320"/>
                <a:ext cx="805320" cy="697320"/>
              </a:xfrm>
              <a:custGeom>
                <a:avLst/>
                <a:gdLst/>
                <a:ahLst/>
                <a:rect l="0" t="0" r="r" b="b"/>
                <a:pathLst>
                  <a:path w="2237" h="1937">
                    <a:moveTo>
                      <a:pt x="1712" y="0"/>
                    </a:moveTo>
                    <a:lnTo>
                      <a:pt x="2237" y="136"/>
                    </a:lnTo>
                    <a:lnTo>
                      <a:pt x="1911" y="490"/>
                    </a:lnTo>
                    <a:lnTo>
                      <a:pt x="1659" y="812"/>
                    </a:lnTo>
                    <a:lnTo>
                      <a:pt x="1187" y="812"/>
                    </a:lnTo>
                    <a:lnTo>
                      <a:pt x="684" y="1937"/>
                    </a:lnTo>
                    <a:lnTo>
                      <a:pt x="0" y="1779"/>
                    </a:lnTo>
                    <a:lnTo>
                      <a:pt x="658" y="574"/>
                    </a:lnTo>
                    <a:lnTo>
                      <a:pt x="17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797280" y="212760"/>
                <a:ext cx="379800" cy="579960"/>
              </a:xfrm>
              <a:custGeom>
                <a:avLst/>
                <a:gdLst/>
                <a:ahLst/>
                <a:rect l="0" t="0" r="r" b="b"/>
                <a:pathLst>
                  <a:path w="1055" h="1611">
                    <a:moveTo>
                      <a:pt x="22" y="136"/>
                    </a:moveTo>
                    <a:lnTo>
                      <a:pt x="945" y="0"/>
                    </a:lnTo>
                    <a:lnTo>
                      <a:pt x="1055" y="988"/>
                    </a:lnTo>
                    <a:lnTo>
                      <a:pt x="702" y="1611"/>
                    </a:lnTo>
                    <a:lnTo>
                      <a:pt x="171" y="1010"/>
                    </a:lnTo>
                    <a:lnTo>
                      <a:pt x="0" y="852"/>
                    </a:lnTo>
                    <a:lnTo>
                      <a:pt x="154" y="583"/>
                    </a:lnTo>
                    <a:lnTo>
                      <a:pt x="22" y="1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568520" y="1047600"/>
                <a:ext cx="1060920" cy="993960"/>
              </a:xfrm>
              <a:custGeom>
                <a:avLst/>
                <a:gdLst/>
                <a:ahLst/>
                <a:rect l="0" t="0" r="r" b="b"/>
                <a:pathLst>
                  <a:path w="2947" h="2761">
                    <a:moveTo>
                      <a:pt x="2220" y="0"/>
                    </a:moveTo>
                    <a:lnTo>
                      <a:pt x="2947" y="449"/>
                    </a:lnTo>
                    <a:lnTo>
                      <a:pt x="2436" y="846"/>
                    </a:lnTo>
                    <a:lnTo>
                      <a:pt x="2656" y="2730"/>
                    </a:lnTo>
                    <a:lnTo>
                      <a:pt x="1103" y="2730"/>
                    </a:lnTo>
                    <a:lnTo>
                      <a:pt x="692" y="2554"/>
                    </a:lnTo>
                    <a:lnTo>
                      <a:pt x="0" y="2761"/>
                    </a:lnTo>
                    <a:lnTo>
                      <a:pt x="299" y="1998"/>
                    </a:lnTo>
                    <a:lnTo>
                      <a:pt x="317" y="1278"/>
                    </a:lnTo>
                    <a:lnTo>
                      <a:pt x="1002" y="1425"/>
                    </a:lnTo>
                    <a:lnTo>
                      <a:pt x="1504" y="308"/>
                    </a:lnTo>
                    <a:lnTo>
                      <a:pt x="1976" y="308"/>
                    </a:lnTo>
                    <a:lnTo>
                      <a:pt x="22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360520" y="63360"/>
                <a:ext cx="2045160" cy="1670400"/>
              </a:xfrm>
              <a:custGeom>
                <a:avLst/>
                <a:gdLst/>
                <a:ahLst/>
                <a:rect l="0" t="0" r="r" b="b"/>
                <a:pathLst>
                  <a:path w="5681" h="4640">
                    <a:moveTo>
                      <a:pt x="1839" y="0"/>
                    </a:moveTo>
                    <a:lnTo>
                      <a:pt x="3731" y="599"/>
                    </a:lnTo>
                    <a:lnTo>
                      <a:pt x="4031" y="537"/>
                    </a:lnTo>
                    <a:lnTo>
                      <a:pt x="4146" y="1009"/>
                    </a:lnTo>
                    <a:lnTo>
                      <a:pt x="3996" y="1265"/>
                    </a:lnTo>
                    <a:lnTo>
                      <a:pt x="4216" y="1464"/>
                    </a:lnTo>
                    <a:lnTo>
                      <a:pt x="4742" y="2054"/>
                    </a:lnTo>
                    <a:lnTo>
                      <a:pt x="4764" y="2607"/>
                    </a:lnTo>
                    <a:lnTo>
                      <a:pt x="4482" y="2946"/>
                    </a:lnTo>
                    <a:lnTo>
                      <a:pt x="5681" y="3872"/>
                    </a:lnTo>
                    <a:lnTo>
                      <a:pt x="3290" y="4640"/>
                    </a:lnTo>
                    <a:lnTo>
                      <a:pt x="762" y="3206"/>
                    </a:lnTo>
                    <a:lnTo>
                      <a:pt x="0" y="2743"/>
                    </a:lnTo>
                    <a:lnTo>
                      <a:pt x="343" y="2373"/>
                    </a:lnTo>
                    <a:lnTo>
                      <a:pt x="388" y="2121"/>
                    </a:lnTo>
                    <a:lnTo>
                      <a:pt x="1663" y="1247"/>
                    </a:lnTo>
                    <a:lnTo>
                      <a:pt x="18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960720" y="563400"/>
                <a:ext cx="1522800" cy="1195920"/>
              </a:xfrm>
              <a:custGeom>
                <a:avLst/>
                <a:gdLst/>
                <a:ahLst/>
                <a:rect l="0" t="0" r="r" b="b"/>
                <a:pathLst>
                  <a:path w="4230" h="3322">
                    <a:moveTo>
                      <a:pt x="595" y="0"/>
                    </a:moveTo>
                    <a:lnTo>
                      <a:pt x="246" y="604"/>
                    </a:lnTo>
                    <a:lnTo>
                      <a:pt x="282" y="1218"/>
                    </a:lnTo>
                    <a:lnTo>
                      <a:pt x="0" y="1566"/>
                    </a:lnTo>
                    <a:lnTo>
                      <a:pt x="1231" y="2483"/>
                    </a:lnTo>
                    <a:lnTo>
                      <a:pt x="1742" y="2302"/>
                    </a:lnTo>
                    <a:lnTo>
                      <a:pt x="3781" y="3322"/>
                    </a:lnTo>
                    <a:lnTo>
                      <a:pt x="4195" y="3119"/>
                    </a:lnTo>
                    <a:lnTo>
                      <a:pt x="4230" y="2515"/>
                    </a:lnTo>
                    <a:lnTo>
                      <a:pt x="4133" y="489"/>
                    </a:lnTo>
                    <a:lnTo>
                      <a:pt x="3123" y="207"/>
                    </a:lnTo>
                    <a:lnTo>
                      <a:pt x="2642" y="546"/>
                    </a:lnTo>
                    <a:lnTo>
                      <a:pt x="2307" y="962"/>
                    </a:lnTo>
                    <a:lnTo>
                      <a:pt x="1385" y="158"/>
                    </a:lnTo>
                    <a:lnTo>
                      <a:pt x="5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438880" y="731880"/>
                <a:ext cx="964080" cy="746640"/>
              </a:xfrm>
              <a:custGeom>
                <a:avLst/>
                <a:gdLst/>
                <a:ahLst/>
                <a:rect l="0" t="0" r="r" b="b"/>
                <a:pathLst>
                  <a:path w="2678" h="2074">
                    <a:moveTo>
                      <a:pt x="0" y="0"/>
                    </a:moveTo>
                    <a:lnTo>
                      <a:pt x="119" y="2074"/>
                    </a:lnTo>
                    <a:lnTo>
                      <a:pt x="2678" y="2074"/>
                    </a:lnTo>
                    <a:lnTo>
                      <a:pt x="1584" y="896"/>
                    </a:lnTo>
                    <a:lnTo>
                      <a:pt x="1584" y="105"/>
                    </a:lnTo>
                    <a:lnTo>
                      <a:pt x="1037" y="57"/>
                    </a:lnTo>
                    <a:lnTo>
                      <a:pt x="661" y="16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072040" y="1460520"/>
                <a:ext cx="1535400" cy="1560960"/>
              </a:xfrm>
              <a:custGeom>
                <a:avLst/>
                <a:gdLst/>
                <a:ahLst/>
                <a:rect l="0" t="0" r="r" b="b"/>
                <a:pathLst>
                  <a:path w="4265" h="4336">
                    <a:moveTo>
                      <a:pt x="1137" y="0"/>
                    </a:moveTo>
                    <a:lnTo>
                      <a:pt x="3669" y="0"/>
                    </a:lnTo>
                    <a:lnTo>
                      <a:pt x="4265" y="1491"/>
                    </a:lnTo>
                    <a:lnTo>
                      <a:pt x="3647" y="3012"/>
                    </a:lnTo>
                    <a:lnTo>
                      <a:pt x="3731" y="3917"/>
                    </a:lnTo>
                    <a:lnTo>
                      <a:pt x="3405" y="4332"/>
                    </a:lnTo>
                    <a:lnTo>
                      <a:pt x="2435" y="4336"/>
                    </a:lnTo>
                    <a:lnTo>
                      <a:pt x="1503" y="4058"/>
                    </a:lnTo>
                    <a:lnTo>
                      <a:pt x="1089" y="3503"/>
                    </a:lnTo>
                    <a:lnTo>
                      <a:pt x="692" y="3468"/>
                    </a:lnTo>
                    <a:lnTo>
                      <a:pt x="0" y="2258"/>
                    </a:lnTo>
                    <a:lnTo>
                      <a:pt x="220" y="1729"/>
                    </a:lnTo>
                    <a:lnTo>
                      <a:pt x="542" y="1628"/>
                    </a:lnTo>
                    <a:lnTo>
                      <a:pt x="692" y="820"/>
                    </a:lnTo>
                    <a:lnTo>
                      <a:pt x="1089" y="621"/>
                    </a:lnTo>
                    <a:lnTo>
                      <a:pt x="11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278240" y="1389240"/>
                <a:ext cx="1043280" cy="1306800"/>
              </a:xfrm>
              <a:custGeom>
                <a:avLst/>
                <a:gdLst/>
                <a:ahLst/>
                <a:rect l="0" t="0" r="r" b="b"/>
                <a:pathLst>
                  <a:path w="2898" h="3630">
                    <a:moveTo>
                      <a:pt x="873" y="0"/>
                    </a:moveTo>
                    <a:lnTo>
                      <a:pt x="2898" y="1018"/>
                    </a:lnTo>
                    <a:lnTo>
                      <a:pt x="2757" y="1831"/>
                    </a:lnTo>
                    <a:lnTo>
                      <a:pt x="2430" y="1932"/>
                    </a:lnTo>
                    <a:lnTo>
                      <a:pt x="2227" y="2452"/>
                    </a:lnTo>
                    <a:lnTo>
                      <a:pt x="2602" y="3101"/>
                    </a:lnTo>
                    <a:lnTo>
                      <a:pt x="1720" y="3497"/>
                    </a:lnTo>
                    <a:lnTo>
                      <a:pt x="762" y="3630"/>
                    </a:lnTo>
                    <a:lnTo>
                      <a:pt x="463" y="3444"/>
                    </a:lnTo>
                    <a:lnTo>
                      <a:pt x="789" y="3140"/>
                    </a:lnTo>
                    <a:lnTo>
                      <a:pt x="560" y="2474"/>
                    </a:lnTo>
                    <a:lnTo>
                      <a:pt x="0" y="2316"/>
                    </a:lnTo>
                    <a:lnTo>
                      <a:pt x="529" y="1265"/>
                    </a:lnTo>
                    <a:lnTo>
                      <a:pt x="87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531800" y="1963800"/>
                <a:ext cx="443160" cy="306720"/>
              </a:xfrm>
              <a:custGeom>
                <a:avLst/>
                <a:gdLst/>
                <a:ahLst/>
                <a:rect l="0" t="0" r="r" b="b"/>
                <a:pathLst>
                  <a:path w="1231" h="852">
                    <a:moveTo>
                      <a:pt x="105" y="207"/>
                    </a:moveTo>
                    <a:lnTo>
                      <a:pt x="785" y="0"/>
                    </a:lnTo>
                    <a:lnTo>
                      <a:pt x="1191" y="171"/>
                    </a:lnTo>
                    <a:lnTo>
                      <a:pt x="1231" y="852"/>
                    </a:lnTo>
                    <a:lnTo>
                      <a:pt x="0" y="772"/>
                    </a:lnTo>
                    <a:lnTo>
                      <a:pt x="105" y="2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31800" y="2241720"/>
                <a:ext cx="443160" cy="160560"/>
              </a:xfrm>
              <a:custGeom>
                <a:avLst/>
                <a:gdLst/>
                <a:ahLst/>
                <a:rect l="0" t="0" r="r" b="b"/>
                <a:pathLst>
                  <a:path w="1231" h="446">
                    <a:moveTo>
                      <a:pt x="0" y="0"/>
                    </a:moveTo>
                    <a:lnTo>
                      <a:pt x="1231" y="70"/>
                    </a:lnTo>
                    <a:lnTo>
                      <a:pt x="573" y="44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736640" y="2263680"/>
                <a:ext cx="673560" cy="484560"/>
              </a:xfrm>
              <a:custGeom>
                <a:avLst/>
                <a:gdLst/>
                <a:ahLst/>
                <a:rect l="0" t="0" r="r" b="b"/>
                <a:pathLst>
                  <a:path w="1871" h="1346">
                    <a:moveTo>
                      <a:pt x="0" y="371"/>
                    </a:moveTo>
                    <a:lnTo>
                      <a:pt x="644" y="0"/>
                    </a:lnTo>
                    <a:lnTo>
                      <a:pt x="1770" y="66"/>
                    </a:lnTo>
                    <a:lnTo>
                      <a:pt x="1871" y="746"/>
                    </a:lnTo>
                    <a:lnTo>
                      <a:pt x="1708" y="1346"/>
                    </a:lnTo>
                    <a:lnTo>
                      <a:pt x="1187" y="975"/>
                    </a:lnTo>
                    <a:lnTo>
                      <a:pt x="830" y="622"/>
                    </a:lnTo>
                    <a:lnTo>
                      <a:pt x="530" y="904"/>
                    </a:lnTo>
                    <a:lnTo>
                      <a:pt x="0" y="3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920960" y="2484360"/>
                <a:ext cx="241560" cy="297360"/>
              </a:xfrm>
              <a:custGeom>
                <a:avLst/>
                <a:gdLst/>
                <a:ahLst/>
                <a:rect l="0" t="0" r="r" b="b"/>
                <a:pathLst>
                  <a:path w="671" h="826">
                    <a:moveTo>
                      <a:pt x="317" y="0"/>
                    </a:moveTo>
                    <a:lnTo>
                      <a:pt x="0" y="292"/>
                    </a:lnTo>
                    <a:lnTo>
                      <a:pt x="516" y="826"/>
                    </a:lnTo>
                    <a:lnTo>
                      <a:pt x="671" y="353"/>
                    </a:lnTo>
                    <a:lnTo>
                      <a:pt x="3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101680" y="2606760"/>
                <a:ext cx="249480" cy="371880"/>
              </a:xfrm>
              <a:custGeom>
                <a:avLst/>
                <a:gdLst/>
                <a:ahLst/>
                <a:rect l="0" t="0" r="r" b="b"/>
                <a:pathLst>
                  <a:path w="693" h="1033">
                    <a:moveTo>
                      <a:pt x="154" y="0"/>
                    </a:moveTo>
                    <a:lnTo>
                      <a:pt x="0" y="486"/>
                    </a:lnTo>
                    <a:lnTo>
                      <a:pt x="543" y="1033"/>
                    </a:lnTo>
                    <a:lnTo>
                      <a:pt x="693" y="389"/>
                    </a:lnTo>
                    <a:lnTo>
                      <a:pt x="1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295360" y="2517840"/>
                <a:ext cx="528840" cy="460800"/>
              </a:xfrm>
              <a:custGeom>
                <a:avLst/>
                <a:gdLst/>
                <a:ahLst/>
                <a:rect l="0" t="0" r="r" b="b"/>
                <a:pathLst>
                  <a:path w="1469" h="1280">
                    <a:moveTo>
                      <a:pt x="317" y="0"/>
                    </a:moveTo>
                    <a:lnTo>
                      <a:pt x="799" y="0"/>
                    </a:lnTo>
                    <a:lnTo>
                      <a:pt x="1469" y="468"/>
                    </a:lnTo>
                    <a:lnTo>
                      <a:pt x="1407" y="1047"/>
                    </a:lnTo>
                    <a:lnTo>
                      <a:pt x="498" y="1055"/>
                    </a:lnTo>
                    <a:lnTo>
                      <a:pt x="0" y="1280"/>
                    </a:lnTo>
                    <a:lnTo>
                      <a:pt x="154" y="631"/>
                    </a:lnTo>
                    <a:lnTo>
                      <a:pt x="3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2797200" y="2457360"/>
                <a:ext cx="370080" cy="438480"/>
              </a:xfrm>
              <a:custGeom>
                <a:avLst/>
                <a:gdLst/>
                <a:ahLst/>
                <a:rect l="0" t="0" r="r" b="b"/>
                <a:pathLst>
                  <a:path w="1028" h="1218">
                    <a:moveTo>
                      <a:pt x="127" y="22"/>
                    </a:moveTo>
                    <a:lnTo>
                      <a:pt x="852" y="0"/>
                    </a:lnTo>
                    <a:lnTo>
                      <a:pt x="1028" y="1218"/>
                    </a:lnTo>
                    <a:lnTo>
                      <a:pt x="0" y="1218"/>
                    </a:lnTo>
                    <a:lnTo>
                      <a:pt x="127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579760" y="2081160"/>
                <a:ext cx="736920" cy="808560"/>
              </a:xfrm>
              <a:custGeom>
                <a:avLst/>
                <a:gdLst/>
                <a:ahLst/>
                <a:rect l="0" t="0" r="r" b="b"/>
                <a:pathLst>
                  <a:path w="2047" h="2246">
                    <a:moveTo>
                      <a:pt x="264" y="551"/>
                    </a:moveTo>
                    <a:lnTo>
                      <a:pt x="0" y="1213"/>
                    </a:lnTo>
                    <a:lnTo>
                      <a:pt x="670" y="1686"/>
                    </a:lnTo>
                    <a:lnTo>
                      <a:pt x="749" y="1081"/>
                    </a:lnTo>
                    <a:lnTo>
                      <a:pt x="1456" y="1046"/>
                    </a:lnTo>
                    <a:lnTo>
                      <a:pt x="1619" y="2246"/>
                    </a:lnTo>
                    <a:lnTo>
                      <a:pt x="2047" y="2246"/>
                    </a:lnTo>
                    <a:lnTo>
                      <a:pt x="1848" y="1288"/>
                    </a:lnTo>
                    <a:lnTo>
                      <a:pt x="1720" y="988"/>
                    </a:lnTo>
                    <a:lnTo>
                      <a:pt x="1932" y="865"/>
                    </a:lnTo>
                    <a:lnTo>
                      <a:pt x="1839" y="0"/>
                    </a:lnTo>
                    <a:lnTo>
                      <a:pt x="709" y="578"/>
                    </a:lnTo>
                    <a:lnTo>
                      <a:pt x="264" y="5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421080" y="2208240"/>
                <a:ext cx="1057680" cy="841680"/>
              </a:xfrm>
              <a:custGeom>
                <a:avLst/>
                <a:gdLst/>
                <a:ahLst/>
                <a:rect l="0" t="0" r="r" b="b"/>
                <a:pathLst>
                  <a:path w="2938" h="2338">
                    <a:moveTo>
                      <a:pt x="321" y="0"/>
                    </a:moveTo>
                    <a:lnTo>
                      <a:pt x="0" y="216"/>
                    </a:lnTo>
                    <a:lnTo>
                      <a:pt x="57" y="1892"/>
                    </a:lnTo>
                    <a:lnTo>
                      <a:pt x="1412" y="2338"/>
                    </a:lnTo>
                    <a:lnTo>
                      <a:pt x="1544" y="1566"/>
                    </a:lnTo>
                    <a:lnTo>
                      <a:pt x="2489" y="1150"/>
                    </a:lnTo>
                    <a:lnTo>
                      <a:pt x="2938" y="176"/>
                    </a:lnTo>
                    <a:lnTo>
                      <a:pt x="2414" y="22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921120" y="2266920"/>
                <a:ext cx="665640" cy="843480"/>
              </a:xfrm>
              <a:custGeom>
                <a:avLst/>
                <a:gdLst/>
                <a:ahLst/>
                <a:rect l="0" t="0" r="r" b="b"/>
                <a:pathLst>
                  <a:path w="1849" h="2343">
                    <a:moveTo>
                      <a:pt x="1549" y="0"/>
                    </a:moveTo>
                    <a:lnTo>
                      <a:pt x="1090" y="984"/>
                    </a:lnTo>
                    <a:lnTo>
                      <a:pt x="110" y="1403"/>
                    </a:lnTo>
                    <a:lnTo>
                      <a:pt x="0" y="2145"/>
                    </a:lnTo>
                    <a:lnTo>
                      <a:pt x="22" y="2343"/>
                    </a:lnTo>
                    <a:lnTo>
                      <a:pt x="1796" y="2153"/>
                    </a:lnTo>
                    <a:lnTo>
                      <a:pt x="1849" y="1977"/>
                    </a:lnTo>
                    <a:lnTo>
                      <a:pt x="1690" y="1889"/>
                    </a:lnTo>
                    <a:lnTo>
                      <a:pt x="1624" y="1522"/>
                    </a:lnTo>
                    <a:lnTo>
                      <a:pt x="1783" y="1196"/>
                    </a:lnTo>
                    <a:lnTo>
                      <a:pt x="1492" y="1010"/>
                    </a:lnTo>
                    <a:lnTo>
                      <a:pt x="1801" y="710"/>
                    </a:lnTo>
                    <a:lnTo>
                      <a:pt x="154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495680" y="2502000"/>
                <a:ext cx="1124280" cy="525960"/>
              </a:xfrm>
              <a:custGeom>
                <a:avLst/>
                <a:gdLst/>
                <a:ahLst/>
                <a:rect l="0" t="0" r="r" b="b"/>
                <a:pathLst>
                  <a:path w="3123" h="1461">
                    <a:moveTo>
                      <a:pt x="163" y="516"/>
                    </a:moveTo>
                    <a:lnTo>
                      <a:pt x="0" y="887"/>
                    </a:lnTo>
                    <a:lnTo>
                      <a:pt x="88" y="1263"/>
                    </a:lnTo>
                    <a:lnTo>
                      <a:pt x="242" y="1342"/>
                    </a:lnTo>
                    <a:lnTo>
                      <a:pt x="467" y="1263"/>
                    </a:lnTo>
                    <a:lnTo>
                      <a:pt x="687" y="1461"/>
                    </a:lnTo>
                    <a:lnTo>
                      <a:pt x="970" y="1166"/>
                    </a:lnTo>
                    <a:lnTo>
                      <a:pt x="1472" y="1298"/>
                    </a:lnTo>
                    <a:lnTo>
                      <a:pt x="2144" y="1298"/>
                    </a:lnTo>
                    <a:lnTo>
                      <a:pt x="3123" y="1144"/>
                    </a:lnTo>
                    <a:lnTo>
                      <a:pt x="2708" y="605"/>
                    </a:lnTo>
                    <a:lnTo>
                      <a:pt x="2285" y="561"/>
                    </a:lnTo>
                    <a:lnTo>
                      <a:pt x="1985" y="0"/>
                    </a:lnTo>
                    <a:lnTo>
                      <a:pt x="1102" y="393"/>
                    </a:lnTo>
                    <a:lnTo>
                      <a:pt x="163" y="5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873600" y="3067200"/>
                <a:ext cx="403560" cy="535320"/>
              </a:xfrm>
              <a:custGeom>
                <a:avLst/>
                <a:gdLst/>
                <a:ahLst/>
                <a:rect l="0" t="0" r="r" b="b"/>
                <a:pathLst>
                  <a:path w="1121" h="1487">
                    <a:moveTo>
                      <a:pt x="154" y="97"/>
                    </a:moveTo>
                    <a:lnTo>
                      <a:pt x="1121" y="0"/>
                    </a:lnTo>
                    <a:lnTo>
                      <a:pt x="1103" y="909"/>
                    </a:lnTo>
                    <a:lnTo>
                      <a:pt x="326" y="1169"/>
                    </a:lnTo>
                    <a:lnTo>
                      <a:pt x="229" y="1487"/>
                    </a:lnTo>
                    <a:lnTo>
                      <a:pt x="0" y="1138"/>
                    </a:lnTo>
                    <a:lnTo>
                      <a:pt x="154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952800" y="2951280"/>
                <a:ext cx="790920" cy="746640"/>
              </a:xfrm>
              <a:custGeom>
                <a:avLst/>
                <a:gdLst/>
                <a:ahLst/>
                <a:rect l="0" t="0" r="r" b="b"/>
                <a:pathLst>
                  <a:path w="2197" h="2074">
                    <a:moveTo>
                      <a:pt x="899" y="313"/>
                    </a:moveTo>
                    <a:lnTo>
                      <a:pt x="1694" y="242"/>
                    </a:lnTo>
                    <a:lnTo>
                      <a:pt x="1734" y="92"/>
                    </a:lnTo>
                    <a:lnTo>
                      <a:pt x="1985" y="0"/>
                    </a:lnTo>
                    <a:lnTo>
                      <a:pt x="2197" y="211"/>
                    </a:lnTo>
                    <a:lnTo>
                      <a:pt x="1297" y="1735"/>
                    </a:lnTo>
                    <a:lnTo>
                      <a:pt x="167" y="2074"/>
                    </a:lnTo>
                    <a:lnTo>
                      <a:pt x="0" y="1787"/>
                    </a:lnTo>
                    <a:lnTo>
                      <a:pt x="97" y="1491"/>
                    </a:lnTo>
                    <a:lnTo>
                      <a:pt x="868" y="1231"/>
                    </a:lnTo>
                    <a:lnTo>
                      <a:pt x="899" y="3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003560" y="2908440"/>
                <a:ext cx="2061000" cy="1487880"/>
              </a:xfrm>
              <a:custGeom>
                <a:avLst/>
                <a:gdLst/>
                <a:ahLst/>
                <a:rect l="0" t="0" r="r" b="b"/>
                <a:pathLst>
                  <a:path w="5725" h="4133">
                    <a:moveTo>
                      <a:pt x="4491" y="0"/>
                    </a:moveTo>
                    <a:lnTo>
                      <a:pt x="5417" y="304"/>
                    </a:lnTo>
                    <a:lnTo>
                      <a:pt x="5593" y="771"/>
                    </a:lnTo>
                    <a:lnTo>
                      <a:pt x="5064" y="1248"/>
                    </a:lnTo>
                    <a:lnTo>
                      <a:pt x="5408" y="1707"/>
                    </a:lnTo>
                    <a:lnTo>
                      <a:pt x="5373" y="2219"/>
                    </a:lnTo>
                    <a:lnTo>
                      <a:pt x="5725" y="3043"/>
                    </a:lnTo>
                    <a:lnTo>
                      <a:pt x="4429" y="3043"/>
                    </a:lnTo>
                    <a:lnTo>
                      <a:pt x="4429" y="3560"/>
                    </a:lnTo>
                    <a:lnTo>
                      <a:pt x="4914" y="3975"/>
                    </a:lnTo>
                    <a:lnTo>
                      <a:pt x="4711" y="4133"/>
                    </a:lnTo>
                    <a:lnTo>
                      <a:pt x="2779" y="3697"/>
                    </a:lnTo>
                    <a:lnTo>
                      <a:pt x="2690" y="2571"/>
                    </a:lnTo>
                    <a:lnTo>
                      <a:pt x="2316" y="2549"/>
                    </a:lnTo>
                    <a:lnTo>
                      <a:pt x="1941" y="2867"/>
                    </a:lnTo>
                    <a:lnTo>
                      <a:pt x="1349" y="2823"/>
                    </a:lnTo>
                    <a:lnTo>
                      <a:pt x="1327" y="2430"/>
                    </a:lnTo>
                    <a:lnTo>
                      <a:pt x="268" y="2651"/>
                    </a:lnTo>
                    <a:lnTo>
                      <a:pt x="0" y="2174"/>
                    </a:lnTo>
                    <a:lnTo>
                      <a:pt x="1124" y="1839"/>
                    </a:lnTo>
                    <a:lnTo>
                      <a:pt x="2055" y="313"/>
                    </a:lnTo>
                    <a:lnTo>
                      <a:pt x="2338" y="22"/>
                    </a:lnTo>
                    <a:lnTo>
                      <a:pt x="2840" y="163"/>
                    </a:lnTo>
                    <a:lnTo>
                      <a:pt x="3528" y="163"/>
                    </a:lnTo>
                    <a:lnTo>
                      <a:pt x="449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369120" y="1987560"/>
                <a:ext cx="1013040" cy="1114920"/>
              </a:xfrm>
              <a:custGeom>
                <a:avLst/>
                <a:gdLst/>
                <a:ahLst/>
                <a:rect l="0" t="0" r="r" b="b"/>
                <a:pathLst>
                  <a:path w="2814" h="3097">
                    <a:moveTo>
                      <a:pt x="635" y="0"/>
                    </a:moveTo>
                    <a:lnTo>
                      <a:pt x="0" y="1575"/>
                    </a:lnTo>
                    <a:lnTo>
                      <a:pt x="110" y="2471"/>
                    </a:lnTo>
                    <a:lnTo>
                      <a:pt x="1478" y="3097"/>
                    </a:lnTo>
                    <a:lnTo>
                      <a:pt x="1914" y="2841"/>
                    </a:lnTo>
                    <a:lnTo>
                      <a:pt x="2593" y="2665"/>
                    </a:lnTo>
                    <a:lnTo>
                      <a:pt x="2814" y="2183"/>
                    </a:lnTo>
                    <a:lnTo>
                      <a:pt x="1954" y="1672"/>
                    </a:lnTo>
                    <a:lnTo>
                      <a:pt x="1998" y="1204"/>
                    </a:lnTo>
                    <a:lnTo>
                      <a:pt x="1839" y="1103"/>
                    </a:lnTo>
                    <a:lnTo>
                      <a:pt x="1976" y="705"/>
                    </a:lnTo>
                    <a:lnTo>
                      <a:pt x="6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865920" y="2289240"/>
                <a:ext cx="937080" cy="1101960"/>
              </a:xfrm>
              <a:custGeom>
                <a:avLst/>
                <a:gdLst/>
                <a:ahLst/>
                <a:rect l="0" t="0" r="r" b="b"/>
                <a:pathLst>
                  <a:path w="2603" h="3061">
                    <a:moveTo>
                      <a:pt x="599" y="366"/>
                    </a:moveTo>
                    <a:lnTo>
                      <a:pt x="564" y="837"/>
                    </a:lnTo>
                    <a:lnTo>
                      <a:pt x="1420" y="1344"/>
                    </a:lnTo>
                    <a:lnTo>
                      <a:pt x="1209" y="1817"/>
                    </a:lnTo>
                    <a:lnTo>
                      <a:pt x="537" y="1980"/>
                    </a:lnTo>
                    <a:lnTo>
                      <a:pt x="92" y="2254"/>
                    </a:lnTo>
                    <a:lnTo>
                      <a:pt x="0" y="2576"/>
                    </a:lnTo>
                    <a:lnTo>
                      <a:pt x="357" y="3061"/>
                    </a:lnTo>
                    <a:lnTo>
                      <a:pt x="1751" y="2232"/>
                    </a:lnTo>
                    <a:lnTo>
                      <a:pt x="2603" y="0"/>
                    </a:lnTo>
                    <a:lnTo>
                      <a:pt x="1345" y="529"/>
                    </a:lnTo>
                    <a:lnTo>
                      <a:pt x="599" y="3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288120" y="2870280"/>
                <a:ext cx="706680" cy="856080"/>
              </a:xfrm>
              <a:custGeom>
                <a:avLst/>
                <a:gdLst/>
                <a:ahLst/>
                <a:rect l="0" t="0" r="r" b="b"/>
                <a:pathLst>
                  <a:path w="1963" h="2378">
                    <a:moveTo>
                      <a:pt x="335" y="0"/>
                    </a:moveTo>
                    <a:lnTo>
                      <a:pt x="26" y="396"/>
                    </a:lnTo>
                    <a:lnTo>
                      <a:pt x="202" y="737"/>
                    </a:lnTo>
                    <a:lnTo>
                      <a:pt x="0" y="1332"/>
                    </a:lnTo>
                    <a:lnTo>
                      <a:pt x="220" y="1663"/>
                    </a:lnTo>
                    <a:lnTo>
                      <a:pt x="859" y="1920"/>
                    </a:lnTo>
                    <a:lnTo>
                      <a:pt x="1495" y="2378"/>
                    </a:lnTo>
                    <a:lnTo>
                      <a:pt x="1958" y="1959"/>
                    </a:lnTo>
                    <a:lnTo>
                      <a:pt x="1963" y="1429"/>
                    </a:lnTo>
                    <a:lnTo>
                      <a:pt x="1610" y="962"/>
                    </a:lnTo>
                    <a:lnTo>
                      <a:pt x="1703" y="644"/>
                    </a:lnTo>
                    <a:lnTo>
                      <a:pt x="3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821200" y="3017880"/>
                <a:ext cx="1008360" cy="1182960"/>
              </a:xfrm>
              <a:custGeom>
                <a:avLst/>
                <a:gdLst/>
                <a:ahLst/>
                <a:rect l="0" t="0" r="r" b="b"/>
                <a:pathLst>
                  <a:path w="2801" h="3286">
                    <a:moveTo>
                      <a:pt x="352" y="0"/>
                    </a:moveTo>
                    <a:lnTo>
                      <a:pt x="1331" y="0"/>
                    </a:lnTo>
                    <a:lnTo>
                      <a:pt x="1517" y="304"/>
                    </a:lnTo>
                    <a:lnTo>
                      <a:pt x="1305" y="917"/>
                    </a:lnTo>
                    <a:lnTo>
                      <a:pt x="1522" y="1239"/>
                    </a:lnTo>
                    <a:lnTo>
                      <a:pt x="2183" y="1499"/>
                    </a:lnTo>
                    <a:lnTo>
                      <a:pt x="2801" y="1967"/>
                    </a:lnTo>
                    <a:lnTo>
                      <a:pt x="2245" y="2505"/>
                    </a:lnTo>
                    <a:lnTo>
                      <a:pt x="2541" y="2871"/>
                    </a:lnTo>
                    <a:lnTo>
                      <a:pt x="2408" y="3286"/>
                    </a:lnTo>
                    <a:lnTo>
                      <a:pt x="1548" y="3277"/>
                    </a:lnTo>
                    <a:lnTo>
                      <a:pt x="1305" y="2955"/>
                    </a:lnTo>
                    <a:lnTo>
                      <a:pt x="648" y="2726"/>
                    </a:lnTo>
                    <a:lnTo>
                      <a:pt x="295" y="1923"/>
                    </a:lnTo>
                    <a:lnTo>
                      <a:pt x="357" y="1402"/>
                    </a:lnTo>
                    <a:lnTo>
                      <a:pt x="0" y="943"/>
                    </a:lnTo>
                    <a:lnTo>
                      <a:pt x="529" y="467"/>
                    </a:lnTo>
                    <a:lnTo>
                      <a:pt x="35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997600" y="4195800"/>
                <a:ext cx="806760" cy="1379880"/>
              </a:xfrm>
              <a:custGeom>
                <a:avLst/>
                <a:gdLst/>
                <a:ahLst/>
                <a:rect l="0" t="0" r="r" b="b"/>
                <a:pathLst>
                  <a:path w="2241" h="3833">
                    <a:moveTo>
                      <a:pt x="1058" y="13"/>
                    </a:moveTo>
                    <a:lnTo>
                      <a:pt x="1888" y="0"/>
                    </a:lnTo>
                    <a:lnTo>
                      <a:pt x="2241" y="366"/>
                    </a:lnTo>
                    <a:lnTo>
                      <a:pt x="2051" y="1380"/>
                    </a:lnTo>
                    <a:lnTo>
                      <a:pt x="1169" y="2580"/>
                    </a:lnTo>
                    <a:lnTo>
                      <a:pt x="859" y="3392"/>
                    </a:lnTo>
                    <a:lnTo>
                      <a:pt x="189" y="3833"/>
                    </a:lnTo>
                    <a:lnTo>
                      <a:pt x="0" y="2915"/>
                    </a:lnTo>
                    <a:lnTo>
                      <a:pt x="502" y="1552"/>
                    </a:lnTo>
                    <a:lnTo>
                      <a:pt x="66" y="1318"/>
                    </a:lnTo>
                    <a:lnTo>
                      <a:pt x="590" y="877"/>
                    </a:lnTo>
                    <a:lnTo>
                      <a:pt x="674" y="1098"/>
                    </a:lnTo>
                    <a:lnTo>
                      <a:pt x="965" y="1314"/>
                    </a:lnTo>
                    <a:lnTo>
                      <a:pt x="1319" y="1075"/>
                    </a:lnTo>
                    <a:lnTo>
                      <a:pt x="987" y="555"/>
                    </a:lnTo>
                    <a:lnTo>
                      <a:pt x="1058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924600" y="4257720"/>
                <a:ext cx="425880" cy="1157760"/>
              </a:xfrm>
              <a:custGeom>
                <a:avLst/>
                <a:gdLst/>
                <a:ahLst/>
                <a:rect l="0" t="0" r="r" b="b"/>
                <a:pathLst>
                  <a:path w="1183" h="3216">
                    <a:moveTo>
                      <a:pt x="976" y="0"/>
                    </a:moveTo>
                    <a:lnTo>
                      <a:pt x="653" y="825"/>
                    </a:lnTo>
                    <a:lnTo>
                      <a:pt x="154" y="1125"/>
                    </a:lnTo>
                    <a:lnTo>
                      <a:pt x="260" y="1980"/>
                    </a:lnTo>
                    <a:lnTo>
                      <a:pt x="0" y="2449"/>
                    </a:lnTo>
                    <a:lnTo>
                      <a:pt x="22" y="3216"/>
                    </a:lnTo>
                    <a:lnTo>
                      <a:pt x="794" y="2885"/>
                    </a:lnTo>
                    <a:lnTo>
                      <a:pt x="1183" y="1266"/>
                    </a:lnTo>
                    <a:lnTo>
                      <a:pt x="97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454720" y="4595760"/>
                <a:ext cx="729000" cy="740160"/>
              </a:xfrm>
              <a:custGeom>
                <a:avLst/>
                <a:gdLst/>
                <a:ahLst/>
                <a:rect l="0" t="0" r="r" b="b"/>
                <a:pathLst>
                  <a:path w="2025" h="2056">
                    <a:moveTo>
                      <a:pt x="0" y="953"/>
                    </a:moveTo>
                    <a:lnTo>
                      <a:pt x="1173" y="0"/>
                    </a:lnTo>
                    <a:lnTo>
                      <a:pt x="2025" y="436"/>
                    </a:lnTo>
                    <a:lnTo>
                      <a:pt x="1526" y="1809"/>
                    </a:lnTo>
                    <a:lnTo>
                      <a:pt x="789" y="2056"/>
                    </a:lnTo>
                    <a:lnTo>
                      <a:pt x="0" y="9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084640" y="3998880"/>
                <a:ext cx="1127520" cy="945000"/>
              </a:xfrm>
              <a:custGeom>
                <a:avLst/>
                <a:gdLst/>
                <a:ahLst/>
                <a:rect l="0" t="0" r="r" b="b"/>
                <a:pathLst>
                  <a:path w="3132" h="2625">
                    <a:moveTo>
                      <a:pt x="1407" y="4"/>
                    </a:moveTo>
                    <a:lnTo>
                      <a:pt x="2696" y="0"/>
                    </a:lnTo>
                    <a:lnTo>
                      <a:pt x="2938" y="511"/>
                    </a:lnTo>
                    <a:lnTo>
                      <a:pt x="2938" y="1019"/>
                    </a:lnTo>
                    <a:lnTo>
                      <a:pt x="3132" y="1425"/>
                    </a:lnTo>
                    <a:lnTo>
                      <a:pt x="2621" y="1870"/>
                    </a:lnTo>
                    <a:lnTo>
                      <a:pt x="2201" y="1676"/>
                    </a:lnTo>
                    <a:lnTo>
                      <a:pt x="1028" y="2625"/>
                    </a:lnTo>
                    <a:lnTo>
                      <a:pt x="374" y="2308"/>
                    </a:lnTo>
                    <a:lnTo>
                      <a:pt x="0" y="1548"/>
                    </a:lnTo>
                    <a:lnTo>
                      <a:pt x="604" y="1235"/>
                    </a:lnTo>
                    <a:lnTo>
                      <a:pt x="343" y="785"/>
                    </a:lnTo>
                    <a:lnTo>
                      <a:pt x="1703" y="1085"/>
                    </a:lnTo>
                    <a:lnTo>
                      <a:pt x="1897" y="944"/>
                    </a:lnTo>
                    <a:lnTo>
                      <a:pt x="1407" y="546"/>
                    </a:lnTo>
                    <a:lnTo>
                      <a:pt x="140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045120" y="3992400"/>
                <a:ext cx="429120" cy="678240"/>
              </a:xfrm>
              <a:custGeom>
                <a:avLst/>
                <a:gdLst/>
                <a:ahLst/>
                <a:rect l="0" t="0" r="r" b="b"/>
                <a:pathLst>
                  <a:path w="1192" h="1884">
                    <a:moveTo>
                      <a:pt x="0" y="0"/>
                    </a:moveTo>
                    <a:lnTo>
                      <a:pt x="688" y="242"/>
                    </a:lnTo>
                    <a:lnTo>
                      <a:pt x="945" y="578"/>
                    </a:lnTo>
                    <a:lnTo>
                      <a:pt x="860" y="1121"/>
                    </a:lnTo>
                    <a:lnTo>
                      <a:pt x="1192" y="1638"/>
                    </a:lnTo>
                    <a:lnTo>
                      <a:pt x="834" y="1884"/>
                    </a:lnTo>
                    <a:lnTo>
                      <a:pt x="534" y="1673"/>
                    </a:lnTo>
                    <a:lnTo>
                      <a:pt x="437" y="1407"/>
                    </a:lnTo>
                    <a:lnTo>
                      <a:pt x="251" y="1037"/>
                    </a:lnTo>
                    <a:lnTo>
                      <a:pt x="242" y="5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100400" y="3776760"/>
                <a:ext cx="1213200" cy="1053000"/>
              </a:xfrm>
              <a:custGeom>
                <a:avLst/>
                <a:gdLst/>
                <a:ahLst/>
                <a:rect l="0" t="0" r="r" b="b"/>
                <a:pathLst>
                  <a:path w="3370" h="2925">
                    <a:moveTo>
                      <a:pt x="0" y="224"/>
                    </a:moveTo>
                    <a:lnTo>
                      <a:pt x="1080" y="0"/>
                    </a:lnTo>
                    <a:lnTo>
                      <a:pt x="1098" y="405"/>
                    </a:lnTo>
                    <a:lnTo>
                      <a:pt x="1675" y="432"/>
                    </a:lnTo>
                    <a:lnTo>
                      <a:pt x="2025" y="136"/>
                    </a:lnTo>
                    <a:lnTo>
                      <a:pt x="2426" y="149"/>
                    </a:lnTo>
                    <a:lnTo>
                      <a:pt x="2514" y="1284"/>
                    </a:lnTo>
                    <a:lnTo>
                      <a:pt x="3101" y="1407"/>
                    </a:lnTo>
                    <a:lnTo>
                      <a:pt x="3370" y="1866"/>
                    </a:lnTo>
                    <a:lnTo>
                      <a:pt x="2757" y="2161"/>
                    </a:lnTo>
                    <a:lnTo>
                      <a:pt x="3127" y="2925"/>
                    </a:lnTo>
                    <a:lnTo>
                      <a:pt x="61" y="2925"/>
                    </a:lnTo>
                    <a:lnTo>
                      <a:pt x="643" y="1808"/>
                    </a:lnTo>
                    <a:lnTo>
                      <a:pt x="291" y="1284"/>
                    </a:lnTo>
                    <a:lnTo>
                      <a:pt x="348" y="830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122720" y="4822920"/>
                <a:ext cx="1348200" cy="978120"/>
              </a:xfrm>
              <a:custGeom>
                <a:avLst/>
                <a:gdLst/>
                <a:ahLst/>
                <a:rect l="0" t="0" r="r" b="b"/>
                <a:pathLst>
                  <a:path w="3745" h="2717">
                    <a:moveTo>
                      <a:pt x="0" y="0"/>
                    </a:moveTo>
                    <a:lnTo>
                      <a:pt x="3022" y="0"/>
                    </a:lnTo>
                    <a:lnTo>
                      <a:pt x="3745" y="335"/>
                    </a:lnTo>
                    <a:lnTo>
                      <a:pt x="2757" y="405"/>
                    </a:lnTo>
                    <a:lnTo>
                      <a:pt x="2624" y="1111"/>
                    </a:lnTo>
                    <a:lnTo>
                      <a:pt x="2272" y="1111"/>
                    </a:lnTo>
                    <a:lnTo>
                      <a:pt x="2267" y="2717"/>
                    </a:lnTo>
                    <a:lnTo>
                      <a:pt x="1125" y="2624"/>
                    </a:lnTo>
                    <a:lnTo>
                      <a:pt x="714" y="15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932360" y="4938840"/>
                <a:ext cx="806760" cy="760680"/>
              </a:xfrm>
              <a:custGeom>
                <a:avLst/>
                <a:gdLst/>
                <a:ahLst/>
                <a:rect l="0" t="0" r="r" b="b"/>
                <a:pathLst>
                  <a:path w="2241" h="2113">
                    <a:moveTo>
                      <a:pt x="507" y="61"/>
                    </a:moveTo>
                    <a:lnTo>
                      <a:pt x="1456" y="0"/>
                    </a:lnTo>
                    <a:lnTo>
                      <a:pt x="2241" y="1099"/>
                    </a:lnTo>
                    <a:lnTo>
                      <a:pt x="1151" y="1817"/>
                    </a:lnTo>
                    <a:lnTo>
                      <a:pt x="815" y="1694"/>
                    </a:lnTo>
                    <a:lnTo>
                      <a:pt x="374" y="2113"/>
                    </a:lnTo>
                    <a:lnTo>
                      <a:pt x="0" y="1584"/>
                    </a:lnTo>
                    <a:lnTo>
                      <a:pt x="0" y="789"/>
                    </a:lnTo>
                    <a:lnTo>
                      <a:pt x="357" y="780"/>
                    </a:lnTo>
                    <a:lnTo>
                      <a:pt x="507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527720" y="5243400"/>
                <a:ext cx="1538640" cy="1095840"/>
              </a:xfrm>
              <a:custGeom>
                <a:avLst/>
                <a:gdLst/>
                <a:ahLst/>
                <a:rect l="0" t="0" r="r" b="b"/>
                <a:pathLst>
                  <a:path w="4274" h="3044">
                    <a:moveTo>
                      <a:pt x="0" y="1451"/>
                    </a:moveTo>
                    <a:lnTo>
                      <a:pt x="1128" y="1522"/>
                    </a:lnTo>
                    <a:lnTo>
                      <a:pt x="1137" y="745"/>
                    </a:lnTo>
                    <a:lnTo>
                      <a:pt x="1516" y="1244"/>
                    </a:lnTo>
                    <a:lnTo>
                      <a:pt x="1940" y="834"/>
                    </a:lnTo>
                    <a:lnTo>
                      <a:pt x="2249" y="949"/>
                    </a:lnTo>
                    <a:lnTo>
                      <a:pt x="3352" y="242"/>
                    </a:lnTo>
                    <a:lnTo>
                      <a:pt x="4093" y="0"/>
                    </a:lnTo>
                    <a:lnTo>
                      <a:pt x="4274" y="896"/>
                    </a:lnTo>
                    <a:lnTo>
                      <a:pt x="4102" y="1500"/>
                    </a:lnTo>
                    <a:lnTo>
                      <a:pt x="3431" y="2236"/>
                    </a:lnTo>
                    <a:lnTo>
                      <a:pt x="1830" y="2943"/>
                    </a:lnTo>
                    <a:lnTo>
                      <a:pt x="912" y="3044"/>
                    </a:lnTo>
                    <a:lnTo>
                      <a:pt x="0" y="14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38280" y="2146320"/>
                <a:ext cx="219600" cy="44640"/>
              </a:xfrm>
              <a:custGeom>
                <a:avLst/>
                <a:gdLst/>
                <a:ahLst/>
                <a:rect l="0" t="0" r="r" b="b"/>
                <a:pathLst>
                  <a:path w="610" h="124">
                    <a:moveTo>
                      <a:pt x="0" y="124"/>
                    </a:moveTo>
                    <a:lnTo>
                      <a:pt x="522" y="124"/>
                    </a:lnTo>
                    <a:lnTo>
                      <a:pt x="610" y="44"/>
                    </a:lnTo>
                    <a:lnTo>
                      <a:pt x="48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103560" y="2436840"/>
                <a:ext cx="211320" cy="459000"/>
              </a:xfrm>
              <a:custGeom>
                <a:avLst/>
                <a:gdLst/>
                <a:ahLst/>
                <a:rect l="0" t="0" r="r" b="b"/>
                <a:pathLst>
                  <a:path w="587" h="1275">
                    <a:moveTo>
                      <a:pt x="264" y="0"/>
                    </a:moveTo>
                    <a:lnTo>
                      <a:pt x="0" y="57"/>
                    </a:lnTo>
                    <a:lnTo>
                      <a:pt x="163" y="1275"/>
                    </a:lnTo>
                    <a:lnTo>
                      <a:pt x="587" y="1275"/>
                    </a:lnTo>
                    <a:lnTo>
                      <a:pt x="393" y="299"/>
                    </a:lnTo>
                    <a:lnTo>
                      <a:pt x="2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198960" y="2289240"/>
                <a:ext cx="243360" cy="606960"/>
              </a:xfrm>
              <a:custGeom>
                <a:avLst/>
                <a:gdLst/>
                <a:ahLst/>
                <a:rect l="0" t="0" r="r" b="b"/>
                <a:pathLst>
                  <a:path w="676" h="1686">
                    <a:moveTo>
                      <a:pt x="623" y="0"/>
                    </a:moveTo>
                    <a:lnTo>
                      <a:pt x="225" y="286"/>
                    </a:lnTo>
                    <a:lnTo>
                      <a:pt x="0" y="410"/>
                    </a:lnTo>
                    <a:lnTo>
                      <a:pt x="127" y="715"/>
                    </a:lnTo>
                    <a:lnTo>
                      <a:pt x="322" y="1686"/>
                    </a:lnTo>
                    <a:lnTo>
                      <a:pt x="676" y="1686"/>
                    </a:lnTo>
                    <a:lnTo>
                      <a:pt x="6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916440" y="3090960"/>
                <a:ext cx="141480" cy="105120"/>
              </a:xfrm>
              <a:custGeom>
                <a:avLst/>
                <a:gdLst/>
                <a:ahLst/>
                <a:rect l="0" t="0" r="r" b="b"/>
                <a:pathLst>
                  <a:path w="393" h="292">
                    <a:moveTo>
                      <a:pt x="35" y="35"/>
                    </a:moveTo>
                    <a:lnTo>
                      <a:pt x="393" y="0"/>
                    </a:lnTo>
                    <a:lnTo>
                      <a:pt x="393" y="265"/>
                    </a:lnTo>
                    <a:lnTo>
                      <a:pt x="0" y="292"/>
                    </a:lnTo>
                    <a:lnTo>
                      <a:pt x="35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821200" y="3019320"/>
                <a:ext cx="545040" cy="416160"/>
              </a:xfrm>
              <a:custGeom>
                <a:avLst/>
                <a:gdLst/>
                <a:ahLst/>
                <a:rect l="0" t="0" r="r" b="b"/>
                <a:pathLst>
                  <a:path w="1514" h="1156">
                    <a:moveTo>
                      <a:pt x="366" y="4"/>
                    </a:moveTo>
                    <a:lnTo>
                      <a:pt x="1316" y="0"/>
                    </a:lnTo>
                    <a:lnTo>
                      <a:pt x="1514" y="304"/>
                    </a:lnTo>
                    <a:lnTo>
                      <a:pt x="1307" y="909"/>
                    </a:lnTo>
                    <a:lnTo>
                      <a:pt x="180" y="1156"/>
                    </a:lnTo>
                    <a:lnTo>
                      <a:pt x="0" y="940"/>
                    </a:lnTo>
                    <a:lnTo>
                      <a:pt x="525" y="463"/>
                    </a:lnTo>
                    <a:lnTo>
                      <a:pt x="36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888160" y="3406680"/>
                <a:ext cx="200520" cy="116280"/>
              </a:xfrm>
              <a:custGeom>
                <a:avLst/>
                <a:gdLst/>
                <a:ahLst/>
                <a:rect l="0" t="0" r="r" b="b"/>
                <a:pathLst>
                  <a:path w="557" h="323">
                    <a:moveTo>
                      <a:pt x="0" y="79"/>
                    </a:moveTo>
                    <a:lnTo>
                      <a:pt x="375" y="0"/>
                    </a:lnTo>
                    <a:lnTo>
                      <a:pt x="557" y="297"/>
                    </a:lnTo>
                    <a:lnTo>
                      <a:pt x="340" y="257"/>
                    </a:lnTo>
                    <a:lnTo>
                      <a:pt x="155" y="323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927760" y="3500280"/>
                <a:ext cx="160560" cy="203400"/>
              </a:xfrm>
              <a:custGeom>
                <a:avLst/>
                <a:gdLst/>
                <a:ahLst/>
                <a:rect l="0" t="0" r="r" b="b"/>
                <a:pathLst>
                  <a:path w="446" h="565">
                    <a:moveTo>
                      <a:pt x="446" y="35"/>
                    </a:moveTo>
                    <a:lnTo>
                      <a:pt x="230" y="0"/>
                    </a:lnTo>
                    <a:lnTo>
                      <a:pt x="52" y="61"/>
                    </a:lnTo>
                    <a:lnTo>
                      <a:pt x="35" y="336"/>
                    </a:lnTo>
                    <a:lnTo>
                      <a:pt x="0" y="565"/>
                    </a:lnTo>
                    <a:lnTo>
                      <a:pt x="269" y="415"/>
                    </a:lnTo>
                    <a:lnTo>
                      <a:pt x="393" y="318"/>
                    </a:lnTo>
                    <a:lnTo>
                      <a:pt x="446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408640" y="5826240"/>
                <a:ext cx="201960" cy="170280"/>
              </a:xfrm>
              <a:custGeom>
                <a:avLst/>
                <a:gdLst/>
                <a:ahLst/>
                <a:rect l="0" t="0" r="r" b="b"/>
                <a:pathLst>
                  <a:path w="561" h="473">
                    <a:moveTo>
                      <a:pt x="419" y="0"/>
                    </a:moveTo>
                    <a:lnTo>
                      <a:pt x="110" y="150"/>
                    </a:lnTo>
                    <a:lnTo>
                      <a:pt x="0" y="447"/>
                    </a:lnTo>
                    <a:lnTo>
                      <a:pt x="216" y="473"/>
                    </a:lnTo>
                    <a:lnTo>
                      <a:pt x="494" y="331"/>
                    </a:lnTo>
                    <a:lnTo>
                      <a:pt x="561" y="164"/>
                    </a:lnTo>
                    <a:lnTo>
                      <a:pt x="4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915160" y="5450040"/>
                <a:ext cx="147960" cy="159120"/>
              </a:xfrm>
              <a:custGeom>
                <a:avLst/>
                <a:gdLst/>
                <a:ahLst/>
                <a:rect l="0" t="0" r="r" b="b"/>
                <a:pathLst>
                  <a:path w="411" h="442">
                    <a:moveTo>
                      <a:pt x="353" y="13"/>
                    </a:moveTo>
                    <a:lnTo>
                      <a:pt x="185" y="0"/>
                    </a:lnTo>
                    <a:lnTo>
                      <a:pt x="74" y="61"/>
                    </a:lnTo>
                    <a:lnTo>
                      <a:pt x="0" y="217"/>
                    </a:lnTo>
                    <a:lnTo>
                      <a:pt x="110" y="442"/>
                    </a:lnTo>
                    <a:lnTo>
                      <a:pt x="189" y="442"/>
                    </a:lnTo>
                    <a:lnTo>
                      <a:pt x="411" y="309"/>
                    </a:lnTo>
                    <a:lnTo>
                      <a:pt x="35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940440" y="2241720"/>
                <a:ext cx="141480" cy="201960"/>
              </a:xfrm>
              <a:custGeom>
                <a:avLst/>
                <a:gdLst/>
                <a:ahLst/>
                <a:rect l="0" t="0" r="r" b="b"/>
                <a:pathLst>
                  <a:path w="393" h="561">
                    <a:moveTo>
                      <a:pt x="389" y="0"/>
                    </a:moveTo>
                    <a:lnTo>
                      <a:pt x="0" y="198"/>
                    </a:lnTo>
                    <a:lnTo>
                      <a:pt x="52" y="561"/>
                    </a:lnTo>
                    <a:lnTo>
                      <a:pt x="375" y="561"/>
                    </a:lnTo>
                    <a:lnTo>
                      <a:pt x="393" y="499"/>
                    </a:lnTo>
                    <a:lnTo>
                      <a:pt x="256" y="397"/>
                    </a:lnTo>
                    <a:lnTo>
                      <a:pt x="3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0" name=""/>
            <p:cNvGrpSpPr/>
            <p:nvPr/>
          </p:nvGrpSpPr>
          <p:grpSpPr>
            <a:xfrm>
              <a:off x="1492200" y="0"/>
              <a:ext cx="6271200" cy="6275880"/>
              <a:chOff x="1492200" y="0"/>
              <a:chExt cx="6271200" cy="6275880"/>
            </a:xfrm>
          </p:grpSpPr>
          <p:sp>
            <p:nvSpPr>
              <p:cNvPr id="431" name=""/>
              <p:cNvSpPr/>
              <p:nvPr/>
            </p:nvSpPr>
            <p:spPr>
              <a:xfrm>
                <a:off x="3159000" y="1320840"/>
                <a:ext cx="1397520" cy="1505160"/>
              </a:xfrm>
              <a:custGeom>
                <a:avLst/>
                <a:gdLst/>
                <a:ahLst/>
                <a:rect l="0" t="0" r="r" b="b"/>
                <a:pathLst>
                  <a:path w="3882" h="4181">
                    <a:moveTo>
                      <a:pt x="3371" y="185"/>
                    </a:moveTo>
                    <a:lnTo>
                      <a:pt x="971" y="956"/>
                    </a:lnTo>
                    <a:lnTo>
                      <a:pt x="529" y="1693"/>
                    </a:lnTo>
                    <a:lnTo>
                      <a:pt x="110" y="1944"/>
                    </a:lnTo>
                    <a:lnTo>
                      <a:pt x="194" y="2563"/>
                    </a:lnTo>
                    <a:lnTo>
                      <a:pt x="0" y="2929"/>
                    </a:lnTo>
                    <a:lnTo>
                      <a:pt x="127" y="3228"/>
                    </a:lnTo>
                    <a:lnTo>
                      <a:pt x="308" y="4181"/>
                    </a:lnTo>
                    <a:lnTo>
                      <a:pt x="692" y="4181"/>
                    </a:lnTo>
                    <a:lnTo>
                      <a:pt x="639" y="2505"/>
                    </a:lnTo>
                    <a:lnTo>
                      <a:pt x="939" y="2307"/>
                    </a:lnTo>
                    <a:lnTo>
                      <a:pt x="3018" y="2320"/>
                    </a:lnTo>
                    <a:lnTo>
                      <a:pt x="3543" y="1314"/>
                    </a:lnTo>
                    <a:lnTo>
                      <a:pt x="3882" y="0"/>
                    </a:lnTo>
                    <a:lnTo>
                      <a:pt x="3371" y="185"/>
                    </a:lnTo>
                    <a:close/>
                  </a:path>
                </a:pathLst>
              </a:custGeom>
              <a:solidFill>
                <a:srgbClr val="006d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919160" y="1146240"/>
                <a:ext cx="1592640" cy="1313280"/>
              </a:xfrm>
              <a:custGeom>
                <a:avLst/>
                <a:gdLst/>
                <a:ahLst/>
                <a:rect l="0" t="0" r="r" b="b"/>
                <a:pathLst>
                  <a:path w="4424" h="3648">
                    <a:moveTo>
                      <a:pt x="1844" y="0"/>
                    </a:moveTo>
                    <a:lnTo>
                      <a:pt x="1319" y="414"/>
                    </a:lnTo>
                    <a:lnTo>
                      <a:pt x="1539" y="2254"/>
                    </a:lnTo>
                    <a:lnTo>
                      <a:pt x="0" y="2267"/>
                    </a:lnTo>
                    <a:lnTo>
                      <a:pt x="44" y="2947"/>
                    </a:lnTo>
                    <a:lnTo>
                      <a:pt x="1143" y="3000"/>
                    </a:lnTo>
                    <a:lnTo>
                      <a:pt x="1226" y="3648"/>
                    </a:lnTo>
                    <a:lnTo>
                      <a:pt x="1747" y="3648"/>
                    </a:lnTo>
                    <a:lnTo>
                      <a:pt x="2003" y="2978"/>
                    </a:lnTo>
                    <a:lnTo>
                      <a:pt x="2417" y="3022"/>
                    </a:lnTo>
                    <a:lnTo>
                      <a:pt x="3988" y="2210"/>
                    </a:lnTo>
                    <a:lnTo>
                      <a:pt x="4424" y="1456"/>
                    </a:lnTo>
                    <a:lnTo>
                      <a:pt x="1844" y="0"/>
                    </a:lnTo>
                    <a:close/>
                  </a:path>
                </a:pathLst>
              </a:custGeom>
              <a:solidFill>
                <a:srgbClr val="006d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259000" y="1440"/>
                <a:ext cx="725760" cy="854280"/>
              </a:xfrm>
              <a:custGeom>
                <a:avLst/>
                <a:gdLst/>
                <a:ahLst/>
                <a:rect l="0" t="0" r="r" b="b"/>
                <a:pathLst>
                  <a:path w="2016" h="2373">
                    <a:moveTo>
                      <a:pt x="2016" y="0"/>
                    </a:moveTo>
                    <a:lnTo>
                      <a:pt x="1698" y="507"/>
                    </a:lnTo>
                    <a:lnTo>
                      <a:pt x="330" y="1363"/>
                    </a:lnTo>
                    <a:lnTo>
                      <a:pt x="0" y="2232"/>
                    </a:lnTo>
                    <a:lnTo>
                      <a:pt x="515" y="2373"/>
                    </a:lnTo>
                    <a:lnTo>
                      <a:pt x="564" y="2122"/>
                    </a:lnTo>
                    <a:lnTo>
                      <a:pt x="1844" y="1244"/>
                    </a:lnTo>
                    <a:lnTo>
                      <a:pt x="2016" y="0"/>
                    </a:lnTo>
                    <a:close/>
                  </a:path>
                </a:pathLst>
              </a:custGeom>
              <a:solidFill>
                <a:srgbClr val="006d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643040" y="804960"/>
                <a:ext cx="805320" cy="697320"/>
              </a:xfrm>
              <a:custGeom>
                <a:avLst/>
                <a:gdLst/>
                <a:ahLst/>
                <a:rect l="0" t="0" r="r" b="b"/>
                <a:pathLst>
                  <a:path w="2237" h="1937">
                    <a:moveTo>
                      <a:pt x="1712" y="0"/>
                    </a:moveTo>
                    <a:lnTo>
                      <a:pt x="2237" y="136"/>
                    </a:lnTo>
                    <a:lnTo>
                      <a:pt x="1911" y="490"/>
                    </a:lnTo>
                    <a:lnTo>
                      <a:pt x="1659" y="812"/>
                    </a:lnTo>
                    <a:lnTo>
                      <a:pt x="1187" y="812"/>
                    </a:lnTo>
                    <a:lnTo>
                      <a:pt x="684" y="1937"/>
                    </a:lnTo>
                    <a:lnTo>
                      <a:pt x="0" y="1779"/>
                    </a:lnTo>
                    <a:lnTo>
                      <a:pt x="658" y="574"/>
                    </a:lnTo>
                    <a:lnTo>
                      <a:pt x="1712" y="0"/>
                    </a:lnTo>
                    <a:close/>
                  </a:path>
                </a:pathLst>
              </a:custGeom>
              <a:solidFill>
                <a:srgbClr val="006d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757680" y="149400"/>
                <a:ext cx="379800" cy="579960"/>
              </a:xfrm>
              <a:custGeom>
                <a:avLst/>
                <a:gdLst/>
                <a:ahLst/>
                <a:rect l="0" t="0" r="r" b="b"/>
                <a:pathLst>
                  <a:path w="1055" h="1611">
                    <a:moveTo>
                      <a:pt x="22" y="136"/>
                    </a:moveTo>
                    <a:lnTo>
                      <a:pt x="945" y="0"/>
                    </a:lnTo>
                    <a:lnTo>
                      <a:pt x="1055" y="988"/>
                    </a:lnTo>
                    <a:lnTo>
                      <a:pt x="702" y="1611"/>
                    </a:lnTo>
                    <a:lnTo>
                      <a:pt x="171" y="1010"/>
                    </a:lnTo>
                    <a:lnTo>
                      <a:pt x="0" y="852"/>
                    </a:lnTo>
                    <a:lnTo>
                      <a:pt x="154" y="583"/>
                    </a:lnTo>
                    <a:lnTo>
                      <a:pt x="22" y="136"/>
                    </a:lnTo>
                    <a:close/>
                  </a:path>
                </a:pathLst>
              </a:custGeom>
              <a:solidFill>
                <a:srgbClr val="006d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528920" y="984240"/>
                <a:ext cx="1060920" cy="993960"/>
              </a:xfrm>
              <a:custGeom>
                <a:avLst/>
                <a:gdLst/>
                <a:ahLst/>
                <a:rect l="0" t="0" r="r" b="b"/>
                <a:pathLst>
                  <a:path w="2947" h="2761">
                    <a:moveTo>
                      <a:pt x="2220" y="0"/>
                    </a:moveTo>
                    <a:lnTo>
                      <a:pt x="2947" y="449"/>
                    </a:lnTo>
                    <a:lnTo>
                      <a:pt x="2436" y="846"/>
                    </a:lnTo>
                    <a:lnTo>
                      <a:pt x="2656" y="2730"/>
                    </a:lnTo>
                    <a:lnTo>
                      <a:pt x="1103" y="2730"/>
                    </a:lnTo>
                    <a:lnTo>
                      <a:pt x="692" y="2554"/>
                    </a:lnTo>
                    <a:lnTo>
                      <a:pt x="0" y="2761"/>
                    </a:lnTo>
                    <a:lnTo>
                      <a:pt x="299" y="1998"/>
                    </a:lnTo>
                    <a:lnTo>
                      <a:pt x="317" y="1278"/>
                    </a:lnTo>
                    <a:lnTo>
                      <a:pt x="1002" y="1425"/>
                    </a:lnTo>
                    <a:lnTo>
                      <a:pt x="1504" y="308"/>
                    </a:lnTo>
                    <a:lnTo>
                      <a:pt x="1976" y="308"/>
                    </a:lnTo>
                    <a:lnTo>
                      <a:pt x="2220" y="0"/>
                    </a:lnTo>
                    <a:close/>
                  </a:path>
                </a:pathLst>
              </a:custGeom>
              <a:solidFill>
                <a:srgbClr val="006d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320920" y="0"/>
                <a:ext cx="2045160" cy="1670400"/>
              </a:xfrm>
              <a:custGeom>
                <a:avLst/>
                <a:gdLst/>
                <a:ahLst/>
                <a:rect l="0" t="0" r="r" b="b"/>
                <a:pathLst>
                  <a:path w="5681" h="4640">
                    <a:moveTo>
                      <a:pt x="1839" y="0"/>
                    </a:moveTo>
                    <a:lnTo>
                      <a:pt x="3731" y="599"/>
                    </a:lnTo>
                    <a:lnTo>
                      <a:pt x="4031" y="537"/>
                    </a:lnTo>
                    <a:lnTo>
                      <a:pt x="4146" y="1009"/>
                    </a:lnTo>
                    <a:lnTo>
                      <a:pt x="3996" y="1265"/>
                    </a:lnTo>
                    <a:lnTo>
                      <a:pt x="4216" y="1464"/>
                    </a:lnTo>
                    <a:lnTo>
                      <a:pt x="4742" y="2054"/>
                    </a:lnTo>
                    <a:lnTo>
                      <a:pt x="4764" y="2607"/>
                    </a:lnTo>
                    <a:lnTo>
                      <a:pt x="4482" y="2946"/>
                    </a:lnTo>
                    <a:lnTo>
                      <a:pt x="5681" y="3872"/>
                    </a:lnTo>
                    <a:lnTo>
                      <a:pt x="3290" y="4640"/>
                    </a:lnTo>
                    <a:lnTo>
                      <a:pt x="762" y="3206"/>
                    </a:lnTo>
                    <a:lnTo>
                      <a:pt x="0" y="2743"/>
                    </a:lnTo>
                    <a:lnTo>
                      <a:pt x="343" y="2373"/>
                    </a:lnTo>
                    <a:lnTo>
                      <a:pt x="388" y="2121"/>
                    </a:lnTo>
                    <a:lnTo>
                      <a:pt x="1663" y="1247"/>
                    </a:lnTo>
                    <a:lnTo>
                      <a:pt x="1839" y="0"/>
                    </a:lnTo>
                    <a:close/>
                  </a:path>
                </a:pathLst>
              </a:custGeom>
              <a:solidFill>
                <a:srgbClr val="006d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921120" y="500040"/>
                <a:ext cx="1522800" cy="1195920"/>
              </a:xfrm>
              <a:custGeom>
                <a:avLst/>
                <a:gdLst/>
                <a:ahLst/>
                <a:rect l="0" t="0" r="r" b="b"/>
                <a:pathLst>
                  <a:path w="4230" h="3322">
                    <a:moveTo>
                      <a:pt x="595" y="0"/>
                    </a:moveTo>
                    <a:lnTo>
                      <a:pt x="246" y="604"/>
                    </a:lnTo>
                    <a:lnTo>
                      <a:pt x="282" y="1218"/>
                    </a:lnTo>
                    <a:lnTo>
                      <a:pt x="0" y="1566"/>
                    </a:lnTo>
                    <a:lnTo>
                      <a:pt x="1231" y="2483"/>
                    </a:lnTo>
                    <a:lnTo>
                      <a:pt x="1742" y="2302"/>
                    </a:lnTo>
                    <a:lnTo>
                      <a:pt x="3781" y="3322"/>
                    </a:lnTo>
                    <a:lnTo>
                      <a:pt x="4195" y="3119"/>
                    </a:lnTo>
                    <a:lnTo>
                      <a:pt x="4230" y="2515"/>
                    </a:lnTo>
                    <a:lnTo>
                      <a:pt x="4133" y="489"/>
                    </a:lnTo>
                    <a:lnTo>
                      <a:pt x="3123" y="207"/>
                    </a:lnTo>
                    <a:lnTo>
                      <a:pt x="2642" y="546"/>
                    </a:lnTo>
                    <a:lnTo>
                      <a:pt x="2307" y="962"/>
                    </a:lnTo>
                    <a:lnTo>
                      <a:pt x="1385" y="158"/>
                    </a:lnTo>
                    <a:lnTo>
                      <a:pt x="595" y="0"/>
                    </a:lnTo>
                    <a:close/>
                  </a:path>
                </a:pathLst>
              </a:custGeom>
              <a:solidFill>
                <a:srgbClr val="006d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398920" y="668160"/>
                <a:ext cx="964080" cy="746640"/>
              </a:xfrm>
              <a:custGeom>
                <a:avLst/>
                <a:gdLst/>
                <a:ahLst/>
                <a:rect l="0" t="0" r="r" b="b"/>
                <a:pathLst>
                  <a:path w="2678" h="2074">
                    <a:moveTo>
                      <a:pt x="0" y="0"/>
                    </a:moveTo>
                    <a:lnTo>
                      <a:pt x="119" y="2074"/>
                    </a:lnTo>
                    <a:lnTo>
                      <a:pt x="2678" y="2074"/>
                    </a:lnTo>
                    <a:lnTo>
                      <a:pt x="1584" y="896"/>
                    </a:lnTo>
                    <a:lnTo>
                      <a:pt x="1584" y="105"/>
                    </a:lnTo>
                    <a:lnTo>
                      <a:pt x="1037" y="57"/>
                    </a:lnTo>
                    <a:lnTo>
                      <a:pt x="661" y="16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d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032440" y="1397160"/>
                <a:ext cx="1535400" cy="1560960"/>
              </a:xfrm>
              <a:custGeom>
                <a:avLst/>
                <a:gdLst/>
                <a:ahLst/>
                <a:rect l="0" t="0" r="r" b="b"/>
                <a:pathLst>
                  <a:path w="4265" h="4336">
                    <a:moveTo>
                      <a:pt x="1137" y="0"/>
                    </a:moveTo>
                    <a:lnTo>
                      <a:pt x="3669" y="0"/>
                    </a:lnTo>
                    <a:lnTo>
                      <a:pt x="4265" y="1491"/>
                    </a:lnTo>
                    <a:lnTo>
                      <a:pt x="3647" y="3012"/>
                    </a:lnTo>
                    <a:lnTo>
                      <a:pt x="3731" y="3917"/>
                    </a:lnTo>
                    <a:lnTo>
                      <a:pt x="3405" y="4332"/>
                    </a:lnTo>
                    <a:lnTo>
                      <a:pt x="2435" y="4336"/>
                    </a:lnTo>
                    <a:lnTo>
                      <a:pt x="1503" y="4058"/>
                    </a:lnTo>
                    <a:lnTo>
                      <a:pt x="1089" y="3503"/>
                    </a:lnTo>
                    <a:lnTo>
                      <a:pt x="692" y="3468"/>
                    </a:lnTo>
                    <a:lnTo>
                      <a:pt x="0" y="2258"/>
                    </a:lnTo>
                    <a:lnTo>
                      <a:pt x="220" y="1729"/>
                    </a:lnTo>
                    <a:lnTo>
                      <a:pt x="542" y="1628"/>
                    </a:lnTo>
                    <a:lnTo>
                      <a:pt x="692" y="820"/>
                    </a:lnTo>
                    <a:lnTo>
                      <a:pt x="1089" y="621"/>
                    </a:lnTo>
                    <a:lnTo>
                      <a:pt x="1137" y="0"/>
                    </a:lnTo>
                    <a:close/>
                  </a:path>
                </a:pathLst>
              </a:custGeom>
              <a:solidFill>
                <a:srgbClr val="006d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238640" y="1325520"/>
                <a:ext cx="1043280" cy="1306800"/>
              </a:xfrm>
              <a:custGeom>
                <a:avLst/>
                <a:gdLst/>
                <a:ahLst/>
                <a:rect l="0" t="0" r="r" b="b"/>
                <a:pathLst>
                  <a:path w="2898" h="3630">
                    <a:moveTo>
                      <a:pt x="873" y="0"/>
                    </a:moveTo>
                    <a:lnTo>
                      <a:pt x="2898" y="1018"/>
                    </a:lnTo>
                    <a:lnTo>
                      <a:pt x="2757" y="1831"/>
                    </a:lnTo>
                    <a:lnTo>
                      <a:pt x="2430" y="1932"/>
                    </a:lnTo>
                    <a:lnTo>
                      <a:pt x="2227" y="2452"/>
                    </a:lnTo>
                    <a:lnTo>
                      <a:pt x="2602" y="3101"/>
                    </a:lnTo>
                    <a:lnTo>
                      <a:pt x="1720" y="3497"/>
                    </a:lnTo>
                    <a:lnTo>
                      <a:pt x="762" y="3630"/>
                    </a:lnTo>
                    <a:lnTo>
                      <a:pt x="463" y="3444"/>
                    </a:lnTo>
                    <a:lnTo>
                      <a:pt x="789" y="3140"/>
                    </a:lnTo>
                    <a:lnTo>
                      <a:pt x="560" y="2474"/>
                    </a:lnTo>
                    <a:lnTo>
                      <a:pt x="0" y="2316"/>
                    </a:lnTo>
                    <a:lnTo>
                      <a:pt x="529" y="1265"/>
                    </a:lnTo>
                    <a:lnTo>
                      <a:pt x="873" y="0"/>
                    </a:lnTo>
                    <a:close/>
                  </a:path>
                </a:pathLst>
              </a:custGeom>
              <a:solidFill>
                <a:srgbClr val="006d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492200" y="1900080"/>
                <a:ext cx="443160" cy="306720"/>
              </a:xfrm>
              <a:custGeom>
                <a:avLst/>
                <a:gdLst/>
                <a:ahLst/>
                <a:rect l="0" t="0" r="r" b="b"/>
                <a:pathLst>
                  <a:path w="1231" h="852">
                    <a:moveTo>
                      <a:pt x="105" y="207"/>
                    </a:moveTo>
                    <a:lnTo>
                      <a:pt x="785" y="0"/>
                    </a:lnTo>
                    <a:lnTo>
                      <a:pt x="1191" y="171"/>
                    </a:lnTo>
                    <a:lnTo>
                      <a:pt x="1231" y="852"/>
                    </a:lnTo>
                    <a:lnTo>
                      <a:pt x="0" y="772"/>
                    </a:lnTo>
                    <a:lnTo>
                      <a:pt x="105" y="207"/>
                    </a:lnTo>
                    <a:close/>
                  </a:path>
                </a:pathLst>
              </a:custGeom>
              <a:solidFill>
                <a:srgbClr val="006d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492200" y="2178000"/>
                <a:ext cx="443160" cy="160560"/>
              </a:xfrm>
              <a:custGeom>
                <a:avLst/>
                <a:gdLst/>
                <a:ahLst/>
                <a:rect l="0" t="0" r="r" b="b"/>
                <a:pathLst>
                  <a:path w="1231" h="446">
                    <a:moveTo>
                      <a:pt x="0" y="0"/>
                    </a:moveTo>
                    <a:lnTo>
                      <a:pt x="1231" y="70"/>
                    </a:lnTo>
                    <a:lnTo>
                      <a:pt x="573" y="44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d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697040" y="2200320"/>
                <a:ext cx="673560" cy="484560"/>
              </a:xfrm>
              <a:custGeom>
                <a:avLst/>
                <a:gdLst/>
                <a:ahLst/>
                <a:rect l="0" t="0" r="r" b="b"/>
                <a:pathLst>
                  <a:path w="1871" h="1346">
                    <a:moveTo>
                      <a:pt x="0" y="371"/>
                    </a:moveTo>
                    <a:lnTo>
                      <a:pt x="644" y="0"/>
                    </a:lnTo>
                    <a:lnTo>
                      <a:pt x="1770" y="66"/>
                    </a:lnTo>
                    <a:lnTo>
                      <a:pt x="1871" y="746"/>
                    </a:lnTo>
                    <a:lnTo>
                      <a:pt x="1708" y="1346"/>
                    </a:lnTo>
                    <a:lnTo>
                      <a:pt x="1187" y="975"/>
                    </a:lnTo>
                    <a:lnTo>
                      <a:pt x="830" y="622"/>
                    </a:lnTo>
                    <a:lnTo>
                      <a:pt x="530" y="904"/>
                    </a:lnTo>
                    <a:lnTo>
                      <a:pt x="0" y="371"/>
                    </a:lnTo>
                    <a:close/>
                  </a:path>
                </a:pathLst>
              </a:custGeom>
              <a:solidFill>
                <a:srgbClr val="006d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881360" y="2421000"/>
                <a:ext cx="241560" cy="297360"/>
              </a:xfrm>
              <a:custGeom>
                <a:avLst/>
                <a:gdLst/>
                <a:ahLst/>
                <a:rect l="0" t="0" r="r" b="b"/>
                <a:pathLst>
                  <a:path w="671" h="826">
                    <a:moveTo>
                      <a:pt x="317" y="0"/>
                    </a:moveTo>
                    <a:lnTo>
                      <a:pt x="0" y="292"/>
                    </a:lnTo>
                    <a:lnTo>
                      <a:pt x="516" y="826"/>
                    </a:lnTo>
                    <a:lnTo>
                      <a:pt x="671" y="353"/>
                    </a:lnTo>
                    <a:lnTo>
                      <a:pt x="317" y="0"/>
                    </a:lnTo>
                    <a:close/>
                  </a:path>
                </a:pathLst>
              </a:custGeom>
              <a:solidFill>
                <a:srgbClr val="006d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062080" y="2543040"/>
                <a:ext cx="249480" cy="371880"/>
              </a:xfrm>
              <a:custGeom>
                <a:avLst/>
                <a:gdLst/>
                <a:ahLst/>
                <a:rect l="0" t="0" r="r" b="b"/>
                <a:pathLst>
                  <a:path w="693" h="1033">
                    <a:moveTo>
                      <a:pt x="154" y="0"/>
                    </a:moveTo>
                    <a:lnTo>
                      <a:pt x="0" y="486"/>
                    </a:lnTo>
                    <a:lnTo>
                      <a:pt x="543" y="1033"/>
                    </a:lnTo>
                    <a:lnTo>
                      <a:pt x="693" y="389"/>
                    </a:lnTo>
                    <a:lnTo>
                      <a:pt x="154" y="0"/>
                    </a:lnTo>
                    <a:close/>
                  </a:path>
                </a:pathLst>
              </a:custGeom>
              <a:solidFill>
                <a:srgbClr val="006d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55760" y="2454120"/>
                <a:ext cx="528840" cy="460800"/>
              </a:xfrm>
              <a:custGeom>
                <a:avLst/>
                <a:gdLst/>
                <a:ahLst/>
                <a:rect l="0" t="0" r="r" b="b"/>
                <a:pathLst>
                  <a:path w="1469" h="1280">
                    <a:moveTo>
                      <a:pt x="317" y="0"/>
                    </a:moveTo>
                    <a:lnTo>
                      <a:pt x="799" y="0"/>
                    </a:lnTo>
                    <a:lnTo>
                      <a:pt x="1469" y="468"/>
                    </a:lnTo>
                    <a:lnTo>
                      <a:pt x="1407" y="1047"/>
                    </a:lnTo>
                    <a:lnTo>
                      <a:pt x="498" y="1055"/>
                    </a:lnTo>
                    <a:lnTo>
                      <a:pt x="0" y="1280"/>
                    </a:lnTo>
                    <a:lnTo>
                      <a:pt x="154" y="631"/>
                    </a:lnTo>
                    <a:lnTo>
                      <a:pt x="317" y="0"/>
                    </a:lnTo>
                    <a:close/>
                  </a:path>
                </a:pathLst>
              </a:custGeom>
              <a:solidFill>
                <a:srgbClr val="006d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757600" y="2394000"/>
                <a:ext cx="370080" cy="438480"/>
              </a:xfrm>
              <a:custGeom>
                <a:avLst/>
                <a:gdLst/>
                <a:ahLst/>
                <a:rect l="0" t="0" r="r" b="b"/>
                <a:pathLst>
                  <a:path w="1028" h="1218">
                    <a:moveTo>
                      <a:pt x="127" y="22"/>
                    </a:moveTo>
                    <a:lnTo>
                      <a:pt x="852" y="0"/>
                    </a:lnTo>
                    <a:lnTo>
                      <a:pt x="1028" y="1218"/>
                    </a:lnTo>
                    <a:lnTo>
                      <a:pt x="0" y="1218"/>
                    </a:lnTo>
                    <a:lnTo>
                      <a:pt x="127" y="22"/>
                    </a:lnTo>
                    <a:close/>
                  </a:path>
                </a:pathLst>
              </a:custGeom>
              <a:solidFill>
                <a:srgbClr val="006d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540160" y="2017800"/>
                <a:ext cx="736920" cy="808560"/>
              </a:xfrm>
              <a:custGeom>
                <a:avLst/>
                <a:gdLst/>
                <a:ahLst/>
                <a:rect l="0" t="0" r="r" b="b"/>
                <a:pathLst>
                  <a:path w="2047" h="2246">
                    <a:moveTo>
                      <a:pt x="264" y="551"/>
                    </a:moveTo>
                    <a:lnTo>
                      <a:pt x="0" y="1213"/>
                    </a:lnTo>
                    <a:lnTo>
                      <a:pt x="670" y="1686"/>
                    </a:lnTo>
                    <a:lnTo>
                      <a:pt x="749" y="1081"/>
                    </a:lnTo>
                    <a:lnTo>
                      <a:pt x="1456" y="1046"/>
                    </a:lnTo>
                    <a:lnTo>
                      <a:pt x="1619" y="2246"/>
                    </a:lnTo>
                    <a:lnTo>
                      <a:pt x="2047" y="2246"/>
                    </a:lnTo>
                    <a:lnTo>
                      <a:pt x="1848" y="1288"/>
                    </a:lnTo>
                    <a:lnTo>
                      <a:pt x="1720" y="988"/>
                    </a:lnTo>
                    <a:lnTo>
                      <a:pt x="1932" y="865"/>
                    </a:lnTo>
                    <a:lnTo>
                      <a:pt x="1839" y="0"/>
                    </a:lnTo>
                    <a:lnTo>
                      <a:pt x="709" y="578"/>
                    </a:lnTo>
                    <a:lnTo>
                      <a:pt x="264" y="551"/>
                    </a:lnTo>
                    <a:close/>
                  </a:path>
                </a:pathLst>
              </a:custGeom>
              <a:solidFill>
                <a:srgbClr val="006d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381480" y="2144880"/>
                <a:ext cx="1057680" cy="841680"/>
              </a:xfrm>
              <a:custGeom>
                <a:avLst/>
                <a:gdLst/>
                <a:ahLst/>
                <a:rect l="0" t="0" r="r" b="b"/>
                <a:pathLst>
                  <a:path w="2938" h="2338">
                    <a:moveTo>
                      <a:pt x="321" y="0"/>
                    </a:moveTo>
                    <a:lnTo>
                      <a:pt x="0" y="216"/>
                    </a:lnTo>
                    <a:lnTo>
                      <a:pt x="57" y="1892"/>
                    </a:lnTo>
                    <a:lnTo>
                      <a:pt x="1412" y="2338"/>
                    </a:lnTo>
                    <a:lnTo>
                      <a:pt x="1544" y="1566"/>
                    </a:lnTo>
                    <a:lnTo>
                      <a:pt x="2489" y="1150"/>
                    </a:lnTo>
                    <a:lnTo>
                      <a:pt x="2938" y="176"/>
                    </a:lnTo>
                    <a:lnTo>
                      <a:pt x="2414" y="22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6d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881520" y="2203560"/>
                <a:ext cx="665640" cy="843480"/>
              </a:xfrm>
              <a:custGeom>
                <a:avLst/>
                <a:gdLst/>
                <a:ahLst/>
                <a:rect l="0" t="0" r="r" b="b"/>
                <a:pathLst>
                  <a:path w="1849" h="2343">
                    <a:moveTo>
                      <a:pt x="1549" y="0"/>
                    </a:moveTo>
                    <a:lnTo>
                      <a:pt x="1090" y="984"/>
                    </a:lnTo>
                    <a:lnTo>
                      <a:pt x="110" y="1403"/>
                    </a:lnTo>
                    <a:lnTo>
                      <a:pt x="0" y="2145"/>
                    </a:lnTo>
                    <a:lnTo>
                      <a:pt x="22" y="2343"/>
                    </a:lnTo>
                    <a:lnTo>
                      <a:pt x="1796" y="2153"/>
                    </a:lnTo>
                    <a:lnTo>
                      <a:pt x="1849" y="1977"/>
                    </a:lnTo>
                    <a:lnTo>
                      <a:pt x="1690" y="1889"/>
                    </a:lnTo>
                    <a:lnTo>
                      <a:pt x="1624" y="1522"/>
                    </a:lnTo>
                    <a:lnTo>
                      <a:pt x="1783" y="1196"/>
                    </a:lnTo>
                    <a:lnTo>
                      <a:pt x="1492" y="1010"/>
                    </a:lnTo>
                    <a:lnTo>
                      <a:pt x="1801" y="710"/>
                    </a:lnTo>
                    <a:lnTo>
                      <a:pt x="1549" y="0"/>
                    </a:lnTo>
                    <a:close/>
                  </a:path>
                </a:pathLst>
              </a:custGeom>
              <a:solidFill>
                <a:srgbClr val="006d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456080" y="2438280"/>
                <a:ext cx="1124280" cy="525960"/>
              </a:xfrm>
              <a:custGeom>
                <a:avLst/>
                <a:gdLst/>
                <a:ahLst/>
                <a:rect l="0" t="0" r="r" b="b"/>
                <a:pathLst>
                  <a:path w="3123" h="1461">
                    <a:moveTo>
                      <a:pt x="163" y="516"/>
                    </a:moveTo>
                    <a:lnTo>
                      <a:pt x="0" y="887"/>
                    </a:lnTo>
                    <a:lnTo>
                      <a:pt x="88" y="1263"/>
                    </a:lnTo>
                    <a:lnTo>
                      <a:pt x="242" y="1342"/>
                    </a:lnTo>
                    <a:lnTo>
                      <a:pt x="467" y="1263"/>
                    </a:lnTo>
                    <a:lnTo>
                      <a:pt x="687" y="1461"/>
                    </a:lnTo>
                    <a:lnTo>
                      <a:pt x="970" y="1166"/>
                    </a:lnTo>
                    <a:lnTo>
                      <a:pt x="1472" y="1298"/>
                    </a:lnTo>
                    <a:lnTo>
                      <a:pt x="2144" y="1298"/>
                    </a:lnTo>
                    <a:lnTo>
                      <a:pt x="3123" y="1144"/>
                    </a:lnTo>
                    <a:lnTo>
                      <a:pt x="2708" y="605"/>
                    </a:lnTo>
                    <a:lnTo>
                      <a:pt x="2285" y="561"/>
                    </a:lnTo>
                    <a:lnTo>
                      <a:pt x="1985" y="0"/>
                    </a:lnTo>
                    <a:lnTo>
                      <a:pt x="1102" y="393"/>
                    </a:lnTo>
                    <a:lnTo>
                      <a:pt x="163" y="516"/>
                    </a:lnTo>
                    <a:close/>
                  </a:path>
                </a:pathLst>
              </a:custGeom>
              <a:solidFill>
                <a:srgbClr val="006d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833640" y="3003480"/>
                <a:ext cx="403560" cy="535320"/>
              </a:xfrm>
              <a:custGeom>
                <a:avLst/>
                <a:gdLst/>
                <a:ahLst/>
                <a:rect l="0" t="0" r="r" b="b"/>
                <a:pathLst>
                  <a:path w="1121" h="1487">
                    <a:moveTo>
                      <a:pt x="154" y="97"/>
                    </a:moveTo>
                    <a:lnTo>
                      <a:pt x="1121" y="0"/>
                    </a:lnTo>
                    <a:lnTo>
                      <a:pt x="1103" y="909"/>
                    </a:lnTo>
                    <a:lnTo>
                      <a:pt x="326" y="1169"/>
                    </a:lnTo>
                    <a:lnTo>
                      <a:pt x="229" y="1487"/>
                    </a:lnTo>
                    <a:lnTo>
                      <a:pt x="0" y="1138"/>
                    </a:lnTo>
                    <a:lnTo>
                      <a:pt x="154" y="97"/>
                    </a:lnTo>
                    <a:close/>
                  </a:path>
                </a:pathLst>
              </a:custGeom>
              <a:solidFill>
                <a:srgbClr val="006d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913200" y="2887560"/>
                <a:ext cx="790920" cy="746640"/>
              </a:xfrm>
              <a:custGeom>
                <a:avLst/>
                <a:gdLst/>
                <a:ahLst/>
                <a:rect l="0" t="0" r="r" b="b"/>
                <a:pathLst>
                  <a:path w="2197" h="2074">
                    <a:moveTo>
                      <a:pt x="899" y="313"/>
                    </a:moveTo>
                    <a:lnTo>
                      <a:pt x="1694" y="242"/>
                    </a:lnTo>
                    <a:lnTo>
                      <a:pt x="1734" y="92"/>
                    </a:lnTo>
                    <a:lnTo>
                      <a:pt x="1985" y="0"/>
                    </a:lnTo>
                    <a:lnTo>
                      <a:pt x="2197" y="211"/>
                    </a:lnTo>
                    <a:lnTo>
                      <a:pt x="1297" y="1735"/>
                    </a:lnTo>
                    <a:lnTo>
                      <a:pt x="167" y="2074"/>
                    </a:lnTo>
                    <a:lnTo>
                      <a:pt x="0" y="1787"/>
                    </a:lnTo>
                    <a:lnTo>
                      <a:pt x="97" y="1491"/>
                    </a:lnTo>
                    <a:lnTo>
                      <a:pt x="868" y="1231"/>
                    </a:lnTo>
                    <a:lnTo>
                      <a:pt x="899" y="313"/>
                    </a:lnTo>
                    <a:close/>
                  </a:path>
                </a:pathLst>
              </a:custGeom>
              <a:solidFill>
                <a:srgbClr val="006d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963960" y="2844720"/>
                <a:ext cx="2061000" cy="1487880"/>
              </a:xfrm>
              <a:custGeom>
                <a:avLst/>
                <a:gdLst/>
                <a:ahLst/>
                <a:rect l="0" t="0" r="r" b="b"/>
                <a:pathLst>
                  <a:path w="5725" h="4133">
                    <a:moveTo>
                      <a:pt x="4491" y="0"/>
                    </a:moveTo>
                    <a:lnTo>
                      <a:pt x="5417" y="304"/>
                    </a:lnTo>
                    <a:lnTo>
                      <a:pt x="5593" y="771"/>
                    </a:lnTo>
                    <a:lnTo>
                      <a:pt x="5064" y="1248"/>
                    </a:lnTo>
                    <a:lnTo>
                      <a:pt x="5408" y="1707"/>
                    </a:lnTo>
                    <a:lnTo>
                      <a:pt x="5373" y="2219"/>
                    </a:lnTo>
                    <a:lnTo>
                      <a:pt x="5725" y="3043"/>
                    </a:lnTo>
                    <a:lnTo>
                      <a:pt x="4429" y="3043"/>
                    </a:lnTo>
                    <a:lnTo>
                      <a:pt x="4429" y="3560"/>
                    </a:lnTo>
                    <a:lnTo>
                      <a:pt x="4914" y="3975"/>
                    </a:lnTo>
                    <a:lnTo>
                      <a:pt x="4711" y="4133"/>
                    </a:lnTo>
                    <a:lnTo>
                      <a:pt x="2779" y="3697"/>
                    </a:lnTo>
                    <a:lnTo>
                      <a:pt x="2690" y="2571"/>
                    </a:lnTo>
                    <a:lnTo>
                      <a:pt x="2316" y="2549"/>
                    </a:lnTo>
                    <a:lnTo>
                      <a:pt x="1941" y="2867"/>
                    </a:lnTo>
                    <a:lnTo>
                      <a:pt x="1349" y="2823"/>
                    </a:lnTo>
                    <a:lnTo>
                      <a:pt x="1327" y="2430"/>
                    </a:lnTo>
                    <a:lnTo>
                      <a:pt x="268" y="2651"/>
                    </a:lnTo>
                    <a:lnTo>
                      <a:pt x="0" y="2174"/>
                    </a:lnTo>
                    <a:lnTo>
                      <a:pt x="1124" y="1839"/>
                    </a:lnTo>
                    <a:lnTo>
                      <a:pt x="2055" y="313"/>
                    </a:lnTo>
                    <a:lnTo>
                      <a:pt x="2338" y="22"/>
                    </a:lnTo>
                    <a:lnTo>
                      <a:pt x="2840" y="163"/>
                    </a:lnTo>
                    <a:lnTo>
                      <a:pt x="3528" y="163"/>
                    </a:lnTo>
                    <a:lnTo>
                      <a:pt x="4491" y="0"/>
                    </a:lnTo>
                    <a:close/>
                  </a:path>
                </a:pathLst>
              </a:custGeom>
              <a:solidFill>
                <a:srgbClr val="006d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329520" y="1924200"/>
                <a:ext cx="1013040" cy="1114920"/>
              </a:xfrm>
              <a:custGeom>
                <a:avLst/>
                <a:gdLst/>
                <a:ahLst/>
                <a:rect l="0" t="0" r="r" b="b"/>
                <a:pathLst>
                  <a:path w="2814" h="3097">
                    <a:moveTo>
                      <a:pt x="635" y="0"/>
                    </a:moveTo>
                    <a:lnTo>
                      <a:pt x="0" y="1575"/>
                    </a:lnTo>
                    <a:lnTo>
                      <a:pt x="110" y="2471"/>
                    </a:lnTo>
                    <a:lnTo>
                      <a:pt x="1478" y="3097"/>
                    </a:lnTo>
                    <a:lnTo>
                      <a:pt x="1914" y="2841"/>
                    </a:lnTo>
                    <a:lnTo>
                      <a:pt x="2593" y="2665"/>
                    </a:lnTo>
                    <a:lnTo>
                      <a:pt x="2814" y="2183"/>
                    </a:lnTo>
                    <a:lnTo>
                      <a:pt x="1954" y="1672"/>
                    </a:lnTo>
                    <a:lnTo>
                      <a:pt x="1998" y="1204"/>
                    </a:lnTo>
                    <a:lnTo>
                      <a:pt x="1839" y="1103"/>
                    </a:lnTo>
                    <a:lnTo>
                      <a:pt x="1976" y="705"/>
                    </a:lnTo>
                    <a:lnTo>
                      <a:pt x="635" y="0"/>
                    </a:lnTo>
                    <a:close/>
                  </a:path>
                </a:pathLst>
              </a:custGeom>
              <a:solidFill>
                <a:srgbClr val="006d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826320" y="2225520"/>
                <a:ext cx="937080" cy="1101960"/>
              </a:xfrm>
              <a:custGeom>
                <a:avLst/>
                <a:gdLst/>
                <a:ahLst/>
                <a:rect l="0" t="0" r="r" b="b"/>
                <a:pathLst>
                  <a:path w="2603" h="3061">
                    <a:moveTo>
                      <a:pt x="599" y="366"/>
                    </a:moveTo>
                    <a:lnTo>
                      <a:pt x="564" y="837"/>
                    </a:lnTo>
                    <a:lnTo>
                      <a:pt x="1420" y="1344"/>
                    </a:lnTo>
                    <a:lnTo>
                      <a:pt x="1209" y="1817"/>
                    </a:lnTo>
                    <a:lnTo>
                      <a:pt x="537" y="1980"/>
                    </a:lnTo>
                    <a:lnTo>
                      <a:pt x="92" y="2254"/>
                    </a:lnTo>
                    <a:lnTo>
                      <a:pt x="0" y="2576"/>
                    </a:lnTo>
                    <a:lnTo>
                      <a:pt x="357" y="3061"/>
                    </a:lnTo>
                    <a:lnTo>
                      <a:pt x="1751" y="2232"/>
                    </a:lnTo>
                    <a:lnTo>
                      <a:pt x="2603" y="0"/>
                    </a:lnTo>
                    <a:lnTo>
                      <a:pt x="1345" y="529"/>
                    </a:lnTo>
                    <a:lnTo>
                      <a:pt x="599" y="366"/>
                    </a:lnTo>
                    <a:close/>
                  </a:path>
                </a:pathLst>
              </a:custGeom>
              <a:solidFill>
                <a:srgbClr val="006d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248520" y="2806560"/>
                <a:ext cx="706680" cy="856080"/>
              </a:xfrm>
              <a:custGeom>
                <a:avLst/>
                <a:gdLst/>
                <a:ahLst/>
                <a:rect l="0" t="0" r="r" b="b"/>
                <a:pathLst>
                  <a:path w="1963" h="2378">
                    <a:moveTo>
                      <a:pt x="335" y="0"/>
                    </a:moveTo>
                    <a:lnTo>
                      <a:pt x="26" y="396"/>
                    </a:lnTo>
                    <a:lnTo>
                      <a:pt x="202" y="737"/>
                    </a:lnTo>
                    <a:lnTo>
                      <a:pt x="0" y="1332"/>
                    </a:lnTo>
                    <a:lnTo>
                      <a:pt x="220" y="1663"/>
                    </a:lnTo>
                    <a:lnTo>
                      <a:pt x="859" y="1920"/>
                    </a:lnTo>
                    <a:lnTo>
                      <a:pt x="1495" y="2378"/>
                    </a:lnTo>
                    <a:lnTo>
                      <a:pt x="1958" y="1959"/>
                    </a:lnTo>
                    <a:lnTo>
                      <a:pt x="1963" y="1429"/>
                    </a:lnTo>
                    <a:lnTo>
                      <a:pt x="1610" y="962"/>
                    </a:lnTo>
                    <a:lnTo>
                      <a:pt x="1703" y="644"/>
                    </a:lnTo>
                    <a:lnTo>
                      <a:pt x="335" y="0"/>
                    </a:lnTo>
                    <a:close/>
                  </a:path>
                </a:pathLst>
              </a:custGeom>
              <a:solidFill>
                <a:srgbClr val="006d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781600" y="2954160"/>
                <a:ext cx="1008360" cy="1182960"/>
              </a:xfrm>
              <a:custGeom>
                <a:avLst/>
                <a:gdLst/>
                <a:ahLst/>
                <a:rect l="0" t="0" r="r" b="b"/>
                <a:pathLst>
                  <a:path w="2801" h="3286">
                    <a:moveTo>
                      <a:pt x="352" y="0"/>
                    </a:moveTo>
                    <a:lnTo>
                      <a:pt x="1331" y="0"/>
                    </a:lnTo>
                    <a:lnTo>
                      <a:pt x="1517" y="304"/>
                    </a:lnTo>
                    <a:lnTo>
                      <a:pt x="1305" y="917"/>
                    </a:lnTo>
                    <a:lnTo>
                      <a:pt x="1522" y="1239"/>
                    </a:lnTo>
                    <a:lnTo>
                      <a:pt x="2183" y="1499"/>
                    </a:lnTo>
                    <a:lnTo>
                      <a:pt x="2801" y="1967"/>
                    </a:lnTo>
                    <a:lnTo>
                      <a:pt x="2245" y="2505"/>
                    </a:lnTo>
                    <a:lnTo>
                      <a:pt x="2541" y="2871"/>
                    </a:lnTo>
                    <a:lnTo>
                      <a:pt x="2408" y="3286"/>
                    </a:lnTo>
                    <a:lnTo>
                      <a:pt x="1548" y="3277"/>
                    </a:lnTo>
                    <a:lnTo>
                      <a:pt x="1305" y="2955"/>
                    </a:lnTo>
                    <a:lnTo>
                      <a:pt x="648" y="2726"/>
                    </a:lnTo>
                    <a:lnTo>
                      <a:pt x="295" y="1923"/>
                    </a:lnTo>
                    <a:lnTo>
                      <a:pt x="357" y="1402"/>
                    </a:lnTo>
                    <a:lnTo>
                      <a:pt x="0" y="943"/>
                    </a:lnTo>
                    <a:lnTo>
                      <a:pt x="529" y="467"/>
                    </a:lnTo>
                    <a:lnTo>
                      <a:pt x="352" y="0"/>
                    </a:lnTo>
                    <a:close/>
                  </a:path>
                </a:pathLst>
              </a:custGeom>
              <a:solidFill>
                <a:srgbClr val="006d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958000" y="4132440"/>
                <a:ext cx="806760" cy="1379880"/>
              </a:xfrm>
              <a:custGeom>
                <a:avLst/>
                <a:gdLst/>
                <a:ahLst/>
                <a:rect l="0" t="0" r="r" b="b"/>
                <a:pathLst>
                  <a:path w="2241" h="3833">
                    <a:moveTo>
                      <a:pt x="1058" y="13"/>
                    </a:moveTo>
                    <a:lnTo>
                      <a:pt x="1888" y="0"/>
                    </a:lnTo>
                    <a:lnTo>
                      <a:pt x="2241" y="366"/>
                    </a:lnTo>
                    <a:lnTo>
                      <a:pt x="2051" y="1380"/>
                    </a:lnTo>
                    <a:lnTo>
                      <a:pt x="1169" y="2580"/>
                    </a:lnTo>
                    <a:lnTo>
                      <a:pt x="859" y="3392"/>
                    </a:lnTo>
                    <a:lnTo>
                      <a:pt x="189" y="3833"/>
                    </a:lnTo>
                    <a:lnTo>
                      <a:pt x="0" y="2915"/>
                    </a:lnTo>
                    <a:lnTo>
                      <a:pt x="502" y="1552"/>
                    </a:lnTo>
                    <a:lnTo>
                      <a:pt x="66" y="1318"/>
                    </a:lnTo>
                    <a:lnTo>
                      <a:pt x="590" y="877"/>
                    </a:lnTo>
                    <a:lnTo>
                      <a:pt x="674" y="1098"/>
                    </a:lnTo>
                    <a:lnTo>
                      <a:pt x="965" y="1314"/>
                    </a:lnTo>
                    <a:lnTo>
                      <a:pt x="1319" y="1075"/>
                    </a:lnTo>
                    <a:lnTo>
                      <a:pt x="987" y="555"/>
                    </a:lnTo>
                    <a:lnTo>
                      <a:pt x="1058" y="13"/>
                    </a:lnTo>
                    <a:close/>
                  </a:path>
                </a:pathLst>
              </a:custGeom>
              <a:solidFill>
                <a:srgbClr val="006d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885000" y="4194000"/>
                <a:ext cx="425880" cy="1157760"/>
              </a:xfrm>
              <a:custGeom>
                <a:avLst/>
                <a:gdLst/>
                <a:ahLst/>
                <a:rect l="0" t="0" r="r" b="b"/>
                <a:pathLst>
                  <a:path w="1183" h="3216">
                    <a:moveTo>
                      <a:pt x="976" y="0"/>
                    </a:moveTo>
                    <a:lnTo>
                      <a:pt x="653" y="825"/>
                    </a:lnTo>
                    <a:lnTo>
                      <a:pt x="154" y="1125"/>
                    </a:lnTo>
                    <a:lnTo>
                      <a:pt x="260" y="1980"/>
                    </a:lnTo>
                    <a:lnTo>
                      <a:pt x="0" y="2449"/>
                    </a:lnTo>
                    <a:lnTo>
                      <a:pt x="22" y="3216"/>
                    </a:lnTo>
                    <a:lnTo>
                      <a:pt x="794" y="2885"/>
                    </a:lnTo>
                    <a:lnTo>
                      <a:pt x="1183" y="1266"/>
                    </a:lnTo>
                    <a:lnTo>
                      <a:pt x="976" y="0"/>
                    </a:lnTo>
                    <a:close/>
                  </a:path>
                </a:pathLst>
              </a:custGeom>
              <a:solidFill>
                <a:srgbClr val="006d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415120" y="4532400"/>
                <a:ext cx="729000" cy="740160"/>
              </a:xfrm>
              <a:custGeom>
                <a:avLst/>
                <a:gdLst/>
                <a:ahLst/>
                <a:rect l="0" t="0" r="r" b="b"/>
                <a:pathLst>
                  <a:path w="2025" h="2056">
                    <a:moveTo>
                      <a:pt x="0" y="953"/>
                    </a:moveTo>
                    <a:lnTo>
                      <a:pt x="1173" y="0"/>
                    </a:lnTo>
                    <a:lnTo>
                      <a:pt x="2025" y="436"/>
                    </a:lnTo>
                    <a:lnTo>
                      <a:pt x="1526" y="1809"/>
                    </a:lnTo>
                    <a:lnTo>
                      <a:pt x="789" y="2056"/>
                    </a:lnTo>
                    <a:lnTo>
                      <a:pt x="0" y="953"/>
                    </a:lnTo>
                    <a:close/>
                  </a:path>
                </a:pathLst>
              </a:custGeom>
              <a:solidFill>
                <a:srgbClr val="006d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045040" y="3935520"/>
                <a:ext cx="1127520" cy="945000"/>
              </a:xfrm>
              <a:custGeom>
                <a:avLst/>
                <a:gdLst/>
                <a:ahLst/>
                <a:rect l="0" t="0" r="r" b="b"/>
                <a:pathLst>
                  <a:path w="3132" h="2625">
                    <a:moveTo>
                      <a:pt x="1407" y="4"/>
                    </a:moveTo>
                    <a:lnTo>
                      <a:pt x="2696" y="0"/>
                    </a:lnTo>
                    <a:lnTo>
                      <a:pt x="2938" y="511"/>
                    </a:lnTo>
                    <a:lnTo>
                      <a:pt x="2938" y="1019"/>
                    </a:lnTo>
                    <a:lnTo>
                      <a:pt x="3132" y="1425"/>
                    </a:lnTo>
                    <a:lnTo>
                      <a:pt x="2621" y="1870"/>
                    </a:lnTo>
                    <a:lnTo>
                      <a:pt x="2201" y="1676"/>
                    </a:lnTo>
                    <a:lnTo>
                      <a:pt x="1028" y="2625"/>
                    </a:lnTo>
                    <a:lnTo>
                      <a:pt x="374" y="2308"/>
                    </a:lnTo>
                    <a:lnTo>
                      <a:pt x="0" y="1548"/>
                    </a:lnTo>
                    <a:lnTo>
                      <a:pt x="604" y="1235"/>
                    </a:lnTo>
                    <a:lnTo>
                      <a:pt x="343" y="785"/>
                    </a:lnTo>
                    <a:lnTo>
                      <a:pt x="1703" y="1085"/>
                    </a:lnTo>
                    <a:lnTo>
                      <a:pt x="1897" y="944"/>
                    </a:lnTo>
                    <a:lnTo>
                      <a:pt x="1407" y="546"/>
                    </a:lnTo>
                    <a:lnTo>
                      <a:pt x="1407" y="4"/>
                    </a:lnTo>
                    <a:close/>
                  </a:path>
                </a:pathLst>
              </a:custGeom>
              <a:solidFill>
                <a:srgbClr val="006d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005520" y="3929040"/>
                <a:ext cx="429120" cy="678240"/>
              </a:xfrm>
              <a:custGeom>
                <a:avLst/>
                <a:gdLst/>
                <a:ahLst/>
                <a:rect l="0" t="0" r="r" b="b"/>
                <a:pathLst>
                  <a:path w="1192" h="1884">
                    <a:moveTo>
                      <a:pt x="0" y="0"/>
                    </a:moveTo>
                    <a:lnTo>
                      <a:pt x="688" y="242"/>
                    </a:lnTo>
                    <a:lnTo>
                      <a:pt x="945" y="578"/>
                    </a:lnTo>
                    <a:lnTo>
                      <a:pt x="860" y="1121"/>
                    </a:lnTo>
                    <a:lnTo>
                      <a:pt x="1192" y="1638"/>
                    </a:lnTo>
                    <a:lnTo>
                      <a:pt x="834" y="1884"/>
                    </a:lnTo>
                    <a:lnTo>
                      <a:pt x="534" y="1673"/>
                    </a:lnTo>
                    <a:lnTo>
                      <a:pt x="437" y="1407"/>
                    </a:lnTo>
                    <a:lnTo>
                      <a:pt x="251" y="1037"/>
                    </a:lnTo>
                    <a:lnTo>
                      <a:pt x="242" y="5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d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060800" y="3713040"/>
                <a:ext cx="1213200" cy="1053000"/>
              </a:xfrm>
              <a:custGeom>
                <a:avLst/>
                <a:gdLst/>
                <a:ahLst/>
                <a:rect l="0" t="0" r="r" b="b"/>
                <a:pathLst>
                  <a:path w="3370" h="2925">
                    <a:moveTo>
                      <a:pt x="0" y="224"/>
                    </a:moveTo>
                    <a:lnTo>
                      <a:pt x="1080" y="0"/>
                    </a:lnTo>
                    <a:lnTo>
                      <a:pt x="1098" y="405"/>
                    </a:lnTo>
                    <a:lnTo>
                      <a:pt x="1675" y="432"/>
                    </a:lnTo>
                    <a:lnTo>
                      <a:pt x="2025" y="136"/>
                    </a:lnTo>
                    <a:lnTo>
                      <a:pt x="2426" y="149"/>
                    </a:lnTo>
                    <a:lnTo>
                      <a:pt x="2514" y="1284"/>
                    </a:lnTo>
                    <a:lnTo>
                      <a:pt x="3101" y="1407"/>
                    </a:lnTo>
                    <a:lnTo>
                      <a:pt x="3370" y="1866"/>
                    </a:lnTo>
                    <a:lnTo>
                      <a:pt x="2757" y="2161"/>
                    </a:lnTo>
                    <a:lnTo>
                      <a:pt x="3127" y="2925"/>
                    </a:lnTo>
                    <a:lnTo>
                      <a:pt x="61" y="2925"/>
                    </a:lnTo>
                    <a:lnTo>
                      <a:pt x="643" y="1808"/>
                    </a:lnTo>
                    <a:lnTo>
                      <a:pt x="291" y="1284"/>
                    </a:lnTo>
                    <a:lnTo>
                      <a:pt x="348" y="830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6d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083120" y="4759200"/>
                <a:ext cx="1348200" cy="978120"/>
              </a:xfrm>
              <a:custGeom>
                <a:avLst/>
                <a:gdLst/>
                <a:ahLst/>
                <a:rect l="0" t="0" r="r" b="b"/>
                <a:pathLst>
                  <a:path w="3745" h="2717">
                    <a:moveTo>
                      <a:pt x="0" y="0"/>
                    </a:moveTo>
                    <a:lnTo>
                      <a:pt x="3022" y="0"/>
                    </a:lnTo>
                    <a:lnTo>
                      <a:pt x="3745" y="335"/>
                    </a:lnTo>
                    <a:lnTo>
                      <a:pt x="2757" y="405"/>
                    </a:lnTo>
                    <a:lnTo>
                      <a:pt x="2624" y="1111"/>
                    </a:lnTo>
                    <a:lnTo>
                      <a:pt x="2272" y="1111"/>
                    </a:lnTo>
                    <a:lnTo>
                      <a:pt x="2267" y="2717"/>
                    </a:lnTo>
                    <a:lnTo>
                      <a:pt x="1125" y="2624"/>
                    </a:lnTo>
                    <a:lnTo>
                      <a:pt x="714" y="15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d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892760" y="4875120"/>
                <a:ext cx="806760" cy="760680"/>
              </a:xfrm>
              <a:custGeom>
                <a:avLst/>
                <a:gdLst/>
                <a:ahLst/>
                <a:rect l="0" t="0" r="r" b="b"/>
                <a:pathLst>
                  <a:path w="2241" h="2113">
                    <a:moveTo>
                      <a:pt x="507" y="61"/>
                    </a:moveTo>
                    <a:lnTo>
                      <a:pt x="1456" y="0"/>
                    </a:lnTo>
                    <a:lnTo>
                      <a:pt x="2241" y="1099"/>
                    </a:lnTo>
                    <a:lnTo>
                      <a:pt x="1151" y="1817"/>
                    </a:lnTo>
                    <a:lnTo>
                      <a:pt x="815" y="1694"/>
                    </a:lnTo>
                    <a:lnTo>
                      <a:pt x="374" y="2113"/>
                    </a:lnTo>
                    <a:lnTo>
                      <a:pt x="0" y="1584"/>
                    </a:lnTo>
                    <a:lnTo>
                      <a:pt x="0" y="789"/>
                    </a:lnTo>
                    <a:lnTo>
                      <a:pt x="357" y="780"/>
                    </a:lnTo>
                    <a:lnTo>
                      <a:pt x="507" y="61"/>
                    </a:lnTo>
                    <a:close/>
                  </a:path>
                </a:pathLst>
              </a:custGeom>
              <a:solidFill>
                <a:srgbClr val="006d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487760" y="5180040"/>
                <a:ext cx="1538640" cy="1095840"/>
              </a:xfrm>
              <a:custGeom>
                <a:avLst/>
                <a:gdLst/>
                <a:ahLst/>
                <a:rect l="0" t="0" r="r" b="b"/>
                <a:pathLst>
                  <a:path w="4274" h="3044">
                    <a:moveTo>
                      <a:pt x="0" y="1451"/>
                    </a:moveTo>
                    <a:lnTo>
                      <a:pt x="1128" y="1522"/>
                    </a:lnTo>
                    <a:lnTo>
                      <a:pt x="1137" y="745"/>
                    </a:lnTo>
                    <a:lnTo>
                      <a:pt x="1516" y="1244"/>
                    </a:lnTo>
                    <a:lnTo>
                      <a:pt x="1940" y="834"/>
                    </a:lnTo>
                    <a:lnTo>
                      <a:pt x="2249" y="949"/>
                    </a:lnTo>
                    <a:lnTo>
                      <a:pt x="3352" y="242"/>
                    </a:lnTo>
                    <a:lnTo>
                      <a:pt x="4093" y="0"/>
                    </a:lnTo>
                    <a:lnTo>
                      <a:pt x="4274" y="896"/>
                    </a:lnTo>
                    <a:lnTo>
                      <a:pt x="4102" y="1500"/>
                    </a:lnTo>
                    <a:lnTo>
                      <a:pt x="3431" y="2236"/>
                    </a:lnTo>
                    <a:lnTo>
                      <a:pt x="1830" y="2943"/>
                    </a:lnTo>
                    <a:lnTo>
                      <a:pt x="912" y="3044"/>
                    </a:lnTo>
                    <a:lnTo>
                      <a:pt x="0" y="1451"/>
                    </a:lnTo>
                    <a:close/>
                  </a:path>
                </a:pathLst>
              </a:custGeom>
              <a:solidFill>
                <a:srgbClr val="006d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498680" y="2082960"/>
                <a:ext cx="219600" cy="44640"/>
              </a:xfrm>
              <a:custGeom>
                <a:avLst/>
                <a:gdLst/>
                <a:ahLst/>
                <a:rect l="0" t="0" r="r" b="b"/>
                <a:pathLst>
                  <a:path w="610" h="124">
                    <a:moveTo>
                      <a:pt x="0" y="124"/>
                    </a:moveTo>
                    <a:lnTo>
                      <a:pt x="522" y="124"/>
                    </a:lnTo>
                    <a:lnTo>
                      <a:pt x="610" y="44"/>
                    </a:lnTo>
                    <a:lnTo>
                      <a:pt x="48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006d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063960" y="2373480"/>
                <a:ext cx="211320" cy="459000"/>
              </a:xfrm>
              <a:custGeom>
                <a:avLst/>
                <a:gdLst/>
                <a:ahLst/>
                <a:rect l="0" t="0" r="r" b="b"/>
                <a:pathLst>
                  <a:path w="587" h="1275">
                    <a:moveTo>
                      <a:pt x="264" y="0"/>
                    </a:moveTo>
                    <a:lnTo>
                      <a:pt x="0" y="57"/>
                    </a:lnTo>
                    <a:lnTo>
                      <a:pt x="163" y="1275"/>
                    </a:lnTo>
                    <a:lnTo>
                      <a:pt x="587" y="1275"/>
                    </a:lnTo>
                    <a:lnTo>
                      <a:pt x="393" y="299"/>
                    </a:lnTo>
                    <a:lnTo>
                      <a:pt x="264" y="0"/>
                    </a:lnTo>
                    <a:close/>
                  </a:path>
                </a:pathLst>
              </a:custGeom>
              <a:solidFill>
                <a:srgbClr val="006d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159000" y="2225520"/>
                <a:ext cx="243360" cy="606960"/>
              </a:xfrm>
              <a:custGeom>
                <a:avLst/>
                <a:gdLst/>
                <a:ahLst/>
                <a:rect l="0" t="0" r="r" b="b"/>
                <a:pathLst>
                  <a:path w="676" h="1686">
                    <a:moveTo>
                      <a:pt x="623" y="0"/>
                    </a:moveTo>
                    <a:lnTo>
                      <a:pt x="225" y="286"/>
                    </a:lnTo>
                    <a:lnTo>
                      <a:pt x="0" y="410"/>
                    </a:lnTo>
                    <a:lnTo>
                      <a:pt x="127" y="715"/>
                    </a:lnTo>
                    <a:lnTo>
                      <a:pt x="322" y="1686"/>
                    </a:lnTo>
                    <a:lnTo>
                      <a:pt x="676" y="1686"/>
                    </a:lnTo>
                    <a:lnTo>
                      <a:pt x="623" y="0"/>
                    </a:lnTo>
                    <a:close/>
                  </a:path>
                </a:pathLst>
              </a:custGeom>
              <a:solidFill>
                <a:srgbClr val="006d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876840" y="3027240"/>
                <a:ext cx="141480" cy="105120"/>
              </a:xfrm>
              <a:custGeom>
                <a:avLst/>
                <a:gdLst/>
                <a:ahLst/>
                <a:rect l="0" t="0" r="r" b="b"/>
                <a:pathLst>
                  <a:path w="393" h="292">
                    <a:moveTo>
                      <a:pt x="35" y="35"/>
                    </a:moveTo>
                    <a:lnTo>
                      <a:pt x="393" y="0"/>
                    </a:lnTo>
                    <a:lnTo>
                      <a:pt x="393" y="265"/>
                    </a:lnTo>
                    <a:lnTo>
                      <a:pt x="0" y="292"/>
                    </a:lnTo>
                    <a:lnTo>
                      <a:pt x="35" y="35"/>
                    </a:lnTo>
                    <a:close/>
                  </a:path>
                </a:pathLst>
              </a:custGeom>
              <a:solidFill>
                <a:srgbClr val="006d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781600" y="2955960"/>
                <a:ext cx="545040" cy="416160"/>
              </a:xfrm>
              <a:custGeom>
                <a:avLst/>
                <a:gdLst/>
                <a:ahLst/>
                <a:rect l="0" t="0" r="r" b="b"/>
                <a:pathLst>
                  <a:path w="1514" h="1156">
                    <a:moveTo>
                      <a:pt x="366" y="4"/>
                    </a:moveTo>
                    <a:lnTo>
                      <a:pt x="1316" y="0"/>
                    </a:lnTo>
                    <a:lnTo>
                      <a:pt x="1514" y="304"/>
                    </a:lnTo>
                    <a:lnTo>
                      <a:pt x="1307" y="909"/>
                    </a:lnTo>
                    <a:lnTo>
                      <a:pt x="180" y="1156"/>
                    </a:lnTo>
                    <a:lnTo>
                      <a:pt x="0" y="940"/>
                    </a:lnTo>
                    <a:lnTo>
                      <a:pt x="525" y="463"/>
                    </a:lnTo>
                    <a:lnTo>
                      <a:pt x="366" y="4"/>
                    </a:lnTo>
                    <a:close/>
                  </a:path>
                </a:pathLst>
              </a:custGeom>
              <a:solidFill>
                <a:srgbClr val="006d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848200" y="3343320"/>
                <a:ext cx="200520" cy="116280"/>
              </a:xfrm>
              <a:custGeom>
                <a:avLst/>
                <a:gdLst/>
                <a:ahLst/>
                <a:rect l="0" t="0" r="r" b="b"/>
                <a:pathLst>
                  <a:path w="557" h="323">
                    <a:moveTo>
                      <a:pt x="0" y="79"/>
                    </a:moveTo>
                    <a:lnTo>
                      <a:pt x="375" y="0"/>
                    </a:lnTo>
                    <a:lnTo>
                      <a:pt x="557" y="297"/>
                    </a:lnTo>
                    <a:lnTo>
                      <a:pt x="340" y="257"/>
                    </a:lnTo>
                    <a:lnTo>
                      <a:pt x="155" y="323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6d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888160" y="3436920"/>
                <a:ext cx="160560" cy="203400"/>
              </a:xfrm>
              <a:custGeom>
                <a:avLst/>
                <a:gdLst/>
                <a:ahLst/>
                <a:rect l="0" t="0" r="r" b="b"/>
                <a:pathLst>
                  <a:path w="446" h="565">
                    <a:moveTo>
                      <a:pt x="446" y="35"/>
                    </a:moveTo>
                    <a:lnTo>
                      <a:pt x="230" y="0"/>
                    </a:lnTo>
                    <a:lnTo>
                      <a:pt x="52" y="61"/>
                    </a:lnTo>
                    <a:lnTo>
                      <a:pt x="35" y="336"/>
                    </a:lnTo>
                    <a:lnTo>
                      <a:pt x="0" y="565"/>
                    </a:lnTo>
                    <a:lnTo>
                      <a:pt x="269" y="415"/>
                    </a:lnTo>
                    <a:lnTo>
                      <a:pt x="393" y="318"/>
                    </a:lnTo>
                    <a:lnTo>
                      <a:pt x="446" y="35"/>
                    </a:lnTo>
                    <a:close/>
                  </a:path>
                </a:pathLst>
              </a:custGeom>
              <a:solidFill>
                <a:srgbClr val="006d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369040" y="5762520"/>
                <a:ext cx="201960" cy="170280"/>
              </a:xfrm>
              <a:custGeom>
                <a:avLst/>
                <a:gdLst/>
                <a:ahLst/>
                <a:rect l="0" t="0" r="r" b="b"/>
                <a:pathLst>
                  <a:path w="561" h="473">
                    <a:moveTo>
                      <a:pt x="419" y="0"/>
                    </a:moveTo>
                    <a:lnTo>
                      <a:pt x="110" y="150"/>
                    </a:lnTo>
                    <a:lnTo>
                      <a:pt x="0" y="447"/>
                    </a:lnTo>
                    <a:lnTo>
                      <a:pt x="216" y="473"/>
                    </a:lnTo>
                    <a:lnTo>
                      <a:pt x="494" y="331"/>
                    </a:lnTo>
                    <a:lnTo>
                      <a:pt x="561" y="164"/>
                    </a:lnTo>
                    <a:lnTo>
                      <a:pt x="419" y="0"/>
                    </a:lnTo>
                    <a:close/>
                  </a:path>
                </a:pathLst>
              </a:custGeom>
              <a:solidFill>
                <a:srgbClr val="006d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875200" y="5386320"/>
                <a:ext cx="147960" cy="159120"/>
              </a:xfrm>
              <a:custGeom>
                <a:avLst/>
                <a:gdLst/>
                <a:ahLst/>
                <a:rect l="0" t="0" r="r" b="b"/>
                <a:pathLst>
                  <a:path w="411" h="442">
                    <a:moveTo>
                      <a:pt x="353" y="13"/>
                    </a:moveTo>
                    <a:lnTo>
                      <a:pt x="185" y="0"/>
                    </a:lnTo>
                    <a:lnTo>
                      <a:pt x="74" y="61"/>
                    </a:lnTo>
                    <a:lnTo>
                      <a:pt x="0" y="217"/>
                    </a:lnTo>
                    <a:lnTo>
                      <a:pt x="110" y="442"/>
                    </a:lnTo>
                    <a:lnTo>
                      <a:pt x="189" y="442"/>
                    </a:lnTo>
                    <a:lnTo>
                      <a:pt x="411" y="309"/>
                    </a:lnTo>
                    <a:lnTo>
                      <a:pt x="353" y="13"/>
                    </a:lnTo>
                    <a:close/>
                  </a:path>
                </a:pathLst>
              </a:custGeom>
              <a:solidFill>
                <a:srgbClr val="006d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900840" y="2178000"/>
                <a:ext cx="141480" cy="201960"/>
              </a:xfrm>
              <a:custGeom>
                <a:avLst/>
                <a:gdLst/>
                <a:ahLst/>
                <a:rect l="0" t="0" r="r" b="b"/>
                <a:pathLst>
                  <a:path w="393" h="561">
                    <a:moveTo>
                      <a:pt x="389" y="0"/>
                    </a:moveTo>
                    <a:lnTo>
                      <a:pt x="0" y="198"/>
                    </a:lnTo>
                    <a:lnTo>
                      <a:pt x="52" y="561"/>
                    </a:lnTo>
                    <a:lnTo>
                      <a:pt x="375" y="561"/>
                    </a:lnTo>
                    <a:lnTo>
                      <a:pt x="393" y="499"/>
                    </a:lnTo>
                    <a:lnTo>
                      <a:pt x="256" y="397"/>
                    </a:lnTo>
                    <a:lnTo>
                      <a:pt x="389" y="0"/>
                    </a:lnTo>
                    <a:close/>
                  </a:path>
                </a:pathLst>
              </a:custGeom>
              <a:solidFill>
                <a:srgbClr val="006d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9" name=""/>
          <p:cNvSpPr txBox="1"/>
          <p:nvPr/>
        </p:nvSpPr>
        <p:spPr>
          <a:xfrm>
            <a:off x="990720" y="514440"/>
            <a:ext cx="7162920" cy="12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3600" spc="-1" strike="noStrike">
                <a:solidFill>
                  <a:srgbClr val="ff8000"/>
                </a:solidFill>
                <a:latin typeface="Arial"/>
                <a:ea typeface="Arial"/>
              </a:rPr>
              <a:t>Africa:</a:t>
            </a:r>
            <a:br>
              <a:rPr sz="3600"/>
            </a:b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otal Annual Precipitation and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Average Annual 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1276200" y="2266920"/>
            <a:ext cx="664848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r" pos="2628720"/>
                <a:tab algn="r" pos="3886200"/>
                <a:tab algn="r" pos="5200560"/>
                <a:tab algn="r" pos="6229440"/>
              </a:tabLst>
            </a:pPr>
            <a:r>
              <a:rPr b="1" i="1" lang="en-US" sz="2400" spc="-1" strike="noStrike">
                <a:solidFill>
                  <a:srgbClr val="f6bf69"/>
                </a:solidFill>
                <a:latin typeface="Arial"/>
                <a:ea typeface="Arial"/>
              </a:rPr>
              <a:t>Station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6bf69"/>
                </a:solidFill>
                <a:latin typeface="Arial"/>
                <a:ea typeface="Arial"/>
              </a:rPr>
              <a:t>in</a:t>
            </a:r>
            <a:r>
              <a:rPr b="1" i="1" lang="en-US" sz="24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6bf69"/>
                </a:solidFill>
                <a:latin typeface="Arial"/>
                <a:ea typeface="Arial"/>
              </a:rPr>
              <a:t>mm</a:t>
            </a:r>
            <a:r>
              <a:rPr b="1" i="1" lang="en-US" sz="24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6bf69"/>
                </a:solidFill>
                <a:latin typeface="Arial"/>
                <a:ea typeface="Arial"/>
              </a:rPr>
              <a:t>°F</a:t>
            </a:r>
            <a:r>
              <a:rPr b="1" i="1" lang="en-US" sz="24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6bf69"/>
                </a:solidFill>
                <a:latin typeface="Arial"/>
                <a:ea typeface="Arial"/>
              </a:rPr>
              <a:t>°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20"/>
              </a:spcBef>
              <a:tabLst>
                <a:tab algn="r" pos="2628720"/>
                <a:tab algn="r" pos="3886200"/>
                <a:tab algn="r" pos="5200560"/>
                <a:tab algn="r" pos="622944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gadir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9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29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66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  <a:tabLst>
                <a:tab algn="r" pos="2628720"/>
                <a:tab algn="r" pos="3886200"/>
                <a:tab algn="r" pos="5200560"/>
                <a:tab algn="r" pos="622944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airo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5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72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  <a:tabLst>
                <a:tab algn="r" pos="2628720"/>
                <a:tab algn="r" pos="3886200"/>
                <a:tab algn="r" pos="5200560"/>
                <a:tab algn="r" pos="622944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ape Town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6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660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63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  <a:tabLst>
                <a:tab algn="r" pos="2628720"/>
                <a:tab algn="r" pos="3886200"/>
                <a:tab algn="r" pos="5200560"/>
                <a:tab algn="r" pos="622944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arare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0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760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64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  <a:tabLst>
                <a:tab algn="r" pos="2628720"/>
                <a:tab algn="r" pos="3886200"/>
                <a:tab algn="r" pos="5200560"/>
                <a:tab algn="r" pos="622944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inshasa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60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,524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77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  <a:tabLst>
                <a:tab algn="r" pos="2628720"/>
                <a:tab algn="r" pos="3886200"/>
                <a:tab algn="r" pos="5200560"/>
                <a:tab algn="r" pos="622944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irobi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6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914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64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  <a:tabLst>
                <a:tab algn="r" pos="2628720"/>
                <a:tab algn="r" pos="3886200"/>
                <a:tab algn="r" pos="5200560"/>
                <a:tab algn="r" pos="622944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aundé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60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,524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75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4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314360" y="2666880"/>
            <a:ext cx="6534360" cy="0"/>
          </a:xfrm>
          <a:prstGeom prst="line">
            <a:avLst/>
          </a:prstGeom>
          <a:ln w="38160">
            <a:solidFill>
              <a:srgbClr val="ff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1276200" y="1943280"/>
            <a:ext cx="664848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3085920"/>
                <a:tab algn="ctr" pos="5486400"/>
              </a:tabLst>
            </a:pPr>
            <a:r>
              <a:rPr b="1" i="1" lang="en-US" sz="24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6bf69"/>
                </a:solidFill>
                <a:latin typeface="Arial"/>
                <a:ea typeface="Arial"/>
              </a:rPr>
              <a:t>Precipitation</a:t>
            </a:r>
            <a:r>
              <a:rPr b="1" i="1" lang="en-US" sz="24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6bf69"/>
                </a:solidFill>
                <a:latin typeface="Arial"/>
                <a:ea typeface="Arial"/>
              </a:rPr>
              <a:t>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333440" y="5829480"/>
            <a:ext cx="6534360" cy="0"/>
          </a:xfrm>
          <a:prstGeom prst="line">
            <a:avLst/>
          </a:prstGeom>
          <a:ln w="38160">
            <a:solidFill>
              <a:srgbClr val="ff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91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"/>
          <p:cNvGrpSpPr/>
          <p:nvPr/>
        </p:nvGrpSpPr>
        <p:grpSpPr>
          <a:xfrm>
            <a:off x="0" y="0"/>
            <a:ext cx="9113760" cy="6370560"/>
            <a:chOff x="0" y="0"/>
            <a:chExt cx="9113760" cy="6370560"/>
          </a:xfrm>
        </p:grpSpPr>
        <p:sp>
          <p:nvSpPr>
            <p:cNvPr id="485" name=""/>
            <p:cNvSpPr/>
            <p:nvPr/>
          </p:nvSpPr>
          <p:spPr>
            <a:xfrm>
              <a:off x="0" y="0"/>
              <a:ext cx="9113760" cy="7970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0" y="0"/>
              <a:ext cx="760320" cy="63705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7" name=""/>
            <p:cNvGrpSpPr/>
            <p:nvPr/>
          </p:nvGrpSpPr>
          <p:grpSpPr>
            <a:xfrm>
              <a:off x="0" y="17640"/>
              <a:ext cx="9087120" cy="6273720"/>
              <a:chOff x="0" y="17640"/>
              <a:chExt cx="9087120" cy="6273720"/>
            </a:xfrm>
          </p:grpSpPr>
          <p:grpSp>
            <p:nvGrpSpPr>
              <p:cNvPr id="488" name=""/>
              <p:cNvGrpSpPr/>
              <p:nvPr/>
            </p:nvGrpSpPr>
            <p:grpSpPr>
              <a:xfrm>
                <a:off x="8356680" y="17640"/>
                <a:ext cx="730440" cy="755640"/>
                <a:chOff x="8356680" y="17640"/>
                <a:chExt cx="730440" cy="75564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8693280" y="17640"/>
                  <a:ext cx="47520" cy="32868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8356680" y="368280"/>
                  <a:ext cx="317520" cy="5256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8771040" y="368280"/>
                  <a:ext cx="316080" cy="5256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8693280" y="441360"/>
                  <a:ext cx="47520" cy="33192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3" name=""/>
              <p:cNvGrpSpPr/>
              <p:nvPr/>
            </p:nvGrpSpPr>
            <p:grpSpPr>
              <a:xfrm>
                <a:off x="8273880" y="17640"/>
                <a:ext cx="50760" cy="755640"/>
                <a:chOff x="8273880" y="17640"/>
                <a:chExt cx="50760" cy="755640"/>
              </a:xfrm>
            </p:grpSpPr>
            <p:sp>
              <p:nvSpPr>
                <p:cNvPr id="494" name=""/>
                <p:cNvSpPr/>
                <p:nvPr/>
              </p:nvSpPr>
              <p:spPr>
                <a:xfrm>
                  <a:off x="8273880" y="17640"/>
                  <a:ext cx="50760" cy="32868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8273880" y="441360"/>
                  <a:ext cx="50760" cy="33192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6" name=""/>
              <p:cNvGrpSpPr/>
              <p:nvPr/>
            </p:nvGrpSpPr>
            <p:grpSpPr>
              <a:xfrm>
                <a:off x="7520040" y="17640"/>
                <a:ext cx="731880" cy="755640"/>
                <a:chOff x="7520040" y="17640"/>
                <a:chExt cx="731880" cy="75564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7858080" y="17640"/>
                  <a:ext cx="47520" cy="32868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7520040" y="368280"/>
                  <a:ext cx="317520" cy="5256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7935840" y="368280"/>
                  <a:ext cx="316080" cy="5256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7858080" y="441360"/>
                  <a:ext cx="47520" cy="33192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1" name=""/>
              <p:cNvGrpSpPr/>
              <p:nvPr/>
            </p:nvGrpSpPr>
            <p:grpSpPr>
              <a:xfrm>
                <a:off x="7437600" y="17640"/>
                <a:ext cx="49320" cy="755640"/>
                <a:chOff x="7437600" y="17640"/>
                <a:chExt cx="49320" cy="755640"/>
              </a:xfrm>
            </p:grpSpPr>
            <p:sp>
              <p:nvSpPr>
                <p:cNvPr id="502" name=""/>
                <p:cNvSpPr/>
                <p:nvPr/>
              </p:nvSpPr>
              <p:spPr>
                <a:xfrm>
                  <a:off x="7437600" y="17640"/>
                  <a:ext cx="49320" cy="32868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7437600" y="441360"/>
                  <a:ext cx="49320" cy="33192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4" name=""/>
              <p:cNvGrpSpPr/>
              <p:nvPr/>
            </p:nvGrpSpPr>
            <p:grpSpPr>
              <a:xfrm>
                <a:off x="6684840" y="17640"/>
                <a:ext cx="730440" cy="755640"/>
                <a:chOff x="6684840" y="17640"/>
                <a:chExt cx="730440" cy="75564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7021440" y="17640"/>
                  <a:ext cx="49320" cy="32868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6684840" y="368280"/>
                  <a:ext cx="316080" cy="5256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7101000" y="368280"/>
                  <a:ext cx="314280" cy="5256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7021440" y="441360"/>
                  <a:ext cx="49320" cy="33192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6602400" y="17640"/>
                <a:ext cx="49320" cy="755640"/>
                <a:chOff x="6602400" y="17640"/>
                <a:chExt cx="49320" cy="75564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6602400" y="17640"/>
                  <a:ext cx="49320" cy="32868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6602400" y="441360"/>
                  <a:ext cx="49320" cy="33192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5848200" y="17640"/>
                <a:ext cx="732240" cy="755640"/>
                <a:chOff x="5848200" y="17640"/>
                <a:chExt cx="732240" cy="75564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6186600" y="17640"/>
                  <a:ext cx="49320" cy="32868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5848200" y="368280"/>
                  <a:ext cx="317520" cy="5256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6264360" y="368280"/>
                  <a:ext cx="316080" cy="5256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6186600" y="441360"/>
                  <a:ext cx="49320" cy="33192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7" name=""/>
              <p:cNvGrpSpPr/>
              <p:nvPr/>
            </p:nvGrpSpPr>
            <p:grpSpPr>
              <a:xfrm>
                <a:off x="5767560" y="17640"/>
                <a:ext cx="49320" cy="755640"/>
                <a:chOff x="5767560" y="17640"/>
                <a:chExt cx="49320" cy="755640"/>
              </a:xfrm>
            </p:grpSpPr>
            <p:sp>
              <p:nvSpPr>
                <p:cNvPr id="518" name=""/>
                <p:cNvSpPr/>
                <p:nvPr/>
              </p:nvSpPr>
              <p:spPr>
                <a:xfrm>
                  <a:off x="5767560" y="17640"/>
                  <a:ext cx="49320" cy="32868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5767560" y="441360"/>
                  <a:ext cx="49320" cy="33192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0" name=""/>
              <p:cNvGrpSpPr/>
              <p:nvPr/>
            </p:nvGrpSpPr>
            <p:grpSpPr>
              <a:xfrm>
                <a:off x="5013360" y="17640"/>
                <a:ext cx="730080" cy="755640"/>
                <a:chOff x="5013360" y="17640"/>
                <a:chExt cx="730080" cy="75564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5349960" y="17640"/>
                  <a:ext cx="50760" cy="32868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5013360" y="368280"/>
                  <a:ext cx="316080" cy="5256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5429160" y="368280"/>
                  <a:ext cx="314280" cy="5256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5349960" y="441360"/>
                  <a:ext cx="50760" cy="33192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5" name=""/>
              <p:cNvGrpSpPr/>
              <p:nvPr/>
            </p:nvGrpSpPr>
            <p:grpSpPr>
              <a:xfrm>
                <a:off x="4933800" y="17640"/>
                <a:ext cx="47520" cy="755640"/>
                <a:chOff x="4933800" y="17640"/>
                <a:chExt cx="47520" cy="755640"/>
              </a:xfrm>
            </p:grpSpPr>
            <p:sp>
              <p:nvSpPr>
                <p:cNvPr id="526" name=""/>
                <p:cNvSpPr/>
                <p:nvPr/>
              </p:nvSpPr>
              <p:spPr>
                <a:xfrm>
                  <a:off x="4933800" y="17640"/>
                  <a:ext cx="47520" cy="32868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4933800" y="441360"/>
                  <a:ext cx="47520" cy="33192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8" name=""/>
              <p:cNvGrpSpPr/>
              <p:nvPr/>
            </p:nvGrpSpPr>
            <p:grpSpPr>
              <a:xfrm>
                <a:off x="4176720" y="17640"/>
                <a:ext cx="733320" cy="755640"/>
                <a:chOff x="4176720" y="17640"/>
                <a:chExt cx="733320" cy="755640"/>
              </a:xfrm>
            </p:grpSpPr>
            <p:sp>
              <p:nvSpPr>
                <p:cNvPr id="529" name=""/>
                <p:cNvSpPr/>
                <p:nvPr/>
              </p:nvSpPr>
              <p:spPr>
                <a:xfrm>
                  <a:off x="4514760" y="17640"/>
                  <a:ext cx="47520" cy="32868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4176720" y="368280"/>
                  <a:ext cx="317520" cy="5256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4592520" y="368280"/>
                  <a:ext cx="317520" cy="5256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4514760" y="441360"/>
                  <a:ext cx="47520" cy="33192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4097160" y="17640"/>
                <a:ext cx="49320" cy="755640"/>
                <a:chOff x="4097160" y="17640"/>
                <a:chExt cx="49320" cy="75564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4097160" y="17640"/>
                  <a:ext cx="49320" cy="32868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4097160" y="441360"/>
                  <a:ext cx="49320" cy="33192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6" name=""/>
              <p:cNvGrpSpPr/>
              <p:nvPr/>
            </p:nvGrpSpPr>
            <p:grpSpPr>
              <a:xfrm>
                <a:off x="3343320" y="17640"/>
                <a:ext cx="730440" cy="755640"/>
                <a:chOff x="3343320" y="17640"/>
                <a:chExt cx="730440" cy="75564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3678120" y="17640"/>
                  <a:ext cx="49320" cy="32868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3343320" y="368280"/>
                  <a:ext cx="314280" cy="5256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3757680" y="368280"/>
                  <a:ext cx="316080" cy="5256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3678120" y="441360"/>
                  <a:ext cx="49320" cy="33192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1" name=""/>
              <p:cNvGrpSpPr/>
              <p:nvPr/>
            </p:nvGrpSpPr>
            <p:grpSpPr>
              <a:xfrm>
                <a:off x="3262320" y="17640"/>
                <a:ext cx="49320" cy="755640"/>
                <a:chOff x="3262320" y="17640"/>
                <a:chExt cx="49320" cy="755640"/>
              </a:xfrm>
            </p:grpSpPr>
            <p:sp>
              <p:nvSpPr>
                <p:cNvPr id="542" name=""/>
                <p:cNvSpPr/>
                <p:nvPr/>
              </p:nvSpPr>
              <p:spPr>
                <a:xfrm>
                  <a:off x="3262320" y="17640"/>
                  <a:ext cx="49320" cy="32868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3262320" y="441360"/>
                  <a:ext cx="49320" cy="33192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4" name=""/>
              <p:cNvGrpSpPr/>
              <p:nvPr/>
            </p:nvGrpSpPr>
            <p:grpSpPr>
              <a:xfrm>
                <a:off x="2506680" y="17640"/>
                <a:ext cx="731880" cy="755640"/>
                <a:chOff x="2506680" y="17640"/>
                <a:chExt cx="731880" cy="755640"/>
              </a:xfrm>
            </p:grpSpPr>
            <p:sp>
              <p:nvSpPr>
                <p:cNvPr id="545" name=""/>
                <p:cNvSpPr/>
                <p:nvPr/>
              </p:nvSpPr>
              <p:spPr>
                <a:xfrm>
                  <a:off x="2843280" y="17640"/>
                  <a:ext cx="49320" cy="32868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2506680" y="368280"/>
                  <a:ext cx="316080" cy="5256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2921040" y="368280"/>
                  <a:ext cx="317520" cy="5256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2843280" y="441360"/>
                  <a:ext cx="49320" cy="33192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9" name=""/>
              <p:cNvGrpSpPr/>
              <p:nvPr/>
            </p:nvGrpSpPr>
            <p:grpSpPr>
              <a:xfrm>
                <a:off x="2427120" y="17640"/>
                <a:ext cx="49320" cy="755640"/>
                <a:chOff x="2427120" y="17640"/>
                <a:chExt cx="49320" cy="755640"/>
              </a:xfrm>
            </p:grpSpPr>
            <p:sp>
              <p:nvSpPr>
                <p:cNvPr id="550" name=""/>
                <p:cNvSpPr/>
                <p:nvPr/>
              </p:nvSpPr>
              <p:spPr>
                <a:xfrm>
                  <a:off x="2427120" y="441360"/>
                  <a:ext cx="49320" cy="33192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2427120" y="17640"/>
                  <a:ext cx="49320" cy="32868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2" name=""/>
              <p:cNvGrpSpPr/>
              <p:nvPr/>
            </p:nvGrpSpPr>
            <p:grpSpPr>
              <a:xfrm>
                <a:off x="1671480" y="17640"/>
                <a:ext cx="730440" cy="755640"/>
                <a:chOff x="1671480" y="17640"/>
                <a:chExt cx="730440" cy="755640"/>
              </a:xfrm>
            </p:grpSpPr>
            <p:sp>
              <p:nvSpPr>
                <p:cNvPr id="553" name=""/>
                <p:cNvSpPr/>
                <p:nvPr/>
              </p:nvSpPr>
              <p:spPr>
                <a:xfrm>
                  <a:off x="2008080" y="17640"/>
                  <a:ext cx="49320" cy="32868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1671480" y="368280"/>
                  <a:ext cx="314280" cy="5256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2085840" y="368280"/>
                  <a:ext cx="316080" cy="5256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2008080" y="441360"/>
                  <a:ext cx="49320" cy="33192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1590840" y="17640"/>
                <a:ext cx="50760" cy="755640"/>
                <a:chOff x="1590840" y="17640"/>
                <a:chExt cx="50760" cy="75564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1590840" y="441360"/>
                  <a:ext cx="50760" cy="33192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1590840" y="17640"/>
                  <a:ext cx="50760" cy="32868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835200" y="17640"/>
                <a:ext cx="731520" cy="755640"/>
                <a:chOff x="835200" y="17640"/>
                <a:chExt cx="731520" cy="75564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1171440" y="17640"/>
                  <a:ext cx="49320" cy="32868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835200" y="368280"/>
                  <a:ext cx="316080" cy="5256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1249200" y="368280"/>
                  <a:ext cx="317520" cy="5256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1171440" y="441360"/>
                  <a:ext cx="49320" cy="33192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5" name=""/>
              <p:cNvGrpSpPr/>
              <p:nvPr/>
            </p:nvGrpSpPr>
            <p:grpSpPr>
              <a:xfrm>
                <a:off x="754200" y="17640"/>
                <a:ext cx="49320" cy="755640"/>
                <a:chOff x="754200" y="17640"/>
                <a:chExt cx="49320" cy="75564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754200" y="441360"/>
                  <a:ext cx="49320" cy="33192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754200" y="17640"/>
                  <a:ext cx="49320" cy="32868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8" name=""/>
              <p:cNvGrpSpPr/>
              <p:nvPr/>
            </p:nvGrpSpPr>
            <p:grpSpPr>
              <a:xfrm>
                <a:off x="0" y="17640"/>
                <a:ext cx="730440" cy="6273720"/>
                <a:chOff x="0" y="17640"/>
                <a:chExt cx="730440" cy="6273720"/>
              </a:xfrm>
            </p:grpSpPr>
            <p:grpSp>
              <p:nvGrpSpPr>
                <p:cNvPr id="569" name=""/>
                <p:cNvGrpSpPr/>
                <p:nvPr/>
              </p:nvGrpSpPr>
              <p:grpSpPr>
                <a:xfrm>
                  <a:off x="0" y="17640"/>
                  <a:ext cx="730440" cy="755640"/>
                  <a:chOff x="0" y="17640"/>
                  <a:chExt cx="730440" cy="755640"/>
                </a:xfrm>
              </p:grpSpPr>
              <p:sp>
                <p:nvSpPr>
                  <p:cNvPr id="570" name=""/>
                  <p:cNvSpPr/>
                  <p:nvPr/>
                </p:nvSpPr>
                <p:spPr>
                  <a:xfrm>
                    <a:off x="336600" y="441360"/>
                    <a:ext cx="49320" cy="331920"/>
                  </a:xfrm>
                  <a:prstGeom prst="ellipse">
                    <a:avLst/>
                  </a:pr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>
                    <a:off x="336600" y="17640"/>
                    <a:ext cx="49320" cy="328680"/>
                  </a:xfrm>
                  <a:prstGeom prst="ellipse">
                    <a:avLst/>
                  </a:pr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0" y="368280"/>
                    <a:ext cx="316080" cy="52560"/>
                  </a:xfrm>
                  <a:prstGeom prst="ellipse">
                    <a:avLst/>
                  </a:pr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7560" bIns="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>
                    <a:off x="412920" y="368280"/>
                    <a:ext cx="317520" cy="52560"/>
                  </a:xfrm>
                  <a:prstGeom prst="ellipse">
                    <a:avLst/>
                  </a:pr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7560" bIns="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4" name=""/>
                <p:cNvGrpSpPr/>
                <p:nvPr/>
              </p:nvGrpSpPr>
              <p:grpSpPr>
                <a:xfrm>
                  <a:off x="0" y="795240"/>
                  <a:ext cx="730440" cy="49320"/>
                  <a:chOff x="0" y="795240"/>
                  <a:chExt cx="730440" cy="49320"/>
                </a:xfrm>
              </p:grpSpPr>
              <p:sp>
                <p:nvSpPr>
                  <p:cNvPr id="575" name=""/>
                  <p:cNvSpPr/>
                  <p:nvPr/>
                </p:nvSpPr>
                <p:spPr>
                  <a:xfrm>
                    <a:off x="0" y="795240"/>
                    <a:ext cx="316080" cy="49320"/>
                  </a:xfrm>
                  <a:prstGeom prst="ellipse">
                    <a:avLst/>
                  </a:pr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>
                    <a:off x="412920" y="795240"/>
                    <a:ext cx="317520" cy="49320"/>
                  </a:xfrm>
                  <a:prstGeom prst="ellipse">
                    <a:avLst/>
                  </a:pr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7" name=""/>
                <p:cNvGrpSpPr/>
                <p:nvPr/>
              </p:nvGrpSpPr>
              <p:grpSpPr>
                <a:xfrm>
                  <a:off x="0" y="865080"/>
                  <a:ext cx="730440" cy="757440"/>
                  <a:chOff x="0" y="865080"/>
                  <a:chExt cx="730440" cy="757440"/>
                </a:xfrm>
              </p:grpSpPr>
              <p:sp>
                <p:nvSpPr>
                  <p:cNvPr id="578" name=""/>
                  <p:cNvSpPr/>
                  <p:nvPr/>
                </p:nvSpPr>
                <p:spPr>
                  <a:xfrm>
                    <a:off x="336600" y="865080"/>
                    <a:ext cx="49320" cy="333360"/>
                  </a:xfrm>
                  <a:prstGeom prst="ellipse">
                    <a:avLst/>
                  </a:pr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>
                    <a:off x="0" y="1219320"/>
                    <a:ext cx="316080" cy="52560"/>
                  </a:xfrm>
                  <a:prstGeom prst="ellipse">
                    <a:avLst/>
                  </a:pr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7560" bIns="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>
                    <a:off x="412920" y="1219320"/>
                    <a:ext cx="317520" cy="52560"/>
                  </a:xfrm>
                  <a:prstGeom prst="ellipse">
                    <a:avLst/>
                  </a:pr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7560" bIns="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>
                    <a:off x="336600" y="1293840"/>
                    <a:ext cx="49320" cy="328680"/>
                  </a:xfrm>
                  <a:prstGeom prst="ellipse">
                    <a:avLst/>
                  </a:pr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2" name=""/>
                <p:cNvGrpSpPr/>
                <p:nvPr/>
              </p:nvGrpSpPr>
              <p:grpSpPr>
                <a:xfrm>
                  <a:off x="0" y="1643040"/>
                  <a:ext cx="730440" cy="52560"/>
                  <a:chOff x="0" y="1643040"/>
                  <a:chExt cx="730440" cy="52560"/>
                </a:xfrm>
              </p:grpSpPr>
              <p:sp>
                <p:nvSpPr>
                  <p:cNvPr id="583" name=""/>
                  <p:cNvSpPr/>
                  <p:nvPr/>
                </p:nvSpPr>
                <p:spPr>
                  <a:xfrm>
                    <a:off x="0" y="1643040"/>
                    <a:ext cx="316080" cy="52560"/>
                  </a:xfrm>
                  <a:prstGeom prst="ellipse">
                    <a:avLst/>
                  </a:pr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7560" bIns="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>
                    <a:off x="412920" y="1643040"/>
                    <a:ext cx="317520" cy="52560"/>
                  </a:xfrm>
                  <a:prstGeom prst="ellipse">
                    <a:avLst/>
                  </a:pr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7560" bIns="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5" name=""/>
                <p:cNvGrpSpPr/>
                <p:nvPr/>
              </p:nvGrpSpPr>
              <p:grpSpPr>
                <a:xfrm>
                  <a:off x="0" y="1717560"/>
                  <a:ext cx="730440" cy="752400"/>
                  <a:chOff x="0" y="1717560"/>
                  <a:chExt cx="730440" cy="752400"/>
                </a:xfrm>
              </p:grpSpPr>
              <p:sp>
                <p:nvSpPr>
                  <p:cNvPr id="586" name=""/>
                  <p:cNvSpPr/>
                  <p:nvPr/>
                </p:nvSpPr>
                <p:spPr>
                  <a:xfrm>
                    <a:off x="336600" y="1717560"/>
                    <a:ext cx="49320" cy="328680"/>
                  </a:xfrm>
                  <a:prstGeom prst="ellipse">
                    <a:avLst/>
                  </a:pr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>
                    <a:off x="0" y="2066760"/>
                    <a:ext cx="316080" cy="52560"/>
                  </a:xfrm>
                  <a:prstGeom prst="ellipse">
                    <a:avLst/>
                  </a:pr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7560" bIns="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>
                    <a:off x="412920" y="2066760"/>
                    <a:ext cx="317520" cy="52560"/>
                  </a:xfrm>
                  <a:prstGeom prst="ellipse">
                    <a:avLst/>
                  </a:pr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7560" bIns="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>
                    <a:off x="336600" y="2139840"/>
                    <a:ext cx="49320" cy="330120"/>
                  </a:xfrm>
                  <a:prstGeom prst="ellipse">
                    <a:avLst/>
                  </a:pr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0" name=""/>
                <p:cNvGrpSpPr/>
                <p:nvPr/>
              </p:nvGrpSpPr>
              <p:grpSpPr>
                <a:xfrm>
                  <a:off x="0" y="2492280"/>
                  <a:ext cx="730440" cy="50760"/>
                  <a:chOff x="0" y="2492280"/>
                  <a:chExt cx="730440" cy="50760"/>
                </a:xfrm>
              </p:grpSpPr>
              <p:sp>
                <p:nvSpPr>
                  <p:cNvPr id="591" name=""/>
                  <p:cNvSpPr/>
                  <p:nvPr/>
                </p:nvSpPr>
                <p:spPr>
                  <a:xfrm>
                    <a:off x="0" y="2492280"/>
                    <a:ext cx="316080" cy="50760"/>
                  </a:xfrm>
                  <a:prstGeom prst="ellipse">
                    <a:avLst/>
                  </a:pr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5760" bIns="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>
                    <a:off x="412920" y="2492280"/>
                    <a:ext cx="317520" cy="50760"/>
                  </a:xfrm>
                  <a:prstGeom prst="ellipse">
                    <a:avLst/>
                  </a:pr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5760" bIns="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3" name=""/>
                <p:cNvGrpSpPr/>
                <p:nvPr/>
              </p:nvGrpSpPr>
              <p:grpSpPr>
                <a:xfrm>
                  <a:off x="0" y="2563920"/>
                  <a:ext cx="730440" cy="757080"/>
                  <a:chOff x="0" y="2563920"/>
                  <a:chExt cx="730440" cy="757080"/>
                </a:xfrm>
              </p:grpSpPr>
              <p:sp>
                <p:nvSpPr>
                  <p:cNvPr id="594" name=""/>
                  <p:cNvSpPr/>
                  <p:nvPr/>
                </p:nvSpPr>
                <p:spPr>
                  <a:xfrm>
                    <a:off x="336600" y="2563920"/>
                    <a:ext cx="49320" cy="330120"/>
                  </a:xfrm>
                  <a:prstGeom prst="ellipse">
                    <a:avLst/>
                  </a:pr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>
                    <a:off x="0" y="2916360"/>
                    <a:ext cx="316080" cy="50760"/>
                  </a:xfrm>
                  <a:prstGeom prst="ellipse">
                    <a:avLst/>
                  </a:pr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5760" bIns="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>
                    <a:off x="412920" y="2916360"/>
                    <a:ext cx="317520" cy="50760"/>
                  </a:xfrm>
                  <a:prstGeom prst="ellipse">
                    <a:avLst/>
                  </a:pr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5760" bIns="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336600" y="2987640"/>
                    <a:ext cx="49320" cy="333360"/>
                  </a:xfrm>
                  <a:prstGeom prst="ellipse">
                    <a:avLst/>
                  </a:pr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8" name=""/>
                <p:cNvGrpSpPr/>
                <p:nvPr/>
              </p:nvGrpSpPr>
              <p:grpSpPr>
                <a:xfrm>
                  <a:off x="0" y="3341520"/>
                  <a:ext cx="730440" cy="52560"/>
                  <a:chOff x="0" y="3341520"/>
                  <a:chExt cx="730440" cy="52560"/>
                </a:xfrm>
              </p:grpSpPr>
              <p:sp>
                <p:nvSpPr>
                  <p:cNvPr id="599" name=""/>
                  <p:cNvSpPr/>
                  <p:nvPr/>
                </p:nvSpPr>
                <p:spPr>
                  <a:xfrm>
                    <a:off x="0" y="3341520"/>
                    <a:ext cx="316080" cy="52560"/>
                  </a:xfrm>
                  <a:prstGeom prst="ellipse">
                    <a:avLst/>
                  </a:pr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7560" bIns="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>
                    <a:off x="412920" y="3341520"/>
                    <a:ext cx="317520" cy="52560"/>
                  </a:xfrm>
                  <a:prstGeom prst="ellipse">
                    <a:avLst/>
                  </a:pr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7560" bIns="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1" name=""/>
                <p:cNvGrpSpPr/>
                <p:nvPr/>
              </p:nvGrpSpPr>
              <p:grpSpPr>
                <a:xfrm>
                  <a:off x="0" y="3416400"/>
                  <a:ext cx="730440" cy="752400"/>
                  <a:chOff x="0" y="3416400"/>
                  <a:chExt cx="730440" cy="752400"/>
                </a:xfrm>
              </p:grpSpPr>
              <p:sp>
                <p:nvSpPr>
                  <p:cNvPr id="602" name=""/>
                  <p:cNvSpPr/>
                  <p:nvPr/>
                </p:nvSpPr>
                <p:spPr>
                  <a:xfrm>
                    <a:off x="336600" y="3416400"/>
                    <a:ext cx="49320" cy="328680"/>
                  </a:xfrm>
                  <a:prstGeom prst="ellipse">
                    <a:avLst/>
                  </a:pr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>
                    <a:off x="0" y="3765600"/>
                    <a:ext cx="316080" cy="52560"/>
                  </a:xfrm>
                  <a:prstGeom prst="ellipse">
                    <a:avLst/>
                  </a:pr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7560" bIns="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>
                    <a:off x="412920" y="3765600"/>
                    <a:ext cx="317520" cy="52560"/>
                  </a:xfrm>
                  <a:prstGeom prst="ellipse">
                    <a:avLst/>
                  </a:pr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7560" bIns="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>
                    <a:off x="336600" y="3840120"/>
                    <a:ext cx="49320" cy="328680"/>
                  </a:xfrm>
                  <a:prstGeom prst="ellipse">
                    <a:avLst/>
                  </a:pr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6" name=""/>
                <p:cNvGrpSpPr/>
                <p:nvPr/>
              </p:nvGrpSpPr>
              <p:grpSpPr>
                <a:xfrm>
                  <a:off x="0" y="4189320"/>
                  <a:ext cx="730440" cy="54000"/>
                  <a:chOff x="0" y="4189320"/>
                  <a:chExt cx="730440" cy="54000"/>
                </a:xfrm>
              </p:grpSpPr>
              <p:sp>
                <p:nvSpPr>
                  <p:cNvPr id="607" name=""/>
                  <p:cNvSpPr/>
                  <p:nvPr/>
                </p:nvSpPr>
                <p:spPr>
                  <a:xfrm>
                    <a:off x="0" y="4189320"/>
                    <a:ext cx="316080" cy="54000"/>
                  </a:xfrm>
                  <a:prstGeom prst="ellipse">
                    <a:avLst/>
                  </a:pr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9000" bIns="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>
                    <a:off x="412920" y="4189320"/>
                    <a:ext cx="317520" cy="54000"/>
                  </a:xfrm>
                  <a:prstGeom prst="ellipse">
                    <a:avLst/>
                  </a:pr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9000" bIns="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9" name=""/>
                <p:cNvGrpSpPr/>
                <p:nvPr/>
              </p:nvGrpSpPr>
              <p:grpSpPr>
                <a:xfrm>
                  <a:off x="0" y="4264200"/>
                  <a:ext cx="730440" cy="753840"/>
                  <a:chOff x="0" y="4264200"/>
                  <a:chExt cx="730440" cy="753840"/>
                </a:xfrm>
              </p:grpSpPr>
              <p:sp>
                <p:nvSpPr>
                  <p:cNvPr id="610" name=""/>
                  <p:cNvSpPr/>
                  <p:nvPr/>
                </p:nvSpPr>
                <p:spPr>
                  <a:xfrm>
                    <a:off x="336600" y="4264200"/>
                    <a:ext cx="49320" cy="328680"/>
                  </a:xfrm>
                  <a:prstGeom prst="ellipse">
                    <a:avLst/>
                  </a:pr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>
                    <a:off x="0" y="4614840"/>
                    <a:ext cx="316080" cy="50760"/>
                  </a:xfrm>
                  <a:prstGeom prst="ellipse">
                    <a:avLst/>
                  </a:pr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5760" bIns="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>
                    <a:off x="412920" y="4614840"/>
                    <a:ext cx="317520" cy="50760"/>
                  </a:xfrm>
                  <a:prstGeom prst="ellipse">
                    <a:avLst/>
                  </a:pr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5760" bIns="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>
                    <a:off x="336600" y="4686120"/>
                    <a:ext cx="49320" cy="331920"/>
                  </a:xfrm>
                  <a:prstGeom prst="ellipse">
                    <a:avLst/>
                  </a:pr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4" name=""/>
                <p:cNvGrpSpPr/>
                <p:nvPr/>
              </p:nvGrpSpPr>
              <p:grpSpPr>
                <a:xfrm>
                  <a:off x="0" y="5040360"/>
                  <a:ext cx="730440" cy="49320"/>
                  <a:chOff x="0" y="5040360"/>
                  <a:chExt cx="730440" cy="49320"/>
                </a:xfrm>
              </p:grpSpPr>
              <p:sp>
                <p:nvSpPr>
                  <p:cNvPr id="615" name=""/>
                  <p:cNvSpPr/>
                  <p:nvPr/>
                </p:nvSpPr>
                <p:spPr>
                  <a:xfrm>
                    <a:off x="0" y="5040360"/>
                    <a:ext cx="316080" cy="49320"/>
                  </a:xfrm>
                  <a:prstGeom prst="ellipse">
                    <a:avLst/>
                  </a:pr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>
                    <a:off x="412920" y="5040360"/>
                    <a:ext cx="317520" cy="49320"/>
                  </a:xfrm>
                  <a:prstGeom prst="ellipse">
                    <a:avLst/>
                  </a:pr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7" name=""/>
                <p:cNvGrpSpPr/>
                <p:nvPr/>
              </p:nvGrpSpPr>
              <p:grpSpPr>
                <a:xfrm>
                  <a:off x="0" y="5110200"/>
                  <a:ext cx="730440" cy="757080"/>
                  <a:chOff x="0" y="5110200"/>
                  <a:chExt cx="730440" cy="757080"/>
                </a:xfrm>
              </p:grpSpPr>
              <p:sp>
                <p:nvSpPr>
                  <p:cNvPr id="618" name=""/>
                  <p:cNvSpPr/>
                  <p:nvPr/>
                </p:nvSpPr>
                <p:spPr>
                  <a:xfrm>
                    <a:off x="336600" y="5110200"/>
                    <a:ext cx="49320" cy="333360"/>
                  </a:xfrm>
                  <a:prstGeom prst="ellipse">
                    <a:avLst/>
                  </a:pr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0" y="5464080"/>
                    <a:ext cx="316080" cy="50760"/>
                  </a:xfrm>
                  <a:prstGeom prst="ellipse">
                    <a:avLst/>
                  </a:pr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5760" bIns="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412920" y="5464080"/>
                    <a:ext cx="317520" cy="50760"/>
                  </a:xfrm>
                  <a:prstGeom prst="ellipse">
                    <a:avLst/>
                  </a:pr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5760" bIns="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>
                    <a:off x="336600" y="5537160"/>
                    <a:ext cx="49320" cy="330120"/>
                  </a:xfrm>
                  <a:prstGeom prst="ellipse">
                    <a:avLst/>
                  </a:pr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2" name=""/>
                <p:cNvGrpSpPr/>
                <p:nvPr/>
              </p:nvGrpSpPr>
              <p:grpSpPr>
                <a:xfrm>
                  <a:off x="0" y="5888160"/>
                  <a:ext cx="730440" cy="403200"/>
                  <a:chOff x="0" y="5888160"/>
                  <a:chExt cx="730440" cy="403200"/>
                </a:xfrm>
              </p:grpSpPr>
              <p:sp>
                <p:nvSpPr>
                  <p:cNvPr id="623" name=""/>
                  <p:cNvSpPr/>
                  <p:nvPr/>
                </p:nvSpPr>
                <p:spPr>
                  <a:xfrm>
                    <a:off x="336600" y="5962680"/>
                    <a:ext cx="49320" cy="328680"/>
                  </a:xfrm>
                  <a:prstGeom prst="ellipse">
                    <a:avLst/>
                  </a:pr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>
                    <a:off x="0" y="5888160"/>
                    <a:ext cx="316080" cy="52560"/>
                  </a:xfrm>
                  <a:prstGeom prst="ellipse">
                    <a:avLst/>
                  </a:pr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7560" bIns="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412920" y="5888160"/>
                    <a:ext cx="317520" cy="52560"/>
                  </a:xfrm>
                  <a:prstGeom prst="ellipse">
                    <a:avLst/>
                  </a:pr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7560" bIns="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26" name=""/>
            <p:cNvSpPr/>
            <p:nvPr/>
          </p:nvSpPr>
          <p:spPr>
            <a:xfrm>
              <a:off x="766800" y="816120"/>
              <a:ext cx="83469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63560" y="797040"/>
              <a:ext cx="0" cy="5573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8" name=""/>
          <p:cNvSpPr txBox="1"/>
          <p:nvPr/>
        </p:nvSpPr>
        <p:spPr>
          <a:xfrm>
            <a:off x="800280" y="914400"/>
            <a:ext cx="8058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fc080"/>
                </a:solidFill>
                <a:latin typeface="Book Antiqua"/>
                <a:ea typeface="Book Antiqua"/>
              </a:rPr>
              <a:t>Dental Plan Benef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952560" y="2057400"/>
            <a:ext cx="8058240" cy="41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fc080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Diagnostic and Preventive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Oral exami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Fluoride applications (for childr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Emergency office vis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X r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Cleaning of tee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Space maintainers fo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primary tee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fc080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General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5433840" y="3276720"/>
            <a:ext cx="3697920" cy="3125880"/>
            <a:chOff x="5433840" y="3276720"/>
            <a:chExt cx="3697920" cy="3125880"/>
          </a:xfrm>
        </p:grpSpPr>
        <p:grpSp>
          <p:nvGrpSpPr>
            <p:cNvPr id="631" name=""/>
            <p:cNvGrpSpPr/>
            <p:nvPr/>
          </p:nvGrpSpPr>
          <p:grpSpPr>
            <a:xfrm>
              <a:off x="5433840" y="3295800"/>
              <a:ext cx="2423160" cy="3106800"/>
              <a:chOff x="5433840" y="3295800"/>
              <a:chExt cx="2423160" cy="3106800"/>
            </a:xfrm>
          </p:grpSpPr>
          <p:grpSp>
            <p:nvGrpSpPr>
              <p:cNvPr id="632" name=""/>
              <p:cNvGrpSpPr/>
              <p:nvPr/>
            </p:nvGrpSpPr>
            <p:grpSpPr>
              <a:xfrm>
                <a:off x="6157800" y="5681520"/>
                <a:ext cx="1070640" cy="721080"/>
                <a:chOff x="6157800" y="5681520"/>
                <a:chExt cx="1070640" cy="72108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6157800" y="5681520"/>
                  <a:ext cx="657720" cy="721080"/>
                </a:xfrm>
                <a:custGeom>
                  <a:avLst/>
                  <a:gdLst/>
                  <a:ahLst/>
                  <a:rect l="0" t="0" r="r" b="b"/>
                  <a:pathLst>
                    <a:path w="1827" h="2003">
                      <a:moveTo>
                        <a:pt x="902" y="404"/>
                      </a:moveTo>
                      <a:lnTo>
                        <a:pt x="0" y="2003"/>
                      </a:lnTo>
                      <a:lnTo>
                        <a:pt x="755" y="1995"/>
                      </a:lnTo>
                      <a:lnTo>
                        <a:pt x="1827" y="500"/>
                      </a:lnTo>
                      <a:lnTo>
                        <a:pt x="1573" y="0"/>
                      </a:lnTo>
                      <a:lnTo>
                        <a:pt x="902" y="404"/>
                      </a:lnTo>
                      <a:close/>
                    </a:path>
                  </a:pathLst>
                </a:custGeom>
                <a:solidFill>
                  <a:srgbClr val="ffc08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6813720" y="5716440"/>
                  <a:ext cx="414720" cy="686160"/>
                </a:xfrm>
                <a:custGeom>
                  <a:avLst/>
                  <a:gdLst/>
                  <a:ahLst/>
                  <a:rect l="0" t="0" r="r" b="b"/>
                  <a:pathLst>
                    <a:path w="1152" h="1906">
                      <a:moveTo>
                        <a:pt x="0" y="420"/>
                      </a:moveTo>
                      <a:lnTo>
                        <a:pt x="223" y="0"/>
                      </a:lnTo>
                      <a:lnTo>
                        <a:pt x="1152" y="724"/>
                      </a:lnTo>
                      <a:lnTo>
                        <a:pt x="801" y="1906"/>
                      </a:lnTo>
                      <a:lnTo>
                        <a:pt x="142" y="1902"/>
                      </a:lnTo>
                      <a:lnTo>
                        <a:pt x="0" y="420"/>
                      </a:lnTo>
                      <a:close/>
                    </a:path>
                  </a:pathLst>
                </a:custGeom>
                <a:solidFill>
                  <a:srgbClr val="ffc08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5433840" y="3295800"/>
                <a:ext cx="2423160" cy="2678400"/>
                <a:chOff x="5433840" y="3295800"/>
                <a:chExt cx="2423160" cy="2678400"/>
              </a:xfrm>
            </p:grpSpPr>
            <p:grpSp>
              <p:nvGrpSpPr>
                <p:cNvPr id="636" name=""/>
                <p:cNvGrpSpPr/>
                <p:nvPr/>
              </p:nvGrpSpPr>
              <p:grpSpPr>
                <a:xfrm>
                  <a:off x="5433840" y="4017960"/>
                  <a:ext cx="2423160" cy="1956240"/>
                  <a:chOff x="5433840" y="4017960"/>
                  <a:chExt cx="2423160" cy="1956240"/>
                </a:xfrm>
              </p:grpSpPr>
              <p:grpSp>
                <p:nvGrpSpPr>
                  <p:cNvPr id="637" name=""/>
                  <p:cNvGrpSpPr/>
                  <p:nvPr/>
                </p:nvGrpSpPr>
                <p:grpSpPr>
                  <a:xfrm>
                    <a:off x="6253200" y="4017960"/>
                    <a:ext cx="1603800" cy="1956240"/>
                    <a:chOff x="6253200" y="4017960"/>
                    <a:chExt cx="1603800" cy="1956240"/>
                  </a:xfrm>
                </p:grpSpPr>
                <p:grpSp>
                  <p:nvGrpSpPr>
                    <p:cNvPr id="638" name=""/>
                    <p:cNvGrpSpPr/>
                    <p:nvPr/>
                  </p:nvGrpSpPr>
                  <p:grpSpPr>
                    <a:xfrm>
                      <a:off x="6253200" y="4017960"/>
                      <a:ext cx="1603800" cy="1956240"/>
                      <a:chOff x="6253200" y="4017960"/>
                      <a:chExt cx="1603800" cy="1956240"/>
                    </a:xfrm>
                  </p:grpSpPr>
                  <p:sp>
                    <p:nvSpPr>
                      <p:cNvPr id="639" name=""/>
                      <p:cNvSpPr/>
                      <p:nvPr/>
                    </p:nvSpPr>
                    <p:spPr>
                      <a:xfrm>
                        <a:off x="6253200" y="4017960"/>
                        <a:ext cx="1603800" cy="195624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4455" h="5434">
                            <a:moveTo>
                              <a:pt x="0" y="2148"/>
                            </a:moveTo>
                            <a:lnTo>
                              <a:pt x="594" y="1851"/>
                            </a:lnTo>
                            <a:lnTo>
                              <a:pt x="695" y="748"/>
                            </a:lnTo>
                            <a:lnTo>
                              <a:pt x="1573" y="169"/>
                            </a:lnTo>
                            <a:lnTo>
                              <a:pt x="2867" y="0"/>
                            </a:lnTo>
                            <a:lnTo>
                              <a:pt x="4069" y="535"/>
                            </a:lnTo>
                            <a:lnTo>
                              <a:pt x="4455" y="2534"/>
                            </a:lnTo>
                            <a:lnTo>
                              <a:pt x="4455" y="3791"/>
                            </a:lnTo>
                            <a:lnTo>
                              <a:pt x="2867" y="4613"/>
                            </a:lnTo>
                            <a:lnTo>
                              <a:pt x="2724" y="5434"/>
                            </a:lnTo>
                            <a:lnTo>
                              <a:pt x="1789" y="4729"/>
                            </a:lnTo>
                            <a:lnTo>
                              <a:pt x="1561" y="5180"/>
                            </a:lnTo>
                            <a:lnTo>
                              <a:pt x="1306" y="4644"/>
                            </a:lnTo>
                            <a:lnTo>
                              <a:pt x="567" y="5095"/>
                            </a:lnTo>
                            <a:lnTo>
                              <a:pt x="1407" y="3128"/>
                            </a:lnTo>
                            <a:lnTo>
                              <a:pt x="0" y="2576"/>
                            </a:lnTo>
                            <a:lnTo>
                              <a:pt x="0" y="2148"/>
                            </a:lnTo>
                            <a:close/>
                          </a:path>
                        </a:pathLst>
                      </a:custGeom>
                      <a:solidFill>
                        <a:srgbClr val="0000ac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0" name=""/>
                      <p:cNvSpPr/>
                      <p:nvPr/>
                    </p:nvSpPr>
                    <p:spPr>
                      <a:xfrm>
                        <a:off x="6508800" y="4292640"/>
                        <a:ext cx="147600" cy="6476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41" name=""/>
                    <p:cNvSpPr/>
                    <p:nvPr/>
                  </p:nvSpPr>
                  <p:spPr>
                    <a:xfrm>
                      <a:off x="7140600" y="4218120"/>
                      <a:ext cx="679680" cy="10306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fill="none" w="1888" h="2863">
                          <a:moveTo>
                            <a:pt x="1602" y="0"/>
                          </a:moveTo>
                          <a:lnTo>
                            <a:pt x="866" y="982"/>
                          </a:lnTo>
                          <a:lnTo>
                            <a:pt x="1010" y="1603"/>
                          </a:lnTo>
                          <a:lnTo>
                            <a:pt x="0" y="1986"/>
                          </a:lnTo>
                          <a:lnTo>
                            <a:pt x="440" y="2863"/>
                          </a:lnTo>
                          <a:lnTo>
                            <a:pt x="1888" y="2086"/>
                          </a:lnTo>
                        </a:path>
                      </a:pathLst>
                    </a:custGeom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642" name=""/>
                    <p:cNvGrpSpPr/>
                    <p:nvPr/>
                  </p:nvGrpSpPr>
                  <p:grpSpPr>
                    <a:xfrm>
                      <a:off x="6595920" y="4017960"/>
                      <a:ext cx="884520" cy="960840"/>
                      <a:chOff x="6595920" y="4017960"/>
                      <a:chExt cx="884520" cy="960840"/>
                    </a:xfrm>
                  </p:grpSpPr>
                  <p:grpSp>
                    <p:nvGrpSpPr>
                      <p:cNvPr id="643" name=""/>
                      <p:cNvGrpSpPr/>
                      <p:nvPr/>
                    </p:nvGrpSpPr>
                    <p:grpSpPr>
                      <a:xfrm>
                        <a:off x="6595920" y="4408560"/>
                        <a:ext cx="884520" cy="117360"/>
                        <a:chOff x="6595920" y="4408560"/>
                        <a:chExt cx="884520" cy="117360"/>
                      </a:xfrm>
                    </p:grpSpPr>
                    <p:sp>
                      <p:nvSpPr>
                        <p:cNvPr id="644" name=""/>
                        <p:cNvSpPr/>
                        <p:nvPr/>
                      </p:nvSpPr>
                      <p:spPr>
                        <a:xfrm>
                          <a:off x="7265880" y="4408560"/>
                          <a:ext cx="198720" cy="7164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w="552" h="199">
                              <a:moveTo>
                                <a:pt x="0" y="199"/>
                              </a:moveTo>
                              <a:lnTo>
                                <a:pt x="207" y="65"/>
                              </a:lnTo>
                              <a:lnTo>
                                <a:pt x="293" y="92"/>
                              </a:lnTo>
                              <a:lnTo>
                                <a:pt x="437" y="0"/>
                              </a:lnTo>
                              <a:lnTo>
                                <a:pt x="552" y="199"/>
                              </a:lnTo>
                              <a:lnTo>
                                <a:pt x="0" y="19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00ff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26640" bIns="266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5" name=""/>
                        <p:cNvSpPr/>
                        <p:nvPr/>
                      </p:nvSpPr>
                      <p:spPr>
                        <a:xfrm>
                          <a:off x="7224840" y="4479840"/>
                          <a:ext cx="255600" cy="46080"/>
                        </a:xfrm>
                        <a:prstGeom prst="rect">
                          <a:avLst/>
                        </a:prstGeom>
                        <a:solidFill>
                          <a:srgbClr val="0000ac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txBody>
                        <a:bodyPr lIns="96120" rIns="96120" tIns="-5040" bIns="-50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6" name=""/>
                        <p:cNvSpPr/>
                        <p:nvPr/>
                      </p:nvSpPr>
                      <p:spPr>
                        <a:xfrm>
                          <a:off x="6595920" y="4479840"/>
                          <a:ext cx="200160" cy="46080"/>
                        </a:xfrm>
                        <a:prstGeom prst="rect">
                          <a:avLst/>
                        </a:prstGeom>
                        <a:solidFill>
                          <a:srgbClr val="0000ac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txBody>
                        <a:bodyPr lIns="96120" rIns="96120" tIns="-5040" bIns="-50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647" name=""/>
                      <p:cNvSpPr/>
                      <p:nvPr/>
                    </p:nvSpPr>
                    <p:spPr>
                      <a:xfrm>
                        <a:off x="6913440" y="4033800"/>
                        <a:ext cx="351360" cy="94500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976" h="2625">
                            <a:moveTo>
                              <a:pt x="52" y="271"/>
                            </a:moveTo>
                            <a:lnTo>
                              <a:pt x="0" y="2625"/>
                            </a:lnTo>
                            <a:lnTo>
                              <a:pt x="56" y="2599"/>
                            </a:lnTo>
                            <a:lnTo>
                              <a:pt x="976" y="0"/>
                            </a:lnTo>
                            <a:lnTo>
                              <a:pt x="52" y="271"/>
                            </a:lnTo>
                            <a:close/>
                          </a:path>
                        </a:pathLst>
                      </a:custGeom>
                      <a:solidFill>
                        <a:srgbClr val="c06000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8" name=""/>
                      <p:cNvSpPr/>
                      <p:nvPr/>
                    </p:nvSpPr>
                    <p:spPr>
                      <a:xfrm>
                        <a:off x="6753240" y="4089240"/>
                        <a:ext cx="182880" cy="87984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fill="none" w="508" h="2444">
                            <a:moveTo>
                              <a:pt x="174" y="0"/>
                            </a:moveTo>
                            <a:lnTo>
                              <a:pt x="15" y="316"/>
                            </a:lnTo>
                            <a:lnTo>
                              <a:pt x="299" y="443"/>
                            </a:lnTo>
                            <a:lnTo>
                              <a:pt x="0" y="571"/>
                            </a:lnTo>
                            <a:lnTo>
                              <a:pt x="442" y="2444"/>
                            </a:lnTo>
                            <a:lnTo>
                              <a:pt x="508" y="135"/>
                            </a:lnTo>
                          </a:path>
                        </a:pathLst>
                      </a:custGeom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9" name=""/>
                      <p:cNvSpPr/>
                      <p:nvPr/>
                    </p:nvSpPr>
                    <p:spPr>
                      <a:xfrm>
                        <a:off x="6939000" y="4017960"/>
                        <a:ext cx="459000" cy="96084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fill="none" w="1275" h="2669">
                            <a:moveTo>
                              <a:pt x="940" y="0"/>
                            </a:moveTo>
                            <a:lnTo>
                              <a:pt x="0" y="2669"/>
                            </a:lnTo>
                            <a:lnTo>
                              <a:pt x="1113" y="772"/>
                            </a:lnTo>
                            <a:lnTo>
                              <a:pt x="844" y="624"/>
                            </a:lnTo>
                            <a:lnTo>
                              <a:pt x="1240" y="532"/>
                            </a:lnTo>
                            <a:lnTo>
                              <a:pt x="1275" y="138"/>
                            </a:lnTo>
                          </a:path>
                        </a:pathLst>
                      </a:custGeom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650" name=""/>
                  <p:cNvGrpSpPr/>
                  <p:nvPr/>
                </p:nvGrpSpPr>
                <p:grpSpPr>
                  <a:xfrm>
                    <a:off x="5433840" y="4670280"/>
                    <a:ext cx="1794600" cy="498960"/>
                    <a:chOff x="5433840" y="4670280"/>
                    <a:chExt cx="1794600" cy="498960"/>
                  </a:xfrm>
                </p:grpSpPr>
                <p:sp>
                  <p:nvSpPr>
                    <p:cNvPr id="651" name=""/>
                    <p:cNvSpPr/>
                    <p:nvPr/>
                  </p:nvSpPr>
                  <p:spPr>
                    <a:xfrm>
                      <a:off x="6237360" y="4924440"/>
                      <a:ext cx="875160" cy="24336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431" h="676">
                          <a:moveTo>
                            <a:pt x="0" y="142"/>
                          </a:moveTo>
                          <a:lnTo>
                            <a:pt x="980" y="0"/>
                          </a:lnTo>
                          <a:lnTo>
                            <a:pt x="1651" y="146"/>
                          </a:lnTo>
                          <a:lnTo>
                            <a:pt x="2431" y="344"/>
                          </a:lnTo>
                          <a:lnTo>
                            <a:pt x="1015" y="676"/>
                          </a:lnTo>
                          <a:lnTo>
                            <a:pt x="0" y="142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2" name=""/>
                    <p:cNvSpPr/>
                    <p:nvPr/>
                  </p:nvSpPr>
                  <p:spPr>
                    <a:xfrm>
                      <a:off x="6864480" y="4890960"/>
                      <a:ext cx="363960" cy="2322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011" h="645">
                          <a:moveTo>
                            <a:pt x="0" y="346"/>
                          </a:moveTo>
                          <a:lnTo>
                            <a:pt x="454" y="0"/>
                          </a:lnTo>
                          <a:lnTo>
                            <a:pt x="808" y="112"/>
                          </a:lnTo>
                          <a:lnTo>
                            <a:pt x="1011" y="591"/>
                          </a:lnTo>
                          <a:lnTo>
                            <a:pt x="30" y="645"/>
                          </a:lnTo>
                          <a:lnTo>
                            <a:pt x="0" y="346"/>
                          </a:lnTo>
                          <a:close/>
                        </a:path>
                      </a:pathLst>
                    </a:custGeom>
                    <a:solidFill>
                      <a:srgbClr val="ffc08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3" name=""/>
                    <p:cNvSpPr/>
                    <p:nvPr/>
                  </p:nvSpPr>
                  <p:spPr>
                    <a:xfrm>
                      <a:off x="6156360" y="4767120"/>
                      <a:ext cx="329040" cy="2224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914" h="618">
                          <a:moveTo>
                            <a:pt x="123" y="0"/>
                          </a:moveTo>
                          <a:lnTo>
                            <a:pt x="914" y="99"/>
                          </a:lnTo>
                          <a:lnTo>
                            <a:pt x="695" y="268"/>
                          </a:lnTo>
                          <a:lnTo>
                            <a:pt x="803" y="495"/>
                          </a:lnTo>
                          <a:lnTo>
                            <a:pt x="0" y="618"/>
                          </a:lnTo>
                          <a:lnTo>
                            <a:pt x="123" y="0"/>
                          </a:lnTo>
                          <a:close/>
                        </a:path>
                      </a:pathLst>
                    </a:custGeom>
                    <a:solidFill>
                      <a:srgbClr val="ffc08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4" name=""/>
                    <p:cNvSpPr/>
                    <p:nvPr/>
                  </p:nvSpPr>
                  <p:spPr>
                    <a:xfrm>
                      <a:off x="5433840" y="4670280"/>
                      <a:ext cx="1178280" cy="49896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3273" h="1386">
                          <a:moveTo>
                            <a:pt x="0" y="0"/>
                          </a:moveTo>
                          <a:lnTo>
                            <a:pt x="1120" y="204"/>
                          </a:lnTo>
                          <a:lnTo>
                            <a:pt x="2210" y="837"/>
                          </a:lnTo>
                          <a:lnTo>
                            <a:pt x="3273" y="1386"/>
                          </a:lnTo>
                          <a:lnTo>
                            <a:pt x="1669" y="895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55" name=""/>
                <p:cNvGrpSpPr/>
                <p:nvPr/>
              </p:nvGrpSpPr>
              <p:grpSpPr>
                <a:xfrm>
                  <a:off x="6676920" y="3295800"/>
                  <a:ext cx="668520" cy="1149480"/>
                  <a:chOff x="6676920" y="3295800"/>
                  <a:chExt cx="668520" cy="1149480"/>
                </a:xfrm>
              </p:grpSpPr>
              <p:sp>
                <p:nvSpPr>
                  <p:cNvPr id="656" name=""/>
                  <p:cNvSpPr/>
                  <p:nvPr/>
                </p:nvSpPr>
                <p:spPr>
                  <a:xfrm>
                    <a:off x="6934320" y="4041720"/>
                    <a:ext cx="330480" cy="403560"/>
                  </a:xfrm>
                  <a:custGeom>
                    <a:avLst/>
                    <a:gdLst/>
                    <a:ahLst/>
                    <a:rect l="0" t="0" r="r" b="b"/>
                    <a:pathLst>
                      <a:path w="918" h="1121">
                        <a:moveTo>
                          <a:pt x="0" y="248"/>
                        </a:moveTo>
                        <a:lnTo>
                          <a:pt x="277" y="1121"/>
                        </a:lnTo>
                        <a:lnTo>
                          <a:pt x="918" y="0"/>
                        </a:lnTo>
                        <a:lnTo>
                          <a:pt x="0" y="248"/>
                        </a:lnTo>
                        <a:close/>
                      </a:path>
                    </a:pathLst>
                  </a:custGeom>
                  <a:solidFill>
                    <a:srgbClr val="ffc08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>
                    <a:off x="6680160" y="3486240"/>
                    <a:ext cx="658800" cy="657360"/>
                  </a:xfrm>
                  <a:prstGeom prst="ellipse">
                    <a:avLst/>
                  </a:prstGeom>
                  <a:solidFill>
                    <a:srgbClr val="ffc08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>
                    <a:off x="6676920" y="3295800"/>
                    <a:ext cx="668520" cy="533880"/>
                  </a:xfrm>
                  <a:custGeom>
                    <a:avLst/>
                    <a:gdLst/>
                    <a:ahLst/>
                    <a:rect l="0" t="0" r="r" b="b"/>
                    <a:pathLst>
                      <a:path w="1857" h="1483">
                        <a:moveTo>
                          <a:pt x="19" y="1483"/>
                        </a:moveTo>
                        <a:lnTo>
                          <a:pt x="0" y="1229"/>
                        </a:lnTo>
                        <a:lnTo>
                          <a:pt x="42" y="1043"/>
                        </a:lnTo>
                        <a:lnTo>
                          <a:pt x="108" y="901"/>
                        </a:lnTo>
                        <a:lnTo>
                          <a:pt x="204" y="770"/>
                        </a:lnTo>
                        <a:lnTo>
                          <a:pt x="316" y="670"/>
                        </a:lnTo>
                        <a:lnTo>
                          <a:pt x="455" y="593"/>
                        </a:lnTo>
                        <a:lnTo>
                          <a:pt x="544" y="555"/>
                        </a:lnTo>
                        <a:lnTo>
                          <a:pt x="428" y="462"/>
                        </a:lnTo>
                        <a:lnTo>
                          <a:pt x="416" y="334"/>
                        </a:lnTo>
                        <a:lnTo>
                          <a:pt x="443" y="238"/>
                        </a:lnTo>
                        <a:lnTo>
                          <a:pt x="517" y="146"/>
                        </a:lnTo>
                        <a:lnTo>
                          <a:pt x="609" y="73"/>
                        </a:lnTo>
                        <a:lnTo>
                          <a:pt x="795" y="11"/>
                        </a:lnTo>
                        <a:lnTo>
                          <a:pt x="914" y="0"/>
                        </a:lnTo>
                        <a:lnTo>
                          <a:pt x="1043" y="7"/>
                        </a:lnTo>
                        <a:lnTo>
                          <a:pt x="1197" y="46"/>
                        </a:lnTo>
                        <a:lnTo>
                          <a:pt x="1328" y="115"/>
                        </a:lnTo>
                        <a:lnTo>
                          <a:pt x="1421" y="180"/>
                        </a:lnTo>
                        <a:lnTo>
                          <a:pt x="1490" y="261"/>
                        </a:lnTo>
                        <a:lnTo>
                          <a:pt x="1529" y="361"/>
                        </a:lnTo>
                        <a:lnTo>
                          <a:pt x="1552" y="428"/>
                        </a:lnTo>
                        <a:lnTo>
                          <a:pt x="1521" y="535"/>
                        </a:lnTo>
                        <a:lnTo>
                          <a:pt x="1440" y="616"/>
                        </a:lnTo>
                        <a:lnTo>
                          <a:pt x="1521" y="674"/>
                        </a:lnTo>
                        <a:lnTo>
                          <a:pt x="1652" y="797"/>
                        </a:lnTo>
                        <a:lnTo>
                          <a:pt x="1753" y="928"/>
                        </a:lnTo>
                        <a:lnTo>
                          <a:pt x="1822" y="1074"/>
                        </a:lnTo>
                        <a:lnTo>
                          <a:pt x="1857" y="1248"/>
                        </a:lnTo>
                        <a:lnTo>
                          <a:pt x="1845" y="1483"/>
                        </a:lnTo>
                        <a:lnTo>
                          <a:pt x="1606" y="1418"/>
                        </a:lnTo>
                        <a:lnTo>
                          <a:pt x="1436" y="1360"/>
                        </a:lnTo>
                        <a:lnTo>
                          <a:pt x="1297" y="1298"/>
                        </a:lnTo>
                        <a:lnTo>
                          <a:pt x="1135" y="1218"/>
                        </a:lnTo>
                        <a:lnTo>
                          <a:pt x="1043" y="1156"/>
                        </a:lnTo>
                        <a:lnTo>
                          <a:pt x="965" y="1040"/>
                        </a:lnTo>
                        <a:lnTo>
                          <a:pt x="926" y="936"/>
                        </a:lnTo>
                        <a:lnTo>
                          <a:pt x="910" y="763"/>
                        </a:lnTo>
                        <a:lnTo>
                          <a:pt x="829" y="943"/>
                        </a:lnTo>
                        <a:lnTo>
                          <a:pt x="760" y="1063"/>
                        </a:lnTo>
                        <a:lnTo>
                          <a:pt x="656" y="1160"/>
                        </a:lnTo>
                        <a:lnTo>
                          <a:pt x="559" y="1237"/>
                        </a:lnTo>
                        <a:lnTo>
                          <a:pt x="459" y="1314"/>
                        </a:lnTo>
                        <a:lnTo>
                          <a:pt x="339" y="1379"/>
                        </a:lnTo>
                        <a:lnTo>
                          <a:pt x="204" y="1441"/>
                        </a:lnTo>
                        <a:lnTo>
                          <a:pt x="88" y="1460"/>
                        </a:lnTo>
                        <a:lnTo>
                          <a:pt x="19" y="1483"/>
                        </a:lnTo>
                        <a:close/>
                      </a:path>
                    </a:pathLst>
                  </a:custGeom>
                  <a:solidFill>
                    <a:srgbClr val="3f1f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59" name=""/>
            <p:cNvGrpSpPr/>
            <p:nvPr/>
          </p:nvGrpSpPr>
          <p:grpSpPr>
            <a:xfrm>
              <a:off x="7137360" y="3276720"/>
              <a:ext cx="1994400" cy="3125880"/>
              <a:chOff x="7137360" y="3276720"/>
              <a:chExt cx="1994400" cy="3125880"/>
            </a:xfrm>
          </p:grpSpPr>
          <p:grpSp>
            <p:nvGrpSpPr>
              <p:cNvPr id="660" name=""/>
              <p:cNvGrpSpPr/>
              <p:nvPr/>
            </p:nvGrpSpPr>
            <p:grpSpPr>
              <a:xfrm>
                <a:off x="7137360" y="3276720"/>
                <a:ext cx="1994400" cy="3125880"/>
                <a:chOff x="7137360" y="3276720"/>
                <a:chExt cx="1994400" cy="3125880"/>
              </a:xfrm>
            </p:grpSpPr>
            <p:sp>
              <p:nvSpPr>
                <p:cNvPr id="661" name=""/>
                <p:cNvSpPr/>
                <p:nvPr/>
              </p:nvSpPr>
              <p:spPr>
                <a:xfrm>
                  <a:off x="7242120" y="5292720"/>
                  <a:ext cx="1848240" cy="703800"/>
                </a:xfrm>
                <a:custGeom>
                  <a:avLst/>
                  <a:gdLst/>
                  <a:ahLst/>
                  <a:rect l="0" t="0" r="r" b="b"/>
                  <a:pathLst>
                    <a:path w="5134" h="1955">
                      <a:moveTo>
                        <a:pt x="2071" y="115"/>
                      </a:moveTo>
                      <a:lnTo>
                        <a:pt x="142" y="995"/>
                      </a:lnTo>
                      <a:lnTo>
                        <a:pt x="0" y="1955"/>
                      </a:lnTo>
                      <a:lnTo>
                        <a:pt x="4424" y="1955"/>
                      </a:lnTo>
                      <a:lnTo>
                        <a:pt x="5134" y="709"/>
                      </a:lnTo>
                      <a:lnTo>
                        <a:pt x="5022" y="0"/>
                      </a:lnTo>
                      <a:lnTo>
                        <a:pt x="2071" y="115"/>
                      </a:lnTo>
                      <a:close/>
                    </a:path>
                  </a:pathLst>
                </a:custGeom>
                <a:solidFill>
                  <a:srgbClr val="dfdfd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62" name=""/>
                <p:cNvGrpSpPr/>
                <p:nvPr/>
              </p:nvGrpSpPr>
              <p:grpSpPr>
                <a:xfrm>
                  <a:off x="7257960" y="6002280"/>
                  <a:ext cx="930600" cy="400320"/>
                  <a:chOff x="7257960" y="6002280"/>
                  <a:chExt cx="930600" cy="400320"/>
                </a:xfrm>
              </p:grpSpPr>
              <p:sp>
                <p:nvSpPr>
                  <p:cNvPr id="663" name=""/>
                  <p:cNvSpPr/>
                  <p:nvPr/>
                </p:nvSpPr>
                <p:spPr>
                  <a:xfrm>
                    <a:off x="7257960" y="6002280"/>
                    <a:ext cx="413280" cy="400320"/>
                  </a:xfrm>
                  <a:custGeom>
                    <a:avLst/>
                    <a:gdLst/>
                    <a:ahLst/>
                    <a:rect l="0" t="0" r="r" b="b"/>
                    <a:pathLst>
                      <a:path w="1148" h="1112">
                        <a:moveTo>
                          <a:pt x="0" y="0"/>
                        </a:moveTo>
                        <a:lnTo>
                          <a:pt x="1148" y="0"/>
                        </a:lnTo>
                        <a:lnTo>
                          <a:pt x="827" y="1112"/>
                        </a:lnTo>
                        <a:lnTo>
                          <a:pt x="57" y="11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5f3f1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>
                    <a:off x="7624800" y="6002280"/>
                    <a:ext cx="563760" cy="400320"/>
                  </a:xfrm>
                  <a:custGeom>
                    <a:avLst/>
                    <a:gdLst/>
                    <a:ahLst/>
                    <a:rect l="0" t="0" r="r" b="b"/>
                    <a:pathLst>
                      <a:path w="1566" h="1112">
                        <a:moveTo>
                          <a:pt x="273" y="0"/>
                        </a:moveTo>
                        <a:lnTo>
                          <a:pt x="1566" y="0"/>
                        </a:lnTo>
                        <a:lnTo>
                          <a:pt x="829" y="1108"/>
                        </a:lnTo>
                        <a:lnTo>
                          <a:pt x="0" y="1112"/>
                        </a:lnTo>
                        <a:lnTo>
                          <a:pt x="273" y="0"/>
                        </a:lnTo>
                        <a:close/>
                      </a:path>
                    </a:pathLst>
                  </a:custGeom>
                  <a:solidFill>
                    <a:srgbClr val="5f3f1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5" name=""/>
                <p:cNvGrpSpPr/>
                <p:nvPr/>
              </p:nvGrpSpPr>
              <p:grpSpPr>
                <a:xfrm>
                  <a:off x="7137360" y="3909960"/>
                  <a:ext cx="1994400" cy="1730880"/>
                  <a:chOff x="7137360" y="3909960"/>
                  <a:chExt cx="1994400" cy="1730880"/>
                </a:xfrm>
              </p:grpSpPr>
              <p:sp>
                <p:nvSpPr>
                  <p:cNvPr id="666" name=""/>
                  <p:cNvSpPr/>
                  <p:nvPr/>
                </p:nvSpPr>
                <p:spPr>
                  <a:xfrm>
                    <a:off x="7520040" y="4713120"/>
                    <a:ext cx="449640" cy="667080"/>
                  </a:xfrm>
                  <a:custGeom>
                    <a:avLst/>
                    <a:gdLst/>
                    <a:ahLst/>
                    <a:rect l="0" t="0" r="r" b="b"/>
                    <a:pathLst>
                      <a:path w="1249" h="1853">
                        <a:moveTo>
                          <a:pt x="708" y="0"/>
                        </a:moveTo>
                        <a:lnTo>
                          <a:pt x="595" y="509"/>
                        </a:lnTo>
                        <a:lnTo>
                          <a:pt x="765" y="1525"/>
                        </a:lnTo>
                        <a:lnTo>
                          <a:pt x="0" y="1799"/>
                        </a:lnTo>
                        <a:lnTo>
                          <a:pt x="344" y="1853"/>
                        </a:lnTo>
                        <a:lnTo>
                          <a:pt x="1249" y="1521"/>
                        </a:lnTo>
                        <a:lnTo>
                          <a:pt x="1021" y="57"/>
                        </a:lnTo>
                        <a:lnTo>
                          <a:pt x="708" y="0"/>
                        </a:lnTo>
                        <a:close/>
                      </a:path>
                    </a:pathLst>
                  </a:custGeom>
                  <a:solidFill>
                    <a:srgbClr val="5f3f1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7" name=""/>
                  <p:cNvSpPr/>
                  <p:nvPr/>
                </p:nvSpPr>
                <p:spPr>
                  <a:xfrm>
                    <a:off x="7691400" y="3909960"/>
                    <a:ext cx="1440360" cy="1640160"/>
                  </a:xfrm>
                  <a:custGeom>
                    <a:avLst/>
                    <a:gdLst/>
                    <a:ahLst/>
                    <a:rect l="0" t="0" r="r" b="b"/>
                    <a:pathLst>
                      <a:path w="4001" h="4556">
                        <a:moveTo>
                          <a:pt x="1927" y="0"/>
                        </a:moveTo>
                        <a:lnTo>
                          <a:pt x="2271" y="223"/>
                        </a:lnTo>
                        <a:lnTo>
                          <a:pt x="3125" y="482"/>
                        </a:lnTo>
                        <a:lnTo>
                          <a:pt x="3943" y="3877"/>
                        </a:lnTo>
                        <a:lnTo>
                          <a:pt x="4001" y="4556"/>
                        </a:lnTo>
                        <a:lnTo>
                          <a:pt x="911" y="4556"/>
                        </a:lnTo>
                        <a:lnTo>
                          <a:pt x="540" y="2403"/>
                        </a:lnTo>
                        <a:lnTo>
                          <a:pt x="0" y="2319"/>
                        </a:lnTo>
                        <a:lnTo>
                          <a:pt x="312" y="1187"/>
                        </a:lnTo>
                        <a:lnTo>
                          <a:pt x="1109" y="532"/>
                        </a:lnTo>
                        <a:lnTo>
                          <a:pt x="1109" y="1639"/>
                        </a:lnTo>
                        <a:lnTo>
                          <a:pt x="1927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8" name=""/>
                  <p:cNvSpPr/>
                  <p:nvPr/>
                </p:nvSpPr>
                <p:spPr>
                  <a:xfrm>
                    <a:off x="7137360" y="5303880"/>
                    <a:ext cx="1184760" cy="224280"/>
                  </a:xfrm>
                  <a:custGeom>
                    <a:avLst/>
                    <a:gdLst/>
                    <a:ahLst/>
                    <a:rect l="0" t="0" r="r" b="b"/>
                    <a:pathLst>
                      <a:path w="3291" h="623">
                        <a:moveTo>
                          <a:pt x="0" y="167"/>
                        </a:moveTo>
                        <a:lnTo>
                          <a:pt x="2411" y="0"/>
                        </a:lnTo>
                        <a:lnTo>
                          <a:pt x="3291" y="496"/>
                        </a:lnTo>
                        <a:lnTo>
                          <a:pt x="1605" y="623"/>
                        </a:lnTo>
                        <a:lnTo>
                          <a:pt x="1181" y="546"/>
                        </a:lnTo>
                        <a:lnTo>
                          <a:pt x="0" y="16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9" name=""/>
                  <p:cNvSpPr/>
                  <p:nvPr/>
                </p:nvSpPr>
                <p:spPr>
                  <a:xfrm>
                    <a:off x="7575480" y="4757760"/>
                    <a:ext cx="1208520" cy="883080"/>
                  </a:xfrm>
                  <a:custGeom>
                    <a:avLst/>
                    <a:gdLst/>
                    <a:ahLst/>
                    <a:rect l="0" t="0" r="r" b="b"/>
                    <a:pathLst>
                      <a:path w="3357" h="2453">
                        <a:moveTo>
                          <a:pt x="2578" y="100"/>
                        </a:moveTo>
                        <a:lnTo>
                          <a:pt x="2651" y="811"/>
                        </a:lnTo>
                        <a:lnTo>
                          <a:pt x="493" y="1630"/>
                        </a:lnTo>
                        <a:lnTo>
                          <a:pt x="493" y="2171"/>
                        </a:lnTo>
                        <a:lnTo>
                          <a:pt x="0" y="2071"/>
                        </a:lnTo>
                        <a:lnTo>
                          <a:pt x="324" y="2453"/>
                        </a:lnTo>
                        <a:lnTo>
                          <a:pt x="976" y="2453"/>
                        </a:lnTo>
                        <a:lnTo>
                          <a:pt x="1347" y="1886"/>
                        </a:lnTo>
                        <a:lnTo>
                          <a:pt x="3357" y="1232"/>
                        </a:lnTo>
                        <a:lnTo>
                          <a:pt x="3357" y="0"/>
                        </a:lnTo>
                        <a:lnTo>
                          <a:pt x="2578" y="100"/>
                        </a:lnTo>
                        <a:close/>
                      </a:path>
                    </a:pathLst>
                  </a:custGeom>
                  <a:solidFill>
                    <a:srgbClr val="5f3f1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0" name=""/>
                  <p:cNvSpPr/>
                  <p:nvPr/>
                </p:nvSpPr>
                <p:spPr>
                  <a:xfrm>
                    <a:off x="8426520" y="4084560"/>
                    <a:ext cx="511560" cy="740160"/>
                  </a:xfrm>
                  <a:custGeom>
                    <a:avLst/>
                    <a:gdLst/>
                    <a:ahLst/>
                    <a:rect l="0" t="0" r="r" b="b"/>
                    <a:pathLst>
                      <a:path w="1421" h="2056">
                        <a:moveTo>
                          <a:pt x="1073" y="0"/>
                        </a:moveTo>
                        <a:lnTo>
                          <a:pt x="0" y="897"/>
                        </a:lnTo>
                        <a:lnTo>
                          <a:pt x="85" y="2056"/>
                        </a:lnTo>
                        <a:lnTo>
                          <a:pt x="1421" y="1914"/>
                        </a:lnTo>
                        <a:lnTo>
                          <a:pt x="1073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1" name=""/>
                <p:cNvGrpSpPr/>
                <p:nvPr/>
              </p:nvGrpSpPr>
              <p:grpSpPr>
                <a:xfrm>
                  <a:off x="7731000" y="3276720"/>
                  <a:ext cx="765360" cy="1266840"/>
                  <a:chOff x="7731000" y="3276720"/>
                  <a:chExt cx="765360" cy="1266840"/>
                </a:xfrm>
              </p:grpSpPr>
              <p:sp>
                <p:nvSpPr>
                  <p:cNvPr id="672" name=""/>
                  <p:cNvSpPr/>
                  <p:nvPr/>
                </p:nvSpPr>
                <p:spPr>
                  <a:xfrm>
                    <a:off x="8074080" y="3924360"/>
                    <a:ext cx="305280" cy="578160"/>
                  </a:xfrm>
                  <a:custGeom>
                    <a:avLst/>
                    <a:gdLst/>
                    <a:ahLst/>
                    <a:rect l="0" t="0" r="r" b="b"/>
                    <a:pathLst>
                      <a:path w="848" h="1606">
                        <a:moveTo>
                          <a:pt x="50" y="1606"/>
                        </a:moveTo>
                        <a:lnTo>
                          <a:pt x="0" y="625"/>
                        </a:lnTo>
                        <a:lnTo>
                          <a:pt x="848" y="0"/>
                        </a:lnTo>
                        <a:lnTo>
                          <a:pt x="50" y="1606"/>
                        </a:lnTo>
                        <a:close/>
                      </a:path>
                    </a:pathLst>
                  </a:custGeom>
                  <a:solidFill>
                    <a:srgbClr val="5f3f1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3" name=""/>
                  <p:cNvSpPr/>
                  <p:nvPr/>
                </p:nvSpPr>
                <p:spPr>
                  <a:xfrm>
                    <a:off x="8080200" y="3898800"/>
                    <a:ext cx="416160" cy="611640"/>
                  </a:xfrm>
                  <a:custGeom>
                    <a:avLst/>
                    <a:gdLst/>
                    <a:ahLst/>
                    <a:rect l="0" t="0" r="r" b="b"/>
                    <a:pathLst>
                      <a:path w="1156" h="1699">
                        <a:moveTo>
                          <a:pt x="844" y="0"/>
                        </a:moveTo>
                        <a:lnTo>
                          <a:pt x="1156" y="254"/>
                        </a:lnTo>
                        <a:lnTo>
                          <a:pt x="759" y="1075"/>
                        </a:lnTo>
                        <a:lnTo>
                          <a:pt x="0" y="1699"/>
                        </a:lnTo>
                        <a:lnTo>
                          <a:pt x="844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4" name=""/>
                  <p:cNvSpPr/>
                  <p:nvPr/>
                </p:nvSpPr>
                <p:spPr>
                  <a:xfrm>
                    <a:off x="7939080" y="4092480"/>
                    <a:ext cx="141480" cy="406800"/>
                  </a:xfrm>
                  <a:custGeom>
                    <a:avLst/>
                    <a:gdLst/>
                    <a:ahLst/>
                    <a:rect l="0" t="0" r="r" b="b"/>
                    <a:pathLst>
                      <a:path w="393" h="1130">
                        <a:moveTo>
                          <a:pt x="393" y="0"/>
                        </a:moveTo>
                        <a:lnTo>
                          <a:pt x="0" y="369"/>
                        </a:lnTo>
                        <a:lnTo>
                          <a:pt x="393" y="1130"/>
                        </a:lnTo>
                        <a:lnTo>
                          <a:pt x="393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5" name=""/>
                  <p:cNvSpPr/>
                  <p:nvPr/>
                </p:nvSpPr>
                <p:spPr>
                  <a:xfrm>
                    <a:off x="8186760" y="4435560"/>
                    <a:ext cx="217440" cy="1080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76" name=""/>
                  <p:cNvGrpSpPr/>
                  <p:nvPr/>
                </p:nvGrpSpPr>
                <p:grpSpPr>
                  <a:xfrm>
                    <a:off x="7731000" y="3276720"/>
                    <a:ext cx="754560" cy="860400"/>
                    <a:chOff x="7731000" y="3276720"/>
                    <a:chExt cx="754560" cy="860400"/>
                  </a:xfrm>
                </p:grpSpPr>
                <p:grpSp>
                  <p:nvGrpSpPr>
                    <p:cNvPr id="677" name=""/>
                    <p:cNvGrpSpPr/>
                    <p:nvPr/>
                  </p:nvGrpSpPr>
                  <p:grpSpPr>
                    <a:xfrm>
                      <a:off x="7926480" y="3276720"/>
                      <a:ext cx="559080" cy="422280"/>
                      <a:chOff x="7926480" y="3276720"/>
                      <a:chExt cx="559080" cy="422280"/>
                    </a:xfrm>
                  </p:grpSpPr>
                  <p:sp>
                    <p:nvSpPr>
                      <p:cNvPr id="678" name=""/>
                      <p:cNvSpPr/>
                      <p:nvPr/>
                    </p:nvSpPr>
                    <p:spPr>
                      <a:xfrm>
                        <a:off x="8335800" y="3508200"/>
                        <a:ext cx="143280" cy="19080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98" h="530">
                            <a:moveTo>
                              <a:pt x="263" y="0"/>
                            </a:moveTo>
                            <a:lnTo>
                              <a:pt x="398" y="256"/>
                            </a:lnTo>
                            <a:lnTo>
                              <a:pt x="139" y="530"/>
                            </a:lnTo>
                            <a:lnTo>
                              <a:pt x="0" y="323"/>
                            </a:lnTo>
                            <a:lnTo>
                              <a:pt x="263" y="0"/>
                            </a:lnTo>
                            <a:close/>
                          </a:path>
                        </a:pathLst>
                      </a:custGeom>
                      <a:solidFill>
                        <a:srgbClr val="dfdfd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9" name=""/>
                      <p:cNvSpPr/>
                      <p:nvPr/>
                    </p:nvSpPr>
                    <p:spPr>
                      <a:xfrm>
                        <a:off x="7926480" y="3276720"/>
                        <a:ext cx="559080" cy="36396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553" h="1011">
                            <a:moveTo>
                              <a:pt x="0" y="663"/>
                            </a:moveTo>
                            <a:lnTo>
                              <a:pt x="169" y="100"/>
                            </a:lnTo>
                            <a:lnTo>
                              <a:pt x="935" y="0"/>
                            </a:lnTo>
                            <a:lnTo>
                              <a:pt x="1553" y="494"/>
                            </a:lnTo>
                            <a:lnTo>
                              <a:pt x="1163" y="1011"/>
                            </a:lnTo>
                            <a:lnTo>
                              <a:pt x="0" y="66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80" name=""/>
                      <p:cNvSpPr/>
                      <p:nvPr/>
                    </p:nvSpPr>
                    <p:spPr>
                      <a:xfrm>
                        <a:off x="7969320" y="3327480"/>
                        <a:ext cx="471960" cy="1861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311" h="517">
                            <a:moveTo>
                              <a:pt x="34" y="77"/>
                            </a:moveTo>
                            <a:lnTo>
                              <a:pt x="745" y="0"/>
                            </a:lnTo>
                            <a:lnTo>
                              <a:pt x="1311" y="428"/>
                            </a:lnTo>
                            <a:lnTo>
                              <a:pt x="1250" y="517"/>
                            </a:lnTo>
                            <a:lnTo>
                              <a:pt x="695" y="100"/>
                            </a:lnTo>
                            <a:lnTo>
                              <a:pt x="0" y="175"/>
                            </a:lnTo>
                            <a:lnTo>
                              <a:pt x="34" y="77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81" name=""/>
                    <p:cNvSpPr/>
                    <p:nvPr/>
                  </p:nvSpPr>
                  <p:spPr>
                    <a:xfrm>
                      <a:off x="7731000" y="3479760"/>
                      <a:ext cx="657360" cy="657360"/>
                    </a:xfrm>
                    <a:prstGeom prst="ellipse">
                      <a:avLst/>
                    </a:prstGeom>
                    <a:solidFill>
                      <a:srgbClr val="5f3f1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682" name=""/>
              <p:cNvSpPr/>
              <p:nvPr/>
            </p:nvSpPr>
            <p:spPr>
              <a:xfrm flipH="1" flipV="1">
                <a:off x="7810560" y="4332240"/>
                <a:ext cx="81000" cy="44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3" name=""/>
          <p:cNvGrpSpPr/>
          <p:nvPr/>
        </p:nvGrpSpPr>
        <p:grpSpPr>
          <a:xfrm>
            <a:off x="6480" y="0"/>
            <a:ext cx="9132840" cy="6389640"/>
            <a:chOff x="6480" y="0"/>
            <a:chExt cx="9132840" cy="6389640"/>
          </a:xfrm>
        </p:grpSpPr>
        <p:sp>
          <p:nvSpPr>
            <p:cNvPr id="684" name=""/>
            <p:cNvSpPr/>
            <p:nvPr/>
          </p:nvSpPr>
          <p:spPr>
            <a:xfrm>
              <a:off x="6480" y="0"/>
              <a:ext cx="9132840" cy="6389640"/>
            </a:xfrm>
            <a:prstGeom prst="rect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26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5" name=""/>
            <p:cNvGrpSpPr/>
            <p:nvPr/>
          </p:nvGrpSpPr>
          <p:grpSpPr>
            <a:xfrm>
              <a:off x="6480" y="88920"/>
              <a:ext cx="9132840" cy="6168960"/>
              <a:chOff x="6480" y="88920"/>
              <a:chExt cx="9132840" cy="6168960"/>
            </a:xfrm>
          </p:grpSpPr>
          <p:sp>
            <p:nvSpPr>
              <p:cNvPr id="686" name=""/>
              <p:cNvSpPr/>
              <p:nvPr/>
            </p:nvSpPr>
            <p:spPr>
              <a:xfrm>
                <a:off x="6480" y="88920"/>
                <a:ext cx="9132840" cy="889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6480" y="249120"/>
                <a:ext cx="9132840" cy="889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6480" y="409680"/>
                <a:ext cx="9132840" cy="889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6480" y="568440"/>
                <a:ext cx="9132840" cy="889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6480" y="728640"/>
                <a:ext cx="9132840" cy="889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6480" y="888840"/>
                <a:ext cx="9132840" cy="889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6480" y="1049400"/>
                <a:ext cx="9132840" cy="889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6480" y="1209600"/>
                <a:ext cx="9132840" cy="889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480" y="1368360"/>
                <a:ext cx="9132840" cy="889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6480" y="1528920"/>
                <a:ext cx="9132840" cy="889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480" y="1689120"/>
                <a:ext cx="9132840" cy="889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6480" y="1849320"/>
                <a:ext cx="9132840" cy="889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6480" y="2009880"/>
                <a:ext cx="9132840" cy="889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480" y="2168640"/>
                <a:ext cx="9132840" cy="889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480" y="2328840"/>
                <a:ext cx="9132840" cy="889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6480" y="2489040"/>
                <a:ext cx="9132840" cy="889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480" y="2649600"/>
                <a:ext cx="9132840" cy="889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480" y="2809800"/>
                <a:ext cx="9132840" cy="889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6480" y="2968560"/>
                <a:ext cx="9132840" cy="889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480" y="3129120"/>
                <a:ext cx="9132840" cy="889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480" y="3289320"/>
                <a:ext cx="9132840" cy="889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480" y="3449520"/>
                <a:ext cx="9132840" cy="889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480" y="3610080"/>
                <a:ext cx="9132840" cy="889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480" y="3768840"/>
                <a:ext cx="9132840" cy="889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480" y="3929040"/>
                <a:ext cx="9132840" cy="889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6480" y="4089240"/>
                <a:ext cx="9132840" cy="889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6480" y="4249800"/>
                <a:ext cx="9132840" cy="889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480" y="4410000"/>
                <a:ext cx="9132840" cy="889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480" y="4568760"/>
                <a:ext cx="9132840" cy="889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6480" y="4729320"/>
                <a:ext cx="9132840" cy="889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480" y="4889520"/>
                <a:ext cx="9132840" cy="889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6480" y="5049720"/>
                <a:ext cx="9132840" cy="889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480" y="5210280"/>
                <a:ext cx="9132840" cy="889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6480" y="5369040"/>
                <a:ext cx="9132840" cy="889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6480" y="5529240"/>
                <a:ext cx="9132840" cy="889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6480" y="5689440"/>
                <a:ext cx="9132840" cy="889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480" y="5850000"/>
                <a:ext cx="9132840" cy="889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480" y="6010200"/>
                <a:ext cx="9132840" cy="889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6480" y="6168960"/>
                <a:ext cx="9132840" cy="889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5" name=""/>
          <p:cNvSpPr txBox="1"/>
          <p:nvPr/>
        </p:nvSpPr>
        <p:spPr>
          <a:xfrm>
            <a:off x="990720" y="4572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NASA Updat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3809880" y="2266920"/>
            <a:ext cx="4533840" cy="40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c0c0ff"/>
                </a:solidFill>
                <a:latin typeface="Arial"/>
                <a:ea typeface="Arial"/>
              </a:rPr>
              <a:t>The Hubble telescope has been successfully repaired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c0c0ff"/>
                </a:solidFill>
                <a:latin typeface="Arial"/>
                <a:ea typeface="Arial"/>
              </a:rPr>
              <a:t>Discovery crew is on their way ho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0" y="1690560"/>
            <a:ext cx="6076800" cy="4710240"/>
            <a:chOff x="0" y="1690560"/>
            <a:chExt cx="6076800" cy="4710240"/>
          </a:xfrm>
        </p:grpSpPr>
        <p:grpSp>
          <p:nvGrpSpPr>
            <p:cNvPr id="728" name=""/>
            <p:cNvGrpSpPr/>
            <p:nvPr/>
          </p:nvGrpSpPr>
          <p:grpSpPr>
            <a:xfrm>
              <a:off x="0" y="5200560"/>
              <a:ext cx="6076800" cy="1200240"/>
              <a:chOff x="0" y="5200560"/>
              <a:chExt cx="6076800" cy="1200240"/>
            </a:xfrm>
          </p:grpSpPr>
          <p:sp>
            <p:nvSpPr>
              <p:cNvPr id="729" name=""/>
              <p:cNvSpPr/>
              <p:nvPr/>
            </p:nvSpPr>
            <p:spPr>
              <a:xfrm>
                <a:off x="1371600" y="5753160"/>
                <a:ext cx="1752480" cy="647640"/>
              </a:xfrm>
              <a:prstGeom prst="rect">
                <a:avLst/>
              </a:prstGeom>
              <a:solidFill>
                <a:srgbClr val="fc0128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2000160" y="5753160"/>
                <a:ext cx="400320" cy="489960"/>
              </a:xfrm>
              <a:custGeom>
                <a:avLst/>
                <a:gdLst/>
                <a:ahLst/>
                <a:rect l="0" t="0" r="r" b="b"/>
                <a:pathLst>
                  <a:path w="1112" h="1361">
                    <a:moveTo>
                      <a:pt x="11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cubicBezTo>
                      <a:pt x="0" y="251"/>
                      <a:pt x="51" y="498"/>
                      <a:pt x="149" y="715"/>
                    </a:cubicBezTo>
                    <a:cubicBezTo>
                      <a:pt x="247" y="932"/>
                      <a:pt x="387" y="1113"/>
                      <a:pt x="556" y="1238"/>
                    </a:cubicBezTo>
                    <a:cubicBezTo>
                      <a:pt x="624" y="1289"/>
                      <a:pt x="697" y="1330"/>
                      <a:pt x="772" y="1361"/>
                    </a:cubicBezTo>
                    <a:lnTo>
                      <a:pt x="1112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2133720" y="5753160"/>
                <a:ext cx="400320" cy="489240"/>
              </a:xfrm>
              <a:custGeom>
                <a:avLst/>
                <a:gdLst/>
                <a:ahLst/>
                <a:rect l="0" t="0" r="r" b="b"/>
                <a:pathLst>
                  <a:path w="1112" h="1359">
                    <a:moveTo>
                      <a:pt x="0" y="0"/>
                    </a:moveTo>
                    <a:lnTo>
                      <a:pt x="345" y="1359"/>
                    </a:lnTo>
                    <a:lnTo>
                      <a:pt x="345" y="1359"/>
                    </a:lnTo>
                    <a:cubicBezTo>
                      <a:pt x="419" y="1328"/>
                      <a:pt x="489" y="1288"/>
                      <a:pt x="556" y="1238"/>
                    </a:cubicBezTo>
                    <a:cubicBezTo>
                      <a:pt x="725" y="1113"/>
                      <a:pt x="865" y="932"/>
                      <a:pt x="963" y="715"/>
                    </a:cubicBezTo>
                    <a:cubicBezTo>
                      <a:pt x="1061" y="497"/>
                      <a:pt x="1112" y="251"/>
                      <a:pt x="1112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2895480" y="5753160"/>
                <a:ext cx="400320" cy="489960"/>
              </a:xfrm>
              <a:custGeom>
                <a:avLst/>
                <a:gdLst/>
                <a:ahLst/>
                <a:rect l="0" t="0" r="r" b="b"/>
                <a:pathLst>
                  <a:path w="1112" h="1361">
                    <a:moveTo>
                      <a:pt x="11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cubicBezTo>
                      <a:pt x="0" y="251"/>
                      <a:pt x="51" y="498"/>
                      <a:pt x="149" y="715"/>
                    </a:cubicBezTo>
                    <a:cubicBezTo>
                      <a:pt x="247" y="932"/>
                      <a:pt x="387" y="1113"/>
                      <a:pt x="556" y="1238"/>
                    </a:cubicBezTo>
                    <a:cubicBezTo>
                      <a:pt x="624" y="1289"/>
                      <a:pt x="697" y="1330"/>
                      <a:pt x="772" y="1361"/>
                    </a:cubicBezTo>
                    <a:lnTo>
                      <a:pt x="1112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1276200" y="5753160"/>
                <a:ext cx="400320" cy="489240"/>
              </a:xfrm>
              <a:custGeom>
                <a:avLst/>
                <a:gdLst/>
                <a:ahLst/>
                <a:rect l="0" t="0" r="r" b="b"/>
                <a:pathLst>
                  <a:path w="1112" h="1359">
                    <a:moveTo>
                      <a:pt x="0" y="0"/>
                    </a:moveTo>
                    <a:lnTo>
                      <a:pt x="345" y="1359"/>
                    </a:lnTo>
                    <a:lnTo>
                      <a:pt x="345" y="1359"/>
                    </a:lnTo>
                    <a:cubicBezTo>
                      <a:pt x="419" y="1328"/>
                      <a:pt x="489" y="1288"/>
                      <a:pt x="556" y="1238"/>
                    </a:cubicBezTo>
                    <a:cubicBezTo>
                      <a:pt x="725" y="1113"/>
                      <a:pt x="865" y="932"/>
                      <a:pt x="963" y="715"/>
                    </a:cubicBezTo>
                    <a:cubicBezTo>
                      <a:pt x="1061" y="497"/>
                      <a:pt x="1112" y="251"/>
                      <a:pt x="1112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0" y="6134040"/>
                <a:ext cx="4552920" cy="266760"/>
              </a:xfrm>
              <a:prstGeom prst="rect">
                <a:avLst/>
              </a:prstGeom>
              <a:solidFill>
                <a:srgbClr val="cecece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5" name=""/>
              <p:cNvGrpSpPr/>
              <p:nvPr/>
            </p:nvGrpSpPr>
            <p:grpSpPr>
              <a:xfrm>
                <a:off x="1523880" y="6000840"/>
                <a:ext cx="648000" cy="276480"/>
                <a:chOff x="1523880" y="6000840"/>
                <a:chExt cx="648000" cy="27648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1523880" y="6000840"/>
                  <a:ext cx="628920" cy="248040"/>
                </a:xfrm>
                <a:custGeom>
                  <a:avLst/>
                  <a:gdLst/>
                  <a:ahLst/>
                  <a:rect l="0" t="0" r="r" b="b"/>
                  <a:pathLst>
                    <a:path w="1747" h="689">
                      <a:moveTo>
                        <a:pt x="211" y="154"/>
                      </a:moveTo>
                      <a:lnTo>
                        <a:pt x="0" y="689"/>
                      </a:lnTo>
                      <a:lnTo>
                        <a:pt x="396" y="296"/>
                      </a:lnTo>
                      <a:lnTo>
                        <a:pt x="396" y="641"/>
                      </a:lnTo>
                      <a:lnTo>
                        <a:pt x="714" y="247"/>
                      </a:lnTo>
                      <a:lnTo>
                        <a:pt x="767" y="689"/>
                      </a:lnTo>
                      <a:lnTo>
                        <a:pt x="900" y="247"/>
                      </a:lnTo>
                      <a:lnTo>
                        <a:pt x="1085" y="641"/>
                      </a:lnTo>
                      <a:lnTo>
                        <a:pt x="1085" y="199"/>
                      </a:lnTo>
                      <a:lnTo>
                        <a:pt x="1403" y="689"/>
                      </a:lnTo>
                      <a:lnTo>
                        <a:pt x="1403" y="247"/>
                      </a:lnTo>
                      <a:lnTo>
                        <a:pt x="1747" y="637"/>
                      </a:lnTo>
                      <a:lnTo>
                        <a:pt x="1509" y="105"/>
                      </a:lnTo>
                      <a:lnTo>
                        <a:pt x="1376" y="296"/>
                      </a:lnTo>
                      <a:lnTo>
                        <a:pt x="1323" y="490"/>
                      </a:lnTo>
                      <a:lnTo>
                        <a:pt x="1059" y="0"/>
                      </a:lnTo>
                      <a:lnTo>
                        <a:pt x="1032" y="393"/>
                      </a:lnTo>
                      <a:lnTo>
                        <a:pt x="900" y="48"/>
                      </a:lnTo>
                      <a:lnTo>
                        <a:pt x="793" y="393"/>
                      </a:lnTo>
                      <a:lnTo>
                        <a:pt x="714" y="97"/>
                      </a:lnTo>
                      <a:lnTo>
                        <a:pt x="423" y="490"/>
                      </a:lnTo>
                      <a:lnTo>
                        <a:pt x="449" y="145"/>
                      </a:lnTo>
                      <a:lnTo>
                        <a:pt x="105" y="490"/>
                      </a:lnTo>
                      <a:lnTo>
                        <a:pt x="211" y="154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1542960" y="6029280"/>
                  <a:ext cx="628920" cy="248040"/>
                </a:xfrm>
                <a:custGeom>
                  <a:avLst/>
                  <a:gdLst/>
                  <a:ahLst/>
                  <a:rect l="0" t="0" r="r" b="b"/>
                  <a:pathLst>
                    <a:path w="1747" h="689">
                      <a:moveTo>
                        <a:pt x="211" y="154"/>
                      </a:moveTo>
                      <a:lnTo>
                        <a:pt x="0" y="689"/>
                      </a:lnTo>
                      <a:lnTo>
                        <a:pt x="396" y="296"/>
                      </a:lnTo>
                      <a:lnTo>
                        <a:pt x="396" y="641"/>
                      </a:lnTo>
                      <a:lnTo>
                        <a:pt x="714" y="247"/>
                      </a:lnTo>
                      <a:lnTo>
                        <a:pt x="767" y="689"/>
                      </a:lnTo>
                      <a:lnTo>
                        <a:pt x="900" y="247"/>
                      </a:lnTo>
                      <a:lnTo>
                        <a:pt x="1085" y="641"/>
                      </a:lnTo>
                      <a:lnTo>
                        <a:pt x="1085" y="199"/>
                      </a:lnTo>
                      <a:lnTo>
                        <a:pt x="1403" y="689"/>
                      </a:lnTo>
                      <a:lnTo>
                        <a:pt x="1218" y="247"/>
                      </a:lnTo>
                      <a:lnTo>
                        <a:pt x="1747" y="637"/>
                      </a:lnTo>
                      <a:lnTo>
                        <a:pt x="1350" y="186"/>
                      </a:lnTo>
                      <a:lnTo>
                        <a:pt x="1376" y="296"/>
                      </a:lnTo>
                      <a:lnTo>
                        <a:pt x="1323" y="490"/>
                      </a:lnTo>
                      <a:lnTo>
                        <a:pt x="1059" y="0"/>
                      </a:lnTo>
                      <a:lnTo>
                        <a:pt x="1032" y="393"/>
                      </a:lnTo>
                      <a:lnTo>
                        <a:pt x="900" y="48"/>
                      </a:lnTo>
                      <a:lnTo>
                        <a:pt x="793" y="393"/>
                      </a:lnTo>
                      <a:lnTo>
                        <a:pt x="714" y="97"/>
                      </a:lnTo>
                      <a:lnTo>
                        <a:pt x="423" y="490"/>
                      </a:lnTo>
                      <a:lnTo>
                        <a:pt x="449" y="145"/>
                      </a:lnTo>
                      <a:lnTo>
                        <a:pt x="105" y="490"/>
                      </a:lnTo>
                      <a:lnTo>
                        <a:pt x="211" y="154"/>
                      </a:lnTo>
                      <a:close/>
                    </a:path>
                  </a:pathLst>
                </a:custGeom>
                <a:solidFill>
                  <a:srgbClr val="ff8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8" name=""/>
              <p:cNvGrpSpPr/>
              <p:nvPr/>
            </p:nvGrpSpPr>
            <p:grpSpPr>
              <a:xfrm>
                <a:off x="2409840" y="5972040"/>
                <a:ext cx="648000" cy="276840"/>
                <a:chOff x="2409840" y="5972040"/>
                <a:chExt cx="648000" cy="276840"/>
              </a:xfrm>
            </p:grpSpPr>
            <p:sp>
              <p:nvSpPr>
                <p:cNvPr id="739" name=""/>
                <p:cNvSpPr/>
                <p:nvPr/>
              </p:nvSpPr>
              <p:spPr>
                <a:xfrm>
                  <a:off x="2409840" y="5972040"/>
                  <a:ext cx="628920" cy="248040"/>
                </a:xfrm>
                <a:custGeom>
                  <a:avLst/>
                  <a:gdLst/>
                  <a:ahLst/>
                  <a:rect l="0" t="0" r="r" b="b"/>
                  <a:pathLst>
                    <a:path w="1747" h="689">
                      <a:moveTo>
                        <a:pt x="211" y="154"/>
                      </a:moveTo>
                      <a:lnTo>
                        <a:pt x="0" y="689"/>
                      </a:lnTo>
                      <a:lnTo>
                        <a:pt x="396" y="296"/>
                      </a:lnTo>
                      <a:lnTo>
                        <a:pt x="396" y="641"/>
                      </a:lnTo>
                      <a:lnTo>
                        <a:pt x="714" y="247"/>
                      </a:lnTo>
                      <a:lnTo>
                        <a:pt x="767" y="689"/>
                      </a:lnTo>
                      <a:lnTo>
                        <a:pt x="900" y="247"/>
                      </a:lnTo>
                      <a:lnTo>
                        <a:pt x="1085" y="641"/>
                      </a:lnTo>
                      <a:lnTo>
                        <a:pt x="1085" y="199"/>
                      </a:lnTo>
                      <a:lnTo>
                        <a:pt x="1403" y="689"/>
                      </a:lnTo>
                      <a:lnTo>
                        <a:pt x="1403" y="247"/>
                      </a:lnTo>
                      <a:lnTo>
                        <a:pt x="1747" y="637"/>
                      </a:lnTo>
                      <a:lnTo>
                        <a:pt x="1509" y="105"/>
                      </a:lnTo>
                      <a:lnTo>
                        <a:pt x="1376" y="296"/>
                      </a:lnTo>
                      <a:lnTo>
                        <a:pt x="1323" y="490"/>
                      </a:lnTo>
                      <a:lnTo>
                        <a:pt x="1059" y="0"/>
                      </a:lnTo>
                      <a:lnTo>
                        <a:pt x="1032" y="393"/>
                      </a:lnTo>
                      <a:lnTo>
                        <a:pt x="900" y="48"/>
                      </a:lnTo>
                      <a:lnTo>
                        <a:pt x="793" y="393"/>
                      </a:lnTo>
                      <a:lnTo>
                        <a:pt x="714" y="97"/>
                      </a:lnTo>
                      <a:lnTo>
                        <a:pt x="423" y="490"/>
                      </a:lnTo>
                      <a:lnTo>
                        <a:pt x="449" y="145"/>
                      </a:lnTo>
                      <a:lnTo>
                        <a:pt x="105" y="490"/>
                      </a:lnTo>
                      <a:lnTo>
                        <a:pt x="211" y="154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2428920" y="6000840"/>
                  <a:ext cx="628920" cy="248040"/>
                </a:xfrm>
                <a:custGeom>
                  <a:avLst/>
                  <a:gdLst/>
                  <a:ahLst/>
                  <a:rect l="0" t="0" r="r" b="b"/>
                  <a:pathLst>
                    <a:path w="1747" h="689">
                      <a:moveTo>
                        <a:pt x="211" y="154"/>
                      </a:moveTo>
                      <a:lnTo>
                        <a:pt x="0" y="689"/>
                      </a:lnTo>
                      <a:lnTo>
                        <a:pt x="396" y="296"/>
                      </a:lnTo>
                      <a:lnTo>
                        <a:pt x="396" y="641"/>
                      </a:lnTo>
                      <a:lnTo>
                        <a:pt x="714" y="247"/>
                      </a:lnTo>
                      <a:lnTo>
                        <a:pt x="767" y="689"/>
                      </a:lnTo>
                      <a:lnTo>
                        <a:pt x="900" y="247"/>
                      </a:lnTo>
                      <a:lnTo>
                        <a:pt x="1085" y="641"/>
                      </a:lnTo>
                      <a:lnTo>
                        <a:pt x="1085" y="199"/>
                      </a:lnTo>
                      <a:lnTo>
                        <a:pt x="1403" y="689"/>
                      </a:lnTo>
                      <a:lnTo>
                        <a:pt x="1218" y="247"/>
                      </a:lnTo>
                      <a:lnTo>
                        <a:pt x="1747" y="637"/>
                      </a:lnTo>
                      <a:lnTo>
                        <a:pt x="1350" y="186"/>
                      </a:lnTo>
                      <a:lnTo>
                        <a:pt x="1376" y="296"/>
                      </a:lnTo>
                      <a:lnTo>
                        <a:pt x="1323" y="490"/>
                      </a:lnTo>
                      <a:lnTo>
                        <a:pt x="1059" y="0"/>
                      </a:lnTo>
                      <a:lnTo>
                        <a:pt x="1032" y="393"/>
                      </a:lnTo>
                      <a:lnTo>
                        <a:pt x="900" y="48"/>
                      </a:lnTo>
                      <a:lnTo>
                        <a:pt x="793" y="393"/>
                      </a:lnTo>
                      <a:lnTo>
                        <a:pt x="714" y="97"/>
                      </a:lnTo>
                      <a:lnTo>
                        <a:pt x="423" y="490"/>
                      </a:lnTo>
                      <a:lnTo>
                        <a:pt x="449" y="145"/>
                      </a:lnTo>
                      <a:lnTo>
                        <a:pt x="105" y="490"/>
                      </a:lnTo>
                      <a:lnTo>
                        <a:pt x="211" y="154"/>
                      </a:lnTo>
                      <a:close/>
                    </a:path>
                  </a:pathLst>
                </a:custGeom>
                <a:solidFill>
                  <a:srgbClr val="ff8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1" name=""/>
              <p:cNvGrpSpPr/>
              <p:nvPr/>
            </p:nvGrpSpPr>
            <p:grpSpPr>
              <a:xfrm>
                <a:off x="0" y="5219640"/>
                <a:ext cx="1657080" cy="1009440"/>
                <a:chOff x="0" y="5219640"/>
                <a:chExt cx="1657080" cy="100944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819000" y="5486400"/>
                  <a:ext cx="838080" cy="666720"/>
                </a:xfrm>
                <a:prstGeom prst="ellipse">
                  <a:avLst/>
                </a:prstGeom>
                <a:solidFill>
                  <a:srgbClr val="cecece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 txBox="1"/>
                <p:nvPr/>
              </p:nvSpPr>
              <p:spPr>
                <a:xfrm>
                  <a:off x="0" y="5219640"/>
                  <a:ext cx="1028880" cy="819000"/>
                </a:xfrm>
                <a:prstGeom prst="rect">
                  <a:avLst/>
                </a:prstGeom>
                <a:solidFill>
                  <a:srgbClr val="cecece"/>
                </a:solidFill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1800" spc="-1" strike="noStrike">
                      <a:solidFill>
                        <a:srgbClr val="c0c0ff"/>
                      </a:solidFill>
                      <a:latin typeface="Book Antiqua"/>
                      <a:ea typeface="Book Antiqua"/>
                    </a:rPr>
                    <a:t>d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0" y="5638680"/>
                  <a:ext cx="1276200" cy="590400"/>
                </a:xfrm>
                <a:prstGeom prst="rect">
                  <a:avLst/>
                </a:prstGeom>
                <a:solidFill>
                  <a:srgbClr val="cecece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5" name=""/>
              <p:cNvGrpSpPr/>
              <p:nvPr/>
            </p:nvGrpSpPr>
            <p:grpSpPr>
              <a:xfrm>
                <a:off x="2895480" y="5200560"/>
                <a:ext cx="1657800" cy="1009440"/>
                <a:chOff x="2895480" y="5200560"/>
                <a:chExt cx="1657800" cy="1009440"/>
              </a:xfrm>
            </p:grpSpPr>
            <p:sp>
              <p:nvSpPr>
                <p:cNvPr id="746" name=""/>
                <p:cNvSpPr/>
                <p:nvPr/>
              </p:nvSpPr>
              <p:spPr>
                <a:xfrm>
                  <a:off x="2895480" y="5467320"/>
                  <a:ext cx="838080" cy="666720"/>
                </a:xfrm>
                <a:prstGeom prst="ellipse">
                  <a:avLst/>
                </a:prstGeom>
                <a:solidFill>
                  <a:srgbClr val="cecece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 txBox="1"/>
                <p:nvPr/>
              </p:nvSpPr>
              <p:spPr>
                <a:xfrm>
                  <a:off x="3524400" y="5200560"/>
                  <a:ext cx="1028880" cy="819000"/>
                </a:xfrm>
                <a:prstGeom prst="rect">
                  <a:avLst/>
                </a:prstGeom>
                <a:solidFill>
                  <a:srgbClr val="cecece"/>
                </a:solidFill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1800" spc="-1" strike="noStrike">
                      <a:solidFill>
                        <a:srgbClr val="c0c0ff"/>
                      </a:solidFill>
                      <a:latin typeface="Book Antiqua"/>
                      <a:ea typeface="Book Antiqua"/>
                    </a:rPr>
                    <a:t>d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3276720" y="5619600"/>
                  <a:ext cx="1276200" cy="590400"/>
                </a:xfrm>
                <a:prstGeom prst="rect">
                  <a:avLst/>
                </a:prstGeom>
                <a:solidFill>
                  <a:srgbClr val="cecece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9" name=""/>
              <p:cNvSpPr/>
              <p:nvPr/>
            </p:nvSpPr>
            <p:spPr>
              <a:xfrm>
                <a:off x="2000160" y="5581800"/>
                <a:ext cx="533520" cy="343080"/>
              </a:xfrm>
              <a:prstGeom prst="ellipse">
                <a:avLst/>
              </a:prstGeom>
              <a:solidFill>
                <a:srgbClr val="cecece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5238720" y="5734080"/>
                <a:ext cx="838080" cy="666720"/>
              </a:xfrm>
              <a:prstGeom prst="ellipse">
                <a:avLst/>
              </a:prstGeom>
              <a:solidFill>
                <a:srgbClr val="cecece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 txBox="1"/>
              <p:nvPr/>
            </p:nvSpPr>
            <p:spPr>
              <a:xfrm>
                <a:off x="4419720" y="5391000"/>
                <a:ext cx="1028880" cy="819000"/>
              </a:xfrm>
              <a:prstGeom prst="rect">
                <a:avLst/>
              </a:prstGeom>
              <a:solidFill>
                <a:srgbClr val="cecece"/>
              </a:solidFill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c0c0ff"/>
                    </a:solidFill>
                    <a:latin typeface="Book Antiqua"/>
                    <a:ea typeface="Book Antiqua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4419720" y="5810400"/>
                <a:ext cx="1276200" cy="590400"/>
              </a:xfrm>
              <a:prstGeom prst="rect">
                <a:avLst/>
              </a:prstGeom>
              <a:solidFill>
                <a:srgbClr val="cecece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3" name=""/>
            <p:cNvGrpSpPr/>
            <p:nvPr/>
          </p:nvGrpSpPr>
          <p:grpSpPr>
            <a:xfrm>
              <a:off x="1415880" y="1690560"/>
              <a:ext cx="1737360" cy="4073760"/>
              <a:chOff x="1415880" y="1690560"/>
              <a:chExt cx="1737360" cy="4073760"/>
            </a:xfrm>
          </p:grpSpPr>
          <p:grpSp>
            <p:nvGrpSpPr>
              <p:cNvPr id="754" name=""/>
              <p:cNvGrpSpPr/>
              <p:nvPr/>
            </p:nvGrpSpPr>
            <p:grpSpPr>
              <a:xfrm>
                <a:off x="1695600" y="2496960"/>
                <a:ext cx="284400" cy="361080"/>
                <a:chOff x="1695600" y="2496960"/>
                <a:chExt cx="284400" cy="361080"/>
              </a:xfrm>
            </p:grpSpPr>
            <p:grpSp>
              <p:nvGrpSpPr>
                <p:cNvPr id="755" name=""/>
                <p:cNvGrpSpPr/>
                <p:nvPr/>
              </p:nvGrpSpPr>
              <p:grpSpPr>
                <a:xfrm>
                  <a:off x="1695600" y="2496960"/>
                  <a:ext cx="284400" cy="361080"/>
                  <a:chOff x="1695600" y="2496960"/>
                  <a:chExt cx="284400" cy="361080"/>
                </a:xfrm>
              </p:grpSpPr>
              <p:sp>
                <p:nvSpPr>
                  <p:cNvPr id="756" name=""/>
                  <p:cNvSpPr/>
                  <p:nvPr/>
                </p:nvSpPr>
                <p:spPr>
                  <a:xfrm>
                    <a:off x="1697040" y="2496960"/>
                    <a:ext cx="282960" cy="359280"/>
                  </a:xfrm>
                  <a:custGeom>
                    <a:avLst/>
                    <a:gdLst/>
                    <a:ahLst/>
                    <a:rect l="0" t="0" r="r" b="b"/>
                    <a:pathLst>
                      <a:path w="786" h="998">
                        <a:moveTo>
                          <a:pt x="0" y="998"/>
                        </a:moveTo>
                        <a:lnTo>
                          <a:pt x="261" y="83"/>
                        </a:lnTo>
                        <a:lnTo>
                          <a:pt x="292" y="26"/>
                        </a:lnTo>
                        <a:lnTo>
                          <a:pt x="340" y="0"/>
                        </a:lnTo>
                        <a:lnTo>
                          <a:pt x="380" y="17"/>
                        </a:lnTo>
                        <a:lnTo>
                          <a:pt x="415" y="57"/>
                        </a:lnTo>
                        <a:lnTo>
                          <a:pt x="786" y="998"/>
                        </a:lnTo>
                        <a:lnTo>
                          <a:pt x="0" y="998"/>
                        </a:lnTo>
                        <a:close/>
                      </a:path>
                    </a:pathLst>
                  </a:custGeom>
                  <a:solidFill>
                    <a:srgbClr val="dfd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>
                    <a:off x="1695600" y="2498760"/>
                    <a:ext cx="122760" cy="359280"/>
                  </a:xfrm>
                  <a:custGeom>
                    <a:avLst/>
                    <a:gdLst/>
                    <a:ahLst/>
                    <a:rect l="0" t="0" r="r" b="b"/>
                    <a:pathLst>
                      <a:path w="341" h="998">
                        <a:moveTo>
                          <a:pt x="0" y="998"/>
                        </a:moveTo>
                        <a:lnTo>
                          <a:pt x="262" y="83"/>
                        </a:lnTo>
                        <a:lnTo>
                          <a:pt x="293" y="26"/>
                        </a:lnTo>
                        <a:lnTo>
                          <a:pt x="341" y="0"/>
                        </a:lnTo>
                        <a:lnTo>
                          <a:pt x="275" y="998"/>
                        </a:lnTo>
                        <a:lnTo>
                          <a:pt x="0" y="998"/>
                        </a:lnTo>
                        <a:close/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" name=""/>
                  <p:cNvSpPr/>
                  <p:nvPr/>
                </p:nvSpPr>
                <p:spPr>
                  <a:xfrm>
                    <a:off x="1695600" y="2498760"/>
                    <a:ext cx="282960" cy="35928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786" h="998">
                        <a:moveTo>
                          <a:pt x="0" y="998"/>
                        </a:moveTo>
                        <a:lnTo>
                          <a:pt x="261" y="83"/>
                        </a:lnTo>
                        <a:lnTo>
                          <a:pt x="292" y="26"/>
                        </a:lnTo>
                        <a:lnTo>
                          <a:pt x="340" y="0"/>
                        </a:lnTo>
                        <a:lnTo>
                          <a:pt x="380" y="17"/>
                        </a:lnTo>
                        <a:lnTo>
                          <a:pt x="415" y="57"/>
                        </a:lnTo>
                        <a:lnTo>
                          <a:pt x="786" y="998"/>
                        </a:lnTo>
                        <a:lnTo>
                          <a:pt x="0" y="998"/>
                        </a:lnTo>
                      </a:path>
                    </a:pathLst>
                  </a:custGeom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59" name=""/>
                <p:cNvSpPr/>
                <p:nvPr/>
              </p:nvSpPr>
              <p:spPr>
                <a:xfrm>
                  <a:off x="1857240" y="2689200"/>
                  <a:ext cx="33840" cy="33840"/>
                </a:xfrm>
                <a:custGeom>
                  <a:avLst/>
                  <a:gdLst/>
                  <a:ahLst/>
                  <a:rect l="0" t="0" r="r" b="b"/>
                  <a:pathLst>
                    <a:path w="94" h="94">
                      <a:moveTo>
                        <a:pt x="13" y="94"/>
                      </a:moveTo>
                      <a:lnTo>
                        <a:pt x="0" y="13"/>
                      </a:lnTo>
                      <a:lnTo>
                        <a:pt x="62" y="0"/>
                      </a:lnTo>
                      <a:lnTo>
                        <a:pt x="94" y="94"/>
                      </a:lnTo>
                      <a:lnTo>
                        <a:pt x="13" y="9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0" name=""/>
              <p:cNvGrpSpPr/>
              <p:nvPr/>
            </p:nvGrpSpPr>
            <p:grpSpPr>
              <a:xfrm>
                <a:off x="1695600" y="2857680"/>
                <a:ext cx="286200" cy="2318040"/>
                <a:chOff x="1695600" y="2857680"/>
                <a:chExt cx="286200" cy="2318040"/>
              </a:xfrm>
            </p:grpSpPr>
            <p:sp>
              <p:nvSpPr>
                <p:cNvPr id="761" name=""/>
                <p:cNvSpPr/>
                <p:nvPr/>
              </p:nvSpPr>
              <p:spPr>
                <a:xfrm>
                  <a:off x="1695600" y="2857680"/>
                  <a:ext cx="286200" cy="2318040"/>
                </a:xfrm>
                <a:custGeom>
                  <a:avLst/>
                  <a:gdLst/>
                  <a:ahLst/>
                  <a:rect l="0" t="0" r="r" b="b"/>
                  <a:pathLst>
                    <a:path w="795" h="6439">
                      <a:moveTo>
                        <a:pt x="0" y="6439"/>
                      </a:moveTo>
                      <a:lnTo>
                        <a:pt x="0" y="0"/>
                      </a:lnTo>
                      <a:lnTo>
                        <a:pt x="795" y="0"/>
                      </a:lnTo>
                      <a:lnTo>
                        <a:pt x="795" y="6439"/>
                      </a:lnTo>
                      <a:lnTo>
                        <a:pt x="0" y="6439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1695600" y="2857680"/>
                  <a:ext cx="95760" cy="2318040"/>
                </a:xfrm>
                <a:custGeom>
                  <a:avLst/>
                  <a:gdLst/>
                  <a:ahLst/>
                  <a:rect l="0" t="0" r="r" b="b"/>
                  <a:pathLst>
                    <a:path w="266" h="6439">
                      <a:moveTo>
                        <a:pt x="0" y="6439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6439"/>
                      </a:lnTo>
                      <a:lnTo>
                        <a:pt x="0" y="6439"/>
                      </a:lnTo>
                      <a:close/>
                    </a:path>
                  </a:pathLst>
                </a:custGeom>
                <a:solidFill>
                  <a:srgbClr val="bfbfd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63" name=""/>
                <p:cNvGrpSpPr/>
                <p:nvPr/>
              </p:nvGrpSpPr>
              <p:grpSpPr>
                <a:xfrm>
                  <a:off x="1704960" y="3112920"/>
                  <a:ext cx="276120" cy="1825920"/>
                  <a:chOff x="1704960" y="3112920"/>
                  <a:chExt cx="276120" cy="1825920"/>
                </a:xfrm>
              </p:grpSpPr>
              <p:sp>
                <p:nvSpPr>
                  <p:cNvPr id="764" name=""/>
                  <p:cNvSpPr/>
                  <p:nvPr/>
                </p:nvSpPr>
                <p:spPr>
                  <a:xfrm flipH="1">
                    <a:off x="1704960" y="4938840"/>
                    <a:ext cx="276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5" name=""/>
                  <p:cNvSpPr/>
                  <p:nvPr/>
                </p:nvSpPr>
                <p:spPr>
                  <a:xfrm flipH="1">
                    <a:off x="1704960" y="4710240"/>
                    <a:ext cx="276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 flipH="1">
                    <a:off x="1704960" y="4481640"/>
                    <a:ext cx="276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7" name=""/>
                  <p:cNvSpPr/>
                  <p:nvPr/>
                </p:nvSpPr>
                <p:spPr>
                  <a:xfrm flipH="1">
                    <a:off x="1704960" y="4254480"/>
                    <a:ext cx="276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8" name=""/>
                  <p:cNvSpPr/>
                  <p:nvPr/>
                </p:nvSpPr>
                <p:spPr>
                  <a:xfrm flipH="1">
                    <a:off x="1704960" y="4025880"/>
                    <a:ext cx="276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9" name=""/>
                  <p:cNvSpPr/>
                  <p:nvPr/>
                </p:nvSpPr>
                <p:spPr>
                  <a:xfrm flipH="1">
                    <a:off x="1704960" y="3797280"/>
                    <a:ext cx="276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 flipH="1">
                    <a:off x="1704960" y="3570120"/>
                    <a:ext cx="276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1" name=""/>
                  <p:cNvSpPr/>
                  <p:nvPr/>
                </p:nvSpPr>
                <p:spPr>
                  <a:xfrm flipH="1">
                    <a:off x="1704960" y="3341520"/>
                    <a:ext cx="276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2" name=""/>
                  <p:cNvSpPr/>
                  <p:nvPr/>
                </p:nvSpPr>
                <p:spPr>
                  <a:xfrm flipH="1">
                    <a:off x="1704960" y="3112920"/>
                    <a:ext cx="276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73" name=""/>
                <p:cNvSpPr/>
                <p:nvPr/>
              </p:nvSpPr>
              <p:spPr>
                <a:xfrm>
                  <a:off x="1695600" y="2857680"/>
                  <a:ext cx="286200" cy="2318040"/>
                </a:xfrm>
                <a:custGeom>
                  <a:avLst/>
                  <a:gdLst/>
                  <a:ahLst/>
                  <a:rect l="0" t="0" r="r" b="b"/>
                  <a:pathLst>
                    <a:path fill="none" w="795" h="6439">
                      <a:moveTo>
                        <a:pt x="0" y="6439"/>
                      </a:moveTo>
                      <a:lnTo>
                        <a:pt x="0" y="0"/>
                      </a:lnTo>
                      <a:lnTo>
                        <a:pt x="795" y="0"/>
                      </a:lnTo>
                      <a:lnTo>
                        <a:pt x="795" y="6439"/>
                      </a:lnTo>
                      <a:lnTo>
                        <a:pt x="0" y="6439"/>
                      </a:ln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4" name=""/>
              <p:cNvGrpSpPr/>
              <p:nvPr/>
            </p:nvGrpSpPr>
            <p:grpSpPr>
              <a:xfrm>
                <a:off x="2589120" y="2498760"/>
                <a:ext cx="281520" cy="359280"/>
                <a:chOff x="2589120" y="2498760"/>
                <a:chExt cx="281520" cy="359280"/>
              </a:xfrm>
            </p:grpSpPr>
            <p:grpSp>
              <p:nvGrpSpPr>
                <p:cNvPr id="775" name=""/>
                <p:cNvGrpSpPr/>
                <p:nvPr/>
              </p:nvGrpSpPr>
              <p:grpSpPr>
                <a:xfrm>
                  <a:off x="2589120" y="2498760"/>
                  <a:ext cx="281520" cy="359280"/>
                  <a:chOff x="2589120" y="2498760"/>
                  <a:chExt cx="281520" cy="359280"/>
                </a:xfrm>
              </p:grpSpPr>
              <p:sp>
                <p:nvSpPr>
                  <p:cNvPr id="776" name=""/>
                  <p:cNvSpPr/>
                  <p:nvPr/>
                </p:nvSpPr>
                <p:spPr>
                  <a:xfrm>
                    <a:off x="2589120" y="2498760"/>
                    <a:ext cx="281520" cy="359280"/>
                  </a:xfrm>
                  <a:custGeom>
                    <a:avLst/>
                    <a:gdLst/>
                    <a:ahLst/>
                    <a:rect l="0" t="0" r="r" b="b"/>
                    <a:pathLst>
                      <a:path w="782" h="998">
                        <a:moveTo>
                          <a:pt x="782" y="998"/>
                        </a:moveTo>
                        <a:lnTo>
                          <a:pt x="525" y="83"/>
                        </a:lnTo>
                        <a:lnTo>
                          <a:pt x="494" y="26"/>
                        </a:lnTo>
                        <a:lnTo>
                          <a:pt x="446" y="0"/>
                        </a:lnTo>
                        <a:lnTo>
                          <a:pt x="406" y="17"/>
                        </a:lnTo>
                        <a:lnTo>
                          <a:pt x="371" y="57"/>
                        </a:lnTo>
                        <a:lnTo>
                          <a:pt x="0" y="998"/>
                        </a:lnTo>
                        <a:lnTo>
                          <a:pt x="782" y="998"/>
                        </a:lnTo>
                        <a:close/>
                      </a:path>
                    </a:pathLst>
                  </a:custGeom>
                  <a:solidFill>
                    <a:srgbClr val="dfd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>
                    <a:off x="2749680" y="2498760"/>
                    <a:ext cx="120960" cy="359280"/>
                  </a:xfrm>
                  <a:custGeom>
                    <a:avLst/>
                    <a:gdLst/>
                    <a:ahLst/>
                    <a:rect l="0" t="0" r="r" b="b"/>
                    <a:pathLst>
                      <a:path w="336" h="998">
                        <a:moveTo>
                          <a:pt x="336" y="998"/>
                        </a:moveTo>
                        <a:lnTo>
                          <a:pt x="79" y="83"/>
                        </a:lnTo>
                        <a:lnTo>
                          <a:pt x="48" y="26"/>
                        </a:lnTo>
                        <a:lnTo>
                          <a:pt x="0" y="0"/>
                        </a:lnTo>
                        <a:lnTo>
                          <a:pt x="66" y="998"/>
                        </a:lnTo>
                        <a:lnTo>
                          <a:pt x="336" y="998"/>
                        </a:lnTo>
                        <a:close/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>
                    <a:off x="2589120" y="2498760"/>
                    <a:ext cx="281520" cy="35928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782" h="998">
                        <a:moveTo>
                          <a:pt x="782" y="998"/>
                        </a:moveTo>
                        <a:lnTo>
                          <a:pt x="525" y="83"/>
                        </a:lnTo>
                        <a:lnTo>
                          <a:pt x="494" y="26"/>
                        </a:lnTo>
                        <a:lnTo>
                          <a:pt x="446" y="0"/>
                        </a:lnTo>
                        <a:lnTo>
                          <a:pt x="406" y="17"/>
                        </a:lnTo>
                        <a:lnTo>
                          <a:pt x="371" y="57"/>
                        </a:lnTo>
                        <a:lnTo>
                          <a:pt x="0" y="998"/>
                        </a:lnTo>
                        <a:lnTo>
                          <a:pt x="782" y="998"/>
                        </a:lnTo>
                      </a:path>
                    </a:pathLst>
                  </a:custGeom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79" name=""/>
                <p:cNvSpPr/>
                <p:nvPr/>
              </p:nvSpPr>
              <p:spPr>
                <a:xfrm>
                  <a:off x="2678040" y="2673360"/>
                  <a:ext cx="33840" cy="33840"/>
                </a:xfrm>
                <a:custGeom>
                  <a:avLst/>
                  <a:gdLst/>
                  <a:ahLst/>
                  <a:rect l="0" t="0" r="r" b="b"/>
                  <a:pathLst>
                    <a:path w="94" h="94">
                      <a:moveTo>
                        <a:pt x="81" y="94"/>
                      </a:moveTo>
                      <a:lnTo>
                        <a:pt x="94" y="13"/>
                      </a:lnTo>
                      <a:lnTo>
                        <a:pt x="31" y="0"/>
                      </a:lnTo>
                      <a:lnTo>
                        <a:pt x="0" y="94"/>
                      </a:lnTo>
                      <a:lnTo>
                        <a:pt x="81" y="9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0" name=""/>
              <p:cNvGrpSpPr/>
              <p:nvPr/>
            </p:nvGrpSpPr>
            <p:grpSpPr>
              <a:xfrm>
                <a:off x="2585880" y="2857680"/>
                <a:ext cx="284760" cy="2318040"/>
                <a:chOff x="2585880" y="2857680"/>
                <a:chExt cx="284760" cy="2318040"/>
              </a:xfrm>
            </p:grpSpPr>
            <p:sp>
              <p:nvSpPr>
                <p:cNvPr id="781" name=""/>
                <p:cNvSpPr/>
                <p:nvPr/>
              </p:nvSpPr>
              <p:spPr>
                <a:xfrm>
                  <a:off x="2585880" y="2857680"/>
                  <a:ext cx="284400" cy="2318040"/>
                </a:xfrm>
                <a:custGeom>
                  <a:avLst/>
                  <a:gdLst/>
                  <a:ahLst/>
                  <a:rect l="0" t="0" r="r" b="b"/>
                  <a:pathLst>
                    <a:path w="790" h="6439">
                      <a:moveTo>
                        <a:pt x="790" y="6439"/>
                      </a:moveTo>
                      <a:lnTo>
                        <a:pt x="790" y="0"/>
                      </a:lnTo>
                      <a:lnTo>
                        <a:pt x="0" y="0"/>
                      </a:lnTo>
                      <a:lnTo>
                        <a:pt x="0" y="6439"/>
                      </a:lnTo>
                      <a:lnTo>
                        <a:pt x="790" y="6439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2776680" y="2857680"/>
                  <a:ext cx="93960" cy="2318040"/>
                </a:xfrm>
                <a:custGeom>
                  <a:avLst/>
                  <a:gdLst/>
                  <a:ahLst/>
                  <a:rect l="0" t="0" r="r" b="b"/>
                  <a:pathLst>
                    <a:path w="261" h="6439">
                      <a:moveTo>
                        <a:pt x="261" y="6439"/>
                      </a:moveTo>
                      <a:lnTo>
                        <a:pt x="261" y="0"/>
                      </a:lnTo>
                      <a:lnTo>
                        <a:pt x="0" y="0"/>
                      </a:lnTo>
                      <a:lnTo>
                        <a:pt x="0" y="6439"/>
                      </a:lnTo>
                      <a:lnTo>
                        <a:pt x="261" y="6439"/>
                      </a:lnTo>
                      <a:close/>
                    </a:path>
                  </a:pathLst>
                </a:custGeom>
                <a:solidFill>
                  <a:srgbClr val="bfbfd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2585880" y="2857680"/>
                  <a:ext cx="284400" cy="2318040"/>
                </a:xfrm>
                <a:custGeom>
                  <a:avLst/>
                  <a:gdLst/>
                  <a:ahLst/>
                  <a:rect l="0" t="0" r="r" b="b"/>
                  <a:pathLst>
                    <a:path fill="none" w="790" h="6439">
                      <a:moveTo>
                        <a:pt x="790" y="6439"/>
                      </a:moveTo>
                      <a:lnTo>
                        <a:pt x="790" y="0"/>
                      </a:lnTo>
                      <a:lnTo>
                        <a:pt x="0" y="0"/>
                      </a:lnTo>
                      <a:lnTo>
                        <a:pt x="0" y="6439"/>
                      </a:lnTo>
                      <a:lnTo>
                        <a:pt x="790" y="6439"/>
                      </a:ln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84" name=""/>
                <p:cNvGrpSpPr/>
                <p:nvPr/>
              </p:nvGrpSpPr>
              <p:grpSpPr>
                <a:xfrm>
                  <a:off x="2587680" y="3097080"/>
                  <a:ext cx="276120" cy="1825920"/>
                  <a:chOff x="2587680" y="3097080"/>
                  <a:chExt cx="276120" cy="1825920"/>
                </a:xfrm>
              </p:grpSpPr>
              <p:sp>
                <p:nvSpPr>
                  <p:cNvPr id="785" name=""/>
                  <p:cNvSpPr/>
                  <p:nvPr/>
                </p:nvSpPr>
                <p:spPr>
                  <a:xfrm flipH="1">
                    <a:off x="2587680" y="4923000"/>
                    <a:ext cx="276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 flipH="1">
                    <a:off x="2587680" y="4694400"/>
                    <a:ext cx="276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7" name=""/>
                  <p:cNvSpPr/>
                  <p:nvPr/>
                </p:nvSpPr>
                <p:spPr>
                  <a:xfrm flipH="1">
                    <a:off x="2587680" y="4465800"/>
                    <a:ext cx="276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8" name=""/>
                  <p:cNvSpPr/>
                  <p:nvPr/>
                </p:nvSpPr>
                <p:spPr>
                  <a:xfrm flipH="1">
                    <a:off x="2587680" y="4238640"/>
                    <a:ext cx="276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9" name=""/>
                  <p:cNvSpPr/>
                  <p:nvPr/>
                </p:nvSpPr>
                <p:spPr>
                  <a:xfrm flipH="1">
                    <a:off x="2587680" y="4010040"/>
                    <a:ext cx="276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0" name=""/>
                  <p:cNvSpPr/>
                  <p:nvPr/>
                </p:nvSpPr>
                <p:spPr>
                  <a:xfrm flipH="1">
                    <a:off x="2587680" y="3781440"/>
                    <a:ext cx="276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 flipH="1">
                    <a:off x="2587680" y="3554280"/>
                    <a:ext cx="276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 flipH="1">
                    <a:off x="2587680" y="3325680"/>
                    <a:ext cx="276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3" name=""/>
                  <p:cNvSpPr/>
                  <p:nvPr/>
                </p:nvSpPr>
                <p:spPr>
                  <a:xfrm flipH="1">
                    <a:off x="2587680" y="3097080"/>
                    <a:ext cx="276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94" name=""/>
              <p:cNvGrpSpPr/>
              <p:nvPr/>
            </p:nvGrpSpPr>
            <p:grpSpPr>
              <a:xfrm>
                <a:off x="1969920" y="1690560"/>
                <a:ext cx="635400" cy="3470760"/>
                <a:chOff x="1969920" y="1690560"/>
                <a:chExt cx="635400" cy="3470760"/>
              </a:xfrm>
            </p:grpSpPr>
            <p:grpSp>
              <p:nvGrpSpPr>
                <p:cNvPr id="795" name=""/>
                <p:cNvGrpSpPr/>
                <p:nvPr/>
              </p:nvGrpSpPr>
              <p:grpSpPr>
                <a:xfrm>
                  <a:off x="1969920" y="1690560"/>
                  <a:ext cx="635400" cy="3462840"/>
                  <a:chOff x="1969920" y="1690560"/>
                  <a:chExt cx="635400" cy="3462840"/>
                </a:xfrm>
              </p:grpSpPr>
              <p:sp>
                <p:nvSpPr>
                  <p:cNvPr id="796" name=""/>
                  <p:cNvSpPr/>
                  <p:nvPr/>
                </p:nvSpPr>
                <p:spPr>
                  <a:xfrm>
                    <a:off x="1971720" y="1690560"/>
                    <a:ext cx="633600" cy="978120"/>
                  </a:xfrm>
                  <a:custGeom>
                    <a:avLst/>
                    <a:gdLst/>
                    <a:ahLst/>
                    <a:rect l="0" t="0" r="r" b="b"/>
                    <a:pathLst>
                      <a:path w="1760" h="2717">
                        <a:moveTo>
                          <a:pt x="1760" y="2717"/>
                        </a:moveTo>
                        <a:lnTo>
                          <a:pt x="0" y="2717"/>
                        </a:lnTo>
                        <a:lnTo>
                          <a:pt x="0" y="2346"/>
                        </a:lnTo>
                        <a:lnTo>
                          <a:pt x="13" y="2166"/>
                        </a:lnTo>
                        <a:lnTo>
                          <a:pt x="30" y="1976"/>
                        </a:lnTo>
                        <a:lnTo>
                          <a:pt x="48" y="1800"/>
                        </a:lnTo>
                        <a:lnTo>
                          <a:pt x="74" y="1623"/>
                        </a:lnTo>
                        <a:lnTo>
                          <a:pt x="110" y="1434"/>
                        </a:lnTo>
                        <a:lnTo>
                          <a:pt x="145" y="1261"/>
                        </a:lnTo>
                        <a:lnTo>
                          <a:pt x="185" y="1080"/>
                        </a:lnTo>
                        <a:lnTo>
                          <a:pt x="229" y="926"/>
                        </a:lnTo>
                        <a:lnTo>
                          <a:pt x="282" y="776"/>
                        </a:lnTo>
                        <a:lnTo>
                          <a:pt x="321" y="665"/>
                        </a:lnTo>
                        <a:lnTo>
                          <a:pt x="383" y="520"/>
                        </a:lnTo>
                        <a:lnTo>
                          <a:pt x="454" y="383"/>
                        </a:lnTo>
                        <a:lnTo>
                          <a:pt x="524" y="282"/>
                        </a:lnTo>
                        <a:lnTo>
                          <a:pt x="599" y="194"/>
                        </a:lnTo>
                        <a:lnTo>
                          <a:pt x="687" y="123"/>
                        </a:lnTo>
                        <a:lnTo>
                          <a:pt x="798" y="48"/>
                        </a:lnTo>
                        <a:lnTo>
                          <a:pt x="877" y="0"/>
                        </a:lnTo>
                        <a:lnTo>
                          <a:pt x="1006" y="61"/>
                        </a:lnTo>
                        <a:lnTo>
                          <a:pt x="1116" y="163"/>
                        </a:lnTo>
                        <a:lnTo>
                          <a:pt x="1218" y="268"/>
                        </a:lnTo>
                        <a:lnTo>
                          <a:pt x="1301" y="392"/>
                        </a:lnTo>
                        <a:lnTo>
                          <a:pt x="1372" y="515"/>
                        </a:lnTo>
                        <a:lnTo>
                          <a:pt x="1447" y="696"/>
                        </a:lnTo>
                        <a:lnTo>
                          <a:pt x="1526" y="912"/>
                        </a:lnTo>
                        <a:lnTo>
                          <a:pt x="1570" y="1075"/>
                        </a:lnTo>
                        <a:lnTo>
                          <a:pt x="1606" y="1212"/>
                        </a:lnTo>
                        <a:lnTo>
                          <a:pt x="1645" y="1390"/>
                        </a:lnTo>
                        <a:lnTo>
                          <a:pt x="1676" y="1623"/>
                        </a:lnTo>
                        <a:lnTo>
                          <a:pt x="1703" y="1861"/>
                        </a:lnTo>
                        <a:lnTo>
                          <a:pt x="1729" y="2104"/>
                        </a:lnTo>
                        <a:lnTo>
                          <a:pt x="1751" y="2364"/>
                        </a:lnTo>
                        <a:lnTo>
                          <a:pt x="1760" y="2717"/>
                        </a:lnTo>
                        <a:close/>
                      </a:path>
                    </a:pathLst>
                  </a:custGeom>
                  <a:solidFill>
                    <a:srgbClr val="dfd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>
                    <a:off x="1969920" y="2665440"/>
                    <a:ext cx="635400" cy="2487960"/>
                  </a:xfrm>
                  <a:custGeom>
                    <a:avLst/>
                    <a:gdLst/>
                    <a:ahLst/>
                    <a:rect l="0" t="0" r="r" b="b"/>
                    <a:pathLst>
                      <a:path w="1765" h="6911">
                        <a:moveTo>
                          <a:pt x="1765" y="6911"/>
                        </a:moveTo>
                        <a:lnTo>
                          <a:pt x="1765" y="0"/>
                        </a:lnTo>
                        <a:lnTo>
                          <a:pt x="0" y="0"/>
                        </a:lnTo>
                        <a:lnTo>
                          <a:pt x="0" y="6911"/>
                        </a:lnTo>
                        <a:lnTo>
                          <a:pt x="1765" y="6911"/>
                        </a:lnTo>
                        <a:close/>
                      </a:path>
                    </a:pathLst>
                  </a:custGeom>
                  <a:solidFill>
                    <a:srgbClr val="dfd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8" name=""/>
                <p:cNvGrpSpPr/>
                <p:nvPr/>
              </p:nvGrpSpPr>
              <p:grpSpPr>
                <a:xfrm>
                  <a:off x="1969920" y="1690560"/>
                  <a:ext cx="317880" cy="3470760"/>
                  <a:chOff x="1969920" y="1690560"/>
                  <a:chExt cx="317880" cy="3470760"/>
                </a:xfrm>
              </p:grpSpPr>
              <p:sp>
                <p:nvSpPr>
                  <p:cNvPr id="799" name=""/>
                  <p:cNvSpPr/>
                  <p:nvPr/>
                </p:nvSpPr>
                <p:spPr>
                  <a:xfrm>
                    <a:off x="1969920" y="1690560"/>
                    <a:ext cx="317880" cy="978120"/>
                  </a:xfrm>
                  <a:custGeom>
                    <a:avLst/>
                    <a:gdLst/>
                    <a:ahLst/>
                    <a:rect l="0" t="0" r="r" b="b"/>
                    <a:pathLst>
                      <a:path w="883" h="2717">
                        <a:moveTo>
                          <a:pt x="883" y="2668"/>
                        </a:moveTo>
                        <a:lnTo>
                          <a:pt x="0" y="2717"/>
                        </a:lnTo>
                        <a:lnTo>
                          <a:pt x="0" y="2346"/>
                        </a:lnTo>
                        <a:lnTo>
                          <a:pt x="13" y="2166"/>
                        </a:lnTo>
                        <a:lnTo>
                          <a:pt x="30" y="1976"/>
                        </a:lnTo>
                        <a:lnTo>
                          <a:pt x="52" y="1800"/>
                        </a:lnTo>
                        <a:lnTo>
                          <a:pt x="74" y="1623"/>
                        </a:lnTo>
                        <a:lnTo>
                          <a:pt x="110" y="1434"/>
                        </a:lnTo>
                        <a:lnTo>
                          <a:pt x="145" y="1261"/>
                        </a:lnTo>
                        <a:lnTo>
                          <a:pt x="185" y="1080"/>
                        </a:lnTo>
                        <a:lnTo>
                          <a:pt x="234" y="926"/>
                        </a:lnTo>
                        <a:lnTo>
                          <a:pt x="283" y="776"/>
                        </a:lnTo>
                        <a:lnTo>
                          <a:pt x="322" y="665"/>
                        </a:lnTo>
                        <a:lnTo>
                          <a:pt x="384" y="520"/>
                        </a:lnTo>
                        <a:lnTo>
                          <a:pt x="455" y="383"/>
                        </a:lnTo>
                        <a:lnTo>
                          <a:pt x="530" y="282"/>
                        </a:lnTo>
                        <a:lnTo>
                          <a:pt x="600" y="194"/>
                        </a:lnTo>
                        <a:lnTo>
                          <a:pt x="689" y="123"/>
                        </a:lnTo>
                        <a:lnTo>
                          <a:pt x="800" y="48"/>
                        </a:lnTo>
                        <a:lnTo>
                          <a:pt x="879" y="0"/>
                        </a:lnTo>
                        <a:lnTo>
                          <a:pt x="883" y="2668"/>
                        </a:lnTo>
                        <a:close/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0" name=""/>
                  <p:cNvSpPr/>
                  <p:nvPr/>
                </p:nvSpPr>
                <p:spPr>
                  <a:xfrm>
                    <a:off x="1969920" y="2657520"/>
                    <a:ext cx="317880" cy="2503800"/>
                  </a:xfrm>
                  <a:custGeom>
                    <a:avLst/>
                    <a:gdLst/>
                    <a:ahLst/>
                    <a:rect l="0" t="0" r="r" b="b"/>
                    <a:pathLst>
                      <a:path w="883" h="6955">
                        <a:moveTo>
                          <a:pt x="883" y="6955"/>
                        </a:moveTo>
                        <a:lnTo>
                          <a:pt x="883" y="0"/>
                        </a:lnTo>
                        <a:lnTo>
                          <a:pt x="0" y="22"/>
                        </a:lnTo>
                        <a:lnTo>
                          <a:pt x="0" y="6933"/>
                        </a:lnTo>
                        <a:lnTo>
                          <a:pt x="883" y="6955"/>
                        </a:lnTo>
                        <a:close/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1" name=""/>
                <p:cNvGrpSpPr/>
                <p:nvPr/>
              </p:nvGrpSpPr>
              <p:grpSpPr>
                <a:xfrm>
                  <a:off x="2079720" y="1690560"/>
                  <a:ext cx="417960" cy="3462840"/>
                  <a:chOff x="2079720" y="1690560"/>
                  <a:chExt cx="417960" cy="3462840"/>
                </a:xfrm>
              </p:grpSpPr>
              <p:sp>
                <p:nvSpPr>
                  <p:cNvPr id="802" name=""/>
                  <p:cNvSpPr/>
                  <p:nvPr/>
                </p:nvSpPr>
                <p:spPr>
                  <a:xfrm>
                    <a:off x="2079720" y="1690560"/>
                    <a:ext cx="417960" cy="978120"/>
                  </a:xfrm>
                  <a:custGeom>
                    <a:avLst/>
                    <a:gdLst/>
                    <a:ahLst/>
                    <a:rect l="0" t="0" r="r" b="b"/>
                    <a:pathLst>
                      <a:path w="1161" h="2717">
                        <a:moveTo>
                          <a:pt x="1161" y="2717"/>
                        </a:moveTo>
                        <a:lnTo>
                          <a:pt x="0" y="2717"/>
                        </a:lnTo>
                        <a:lnTo>
                          <a:pt x="0" y="2346"/>
                        </a:lnTo>
                        <a:lnTo>
                          <a:pt x="8" y="2166"/>
                        </a:lnTo>
                        <a:lnTo>
                          <a:pt x="22" y="1976"/>
                        </a:lnTo>
                        <a:lnTo>
                          <a:pt x="39" y="1800"/>
                        </a:lnTo>
                        <a:lnTo>
                          <a:pt x="52" y="1623"/>
                        </a:lnTo>
                        <a:lnTo>
                          <a:pt x="74" y="1434"/>
                        </a:lnTo>
                        <a:lnTo>
                          <a:pt x="101" y="1261"/>
                        </a:lnTo>
                        <a:lnTo>
                          <a:pt x="123" y="1080"/>
                        </a:lnTo>
                        <a:lnTo>
                          <a:pt x="158" y="926"/>
                        </a:lnTo>
                        <a:lnTo>
                          <a:pt x="185" y="776"/>
                        </a:lnTo>
                        <a:lnTo>
                          <a:pt x="216" y="665"/>
                        </a:lnTo>
                        <a:lnTo>
                          <a:pt x="255" y="520"/>
                        </a:lnTo>
                        <a:lnTo>
                          <a:pt x="300" y="383"/>
                        </a:lnTo>
                        <a:lnTo>
                          <a:pt x="349" y="282"/>
                        </a:lnTo>
                        <a:lnTo>
                          <a:pt x="402" y="194"/>
                        </a:lnTo>
                        <a:lnTo>
                          <a:pt x="455" y="123"/>
                        </a:lnTo>
                        <a:lnTo>
                          <a:pt x="525" y="48"/>
                        </a:lnTo>
                        <a:lnTo>
                          <a:pt x="578" y="0"/>
                        </a:lnTo>
                        <a:lnTo>
                          <a:pt x="662" y="61"/>
                        </a:lnTo>
                        <a:lnTo>
                          <a:pt x="737" y="163"/>
                        </a:lnTo>
                        <a:lnTo>
                          <a:pt x="803" y="268"/>
                        </a:lnTo>
                        <a:lnTo>
                          <a:pt x="856" y="392"/>
                        </a:lnTo>
                        <a:lnTo>
                          <a:pt x="905" y="515"/>
                        </a:lnTo>
                        <a:lnTo>
                          <a:pt x="950" y="696"/>
                        </a:lnTo>
                        <a:lnTo>
                          <a:pt x="1003" y="912"/>
                        </a:lnTo>
                        <a:lnTo>
                          <a:pt x="1033" y="1075"/>
                        </a:lnTo>
                        <a:lnTo>
                          <a:pt x="1055" y="1212"/>
                        </a:lnTo>
                        <a:lnTo>
                          <a:pt x="1082" y="1390"/>
                        </a:lnTo>
                        <a:lnTo>
                          <a:pt x="1108" y="1623"/>
                        </a:lnTo>
                        <a:lnTo>
                          <a:pt x="1122" y="1861"/>
                        </a:lnTo>
                        <a:lnTo>
                          <a:pt x="1139" y="2104"/>
                        </a:lnTo>
                        <a:lnTo>
                          <a:pt x="1157" y="2364"/>
                        </a:lnTo>
                        <a:lnTo>
                          <a:pt x="1161" y="271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3" name=""/>
                  <p:cNvSpPr/>
                  <p:nvPr/>
                </p:nvSpPr>
                <p:spPr>
                  <a:xfrm>
                    <a:off x="2079720" y="2665440"/>
                    <a:ext cx="417960" cy="2487960"/>
                  </a:xfrm>
                  <a:custGeom>
                    <a:avLst/>
                    <a:gdLst/>
                    <a:ahLst/>
                    <a:rect l="0" t="0" r="r" b="b"/>
                    <a:pathLst>
                      <a:path w="1161" h="6911">
                        <a:moveTo>
                          <a:pt x="1161" y="6911"/>
                        </a:moveTo>
                        <a:lnTo>
                          <a:pt x="1161" y="0"/>
                        </a:lnTo>
                        <a:lnTo>
                          <a:pt x="0" y="0"/>
                        </a:lnTo>
                        <a:lnTo>
                          <a:pt x="0" y="6911"/>
                        </a:lnTo>
                        <a:lnTo>
                          <a:pt x="1161" y="691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4" name=""/>
                <p:cNvGrpSpPr/>
                <p:nvPr/>
              </p:nvGrpSpPr>
              <p:grpSpPr>
                <a:xfrm>
                  <a:off x="1969920" y="1690560"/>
                  <a:ext cx="635400" cy="3462840"/>
                  <a:chOff x="1969920" y="1690560"/>
                  <a:chExt cx="635400" cy="3462840"/>
                </a:xfrm>
              </p:grpSpPr>
              <p:sp>
                <p:nvSpPr>
                  <p:cNvPr id="805" name=""/>
                  <p:cNvSpPr/>
                  <p:nvPr/>
                </p:nvSpPr>
                <p:spPr>
                  <a:xfrm>
                    <a:off x="1969920" y="1690560"/>
                    <a:ext cx="635400" cy="9781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765" h="2717">
                        <a:moveTo>
                          <a:pt x="1765" y="2717"/>
                        </a:moveTo>
                        <a:lnTo>
                          <a:pt x="0" y="2717"/>
                        </a:lnTo>
                        <a:lnTo>
                          <a:pt x="0" y="2346"/>
                        </a:lnTo>
                        <a:lnTo>
                          <a:pt x="13" y="2166"/>
                        </a:lnTo>
                        <a:lnTo>
                          <a:pt x="30" y="1976"/>
                        </a:lnTo>
                        <a:lnTo>
                          <a:pt x="52" y="1800"/>
                        </a:lnTo>
                        <a:lnTo>
                          <a:pt x="74" y="1623"/>
                        </a:lnTo>
                        <a:lnTo>
                          <a:pt x="110" y="1434"/>
                        </a:lnTo>
                        <a:lnTo>
                          <a:pt x="145" y="1261"/>
                        </a:lnTo>
                        <a:lnTo>
                          <a:pt x="185" y="1080"/>
                        </a:lnTo>
                        <a:lnTo>
                          <a:pt x="233" y="926"/>
                        </a:lnTo>
                        <a:lnTo>
                          <a:pt x="282" y="776"/>
                        </a:lnTo>
                        <a:lnTo>
                          <a:pt x="321" y="665"/>
                        </a:lnTo>
                        <a:lnTo>
                          <a:pt x="383" y="520"/>
                        </a:lnTo>
                        <a:lnTo>
                          <a:pt x="455" y="383"/>
                        </a:lnTo>
                        <a:lnTo>
                          <a:pt x="530" y="282"/>
                        </a:lnTo>
                        <a:lnTo>
                          <a:pt x="600" y="194"/>
                        </a:lnTo>
                        <a:lnTo>
                          <a:pt x="688" y="123"/>
                        </a:lnTo>
                        <a:lnTo>
                          <a:pt x="799" y="48"/>
                        </a:lnTo>
                        <a:lnTo>
                          <a:pt x="878" y="0"/>
                        </a:lnTo>
                        <a:lnTo>
                          <a:pt x="1006" y="61"/>
                        </a:lnTo>
                        <a:lnTo>
                          <a:pt x="1116" y="163"/>
                        </a:lnTo>
                        <a:lnTo>
                          <a:pt x="1218" y="268"/>
                        </a:lnTo>
                        <a:lnTo>
                          <a:pt x="1301" y="392"/>
                        </a:lnTo>
                        <a:lnTo>
                          <a:pt x="1373" y="515"/>
                        </a:lnTo>
                        <a:lnTo>
                          <a:pt x="1448" y="696"/>
                        </a:lnTo>
                        <a:lnTo>
                          <a:pt x="1527" y="912"/>
                        </a:lnTo>
                        <a:lnTo>
                          <a:pt x="1571" y="1075"/>
                        </a:lnTo>
                        <a:lnTo>
                          <a:pt x="1607" y="1212"/>
                        </a:lnTo>
                        <a:lnTo>
                          <a:pt x="1646" y="1390"/>
                        </a:lnTo>
                        <a:lnTo>
                          <a:pt x="1682" y="1623"/>
                        </a:lnTo>
                        <a:lnTo>
                          <a:pt x="1708" y="1861"/>
                        </a:lnTo>
                        <a:lnTo>
                          <a:pt x="1730" y="2104"/>
                        </a:lnTo>
                        <a:lnTo>
                          <a:pt x="1752" y="2364"/>
                        </a:lnTo>
                        <a:lnTo>
                          <a:pt x="1765" y="2717"/>
                        </a:lnTo>
                      </a:path>
                    </a:pathLst>
                  </a:custGeom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6" name=""/>
                  <p:cNvSpPr/>
                  <p:nvPr/>
                </p:nvSpPr>
                <p:spPr>
                  <a:xfrm>
                    <a:off x="1969920" y="2665440"/>
                    <a:ext cx="633600" cy="248796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760" h="6911">
                        <a:moveTo>
                          <a:pt x="1760" y="6911"/>
                        </a:moveTo>
                        <a:lnTo>
                          <a:pt x="1760" y="0"/>
                        </a:lnTo>
                        <a:lnTo>
                          <a:pt x="0" y="0"/>
                        </a:lnTo>
                        <a:lnTo>
                          <a:pt x="0" y="6911"/>
                        </a:lnTo>
                        <a:lnTo>
                          <a:pt x="1760" y="6911"/>
                        </a:lnTo>
                      </a:path>
                    </a:pathLst>
                  </a:custGeom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7" name=""/>
                <p:cNvGrpSpPr/>
                <p:nvPr/>
              </p:nvGrpSpPr>
              <p:grpSpPr>
                <a:xfrm>
                  <a:off x="1971720" y="3160800"/>
                  <a:ext cx="633240" cy="1495440"/>
                  <a:chOff x="1971720" y="3160800"/>
                  <a:chExt cx="633240" cy="1495440"/>
                </a:xfrm>
              </p:grpSpPr>
              <p:sp>
                <p:nvSpPr>
                  <p:cNvPr id="808" name=""/>
                  <p:cNvSpPr/>
                  <p:nvPr/>
                </p:nvSpPr>
                <p:spPr>
                  <a:xfrm flipH="1">
                    <a:off x="1971720" y="4656240"/>
                    <a:ext cx="633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" name=""/>
                  <p:cNvSpPr/>
                  <p:nvPr/>
                </p:nvSpPr>
                <p:spPr>
                  <a:xfrm flipH="1">
                    <a:off x="1971720" y="4157640"/>
                    <a:ext cx="633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0" name=""/>
                  <p:cNvSpPr/>
                  <p:nvPr/>
                </p:nvSpPr>
                <p:spPr>
                  <a:xfrm flipH="1">
                    <a:off x="1971720" y="3660840"/>
                    <a:ext cx="633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1" name=""/>
                  <p:cNvSpPr/>
                  <p:nvPr/>
                </p:nvSpPr>
                <p:spPr>
                  <a:xfrm flipH="1">
                    <a:off x="1971720" y="3160800"/>
                    <a:ext cx="633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12" name=""/>
              <p:cNvGrpSpPr/>
              <p:nvPr/>
            </p:nvGrpSpPr>
            <p:grpSpPr>
              <a:xfrm>
                <a:off x="1598760" y="5168880"/>
                <a:ext cx="476640" cy="595440"/>
                <a:chOff x="1598760" y="5168880"/>
                <a:chExt cx="476640" cy="595440"/>
              </a:xfrm>
            </p:grpSpPr>
            <p:grpSp>
              <p:nvGrpSpPr>
                <p:cNvPr id="813" name=""/>
                <p:cNvGrpSpPr/>
                <p:nvPr/>
              </p:nvGrpSpPr>
              <p:grpSpPr>
                <a:xfrm>
                  <a:off x="1598760" y="5467320"/>
                  <a:ext cx="476640" cy="297000"/>
                  <a:chOff x="1598760" y="5467320"/>
                  <a:chExt cx="476640" cy="297000"/>
                </a:xfrm>
              </p:grpSpPr>
              <p:grpSp>
                <p:nvGrpSpPr>
                  <p:cNvPr id="814" name=""/>
                  <p:cNvGrpSpPr/>
                  <p:nvPr/>
                </p:nvGrpSpPr>
                <p:grpSpPr>
                  <a:xfrm>
                    <a:off x="1598760" y="5467320"/>
                    <a:ext cx="476640" cy="144720"/>
                    <a:chOff x="1598760" y="5467320"/>
                    <a:chExt cx="476640" cy="144720"/>
                  </a:xfrm>
                </p:grpSpPr>
                <p:sp>
                  <p:nvSpPr>
                    <p:cNvPr id="815" name=""/>
                    <p:cNvSpPr/>
                    <p:nvPr/>
                  </p:nvSpPr>
                  <p:spPr>
                    <a:xfrm>
                      <a:off x="1598760" y="5468760"/>
                      <a:ext cx="476640" cy="1432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324" h="398">
                          <a:moveTo>
                            <a:pt x="255" y="0"/>
                          </a:moveTo>
                          <a:lnTo>
                            <a:pt x="1086" y="0"/>
                          </a:lnTo>
                          <a:lnTo>
                            <a:pt x="1324" y="398"/>
                          </a:lnTo>
                          <a:lnTo>
                            <a:pt x="0" y="398"/>
                          </a:lnTo>
                          <a:lnTo>
                            <a:pt x="255" y="0"/>
                          </a:lnTo>
                          <a:close/>
                        </a:path>
                      </a:pathLst>
                    </a:custGeom>
                    <a:solidFill>
                      <a:srgbClr val="dfdff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6" name=""/>
                    <p:cNvSpPr/>
                    <p:nvPr/>
                  </p:nvSpPr>
                  <p:spPr>
                    <a:xfrm>
                      <a:off x="1598760" y="5467320"/>
                      <a:ext cx="243360" cy="1447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676" h="402">
                          <a:moveTo>
                            <a:pt x="256" y="4"/>
                          </a:moveTo>
                          <a:lnTo>
                            <a:pt x="672" y="0"/>
                          </a:lnTo>
                          <a:lnTo>
                            <a:pt x="676" y="402"/>
                          </a:lnTo>
                          <a:lnTo>
                            <a:pt x="0" y="402"/>
                          </a:lnTo>
                          <a:lnTo>
                            <a:pt x="256" y="4"/>
                          </a:lnTo>
                          <a:close/>
                        </a:path>
                      </a:pathLst>
                    </a:custGeom>
                    <a:solidFill>
                      <a:srgbClr val="bfbfd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7" name=""/>
                    <p:cNvSpPr/>
                    <p:nvPr/>
                  </p:nvSpPr>
                  <p:spPr>
                    <a:xfrm>
                      <a:off x="1598760" y="5467320"/>
                      <a:ext cx="138600" cy="1447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385" h="402">
                          <a:moveTo>
                            <a:pt x="256" y="4"/>
                          </a:moveTo>
                          <a:lnTo>
                            <a:pt x="385" y="0"/>
                          </a:lnTo>
                          <a:lnTo>
                            <a:pt x="381" y="402"/>
                          </a:lnTo>
                          <a:lnTo>
                            <a:pt x="0" y="402"/>
                          </a:lnTo>
                          <a:lnTo>
                            <a:pt x="256" y="4"/>
                          </a:lnTo>
                          <a:close/>
                        </a:path>
                      </a:pathLst>
                    </a:custGeom>
                    <a:solidFill>
                      <a:srgbClr val="9f9fb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8" name=""/>
                    <p:cNvSpPr/>
                    <p:nvPr/>
                  </p:nvSpPr>
                  <p:spPr>
                    <a:xfrm>
                      <a:off x="1941480" y="5468760"/>
                      <a:ext cx="133560" cy="1432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371" h="398">
                          <a:moveTo>
                            <a:pt x="0" y="0"/>
                          </a:moveTo>
                          <a:lnTo>
                            <a:pt x="132" y="0"/>
                          </a:lnTo>
                          <a:lnTo>
                            <a:pt x="371" y="398"/>
                          </a:lnTo>
                          <a:lnTo>
                            <a:pt x="0" y="39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9f9fb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9" name=""/>
                  <p:cNvGrpSpPr/>
                  <p:nvPr/>
                </p:nvGrpSpPr>
                <p:grpSpPr>
                  <a:xfrm>
                    <a:off x="1677960" y="5505480"/>
                    <a:ext cx="281160" cy="65520"/>
                    <a:chOff x="1677960" y="5505480"/>
                    <a:chExt cx="281160" cy="65520"/>
                  </a:xfrm>
                </p:grpSpPr>
                <p:sp>
                  <p:nvSpPr>
                    <p:cNvPr id="820" name=""/>
                    <p:cNvSpPr/>
                    <p:nvPr/>
                  </p:nvSpPr>
                  <p:spPr>
                    <a:xfrm>
                      <a:off x="1908000" y="5511960"/>
                      <a:ext cx="51120" cy="576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42" h="160">
                          <a:moveTo>
                            <a:pt x="0" y="160"/>
                          </a:moveTo>
                          <a:lnTo>
                            <a:pt x="0" y="0"/>
                          </a:lnTo>
                          <a:lnTo>
                            <a:pt x="142" y="0"/>
                          </a:lnTo>
                          <a:lnTo>
                            <a:pt x="142" y="160"/>
                          </a:lnTo>
                          <a:lnTo>
                            <a:pt x="0" y="160"/>
                          </a:lnTo>
                          <a:close/>
                        </a:path>
                      </a:pathLst>
                    </a:cu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6480" bIns="6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1" name=""/>
                    <p:cNvSpPr/>
                    <p:nvPr/>
                  </p:nvSpPr>
                  <p:spPr>
                    <a:xfrm>
                      <a:off x="1677960" y="5505480"/>
                      <a:ext cx="70200" cy="655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95" h="182">
                          <a:moveTo>
                            <a:pt x="0" y="182"/>
                          </a:moveTo>
                          <a:lnTo>
                            <a:pt x="98" y="0"/>
                          </a:lnTo>
                          <a:lnTo>
                            <a:pt x="195" y="0"/>
                          </a:lnTo>
                          <a:lnTo>
                            <a:pt x="106" y="182"/>
                          </a:lnTo>
                          <a:lnTo>
                            <a:pt x="0" y="182"/>
                          </a:lnTo>
                          <a:close/>
                        </a:path>
                      </a:pathLst>
                    </a:cu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14400" bIns="14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2" name=""/>
                  <p:cNvSpPr/>
                  <p:nvPr/>
                </p:nvSpPr>
                <p:spPr>
                  <a:xfrm>
                    <a:off x="1665360" y="5611680"/>
                    <a:ext cx="356040" cy="152640"/>
                  </a:xfrm>
                  <a:custGeom>
                    <a:avLst/>
                    <a:gdLst/>
                    <a:ahLst/>
                    <a:rect l="0" t="0" r="r" b="b"/>
                    <a:pathLst>
                      <a:path w="989" h="424">
                        <a:moveTo>
                          <a:pt x="835" y="0"/>
                        </a:moveTo>
                        <a:lnTo>
                          <a:pt x="989" y="424"/>
                        </a:lnTo>
                        <a:lnTo>
                          <a:pt x="0" y="424"/>
                        </a:lnTo>
                        <a:lnTo>
                          <a:pt x="127" y="0"/>
                        </a:lnTo>
                        <a:lnTo>
                          <a:pt x="835" y="0"/>
                        </a:lnTo>
                        <a:close/>
                      </a:path>
                    </a:pathLst>
                  </a:custGeom>
                  <a:solidFill>
                    <a:srgbClr val="9f9fb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3" name=""/>
                <p:cNvGrpSpPr/>
                <p:nvPr/>
              </p:nvGrpSpPr>
              <p:grpSpPr>
                <a:xfrm>
                  <a:off x="1684440" y="5168880"/>
                  <a:ext cx="315720" cy="304920"/>
                  <a:chOff x="1684440" y="5168880"/>
                  <a:chExt cx="315720" cy="304920"/>
                </a:xfrm>
              </p:grpSpPr>
              <p:grpSp>
                <p:nvGrpSpPr>
                  <p:cNvPr id="824" name=""/>
                  <p:cNvGrpSpPr/>
                  <p:nvPr/>
                </p:nvGrpSpPr>
                <p:grpSpPr>
                  <a:xfrm>
                    <a:off x="1685880" y="5170320"/>
                    <a:ext cx="314280" cy="303480"/>
                    <a:chOff x="1685880" y="5170320"/>
                    <a:chExt cx="314280" cy="303480"/>
                  </a:xfrm>
                </p:grpSpPr>
                <p:sp>
                  <p:nvSpPr>
                    <p:cNvPr id="825" name=""/>
                    <p:cNvSpPr/>
                    <p:nvPr/>
                  </p:nvSpPr>
                  <p:spPr>
                    <a:xfrm>
                      <a:off x="1685880" y="5170320"/>
                      <a:ext cx="314280" cy="106200"/>
                    </a:xfrm>
                    <a:prstGeom prst="rect">
                      <a:avLst/>
                    </a:prstGeom>
                    <a:solidFill>
                      <a:srgbClr val="9f9fb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6" name=""/>
                    <p:cNvSpPr/>
                    <p:nvPr/>
                  </p:nvSpPr>
                  <p:spPr>
                    <a:xfrm>
                      <a:off x="1685880" y="5264280"/>
                      <a:ext cx="314280" cy="108000"/>
                    </a:xfrm>
                    <a:prstGeom prst="rect">
                      <a:avLst/>
                    </a:prstGeom>
                    <a:solidFill>
                      <a:srgbClr val="9f9fb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7" name=""/>
                    <p:cNvSpPr/>
                    <p:nvPr/>
                  </p:nvSpPr>
                  <p:spPr>
                    <a:xfrm>
                      <a:off x="1685880" y="5359320"/>
                      <a:ext cx="314280" cy="114480"/>
                    </a:xfrm>
                    <a:prstGeom prst="rect">
                      <a:avLst/>
                    </a:prstGeom>
                    <a:solidFill>
                      <a:srgbClr val="9f9fb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8" name=""/>
                  <p:cNvGrpSpPr/>
                  <p:nvPr/>
                </p:nvGrpSpPr>
                <p:grpSpPr>
                  <a:xfrm>
                    <a:off x="1720800" y="5175360"/>
                    <a:ext cx="241200" cy="295200"/>
                    <a:chOff x="1720800" y="5175360"/>
                    <a:chExt cx="241200" cy="295200"/>
                  </a:xfrm>
                </p:grpSpPr>
                <p:sp>
                  <p:nvSpPr>
                    <p:cNvPr id="829" name=""/>
                    <p:cNvSpPr/>
                    <p:nvPr/>
                  </p:nvSpPr>
                  <p:spPr>
                    <a:xfrm>
                      <a:off x="1720800" y="5175360"/>
                      <a:ext cx="241200" cy="95400"/>
                    </a:xfrm>
                    <a:prstGeom prst="rect">
                      <a:avLst/>
                    </a:prstGeom>
                    <a:solidFill>
                      <a:srgbClr val="bfbfd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0" name=""/>
                    <p:cNvSpPr/>
                    <p:nvPr/>
                  </p:nvSpPr>
                  <p:spPr>
                    <a:xfrm>
                      <a:off x="1720800" y="5270400"/>
                      <a:ext cx="241200" cy="96840"/>
                    </a:xfrm>
                    <a:prstGeom prst="rect">
                      <a:avLst/>
                    </a:prstGeom>
                    <a:solidFill>
                      <a:srgbClr val="bfbfd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1" name=""/>
                    <p:cNvSpPr/>
                    <p:nvPr/>
                  </p:nvSpPr>
                  <p:spPr>
                    <a:xfrm>
                      <a:off x="1720800" y="5367240"/>
                      <a:ext cx="241200" cy="103320"/>
                    </a:xfrm>
                    <a:prstGeom prst="rect">
                      <a:avLst/>
                    </a:prstGeom>
                    <a:solidFill>
                      <a:srgbClr val="bfbfd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2" name=""/>
                  <p:cNvGrpSpPr/>
                  <p:nvPr/>
                </p:nvGrpSpPr>
                <p:grpSpPr>
                  <a:xfrm>
                    <a:off x="1841400" y="5175360"/>
                    <a:ext cx="101520" cy="295200"/>
                    <a:chOff x="1841400" y="5175360"/>
                    <a:chExt cx="101520" cy="295200"/>
                  </a:xfrm>
                </p:grpSpPr>
                <p:sp>
                  <p:nvSpPr>
                    <p:cNvPr id="833" name=""/>
                    <p:cNvSpPr/>
                    <p:nvPr/>
                  </p:nvSpPr>
                  <p:spPr>
                    <a:xfrm>
                      <a:off x="1841400" y="5175360"/>
                      <a:ext cx="101520" cy="95400"/>
                    </a:xfrm>
                    <a:prstGeom prst="rect">
                      <a:avLst/>
                    </a:prstGeom>
                    <a:solidFill>
                      <a:srgbClr val="dfd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4" name=""/>
                    <p:cNvSpPr/>
                    <p:nvPr/>
                  </p:nvSpPr>
                  <p:spPr>
                    <a:xfrm>
                      <a:off x="1841400" y="5270400"/>
                      <a:ext cx="101520" cy="96840"/>
                    </a:xfrm>
                    <a:prstGeom prst="rect">
                      <a:avLst/>
                    </a:prstGeom>
                    <a:solidFill>
                      <a:srgbClr val="dfd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5" name=""/>
                    <p:cNvSpPr/>
                    <p:nvPr/>
                  </p:nvSpPr>
                  <p:spPr>
                    <a:xfrm>
                      <a:off x="1841400" y="5367240"/>
                      <a:ext cx="101520" cy="103320"/>
                    </a:xfrm>
                    <a:prstGeom prst="rect">
                      <a:avLst/>
                    </a:prstGeom>
                    <a:solidFill>
                      <a:srgbClr val="dfd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6" name=""/>
                  <p:cNvGrpSpPr/>
                  <p:nvPr/>
                </p:nvGrpSpPr>
                <p:grpSpPr>
                  <a:xfrm>
                    <a:off x="1684440" y="5168880"/>
                    <a:ext cx="314280" cy="303480"/>
                    <a:chOff x="1684440" y="5168880"/>
                    <a:chExt cx="314280" cy="303480"/>
                  </a:xfrm>
                </p:grpSpPr>
                <p:sp>
                  <p:nvSpPr>
                    <p:cNvPr id="837" name=""/>
                    <p:cNvSpPr/>
                    <p:nvPr/>
                  </p:nvSpPr>
                  <p:spPr>
                    <a:xfrm>
                      <a:off x="1684440" y="5168880"/>
                      <a:ext cx="314280" cy="10620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8" name=""/>
                    <p:cNvSpPr/>
                    <p:nvPr/>
                  </p:nvSpPr>
                  <p:spPr>
                    <a:xfrm>
                      <a:off x="1684440" y="5262480"/>
                      <a:ext cx="314280" cy="10800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9" name=""/>
                    <p:cNvSpPr/>
                    <p:nvPr/>
                  </p:nvSpPr>
                  <p:spPr>
                    <a:xfrm>
                      <a:off x="1684440" y="5357880"/>
                      <a:ext cx="314280" cy="11448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840" name=""/>
              <p:cNvGrpSpPr/>
              <p:nvPr/>
            </p:nvGrpSpPr>
            <p:grpSpPr>
              <a:xfrm>
                <a:off x="1415880" y="3301920"/>
                <a:ext cx="870480" cy="1876680"/>
                <a:chOff x="1415880" y="3301920"/>
                <a:chExt cx="870480" cy="1876680"/>
              </a:xfrm>
            </p:grpSpPr>
            <p:sp>
              <p:nvSpPr>
                <p:cNvPr id="841" name=""/>
                <p:cNvSpPr/>
                <p:nvPr/>
              </p:nvSpPr>
              <p:spPr>
                <a:xfrm>
                  <a:off x="1415880" y="3301920"/>
                  <a:ext cx="870480" cy="1876680"/>
                </a:xfrm>
                <a:custGeom>
                  <a:avLst/>
                  <a:gdLst/>
                  <a:ahLst/>
                  <a:rect l="0" t="0" r="r" b="b"/>
                  <a:pathLst>
                    <a:path w="2418" h="5213">
                      <a:moveTo>
                        <a:pt x="1898" y="5213"/>
                      </a:moveTo>
                      <a:lnTo>
                        <a:pt x="2418" y="5213"/>
                      </a:lnTo>
                      <a:lnTo>
                        <a:pt x="2418" y="224"/>
                      </a:lnTo>
                      <a:lnTo>
                        <a:pt x="1898" y="0"/>
                      </a:lnTo>
                      <a:lnTo>
                        <a:pt x="1845" y="330"/>
                      </a:lnTo>
                      <a:lnTo>
                        <a:pt x="1791" y="648"/>
                      </a:lnTo>
                      <a:lnTo>
                        <a:pt x="1747" y="992"/>
                      </a:lnTo>
                      <a:lnTo>
                        <a:pt x="1707" y="1278"/>
                      </a:lnTo>
                      <a:lnTo>
                        <a:pt x="1663" y="1658"/>
                      </a:lnTo>
                      <a:lnTo>
                        <a:pt x="1632" y="1953"/>
                      </a:lnTo>
                      <a:lnTo>
                        <a:pt x="1606" y="2121"/>
                      </a:lnTo>
                      <a:lnTo>
                        <a:pt x="1570" y="2310"/>
                      </a:lnTo>
                      <a:lnTo>
                        <a:pt x="1531" y="2456"/>
                      </a:lnTo>
                      <a:lnTo>
                        <a:pt x="1487" y="2579"/>
                      </a:lnTo>
                      <a:lnTo>
                        <a:pt x="1438" y="2668"/>
                      </a:lnTo>
                      <a:lnTo>
                        <a:pt x="1394" y="2752"/>
                      </a:lnTo>
                      <a:lnTo>
                        <a:pt x="1345" y="2827"/>
                      </a:lnTo>
                      <a:lnTo>
                        <a:pt x="1253" y="2946"/>
                      </a:lnTo>
                      <a:lnTo>
                        <a:pt x="1147" y="3065"/>
                      </a:lnTo>
                      <a:lnTo>
                        <a:pt x="988" y="3220"/>
                      </a:lnTo>
                      <a:lnTo>
                        <a:pt x="777" y="3444"/>
                      </a:lnTo>
                      <a:lnTo>
                        <a:pt x="555" y="3669"/>
                      </a:lnTo>
                      <a:lnTo>
                        <a:pt x="396" y="3815"/>
                      </a:lnTo>
                      <a:lnTo>
                        <a:pt x="343" y="3881"/>
                      </a:lnTo>
                      <a:lnTo>
                        <a:pt x="255" y="3974"/>
                      </a:lnTo>
                      <a:lnTo>
                        <a:pt x="171" y="4093"/>
                      </a:lnTo>
                      <a:lnTo>
                        <a:pt x="123" y="4190"/>
                      </a:lnTo>
                      <a:lnTo>
                        <a:pt x="79" y="4318"/>
                      </a:lnTo>
                      <a:lnTo>
                        <a:pt x="39" y="4503"/>
                      </a:lnTo>
                      <a:lnTo>
                        <a:pt x="13" y="4754"/>
                      </a:lnTo>
                      <a:lnTo>
                        <a:pt x="0" y="4979"/>
                      </a:lnTo>
                      <a:lnTo>
                        <a:pt x="1898" y="521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42" name=""/>
                <p:cNvGrpSpPr/>
                <p:nvPr/>
              </p:nvGrpSpPr>
              <p:grpSpPr>
                <a:xfrm>
                  <a:off x="1424160" y="3916440"/>
                  <a:ext cx="663840" cy="1214640"/>
                  <a:chOff x="1424160" y="3916440"/>
                  <a:chExt cx="663840" cy="1214640"/>
                </a:xfrm>
              </p:grpSpPr>
              <p:grpSp>
                <p:nvGrpSpPr>
                  <p:cNvPr id="843" name=""/>
                  <p:cNvGrpSpPr/>
                  <p:nvPr/>
                </p:nvGrpSpPr>
                <p:grpSpPr>
                  <a:xfrm>
                    <a:off x="1424160" y="3919680"/>
                    <a:ext cx="663840" cy="1211400"/>
                    <a:chOff x="1424160" y="3919680"/>
                    <a:chExt cx="663840" cy="1211400"/>
                  </a:xfrm>
                </p:grpSpPr>
                <p:grpSp>
                  <p:nvGrpSpPr>
                    <p:cNvPr id="844" name=""/>
                    <p:cNvGrpSpPr/>
                    <p:nvPr/>
                  </p:nvGrpSpPr>
                  <p:grpSpPr>
                    <a:xfrm>
                      <a:off x="1434960" y="3919680"/>
                      <a:ext cx="649440" cy="1027080"/>
                      <a:chOff x="1434960" y="3919680"/>
                      <a:chExt cx="649440" cy="1027080"/>
                    </a:xfrm>
                  </p:grpSpPr>
                  <p:sp>
                    <p:nvSpPr>
                      <p:cNvPr id="845" name=""/>
                      <p:cNvSpPr/>
                      <p:nvPr/>
                    </p:nvSpPr>
                    <p:spPr>
                      <a:xfrm flipH="1">
                        <a:off x="1440000" y="4946760"/>
                        <a:ext cx="64440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6120" rIns="96120" tIns="-51120" bIns="-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46" name=""/>
                      <p:cNvSpPr/>
                      <p:nvPr/>
                    </p:nvSpPr>
                    <p:spPr>
                      <a:xfrm flipH="1">
                        <a:off x="1434960" y="4927680"/>
                        <a:ext cx="64476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6120" rIns="96120" tIns="-51120" bIns="-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47" name=""/>
                      <p:cNvSpPr/>
                      <p:nvPr/>
                    </p:nvSpPr>
                    <p:spPr>
                      <a:xfrm flipH="1">
                        <a:off x="1434960" y="4908600"/>
                        <a:ext cx="64476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6120" rIns="96120" tIns="-51120" bIns="-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48" name=""/>
                      <p:cNvSpPr/>
                      <p:nvPr/>
                    </p:nvSpPr>
                    <p:spPr>
                      <a:xfrm>
                        <a:off x="1481040" y="3919680"/>
                        <a:ext cx="568800" cy="98604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fill="none" w="1580" h="2739">
                            <a:moveTo>
                              <a:pt x="0" y="2739"/>
                            </a:moveTo>
                            <a:lnTo>
                              <a:pt x="26" y="2620"/>
                            </a:lnTo>
                            <a:lnTo>
                              <a:pt x="57" y="2518"/>
                            </a:lnTo>
                            <a:lnTo>
                              <a:pt x="92" y="2439"/>
                            </a:lnTo>
                            <a:lnTo>
                              <a:pt x="136" y="2360"/>
                            </a:lnTo>
                            <a:lnTo>
                              <a:pt x="189" y="2280"/>
                            </a:lnTo>
                            <a:lnTo>
                              <a:pt x="264" y="2201"/>
                            </a:lnTo>
                            <a:lnTo>
                              <a:pt x="357" y="2095"/>
                            </a:lnTo>
                            <a:lnTo>
                              <a:pt x="468" y="1989"/>
                            </a:lnTo>
                            <a:lnTo>
                              <a:pt x="587" y="1879"/>
                            </a:lnTo>
                            <a:lnTo>
                              <a:pt x="724" y="1738"/>
                            </a:lnTo>
                            <a:lnTo>
                              <a:pt x="860" y="1592"/>
                            </a:lnTo>
                            <a:lnTo>
                              <a:pt x="975" y="1473"/>
                            </a:lnTo>
                            <a:lnTo>
                              <a:pt x="1081" y="1367"/>
                            </a:lnTo>
                            <a:lnTo>
                              <a:pt x="1165" y="1278"/>
                            </a:lnTo>
                            <a:lnTo>
                              <a:pt x="1214" y="1212"/>
                            </a:lnTo>
                            <a:lnTo>
                              <a:pt x="1271" y="1146"/>
                            </a:lnTo>
                            <a:lnTo>
                              <a:pt x="1311" y="1084"/>
                            </a:lnTo>
                            <a:lnTo>
                              <a:pt x="1360" y="1001"/>
                            </a:lnTo>
                            <a:lnTo>
                              <a:pt x="1408" y="908"/>
                            </a:lnTo>
                            <a:lnTo>
                              <a:pt x="1443" y="806"/>
                            </a:lnTo>
                            <a:lnTo>
                              <a:pt x="1479" y="692"/>
                            </a:lnTo>
                            <a:lnTo>
                              <a:pt x="1510" y="573"/>
                            </a:lnTo>
                            <a:lnTo>
                              <a:pt x="1532" y="440"/>
                            </a:lnTo>
                            <a:lnTo>
                              <a:pt x="1549" y="308"/>
                            </a:lnTo>
                            <a:lnTo>
                              <a:pt x="1567" y="180"/>
                            </a:lnTo>
                            <a:lnTo>
                              <a:pt x="1580" y="61"/>
                            </a:lnTo>
                            <a:lnTo>
                              <a:pt x="1576" y="0"/>
                            </a:lnTo>
                          </a:path>
                        </a:pathLst>
                      </a:custGeom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849" name=""/>
                    <p:cNvSpPr/>
                    <p:nvPr/>
                  </p:nvSpPr>
                  <p:spPr>
                    <a:xfrm>
                      <a:off x="1424160" y="4951440"/>
                      <a:ext cx="663840" cy="338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fill="none" w="1844" h="94">
                          <a:moveTo>
                            <a:pt x="0" y="0"/>
                          </a:moveTo>
                          <a:lnTo>
                            <a:pt x="0" y="94"/>
                          </a:lnTo>
                          <a:lnTo>
                            <a:pt x="1844" y="94"/>
                          </a:lnTo>
                        </a:path>
                      </a:pathLst>
                    </a:custGeom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-17280" bIns="-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0" name=""/>
                    <p:cNvSpPr/>
                    <p:nvPr/>
                  </p:nvSpPr>
                  <p:spPr>
                    <a:xfrm>
                      <a:off x="1698480" y="4951440"/>
                      <a:ext cx="22680" cy="1796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63" h="499">
                          <a:moveTo>
                            <a:pt x="0" y="486"/>
                          </a:moveTo>
                          <a:lnTo>
                            <a:pt x="0" y="0"/>
                          </a:lnTo>
                          <a:lnTo>
                            <a:pt x="63" y="0"/>
                          </a:lnTo>
                          <a:lnTo>
                            <a:pt x="63" y="499"/>
                          </a:lnTo>
                          <a:lnTo>
                            <a:pt x="0" y="48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1" name=""/>
                  <p:cNvSpPr/>
                  <p:nvPr/>
                </p:nvSpPr>
                <p:spPr>
                  <a:xfrm flipH="1">
                    <a:off x="2022480" y="3916440"/>
                    <a:ext cx="63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52" name=""/>
              <p:cNvGrpSpPr/>
              <p:nvPr/>
            </p:nvGrpSpPr>
            <p:grpSpPr>
              <a:xfrm>
                <a:off x="1992240" y="4838760"/>
                <a:ext cx="249840" cy="509760"/>
                <a:chOff x="1992240" y="4838760"/>
                <a:chExt cx="249840" cy="509760"/>
              </a:xfrm>
            </p:grpSpPr>
            <p:grpSp>
              <p:nvGrpSpPr>
                <p:cNvPr id="853" name=""/>
                <p:cNvGrpSpPr/>
                <p:nvPr/>
              </p:nvGrpSpPr>
              <p:grpSpPr>
                <a:xfrm>
                  <a:off x="2054160" y="5183280"/>
                  <a:ext cx="162000" cy="165240"/>
                  <a:chOff x="2054160" y="5183280"/>
                  <a:chExt cx="162000" cy="165240"/>
                </a:xfrm>
              </p:grpSpPr>
              <p:sp>
                <p:nvSpPr>
                  <p:cNvPr id="854" name=""/>
                  <p:cNvSpPr/>
                  <p:nvPr/>
                </p:nvSpPr>
                <p:spPr>
                  <a:xfrm>
                    <a:off x="2060640" y="5183280"/>
                    <a:ext cx="147960" cy="135360"/>
                  </a:xfrm>
                  <a:custGeom>
                    <a:avLst/>
                    <a:gdLst/>
                    <a:ahLst/>
                    <a:rect l="0" t="0" r="r" b="b"/>
                    <a:pathLst>
                      <a:path w="411" h="376">
                        <a:moveTo>
                          <a:pt x="0" y="376"/>
                        </a:moveTo>
                        <a:lnTo>
                          <a:pt x="79" y="0"/>
                        </a:lnTo>
                        <a:lnTo>
                          <a:pt x="331" y="0"/>
                        </a:lnTo>
                        <a:lnTo>
                          <a:pt x="411" y="376"/>
                        </a:lnTo>
                        <a:lnTo>
                          <a:pt x="0" y="376"/>
                        </a:lnTo>
                        <a:close/>
                      </a:path>
                    </a:pathLst>
                  </a:custGeom>
                  <a:solidFill>
                    <a:srgbClr val="9f9fb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5" name=""/>
                  <p:cNvSpPr/>
                  <p:nvPr/>
                </p:nvSpPr>
                <p:spPr>
                  <a:xfrm>
                    <a:off x="2054160" y="5291280"/>
                    <a:ext cx="162000" cy="57240"/>
                  </a:xfrm>
                  <a:prstGeom prst="ellipse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6" name=""/>
                <p:cNvGrpSpPr/>
                <p:nvPr/>
              </p:nvGrpSpPr>
              <p:grpSpPr>
                <a:xfrm>
                  <a:off x="2124000" y="5165640"/>
                  <a:ext cx="111240" cy="146160"/>
                  <a:chOff x="2124000" y="5165640"/>
                  <a:chExt cx="111240" cy="146160"/>
                </a:xfrm>
              </p:grpSpPr>
              <p:sp>
                <p:nvSpPr>
                  <p:cNvPr id="857" name=""/>
                  <p:cNvSpPr/>
                  <p:nvPr/>
                </p:nvSpPr>
                <p:spPr>
                  <a:xfrm>
                    <a:off x="2124000" y="5165640"/>
                    <a:ext cx="111240" cy="123840"/>
                  </a:xfrm>
                  <a:prstGeom prst="rect">
                    <a:avLst/>
                  </a:prstGeom>
                  <a:solidFill>
                    <a:srgbClr val="dfd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>
                    <a:off x="2124000" y="5191200"/>
                    <a:ext cx="111240" cy="38160"/>
                  </a:xfrm>
                  <a:prstGeom prst="ellipse">
                    <a:avLst/>
                  </a:prstGeom>
                  <a:solidFill>
                    <a:srgbClr val="dfd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2960" bIns="-12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59" name=""/>
                  <p:cNvGrpSpPr/>
                  <p:nvPr/>
                </p:nvGrpSpPr>
                <p:grpSpPr>
                  <a:xfrm>
                    <a:off x="2124000" y="5211720"/>
                    <a:ext cx="111240" cy="77760"/>
                    <a:chOff x="2124000" y="5211720"/>
                    <a:chExt cx="111240" cy="77760"/>
                  </a:xfrm>
                </p:grpSpPr>
                <p:sp>
                  <p:nvSpPr>
                    <p:cNvPr id="860" name=""/>
                    <p:cNvSpPr/>
                    <p:nvPr/>
                  </p:nvSpPr>
                  <p:spPr>
                    <a:xfrm>
                      <a:off x="2124000" y="5211720"/>
                      <a:ext cx="111240" cy="38160"/>
                    </a:xfrm>
                    <a:prstGeom prst="ellipse">
                      <a:avLst/>
                    </a:prstGeom>
                    <a:solidFill>
                      <a:srgbClr val="bfbfd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-12960" bIns="-12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1" name=""/>
                    <p:cNvSpPr/>
                    <p:nvPr/>
                  </p:nvSpPr>
                  <p:spPr>
                    <a:xfrm>
                      <a:off x="2124000" y="5232240"/>
                      <a:ext cx="111240" cy="38160"/>
                    </a:xfrm>
                    <a:prstGeom prst="ellipse">
                      <a:avLst/>
                    </a:prstGeom>
                    <a:solidFill>
                      <a:srgbClr val="dfdff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-12960" bIns="-12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2" name=""/>
                    <p:cNvSpPr/>
                    <p:nvPr/>
                  </p:nvSpPr>
                  <p:spPr>
                    <a:xfrm>
                      <a:off x="2124000" y="5251320"/>
                      <a:ext cx="111240" cy="38160"/>
                    </a:xfrm>
                    <a:prstGeom prst="ellipse">
                      <a:avLst/>
                    </a:prstGeom>
                    <a:solidFill>
                      <a:srgbClr val="bfbfd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-12960" bIns="-12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63" name=""/>
                  <p:cNvSpPr/>
                  <p:nvPr/>
                </p:nvSpPr>
                <p:spPr>
                  <a:xfrm>
                    <a:off x="2124000" y="5273640"/>
                    <a:ext cx="111240" cy="38160"/>
                  </a:xfrm>
                  <a:prstGeom prst="ellipse">
                    <a:avLst/>
                  </a:prstGeom>
                  <a:solidFill>
                    <a:srgbClr val="5f5f7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2960" bIns="-12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4" name=""/>
                <p:cNvGrpSpPr/>
                <p:nvPr/>
              </p:nvGrpSpPr>
              <p:grpSpPr>
                <a:xfrm>
                  <a:off x="2003400" y="5165640"/>
                  <a:ext cx="111240" cy="146160"/>
                  <a:chOff x="2003400" y="5165640"/>
                  <a:chExt cx="111240" cy="146160"/>
                </a:xfrm>
              </p:grpSpPr>
              <p:sp>
                <p:nvSpPr>
                  <p:cNvPr id="865" name=""/>
                  <p:cNvSpPr/>
                  <p:nvPr/>
                </p:nvSpPr>
                <p:spPr>
                  <a:xfrm>
                    <a:off x="2003400" y="5165640"/>
                    <a:ext cx="111240" cy="123840"/>
                  </a:xfrm>
                  <a:prstGeom prst="rect">
                    <a:avLst/>
                  </a:prstGeom>
                  <a:solidFill>
                    <a:srgbClr val="dfd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>
                    <a:off x="2003400" y="5191200"/>
                    <a:ext cx="111240" cy="38160"/>
                  </a:xfrm>
                  <a:prstGeom prst="ellipse">
                    <a:avLst/>
                  </a:prstGeom>
                  <a:solidFill>
                    <a:srgbClr val="dfd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2960" bIns="-12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67" name=""/>
                  <p:cNvGrpSpPr/>
                  <p:nvPr/>
                </p:nvGrpSpPr>
                <p:grpSpPr>
                  <a:xfrm>
                    <a:off x="2003400" y="5211720"/>
                    <a:ext cx="111240" cy="77760"/>
                    <a:chOff x="2003400" y="5211720"/>
                    <a:chExt cx="111240" cy="77760"/>
                  </a:xfrm>
                </p:grpSpPr>
                <p:sp>
                  <p:nvSpPr>
                    <p:cNvPr id="868" name=""/>
                    <p:cNvSpPr/>
                    <p:nvPr/>
                  </p:nvSpPr>
                  <p:spPr>
                    <a:xfrm>
                      <a:off x="2003400" y="5211720"/>
                      <a:ext cx="111240" cy="38160"/>
                    </a:xfrm>
                    <a:prstGeom prst="ellipse">
                      <a:avLst/>
                    </a:prstGeom>
                    <a:solidFill>
                      <a:srgbClr val="bfbfd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-12960" bIns="-12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9" name=""/>
                    <p:cNvSpPr/>
                    <p:nvPr/>
                  </p:nvSpPr>
                  <p:spPr>
                    <a:xfrm>
                      <a:off x="2003400" y="5232240"/>
                      <a:ext cx="111240" cy="38160"/>
                    </a:xfrm>
                    <a:prstGeom prst="ellipse">
                      <a:avLst/>
                    </a:prstGeom>
                    <a:solidFill>
                      <a:srgbClr val="dfdff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-12960" bIns="-12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0" name=""/>
                    <p:cNvSpPr/>
                    <p:nvPr/>
                  </p:nvSpPr>
                  <p:spPr>
                    <a:xfrm>
                      <a:off x="2003400" y="5251320"/>
                      <a:ext cx="111240" cy="38160"/>
                    </a:xfrm>
                    <a:prstGeom prst="ellipse">
                      <a:avLst/>
                    </a:prstGeom>
                    <a:solidFill>
                      <a:srgbClr val="bfbfd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-12960" bIns="-12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71" name=""/>
                  <p:cNvSpPr/>
                  <p:nvPr/>
                </p:nvSpPr>
                <p:spPr>
                  <a:xfrm>
                    <a:off x="2003400" y="5273640"/>
                    <a:ext cx="111240" cy="38160"/>
                  </a:xfrm>
                  <a:prstGeom prst="ellipse">
                    <a:avLst/>
                  </a:prstGeom>
                  <a:solidFill>
                    <a:srgbClr val="5f5f7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2960" bIns="-12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2" name=""/>
                <p:cNvGrpSpPr/>
                <p:nvPr/>
              </p:nvGrpSpPr>
              <p:grpSpPr>
                <a:xfrm>
                  <a:off x="1992240" y="4838760"/>
                  <a:ext cx="249840" cy="348120"/>
                  <a:chOff x="1992240" y="4838760"/>
                  <a:chExt cx="249840" cy="348120"/>
                </a:xfrm>
              </p:grpSpPr>
              <p:sp>
                <p:nvSpPr>
                  <p:cNvPr id="873" name=""/>
                  <p:cNvSpPr/>
                  <p:nvPr/>
                </p:nvSpPr>
                <p:spPr>
                  <a:xfrm>
                    <a:off x="1992240" y="4838760"/>
                    <a:ext cx="248040" cy="348120"/>
                  </a:xfrm>
                  <a:custGeom>
                    <a:avLst/>
                    <a:gdLst/>
                    <a:ahLst/>
                    <a:rect l="0" t="0" r="r" b="b"/>
                    <a:pathLst>
                      <a:path w="689" h="967">
                        <a:moveTo>
                          <a:pt x="4" y="967"/>
                        </a:moveTo>
                        <a:lnTo>
                          <a:pt x="689" y="967"/>
                        </a:lnTo>
                        <a:lnTo>
                          <a:pt x="689" y="888"/>
                        </a:lnTo>
                        <a:lnTo>
                          <a:pt x="689" y="795"/>
                        </a:lnTo>
                        <a:lnTo>
                          <a:pt x="685" y="724"/>
                        </a:lnTo>
                        <a:lnTo>
                          <a:pt x="681" y="658"/>
                        </a:lnTo>
                        <a:lnTo>
                          <a:pt x="672" y="583"/>
                        </a:lnTo>
                        <a:lnTo>
                          <a:pt x="659" y="494"/>
                        </a:lnTo>
                        <a:lnTo>
                          <a:pt x="641" y="419"/>
                        </a:lnTo>
                        <a:lnTo>
                          <a:pt x="623" y="349"/>
                        </a:lnTo>
                        <a:lnTo>
                          <a:pt x="601" y="283"/>
                        </a:lnTo>
                        <a:lnTo>
                          <a:pt x="584" y="224"/>
                        </a:lnTo>
                        <a:lnTo>
                          <a:pt x="553" y="158"/>
                        </a:lnTo>
                        <a:lnTo>
                          <a:pt x="526" y="114"/>
                        </a:lnTo>
                        <a:lnTo>
                          <a:pt x="499" y="83"/>
                        </a:lnTo>
                        <a:lnTo>
                          <a:pt x="468" y="52"/>
                        </a:lnTo>
                        <a:lnTo>
                          <a:pt x="441" y="30"/>
                        </a:lnTo>
                        <a:lnTo>
                          <a:pt x="411" y="13"/>
                        </a:lnTo>
                        <a:lnTo>
                          <a:pt x="393" y="4"/>
                        </a:lnTo>
                        <a:lnTo>
                          <a:pt x="362" y="0"/>
                        </a:lnTo>
                        <a:lnTo>
                          <a:pt x="331" y="4"/>
                        </a:lnTo>
                        <a:lnTo>
                          <a:pt x="296" y="13"/>
                        </a:lnTo>
                        <a:lnTo>
                          <a:pt x="252" y="39"/>
                        </a:lnTo>
                        <a:lnTo>
                          <a:pt x="208" y="79"/>
                        </a:lnTo>
                        <a:lnTo>
                          <a:pt x="171" y="123"/>
                        </a:lnTo>
                        <a:lnTo>
                          <a:pt x="141" y="171"/>
                        </a:lnTo>
                        <a:lnTo>
                          <a:pt x="110" y="233"/>
                        </a:lnTo>
                        <a:lnTo>
                          <a:pt x="88" y="287"/>
                        </a:lnTo>
                        <a:lnTo>
                          <a:pt x="70" y="340"/>
                        </a:lnTo>
                        <a:lnTo>
                          <a:pt x="48" y="419"/>
                        </a:lnTo>
                        <a:lnTo>
                          <a:pt x="30" y="494"/>
                        </a:lnTo>
                        <a:lnTo>
                          <a:pt x="17" y="569"/>
                        </a:lnTo>
                        <a:lnTo>
                          <a:pt x="8" y="631"/>
                        </a:lnTo>
                        <a:lnTo>
                          <a:pt x="4" y="706"/>
                        </a:lnTo>
                        <a:lnTo>
                          <a:pt x="0" y="800"/>
                        </a:lnTo>
                        <a:lnTo>
                          <a:pt x="4" y="967"/>
                        </a:lnTo>
                        <a:close/>
                      </a:path>
                    </a:pathLst>
                  </a:custGeom>
                  <a:solidFill>
                    <a:srgbClr val="dfd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4" name=""/>
                  <p:cNvSpPr/>
                  <p:nvPr/>
                </p:nvSpPr>
                <p:spPr>
                  <a:xfrm>
                    <a:off x="2071800" y="4838760"/>
                    <a:ext cx="122760" cy="348120"/>
                  </a:xfrm>
                  <a:custGeom>
                    <a:avLst/>
                    <a:gdLst/>
                    <a:ahLst/>
                    <a:rect l="0" t="0" r="r" b="b"/>
                    <a:pathLst>
                      <a:path w="341" h="967">
                        <a:moveTo>
                          <a:pt x="0" y="967"/>
                        </a:moveTo>
                        <a:lnTo>
                          <a:pt x="341" y="967"/>
                        </a:lnTo>
                        <a:lnTo>
                          <a:pt x="341" y="888"/>
                        </a:lnTo>
                        <a:lnTo>
                          <a:pt x="341" y="795"/>
                        </a:lnTo>
                        <a:lnTo>
                          <a:pt x="341" y="724"/>
                        </a:lnTo>
                        <a:lnTo>
                          <a:pt x="337" y="658"/>
                        </a:lnTo>
                        <a:lnTo>
                          <a:pt x="332" y="583"/>
                        </a:lnTo>
                        <a:lnTo>
                          <a:pt x="328" y="494"/>
                        </a:lnTo>
                        <a:lnTo>
                          <a:pt x="319" y="419"/>
                        </a:lnTo>
                        <a:lnTo>
                          <a:pt x="310" y="349"/>
                        </a:lnTo>
                        <a:lnTo>
                          <a:pt x="297" y="283"/>
                        </a:lnTo>
                        <a:lnTo>
                          <a:pt x="288" y="224"/>
                        </a:lnTo>
                        <a:lnTo>
                          <a:pt x="275" y="158"/>
                        </a:lnTo>
                        <a:lnTo>
                          <a:pt x="262" y="114"/>
                        </a:lnTo>
                        <a:lnTo>
                          <a:pt x="247" y="83"/>
                        </a:lnTo>
                        <a:lnTo>
                          <a:pt x="230" y="52"/>
                        </a:lnTo>
                        <a:lnTo>
                          <a:pt x="217" y="30"/>
                        </a:lnTo>
                        <a:lnTo>
                          <a:pt x="203" y="13"/>
                        </a:lnTo>
                        <a:lnTo>
                          <a:pt x="195" y="4"/>
                        </a:lnTo>
                        <a:lnTo>
                          <a:pt x="177" y="0"/>
                        </a:lnTo>
                        <a:lnTo>
                          <a:pt x="164" y="4"/>
                        </a:lnTo>
                        <a:lnTo>
                          <a:pt x="146" y="13"/>
                        </a:lnTo>
                        <a:lnTo>
                          <a:pt x="124" y="39"/>
                        </a:lnTo>
                        <a:lnTo>
                          <a:pt x="102" y="79"/>
                        </a:lnTo>
                        <a:lnTo>
                          <a:pt x="83" y="123"/>
                        </a:lnTo>
                        <a:lnTo>
                          <a:pt x="66" y="171"/>
                        </a:lnTo>
                        <a:lnTo>
                          <a:pt x="52" y="233"/>
                        </a:lnTo>
                        <a:lnTo>
                          <a:pt x="39" y="287"/>
                        </a:lnTo>
                        <a:lnTo>
                          <a:pt x="30" y="340"/>
                        </a:lnTo>
                        <a:lnTo>
                          <a:pt x="22" y="419"/>
                        </a:lnTo>
                        <a:lnTo>
                          <a:pt x="13" y="494"/>
                        </a:lnTo>
                        <a:lnTo>
                          <a:pt x="4" y="569"/>
                        </a:lnTo>
                        <a:lnTo>
                          <a:pt x="0" y="631"/>
                        </a:lnTo>
                        <a:lnTo>
                          <a:pt x="0" y="706"/>
                        </a:lnTo>
                        <a:lnTo>
                          <a:pt x="0" y="800"/>
                        </a:lnTo>
                        <a:lnTo>
                          <a:pt x="0" y="96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"/>
                  <p:cNvSpPr/>
                  <p:nvPr/>
                </p:nvSpPr>
                <p:spPr>
                  <a:xfrm>
                    <a:off x="1994040" y="4838760"/>
                    <a:ext cx="248040" cy="3481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689" h="967">
                        <a:moveTo>
                          <a:pt x="4" y="967"/>
                        </a:moveTo>
                        <a:lnTo>
                          <a:pt x="689" y="967"/>
                        </a:lnTo>
                        <a:lnTo>
                          <a:pt x="689" y="888"/>
                        </a:lnTo>
                        <a:lnTo>
                          <a:pt x="689" y="795"/>
                        </a:lnTo>
                        <a:lnTo>
                          <a:pt x="685" y="724"/>
                        </a:lnTo>
                        <a:lnTo>
                          <a:pt x="681" y="658"/>
                        </a:lnTo>
                        <a:lnTo>
                          <a:pt x="672" y="583"/>
                        </a:lnTo>
                        <a:lnTo>
                          <a:pt x="659" y="494"/>
                        </a:lnTo>
                        <a:lnTo>
                          <a:pt x="641" y="419"/>
                        </a:lnTo>
                        <a:lnTo>
                          <a:pt x="623" y="349"/>
                        </a:lnTo>
                        <a:lnTo>
                          <a:pt x="601" y="283"/>
                        </a:lnTo>
                        <a:lnTo>
                          <a:pt x="584" y="224"/>
                        </a:lnTo>
                        <a:lnTo>
                          <a:pt x="553" y="158"/>
                        </a:lnTo>
                        <a:lnTo>
                          <a:pt x="526" y="114"/>
                        </a:lnTo>
                        <a:lnTo>
                          <a:pt x="499" y="83"/>
                        </a:lnTo>
                        <a:lnTo>
                          <a:pt x="468" y="52"/>
                        </a:lnTo>
                        <a:lnTo>
                          <a:pt x="441" y="30"/>
                        </a:lnTo>
                        <a:lnTo>
                          <a:pt x="411" y="13"/>
                        </a:lnTo>
                        <a:lnTo>
                          <a:pt x="393" y="4"/>
                        </a:lnTo>
                        <a:lnTo>
                          <a:pt x="362" y="0"/>
                        </a:lnTo>
                        <a:lnTo>
                          <a:pt x="331" y="4"/>
                        </a:lnTo>
                        <a:lnTo>
                          <a:pt x="296" y="13"/>
                        </a:lnTo>
                        <a:lnTo>
                          <a:pt x="252" y="39"/>
                        </a:lnTo>
                        <a:lnTo>
                          <a:pt x="208" y="79"/>
                        </a:lnTo>
                        <a:lnTo>
                          <a:pt x="171" y="123"/>
                        </a:lnTo>
                        <a:lnTo>
                          <a:pt x="141" y="171"/>
                        </a:lnTo>
                        <a:lnTo>
                          <a:pt x="110" y="233"/>
                        </a:lnTo>
                        <a:lnTo>
                          <a:pt x="88" y="287"/>
                        </a:lnTo>
                        <a:lnTo>
                          <a:pt x="70" y="340"/>
                        </a:lnTo>
                        <a:lnTo>
                          <a:pt x="48" y="419"/>
                        </a:lnTo>
                        <a:lnTo>
                          <a:pt x="30" y="494"/>
                        </a:lnTo>
                        <a:lnTo>
                          <a:pt x="17" y="569"/>
                        </a:lnTo>
                        <a:lnTo>
                          <a:pt x="8" y="631"/>
                        </a:lnTo>
                        <a:lnTo>
                          <a:pt x="4" y="706"/>
                        </a:lnTo>
                        <a:lnTo>
                          <a:pt x="0" y="800"/>
                        </a:lnTo>
                        <a:lnTo>
                          <a:pt x="4" y="967"/>
                        </a:lnTo>
                      </a:path>
                    </a:pathLst>
                  </a:custGeom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76" name=""/>
              <p:cNvGrpSpPr/>
              <p:nvPr/>
            </p:nvGrpSpPr>
            <p:grpSpPr>
              <a:xfrm>
                <a:off x="2494080" y="5153040"/>
                <a:ext cx="476640" cy="595440"/>
                <a:chOff x="2494080" y="5153040"/>
                <a:chExt cx="476640" cy="595440"/>
              </a:xfrm>
            </p:grpSpPr>
            <p:grpSp>
              <p:nvGrpSpPr>
                <p:cNvPr id="877" name=""/>
                <p:cNvGrpSpPr/>
                <p:nvPr/>
              </p:nvGrpSpPr>
              <p:grpSpPr>
                <a:xfrm>
                  <a:off x="2494080" y="5451480"/>
                  <a:ext cx="476640" cy="297000"/>
                  <a:chOff x="2494080" y="5451480"/>
                  <a:chExt cx="476640" cy="297000"/>
                </a:xfrm>
              </p:grpSpPr>
              <p:grpSp>
                <p:nvGrpSpPr>
                  <p:cNvPr id="878" name=""/>
                  <p:cNvGrpSpPr/>
                  <p:nvPr/>
                </p:nvGrpSpPr>
                <p:grpSpPr>
                  <a:xfrm>
                    <a:off x="2494080" y="5451480"/>
                    <a:ext cx="476640" cy="144720"/>
                    <a:chOff x="2494080" y="5451480"/>
                    <a:chExt cx="476640" cy="144720"/>
                  </a:xfrm>
                </p:grpSpPr>
                <p:sp>
                  <p:nvSpPr>
                    <p:cNvPr id="879" name=""/>
                    <p:cNvSpPr/>
                    <p:nvPr/>
                  </p:nvSpPr>
                  <p:spPr>
                    <a:xfrm>
                      <a:off x="2494080" y="5452920"/>
                      <a:ext cx="476640" cy="1432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324" h="398">
                          <a:moveTo>
                            <a:pt x="1069" y="0"/>
                          </a:moveTo>
                          <a:lnTo>
                            <a:pt x="233" y="0"/>
                          </a:lnTo>
                          <a:lnTo>
                            <a:pt x="0" y="398"/>
                          </a:lnTo>
                          <a:lnTo>
                            <a:pt x="1324" y="398"/>
                          </a:lnTo>
                          <a:lnTo>
                            <a:pt x="1069" y="0"/>
                          </a:lnTo>
                          <a:close/>
                        </a:path>
                      </a:pathLst>
                    </a:custGeom>
                    <a:solidFill>
                      <a:srgbClr val="dfdff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0" name=""/>
                    <p:cNvSpPr/>
                    <p:nvPr/>
                  </p:nvSpPr>
                  <p:spPr>
                    <a:xfrm>
                      <a:off x="2727360" y="5451480"/>
                      <a:ext cx="243360" cy="1447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676" h="402">
                          <a:moveTo>
                            <a:pt x="419" y="4"/>
                          </a:moveTo>
                          <a:lnTo>
                            <a:pt x="4" y="0"/>
                          </a:lnTo>
                          <a:lnTo>
                            <a:pt x="0" y="402"/>
                          </a:lnTo>
                          <a:lnTo>
                            <a:pt x="676" y="402"/>
                          </a:lnTo>
                          <a:lnTo>
                            <a:pt x="419" y="4"/>
                          </a:lnTo>
                          <a:close/>
                        </a:path>
                      </a:pathLst>
                    </a:custGeom>
                    <a:solidFill>
                      <a:srgbClr val="bfbfd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1" name=""/>
                    <p:cNvSpPr/>
                    <p:nvPr/>
                  </p:nvSpPr>
                  <p:spPr>
                    <a:xfrm>
                      <a:off x="2832120" y="5451480"/>
                      <a:ext cx="138600" cy="1447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385" h="402">
                          <a:moveTo>
                            <a:pt x="128" y="4"/>
                          </a:moveTo>
                          <a:lnTo>
                            <a:pt x="0" y="0"/>
                          </a:lnTo>
                          <a:lnTo>
                            <a:pt x="4" y="402"/>
                          </a:lnTo>
                          <a:lnTo>
                            <a:pt x="385" y="402"/>
                          </a:lnTo>
                          <a:lnTo>
                            <a:pt x="128" y="4"/>
                          </a:lnTo>
                          <a:close/>
                        </a:path>
                      </a:pathLst>
                    </a:custGeom>
                    <a:solidFill>
                      <a:srgbClr val="9f9fb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2" name=""/>
                    <p:cNvSpPr/>
                    <p:nvPr/>
                  </p:nvSpPr>
                  <p:spPr>
                    <a:xfrm>
                      <a:off x="2494080" y="5452920"/>
                      <a:ext cx="133560" cy="1432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371" h="398">
                          <a:moveTo>
                            <a:pt x="371" y="0"/>
                          </a:moveTo>
                          <a:lnTo>
                            <a:pt x="234" y="0"/>
                          </a:lnTo>
                          <a:lnTo>
                            <a:pt x="0" y="398"/>
                          </a:lnTo>
                          <a:lnTo>
                            <a:pt x="371" y="398"/>
                          </a:lnTo>
                          <a:lnTo>
                            <a:pt x="371" y="0"/>
                          </a:lnTo>
                          <a:close/>
                        </a:path>
                      </a:pathLst>
                    </a:custGeom>
                    <a:solidFill>
                      <a:srgbClr val="9f9fb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83" name=""/>
                  <p:cNvGrpSpPr/>
                  <p:nvPr/>
                </p:nvGrpSpPr>
                <p:grpSpPr>
                  <a:xfrm>
                    <a:off x="2610000" y="5489640"/>
                    <a:ext cx="281160" cy="65520"/>
                    <a:chOff x="2610000" y="5489640"/>
                    <a:chExt cx="281160" cy="65520"/>
                  </a:xfrm>
                </p:grpSpPr>
                <p:sp>
                  <p:nvSpPr>
                    <p:cNvPr id="884" name=""/>
                    <p:cNvSpPr/>
                    <p:nvPr/>
                  </p:nvSpPr>
                  <p:spPr>
                    <a:xfrm>
                      <a:off x="2610000" y="5495760"/>
                      <a:ext cx="51120" cy="576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42" h="160">
                          <a:moveTo>
                            <a:pt x="142" y="160"/>
                          </a:moveTo>
                          <a:lnTo>
                            <a:pt x="142" y="0"/>
                          </a:lnTo>
                          <a:lnTo>
                            <a:pt x="0" y="0"/>
                          </a:lnTo>
                          <a:lnTo>
                            <a:pt x="0" y="160"/>
                          </a:lnTo>
                          <a:lnTo>
                            <a:pt x="142" y="160"/>
                          </a:lnTo>
                          <a:close/>
                        </a:path>
                      </a:pathLst>
                    </a:cu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6480" bIns="6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5" name=""/>
                    <p:cNvSpPr/>
                    <p:nvPr/>
                  </p:nvSpPr>
                  <p:spPr>
                    <a:xfrm>
                      <a:off x="2820960" y="5489640"/>
                      <a:ext cx="70200" cy="655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95" h="182">
                          <a:moveTo>
                            <a:pt x="195" y="182"/>
                          </a:moveTo>
                          <a:lnTo>
                            <a:pt x="98" y="0"/>
                          </a:lnTo>
                          <a:lnTo>
                            <a:pt x="0" y="0"/>
                          </a:lnTo>
                          <a:lnTo>
                            <a:pt x="88" y="182"/>
                          </a:lnTo>
                          <a:lnTo>
                            <a:pt x="195" y="182"/>
                          </a:lnTo>
                          <a:close/>
                        </a:path>
                      </a:pathLst>
                    </a:cu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14400" bIns="14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86" name=""/>
                  <p:cNvSpPr/>
                  <p:nvPr/>
                </p:nvSpPr>
                <p:spPr>
                  <a:xfrm>
                    <a:off x="2548080" y="5595840"/>
                    <a:ext cx="356040" cy="152640"/>
                  </a:xfrm>
                  <a:custGeom>
                    <a:avLst/>
                    <a:gdLst/>
                    <a:ahLst/>
                    <a:rect l="0" t="0" r="r" b="b"/>
                    <a:pathLst>
                      <a:path w="989" h="424">
                        <a:moveTo>
                          <a:pt x="154" y="0"/>
                        </a:moveTo>
                        <a:lnTo>
                          <a:pt x="0" y="424"/>
                        </a:lnTo>
                        <a:lnTo>
                          <a:pt x="989" y="424"/>
                        </a:lnTo>
                        <a:lnTo>
                          <a:pt x="861" y="0"/>
                        </a:lnTo>
                        <a:lnTo>
                          <a:pt x="154" y="0"/>
                        </a:lnTo>
                        <a:close/>
                      </a:path>
                    </a:pathLst>
                  </a:custGeom>
                  <a:solidFill>
                    <a:srgbClr val="9f9fb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7" name=""/>
                <p:cNvGrpSpPr/>
                <p:nvPr/>
              </p:nvGrpSpPr>
              <p:grpSpPr>
                <a:xfrm>
                  <a:off x="2568600" y="5153040"/>
                  <a:ext cx="315720" cy="304920"/>
                  <a:chOff x="2568600" y="5153040"/>
                  <a:chExt cx="315720" cy="304920"/>
                </a:xfrm>
              </p:grpSpPr>
              <p:grpSp>
                <p:nvGrpSpPr>
                  <p:cNvPr id="888" name=""/>
                  <p:cNvGrpSpPr/>
                  <p:nvPr/>
                </p:nvGrpSpPr>
                <p:grpSpPr>
                  <a:xfrm>
                    <a:off x="2568600" y="5154480"/>
                    <a:ext cx="314280" cy="303480"/>
                    <a:chOff x="2568600" y="5154480"/>
                    <a:chExt cx="314280" cy="303480"/>
                  </a:xfrm>
                </p:grpSpPr>
                <p:sp>
                  <p:nvSpPr>
                    <p:cNvPr id="889" name=""/>
                    <p:cNvSpPr/>
                    <p:nvPr/>
                  </p:nvSpPr>
                  <p:spPr>
                    <a:xfrm>
                      <a:off x="2568600" y="5154480"/>
                      <a:ext cx="314280" cy="106200"/>
                    </a:xfrm>
                    <a:prstGeom prst="rect">
                      <a:avLst/>
                    </a:prstGeom>
                    <a:solidFill>
                      <a:srgbClr val="9f9fb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0" name=""/>
                    <p:cNvSpPr/>
                    <p:nvPr/>
                  </p:nvSpPr>
                  <p:spPr>
                    <a:xfrm>
                      <a:off x="2568600" y="5248440"/>
                      <a:ext cx="314280" cy="108000"/>
                    </a:xfrm>
                    <a:prstGeom prst="rect">
                      <a:avLst/>
                    </a:prstGeom>
                    <a:solidFill>
                      <a:srgbClr val="9f9fb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1" name=""/>
                    <p:cNvSpPr/>
                    <p:nvPr/>
                  </p:nvSpPr>
                  <p:spPr>
                    <a:xfrm>
                      <a:off x="2568600" y="5343480"/>
                      <a:ext cx="314280" cy="114480"/>
                    </a:xfrm>
                    <a:prstGeom prst="rect">
                      <a:avLst/>
                    </a:prstGeom>
                    <a:solidFill>
                      <a:srgbClr val="9f9fb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92" name=""/>
                  <p:cNvGrpSpPr/>
                  <p:nvPr/>
                </p:nvGrpSpPr>
                <p:grpSpPr>
                  <a:xfrm>
                    <a:off x="2606760" y="5159520"/>
                    <a:ext cx="241200" cy="295200"/>
                    <a:chOff x="2606760" y="5159520"/>
                    <a:chExt cx="241200" cy="295200"/>
                  </a:xfrm>
                </p:grpSpPr>
                <p:sp>
                  <p:nvSpPr>
                    <p:cNvPr id="893" name=""/>
                    <p:cNvSpPr/>
                    <p:nvPr/>
                  </p:nvSpPr>
                  <p:spPr>
                    <a:xfrm>
                      <a:off x="2606760" y="5159520"/>
                      <a:ext cx="241200" cy="95400"/>
                    </a:xfrm>
                    <a:prstGeom prst="rect">
                      <a:avLst/>
                    </a:prstGeom>
                    <a:solidFill>
                      <a:srgbClr val="bfbfd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4" name=""/>
                    <p:cNvSpPr/>
                    <p:nvPr/>
                  </p:nvSpPr>
                  <p:spPr>
                    <a:xfrm>
                      <a:off x="2606760" y="5254560"/>
                      <a:ext cx="241200" cy="96840"/>
                    </a:xfrm>
                    <a:prstGeom prst="rect">
                      <a:avLst/>
                    </a:prstGeom>
                    <a:solidFill>
                      <a:srgbClr val="bfbfd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5" name=""/>
                    <p:cNvSpPr/>
                    <p:nvPr/>
                  </p:nvSpPr>
                  <p:spPr>
                    <a:xfrm>
                      <a:off x="2606760" y="5351400"/>
                      <a:ext cx="241200" cy="103320"/>
                    </a:xfrm>
                    <a:prstGeom prst="rect">
                      <a:avLst/>
                    </a:prstGeom>
                    <a:solidFill>
                      <a:srgbClr val="bfbfd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96" name=""/>
                  <p:cNvGrpSpPr/>
                  <p:nvPr/>
                </p:nvGrpSpPr>
                <p:grpSpPr>
                  <a:xfrm>
                    <a:off x="2625840" y="5159520"/>
                    <a:ext cx="101520" cy="295200"/>
                    <a:chOff x="2625840" y="5159520"/>
                    <a:chExt cx="101520" cy="295200"/>
                  </a:xfrm>
                </p:grpSpPr>
                <p:sp>
                  <p:nvSpPr>
                    <p:cNvPr id="897" name=""/>
                    <p:cNvSpPr/>
                    <p:nvPr/>
                  </p:nvSpPr>
                  <p:spPr>
                    <a:xfrm>
                      <a:off x="2625840" y="5159520"/>
                      <a:ext cx="101520" cy="95400"/>
                    </a:xfrm>
                    <a:prstGeom prst="rect">
                      <a:avLst/>
                    </a:prstGeom>
                    <a:solidFill>
                      <a:srgbClr val="dfd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8" name=""/>
                    <p:cNvSpPr/>
                    <p:nvPr/>
                  </p:nvSpPr>
                  <p:spPr>
                    <a:xfrm>
                      <a:off x="2625840" y="5254560"/>
                      <a:ext cx="101520" cy="96840"/>
                    </a:xfrm>
                    <a:prstGeom prst="rect">
                      <a:avLst/>
                    </a:prstGeom>
                    <a:solidFill>
                      <a:srgbClr val="dfd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9" name=""/>
                    <p:cNvSpPr/>
                    <p:nvPr/>
                  </p:nvSpPr>
                  <p:spPr>
                    <a:xfrm>
                      <a:off x="2625840" y="5351400"/>
                      <a:ext cx="101520" cy="103320"/>
                    </a:xfrm>
                    <a:prstGeom prst="rect">
                      <a:avLst/>
                    </a:prstGeom>
                    <a:solidFill>
                      <a:srgbClr val="dfd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00" name=""/>
                  <p:cNvGrpSpPr/>
                  <p:nvPr/>
                </p:nvGrpSpPr>
                <p:grpSpPr>
                  <a:xfrm>
                    <a:off x="2570040" y="5153040"/>
                    <a:ext cx="314280" cy="303480"/>
                    <a:chOff x="2570040" y="5153040"/>
                    <a:chExt cx="314280" cy="303480"/>
                  </a:xfrm>
                </p:grpSpPr>
                <p:sp>
                  <p:nvSpPr>
                    <p:cNvPr id="901" name=""/>
                    <p:cNvSpPr/>
                    <p:nvPr/>
                  </p:nvSpPr>
                  <p:spPr>
                    <a:xfrm>
                      <a:off x="2570040" y="5153040"/>
                      <a:ext cx="314280" cy="10620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2" name=""/>
                    <p:cNvSpPr/>
                    <p:nvPr/>
                  </p:nvSpPr>
                  <p:spPr>
                    <a:xfrm>
                      <a:off x="2570040" y="5246640"/>
                      <a:ext cx="314280" cy="10800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3" name=""/>
                    <p:cNvSpPr/>
                    <p:nvPr/>
                  </p:nvSpPr>
                  <p:spPr>
                    <a:xfrm>
                      <a:off x="2570040" y="5342040"/>
                      <a:ext cx="314280" cy="11448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904" name=""/>
              <p:cNvGrpSpPr/>
              <p:nvPr/>
            </p:nvGrpSpPr>
            <p:grpSpPr>
              <a:xfrm>
                <a:off x="2281320" y="3286080"/>
                <a:ext cx="871920" cy="1876680"/>
                <a:chOff x="2281320" y="3286080"/>
                <a:chExt cx="871920" cy="1876680"/>
              </a:xfrm>
            </p:grpSpPr>
            <p:sp>
              <p:nvSpPr>
                <p:cNvPr id="905" name=""/>
                <p:cNvSpPr/>
                <p:nvPr/>
              </p:nvSpPr>
              <p:spPr>
                <a:xfrm>
                  <a:off x="2281320" y="3286080"/>
                  <a:ext cx="871920" cy="1876680"/>
                </a:xfrm>
                <a:custGeom>
                  <a:avLst/>
                  <a:gdLst/>
                  <a:ahLst/>
                  <a:rect l="0" t="0" r="r" b="b"/>
                  <a:pathLst>
                    <a:path w="2422" h="5213">
                      <a:moveTo>
                        <a:pt x="524" y="5213"/>
                      </a:moveTo>
                      <a:lnTo>
                        <a:pt x="0" y="5213"/>
                      </a:lnTo>
                      <a:lnTo>
                        <a:pt x="0" y="224"/>
                      </a:lnTo>
                      <a:lnTo>
                        <a:pt x="524" y="0"/>
                      </a:lnTo>
                      <a:lnTo>
                        <a:pt x="577" y="330"/>
                      </a:lnTo>
                      <a:lnTo>
                        <a:pt x="631" y="648"/>
                      </a:lnTo>
                      <a:lnTo>
                        <a:pt x="675" y="992"/>
                      </a:lnTo>
                      <a:lnTo>
                        <a:pt x="715" y="1278"/>
                      </a:lnTo>
                      <a:lnTo>
                        <a:pt x="759" y="1658"/>
                      </a:lnTo>
                      <a:lnTo>
                        <a:pt x="790" y="1953"/>
                      </a:lnTo>
                      <a:lnTo>
                        <a:pt x="816" y="2121"/>
                      </a:lnTo>
                      <a:lnTo>
                        <a:pt x="852" y="2310"/>
                      </a:lnTo>
                      <a:lnTo>
                        <a:pt x="891" y="2456"/>
                      </a:lnTo>
                      <a:lnTo>
                        <a:pt x="935" y="2579"/>
                      </a:lnTo>
                      <a:lnTo>
                        <a:pt x="984" y="2668"/>
                      </a:lnTo>
                      <a:lnTo>
                        <a:pt x="1028" y="2752"/>
                      </a:lnTo>
                      <a:lnTo>
                        <a:pt x="1076" y="2827"/>
                      </a:lnTo>
                      <a:lnTo>
                        <a:pt x="1169" y="2946"/>
                      </a:lnTo>
                      <a:lnTo>
                        <a:pt x="1275" y="3065"/>
                      </a:lnTo>
                      <a:lnTo>
                        <a:pt x="1434" y="3220"/>
                      </a:lnTo>
                      <a:lnTo>
                        <a:pt x="1641" y="3444"/>
                      </a:lnTo>
                      <a:lnTo>
                        <a:pt x="1867" y="3669"/>
                      </a:lnTo>
                      <a:lnTo>
                        <a:pt x="2026" y="3815"/>
                      </a:lnTo>
                      <a:lnTo>
                        <a:pt x="2078" y="3881"/>
                      </a:lnTo>
                      <a:lnTo>
                        <a:pt x="2167" y="3974"/>
                      </a:lnTo>
                      <a:lnTo>
                        <a:pt x="2250" y="4093"/>
                      </a:lnTo>
                      <a:lnTo>
                        <a:pt x="2299" y="4190"/>
                      </a:lnTo>
                      <a:lnTo>
                        <a:pt x="2343" y="4318"/>
                      </a:lnTo>
                      <a:lnTo>
                        <a:pt x="2383" y="4503"/>
                      </a:lnTo>
                      <a:lnTo>
                        <a:pt x="2409" y="4754"/>
                      </a:lnTo>
                      <a:lnTo>
                        <a:pt x="2422" y="4979"/>
                      </a:lnTo>
                      <a:lnTo>
                        <a:pt x="524" y="521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06" name=""/>
                <p:cNvGrpSpPr/>
                <p:nvPr/>
              </p:nvGrpSpPr>
              <p:grpSpPr>
                <a:xfrm>
                  <a:off x="2481120" y="3900600"/>
                  <a:ext cx="663840" cy="1214640"/>
                  <a:chOff x="2481120" y="3900600"/>
                  <a:chExt cx="663840" cy="1214640"/>
                </a:xfrm>
              </p:grpSpPr>
              <p:grpSp>
                <p:nvGrpSpPr>
                  <p:cNvPr id="907" name=""/>
                  <p:cNvGrpSpPr/>
                  <p:nvPr/>
                </p:nvGrpSpPr>
                <p:grpSpPr>
                  <a:xfrm>
                    <a:off x="2481120" y="3903840"/>
                    <a:ext cx="663840" cy="1211400"/>
                    <a:chOff x="2481120" y="3903840"/>
                    <a:chExt cx="663840" cy="1211400"/>
                  </a:xfrm>
                </p:grpSpPr>
                <p:grpSp>
                  <p:nvGrpSpPr>
                    <p:cNvPr id="908" name=""/>
                    <p:cNvGrpSpPr/>
                    <p:nvPr/>
                  </p:nvGrpSpPr>
                  <p:grpSpPr>
                    <a:xfrm>
                      <a:off x="2484360" y="3903840"/>
                      <a:ext cx="649440" cy="1027080"/>
                      <a:chOff x="2484360" y="3903840"/>
                      <a:chExt cx="649440" cy="1027080"/>
                    </a:xfrm>
                  </p:grpSpPr>
                  <p:sp>
                    <p:nvSpPr>
                      <p:cNvPr id="909" name=""/>
                      <p:cNvSpPr/>
                      <p:nvPr/>
                    </p:nvSpPr>
                    <p:spPr>
                      <a:xfrm flipH="1">
                        <a:off x="2484360" y="4930920"/>
                        <a:ext cx="64476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6120" rIns="96120" tIns="-51120" bIns="-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10" name=""/>
                      <p:cNvSpPr/>
                      <p:nvPr/>
                    </p:nvSpPr>
                    <p:spPr>
                      <a:xfrm flipH="1">
                        <a:off x="2489040" y="4911840"/>
                        <a:ext cx="64476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6120" rIns="96120" tIns="-51120" bIns="-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11" name=""/>
                      <p:cNvSpPr/>
                      <p:nvPr/>
                    </p:nvSpPr>
                    <p:spPr>
                      <a:xfrm flipH="1">
                        <a:off x="2489040" y="4892760"/>
                        <a:ext cx="64476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6120" rIns="96120" tIns="-51120" bIns="-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12" name=""/>
                      <p:cNvSpPr/>
                      <p:nvPr/>
                    </p:nvSpPr>
                    <p:spPr>
                      <a:xfrm>
                        <a:off x="2519280" y="3903840"/>
                        <a:ext cx="568800" cy="98604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fill="none" w="1580" h="2739">
                            <a:moveTo>
                              <a:pt x="1580" y="2739"/>
                            </a:moveTo>
                            <a:lnTo>
                              <a:pt x="1554" y="2620"/>
                            </a:lnTo>
                            <a:lnTo>
                              <a:pt x="1523" y="2518"/>
                            </a:lnTo>
                            <a:lnTo>
                              <a:pt x="1488" y="2439"/>
                            </a:lnTo>
                            <a:lnTo>
                              <a:pt x="1443" y="2360"/>
                            </a:lnTo>
                            <a:lnTo>
                              <a:pt x="1391" y="2280"/>
                            </a:lnTo>
                            <a:lnTo>
                              <a:pt x="1316" y="2201"/>
                            </a:lnTo>
                            <a:lnTo>
                              <a:pt x="1223" y="2095"/>
                            </a:lnTo>
                            <a:lnTo>
                              <a:pt x="1112" y="1989"/>
                            </a:lnTo>
                            <a:lnTo>
                              <a:pt x="993" y="1879"/>
                            </a:lnTo>
                            <a:lnTo>
                              <a:pt x="856" y="1738"/>
                            </a:lnTo>
                            <a:lnTo>
                              <a:pt x="719" y="1592"/>
                            </a:lnTo>
                            <a:lnTo>
                              <a:pt x="605" y="1473"/>
                            </a:lnTo>
                            <a:lnTo>
                              <a:pt x="499" y="1372"/>
                            </a:lnTo>
                            <a:lnTo>
                              <a:pt x="415" y="1278"/>
                            </a:lnTo>
                            <a:lnTo>
                              <a:pt x="366" y="1212"/>
                            </a:lnTo>
                            <a:lnTo>
                              <a:pt x="308" y="1146"/>
                            </a:lnTo>
                            <a:lnTo>
                              <a:pt x="268" y="1084"/>
                            </a:lnTo>
                            <a:lnTo>
                              <a:pt x="220" y="1001"/>
                            </a:lnTo>
                            <a:lnTo>
                              <a:pt x="171" y="908"/>
                            </a:lnTo>
                            <a:lnTo>
                              <a:pt x="136" y="806"/>
                            </a:lnTo>
                            <a:lnTo>
                              <a:pt x="101" y="692"/>
                            </a:lnTo>
                            <a:lnTo>
                              <a:pt x="70" y="573"/>
                            </a:lnTo>
                            <a:lnTo>
                              <a:pt x="48" y="440"/>
                            </a:lnTo>
                            <a:lnTo>
                              <a:pt x="30" y="308"/>
                            </a:lnTo>
                            <a:lnTo>
                              <a:pt x="13" y="180"/>
                            </a:lnTo>
                            <a:lnTo>
                              <a:pt x="0" y="61"/>
                            </a:lnTo>
                            <a:lnTo>
                              <a:pt x="4" y="0"/>
                            </a:lnTo>
                          </a:path>
                        </a:pathLst>
                      </a:custGeom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13" name=""/>
                    <p:cNvSpPr/>
                    <p:nvPr/>
                  </p:nvSpPr>
                  <p:spPr>
                    <a:xfrm>
                      <a:off x="2481120" y="4935600"/>
                      <a:ext cx="663840" cy="338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fill="none" w="1844" h="94">
                          <a:moveTo>
                            <a:pt x="1844" y="0"/>
                          </a:moveTo>
                          <a:lnTo>
                            <a:pt x="1844" y="94"/>
                          </a:lnTo>
                          <a:lnTo>
                            <a:pt x="0" y="94"/>
                          </a:lnTo>
                        </a:path>
                      </a:pathLst>
                    </a:custGeom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-17280" bIns="-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4" name=""/>
                    <p:cNvSpPr/>
                    <p:nvPr/>
                  </p:nvSpPr>
                  <p:spPr>
                    <a:xfrm>
                      <a:off x="2847960" y="4935600"/>
                      <a:ext cx="20880" cy="1796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8" h="499">
                          <a:moveTo>
                            <a:pt x="58" y="486"/>
                          </a:moveTo>
                          <a:lnTo>
                            <a:pt x="58" y="0"/>
                          </a:lnTo>
                          <a:lnTo>
                            <a:pt x="0" y="0"/>
                          </a:lnTo>
                          <a:lnTo>
                            <a:pt x="0" y="499"/>
                          </a:lnTo>
                          <a:lnTo>
                            <a:pt x="58" y="48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15" name=""/>
                  <p:cNvSpPr/>
                  <p:nvPr/>
                </p:nvSpPr>
                <p:spPr>
                  <a:xfrm flipH="1">
                    <a:off x="2482920" y="3900600"/>
                    <a:ext cx="63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16" name=""/>
              <p:cNvGrpSpPr/>
              <p:nvPr/>
            </p:nvGrpSpPr>
            <p:grpSpPr>
              <a:xfrm>
                <a:off x="2327400" y="4822920"/>
                <a:ext cx="248040" cy="509760"/>
                <a:chOff x="2327400" y="4822920"/>
                <a:chExt cx="248040" cy="509760"/>
              </a:xfrm>
            </p:grpSpPr>
            <p:grpSp>
              <p:nvGrpSpPr>
                <p:cNvPr id="917" name=""/>
                <p:cNvGrpSpPr/>
                <p:nvPr/>
              </p:nvGrpSpPr>
              <p:grpSpPr>
                <a:xfrm>
                  <a:off x="2352600" y="5167440"/>
                  <a:ext cx="162000" cy="165240"/>
                  <a:chOff x="2352600" y="5167440"/>
                  <a:chExt cx="162000" cy="165240"/>
                </a:xfrm>
              </p:grpSpPr>
              <p:sp>
                <p:nvSpPr>
                  <p:cNvPr id="918" name=""/>
                  <p:cNvSpPr/>
                  <p:nvPr/>
                </p:nvSpPr>
                <p:spPr>
                  <a:xfrm>
                    <a:off x="2360520" y="5167440"/>
                    <a:ext cx="147960" cy="135360"/>
                  </a:xfrm>
                  <a:custGeom>
                    <a:avLst/>
                    <a:gdLst/>
                    <a:ahLst/>
                    <a:rect l="0" t="0" r="r" b="b"/>
                    <a:pathLst>
                      <a:path w="411" h="376">
                        <a:moveTo>
                          <a:pt x="411" y="376"/>
                        </a:moveTo>
                        <a:lnTo>
                          <a:pt x="331" y="0"/>
                        </a:lnTo>
                        <a:lnTo>
                          <a:pt x="79" y="0"/>
                        </a:lnTo>
                        <a:lnTo>
                          <a:pt x="0" y="376"/>
                        </a:lnTo>
                        <a:lnTo>
                          <a:pt x="411" y="376"/>
                        </a:lnTo>
                        <a:close/>
                      </a:path>
                    </a:pathLst>
                  </a:custGeom>
                  <a:solidFill>
                    <a:srgbClr val="9f9fb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>
                    <a:off x="2352600" y="5275440"/>
                    <a:ext cx="162000" cy="57240"/>
                  </a:xfrm>
                  <a:prstGeom prst="ellipse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0" name=""/>
                <p:cNvGrpSpPr/>
                <p:nvPr/>
              </p:nvGrpSpPr>
              <p:grpSpPr>
                <a:xfrm>
                  <a:off x="2333520" y="5149800"/>
                  <a:ext cx="111240" cy="146160"/>
                  <a:chOff x="2333520" y="5149800"/>
                  <a:chExt cx="111240" cy="146160"/>
                </a:xfrm>
              </p:grpSpPr>
              <p:sp>
                <p:nvSpPr>
                  <p:cNvPr id="921" name=""/>
                  <p:cNvSpPr/>
                  <p:nvPr/>
                </p:nvSpPr>
                <p:spPr>
                  <a:xfrm>
                    <a:off x="2333520" y="5149800"/>
                    <a:ext cx="111240" cy="123840"/>
                  </a:xfrm>
                  <a:prstGeom prst="rect">
                    <a:avLst/>
                  </a:prstGeom>
                  <a:solidFill>
                    <a:srgbClr val="dfd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2" name=""/>
                  <p:cNvSpPr/>
                  <p:nvPr/>
                </p:nvSpPr>
                <p:spPr>
                  <a:xfrm>
                    <a:off x="2333520" y="5175360"/>
                    <a:ext cx="111240" cy="38160"/>
                  </a:xfrm>
                  <a:prstGeom prst="ellipse">
                    <a:avLst/>
                  </a:prstGeom>
                  <a:solidFill>
                    <a:srgbClr val="dfd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2960" bIns="-12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23" name=""/>
                  <p:cNvGrpSpPr/>
                  <p:nvPr/>
                </p:nvGrpSpPr>
                <p:grpSpPr>
                  <a:xfrm>
                    <a:off x="2333520" y="5195880"/>
                    <a:ext cx="111240" cy="77760"/>
                    <a:chOff x="2333520" y="5195880"/>
                    <a:chExt cx="111240" cy="77760"/>
                  </a:xfrm>
                </p:grpSpPr>
                <p:sp>
                  <p:nvSpPr>
                    <p:cNvPr id="924" name=""/>
                    <p:cNvSpPr/>
                    <p:nvPr/>
                  </p:nvSpPr>
                  <p:spPr>
                    <a:xfrm>
                      <a:off x="2333520" y="5195880"/>
                      <a:ext cx="111240" cy="38160"/>
                    </a:xfrm>
                    <a:prstGeom prst="ellipse">
                      <a:avLst/>
                    </a:prstGeom>
                    <a:solidFill>
                      <a:srgbClr val="bfbfd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-12960" bIns="-12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5" name=""/>
                    <p:cNvSpPr/>
                    <p:nvPr/>
                  </p:nvSpPr>
                  <p:spPr>
                    <a:xfrm>
                      <a:off x="2333520" y="5216400"/>
                      <a:ext cx="111240" cy="38160"/>
                    </a:xfrm>
                    <a:prstGeom prst="ellipse">
                      <a:avLst/>
                    </a:prstGeom>
                    <a:solidFill>
                      <a:srgbClr val="dfdff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-12960" bIns="-12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6" name=""/>
                    <p:cNvSpPr/>
                    <p:nvPr/>
                  </p:nvSpPr>
                  <p:spPr>
                    <a:xfrm>
                      <a:off x="2333520" y="5235480"/>
                      <a:ext cx="111240" cy="38160"/>
                    </a:xfrm>
                    <a:prstGeom prst="ellipse">
                      <a:avLst/>
                    </a:prstGeom>
                    <a:solidFill>
                      <a:srgbClr val="bfbfd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-12960" bIns="-12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27" name=""/>
                  <p:cNvSpPr/>
                  <p:nvPr/>
                </p:nvSpPr>
                <p:spPr>
                  <a:xfrm>
                    <a:off x="2333520" y="5257800"/>
                    <a:ext cx="111240" cy="38160"/>
                  </a:xfrm>
                  <a:prstGeom prst="ellipse">
                    <a:avLst/>
                  </a:prstGeom>
                  <a:solidFill>
                    <a:srgbClr val="5f5f7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2960" bIns="-12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8" name=""/>
                <p:cNvGrpSpPr/>
                <p:nvPr/>
              </p:nvGrpSpPr>
              <p:grpSpPr>
                <a:xfrm>
                  <a:off x="2454120" y="5149800"/>
                  <a:ext cx="111240" cy="146160"/>
                  <a:chOff x="2454120" y="5149800"/>
                  <a:chExt cx="111240" cy="146160"/>
                </a:xfrm>
              </p:grpSpPr>
              <p:sp>
                <p:nvSpPr>
                  <p:cNvPr id="929" name=""/>
                  <p:cNvSpPr/>
                  <p:nvPr/>
                </p:nvSpPr>
                <p:spPr>
                  <a:xfrm>
                    <a:off x="2454120" y="5149800"/>
                    <a:ext cx="111240" cy="123840"/>
                  </a:xfrm>
                  <a:prstGeom prst="rect">
                    <a:avLst/>
                  </a:prstGeom>
                  <a:solidFill>
                    <a:srgbClr val="dfd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>
                    <a:off x="2454120" y="5175360"/>
                    <a:ext cx="111240" cy="38160"/>
                  </a:xfrm>
                  <a:prstGeom prst="ellipse">
                    <a:avLst/>
                  </a:prstGeom>
                  <a:solidFill>
                    <a:srgbClr val="dfd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2960" bIns="-12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31" name=""/>
                  <p:cNvGrpSpPr/>
                  <p:nvPr/>
                </p:nvGrpSpPr>
                <p:grpSpPr>
                  <a:xfrm>
                    <a:off x="2454120" y="5195880"/>
                    <a:ext cx="111240" cy="77760"/>
                    <a:chOff x="2454120" y="5195880"/>
                    <a:chExt cx="111240" cy="77760"/>
                  </a:xfrm>
                </p:grpSpPr>
                <p:sp>
                  <p:nvSpPr>
                    <p:cNvPr id="932" name=""/>
                    <p:cNvSpPr/>
                    <p:nvPr/>
                  </p:nvSpPr>
                  <p:spPr>
                    <a:xfrm>
                      <a:off x="2454120" y="5195880"/>
                      <a:ext cx="111240" cy="38160"/>
                    </a:xfrm>
                    <a:prstGeom prst="ellipse">
                      <a:avLst/>
                    </a:prstGeom>
                    <a:solidFill>
                      <a:srgbClr val="bfbfd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-12960" bIns="-12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3" name=""/>
                    <p:cNvSpPr/>
                    <p:nvPr/>
                  </p:nvSpPr>
                  <p:spPr>
                    <a:xfrm>
                      <a:off x="2454120" y="5216400"/>
                      <a:ext cx="111240" cy="38160"/>
                    </a:xfrm>
                    <a:prstGeom prst="ellipse">
                      <a:avLst/>
                    </a:prstGeom>
                    <a:solidFill>
                      <a:srgbClr val="dfdff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-12960" bIns="-12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" name=""/>
                    <p:cNvSpPr/>
                    <p:nvPr/>
                  </p:nvSpPr>
                  <p:spPr>
                    <a:xfrm>
                      <a:off x="2454120" y="5235480"/>
                      <a:ext cx="111240" cy="38160"/>
                    </a:xfrm>
                    <a:prstGeom prst="ellipse">
                      <a:avLst/>
                    </a:prstGeom>
                    <a:solidFill>
                      <a:srgbClr val="bfbfd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-12960" bIns="-12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35" name=""/>
                  <p:cNvSpPr/>
                  <p:nvPr/>
                </p:nvSpPr>
                <p:spPr>
                  <a:xfrm>
                    <a:off x="2454120" y="5257800"/>
                    <a:ext cx="111240" cy="38160"/>
                  </a:xfrm>
                  <a:prstGeom prst="ellipse">
                    <a:avLst/>
                  </a:prstGeom>
                  <a:solidFill>
                    <a:srgbClr val="5f5f7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2960" bIns="-12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6" name=""/>
                <p:cNvGrpSpPr/>
                <p:nvPr/>
              </p:nvGrpSpPr>
              <p:grpSpPr>
                <a:xfrm>
                  <a:off x="2327400" y="4822920"/>
                  <a:ext cx="248040" cy="348120"/>
                  <a:chOff x="2327400" y="4822920"/>
                  <a:chExt cx="248040" cy="348120"/>
                </a:xfrm>
              </p:grpSpPr>
              <p:sp>
                <p:nvSpPr>
                  <p:cNvPr id="937" name=""/>
                  <p:cNvSpPr/>
                  <p:nvPr/>
                </p:nvSpPr>
                <p:spPr>
                  <a:xfrm>
                    <a:off x="2328840" y="4822920"/>
                    <a:ext cx="246600" cy="348120"/>
                  </a:xfrm>
                  <a:custGeom>
                    <a:avLst/>
                    <a:gdLst/>
                    <a:ahLst/>
                    <a:rect l="0" t="0" r="r" b="b"/>
                    <a:pathLst>
                      <a:path w="685" h="967">
                        <a:moveTo>
                          <a:pt x="685" y="967"/>
                        </a:moveTo>
                        <a:lnTo>
                          <a:pt x="0" y="967"/>
                        </a:lnTo>
                        <a:lnTo>
                          <a:pt x="0" y="888"/>
                        </a:lnTo>
                        <a:lnTo>
                          <a:pt x="0" y="795"/>
                        </a:lnTo>
                        <a:lnTo>
                          <a:pt x="4" y="729"/>
                        </a:lnTo>
                        <a:lnTo>
                          <a:pt x="8" y="658"/>
                        </a:lnTo>
                        <a:lnTo>
                          <a:pt x="17" y="583"/>
                        </a:lnTo>
                        <a:lnTo>
                          <a:pt x="30" y="494"/>
                        </a:lnTo>
                        <a:lnTo>
                          <a:pt x="48" y="419"/>
                        </a:lnTo>
                        <a:lnTo>
                          <a:pt x="66" y="349"/>
                        </a:lnTo>
                        <a:lnTo>
                          <a:pt x="88" y="283"/>
                        </a:lnTo>
                        <a:lnTo>
                          <a:pt x="105" y="224"/>
                        </a:lnTo>
                        <a:lnTo>
                          <a:pt x="136" y="158"/>
                        </a:lnTo>
                        <a:lnTo>
                          <a:pt x="163" y="114"/>
                        </a:lnTo>
                        <a:lnTo>
                          <a:pt x="190" y="83"/>
                        </a:lnTo>
                        <a:lnTo>
                          <a:pt x="221" y="52"/>
                        </a:lnTo>
                        <a:lnTo>
                          <a:pt x="247" y="30"/>
                        </a:lnTo>
                        <a:lnTo>
                          <a:pt x="278" y="13"/>
                        </a:lnTo>
                        <a:lnTo>
                          <a:pt x="296" y="4"/>
                        </a:lnTo>
                        <a:lnTo>
                          <a:pt x="327" y="0"/>
                        </a:lnTo>
                        <a:lnTo>
                          <a:pt x="358" y="4"/>
                        </a:lnTo>
                        <a:lnTo>
                          <a:pt x="393" y="13"/>
                        </a:lnTo>
                        <a:lnTo>
                          <a:pt x="437" y="39"/>
                        </a:lnTo>
                        <a:lnTo>
                          <a:pt x="481" y="79"/>
                        </a:lnTo>
                        <a:lnTo>
                          <a:pt x="517" y="123"/>
                        </a:lnTo>
                        <a:lnTo>
                          <a:pt x="548" y="171"/>
                        </a:lnTo>
                        <a:lnTo>
                          <a:pt x="579" y="233"/>
                        </a:lnTo>
                        <a:lnTo>
                          <a:pt x="601" y="287"/>
                        </a:lnTo>
                        <a:lnTo>
                          <a:pt x="619" y="340"/>
                        </a:lnTo>
                        <a:lnTo>
                          <a:pt x="641" y="419"/>
                        </a:lnTo>
                        <a:lnTo>
                          <a:pt x="659" y="494"/>
                        </a:lnTo>
                        <a:lnTo>
                          <a:pt x="672" y="569"/>
                        </a:lnTo>
                        <a:lnTo>
                          <a:pt x="681" y="631"/>
                        </a:lnTo>
                        <a:lnTo>
                          <a:pt x="685" y="706"/>
                        </a:lnTo>
                        <a:lnTo>
                          <a:pt x="685" y="800"/>
                        </a:lnTo>
                        <a:lnTo>
                          <a:pt x="685" y="967"/>
                        </a:lnTo>
                        <a:close/>
                      </a:path>
                    </a:pathLst>
                  </a:custGeom>
                  <a:solidFill>
                    <a:srgbClr val="dfd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>
                    <a:off x="2374920" y="4822920"/>
                    <a:ext cx="122760" cy="348120"/>
                  </a:xfrm>
                  <a:custGeom>
                    <a:avLst/>
                    <a:gdLst/>
                    <a:ahLst/>
                    <a:rect l="0" t="0" r="r" b="b"/>
                    <a:pathLst>
                      <a:path w="341" h="967">
                        <a:moveTo>
                          <a:pt x="341" y="967"/>
                        </a:moveTo>
                        <a:lnTo>
                          <a:pt x="0" y="967"/>
                        </a:lnTo>
                        <a:lnTo>
                          <a:pt x="0" y="888"/>
                        </a:lnTo>
                        <a:lnTo>
                          <a:pt x="0" y="795"/>
                        </a:lnTo>
                        <a:lnTo>
                          <a:pt x="0" y="729"/>
                        </a:lnTo>
                        <a:lnTo>
                          <a:pt x="4" y="658"/>
                        </a:lnTo>
                        <a:lnTo>
                          <a:pt x="8" y="583"/>
                        </a:lnTo>
                        <a:lnTo>
                          <a:pt x="13" y="494"/>
                        </a:lnTo>
                        <a:lnTo>
                          <a:pt x="22" y="419"/>
                        </a:lnTo>
                        <a:lnTo>
                          <a:pt x="30" y="349"/>
                        </a:lnTo>
                        <a:lnTo>
                          <a:pt x="44" y="283"/>
                        </a:lnTo>
                        <a:lnTo>
                          <a:pt x="52" y="224"/>
                        </a:lnTo>
                        <a:lnTo>
                          <a:pt x="66" y="158"/>
                        </a:lnTo>
                        <a:lnTo>
                          <a:pt x="79" y="114"/>
                        </a:lnTo>
                        <a:lnTo>
                          <a:pt x="93" y="83"/>
                        </a:lnTo>
                        <a:lnTo>
                          <a:pt x="111" y="52"/>
                        </a:lnTo>
                        <a:lnTo>
                          <a:pt x="124" y="30"/>
                        </a:lnTo>
                        <a:lnTo>
                          <a:pt x="137" y="13"/>
                        </a:lnTo>
                        <a:lnTo>
                          <a:pt x="146" y="4"/>
                        </a:lnTo>
                        <a:lnTo>
                          <a:pt x="164" y="0"/>
                        </a:lnTo>
                        <a:lnTo>
                          <a:pt x="177" y="4"/>
                        </a:lnTo>
                        <a:lnTo>
                          <a:pt x="195" y="13"/>
                        </a:lnTo>
                        <a:lnTo>
                          <a:pt x="217" y="39"/>
                        </a:lnTo>
                        <a:lnTo>
                          <a:pt x="239" y="79"/>
                        </a:lnTo>
                        <a:lnTo>
                          <a:pt x="257" y="123"/>
                        </a:lnTo>
                        <a:lnTo>
                          <a:pt x="275" y="171"/>
                        </a:lnTo>
                        <a:lnTo>
                          <a:pt x="288" y="233"/>
                        </a:lnTo>
                        <a:lnTo>
                          <a:pt x="301" y="287"/>
                        </a:lnTo>
                        <a:lnTo>
                          <a:pt x="310" y="340"/>
                        </a:lnTo>
                        <a:lnTo>
                          <a:pt x="319" y="419"/>
                        </a:lnTo>
                        <a:lnTo>
                          <a:pt x="328" y="494"/>
                        </a:lnTo>
                        <a:lnTo>
                          <a:pt x="337" y="569"/>
                        </a:lnTo>
                        <a:lnTo>
                          <a:pt x="341" y="631"/>
                        </a:lnTo>
                        <a:lnTo>
                          <a:pt x="341" y="706"/>
                        </a:lnTo>
                        <a:lnTo>
                          <a:pt x="341" y="800"/>
                        </a:lnTo>
                        <a:lnTo>
                          <a:pt x="341" y="96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9" name=""/>
                  <p:cNvSpPr/>
                  <p:nvPr/>
                </p:nvSpPr>
                <p:spPr>
                  <a:xfrm>
                    <a:off x="2327400" y="4822920"/>
                    <a:ext cx="248040" cy="3481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689" h="967">
                        <a:moveTo>
                          <a:pt x="685" y="967"/>
                        </a:moveTo>
                        <a:lnTo>
                          <a:pt x="0" y="967"/>
                        </a:lnTo>
                        <a:lnTo>
                          <a:pt x="0" y="888"/>
                        </a:lnTo>
                        <a:lnTo>
                          <a:pt x="0" y="795"/>
                        </a:lnTo>
                        <a:lnTo>
                          <a:pt x="4" y="729"/>
                        </a:lnTo>
                        <a:lnTo>
                          <a:pt x="8" y="658"/>
                        </a:lnTo>
                        <a:lnTo>
                          <a:pt x="17" y="583"/>
                        </a:lnTo>
                        <a:lnTo>
                          <a:pt x="30" y="494"/>
                        </a:lnTo>
                        <a:lnTo>
                          <a:pt x="48" y="419"/>
                        </a:lnTo>
                        <a:lnTo>
                          <a:pt x="66" y="349"/>
                        </a:lnTo>
                        <a:lnTo>
                          <a:pt x="88" y="283"/>
                        </a:lnTo>
                        <a:lnTo>
                          <a:pt x="105" y="224"/>
                        </a:lnTo>
                        <a:lnTo>
                          <a:pt x="136" y="158"/>
                        </a:lnTo>
                        <a:lnTo>
                          <a:pt x="163" y="114"/>
                        </a:lnTo>
                        <a:lnTo>
                          <a:pt x="190" y="83"/>
                        </a:lnTo>
                        <a:lnTo>
                          <a:pt x="221" y="52"/>
                        </a:lnTo>
                        <a:lnTo>
                          <a:pt x="247" y="30"/>
                        </a:lnTo>
                        <a:lnTo>
                          <a:pt x="278" y="13"/>
                        </a:lnTo>
                        <a:lnTo>
                          <a:pt x="296" y="4"/>
                        </a:lnTo>
                        <a:lnTo>
                          <a:pt x="327" y="0"/>
                        </a:lnTo>
                        <a:lnTo>
                          <a:pt x="358" y="4"/>
                        </a:lnTo>
                        <a:lnTo>
                          <a:pt x="393" y="13"/>
                        </a:lnTo>
                        <a:lnTo>
                          <a:pt x="437" y="39"/>
                        </a:lnTo>
                        <a:lnTo>
                          <a:pt x="481" y="79"/>
                        </a:lnTo>
                        <a:lnTo>
                          <a:pt x="516" y="123"/>
                        </a:lnTo>
                        <a:lnTo>
                          <a:pt x="548" y="171"/>
                        </a:lnTo>
                        <a:lnTo>
                          <a:pt x="579" y="233"/>
                        </a:lnTo>
                        <a:lnTo>
                          <a:pt x="601" y="287"/>
                        </a:lnTo>
                        <a:lnTo>
                          <a:pt x="619" y="340"/>
                        </a:lnTo>
                        <a:lnTo>
                          <a:pt x="641" y="419"/>
                        </a:lnTo>
                        <a:lnTo>
                          <a:pt x="659" y="494"/>
                        </a:lnTo>
                        <a:lnTo>
                          <a:pt x="672" y="569"/>
                        </a:lnTo>
                        <a:lnTo>
                          <a:pt x="681" y="631"/>
                        </a:lnTo>
                        <a:lnTo>
                          <a:pt x="685" y="706"/>
                        </a:lnTo>
                        <a:lnTo>
                          <a:pt x="689" y="800"/>
                        </a:lnTo>
                        <a:lnTo>
                          <a:pt x="685" y="967"/>
                        </a:lnTo>
                      </a:path>
                    </a:pathLst>
                  </a:custGeom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40" name=""/>
              <p:cNvSpPr/>
              <p:nvPr/>
            </p:nvSpPr>
            <p:spPr>
              <a:xfrm>
                <a:off x="2239920" y="4822920"/>
                <a:ext cx="84240" cy="611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2082960" y="3492360"/>
                <a:ext cx="398880" cy="1319400"/>
              </a:xfrm>
              <a:custGeom>
                <a:avLst/>
                <a:gdLst/>
                <a:ahLst/>
                <a:rect l="0" t="0" r="r" b="b"/>
                <a:pathLst>
                  <a:path w="1108" h="3665">
                    <a:moveTo>
                      <a:pt x="1108" y="3665"/>
                    </a:moveTo>
                    <a:lnTo>
                      <a:pt x="1108" y="0"/>
                    </a:lnTo>
                    <a:lnTo>
                      <a:pt x="0" y="0"/>
                    </a:lnTo>
                    <a:lnTo>
                      <a:pt x="0" y="3665"/>
                    </a:lnTo>
                    <a:lnTo>
                      <a:pt x="1108" y="3665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 flipV="1">
                <a:off x="2281320" y="3495600"/>
                <a:ext cx="0" cy="1316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flipH="1">
                <a:off x="2087640" y="4502160"/>
                <a:ext cx="38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flipH="1">
                <a:off x="2092320" y="4167360"/>
                <a:ext cx="38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 flipH="1">
                <a:off x="2082960" y="3840120"/>
                <a:ext cx="38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 flipH="1">
                <a:off x="2082960" y="4772160"/>
                <a:ext cx="38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47" name=""/>
              <p:cNvGrpSpPr/>
              <p:nvPr/>
            </p:nvGrpSpPr>
            <p:grpSpPr>
              <a:xfrm>
                <a:off x="2082960" y="2878200"/>
                <a:ext cx="398880" cy="617760"/>
                <a:chOff x="2082960" y="2878200"/>
                <a:chExt cx="398880" cy="617760"/>
              </a:xfrm>
            </p:grpSpPr>
            <p:sp>
              <p:nvSpPr>
                <p:cNvPr id="948" name=""/>
                <p:cNvSpPr/>
                <p:nvPr/>
              </p:nvSpPr>
              <p:spPr>
                <a:xfrm>
                  <a:off x="2082960" y="2878200"/>
                  <a:ext cx="398880" cy="617760"/>
                </a:xfrm>
                <a:custGeom>
                  <a:avLst/>
                  <a:gdLst/>
                  <a:ahLst/>
                  <a:rect l="0" t="0" r="r" b="b"/>
                  <a:pathLst>
                    <a:path w="1108" h="1716">
                      <a:moveTo>
                        <a:pt x="1108" y="1716"/>
                      </a:moveTo>
                      <a:lnTo>
                        <a:pt x="1108" y="1504"/>
                      </a:lnTo>
                      <a:lnTo>
                        <a:pt x="1077" y="1191"/>
                      </a:lnTo>
                      <a:lnTo>
                        <a:pt x="1047" y="962"/>
                      </a:lnTo>
                      <a:lnTo>
                        <a:pt x="1011" y="745"/>
                      </a:lnTo>
                      <a:lnTo>
                        <a:pt x="967" y="573"/>
                      </a:lnTo>
                      <a:lnTo>
                        <a:pt x="919" y="423"/>
                      </a:lnTo>
                      <a:lnTo>
                        <a:pt x="861" y="286"/>
                      </a:lnTo>
                      <a:lnTo>
                        <a:pt x="807" y="198"/>
                      </a:lnTo>
                      <a:lnTo>
                        <a:pt x="741" y="105"/>
                      </a:lnTo>
                      <a:lnTo>
                        <a:pt x="680" y="44"/>
                      </a:lnTo>
                      <a:lnTo>
                        <a:pt x="640" y="22"/>
                      </a:lnTo>
                      <a:lnTo>
                        <a:pt x="609" y="8"/>
                      </a:lnTo>
                      <a:lnTo>
                        <a:pt x="552" y="0"/>
                      </a:lnTo>
                      <a:lnTo>
                        <a:pt x="494" y="17"/>
                      </a:lnTo>
                      <a:lnTo>
                        <a:pt x="433" y="48"/>
                      </a:lnTo>
                      <a:lnTo>
                        <a:pt x="375" y="97"/>
                      </a:lnTo>
                      <a:lnTo>
                        <a:pt x="305" y="194"/>
                      </a:lnTo>
                      <a:lnTo>
                        <a:pt x="268" y="255"/>
                      </a:lnTo>
                      <a:lnTo>
                        <a:pt x="202" y="405"/>
                      </a:lnTo>
                      <a:lnTo>
                        <a:pt x="149" y="564"/>
                      </a:lnTo>
                      <a:lnTo>
                        <a:pt x="101" y="762"/>
                      </a:lnTo>
                      <a:lnTo>
                        <a:pt x="57" y="975"/>
                      </a:lnTo>
                      <a:lnTo>
                        <a:pt x="26" y="1226"/>
                      </a:lnTo>
                      <a:lnTo>
                        <a:pt x="0" y="1513"/>
                      </a:lnTo>
                      <a:lnTo>
                        <a:pt x="0" y="1716"/>
                      </a:lnTo>
                      <a:lnTo>
                        <a:pt x="1108" y="17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2160720" y="2943360"/>
                  <a:ext cx="241560" cy="71640"/>
                </a:xfrm>
                <a:custGeom>
                  <a:avLst/>
                  <a:gdLst/>
                  <a:ahLst/>
                  <a:rect l="0" t="0" r="r" b="b"/>
                  <a:pathLst>
                    <a:path w="671" h="199">
                      <a:moveTo>
                        <a:pt x="622" y="70"/>
                      </a:moveTo>
                      <a:lnTo>
                        <a:pt x="530" y="39"/>
                      </a:lnTo>
                      <a:lnTo>
                        <a:pt x="437" y="13"/>
                      </a:lnTo>
                      <a:lnTo>
                        <a:pt x="336" y="0"/>
                      </a:lnTo>
                      <a:lnTo>
                        <a:pt x="260" y="8"/>
                      </a:lnTo>
                      <a:lnTo>
                        <a:pt x="207" y="22"/>
                      </a:lnTo>
                      <a:lnTo>
                        <a:pt x="154" y="39"/>
                      </a:lnTo>
                      <a:lnTo>
                        <a:pt x="61" y="70"/>
                      </a:lnTo>
                      <a:lnTo>
                        <a:pt x="0" y="199"/>
                      </a:lnTo>
                      <a:lnTo>
                        <a:pt x="97" y="150"/>
                      </a:lnTo>
                      <a:lnTo>
                        <a:pt x="216" y="106"/>
                      </a:lnTo>
                      <a:lnTo>
                        <a:pt x="295" y="92"/>
                      </a:lnTo>
                      <a:lnTo>
                        <a:pt x="349" y="92"/>
                      </a:lnTo>
                      <a:lnTo>
                        <a:pt x="415" y="92"/>
                      </a:lnTo>
                      <a:lnTo>
                        <a:pt x="481" y="106"/>
                      </a:lnTo>
                      <a:lnTo>
                        <a:pt x="565" y="133"/>
                      </a:lnTo>
                      <a:lnTo>
                        <a:pt x="613" y="150"/>
                      </a:lnTo>
                      <a:lnTo>
                        <a:pt x="671" y="190"/>
                      </a:lnTo>
                      <a:lnTo>
                        <a:pt x="622" y="7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50" name=""/>
                <p:cNvGrpSpPr/>
                <p:nvPr/>
              </p:nvGrpSpPr>
              <p:grpSpPr>
                <a:xfrm>
                  <a:off x="2131920" y="3225960"/>
                  <a:ext cx="300600" cy="136440"/>
                  <a:chOff x="2131920" y="3225960"/>
                  <a:chExt cx="300600" cy="136440"/>
                </a:xfrm>
              </p:grpSpPr>
              <p:grpSp>
                <p:nvGrpSpPr>
                  <p:cNvPr id="951" name=""/>
                  <p:cNvGrpSpPr/>
                  <p:nvPr/>
                </p:nvGrpSpPr>
                <p:grpSpPr>
                  <a:xfrm>
                    <a:off x="2290680" y="3228840"/>
                    <a:ext cx="141840" cy="133560"/>
                    <a:chOff x="2290680" y="3228840"/>
                    <a:chExt cx="141840" cy="133560"/>
                  </a:xfrm>
                </p:grpSpPr>
                <p:sp>
                  <p:nvSpPr>
                    <p:cNvPr id="952" name=""/>
                    <p:cNvSpPr/>
                    <p:nvPr/>
                  </p:nvSpPr>
                  <p:spPr>
                    <a:xfrm>
                      <a:off x="2290680" y="3228840"/>
                      <a:ext cx="41760" cy="655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16" h="182">
                          <a:moveTo>
                            <a:pt x="112" y="22"/>
                          </a:moveTo>
                          <a:lnTo>
                            <a:pt x="0" y="0"/>
                          </a:lnTo>
                          <a:lnTo>
                            <a:pt x="0" y="160"/>
                          </a:lnTo>
                          <a:lnTo>
                            <a:pt x="116" y="182"/>
                          </a:lnTo>
                          <a:lnTo>
                            <a:pt x="112" y="22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0">
                      <a:noFill/>
                    </a:ln>
                  </p:spPr>
                  <p:txBody>
                    <a:bodyPr lIns="90000" rIns="90000" tIns="20520" bIns="20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3" name=""/>
                    <p:cNvSpPr/>
                    <p:nvPr/>
                  </p:nvSpPr>
                  <p:spPr>
                    <a:xfrm>
                      <a:off x="2346480" y="3247920"/>
                      <a:ext cx="51120" cy="748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42" h="208">
                          <a:moveTo>
                            <a:pt x="0" y="150"/>
                          </a:moveTo>
                          <a:lnTo>
                            <a:pt x="0" y="0"/>
                          </a:lnTo>
                          <a:lnTo>
                            <a:pt x="142" y="124"/>
                          </a:lnTo>
                          <a:lnTo>
                            <a:pt x="66" y="208"/>
                          </a:lnTo>
                          <a:lnTo>
                            <a:pt x="0" y="150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0">
                      <a:noFill/>
                    </a:ln>
                  </p:spPr>
                  <p:txBody>
                    <a:bodyPr lIns="90000" rIns="90000" tIns="29880" bIns="29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4" name=""/>
                    <p:cNvSpPr/>
                    <p:nvPr/>
                  </p:nvSpPr>
                  <p:spPr>
                    <a:xfrm>
                      <a:off x="2378160" y="3306600"/>
                      <a:ext cx="54360" cy="558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51" h="155">
                          <a:moveTo>
                            <a:pt x="75" y="0"/>
                          </a:moveTo>
                          <a:lnTo>
                            <a:pt x="0" y="66"/>
                          </a:lnTo>
                          <a:lnTo>
                            <a:pt x="26" y="155"/>
                          </a:lnTo>
                          <a:lnTo>
                            <a:pt x="151" y="137"/>
                          </a:lnTo>
                          <a:lnTo>
                            <a:pt x="121" y="84"/>
                          </a:lnTo>
                          <a:lnTo>
                            <a:pt x="75" y="0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0">
                      <a:noFill/>
                    </a:ln>
                  </p:spPr>
                  <p:txBody>
                    <a:bodyPr lIns="90000" rIns="90000" tIns="10800" bIns="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5" name=""/>
                  <p:cNvGrpSpPr/>
                  <p:nvPr/>
                </p:nvGrpSpPr>
                <p:grpSpPr>
                  <a:xfrm>
                    <a:off x="2131920" y="3225960"/>
                    <a:ext cx="141840" cy="133560"/>
                    <a:chOff x="2131920" y="3225960"/>
                    <a:chExt cx="141840" cy="133560"/>
                  </a:xfrm>
                </p:grpSpPr>
                <p:sp>
                  <p:nvSpPr>
                    <p:cNvPr id="956" name=""/>
                    <p:cNvSpPr/>
                    <p:nvPr/>
                  </p:nvSpPr>
                  <p:spPr>
                    <a:xfrm>
                      <a:off x="2232000" y="3225960"/>
                      <a:ext cx="41760" cy="6696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16" h="186">
                          <a:moveTo>
                            <a:pt x="4" y="26"/>
                          </a:moveTo>
                          <a:lnTo>
                            <a:pt x="116" y="0"/>
                          </a:lnTo>
                          <a:lnTo>
                            <a:pt x="116" y="164"/>
                          </a:lnTo>
                          <a:lnTo>
                            <a:pt x="0" y="186"/>
                          </a:lnTo>
                          <a:lnTo>
                            <a:pt x="4" y="2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0">
                      <a:noFill/>
                    </a:ln>
                  </p:spPr>
                  <p:txBody>
                    <a:bodyPr lIns="90000" rIns="90000" tIns="21960" bIns="21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"/>
                    <p:cNvSpPr/>
                    <p:nvPr/>
                  </p:nvSpPr>
                  <p:spPr>
                    <a:xfrm>
                      <a:off x="2166840" y="3246480"/>
                      <a:ext cx="51120" cy="748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42" h="208">
                          <a:moveTo>
                            <a:pt x="142" y="150"/>
                          </a:moveTo>
                          <a:lnTo>
                            <a:pt x="142" y="0"/>
                          </a:lnTo>
                          <a:lnTo>
                            <a:pt x="0" y="124"/>
                          </a:lnTo>
                          <a:lnTo>
                            <a:pt x="75" y="208"/>
                          </a:lnTo>
                          <a:lnTo>
                            <a:pt x="142" y="150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0">
                      <a:noFill/>
                    </a:ln>
                  </p:spPr>
                  <p:txBody>
                    <a:bodyPr lIns="90000" rIns="90000" tIns="29880" bIns="29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8" name=""/>
                    <p:cNvSpPr/>
                    <p:nvPr/>
                  </p:nvSpPr>
                  <p:spPr>
                    <a:xfrm>
                      <a:off x="2131920" y="3303720"/>
                      <a:ext cx="54360" cy="558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51" h="155">
                          <a:moveTo>
                            <a:pt x="75" y="0"/>
                          </a:moveTo>
                          <a:lnTo>
                            <a:pt x="151" y="70"/>
                          </a:lnTo>
                          <a:lnTo>
                            <a:pt x="125" y="155"/>
                          </a:lnTo>
                          <a:lnTo>
                            <a:pt x="0" y="142"/>
                          </a:lnTo>
                          <a:lnTo>
                            <a:pt x="30" y="89"/>
                          </a:lnTo>
                          <a:lnTo>
                            <a:pt x="75" y="0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0">
                      <a:noFill/>
                    </a:ln>
                  </p:spPr>
                  <p:txBody>
                    <a:bodyPr lIns="90000" rIns="90000" tIns="10800" bIns="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59" name=""/>
                <p:cNvSpPr/>
                <p:nvPr/>
              </p:nvSpPr>
              <p:spPr>
                <a:xfrm>
                  <a:off x="2122560" y="3110040"/>
                  <a:ext cx="327240" cy="66960"/>
                </a:xfrm>
                <a:custGeom>
                  <a:avLst/>
                  <a:gdLst/>
                  <a:ahLst/>
                  <a:rect l="0" t="0" r="r" b="b"/>
                  <a:pathLst>
                    <a:path fill="none" w="909" h="186">
                      <a:moveTo>
                        <a:pt x="909" y="186"/>
                      </a:moveTo>
                      <a:lnTo>
                        <a:pt x="825" y="115"/>
                      </a:lnTo>
                      <a:lnTo>
                        <a:pt x="737" y="66"/>
                      </a:lnTo>
                      <a:lnTo>
                        <a:pt x="653" y="30"/>
                      </a:lnTo>
                      <a:lnTo>
                        <a:pt x="538" y="0"/>
                      </a:lnTo>
                      <a:lnTo>
                        <a:pt x="459" y="0"/>
                      </a:lnTo>
                      <a:lnTo>
                        <a:pt x="352" y="8"/>
                      </a:lnTo>
                      <a:lnTo>
                        <a:pt x="246" y="30"/>
                      </a:lnTo>
                      <a:lnTo>
                        <a:pt x="163" y="61"/>
                      </a:lnTo>
                      <a:lnTo>
                        <a:pt x="83" y="106"/>
                      </a:lnTo>
                      <a:lnTo>
                        <a:pt x="0" y="168"/>
                      </a:ln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60" name=""/>
                <p:cNvGrpSpPr/>
                <p:nvPr/>
              </p:nvGrpSpPr>
              <p:grpSpPr>
                <a:xfrm>
                  <a:off x="2236680" y="3438360"/>
                  <a:ext cx="89640" cy="32040"/>
                  <a:chOff x="2236680" y="3438360"/>
                  <a:chExt cx="89640" cy="32040"/>
                </a:xfrm>
              </p:grpSpPr>
              <p:sp>
                <p:nvSpPr>
                  <p:cNvPr id="961" name=""/>
                  <p:cNvSpPr/>
                  <p:nvPr/>
                </p:nvSpPr>
                <p:spPr>
                  <a:xfrm>
                    <a:off x="2292480" y="3438360"/>
                    <a:ext cx="33840" cy="32040"/>
                  </a:xfrm>
                  <a:custGeom>
                    <a:avLst/>
                    <a:gdLst/>
                    <a:ahLst/>
                    <a:rect l="0" t="0" r="r" b="b"/>
                    <a:pathLst>
                      <a:path w="94" h="89">
                        <a:moveTo>
                          <a:pt x="94" y="89"/>
                        </a:moveTo>
                        <a:lnTo>
                          <a:pt x="94" y="0"/>
                        </a:lnTo>
                        <a:lnTo>
                          <a:pt x="0" y="0"/>
                        </a:lnTo>
                        <a:lnTo>
                          <a:pt x="0" y="89"/>
                        </a:lnTo>
                        <a:lnTo>
                          <a:pt x="94" y="8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2" name=""/>
                  <p:cNvSpPr/>
                  <p:nvPr/>
                </p:nvSpPr>
                <p:spPr>
                  <a:xfrm>
                    <a:off x="2236680" y="3438360"/>
                    <a:ext cx="33840" cy="32040"/>
                  </a:xfrm>
                  <a:custGeom>
                    <a:avLst/>
                    <a:gdLst/>
                    <a:ahLst/>
                    <a:rect l="0" t="0" r="r" b="b"/>
                    <a:pathLst>
                      <a:path w="94" h="89">
                        <a:moveTo>
                          <a:pt x="94" y="89"/>
                        </a:moveTo>
                        <a:lnTo>
                          <a:pt x="94" y="0"/>
                        </a:lnTo>
                        <a:lnTo>
                          <a:pt x="0" y="0"/>
                        </a:lnTo>
                        <a:lnTo>
                          <a:pt x="0" y="89"/>
                        </a:lnTo>
                        <a:lnTo>
                          <a:pt x="94" y="8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3" name=""/>
                <p:cNvSpPr/>
                <p:nvPr/>
              </p:nvSpPr>
              <p:spPr>
                <a:xfrm>
                  <a:off x="2225520" y="3022560"/>
                  <a:ext cx="127440" cy="51120"/>
                </a:xfrm>
                <a:custGeom>
                  <a:avLst/>
                  <a:gdLst/>
                  <a:ahLst/>
                  <a:rect l="0" t="0" r="r" b="b"/>
                  <a:pathLst>
                    <a:path w="354" h="142">
                      <a:moveTo>
                        <a:pt x="354" y="142"/>
                      </a:moveTo>
                      <a:lnTo>
                        <a:pt x="345" y="39"/>
                      </a:lnTo>
                      <a:lnTo>
                        <a:pt x="288" y="17"/>
                      </a:lnTo>
                      <a:lnTo>
                        <a:pt x="221" y="0"/>
                      </a:lnTo>
                      <a:lnTo>
                        <a:pt x="159" y="0"/>
                      </a:lnTo>
                      <a:lnTo>
                        <a:pt x="79" y="4"/>
                      </a:lnTo>
                      <a:lnTo>
                        <a:pt x="4" y="26"/>
                      </a:lnTo>
                      <a:lnTo>
                        <a:pt x="0" y="142"/>
                      </a:lnTo>
                      <a:lnTo>
                        <a:pt x="66" y="115"/>
                      </a:lnTo>
                      <a:lnTo>
                        <a:pt x="133" y="102"/>
                      </a:lnTo>
                      <a:lnTo>
                        <a:pt x="195" y="93"/>
                      </a:lnTo>
                      <a:lnTo>
                        <a:pt x="252" y="106"/>
                      </a:lnTo>
                      <a:lnTo>
                        <a:pt x="315" y="128"/>
                      </a:lnTo>
                      <a:lnTo>
                        <a:pt x="354" y="142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2082960" y="3211560"/>
                  <a:ext cx="398880" cy="284400"/>
                </a:xfrm>
                <a:custGeom>
                  <a:avLst/>
                  <a:gdLst/>
                  <a:ahLst/>
                  <a:rect l="0" t="0" r="r" b="b"/>
                  <a:pathLst>
                    <a:path fill="none" w="1108" h="790">
                      <a:moveTo>
                        <a:pt x="1108" y="790"/>
                      </a:moveTo>
                      <a:lnTo>
                        <a:pt x="1108" y="693"/>
                      </a:lnTo>
                      <a:lnTo>
                        <a:pt x="1077" y="552"/>
                      </a:lnTo>
                      <a:lnTo>
                        <a:pt x="1047" y="446"/>
                      </a:lnTo>
                      <a:lnTo>
                        <a:pt x="1011" y="343"/>
                      </a:lnTo>
                      <a:lnTo>
                        <a:pt x="967" y="264"/>
                      </a:lnTo>
                      <a:lnTo>
                        <a:pt x="919" y="194"/>
                      </a:lnTo>
                      <a:lnTo>
                        <a:pt x="861" y="132"/>
                      </a:lnTo>
                      <a:lnTo>
                        <a:pt x="807" y="88"/>
                      </a:lnTo>
                      <a:lnTo>
                        <a:pt x="741" y="48"/>
                      </a:lnTo>
                      <a:lnTo>
                        <a:pt x="680" y="17"/>
                      </a:lnTo>
                      <a:lnTo>
                        <a:pt x="640" y="8"/>
                      </a:lnTo>
                      <a:lnTo>
                        <a:pt x="609" y="0"/>
                      </a:lnTo>
                      <a:lnTo>
                        <a:pt x="552" y="0"/>
                      </a:lnTo>
                      <a:lnTo>
                        <a:pt x="494" y="4"/>
                      </a:lnTo>
                      <a:lnTo>
                        <a:pt x="433" y="22"/>
                      </a:lnTo>
                      <a:lnTo>
                        <a:pt x="375" y="44"/>
                      </a:lnTo>
                      <a:lnTo>
                        <a:pt x="305" y="88"/>
                      </a:lnTo>
                      <a:lnTo>
                        <a:pt x="268" y="114"/>
                      </a:lnTo>
                      <a:lnTo>
                        <a:pt x="202" y="185"/>
                      </a:lnTo>
                      <a:lnTo>
                        <a:pt x="149" y="260"/>
                      </a:lnTo>
                      <a:lnTo>
                        <a:pt x="101" y="352"/>
                      </a:lnTo>
                      <a:lnTo>
                        <a:pt x="57" y="450"/>
                      </a:lnTo>
                      <a:lnTo>
                        <a:pt x="26" y="565"/>
                      </a:lnTo>
                      <a:lnTo>
                        <a:pt x="0" y="697"/>
                      </a:lnTo>
                      <a:lnTo>
                        <a:pt x="0" y="790"/>
                      </a:lnTo>
                      <a:lnTo>
                        <a:pt x="1108" y="790"/>
                      </a:ln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 txBox="1"/>
          <p:nvPr/>
        </p:nvSpPr>
        <p:spPr>
          <a:xfrm>
            <a:off x="552600" y="1714680"/>
            <a:ext cx="5219640" cy="34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4040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 Support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cumentation sup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 training and evalu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4040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de Range of Training Cour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ional training cen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4040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e Customer Suppor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 Hours a 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 Days a we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6" name=""/>
          <p:cNvGrpSpPr/>
          <p:nvPr/>
        </p:nvGrpSpPr>
        <p:grpSpPr>
          <a:xfrm>
            <a:off x="0" y="1028880"/>
            <a:ext cx="8385120" cy="304920"/>
            <a:chOff x="0" y="1028880"/>
            <a:chExt cx="8385120" cy="304920"/>
          </a:xfrm>
        </p:grpSpPr>
        <p:grpSp>
          <p:nvGrpSpPr>
            <p:cNvPr id="967" name=""/>
            <p:cNvGrpSpPr/>
            <p:nvPr/>
          </p:nvGrpSpPr>
          <p:grpSpPr>
            <a:xfrm>
              <a:off x="0" y="1052640"/>
              <a:ext cx="8385120" cy="281160"/>
              <a:chOff x="0" y="1052640"/>
              <a:chExt cx="8385120" cy="281160"/>
            </a:xfrm>
          </p:grpSpPr>
          <p:sp>
            <p:nvSpPr>
              <p:cNvPr id="968" name=""/>
              <p:cNvSpPr/>
              <p:nvPr/>
            </p:nvSpPr>
            <p:spPr>
              <a:xfrm>
                <a:off x="8337600" y="1052640"/>
                <a:ext cx="4752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8188200" y="1052640"/>
                <a:ext cx="9540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7966080" y="1052640"/>
                <a:ext cx="14760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7696080" y="1052640"/>
                <a:ext cx="20016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7381800" y="1052640"/>
                <a:ext cx="24444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73" name=""/>
              <p:cNvGrpSpPr/>
              <p:nvPr/>
            </p:nvGrpSpPr>
            <p:grpSpPr>
              <a:xfrm>
                <a:off x="0" y="1052640"/>
                <a:ext cx="7313400" cy="281160"/>
                <a:chOff x="0" y="1052640"/>
                <a:chExt cx="7313400" cy="281160"/>
              </a:xfrm>
            </p:grpSpPr>
            <p:sp>
              <p:nvSpPr>
                <p:cNvPr id="974" name=""/>
                <p:cNvSpPr/>
                <p:nvPr/>
              </p:nvSpPr>
              <p:spPr>
                <a:xfrm>
                  <a:off x="7013520" y="1054080"/>
                  <a:ext cx="299880" cy="27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6597720" y="1054080"/>
                  <a:ext cx="345960" cy="27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76" name=""/>
                <p:cNvGrpSpPr/>
                <p:nvPr/>
              </p:nvGrpSpPr>
              <p:grpSpPr>
                <a:xfrm>
                  <a:off x="0" y="1052640"/>
                  <a:ext cx="6530760" cy="281160"/>
                  <a:chOff x="0" y="1052640"/>
                  <a:chExt cx="6530760" cy="281160"/>
                </a:xfrm>
              </p:grpSpPr>
              <p:sp>
                <p:nvSpPr>
                  <p:cNvPr id="977" name=""/>
                  <p:cNvSpPr/>
                  <p:nvPr/>
                </p:nvSpPr>
                <p:spPr>
                  <a:xfrm>
                    <a:off x="6134040" y="1054080"/>
                    <a:ext cx="396720" cy="27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8" name=""/>
                  <p:cNvSpPr/>
                  <p:nvPr/>
                </p:nvSpPr>
                <p:spPr>
                  <a:xfrm>
                    <a:off x="5616720" y="1052640"/>
                    <a:ext cx="450720" cy="281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79" name=""/>
                  <p:cNvGrpSpPr/>
                  <p:nvPr/>
                </p:nvGrpSpPr>
                <p:grpSpPr>
                  <a:xfrm>
                    <a:off x="0" y="1052640"/>
                    <a:ext cx="5551560" cy="280800"/>
                    <a:chOff x="0" y="1052640"/>
                    <a:chExt cx="5551560" cy="280800"/>
                  </a:xfrm>
                </p:grpSpPr>
                <p:sp>
                  <p:nvSpPr>
                    <p:cNvPr id="980" name=""/>
                    <p:cNvSpPr/>
                    <p:nvPr/>
                  </p:nvSpPr>
                  <p:spPr>
                    <a:xfrm>
                      <a:off x="5052960" y="1054080"/>
                      <a:ext cx="498600" cy="2793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1" name=""/>
                    <p:cNvSpPr/>
                    <p:nvPr/>
                  </p:nvSpPr>
                  <p:spPr>
                    <a:xfrm>
                      <a:off x="4441680" y="1054080"/>
                      <a:ext cx="547560" cy="2793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2" name=""/>
                    <p:cNvSpPr/>
                    <p:nvPr/>
                  </p:nvSpPr>
                  <p:spPr>
                    <a:xfrm>
                      <a:off x="0" y="1052640"/>
                      <a:ext cx="4375080" cy="2793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983" name=""/>
            <p:cNvGrpSpPr/>
            <p:nvPr/>
          </p:nvGrpSpPr>
          <p:grpSpPr>
            <a:xfrm>
              <a:off x="0" y="1028880"/>
              <a:ext cx="8385120" cy="281160"/>
              <a:chOff x="0" y="1028880"/>
              <a:chExt cx="8385120" cy="281160"/>
            </a:xfrm>
          </p:grpSpPr>
          <p:grpSp>
            <p:nvGrpSpPr>
              <p:cNvPr id="984" name=""/>
              <p:cNvGrpSpPr/>
              <p:nvPr/>
            </p:nvGrpSpPr>
            <p:grpSpPr>
              <a:xfrm>
                <a:off x="8188200" y="1028880"/>
                <a:ext cx="196920" cy="279360"/>
                <a:chOff x="8188200" y="1028880"/>
                <a:chExt cx="196920" cy="279360"/>
              </a:xfrm>
            </p:grpSpPr>
            <p:sp>
              <p:nvSpPr>
                <p:cNvPr id="985" name=""/>
                <p:cNvSpPr/>
                <p:nvPr/>
              </p:nvSpPr>
              <p:spPr>
                <a:xfrm>
                  <a:off x="8337600" y="1028880"/>
                  <a:ext cx="47520" cy="279360"/>
                </a:xfrm>
                <a:prstGeom prst="rect">
                  <a:avLst/>
                </a:prstGeom>
                <a:solidFill>
                  <a:srgbClr val="c0c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8188200" y="1028880"/>
                  <a:ext cx="95400" cy="279360"/>
                </a:xfrm>
                <a:prstGeom prst="rect">
                  <a:avLst/>
                </a:prstGeom>
                <a:solidFill>
                  <a:srgbClr val="c0c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7" name=""/>
              <p:cNvGrpSpPr/>
              <p:nvPr/>
            </p:nvGrpSpPr>
            <p:grpSpPr>
              <a:xfrm>
                <a:off x="7696080" y="1028880"/>
                <a:ext cx="417600" cy="279360"/>
                <a:chOff x="7696080" y="1028880"/>
                <a:chExt cx="417600" cy="279360"/>
              </a:xfrm>
            </p:grpSpPr>
            <p:sp>
              <p:nvSpPr>
                <p:cNvPr id="988" name=""/>
                <p:cNvSpPr/>
                <p:nvPr/>
              </p:nvSpPr>
              <p:spPr>
                <a:xfrm>
                  <a:off x="7966080" y="1028880"/>
                  <a:ext cx="147600" cy="279360"/>
                </a:xfrm>
                <a:prstGeom prst="rect">
                  <a:avLst/>
                </a:prstGeom>
                <a:solidFill>
                  <a:srgbClr val="808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7696080" y="1028880"/>
                  <a:ext cx="200160" cy="279360"/>
                </a:xfrm>
                <a:prstGeom prst="rect">
                  <a:avLst/>
                </a:prstGeom>
                <a:solidFill>
                  <a:srgbClr val="808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0" name=""/>
              <p:cNvGrpSpPr/>
              <p:nvPr/>
            </p:nvGrpSpPr>
            <p:grpSpPr>
              <a:xfrm>
                <a:off x="7013520" y="1028880"/>
                <a:ext cx="612720" cy="279360"/>
                <a:chOff x="7013520" y="1028880"/>
                <a:chExt cx="612720" cy="279360"/>
              </a:xfrm>
            </p:grpSpPr>
            <p:sp>
              <p:nvSpPr>
                <p:cNvPr id="991" name=""/>
                <p:cNvSpPr/>
                <p:nvPr/>
              </p:nvSpPr>
              <p:spPr>
                <a:xfrm>
                  <a:off x="7381800" y="1028880"/>
                  <a:ext cx="244440" cy="279360"/>
                </a:xfrm>
                <a:prstGeom prst="rect">
                  <a:avLst/>
                </a:prstGeom>
                <a:solidFill>
                  <a:srgbClr val="404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7013520" y="1028880"/>
                  <a:ext cx="299880" cy="279360"/>
                </a:xfrm>
                <a:prstGeom prst="rect">
                  <a:avLst/>
                </a:prstGeom>
                <a:solidFill>
                  <a:srgbClr val="404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3" name=""/>
              <p:cNvGrpSpPr/>
              <p:nvPr/>
            </p:nvGrpSpPr>
            <p:grpSpPr>
              <a:xfrm>
                <a:off x="5052960" y="1028880"/>
                <a:ext cx="1890720" cy="281160"/>
                <a:chOff x="5052960" y="1028880"/>
                <a:chExt cx="1890720" cy="281160"/>
              </a:xfrm>
            </p:grpSpPr>
            <p:sp>
              <p:nvSpPr>
                <p:cNvPr id="994" name=""/>
                <p:cNvSpPr/>
                <p:nvPr/>
              </p:nvSpPr>
              <p:spPr>
                <a:xfrm>
                  <a:off x="6597720" y="1028880"/>
                  <a:ext cx="345960" cy="27936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6134040" y="1028880"/>
                  <a:ext cx="396720" cy="27936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5616720" y="1028880"/>
                  <a:ext cx="450720" cy="28116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5052960" y="1028880"/>
                  <a:ext cx="498600" cy="27936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8" name=""/>
              <p:cNvGrpSpPr/>
              <p:nvPr/>
            </p:nvGrpSpPr>
            <p:grpSpPr>
              <a:xfrm>
                <a:off x="0" y="1028880"/>
                <a:ext cx="4989240" cy="279360"/>
                <a:chOff x="0" y="1028880"/>
                <a:chExt cx="4989240" cy="279360"/>
              </a:xfrm>
            </p:grpSpPr>
            <p:sp>
              <p:nvSpPr>
                <p:cNvPr id="999" name=""/>
                <p:cNvSpPr/>
                <p:nvPr/>
              </p:nvSpPr>
              <p:spPr>
                <a:xfrm>
                  <a:off x="4441680" y="1028880"/>
                  <a:ext cx="547560" cy="279360"/>
                </a:xfrm>
                <a:prstGeom prst="rect">
                  <a:avLst/>
                </a:prstGeom>
                <a:solidFill>
                  <a:srgbClr val="0000e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0" y="1028880"/>
                  <a:ext cx="4375080" cy="279360"/>
                </a:xfrm>
                <a:prstGeom prst="rect">
                  <a:avLst/>
                </a:prstGeom>
                <a:solidFill>
                  <a:srgbClr val="0000e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01" name=""/>
          <p:cNvSpPr txBox="1"/>
          <p:nvPr/>
        </p:nvSpPr>
        <p:spPr>
          <a:xfrm>
            <a:off x="1133640" y="152280"/>
            <a:ext cx="716292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 Training &amp; Supp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2" name=""/>
          <p:cNvGrpSpPr/>
          <p:nvPr/>
        </p:nvGrpSpPr>
        <p:grpSpPr>
          <a:xfrm>
            <a:off x="3552840" y="2462040"/>
            <a:ext cx="5585400" cy="3933000"/>
            <a:chOff x="3552840" y="2462040"/>
            <a:chExt cx="5585400" cy="3933000"/>
          </a:xfrm>
        </p:grpSpPr>
        <p:grpSp>
          <p:nvGrpSpPr>
            <p:cNvPr id="1003" name=""/>
            <p:cNvGrpSpPr/>
            <p:nvPr/>
          </p:nvGrpSpPr>
          <p:grpSpPr>
            <a:xfrm>
              <a:off x="8215200" y="4719600"/>
              <a:ext cx="922680" cy="1675080"/>
              <a:chOff x="8215200" y="4719600"/>
              <a:chExt cx="922680" cy="1675080"/>
            </a:xfrm>
          </p:grpSpPr>
          <p:sp>
            <p:nvSpPr>
              <p:cNvPr id="1004" name=""/>
              <p:cNvSpPr/>
              <p:nvPr/>
            </p:nvSpPr>
            <p:spPr>
              <a:xfrm>
                <a:off x="8215200" y="4719600"/>
                <a:ext cx="922680" cy="1659240"/>
              </a:xfrm>
              <a:custGeom>
                <a:avLst/>
                <a:gdLst/>
                <a:ahLst/>
                <a:rect l="0" t="0" r="r" b="b"/>
                <a:pathLst>
                  <a:path w="2563" h="4609">
                    <a:moveTo>
                      <a:pt x="2563" y="254"/>
                    </a:moveTo>
                    <a:lnTo>
                      <a:pt x="2563" y="4609"/>
                    </a:lnTo>
                    <a:lnTo>
                      <a:pt x="741" y="4609"/>
                    </a:lnTo>
                    <a:lnTo>
                      <a:pt x="0" y="1574"/>
                    </a:lnTo>
                    <a:lnTo>
                      <a:pt x="576" y="0"/>
                    </a:lnTo>
                    <a:lnTo>
                      <a:pt x="2563" y="254"/>
                    </a:lnTo>
                    <a:close/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5" name=""/>
              <p:cNvGrpSpPr/>
              <p:nvPr/>
            </p:nvGrpSpPr>
            <p:grpSpPr>
              <a:xfrm>
                <a:off x="8298000" y="4770360"/>
                <a:ext cx="819360" cy="1624320"/>
                <a:chOff x="8298000" y="4770360"/>
                <a:chExt cx="819360" cy="1624320"/>
              </a:xfrm>
            </p:grpSpPr>
            <p:sp>
              <p:nvSpPr>
                <p:cNvPr id="1006" name=""/>
                <p:cNvSpPr/>
                <p:nvPr/>
              </p:nvSpPr>
              <p:spPr>
                <a:xfrm>
                  <a:off x="8298000" y="4853160"/>
                  <a:ext cx="425880" cy="1526040"/>
                </a:xfrm>
                <a:custGeom>
                  <a:avLst/>
                  <a:gdLst/>
                  <a:ahLst/>
                  <a:rect l="0" t="0" r="r" b="b"/>
                  <a:pathLst>
                    <a:path w="1183" h="4239">
                      <a:moveTo>
                        <a:pt x="254" y="688"/>
                      </a:moveTo>
                      <a:lnTo>
                        <a:pt x="570" y="999"/>
                      </a:lnTo>
                      <a:lnTo>
                        <a:pt x="682" y="1114"/>
                      </a:lnTo>
                      <a:lnTo>
                        <a:pt x="846" y="0"/>
                      </a:lnTo>
                      <a:lnTo>
                        <a:pt x="820" y="1228"/>
                      </a:lnTo>
                      <a:lnTo>
                        <a:pt x="1127" y="1710"/>
                      </a:lnTo>
                      <a:lnTo>
                        <a:pt x="1097" y="3258"/>
                      </a:lnTo>
                      <a:lnTo>
                        <a:pt x="1183" y="4239"/>
                      </a:lnTo>
                      <a:lnTo>
                        <a:pt x="172" y="4239"/>
                      </a:lnTo>
                      <a:lnTo>
                        <a:pt x="0" y="1824"/>
                      </a:lnTo>
                      <a:lnTo>
                        <a:pt x="254" y="688"/>
                      </a:lnTo>
                      <a:close/>
                    </a:path>
                  </a:pathLst>
                </a:custGeom>
                <a:solidFill>
                  <a:srgbClr val="5f009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8867880" y="4863960"/>
                  <a:ext cx="249480" cy="1514880"/>
                </a:xfrm>
                <a:custGeom>
                  <a:avLst/>
                  <a:gdLst/>
                  <a:ahLst/>
                  <a:rect l="0" t="0" r="r" b="b"/>
                  <a:pathLst>
                    <a:path w="693" h="4208">
                      <a:moveTo>
                        <a:pt x="80" y="0"/>
                      </a:moveTo>
                      <a:lnTo>
                        <a:pt x="29" y="854"/>
                      </a:lnTo>
                      <a:lnTo>
                        <a:pt x="0" y="1372"/>
                      </a:lnTo>
                      <a:lnTo>
                        <a:pt x="140" y="1455"/>
                      </a:lnTo>
                      <a:lnTo>
                        <a:pt x="191" y="2599"/>
                      </a:lnTo>
                      <a:lnTo>
                        <a:pt x="412" y="3652"/>
                      </a:lnTo>
                      <a:lnTo>
                        <a:pt x="502" y="4208"/>
                      </a:lnTo>
                      <a:lnTo>
                        <a:pt x="625" y="4208"/>
                      </a:lnTo>
                      <a:lnTo>
                        <a:pt x="633" y="3626"/>
                      </a:lnTo>
                      <a:lnTo>
                        <a:pt x="693" y="3081"/>
                      </a:lnTo>
                      <a:lnTo>
                        <a:pt x="612" y="2424"/>
                      </a:lnTo>
                      <a:lnTo>
                        <a:pt x="472" y="2113"/>
                      </a:lnTo>
                      <a:lnTo>
                        <a:pt x="362" y="1911"/>
                      </a:lnTo>
                      <a:lnTo>
                        <a:pt x="250" y="1144"/>
                      </a:lnTo>
                      <a:lnTo>
                        <a:pt x="80" y="0"/>
                      </a:lnTo>
                      <a:close/>
                    </a:path>
                  </a:pathLst>
                </a:custGeom>
                <a:solidFill>
                  <a:srgbClr val="5f009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8950320" y="4770360"/>
                  <a:ext cx="136800" cy="714600"/>
                </a:xfrm>
                <a:custGeom>
                  <a:avLst/>
                  <a:gdLst/>
                  <a:ahLst/>
                  <a:rect l="0" t="0" r="r" b="b"/>
                  <a:pathLst>
                    <a:path w="380" h="1985">
                      <a:moveTo>
                        <a:pt x="0" y="369"/>
                      </a:moveTo>
                      <a:lnTo>
                        <a:pt x="380" y="1985"/>
                      </a:lnTo>
                      <a:lnTo>
                        <a:pt x="57" y="0"/>
                      </a:lnTo>
                      <a:lnTo>
                        <a:pt x="0" y="369"/>
                      </a:lnTo>
                      <a:close/>
                    </a:path>
                  </a:pathLst>
                </a:custGeom>
                <a:solidFill>
                  <a:srgbClr val="5f009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8742240" y="4905360"/>
                  <a:ext cx="228960" cy="1473480"/>
                </a:xfrm>
                <a:custGeom>
                  <a:avLst/>
                  <a:gdLst/>
                  <a:ahLst/>
                  <a:rect l="0" t="0" r="r" b="b"/>
                  <a:pathLst>
                    <a:path w="636" h="4093">
                      <a:moveTo>
                        <a:pt x="84" y="0"/>
                      </a:moveTo>
                      <a:lnTo>
                        <a:pt x="139" y="1112"/>
                      </a:lnTo>
                      <a:lnTo>
                        <a:pt x="194" y="1739"/>
                      </a:lnTo>
                      <a:lnTo>
                        <a:pt x="335" y="1910"/>
                      </a:lnTo>
                      <a:lnTo>
                        <a:pt x="390" y="2196"/>
                      </a:lnTo>
                      <a:lnTo>
                        <a:pt x="636" y="4093"/>
                      </a:lnTo>
                      <a:lnTo>
                        <a:pt x="169" y="4080"/>
                      </a:lnTo>
                      <a:lnTo>
                        <a:pt x="0" y="1997"/>
                      </a:lnTo>
                      <a:lnTo>
                        <a:pt x="29" y="854"/>
                      </a:lnTo>
                      <a:lnTo>
                        <a:pt x="84" y="0"/>
                      </a:lnTo>
                      <a:close/>
                    </a:path>
                  </a:pathLst>
                </a:custGeom>
                <a:solidFill>
                  <a:srgbClr val="5f009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8980560" y="4843440"/>
                  <a:ext cx="136800" cy="682920"/>
                </a:xfrm>
                <a:custGeom>
                  <a:avLst/>
                  <a:gdLst/>
                  <a:ahLst/>
                  <a:rect l="0" t="0" r="r" b="b"/>
                  <a:pathLst>
                    <a:path w="380" h="1897">
                      <a:moveTo>
                        <a:pt x="0" y="82"/>
                      </a:moveTo>
                      <a:lnTo>
                        <a:pt x="194" y="1018"/>
                      </a:lnTo>
                      <a:lnTo>
                        <a:pt x="380" y="1897"/>
                      </a:lnTo>
                      <a:lnTo>
                        <a:pt x="301" y="0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bf5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9002880" y="5648400"/>
                  <a:ext cx="92520" cy="730440"/>
                </a:xfrm>
                <a:custGeom>
                  <a:avLst/>
                  <a:gdLst/>
                  <a:ahLst/>
                  <a:rect l="0" t="0" r="r" b="b"/>
                  <a:pathLst>
                    <a:path w="257" h="2029">
                      <a:moveTo>
                        <a:pt x="0" y="0"/>
                      </a:moveTo>
                      <a:lnTo>
                        <a:pt x="104" y="883"/>
                      </a:lnTo>
                      <a:lnTo>
                        <a:pt x="209" y="1842"/>
                      </a:lnTo>
                      <a:lnTo>
                        <a:pt x="257" y="2029"/>
                      </a:lnTo>
                      <a:lnTo>
                        <a:pt x="257" y="1389"/>
                      </a:lnTo>
                      <a:lnTo>
                        <a:pt x="237" y="827"/>
                      </a:lnTo>
                      <a:lnTo>
                        <a:pt x="152" y="4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f9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8712360" y="4884840"/>
                  <a:ext cx="52920" cy="619560"/>
                </a:xfrm>
                <a:custGeom>
                  <a:avLst/>
                  <a:gdLst/>
                  <a:ahLst/>
                  <a:rect l="0" t="0" r="r" b="b"/>
                  <a:pathLst>
                    <a:path w="147" h="1721">
                      <a:moveTo>
                        <a:pt x="147" y="0"/>
                      </a:moveTo>
                      <a:lnTo>
                        <a:pt x="98" y="965"/>
                      </a:lnTo>
                      <a:lnTo>
                        <a:pt x="98" y="1721"/>
                      </a:lnTo>
                      <a:lnTo>
                        <a:pt x="0" y="1221"/>
                      </a:lnTo>
                      <a:lnTo>
                        <a:pt x="147" y="0"/>
                      </a:lnTo>
                      <a:close/>
                    </a:path>
                  </a:pathLst>
                </a:custGeom>
                <a:solidFill>
                  <a:srgbClr val="df9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8732880" y="5618160"/>
                  <a:ext cx="114840" cy="760680"/>
                </a:xfrm>
                <a:custGeom>
                  <a:avLst/>
                  <a:gdLst/>
                  <a:ahLst/>
                  <a:rect l="0" t="0" r="r" b="b"/>
                  <a:pathLst>
                    <a:path w="319" h="2113">
                      <a:moveTo>
                        <a:pt x="52" y="0"/>
                      </a:moveTo>
                      <a:lnTo>
                        <a:pt x="135" y="853"/>
                      </a:lnTo>
                      <a:lnTo>
                        <a:pt x="188" y="1446"/>
                      </a:lnTo>
                      <a:lnTo>
                        <a:pt x="319" y="2113"/>
                      </a:lnTo>
                      <a:lnTo>
                        <a:pt x="159" y="2113"/>
                      </a:lnTo>
                      <a:lnTo>
                        <a:pt x="24" y="1194"/>
                      </a:lnTo>
                      <a:lnTo>
                        <a:pt x="0" y="570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df9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8496360" y="5773680"/>
                  <a:ext cx="125640" cy="621000"/>
                </a:xfrm>
                <a:custGeom>
                  <a:avLst/>
                  <a:gdLst/>
                  <a:ahLst/>
                  <a:rect l="0" t="0" r="r" b="b"/>
                  <a:pathLst>
                    <a:path w="349" h="1725">
                      <a:moveTo>
                        <a:pt x="0" y="0"/>
                      </a:moveTo>
                      <a:lnTo>
                        <a:pt x="242" y="1017"/>
                      </a:lnTo>
                      <a:lnTo>
                        <a:pt x="349" y="17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f9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8920080" y="4956120"/>
                  <a:ext cx="84600" cy="652680"/>
                </a:xfrm>
                <a:custGeom>
                  <a:avLst/>
                  <a:gdLst/>
                  <a:ahLst/>
                  <a:rect l="0" t="0" r="r" b="b"/>
                  <a:pathLst>
                    <a:path w="235" h="1813">
                      <a:moveTo>
                        <a:pt x="0" y="0"/>
                      </a:moveTo>
                      <a:lnTo>
                        <a:pt x="47" y="769"/>
                      </a:lnTo>
                      <a:lnTo>
                        <a:pt x="151" y="1361"/>
                      </a:lnTo>
                      <a:lnTo>
                        <a:pt x="235" y="1813"/>
                      </a:lnTo>
                      <a:lnTo>
                        <a:pt x="207" y="1026"/>
                      </a:lnTo>
                      <a:lnTo>
                        <a:pt x="151" y="59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f5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8485200" y="4884840"/>
                  <a:ext cx="105120" cy="754560"/>
                </a:xfrm>
                <a:custGeom>
                  <a:avLst/>
                  <a:gdLst/>
                  <a:ahLst/>
                  <a:rect l="0" t="0" r="r" b="b"/>
                  <a:pathLst>
                    <a:path w="292" h="2096">
                      <a:moveTo>
                        <a:pt x="292" y="0"/>
                      </a:moveTo>
                      <a:lnTo>
                        <a:pt x="211" y="628"/>
                      </a:lnTo>
                      <a:lnTo>
                        <a:pt x="186" y="1163"/>
                      </a:lnTo>
                      <a:lnTo>
                        <a:pt x="133" y="1726"/>
                      </a:lnTo>
                      <a:lnTo>
                        <a:pt x="133" y="2096"/>
                      </a:lnTo>
                      <a:lnTo>
                        <a:pt x="0" y="1307"/>
                      </a:lnTo>
                      <a:lnTo>
                        <a:pt x="56" y="710"/>
                      </a:lnTo>
                      <a:lnTo>
                        <a:pt x="292" y="0"/>
                      </a:lnTo>
                      <a:close/>
                    </a:path>
                  </a:pathLst>
                </a:custGeom>
                <a:solidFill>
                  <a:srgbClr val="bf5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17" name=""/>
            <p:cNvGrpSpPr/>
            <p:nvPr/>
          </p:nvGrpSpPr>
          <p:grpSpPr>
            <a:xfrm>
              <a:off x="4127400" y="3335400"/>
              <a:ext cx="4521600" cy="3059640"/>
              <a:chOff x="4127400" y="3335400"/>
              <a:chExt cx="4521600" cy="3059640"/>
            </a:xfrm>
          </p:grpSpPr>
          <p:sp>
            <p:nvSpPr>
              <p:cNvPr id="1018" name=""/>
              <p:cNvSpPr/>
              <p:nvPr/>
            </p:nvSpPr>
            <p:spPr>
              <a:xfrm>
                <a:off x="4127400" y="4140360"/>
                <a:ext cx="4521600" cy="2254680"/>
              </a:xfrm>
              <a:custGeom>
                <a:avLst/>
                <a:gdLst/>
                <a:ahLst/>
                <a:rect l="0" t="0" r="r" b="b"/>
                <a:pathLst>
                  <a:path w="12560" h="6263">
                    <a:moveTo>
                      <a:pt x="0" y="6263"/>
                    </a:moveTo>
                    <a:lnTo>
                      <a:pt x="5303" y="0"/>
                    </a:lnTo>
                    <a:lnTo>
                      <a:pt x="11324" y="0"/>
                    </a:lnTo>
                    <a:lnTo>
                      <a:pt x="12560" y="6263"/>
                    </a:lnTo>
                    <a:lnTo>
                      <a:pt x="0" y="6263"/>
                    </a:lnTo>
                    <a:close/>
                  </a:path>
                </a:pathLst>
              </a:custGeom>
              <a:solidFill>
                <a:srgbClr val="4c2e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19" name=""/>
              <p:cNvGrpSpPr/>
              <p:nvPr/>
            </p:nvGrpSpPr>
            <p:grpSpPr>
              <a:xfrm>
                <a:off x="5433840" y="3335400"/>
                <a:ext cx="2607120" cy="3043800"/>
                <a:chOff x="5433840" y="3335400"/>
                <a:chExt cx="2607120" cy="3043800"/>
              </a:xfrm>
            </p:grpSpPr>
            <p:grpSp>
              <p:nvGrpSpPr>
                <p:cNvPr id="1020" name=""/>
                <p:cNvGrpSpPr/>
                <p:nvPr/>
              </p:nvGrpSpPr>
              <p:grpSpPr>
                <a:xfrm>
                  <a:off x="5472000" y="5440320"/>
                  <a:ext cx="1438920" cy="938880"/>
                  <a:chOff x="5472000" y="5440320"/>
                  <a:chExt cx="1438920" cy="938880"/>
                </a:xfrm>
              </p:grpSpPr>
              <p:sp>
                <p:nvSpPr>
                  <p:cNvPr id="1021" name=""/>
                  <p:cNvSpPr/>
                  <p:nvPr/>
                </p:nvSpPr>
                <p:spPr>
                  <a:xfrm>
                    <a:off x="5472000" y="5442120"/>
                    <a:ext cx="1438560" cy="937080"/>
                  </a:xfrm>
                  <a:custGeom>
                    <a:avLst/>
                    <a:gdLst/>
                    <a:ahLst/>
                    <a:rect l="0" t="0" r="r" b="b"/>
                    <a:pathLst>
                      <a:path w="3996" h="2603">
                        <a:moveTo>
                          <a:pt x="889" y="0"/>
                        </a:moveTo>
                        <a:lnTo>
                          <a:pt x="3996" y="0"/>
                        </a:lnTo>
                        <a:lnTo>
                          <a:pt x="3882" y="2603"/>
                        </a:lnTo>
                        <a:lnTo>
                          <a:pt x="0" y="2603"/>
                        </a:lnTo>
                        <a:lnTo>
                          <a:pt x="889" y="0"/>
                        </a:lnTo>
                        <a:close/>
                      </a:path>
                    </a:pathLst>
                  </a:custGeom>
                  <a:solidFill>
                    <a:srgbClr val="bfd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2" name=""/>
                  <p:cNvSpPr/>
                  <p:nvPr/>
                </p:nvSpPr>
                <p:spPr>
                  <a:xfrm>
                    <a:off x="5761080" y="5440320"/>
                    <a:ext cx="1149840" cy="86040"/>
                  </a:xfrm>
                  <a:custGeom>
                    <a:avLst/>
                    <a:gdLst/>
                    <a:ahLst/>
                    <a:rect l="0" t="0" r="r" b="b"/>
                    <a:pathLst>
                      <a:path w="3194" h="239">
                        <a:moveTo>
                          <a:pt x="87" y="0"/>
                        </a:moveTo>
                        <a:lnTo>
                          <a:pt x="0" y="239"/>
                        </a:lnTo>
                        <a:lnTo>
                          <a:pt x="3181" y="239"/>
                        </a:lnTo>
                        <a:lnTo>
                          <a:pt x="3194" y="0"/>
                        </a:lnTo>
                        <a:lnTo>
                          <a:pt x="87" y="0"/>
                        </a:lnTo>
                        <a:close/>
                      </a:path>
                    </a:pathLst>
                  </a:custGeom>
                  <a:solidFill>
                    <a:srgbClr val="800000"/>
                  </a:solidFill>
                  <a:ln w="0">
                    <a:noFill/>
                  </a:ln>
                </p:spPr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3" name=""/>
                <p:cNvGrpSpPr/>
                <p:nvPr/>
              </p:nvGrpSpPr>
              <p:grpSpPr>
                <a:xfrm>
                  <a:off x="5433840" y="3335400"/>
                  <a:ext cx="2607120" cy="2021040"/>
                  <a:chOff x="5433840" y="3335400"/>
                  <a:chExt cx="2607120" cy="2021040"/>
                </a:xfrm>
              </p:grpSpPr>
              <p:grpSp>
                <p:nvGrpSpPr>
                  <p:cNvPr id="1024" name=""/>
                  <p:cNvGrpSpPr/>
                  <p:nvPr/>
                </p:nvGrpSpPr>
                <p:grpSpPr>
                  <a:xfrm>
                    <a:off x="5433840" y="3335400"/>
                    <a:ext cx="2494440" cy="1851120"/>
                    <a:chOff x="5433840" y="3335400"/>
                    <a:chExt cx="2494440" cy="1851120"/>
                  </a:xfrm>
                </p:grpSpPr>
                <p:grpSp>
                  <p:nvGrpSpPr>
                    <p:cNvPr id="1025" name=""/>
                    <p:cNvGrpSpPr/>
                    <p:nvPr/>
                  </p:nvGrpSpPr>
                  <p:grpSpPr>
                    <a:xfrm>
                      <a:off x="5433840" y="3963960"/>
                      <a:ext cx="2494440" cy="1222560"/>
                      <a:chOff x="5433840" y="3963960"/>
                      <a:chExt cx="2494440" cy="1222560"/>
                    </a:xfrm>
                  </p:grpSpPr>
                  <p:grpSp>
                    <p:nvGrpSpPr>
                      <p:cNvPr id="1026" name=""/>
                      <p:cNvGrpSpPr/>
                      <p:nvPr/>
                    </p:nvGrpSpPr>
                    <p:grpSpPr>
                      <a:xfrm>
                        <a:off x="5457960" y="3963960"/>
                        <a:ext cx="2470320" cy="1217880"/>
                        <a:chOff x="5457960" y="3963960"/>
                        <a:chExt cx="2470320" cy="1217880"/>
                      </a:xfrm>
                    </p:grpSpPr>
                    <p:sp>
                      <p:nvSpPr>
                        <p:cNvPr id="1027" name=""/>
                        <p:cNvSpPr/>
                        <p:nvPr/>
                      </p:nvSpPr>
                      <p:spPr>
                        <a:xfrm>
                          <a:off x="5457960" y="4238640"/>
                          <a:ext cx="865440" cy="31140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w="2404" h="865">
                              <a:moveTo>
                                <a:pt x="0" y="865"/>
                              </a:moveTo>
                              <a:lnTo>
                                <a:pt x="157" y="865"/>
                              </a:lnTo>
                              <a:lnTo>
                                <a:pt x="2404" y="34"/>
                              </a:lnTo>
                              <a:lnTo>
                                <a:pt x="2330" y="0"/>
                              </a:lnTo>
                              <a:lnTo>
                                <a:pt x="0" y="86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f9f9f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45000" bIns="45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028" name=""/>
                        <p:cNvGrpSpPr/>
                        <p:nvPr/>
                      </p:nvGrpSpPr>
                      <p:grpSpPr>
                        <a:xfrm>
                          <a:off x="5672160" y="3963960"/>
                          <a:ext cx="2256120" cy="1217880"/>
                          <a:chOff x="5672160" y="3963960"/>
                          <a:chExt cx="2256120" cy="1217880"/>
                        </a:xfrm>
                      </p:grpSpPr>
                      <p:sp>
                        <p:nvSpPr>
                          <p:cNvPr id="1029" name=""/>
                          <p:cNvSpPr/>
                          <p:nvPr/>
                        </p:nvSpPr>
                        <p:spPr>
                          <a:xfrm>
                            <a:off x="6585120" y="4468680"/>
                            <a:ext cx="1321200" cy="71316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3670" h="1981">
                                <a:moveTo>
                                  <a:pt x="3670" y="0"/>
                                </a:moveTo>
                                <a:lnTo>
                                  <a:pt x="1603" y="797"/>
                                </a:lnTo>
                                <a:lnTo>
                                  <a:pt x="1603" y="888"/>
                                </a:lnTo>
                                <a:lnTo>
                                  <a:pt x="1590" y="945"/>
                                </a:lnTo>
                                <a:lnTo>
                                  <a:pt x="1577" y="971"/>
                                </a:lnTo>
                                <a:lnTo>
                                  <a:pt x="1550" y="1010"/>
                                </a:lnTo>
                                <a:lnTo>
                                  <a:pt x="1152" y="1188"/>
                                </a:lnTo>
                                <a:lnTo>
                                  <a:pt x="1134" y="1241"/>
                                </a:lnTo>
                                <a:lnTo>
                                  <a:pt x="0" y="1720"/>
                                </a:lnTo>
                                <a:lnTo>
                                  <a:pt x="0" y="1981"/>
                                </a:lnTo>
                                <a:lnTo>
                                  <a:pt x="39" y="1981"/>
                                </a:lnTo>
                                <a:lnTo>
                                  <a:pt x="3631" y="430"/>
                                </a:lnTo>
                                <a:lnTo>
                                  <a:pt x="3644" y="422"/>
                                </a:lnTo>
                                <a:lnTo>
                                  <a:pt x="3662" y="404"/>
                                </a:lnTo>
                                <a:lnTo>
                                  <a:pt x="3670" y="369"/>
                                </a:lnTo>
                                <a:lnTo>
                                  <a:pt x="367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5f5f5f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45000" bIns="450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30" name=""/>
                          <p:cNvSpPr/>
                          <p:nvPr/>
                        </p:nvSpPr>
                        <p:spPr>
                          <a:xfrm>
                            <a:off x="7769160" y="4522680"/>
                            <a:ext cx="66960" cy="7488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186" h="208">
                                <a:moveTo>
                                  <a:pt x="0" y="82"/>
                                </a:moveTo>
                                <a:lnTo>
                                  <a:pt x="186" y="0"/>
                                </a:lnTo>
                                <a:lnTo>
                                  <a:pt x="186" y="118"/>
                                </a:lnTo>
                                <a:lnTo>
                                  <a:pt x="0" y="208"/>
                                </a:lnTo>
                                <a:lnTo>
                                  <a:pt x="0" y="82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0000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29880" bIns="298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1031" name=""/>
                          <p:cNvGrpSpPr/>
                          <p:nvPr/>
                        </p:nvGrpSpPr>
                        <p:grpSpPr>
                          <a:xfrm>
                            <a:off x="5672160" y="3963960"/>
                            <a:ext cx="2256120" cy="1216440"/>
                            <a:chOff x="5672160" y="3963960"/>
                            <a:chExt cx="2256120" cy="1216440"/>
                          </a:xfrm>
                        </p:grpSpPr>
                        <p:sp>
                          <p:nvSpPr>
                            <p:cNvPr id="1032" name=""/>
                            <p:cNvSpPr/>
                            <p:nvPr/>
                          </p:nvSpPr>
                          <p:spPr>
                            <a:xfrm>
                              <a:off x="6230880" y="4070520"/>
                              <a:ext cx="128880" cy="200520"/>
                            </a:xfrm>
                            <a:custGeom>
                              <a:avLst/>
                              <a:gdLst/>
                              <a:ahLst/>
                              <a:rect l="0" t="0" r="r" b="b"/>
                              <a:pathLst>
                                <a:path w="358" h="557">
                                  <a:moveTo>
                                    <a:pt x="288" y="0"/>
                                  </a:moveTo>
                                  <a:lnTo>
                                    <a:pt x="358" y="557"/>
                                  </a:lnTo>
                                  <a:lnTo>
                                    <a:pt x="0" y="417"/>
                                  </a:lnTo>
                                  <a:lnTo>
                                    <a:pt x="288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txBody>
                            <a:bodyPr lIns="90000" rIns="90000" tIns="45000" bIns="450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033" name=""/>
                            <p:cNvSpPr/>
                            <p:nvPr/>
                          </p:nvSpPr>
                          <p:spPr>
                            <a:xfrm>
                              <a:off x="5672160" y="4483080"/>
                              <a:ext cx="903600" cy="614880"/>
                            </a:xfrm>
                            <a:custGeom>
                              <a:avLst/>
                              <a:gdLst/>
                              <a:ahLst/>
                              <a:rect l="0" t="0" r="r" b="b"/>
                              <a:pathLst>
                                <a:path w="2510" h="1708">
                                  <a:moveTo>
                                    <a:pt x="0" y="104"/>
                                  </a:moveTo>
                                  <a:lnTo>
                                    <a:pt x="2510" y="1708"/>
                                  </a:lnTo>
                                  <a:lnTo>
                                    <a:pt x="2510" y="1469"/>
                                  </a:lnTo>
                                  <a:lnTo>
                                    <a:pt x="74" y="0"/>
                                  </a:lnTo>
                                  <a:lnTo>
                                    <a:pt x="0" y="104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9f9f9f"/>
                            </a:solidFill>
                            <a:ln w="0">
                              <a:noFill/>
                            </a:ln>
                          </p:spPr>
                          <p:txBody>
                            <a:bodyPr lIns="90000" rIns="90000" tIns="45000" bIns="450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034" name=""/>
                            <p:cNvSpPr/>
                            <p:nvPr/>
                          </p:nvSpPr>
                          <p:spPr>
                            <a:xfrm>
                              <a:off x="6585120" y="4727520"/>
                              <a:ext cx="579960" cy="376560"/>
                            </a:xfrm>
                            <a:custGeom>
                              <a:avLst/>
                              <a:gdLst/>
                              <a:ahLst/>
                              <a:rect l="0" t="0" r="r" b="b"/>
                              <a:pathLst>
                                <a:path w="1611" h="1046">
                                  <a:moveTo>
                                    <a:pt x="0" y="1046"/>
                                  </a:moveTo>
                                  <a:lnTo>
                                    <a:pt x="0" y="753"/>
                                  </a:lnTo>
                                  <a:lnTo>
                                    <a:pt x="1611" y="0"/>
                                  </a:lnTo>
                                  <a:lnTo>
                                    <a:pt x="1611" y="365"/>
                                  </a:lnTo>
                                  <a:lnTo>
                                    <a:pt x="0" y="1046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txBody>
                            <a:bodyPr lIns="90000" rIns="90000" tIns="45000" bIns="450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035" name=""/>
                            <p:cNvSpPr/>
                            <p:nvPr/>
                          </p:nvSpPr>
                          <p:spPr>
                            <a:xfrm>
                              <a:off x="6886440" y="4321080"/>
                              <a:ext cx="365400" cy="383040"/>
                            </a:xfrm>
                            <a:custGeom>
                              <a:avLst/>
                              <a:gdLst/>
                              <a:ahLst/>
                              <a:rect l="0" t="0" r="r" b="b"/>
                              <a:pathLst>
                                <a:path w="1015" h="1064">
                                  <a:moveTo>
                                    <a:pt x="25" y="0"/>
                                  </a:moveTo>
                                  <a:lnTo>
                                    <a:pt x="0" y="741"/>
                                  </a:lnTo>
                                  <a:lnTo>
                                    <a:pt x="765" y="1064"/>
                                  </a:lnTo>
                                  <a:lnTo>
                                    <a:pt x="1015" y="474"/>
                                  </a:lnTo>
                                  <a:lnTo>
                                    <a:pt x="25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txBody>
                            <a:bodyPr lIns="90000" rIns="90000" tIns="45000" bIns="450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036" name=""/>
                            <p:cNvSpPr/>
                            <p:nvPr/>
                          </p:nvSpPr>
                          <p:spPr>
                            <a:xfrm>
                              <a:off x="6318360" y="4075200"/>
                              <a:ext cx="327240" cy="322560"/>
                            </a:xfrm>
                            <a:custGeom>
                              <a:avLst/>
                              <a:gdLst/>
                              <a:ahLst/>
                              <a:rect l="0" t="0" r="r" b="b"/>
                              <a:pathLst>
                                <a:path w="909" h="896">
                                  <a:moveTo>
                                    <a:pt x="64" y="0"/>
                                  </a:moveTo>
                                  <a:lnTo>
                                    <a:pt x="0" y="600"/>
                                  </a:lnTo>
                                  <a:lnTo>
                                    <a:pt x="626" y="896"/>
                                  </a:lnTo>
                                  <a:lnTo>
                                    <a:pt x="909" y="389"/>
                                  </a:lnTo>
                                  <a:lnTo>
                                    <a:pt x="64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txBody>
                            <a:bodyPr lIns="90000" rIns="90000" tIns="45000" bIns="450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037" name=""/>
                            <p:cNvSpPr/>
                            <p:nvPr/>
                          </p:nvSpPr>
                          <p:spPr>
                            <a:xfrm>
                              <a:off x="6796080" y="4356000"/>
                              <a:ext cx="100440" cy="209880"/>
                            </a:xfrm>
                            <a:custGeom>
                              <a:avLst/>
                              <a:gdLst/>
                              <a:ahLst/>
                              <a:rect l="0" t="0" r="r" b="b"/>
                              <a:pathLst>
                                <a:path w="279" h="583">
                                  <a:moveTo>
                                    <a:pt x="279" y="0"/>
                                  </a:moveTo>
                                  <a:lnTo>
                                    <a:pt x="279" y="583"/>
                                  </a:lnTo>
                                  <a:lnTo>
                                    <a:pt x="0" y="418"/>
                                  </a:lnTo>
                                  <a:lnTo>
                                    <a:pt x="279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txBody>
                            <a:bodyPr lIns="90000" rIns="90000" tIns="45000" bIns="450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038" name=""/>
                            <p:cNvSpPr/>
                            <p:nvPr/>
                          </p:nvSpPr>
                          <p:spPr>
                            <a:xfrm>
                              <a:off x="5672160" y="4518000"/>
                              <a:ext cx="903600" cy="662400"/>
                            </a:xfrm>
                            <a:custGeom>
                              <a:avLst/>
                              <a:gdLst/>
                              <a:ahLst/>
                              <a:rect l="0" t="0" r="r" b="b"/>
                              <a:pathLst>
                                <a:path w="2510" h="1840">
                                  <a:moveTo>
                                    <a:pt x="2510" y="1584"/>
                                  </a:moveTo>
                                  <a:lnTo>
                                    <a:pt x="2510" y="1840"/>
                                  </a:lnTo>
                                  <a:lnTo>
                                    <a:pt x="0" y="239"/>
                                  </a:lnTo>
                                  <a:lnTo>
                                    <a:pt x="0" y="0"/>
                                  </a:lnTo>
                                  <a:lnTo>
                                    <a:pt x="2510" y="1584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txBody>
                            <a:bodyPr lIns="90000" rIns="90000" tIns="45000" bIns="450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039" name=""/>
                            <p:cNvSpPr/>
                            <p:nvPr/>
                          </p:nvSpPr>
                          <p:spPr>
                            <a:xfrm>
                              <a:off x="6907320" y="3963960"/>
                              <a:ext cx="1020960" cy="397080"/>
                            </a:xfrm>
                            <a:custGeom>
                              <a:avLst/>
                              <a:gdLst/>
                              <a:ahLst/>
                              <a:rect l="0" t="0" r="r" b="b"/>
                              <a:pathLst>
                                <a:path w="2836" h="1103">
                                  <a:moveTo>
                                    <a:pt x="0" y="90"/>
                                  </a:moveTo>
                                  <a:lnTo>
                                    <a:pt x="2417" y="1103"/>
                                  </a:lnTo>
                                  <a:lnTo>
                                    <a:pt x="2836" y="969"/>
                                  </a:lnTo>
                                  <a:lnTo>
                                    <a:pt x="502" y="0"/>
                                  </a:lnTo>
                                  <a:lnTo>
                                    <a:pt x="0" y="9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9f9f9f"/>
                            </a:solidFill>
                            <a:ln w="0">
                              <a:noFill/>
                            </a:ln>
                          </p:spPr>
                          <p:txBody>
                            <a:bodyPr lIns="90000" rIns="90000" tIns="45000" bIns="450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040" name=""/>
                            <p:cNvSpPr/>
                            <p:nvPr/>
                          </p:nvSpPr>
                          <p:spPr>
                            <a:xfrm>
                              <a:off x="7724880" y="4321080"/>
                              <a:ext cx="203400" cy="211320"/>
                            </a:xfrm>
                            <a:custGeom>
                              <a:avLst/>
                              <a:gdLst/>
                              <a:ahLst/>
                              <a:rect l="0" t="0" r="r" b="b"/>
                              <a:pathLst>
                                <a:path w="565" h="587">
                                  <a:moveTo>
                                    <a:pt x="565" y="0"/>
                                  </a:moveTo>
                                  <a:lnTo>
                                    <a:pt x="160" y="130"/>
                                  </a:lnTo>
                                  <a:lnTo>
                                    <a:pt x="0" y="587"/>
                                  </a:lnTo>
                                  <a:lnTo>
                                    <a:pt x="565" y="372"/>
                                  </a:lnTo>
                                  <a:lnTo>
                                    <a:pt x="565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txBody>
                            <a:bodyPr lIns="90000" rIns="90000" tIns="45000" bIns="450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041" name=""/>
                            <p:cNvSpPr/>
                            <p:nvPr/>
                          </p:nvSpPr>
                          <p:spPr>
                            <a:xfrm>
                              <a:off x="6211800" y="3997440"/>
                              <a:ext cx="1568880" cy="514800"/>
                            </a:xfrm>
                            <a:custGeom>
                              <a:avLst/>
                              <a:gdLst/>
                              <a:ahLst/>
                              <a:rect l="0" t="0" r="r" b="b"/>
                              <a:pathLst>
                                <a:path w="4358" h="1430">
                                  <a:moveTo>
                                    <a:pt x="1951" y="0"/>
                                  </a:moveTo>
                                  <a:lnTo>
                                    <a:pt x="258" y="190"/>
                                  </a:lnTo>
                                  <a:lnTo>
                                    <a:pt x="0" y="550"/>
                                  </a:lnTo>
                                  <a:lnTo>
                                    <a:pt x="61" y="650"/>
                                  </a:lnTo>
                                  <a:lnTo>
                                    <a:pt x="350" y="233"/>
                                  </a:lnTo>
                                  <a:lnTo>
                                    <a:pt x="1127" y="611"/>
                                  </a:lnTo>
                                  <a:lnTo>
                                    <a:pt x="850" y="1005"/>
                                  </a:lnTo>
                                  <a:lnTo>
                                    <a:pt x="1640" y="1413"/>
                                  </a:lnTo>
                                  <a:lnTo>
                                    <a:pt x="1920" y="996"/>
                                  </a:lnTo>
                                  <a:lnTo>
                                    <a:pt x="2797" y="1430"/>
                                  </a:lnTo>
                                  <a:lnTo>
                                    <a:pt x="4358" y="1018"/>
                                  </a:lnTo>
                                  <a:lnTo>
                                    <a:pt x="1951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c0c0c0"/>
                            </a:solidFill>
                            <a:ln w="0">
                              <a:noFill/>
                            </a:ln>
                          </p:spPr>
                          <p:txBody>
                            <a:bodyPr lIns="90000" rIns="90000" tIns="45000" bIns="450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042" name=""/>
                            <p:cNvSpPr/>
                            <p:nvPr/>
                          </p:nvSpPr>
                          <p:spPr>
                            <a:xfrm>
                              <a:off x="7165800" y="4370400"/>
                              <a:ext cx="609840" cy="319320"/>
                            </a:xfrm>
                            <a:custGeom>
                              <a:avLst/>
                              <a:gdLst/>
                              <a:ahLst/>
                              <a:rect l="0" t="0" r="r" b="b"/>
                              <a:pathLst>
                                <a:path w="1694" h="887">
                                  <a:moveTo>
                                    <a:pt x="1694" y="0"/>
                                  </a:moveTo>
                                  <a:lnTo>
                                    <a:pt x="1538" y="463"/>
                                  </a:lnTo>
                                  <a:lnTo>
                                    <a:pt x="0" y="887"/>
                                  </a:lnTo>
                                  <a:lnTo>
                                    <a:pt x="156" y="406"/>
                                  </a:lnTo>
                                  <a:lnTo>
                                    <a:pt x="1694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9f9f9f"/>
                            </a:solidFill>
                            <a:ln w="0">
                              <a:noFill/>
                            </a:ln>
                          </p:spPr>
                          <p:txBody>
                            <a:bodyPr lIns="90000" rIns="90000" tIns="45000" bIns="450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043" name=""/>
                            <p:cNvSpPr/>
                            <p:nvPr/>
                          </p:nvSpPr>
                          <p:spPr>
                            <a:xfrm>
                              <a:off x="7165800" y="4540320"/>
                              <a:ext cx="557640" cy="222480"/>
                            </a:xfrm>
                            <a:custGeom>
                              <a:avLst/>
                              <a:gdLst/>
                              <a:ahLst/>
                              <a:rect l="0" t="0" r="r" b="b"/>
                              <a:pathLst>
                                <a:path w="1549" h="618">
                                  <a:moveTo>
                                    <a:pt x="0" y="423"/>
                                  </a:moveTo>
                                  <a:lnTo>
                                    <a:pt x="0" y="618"/>
                                  </a:lnTo>
                                  <a:lnTo>
                                    <a:pt x="1549" y="0"/>
                                  </a:lnTo>
                                  <a:lnTo>
                                    <a:pt x="0" y="423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txBody>
                            <a:bodyPr lIns="90000" rIns="90000" tIns="45000" bIns="450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044" name=""/>
                            <p:cNvSpPr/>
                            <p:nvPr/>
                          </p:nvSpPr>
                          <p:spPr>
                            <a:xfrm>
                              <a:off x="5694480" y="4253040"/>
                              <a:ext cx="1462320" cy="760680"/>
                            </a:xfrm>
                            <a:custGeom>
                              <a:avLst/>
                              <a:gdLst/>
                              <a:ahLst/>
                              <a:rect l="0" t="0" r="r" b="b"/>
                              <a:pathLst>
                                <a:path w="4062" h="2113">
                                  <a:moveTo>
                                    <a:pt x="0" y="631"/>
                                  </a:moveTo>
                                  <a:lnTo>
                                    <a:pt x="2458" y="2113"/>
                                  </a:lnTo>
                                  <a:lnTo>
                                    <a:pt x="3935" y="1272"/>
                                  </a:lnTo>
                                  <a:lnTo>
                                    <a:pt x="4062" y="1220"/>
                                  </a:lnTo>
                                  <a:lnTo>
                                    <a:pt x="1704" y="0"/>
                                  </a:lnTo>
                                  <a:lnTo>
                                    <a:pt x="0" y="631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c0c0c0"/>
                            </a:solidFill>
                            <a:ln w="0">
                              <a:noFill/>
                            </a:ln>
                          </p:spPr>
                          <p:txBody>
                            <a:bodyPr lIns="90000" rIns="90000" tIns="45000" bIns="450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045" name=""/>
                            <p:cNvSpPr/>
                            <p:nvPr/>
                          </p:nvSpPr>
                          <p:spPr>
                            <a:xfrm>
                              <a:off x="6585120" y="4694400"/>
                              <a:ext cx="572040" cy="319320"/>
                            </a:xfrm>
                            <a:custGeom>
                              <a:avLst/>
                              <a:gdLst/>
                              <a:ahLst/>
                              <a:rect l="0" t="0" r="r" b="b"/>
                              <a:pathLst>
                                <a:path w="1589" h="887">
                                  <a:moveTo>
                                    <a:pt x="0" y="887"/>
                                  </a:moveTo>
                                  <a:lnTo>
                                    <a:pt x="1455" y="55"/>
                                  </a:lnTo>
                                  <a:lnTo>
                                    <a:pt x="1589" y="0"/>
                                  </a:lnTo>
                                  <a:lnTo>
                                    <a:pt x="1589" y="102"/>
                                  </a:lnTo>
                                  <a:lnTo>
                                    <a:pt x="0" y="887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9f9f9f"/>
                            </a:solidFill>
                            <a:ln w="0">
                              <a:noFill/>
                            </a:ln>
                          </p:spPr>
                          <p:txBody>
                            <a:bodyPr lIns="90000" rIns="90000" tIns="45000" bIns="450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046" name=""/>
                          <p:cNvSpPr/>
                          <p:nvPr/>
                        </p:nvSpPr>
                        <p:spPr>
                          <a:xfrm>
                            <a:off x="6575400" y="4329000"/>
                            <a:ext cx="247680" cy="127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6120" rIns="96120" tIns="51120" bIns="511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047" name=""/>
                      <p:cNvGrpSpPr/>
                      <p:nvPr/>
                    </p:nvGrpSpPr>
                    <p:grpSpPr>
                      <a:xfrm>
                        <a:off x="5770440" y="4273560"/>
                        <a:ext cx="1310400" cy="668520"/>
                        <a:chOff x="5770440" y="4273560"/>
                        <a:chExt cx="1310400" cy="668520"/>
                      </a:xfrm>
                    </p:grpSpPr>
                    <p:grpSp>
                      <p:nvGrpSpPr>
                        <p:cNvPr id="1048" name=""/>
                        <p:cNvGrpSpPr/>
                        <p:nvPr/>
                      </p:nvGrpSpPr>
                      <p:grpSpPr>
                        <a:xfrm>
                          <a:off x="5770440" y="4282920"/>
                          <a:ext cx="1308600" cy="659160"/>
                          <a:chOff x="5770440" y="4282920"/>
                          <a:chExt cx="1308600" cy="659160"/>
                        </a:xfrm>
                      </p:grpSpPr>
                      <p:sp>
                        <p:nvSpPr>
                          <p:cNvPr id="1049" name=""/>
                          <p:cNvSpPr/>
                          <p:nvPr/>
                        </p:nvSpPr>
                        <p:spPr>
                          <a:xfrm>
                            <a:off x="6087960" y="4568760"/>
                            <a:ext cx="333720" cy="18756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927" h="521">
                                <a:moveTo>
                                  <a:pt x="158" y="0"/>
                                </a:moveTo>
                                <a:lnTo>
                                  <a:pt x="927" y="445"/>
                                </a:lnTo>
                                <a:lnTo>
                                  <a:pt x="768" y="521"/>
                                </a:lnTo>
                                <a:lnTo>
                                  <a:pt x="0" y="71"/>
                                </a:lnTo>
                                <a:lnTo>
                                  <a:pt x="158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45000" bIns="450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50" name=""/>
                          <p:cNvSpPr/>
                          <p:nvPr/>
                        </p:nvSpPr>
                        <p:spPr>
                          <a:xfrm>
                            <a:off x="6381720" y="4743360"/>
                            <a:ext cx="149760" cy="7956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416" h="221">
                                <a:moveTo>
                                  <a:pt x="154" y="0"/>
                                </a:moveTo>
                                <a:lnTo>
                                  <a:pt x="416" y="138"/>
                                </a:lnTo>
                                <a:lnTo>
                                  <a:pt x="270" y="221"/>
                                </a:lnTo>
                                <a:lnTo>
                                  <a:pt x="0" y="66"/>
                                </a:lnTo>
                                <a:lnTo>
                                  <a:pt x="154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34560" bIns="345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51" name=""/>
                          <p:cNvSpPr/>
                          <p:nvPr/>
                        </p:nvSpPr>
                        <p:spPr>
                          <a:xfrm>
                            <a:off x="6442200" y="4803840"/>
                            <a:ext cx="167040" cy="8784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464" h="244">
                                <a:moveTo>
                                  <a:pt x="276" y="0"/>
                                </a:moveTo>
                                <a:lnTo>
                                  <a:pt x="464" y="112"/>
                                </a:lnTo>
                                <a:lnTo>
                                  <a:pt x="309" y="204"/>
                                </a:lnTo>
                                <a:lnTo>
                                  <a:pt x="280" y="179"/>
                                </a:lnTo>
                                <a:lnTo>
                                  <a:pt x="171" y="244"/>
                                </a:lnTo>
                                <a:lnTo>
                                  <a:pt x="0" y="144"/>
                                </a:lnTo>
                                <a:lnTo>
                                  <a:pt x="276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42840" bIns="428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52" name=""/>
                          <p:cNvSpPr/>
                          <p:nvPr/>
                        </p:nvSpPr>
                        <p:spPr>
                          <a:xfrm>
                            <a:off x="6572160" y="4851360"/>
                            <a:ext cx="157680" cy="9072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438" h="252">
                                <a:moveTo>
                                  <a:pt x="146" y="0"/>
                                </a:moveTo>
                                <a:lnTo>
                                  <a:pt x="438" y="172"/>
                                </a:lnTo>
                                <a:lnTo>
                                  <a:pt x="283" y="252"/>
                                </a:lnTo>
                                <a:lnTo>
                                  <a:pt x="0" y="83"/>
                                </a:lnTo>
                                <a:lnTo>
                                  <a:pt x="146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45000" bIns="450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53" name=""/>
                          <p:cNvSpPr/>
                          <p:nvPr/>
                        </p:nvSpPr>
                        <p:spPr>
                          <a:xfrm>
                            <a:off x="5996160" y="4513320"/>
                            <a:ext cx="128880" cy="6696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358" h="186">
                                <a:moveTo>
                                  <a:pt x="143" y="0"/>
                                </a:moveTo>
                                <a:lnTo>
                                  <a:pt x="358" y="124"/>
                                </a:lnTo>
                                <a:lnTo>
                                  <a:pt x="210" y="186"/>
                                </a:lnTo>
                                <a:lnTo>
                                  <a:pt x="0" y="65"/>
                                </a:lnTo>
                                <a:lnTo>
                                  <a:pt x="143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21960" bIns="219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54" name=""/>
                          <p:cNvSpPr/>
                          <p:nvPr/>
                        </p:nvSpPr>
                        <p:spPr>
                          <a:xfrm>
                            <a:off x="5886360" y="4448160"/>
                            <a:ext cx="113040" cy="5580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314" h="155">
                                <a:moveTo>
                                  <a:pt x="154" y="0"/>
                                </a:moveTo>
                                <a:lnTo>
                                  <a:pt x="314" y="87"/>
                                </a:lnTo>
                                <a:lnTo>
                                  <a:pt x="154" y="155"/>
                                </a:lnTo>
                                <a:lnTo>
                                  <a:pt x="0" y="63"/>
                                </a:lnTo>
                                <a:lnTo>
                                  <a:pt x="154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10800" bIns="10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55" name=""/>
                          <p:cNvSpPr/>
                          <p:nvPr/>
                        </p:nvSpPr>
                        <p:spPr>
                          <a:xfrm>
                            <a:off x="5811840" y="4486320"/>
                            <a:ext cx="103680" cy="4968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88" h="138">
                                <a:moveTo>
                                  <a:pt x="142" y="0"/>
                                </a:moveTo>
                                <a:lnTo>
                                  <a:pt x="288" y="82"/>
                                </a:lnTo>
                                <a:lnTo>
                                  <a:pt x="138" y="138"/>
                                </a:lnTo>
                                <a:lnTo>
                                  <a:pt x="0" y="52"/>
                                </a:lnTo>
                                <a:lnTo>
                                  <a:pt x="142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4680" bIns="46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56" name=""/>
                          <p:cNvSpPr/>
                          <p:nvPr/>
                        </p:nvSpPr>
                        <p:spPr>
                          <a:xfrm>
                            <a:off x="5877000" y="4525920"/>
                            <a:ext cx="86040" cy="4644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39" h="129">
                                <a:moveTo>
                                  <a:pt x="135" y="0"/>
                                </a:moveTo>
                                <a:lnTo>
                                  <a:pt x="239" y="66"/>
                                </a:lnTo>
                                <a:lnTo>
                                  <a:pt x="124" y="129"/>
                                </a:lnTo>
                                <a:lnTo>
                                  <a:pt x="0" y="59"/>
                                </a:lnTo>
                                <a:lnTo>
                                  <a:pt x="135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1440" bIns="14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57" name=""/>
                          <p:cNvSpPr/>
                          <p:nvPr/>
                        </p:nvSpPr>
                        <p:spPr>
                          <a:xfrm>
                            <a:off x="5770440" y="4460760"/>
                            <a:ext cx="79560" cy="3384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21" h="94">
                                <a:moveTo>
                                  <a:pt x="138" y="0"/>
                                </a:moveTo>
                                <a:lnTo>
                                  <a:pt x="221" y="45"/>
                                </a:lnTo>
                                <a:lnTo>
                                  <a:pt x="78" y="94"/>
                                </a:lnTo>
                                <a:lnTo>
                                  <a:pt x="0" y="49"/>
                                </a:lnTo>
                                <a:lnTo>
                                  <a:pt x="138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-11160" bIns="-111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58" name=""/>
                          <p:cNvSpPr/>
                          <p:nvPr/>
                        </p:nvSpPr>
                        <p:spPr>
                          <a:xfrm>
                            <a:off x="6643800" y="4809960"/>
                            <a:ext cx="159120" cy="8784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442" h="244">
                                <a:moveTo>
                                  <a:pt x="146" y="0"/>
                                </a:moveTo>
                                <a:lnTo>
                                  <a:pt x="442" y="164"/>
                                </a:lnTo>
                                <a:lnTo>
                                  <a:pt x="283" y="244"/>
                                </a:lnTo>
                                <a:lnTo>
                                  <a:pt x="0" y="84"/>
                                </a:lnTo>
                                <a:lnTo>
                                  <a:pt x="146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42840" bIns="428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59" name=""/>
                          <p:cNvSpPr/>
                          <p:nvPr/>
                        </p:nvSpPr>
                        <p:spPr>
                          <a:xfrm>
                            <a:off x="6721560" y="4770360"/>
                            <a:ext cx="152640" cy="8460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424" h="235">
                                <a:moveTo>
                                  <a:pt x="141" y="0"/>
                                </a:moveTo>
                                <a:lnTo>
                                  <a:pt x="424" y="159"/>
                                </a:lnTo>
                                <a:lnTo>
                                  <a:pt x="279" y="235"/>
                                </a:lnTo>
                                <a:lnTo>
                                  <a:pt x="0" y="72"/>
                                </a:lnTo>
                                <a:lnTo>
                                  <a:pt x="141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39600" bIns="396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60" name=""/>
                          <p:cNvSpPr/>
                          <p:nvPr/>
                        </p:nvSpPr>
                        <p:spPr>
                          <a:xfrm>
                            <a:off x="6794640" y="4729320"/>
                            <a:ext cx="157680" cy="8136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438" h="226">
                                <a:moveTo>
                                  <a:pt x="134" y="0"/>
                                </a:moveTo>
                                <a:lnTo>
                                  <a:pt x="438" y="154"/>
                                </a:lnTo>
                                <a:lnTo>
                                  <a:pt x="275" y="226"/>
                                </a:lnTo>
                                <a:lnTo>
                                  <a:pt x="0" y="75"/>
                                </a:lnTo>
                                <a:lnTo>
                                  <a:pt x="134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36360" bIns="363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61" name=""/>
                          <p:cNvSpPr/>
                          <p:nvPr/>
                        </p:nvSpPr>
                        <p:spPr>
                          <a:xfrm>
                            <a:off x="6578640" y="4773600"/>
                            <a:ext cx="103680" cy="5436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88" h="151">
                                <a:moveTo>
                                  <a:pt x="154" y="0"/>
                                </a:moveTo>
                                <a:lnTo>
                                  <a:pt x="288" y="75"/>
                                </a:lnTo>
                                <a:lnTo>
                                  <a:pt x="138" y="151"/>
                                </a:lnTo>
                                <a:lnTo>
                                  <a:pt x="0" y="75"/>
                                </a:lnTo>
                                <a:lnTo>
                                  <a:pt x="154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9360" bIns="93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62" name=""/>
                          <p:cNvSpPr/>
                          <p:nvPr/>
                        </p:nvSpPr>
                        <p:spPr>
                          <a:xfrm>
                            <a:off x="6659640" y="4734000"/>
                            <a:ext cx="97200" cy="5292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70" h="147">
                                <a:moveTo>
                                  <a:pt x="137" y="0"/>
                                </a:moveTo>
                                <a:lnTo>
                                  <a:pt x="270" y="75"/>
                                </a:lnTo>
                                <a:lnTo>
                                  <a:pt x="125" y="147"/>
                                </a:lnTo>
                                <a:lnTo>
                                  <a:pt x="0" y="75"/>
                                </a:lnTo>
                                <a:lnTo>
                                  <a:pt x="137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7920" bIns="79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63" name=""/>
                          <p:cNvSpPr/>
                          <p:nvPr/>
                        </p:nvSpPr>
                        <p:spPr>
                          <a:xfrm>
                            <a:off x="6732720" y="4694400"/>
                            <a:ext cx="97200" cy="4968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70" h="138">
                                <a:moveTo>
                                  <a:pt x="141" y="0"/>
                                </a:moveTo>
                                <a:lnTo>
                                  <a:pt x="270" y="71"/>
                                </a:lnTo>
                                <a:lnTo>
                                  <a:pt x="133" y="138"/>
                                </a:lnTo>
                                <a:lnTo>
                                  <a:pt x="0" y="74"/>
                                </a:lnTo>
                                <a:lnTo>
                                  <a:pt x="141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4680" bIns="46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64" name=""/>
                          <p:cNvSpPr/>
                          <p:nvPr/>
                        </p:nvSpPr>
                        <p:spPr>
                          <a:xfrm>
                            <a:off x="6807240" y="4653000"/>
                            <a:ext cx="95760" cy="4968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66" h="138">
                                <a:moveTo>
                                  <a:pt x="137" y="0"/>
                                </a:moveTo>
                                <a:lnTo>
                                  <a:pt x="266" y="63"/>
                                </a:lnTo>
                                <a:lnTo>
                                  <a:pt x="125" y="138"/>
                                </a:lnTo>
                                <a:lnTo>
                                  <a:pt x="0" y="78"/>
                                </a:lnTo>
                                <a:lnTo>
                                  <a:pt x="137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4680" bIns="46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65" name=""/>
                          <p:cNvSpPr/>
                          <p:nvPr/>
                        </p:nvSpPr>
                        <p:spPr>
                          <a:xfrm>
                            <a:off x="6877080" y="4624560"/>
                            <a:ext cx="79560" cy="4176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21" h="116">
                                <a:moveTo>
                                  <a:pt x="102" y="0"/>
                                </a:moveTo>
                                <a:lnTo>
                                  <a:pt x="221" y="61"/>
                                </a:lnTo>
                                <a:lnTo>
                                  <a:pt x="119" y="116"/>
                                </a:lnTo>
                                <a:lnTo>
                                  <a:pt x="0" y="51"/>
                                </a:lnTo>
                                <a:lnTo>
                                  <a:pt x="102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-3240" bIns="-32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66" name=""/>
                          <p:cNvSpPr/>
                          <p:nvPr/>
                        </p:nvSpPr>
                        <p:spPr>
                          <a:xfrm>
                            <a:off x="6934320" y="4656240"/>
                            <a:ext cx="84600" cy="4176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35" h="116">
                                <a:moveTo>
                                  <a:pt x="111" y="0"/>
                                </a:moveTo>
                                <a:lnTo>
                                  <a:pt x="235" y="54"/>
                                </a:lnTo>
                                <a:lnTo>
                                  <a:pt x="127" y="116"/>
                                </a:lnTo>
                                <a:lnTo>
                                  <a:pt x="0" y="54"/>
                                </a:lnTo>
                                <a:lnTo>
                                  <a:pt x="111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-3240" bIns="-32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67" name=""/>
                          <p:cNvSpPr/>
                          <p:nvPr/>
                        </p:nvSpPr>
                        <p:spPr>
                          <a:xfrm>
                            <a:off x="6865920" y="4687920"/>
                            <a:ext cx="98640" cy="4788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74" h="133">
                                <a:moveTo>
                                  <a:pt x="145" y="0"/>
                                </a:moveTo>
                                <a:lnTo>
                                  <a:pt x="274" y="58"/>
                                </a:lnTo>
                                <a:lnTo>
                                  <a:pt x="124" y="133"/>
                                </a:lnTo>
                                <a:lnTo>
                                  <a:pt x="0" y="67"/>
                                </a:lnTo>
                                <a:lnTo>
                                  <a:pt x="145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2880" bIns="28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68" name=""/>
                          <p:cNvSpPr/>
                          <p:nvPr/>
                        </p:nvSpPr>
                        <p:spPr>
                          <a:xfrm>
                            <a:off x="6996240" y="4687920"/>
                            <a:ext cx="82800" cy="4464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30" h="124">
                                <a:moveTo>
                                  <a:pt x="106" y="0"/>
                                </a:moveTo>
                                <a:lnTo>
                                  <a:pt x="230" y="61"/>
                                </a:lnTo>
                                <a:lnTo>
                                  <a:pt x="123" y="124"/>
                                </a:lnTo>
                                <a:lnTo>
                                  <a:pt x="0" y="58"/>
                                </a:lnTo>
                                <a:lnTo>
                                  <a:pt x="106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-360" bIns="-3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69" name=""/>
                          <p:cNvSpPr/>
                          <p:nvPr/>
                        </p:nvSpPr>
                        <p:spPr>
                          <a:xfrm>
                            <a:off x="6926400" y="4718160"/>
                            <a:ext cx="98640" cy="5112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74" h="142">
                                <a:moveTo>
                                  <a:pt x="141" y="0"/>
                                </a:moveTo>
                                <a:lnTo>
                                  <a:pt x="274" y="66"/>
                                </a:lnTo>
                                <a:lnTo>
                                  <a:pt x="124" y="142"/>
                                </a:lnTo>
                                <a:lnTo>
                                  <a:pt x="0" y="78"/>
                                </a:lnTo>
                                <a:lnTo>
                                  <a:pt x="141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6120" bIns="61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70" name=""/>
                          <p:cNvSpPr/>
                          <p:nvPr/>
                        </p:nvSpPr>
                        <p:spPr>
                          <a:xfrm>
                            <a:off x="6593040" y="4699080"/>
                            <a:ext cx="101880" cy="5112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83" h="142">
                                <a:moveTo>
                                  <a:pt x="142" y="0"/>
                                </a:moveTo>
                                <a:lnTo>
                                  <a:pt x="283" y="70"/>
                                </a:lnTo>
                                <a:lnTo>
                                  <a:pt x="137" y="142"/>
                                </a:lnTo>
                                <a:lnTo>
                                  <a:pt x="0" y="70"/>
                                </a:lnTo>
                                <a:lnTo>
                                  <a:pt x="142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6120" bIns="61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71" name=""/>
                          <p:cNvSpPr/>
                          <p:nvPr/>
                        </p:nvSpPr>
                        <p:spPr>
                          <a:xfrm>
                            <a:off x="6669000" y="4659480"/>
                            <a:ext cx="100440" cy="4968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79" h="138">
                                <a:moveTo>
                                  <a:pt x="145" y="0"/>
                                </a:moveTo>
                                <a:lnTo>
                                  <a:pt x="279" y="71"/>
                                </a:lnTo>
                                <a:lnTo>
                                  <a:pt x="137" y="138"/>
                                </a:lnTo>
                                <a:lnTo>
                                  <a:pt x="0" y="71"/>
                                </a:lnTo>
                                <a:lnTo>
                                  <a:pt x="145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4680" bIns="46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72" name=""/>
                          <p:cNvSpPr/>
                          <p:nvPr/>
                        </p:nvSpPr>
                        <p:spPr>
                          <a:xfrm>
                            <a:off x="6748560" y="4621320"/>
                            <a:ext cx="95760" cy="4788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66" h="133">
                                <a:moveTo>
                                  <a:pt x="141" y="0"/>
                                </a:moveTo>
                                <a:lnTo>
                                  <a:pt x="266" y="58"/>
                                </a:lnTo>
                                <a:lnTo>
                                  <a:pt x="121" y="133"/>
                                </a:lnTo>
                                <a:lnTo>
                                  <a:pt x="0" y="70"/>
                                </a:lnTo>
                                <a:lnTo>
                                  <a:pt x="141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2880" bIns="28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73" name=""/>
                          <p:cNvSpPr/>
                          <p:nvPr/>
                        </p:nvSpPr>
                        <p:spPr>
                          <a:xfrm>
                            <a:off x="6819840" y="4592520"/>
                            <a:ext cx="78120" cy="3852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17" h="107">
                                <a:moveTo>
                                  <a:pt x="94" y="0"/>
                                </a:moveTo>
                                <a:lnTo>
                                  <a:pt x="217" y="60"/>
                                </a:lnTo>
                                <a:lnTo>
                                  <a:pt x="111" y="107"/>
                                </a:lnTo>
                                <a:lnTo>
                                  <a:pt x="0" y="53"/>
                                </a:lnTo>
                                <a:lnTo>
                                  <a:pt x="94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-6480" bIns="-64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74" name=""/>
                          <p:cNvSpPr/>
                          <p:nvPr/>
                        </p:nvSpPr>
                        <p:spPr>
                          <a:xfrm>
                            <a:off x="6516720" y="4737240"/>
                            <a:ext cx="103680" cy="5292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88" h="147">
                                <a:moveTo>
                                  <a:pt x="146" y="0"/>
                                </a:moveTo>
                                <a:lnTo>
                                  <a:pt x="288" y="75"/>
                                </a:lnTo>
                                <a:lnTo>
                                  <a:pt x="142" y="147"/>
                                </a:lnTo>
                                <a:lnTo>
                                  <a:pt x="0" y="71"/>
                                </a:lnTo>
                                <a:lnTo>
                                  <a:pt x="146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7920" bIns="79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75" name=""/>
                          <p:cNvSpPr/>
                          <p:nvPr/>
                        </p:nvSpPr>
                        <p:spPr>
                          <a:xfrm>
                            <a:off x="6451560" y="4699080"/>
                            <a:ext cx="101880" cy="5580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83" h="155">
                                <a:moveTo>
                                  <a:pt x="150" y="0"/>
                                </a:moveTo>
                                <a:lnTo>
                                  <a:pt x="283" y="75"/>
                                </a:lnTo>
                                <a:lnTo>
                                  <a:pt x="142" y="155"/>
                                </a:lnTo>
                                <a:lnTo>
                                  <a:pt x="0" y="75"/>
                                </a:lnTo>
                                <a:lnTo>
                                  <a:pt x="15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10800" bIns="10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76" name=""/>
                          <p:cNvSpPr/>
                          <p:nvPr/>
                        </p:nvSpPr>
                        <p:spPr>
                          <a:xfrm>
                            <a:off x="6534000" y="4660920"/>
                            <a:ext cx="98640" cy="5436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74" h="151">
                                <a:moveTo>
                                  <a:pt x="145" y="0"/>
                                </a:moveTo>
                                <a:lnTo>
                                  <a:pt x="274" y="75"/>
                                </a:lnTo>
                                <a:lnTo>
                                  <a:pt x="128" y="151"/>
                                </a:lnTo>
                                <a:lnTo>
                                  <a:pt x="0" y="75"/>
                                </a:lnTo>
                                <a:lnTo>
                                  <a:pt x="145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9360" bIns="93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77" name=""/>
                          <p:cNvSpPr/>
                          <p:nvPr/>
                        </p:nvSpPr>
                        <p:spPr>
                          <a:xfrm>
                            <a:off x="6611760" y="4626000"/>
                            <a:ext cx="97200" cy="5292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70" h="147">
                                <a:moveTo>
                                  <a:pt x="141" y="0"/>
                                </a:moveTo>
                                <a:lnTo>
                                  <a:pt x="270" y="71"/>
                                </a:lnTo>
                                <a:lnTo>
                                  <a:pt x="133" y="147"/>
                                </a:lnTo>
                                <a:lnTo>
                                  <a:pt x="0" y="75"/>
                                </a:lnTo>
                                <a:lnTo>
                                  <a:pt x="141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7920" bIns="79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78" name=""/>
                          <p:cNvSpPr/>
                          <p:nvPr/>
                        </p:nvSpPr>
                        <p:spPr>
                          <a:xfrm>
                            <a:off x="6688080" y="4586400"/>
                            <a:ext cx="95760" cy="4968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66" h="138">
                                <a:moveTo>
                                  <a:pt x="145" y="0"/>
                                </a:moveTo>
                                <a:lnTo>
                                  <a:pt x="266" y="60"/>
                                </a:lnTo>
                                <a:lnTo>
                                  <a:pt x="125" y="138"/>
                                </a:lnTo>
                                <a:lnTo>
                                  <a:pt x="0" y="74"/>
                                </a:lnTo>
                                <a:lnTo>
                                  <a:pt x="145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4680" bIns="46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79" name=""/>
                          <p:cNvSpPr/>
                          <p:nvPr/>
                        </p:nvSpPr>
                        <p:spPr>
                          <a:xfrm>
                            <a:off x="6759720" y="4559400"/>
                            <a:ext cx="76680" cy="3996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13" h="111">
                                <a:moveTo>
                                  <a:pt x="102" y="0"/>
                                </a:moveTo>
                                <a:lnTo>
                                  <a:pt x="213" y="61"/>
                                </a:lnTo>
                                <a:lnTo>
                                  <a:pt x="118" y="111"/>
                                </a:lnTo>
                                <a:lnTo>
                                  <a:pt x="0" y="49"/>
                                </a:lnTo>
                                <a:lnTo>
                                  <a:pt x="102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-5040" bIns="-50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80" name=""/>
                          <p:cNvSpPr/>
                          <p:nvPr/>
                        </p:nvSpPr>
                        <p:spPr>
                          <a:xfrm>
                            <a:off x="6472080" y="4629240"/>
                            <a:ext cx="98640" cy="5112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74" h="142">
                                <a:moveTo>
                                  <a:pt x="145" y="0"/>
                                </a:moveTo>
                                <a:lnTo>
                                  <a:pt x="274" y="70"/>
                                </a:lnTo>
                                <a:lnTo>
                                  <a:pt x="136" y="142"/>
                                </a:lnTo>
                                <a:lnTo>
                                  <a:pt x="0" y="70"/>
                                </a:lnTo>
                                <a:lnTo>
                                  <a:pt x="145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6120" bIns="61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81" name=""/>
                          <p:cNvSpPr/>
                          <p:nvPr/>
                        </p:nvSpPr>
                        <p:spPr>
                          <a:xfrm>
                            <a:off x="6548400" y="4591080"/>
                            <a:ext cx="101880" cy="5112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83" h="142">
                                <a:moveTo>
                                  <a:pt x="150" y="0"/>
                                </a:moveTo>
                                <a:lnTo>
                                  <a:pt x="283" y="66"/>
                                </a:lnTo>
                                <a:lnTo>
                                  <a:pt x="133" y="142"/>
                                </a:lnTo>
                                <a:lnTo>
                                  <a:pt x="0" y="66"/>
                                </a:lnTo>
                                <a:lnTo>
                                  <a:pt x="15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6120" bIns="61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82" name=""/>
                          <p:cNvSpPr/>
                          <p:nvPr/>
                        </p:nvSpPr>
                        <p:spPr>
                          <a:xfrm>
                            <a:off x="6629400" y="4554360"/>
                            <a:ext cx="97200" cy="4644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70" h="129">
                                <a:moveTo>
                                  <a:pt x="141" y="0"/>
                                </a:moveTo>
                                <a:lnTo>
                                  <a:pt x="270" y="63"/>
                                </a:lnTo>
                                <a:lnTo>
                                  <a:pt x="129" y="129"/>
                                </a:lnTo>
                                <a:lnTo>
                                  <a:pt x="0" y="70"/>
                                </a:lnTo>
                                <a:lnTo>
                                  <a:pt x="141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1440" bIns="14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83" name=""/>
                          <p:cNvSpPr/>
                          <p:nvPr/>
                        </p:nvSpPr>
                        <p:spPr>
                          <a:xfrm>
                            <a:off x="6700680" y="4530600"/>
                            <a:ext cx="78120" cy="3528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17" h="98">
                                <a:moveTo>
                                  <a:pt x="98" y="0"/>
                                </a:moveTo>
                                <a:lnTo>
                                  <a:pt x="217" y="52"/>
                                </a:lnTo>
                                <a:lnTo>
                                  <a:pt x="118" y="98"/>
                                </a:lnTo>
                                <a:lnTo>
                                  <a:pt x="0" y="41"/>
                                </a:lnTo>
                                <a:lnTo>
                                  <a:pt x="98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-9720" bIns="-97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84" name=""/>
                          <p:cNvSpPr/>
                          <p:nvPr/>
                        </p:nvSpPr>
                        <p:spPr>
                          <a:xfrm>
                            <a:off x="6391440" y="4664160"/>
                            <a:ext cx="105120" cy="5436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92" h="151">
                                <a:moveTo>
                                  <a:pt x="154" y="0"/>
                                </a:moveTo>
                                <a:lnTo>
                                  <a:pt x="292" y="72"/>
                                </a:lnTo>
                                <a:lnTo>
                                  <a:pt x="150" y="151"/>
                                </a:lnTo>
                                <a:lnTo>
                                  <a:pt x="0" y="72"/>
                                </a:lnTo>
                                <a:lnTo>
                                  <a:pt x="154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9360" bIns="93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85" name=""/>
                          <p:cNvSpPr/>
                          <p:nvPr/>
                        </p:nvSpPr>
                        <p:spPr>
                          <a:xfrm>
                            <a:off x="6334200" y="4630680"/>
                            <a:ext cx="97200" cy="5112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70" h="142">
                                <a:moveTo>
                                  <a:pt x="145" y="0"/>
                                </a:moveTo>
                                <a:lnTo>
                                  <a:pt x="270" y="66"/>
                                </a:lnTo>
                                <a:lnTo>
                                  <a:pt x="133" y="142"/>
                                </a:lnTo>
                                <a:lnTo>
                                  <a:pt x="0" y="70"/>
                                </a:lnTo>
                                <a:lnTo>
                                  <a:pt x="145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6120" bIns="61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86" name=""/>
                          <p:cNvSpPr/>
                          <p:nvPr/>
                        </p:nvSpPr>
                        <p:spPr>
                          <a:xfrm>
                            <a:off x="6410160" y="4592520"/>
                            <a:ext cx="100440" cy="5112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79" h="142">
                                <a:moveTo>
                                  <a:pt x="145" y="0"/>
                                </a:moveTo>
                                <a:lnTo>
                                  <a:pt x="279" y="70"/>
                                </a:lnTo>
                                <a:lnTo>
                                  <a:pt x="133" y="142"/>
                                </a:lnTo>
                                <a:lnTo>
                                  <a:pt x="0" y="70"/>
                                </a:lnTo>
                                <a:lnTo>
                                  <a:pt x="145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6120" bIns="61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87" name=""/>
                          <p:cNvSpPr/>
                          <p:nvPr/>
                        </p:nvSpPr>
                        <p:spPr>
                          <a:xfrm>
                            <a:off x="6489720" y="4556160"/>
                            <a:ext cx="95760" cy="5292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66" h="147">
                                <a:moveTo>
                                  <a:pt x="141" y="0"/>
                                </a:moveTo>
                                <a:lnTo>
                                  <a:pt x="266" y="68"/>
                                </a:lnTo>
                                <a:lnTo>
                                  <a:pt x="129" y="147"/>
                                </a:lnTo>
                                <a:lnTo>
                                  <a:pt x="0" y="71"/>
                                </a:lnTo>
                                <a:lnTo>
                                  <a:pt x="141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7920" bIns="79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88" name=""/>
                          <p:cNvSpPr/>
                          <p:nvPr/>
                        </p:nvSpPr>
                        <p:spPr>
                          <a:xfrm>
                            <a:off x="6566040" y="4522680"/>
                            <a:ext cx="95760" cy="4644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66" h="129">
                                <a:moveTo>
                                  <a:pt x="141" y="0"/>
                                </a:moveTo>
                                <a:lnTo>
                                  <a:pt x="266" y="63"/>
                                </a:lnTo>
                                <a:lnTo>
                                  <a:pt x="125" y="129"/>
                                </a:lnTo>
                                <a:lnTo>
                                  <a:pt x="0" y="70"/>
                                </a:lnTo>
                                <a:lnTo>
                                  <a:pt x="141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1440" bIns="14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89" name=""/>
                          <p:cNvSpPr/>
                          <p:nvPr/>
                        </p:nvSpPr>
                        <p:spPr>
                          <a:xfrm>
                            <a:off x="6642000" y="4497480"/>
                            <a:ext cx="74880" cy="3528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08" h="98">
                                <a:moveTo>
                                  <a:pt x="97" y="0"/>
                                </a:moveTo>
                                <a:lnTo>
                                  <a:pt x="208" y="56"/>
                                </a:lnTo>
                                <a:lnTo>
                                  <a:pt x="110" y="98"/>
                                </a:lnTo>
                                <a:lnTo>
                                  <a:pt x="0" y="41"/>
                                </a:lnTo>
                                <a:lnTo>
                                  <a:pt x="97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-9720" bIns="-97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90" name=""/>
                          <p:cNvSpPr/>
                          <p:nvPr/>
                        </p:nvSpPr>
                        <p:spPr>
                          <a:xfrm>
                            <a:off x="6351480" y="4559400"/>
                            <a:ext cx="95760" cy="5112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66" h="142">
                                <a:moveTo>
                                  <a:pt x="145" y="0"/>
                                </a:moveTo>
                                <a:lnTo>
                                  <a:pt x="266" y="70"/>
                                </a:lnTo>
                                <a:lnTo>
                                  <a:pt x="125" y="142"/>
                                </a:lnTo>
                                <a:lnTo>
                                  <a:pt x="0" y="70"/>
                                </a:lnTo>
                                <a:lnTo>
                                  <a:pt x="145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6120" bIns="61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91" name=""/>
                          <p:cNvSpPr/>
                          <p:nvPr/>
                        </p:nvSpPr>
                        <p:spPr>
                          <a:xfrm>
                            <a:off x="6431040" y="4524480"/>
                            <a:ext cx="93960" cy="4788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61" h="133">
                                <a:moveTo>
                                  <a:pt x="149" y="0"/>
                                </a:moveTo>
                                <a:lnTo>
                                  <a:pt x="261" y="62"/>
                                </a:lnTo>
                                <a:lnTo>
                                  <a:pt x="120" y="133"/>
                                </a:lnTo>
                                <a:lnTo>
                                  <a:pt x="0" y="67"/>
                                </a:lnTo>
                                <a:lnTo>
                                  <a:pt x="149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2880" bIns="28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92" name=""/>
                          <p:cNvSpPr/>
                          <p:nvPr/>
                        </p:nvSpPr>
                        <p:spPr>
                          <a:xfrm>
                            <a:off x="6507000" y="4489560"/>
                            <a:ext cx="97200" cy="4968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70" h="138">
                                <a:moveTo>
                                  <a:pt x="145" y="0"/>
                                </a:moveTo>
                                <a:lnTo>
                                  <a:pt x="270" y="63"/>
                                </a:lnTo>
                                <a:lnTo>
                                  <a:pt x="125" y="138"/>
                                </a:lnTo>
                                <a:lnTo>
                                  <a:pt x="0" y="67"/>
                                </a:lnTo>
                                <a:lnTo>
                                  <a:pt x="145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4680" bIns="46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93" name=""/>
                          <p:cNvSpPr/>
                          <p:nvPr/>
                        </p:nvSpPr>
                        <p:spPr>
                          <a:xfrm>
                            <a:off x="6580080" y="4464000"/>
                            <a:ext cx="78120" cy="3852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17" h="107">
                                <a:moveTo>
                                  <a:pt x="94" y="0"/>
                                </a:moveTo>
                                <a:lnTo>
                                  <a:pt x="217" y="57"/>
                                </a:lnTo>
                                <a:lnTo>
                                  <a:pt x="122" y="107"/>
                                </a:lnTo>
                                <a:lnTo>
                                  <a:pt x="0" y="43"/>
                                </a:lnTo>
                                <a:lnTo>
                                  <a:pt x="94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-6480" bIns="-64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94" name=""/>
                          <p:cNvSpPr/>
                          <p:nvPr/>
                        </p:nvSpPr>
                        <p:spPr>
                          <a:xfrm>
                            <a:off x="6275520" y="4595760"/>
                            <a:ext cx="98640" cy="5112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74" h="142">
                                <a:moveTo>
                                  <a:pt x="145" y="0"/>
                                </a:moveTo>
                                <a:lnTo>
                                  <a:pt x="274" y="70"/>
                                </a:lnTo>
                                <a:lnTo>
                                  <a:pt x="116" y="142"/>
                                </a:lnTo>
                                <a:lnTo>
                                  <a:pt x="0" y="66"/>
                                </a:lnTo>
                                <a:lnTo>
                                  <a:pt x="145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6120" bIns="61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95" name=""/>
                          <p:cNvSpPr/>
                          <p:nvPr/>
                        </p:nvSpPr>
                        <p:spPr>
                          <a:xfrm>
                            <a:off x="6210360" y="4559400"/>
                            <a:ext cx="100440" cy="5112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79" h="142">
                                <a:moveTo>
                                  <a:pt x="166" y="0"/>
                                </a:moveTo>
                                <a:lnTo>
                                  <a:pt x="279" y="70"/>
                                </a:lnTo>
                                <a:lnTo>
                                  <a:pt x="133" y="142"/>
                                </a:lnTo>
                                <a:lnTo>
                                  <a:pt x="0" y="70"/>
                                </a:lnTo>
                                <a:lnTo>
                                  <a:pt x="166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6120" bIns="61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96" name=""/>
                          <p:cNvSpPr/>
                          <p:nvPr/>
                        </p:nvSpPr>
                        <p:spPr>
                          <a:xfrm>
                            <a:off x="6289560" y="4529160"/>
                            <a:ext cx="100440" cy="4464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79" h="124">
                                <a:moveTo>
                                  <a:pt x="149" y="0"/>
                                </a:moveTo>
                                <a:lnTo>
                                  <a:pt x="279" y="58"/>
                                </a:lnTo>
                                <a:lnTo>
                                  <a:pt x="125" y="124"/>
                                </a:lnTo>
                                <a:lnTo>
                                  <a:pt x="0" y="58"/>
                                </a:lnTo>
                                <a:lnTo>
                                  <a:pt x="149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-360" bIns="-3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97" name=""/>
                          <p:cNvSpPr/>
                          <p:nvPr/>
                        </p:nvSpPr>
                        <p:spPr>
                          <a:xfrm>
                            <a:off x="6369120" y="4489560"/>
                            <a:ext cx="98640" cy="5112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74" h="142">
                                <a:moveTo>
                                  <a:pt x="149" y="0"/>
                                </a:moveTo>
                                <a:lnTo>
                                  <a:pt x="274" y="66"/>
                                </a:lnTo>
                                <a:lnTo>
                                  <a:pt x="128" y="142"/>
                                </a:lnTo>
                                <a:lnTo>
                                  <a:pt x="0" y="66"/>
                                </a:lnTo>
                                <a:lnTo>
                                  <a:pt x="149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6120" bIns="61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98" name=""/>
                          <p:cNvSpPr/>
                          <p:nvPr/>
                        </p:nvSpPr>
                        <p:spPr>
                          <a:xfrm>
                            <a:off x="6443640" y="4457880"/>
                            <a:ext cx="103680" cy="4644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88" h="129">
                                <a:moveTo>
                                  <a:pt x="158" y="0"/>
                                </a:moveTo>
                                <a:lnTo>
                                  <a:pt x="288" y="59"/>
                                </a:lnTo>
                                <a:lnTo>
                                  <a:pt x="130" y="129"/>
                                </a:lnTo>
                                <a:lnTo>
                                  <a:pt x="0" y="63"/>
                                </a:lnTo>
                                <a:lnTo>
                                  <a:pt x="158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1440" bIns="14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99" name=""/>
                          <p:cNvSpPr/>
                          <p:nvPr/>
                        </p:nvSpPr>
                        <p:spPr>
                          <a:xfrm>
                            <a:off x="6523200" y="4433760"/>
                            <a:ext cx="74880" cy="3528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08" h="98">
                                <a:moveTo>
                                  <a:pt x="89" y="0"/>
                                </a:moveTo>
                                <a:lnTo>
                                  <a:pt x="208" y="59"/>
                                </a:lnTo>
                                <a:lnTo>
                                  <a:pt x="122" y="98"/>
                                </a:lnTo>
                                <a:lnTo>
                                  <a:pt x="0" y="34"/>
                                </a:lnTo>
                                <a:lnTo>
                                  <a:pt x="89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-9720" bIns="-97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00" name=""/>
                          <p:cNvSpPr/>
                          <p:nvPr/>
                        </p:nvSpPr>
                        <p:spPr>
                          <a:xfrm>
                            <a:off x="6238800" y="4497480"/>
                            <a:ext cx="89280" cy="4320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48" h="120">
                                <a:moveTo>
                                  <a:pt x="148" y="0"/>
                                </a:moveTo>
                                <a:lnTo>
                                  <a:pt x="248" y="57"/>
                                </a:lnTo>
                                <a:lnTo>
                                  <a:pt x="104" y="120"/>
                                </a:lnTo>
                                <a:lnTo>
                                  <a:pt x="0" y="62"/>
                                </a:lnTo>
                                <a:lnTo>
                                  <a:pt x="148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-1800" bIns="-1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01" name=""/>
                          <p:cNvSpPr/>
                          <p:nvPr/>
                        </p:nvSpPr>
                        <p:spPr>
                          <a:xfrm>
                            <a:off x="6316560" y="4462560"/>
                            <a:ext cx="90720" cy="4176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52" h="116">
                                <a:moveTo>
                                  <a:pt x="144" y="0"/>
                                </a:moveTo>
                                <a:lnTo>
                                  <a:pt x="252" y="54"/>
                                </a:lnTo>
                                <a:lnTo>
                                  <a:pt x="103" y="116"/>
                                </a:lnTo>
                                <a:lnTo>
                                  <a:pt x="0" y="61"/>
                                </a:lnTo>
                                <a:lnTo>
                                  <a:pt x="144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-3240" bIns="-32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02" name=""/>
                          <p:cNvSpPr/>
                          <p:nvPr/>
                        </p:nvSpPr>
                        <p:spPr>
                          <a:xfrm>
                            <a:off x="6389640" y="4427640"/>
                            <a:ext cx="95760" cy="4176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66" h="116">
                                <a:moveTo>
                                  <a:pt x="161" y="0"/>
                                </a:moveTo>
                                <a:lnTo>
                                  <a:pt x="266" y="51"/>
                                </a:lnTo>
                                <a:lnTo>
                                  <a:pt x="117" y="116"/>
                                </a:lnTo>
                                <a:lnTo>
                                  <a:pt x="0" y="61"/>
                                </a:lnTo>
                                <a:lnTo>
                                  <a:pt x="161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-3240" bIns="-32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03" name=""/>
                          <p:cNvSpPr/>
                          <p:nvPr/>
                        </p:nvSpPr>
                        <p:spPr>
                          <a:xfrm>
                            <a:off x="6464160" y="4402080"/>
                            <a:ext cx="73440" cy="3384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04" h="94">
                                <a:moveTo>
                                  <a:pt x="94" y="0"/>
                                </a:moveTo>
                                <a:lnTo>
                                  <a:pt x="204" y="55"/>
                                </a:lnTo>
                                <a:lnTo>
                                  <a:pt x="114" y="94"/>
                                </a:lnTo>
                                <a:lnTo>
                                  <a:pt x="0" y="38"/>
                                </a:lnTo>
                                <a:lnTo>
                                  <a:pt x="94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-11160" bIns="-111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04" name=""/>
                          <p:cNvSpPr/>
                          <p:nvPr/>
                        </p:nvSpPr>
                        <p:spPr>
                          <a:xfrm>
                            <a:off x="6161040" y="4532400"/>
                            <a:ext cx="92520" cy="4176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57" h="116">
                                <a:moveTo>
                                  <a:pt x="160" y="0"/>
                                </a:moveTo>
                                <a:lnTo>
                                  <a:pt x="257" y="51"/>
                                </a:lnTo>
                                <a:lnTo>
                                  <a:pt x="100" y="116"/>
                                </a:lnTo>
                                <a:lnTo>
                                  <a:pt x="0" y="61"/>
                                </a:lnTo>
                                <a:lnTo>
                                  <a:pt x="16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-3240" bIns="-32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05" name=""/>
                          <p:cNvSpPr/>
                          <p:nvPr/>
                        </p:nvSpPr>
                        <p:spPr>
                          <a:xfrm>
                            <a:off x="6168960" y="4457880"/>
                            <a:ext cx="106560" cy="5112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96" h="142">
                                <a:moveTo>
                                  <a:pt x="154" y="0"/>
                                </a:moveTo>
                                <a:lnTo>
                                  <a:pt x="296" y="75"/>
                                </a:lnTo>
                                <a:lnTo>
                                  <a:pt x="154" y="142"/>
                                </a:lnTo>
                                <a:lnTo>
                                  <a:pt x="0" y="59"/>
                                </a:lnTo>
                                <a:lnTo>
                                  <a:pt x="154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6120" bIns="61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06" name=""/>
                          <p:cNvSpPr/>
                          <p:nvPr/>
                        </p:nvSpPr>
                        <p:spPr>
                          <a:xfrm>
                            <a:off x="6245280" y="4424400"/>
                            <a:ext cx="109800" cy="4968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305" h="138">
                                <a:moveTo>
                                  <a:pt x="163" y="0"/>
                                </a:moveTo>
                                <a:lnTo>
                                  <a:pt x="305" y="78"/>
                                </a:lnTo>
                                <a:lnTo>
                                  <a:pt x="150" y="138"/>
                                </a:lnTo>
                                <a:lnTo>
                                  <a:pt x="0" y="60"/>
                                </a:lnTo>
                                <a:lnTo>
                                  <a:pt x="163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4680" bIns="46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07" name=""/>
                          <p:cNvSpPr/>
                          <p:nvPr/>
                        </p:nvSpPr>
                        <p:spPr>
                          <a:xfrm>
                            <a:off x="6323040" y="4390920"/>
                            <a:ext cx="108360" cy="4788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301" h="133">
                                <a:moveTo>
                                  <a:pt x="163" y="0"/>
                                </a:moveTo>
                                <a:lnTo>
                                  <a:pt x="301" y="67"/>
                                </a:lnTo>
                                <a:lnTo>
                                  <a:pt x="150" y="133"/>
                                </a:lnTo>
                                <a:lnTo>
                                  <a:pt x="0" y="62"/>
                                </a:lnTo>
                                <a:lnTo>
                                  <a:pt x="163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2880" bIns="28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08" name=""/>
                          <p:cNvSpPr/>
                          <p:nvPr/>
                        </p:nvSpPr>
                        <p:spPr>
                          <a:xfrm>
                            <a:off x="6402240" y="4370400"/>
                            <a:ext cx="78120" cy="3528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17" h="98">
                                <a:moveTo>
                                  <a:pt x="94" y="0"/>
                                </a:moveTo>
                                <a:lnTo>
                                  <a:pt x="217" y="56"/>
                                </a:lnTo>
                                <a:lnTo>
                                  <a:pt x="130" y="98"/>
                                </a:lnTo>
                                <a:lnTo>
                                  <a:pt x="0" y="38"/>
                                </a:lnTo>
                                <a:lnTo>
                                  <a:pt x="94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-9720" bIns="-97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09" name=""/>
                          <p:cNvSpPr/>
                          <p:nvPr/>
                        </p:nvSpPr>
                        <p:spPr>
                          <a:xfrm>
                            <a:off x="6087960" y="4489560"/>
                            <a:ext cx="116280" cy="5580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323" h="155">
                                <a:moveTo>
                                  <a:pt x="168" y="0"/>
                                </a:moveTo>
                                <a:lnTo>
                                  <a:pt x="323" y="83"/>
                                </a:lnTo>
                                <a:lnTo>
                                  <a:pt x="172" y="155"/>
                                </a:lnTo>
                                <a:lnTo>
                                  <a:pt x="0" y="63"/>
                                </a:lnTo>
                                <a:lnTo>
                                  <a:pt x="168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10800" bIns="10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10" name=""/>
                          <p:cNvSpPr/>
                          <p:nvPr/>
                        </p:nvSpPr>
                        <p:spPr>
                          <a:xfrm>
                            <a:off x="5978520" y="4427640"/>
                            <a:ext cx="149760" cy="7488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416" h="208">
                                <a:moveTo>
                                  <a:pt x="158" y="0"/>
                                </a:moveTo>
                                <a:lnTo>
                                  <a:pt x="416" y="141"/>
                                </a:lnTo>
                                <a:lnTo>
                                  <a:pt x="253" y="208"/>
                                </a:lnTo>
                                <a:lnTo>
                                  <a:pt x="0" y="58"/>
                                </a:lnTo>
                                <a:lnTo>
                                  <a:pt x="158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29880" bIns="298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11" name=""/>
                          <p:cNvSpPr/>
                          <p:nvPr/>
                        </p:nvSpPr>
                        <p:spPr>
                          <a:xfrm>
                            <a:off x="5999040" y="4335480"/>
                            <a:ext cx="208440" cy="13212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579" h="367">
                                <a:moveTo>
                                  <a:pt x="0" y="135"/>
                                </a:moveTo>
                                <a:lnTo>
                                  <a:pt x="418" y="367"/>
                                </a:lnTo>
                                <a:lnTo>
                                  <a:pt x="579" y="297"/>
                                </a:lnTo>
                                <a:lnTo>
                                  <a:pt x="287" y="135"/>
                                </a:lnTo>
                                <a:lnTo>
                                  <a:pt x="491" y="49"/>
                                </a:lnTo>
                                <a:lnTo>
                                  <a:pt x="393" y="0"/>
                                </a:lnTo>
                                <a:lnTo>
                                  <a:pt x="0" y="135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45000" bIns="450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12" name=""/>
                          <p:cNvSpPr/>
                          <p:nvPr/>
                        </p:nvSpPr>
                        <p:spPr>
                          <a:xfrm>
                            <a:off x="6134040" y="4361040"/>
                            <a:ext cx="154440" cy="7488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429" h="208">
                                <a:moveTo>
                                  <a:pt x="0" y="66"/>
                                </a:moveTo>
                                <a:lnTo>
                                  <a:pt x="266" y="208"/>
                                </a:lnTo>
                                <a:lnTo>
                                  <a:pt x="429" y="141"/>
                                </a:lnTo>
                                <a:lnTo>
                                  <a:pt x="162" y="0"/>
                                </a:lnTo>
                                <a:lnTo>
                                  <a:pt x="0" y="66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29880" bIns="298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13" name=""/>
                          <p:cNvSpPr/>
                          <p:nvPr/>
                        </p:nvSpPr>
                        <p:spPr>
                          <a:xfrm>
                            <a:off x="6270480" y="4362480"/>
                            <a:ext cx="95760" cy="4320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66" h="120">
                                <a:moveTo>
                                  <a:pt x="0" y="62"/>
                                </a:moveTo>
                                <a:lnTo>
                                  <a:pt x="113" y="120"/>
                                </a:lnTo>
                                <a:lnTo>
                                  <a:pt x="266" y="57"/>
                                </a:lnTo>
                                <a:lnTo>
                                  <a:pt x="157" y="0"/>
                                </a:lnTo>
                                <a:lnTo>
                                  <a:pt x="0" y="62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-1800" bIns="-1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14" name=""/>
                          <p:cNvSpPr/>
                          <p:nvPr/>
                        </p:nvSpPr>
                        <p:spPr>
                          <a:xfrm>
                            <a:off x="6210360" y="4327560"/>
                            <a:ext cx="100440" cy="4464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79" h="124">
                                <a:moveTo>
                                  <a:pt x="0" y="66"/>
                                </a:moveTo>
                                <a:lnTo>
                                  <a:pt x="129" y="124"/>
                                </a:lnTo>
                                <a:lnTo>
                                  <a:pt x="279" y="66"/>
                                </a:lnTo>
                                <a:lnTo>
                                  <a:pt x="153" y="0"/>
                                </a:lnTo>
                                <a:lnTo>
                                  <a:pt x="0" y="66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-360" bIns="-3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15" name=""/>
                          <p:cNvSpPr/>
                          <p:nvPr/>
                        </p:nvSpPr>
                        <p:spPr>
                          <a:xfrm>
                            <a:off x="6156360" y="4302000"/>
                            <a:ext cx="95760" cy="3672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66" h="102">
                                <a:moveTo>
                                  <a:pt x="0" y="53"/>
                                </a:moveTo>
                                <a:lnTo>
                                  <a:pt x="105" y="102"/>
                                </a:lnTo>
                                <a:lnTo>
                                  <a:pt x="266" y="45"/>
                                </a:lnTo>
                                <a:lnTo>
                                  <a:pt x="173" y="0"/>
                                </a:lnTo>
                                <a:lnTo>
                                  <a:pt x="0" y="53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-8280" bIns="-82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16" name=""/>
                          <p:cNvSpPr/>
                          <p:nvPr/>
                        </p:nvSpPr>
                        <p:spPr>
                          <a:xfrm>
                            <a:off x="6240600" y="4282920"/>
                            <a:ext cx="60840" cy="2412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169" h="67">
                                <a:moveTo>
                                  <a:pt x="0" y="25"/>
                                </a:moveTo>
                                <a:lnTo>
                                  <a:pt x="92" y="67"/>
                                </a:lnTo>
                                <a:lnTo>
                                  <a:pt x="169" y="38"/>
                                </a:lnTo>
                                <a:lnTo>
                                  <a:pt x="84" y="0"/>
                                </a:lnTo>
                                <a:lnTo>
                                  <a:pt x="0" y="25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-20880" bIns="-208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17" name=""/>
                          <p:cNvSpPr/>
                          <p:nvPr/>
                        </p:nvSpPr>
                        <p:spPr>
                          <a:xfrm>
                            <a:off x="6284880" y="4307040"/>
                            <a:ext cx="74880" cy="3204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08" h="89">
                                <a:moveTo>
                                  <a:pt x="0" y="33"/>
                                </a:moveTo>
                                <a:lnTo>
                                  <a:pt x="126" y="89"/>
                                </a:lnTo>
                                <a:lnTo>
                                  <a:pt x="208" y="62"/>
                                </a:lnTo>
                                <a:lnTo>
                                  <a:pt x="89" y="0"/>
                                </a:lnTo>
                                <a:lnTo>
                                  <a:pt x="0" y="33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-12960" bIns="-129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18" name=""/>
                          <p:cNvSpPr/>
                          <p:nvPr/>
                        </p:nvSpPr>
                        <p:spPr>
                          <a:xfrm>
                            <a:off x="5919840" y="4394160"/>
                            <a:ext cx="97200" cy="4320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70" h="120">
                                <a:moveTo>
                                  <a:pt x="0" y="54"/>
                                </a:moveTo>
                                <a:lnTo>
                                  <a:pt x="117" y="120"/>
                                </a:lnTo>
                                <a:lnTo>
                                  <a:pt x="270" y="57"/>
                                </a:lnTo>
                                <a:lnTo>
                                  <a:pt x="169" y="0"/>
                                </a:lnTo>
                                <a:lnTo>
                                  <a:pt x="0" y="54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-1800" bIns="-1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19" name=""/>
                          <p:cNvSpPr/>
                          <p:nvPr/>
                        </p:nvSpPr>
                        <p:spPr>
                          <a:xfrm>
                            <a:off x="6346800" y="4338720"/>
                            <a:ext cx="71640" cy="3204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199" h="89">
                                <a:moveTo>
                                  <a:pt x="0" y="33"/>
                                </a:moveTo>
                                <a:lnTo>
                                  <a:pt x="113" y="89"/>
                                </a:lnTo>
                                <a:lnTo>
                                  <a:pt x="199" y="55"/>
                                </a:lnTo>
                                <a:lnTo>
                                  <a:pt x="85" y="0"/>
                                </a:lnTo>
                                <a:lnTo>
                                  <a:pt x="0" y="33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-12960" bIns="-129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20" name=""/>
                        <p:cNvGrpSpPr/>
                        <p:nvPr/>
                      </p:nvGrpSpPr>
                      <p:grpSpPr>
                        <a:xfrm>
                          <a:off x="5770440" y="4273560"/>
                          <a:ext cx="1310400" cy="659160"/>
                          <a:chOff x="5770440" y="4273560"/>
                          <a:chExt cx="1310400" cy="659160"/>
                        </a:xfrm>
                      </p:grpSpPr>
                      <p:sp>
                        <p:nvSpPr>
                          <p:cNvPr id="1121" name=""/>
                          <p:cNvSpPr/>
                          <p:nvPr/>
                        </p:nvSpPr>
                        <p:spPr>
                          <a:xfrm>
                            <a:off x="6087960" y="4557600"/>
                            <a:ext cx="333720" cy="19080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927" h="530">
                                <a:moveTo>
                                  <a:pt x="158" y="0"/>
                                </a:moveTo>
                                <a:lnTo>
                                  <a:pt x="927" y="450"/>
                                </a:lnTo>
                                <a:lnTo>
                                  <a:pt x="768" y="530"/>
                                </a:lnTo>
                                <a:lnTo>
                                  <a:pt x="0" y="75"/>
                                </a:lnTo>
                                <a:lnTo>
                                  <a:pt x="158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45000" bIns="450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22" name=""/>
                          <p:cNvSpPr/>
                          <p:nvPr/>
                        </p:nvSpPr>
                        <p:spPr>
                          <a:xfrm>
                            <a:off x="6381720" y="4732200"/>
                            <a:ext cx="149760" cy="7956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416" h="221">
                                <a:moveTo>
                                  <a:pt x="154" y="0"/>
                                </a:moveTo>
                                <a:lnTo>
                                  <a:pt x="416" y="150"/>
                                </a:lnTo>
                                <a:lnTo>
                                  <a:pt x="270" y="221"/>
                                </a:lnTo>
                                <a:lnTo>
                                  <a:pt x="0" y="70"/>
                                </a:lnTo>
                                <a:lnTo>
                                  <a:pt x="154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34560" bIns="345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23" name=""/>
                          <p:cNvSpPr/>
                          <p:nvPr/>
                        </p:nvSpPr>
                        <p:spPr>
                          <a:xfrm>
                            <a:off x="6442200" y="4794120"/>
                            <a:ext cx="167040" cy="8784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464" h="244">
                                <a:moveTo>
                                  <a:pt x="276" y="0"/>
                                </a:moveTo>
                                <a:lnTo>
                                  <a:pt x="464" y="108"/>
                                </a:lnTo>
                                <a:lnTo>
                                  <a:pt x="309" y="200"/>
                                </a:lnTo>
                                <a:lnTo>
                                  <a:pt x="284" y="184"/>
                                </a:lnTo>
                                <a:lnTo>
                                  <a:pt x="175" y="244"/>
                                </a:lnTo>
                                <a:lnTo>
                                  <a:pt x="0" y="144"/>
                                </a:lnTo>
                                <a:lnTo>
                                  <a:pt x="276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42840" bIns="428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24" name=""/>
                          <p:cNvSpPr/>
                          <p:nvPr/>
                        </p:nvSpPr>
                        <p:spPr>
                          <a:xfrm>
                            <a:off x="6573960" y="4843440"/>
                            <a:ext cx="157680" cy="8928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438" h="248">
                                <a:moveTo>
                                  <a:pt x="142" y="0"/>
                                </a:moveTo>
                                <a:lnTo>
                                  <a:pt x="438" y="164"/>
                                </a:lnTo>
                                <a:lnTo>
                                  <a:pt x="283" y="248"/>
                                </a:lnTo>
                                <a:lnTo>
                                  <a:pt x="0" y="80"/>
                                </a:lnTo>
                                <a:lnTo>
                                  <a:pt x="142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44280" bIns="442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25" name=""/>
                          <p:cNvSpPr/>
                          <p:nvPr/>
                        </p:nvSpPr>
                        <p:spPr>
                          <a:xfrm>
                            <a:off x="5997600" y="4503600"/>
                            <a:ext cx="128880" cy="6876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358" h="191">
                                <a:moveTo>
                                  <a:pt x="143" y="0"/>
                                </a:moveTo>
                                <a:lnTo>
                                  <a:pt x="358" y="120"/>
                                </a:lnTo>
                                <a:lnTo>
                                  <a:pt x="206" y="191"/>
                                </a:lnTo>
                                <a:lnTo>
                                  <a:pt x="0" y="66"/>
                                </a:lnTo>
                                <a:lnTo>
                                  <a:pt x="143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23760" bIns="237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26" name=""/>
                          <p:cNvSpPr/>
                          <p:nvPr/>
                        </p:nvSpPr>
                        <p:spPr>
                          <a:xfrm>
                            <a:off x="5886360" y="4437000"/>
                            <a:ext cx="116280" cy="5760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323" h="160">
                                <a:moveTo>
                                  <a:pt x="159" y="0"/>
                                </a:moveTo>
                                <a:lnTo>
                                  <a:pt x="323" y="95"/>
                                </a:lnTo>
                                <a:lnTo>
                                  <a:pt x="159" y="160"/>
                                </a:lnTo>
                                <a:lnTo>
                                  <a:pt x="0" y="65"/>
                                </a:lnTo>
                                <a:lnTo>
                                  <a:pt x="159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12600" bIns="126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27" name=""/>
                          <p:cNvSpPr/>
                          <p:nvPr/>
                        </p:nvSpPr>
                        <p:spPr>
                          <a:xfrm>
                            <a:off x="5811840" y="4476600"/>
                            <a:ext cx="103680" cy="4968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88" h="138">
                                <a:moveTo>
                                  <a:pt x="146" y="0"/>
                                </a:moveTo>
                                <a:lnTo>
                                  <a:pt x="288" y="82"/>
                                </a:lnTo>
                                <a:lnTo>
                                  <a:pt x="142" y="138"/>
                                </a:lnTo>
                                <a:lnTo>
                                  <a:pt x="0" y="52"/>
                                </a:lnTo>
                                <a:lnTo>
                                  <a:pt x="146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4680" bIns="46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28" name=""/>
                          <p:cNvSpPr/>
                          <p:nvPr/>
                        </p:nvSpPr>
                        <p:spPr>
                          <a:xfrm>
                            <a:off x="5878440" y="4518000"/>
                            <a:ext cx="87840" cy="4464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44" h="124">
                                <a:moveTo>
                                  <a:pt x="136" y="0"/>
                                </a:moveTo>
                                <a:lnTo>
                                  <a:pt x="244" y="61"/>
                                </a:lnTo>
                                <a:lnTo>
                                  <a:pt x="124" y="124"/>
                                </a:lnTo>
                                <a:lnTo>
                                  <a:pt x="0" y="50"/>
                                </a:lnTo>
                                <a:lnTo>
                                  <a:pt x="136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-360" bIns="-3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29" name=""/>
                          <p:cNvSpPr/>
                          <p:nvPr/>
                        </p:nvSpPr>
                        <p:spPr>
                          <a:xfrm>
                            <a:off x="5770440" y="4449600"/>
                            <a:ext cx="81360" cy="3672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26" h="102">
                                <a:moveTo>
                                  <a:pt x="143" y="0"/>
                                </a:moveTo>
                                <a:lnTo>
                                  <a:pt x="226" y="45"/>
                                </a:lnTo>
                                <a:lnTo>
                                  <a:pt x="87" y="102"/>
                                </a:lnTo>
                                <a:lnTo>
                                  <a:pt x="0" y="56"/>
                                </a:lnTo>
                                <a:lnTo>
                                  <a:pt x="143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-8280" bIns="-82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30" name=""/>
                          <p:cNvSpPr/>
                          <p:nvPr/>
                        </p:nvSpPr>
                        <p:spPr>
                          <a:xfrm>
                            <a:off x="6645240" y="4799160"/>
                            <a:ext cx="159120" cy="9072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442" h="252">
                                <a:moveTo>
                                  <a:pt x="146" y="0"/>
                                </a:moveTo>
                                <a:lnTo>
                                  <a:pt x="442" y="172"/>
                                </a:lnTo>
                                <a:lnTo>
                                  <a:pt x="279" y="252"/>
                                </a:lnTo>
                                <a:lnTo>
                                  <a:pt x="0" y="87"/>
                                </a:lnTo>
                                <a:lnTo>
                                  <a:pt x="146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45000" bIns="450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31" name=""/>
                          <p:cNvSpPr/>
                          <p:nvPr/>
                        </p:nvSpPr>
                        <p:spPr>
                          <a:xfrm>
                            <a:off x="6721560" y="4761000"/>
                            <a:ext cx="155880" cy="8280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433" h="230">
                                <a:moveTo>
                                  <a:pt x="141" y="0"/>
                                </a:moveTo>
                                <a:lnTo>
                                  <a:pt x="433" y="163"/>
                                </a:lnTo>
                                <a:lnTo>
                                  <a:pt x="279" y="230"/>
                                </a:lnTo>
                                <a:lnTo>
                                  <a:pt x="0" y="79"/>
                                </a:lnTo>
                                <a:lnTo>
                                  <a:pt x="141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37800" bIns="37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32" name=""/>
                          <p:cNvSpPr/>
                          <p:nvPr/>
                        </p:nvSpPr>
                        <p:spPr>
                          <a:xfrm>
                            <a:off x="6796080" y="4718160"/>
                            <a:ext cx="155880" cy="8280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433" h="230">
                                <a:moveTo>
                                  <a:pt x="132" y="0"/>
                                </a:moveTo>
                                <a:lnTo>
                                  <a:pt x="433" y="155"/>
                                </a:lnTo>
                                <a:lnTo>
                                  <a:pt x="271" y="230"/>
                                </a:lnTo>
                                <a:lnTo>
                                  <a:pt x="0" y="83"/>
                                </a:lnTo>
                                <a:lnTo>
                                  <a:pt x="132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37800" bIns="37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33" name=""/>
                          <p:cNvSpPr/>
                          <p:nvPr/>
                        </p:nvSpPr>
                        <p:spPr>
                          <a:xfrm>
                            <a:off x="6578640" y="4765680"/>
                            <a:ext cx="106560" cy="5292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96" h="147">
                                <a:moveTo>
                                  <a:pt x="154" y="0"/>
                                </a:moveTo>
                                <a:lnTo>
                                  <a:pt x="296" y="71"/>
                                </a:lnTo>
                                <a:lnTo>
                                  <a:pt x="141" y="147"/>
                                </a:lnTo>
                                <a:lnTo>
                                  <a:pt x="0" y="71"/>
                                </a:lnTo>
                                <a:lnTo>
                                  <a:pt x="154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7920" bIns="79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34" name=""/>
                          <p:cNvSpPr/>
                          <p:nvPr/>
                        </p:nvSpPr>
                        <p:spPr>
                          <a:xfrm>
                            <a:off x="6659640" y="4727520"/>
                            <a:ext cx="98640" cy="4788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74" h="133">
                                <a:moveTo>
                                  <a:pt x="141" y="0"/>
                                </a:moveTo>
                                <a:lnTo>
                                  <a:pt x="274" y="70"/>
                                </a:lnTo>
                                <a:lnTo>
                                  <a:pt x="124" y="133"/>
                                </a:lnTo>
                                <a:lnTo>
                                  <a:pt x="0" y="70"/>
                                </a:lnTo>
                                <a:lnTo>
                                  <a:pt x="141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2880" bIns="28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35" name=""/>
                          <p:cNvSpPr/>
                          <p:nvPr/>
                        </p:nvSpPr>
                        <p:spPr>
                          <a:xfrm>
                            <a:off x="6734160" y="4686120"/>
                            <a:ext cx="95760" cy="4968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66" h="138">
                                <a:moveTo>
                                  <a:pt x="141" y="0"/>
                                </a:moveTo>
                                <a:lnTo>
                                  <a:pt x="266" y="63"/>
                                </a:lnTo>
                                <a:lnTo>
                                  <a:pt x="133" y="138"/>
                                </a:lnTo>
                                <a:lnTo>
                                  <a:pt x="0" y="67"/>
                                </a:lnTo>
                                <a:lnTo>
                                  <a:pt x="141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4680" bIns="46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36" name=""/>
                          <p:cNvSpPr/>
                          <p:nvPr/>
                        </p:nvSpPr>
                        <p:spPr>
                          <a:xfrm>
                            <a:off x="6808680" y="4645080"/>
                            <a:ext cx="93960" cy="4968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61" h="138">
                                <a:moveTo>
                                  <a:pt x="141" y="0"/>
                                </a:moveTo>
                                <a:lnTo>
                                  <a:pt x="261" y="63"/>
                                </a:lnTo>
                                <a:lnTo>
                                  <a:pt x="120" y="138"/>
                                </a:lnTo>
                                <a:lnTo>
                                  <a:pt x="0" y="71"/>
                                </a:lnTo>
                                <a:lnTo>
                                  <a:pt x="141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4680" bIns="46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37" name=""/>
                          <p:cNvSpPr/>
                          <p:nvPr/>
                        </p:nvSpPr>
                        <p:spPr>
                          <a:xfrm>
                            <a:off x="6877080" y="4616280"/>
                            <a:ext cx="79560" cy="3852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21" h="107">
                                <a:moveTo>
                                  <a:pt x="102" y="0"/>
                                </a:moveTo>
                                <a:lnTo>
                                  <a:pt x="221" y="53"/>
                                </a:lnTo>
                                <a:lnTo>
                                  <a:pt x="119" y="107"/>
                                </a:lnTo>
                                <a:lnTo>
                                  <a:pt x="0" y="50"/>
                                </a:lnTo>
                                <a:lnTo>
                                  <a:pt x="102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-6480" bIns="-64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38" name=""/>
                          <p:cNvSpPr/>
                          <p:nvPr/>
                        </p:nvSpPr>
                        <p:spPr>
                          <a:xfrm>
                            <a:off x="6935760" y="4645080"/>
                            <a:ext cx="84600" cy="4464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35" h="124">
                                <a:moveTo>
                                  <a:pt x="107" y="0"/>
                                </a:moveTo>
                                <a:lnTo>
                                  <a:pt x="235" y="66"/>
                                </a:lnTo>
                                <a:lnTo>
                                  <a:pt x="123" y="124"/>
                                </a:lnTo>
                                <a:lnTo>
                                  <a:pt x="0" y="61"/>
                                </a:lnTo>
                                <a:lnTo>
                                  <a:pt x="107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-360" bIns="-3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39" name=""/>
                          <p:cNvSpPr/>
                          <p:nvPr/>
                        </p:nvSpPr>
                        <p:spPr>
                          <a:xfrm>
                            <a:off x="6869160" y="4676760"/>
                            <a:ext cx="97200" cy="4788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70" h="133">
                                <a:moveTo>
                                  <a:pt x="141" y="0"/>
                                </a:moveTo>
                                <a:lnTo>
                                  <a:pt x="270" y="67"/>
                                </a:lnTo>
                                <a:lnTo>
                                  <a:pt x="125" y="133"/>
                                </a:lnTo>
                                <a:lnTo>
                                  <a:pt x="0" y="78"/>
                                </a:lnTo>
                                <a:lnTo>
                                  <a:pt x="141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2880" bIns="28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40" name=""/>
                          <p:cNvSpPr/>
                          <p:nvPr/>
                        </p:nvSpPr>
                        <p:spPr>
                          <a:xfrm>
                            <a:off x="6996240" y="4678200"/>
                            <a:ext cx="84600" cy="4320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35" h="120">
                                <a:moveTo>
                                  <a:pt x="111" y="0"/>
                                </a:moveTo>
                                <a:lnTo>
                                  <a:pt x="235" y="62"/>
                                </a:lnTo>
                                <a:lnTo>
                                  <a:pt x="123" y="120"/>
                                </a:lnTo>
                                <a:lnTo>
                                  <a:pt x="0" y="62"/>
                                </a:lnTo>
                                <a:lnTo>
                                  <a:pt x="111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-1800" bIns="-1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41" name=""/>
                          <p:cNvSpPr/>
                          <p:nvPr/>
                        </p:nvSpPr>
                        <p:spPr>
                          <a:xfrm>
                            <a:off x="6926400" y="4710240"/>
                            <a:ext cx="98640" cy="4968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74" h="138">
                                <a:moveTo>
                                  <a:pt x="149" y="0"/>
                                </a:moveTo>
                                <a:lnTo>
                                  <a:pt x="274" y="63"/>
                                </a:lnTo>
                                <a:lnTo>
                                  <a:pt x="128" y="138"/>
                                </a:lnTo>
                                <a:lnTo>
                                  <a:pt x="0" y="74"/>
                                </a:lnTo>
                                <a:lnTo>
                                  <a:pt x="149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4680" bIns="46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42" name=""/>
                          <p:cNvSpPr/>
                          <p:nvPr/>
                        </p:nvSpPr>
                        <p:spPr>
                          <a:xfrm>
                            <a:off x="6594480" y="4691160"/>
                            <a:ext cx="100440" cy="5112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79" h="142">
                                <a:moveTo>
                                  <a:pt x="145" y="0"/>
                                </a:moveTo>
                                <a:lnTo>
                                  <a:pt x="279" y="70"/>
                                </a:lnTo>
                                <a:lnTo>
                                  <a:pt x="133" y="142"/>
                                </a:lnTo>
                                <a:lnTo>
                                  <a:pt x="0" y="63"/>
                                </a:lnTo>
                                <a:lnTo>
                                  <a:pt x="145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6120" bIns="61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43" name=""/>
                          <p:cNvSpPr/>
                          <p:nvPr/>
                        </p:nvSpPr>
                        <p:spPr>
                          <a:xfrm>
                            <a:off x="6670800" y="4651200"/>
                            <a:ext cx="98640" cy="5112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74" h="142">
                                <a:moveTo>
                                  <a:pt x="153" y="0"/>
                                </a:moveTo>
                                <a:lnTo>
                                  <a:pt x="274" y="66"/>
                                </a:lnTo>
                                <a:lnTo>
                                  <a:pt x="132" y="142"/>
                                </a:lnTo>
                                <a:lnTo>
                                  <a:pt x="0" y="66"/>
                                </a:lnTo>
                                <a:lnTo>
                                  <a:pt x="153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6120" bIns="61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44" name=""/>
                          <p:cNvSpPr/>
                          <p:nvPr/>
                        </p:nvSpPr>
                        <p:spPr>
                          <a:xfrm>
                            <a:off x="6750000" y="4610160"/>
                            <a:ext cx="93960" cy="5112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61" h="142">
                                <a:moveTo>
                                  <a:pt x="141" y="0"/>
                                </a:moveTo>
                                <a:lnTo>
                                  <a:pt x="261" y="66"/>
                                </a:lnTo>
                                <a:lnTo>
                                  <a:pt x="116" y="142"/>
                                </a:lnTo>
                                <a:lnTo>
                                  <a:pt x="0" y="70"/>
                                </a:lnTo>
                                <a:lnTo>
                                  <a:pt x="141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6120" bIns="61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45" name=""/>
                          <p:cNvSpPr/>
                          <p:nvPr/>
                        </p:nvSpPr>
                        <p:spPr>
                          <a:xfrm>
                            <a:off x="6821640" y="4583160"/>
                            <a:ext cx="76680" cy="3852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13" h="107">
                                <a:moveTo>
                                  <a:pt x="91" y="0"/>
                                </a:moveTo>
                                <a:lnTo>
                                  <a:pt x="213" y="60"/>
                                </a:lnTo>
                                <a:lnTo>
                                  <a:pt x="110" y="107"/>
                                </a:lnTo>
                                <a:lnTo>
                                  <a:pt x="0" y="50"/>
                                </a:lnTo>
                                <a:lnTo>
                                  <a:pt x="91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-6480" bIns="-64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46" name=""/>
                          <p:cNvSpPr/>
                          <p:nvPr/>
                        </p:nvSpPr>
                        <p:spPr>
                          <a:xfrm>
                            <a:off x="6516720" y="4729320"/>
                            <a:ext cx="103680" cy="5436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88" h="151">
                                <a:moveTo>
                                  <a:pt x="150" y="0"/>
                                </a:moveTo>
                                <a:lnTo>
                                  <a:pt x="288" y="75"/>
                                </a:lnTo>
                                <a:lnTo>
                                  <a:pt x="146" y="151"/>
                                </a:lnTo>
                                <a:lnTo>
                                  <a:pt x="0" y="72"/>
                                </a:lnTo>
                                <a:lnTo>
                                  <a:pt x="15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9360" bIns="93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47" name=""/>
                          <p:cNvSpPr/>
                          <p:nvPr/>
                        </p:nvSpPr>
                        <p:spPr>
                          <a:xfrm>
                            <a:off x="6451560" y="4691160"/>
                            <a:ext cx="103680" cy="5292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88" h="147">
                                <a:moveTo>
                                  <a:pt x="154" y="0"/>
                                </a:moveTo>
                                <a:lnTo>
                                  <a:pt x="288" y="71"/>
                                </a:lnTo>
                                <a:lnTo>
                                  <a:pt x="142" y="147"/>
                                </a:lnTo>
                                <a:lnTo>
                                  <a:pt x="0" y="71"/>
                                </a:lnTo>
                                <a:lnTo>
                                  <a:pt x="154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7920" bIns="79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48" name=""/>
                          <p:cNvSpPr/>
                          <p:nvPr/>
                        </p:nvSpPr>
                        <p:spPr>
                          <a:xfrm>
                            <a:off x="6534000" y="4653000"/>
                            <a:ext cx="100440" cy="5292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79" h="147">
                                <a:moveTo>
                                  <a:pt x="145" y="0"/>
                                </a:moveTo>
                                <a:lnTo>
                                  <a:pt x="279" y="71"/>
                                </a:lnTo>
                                <a:lnTo>
                                  <a:pt x="129" y="147"/>
                                </a:lnTo>
                                <a:lnTo>
                                  <a:pt x="0" y="71"/>
                                </a:lnTo>
                                <a:lnTo>
                                  <a:pt x="145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7920" bIns="79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49" name=""/>
                          <p:cNvSpPr/>
                          <p:nvPr/>
                        </p:nvSpPr>
                        <p:spPr>
                          <a:xfrm>
                            <a:off x="6613560" y="4618080"/>
                            <a:ext cx="97200" cy="4968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70" h="138">
                                <a:moveTo>
                                  <a:pt x="137" y="0"/>
                                </a:moveTo>
                                <a:lnTo>
                                  <a:pt x="270" y="63"/>
                                </a:lnTo>
                                <a:lnTo>
                                  <a:pt x="129" y="138"/>
                                </a:lnTo>
                                <a:lnTo>
                                  <a:pt x="0" y="67"/>
                                </a:lnTo>
                                <a:lnTo>
                                  <a:pt x="137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4680" bIns="46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50" name=""/>
                          <p:cNvSpPr/>
                          <p:nvPr/>
                        </p:nvSpPr>
                        <p:spPr>
                          <a:xfrm>
                            <a:off x="6688080" y="4578480"/>
                            <a:ext cx="97200" cy="4968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70" h="138">
                                <a:moveTo>
                                  <a:pt x="153" y="0"/>
                                </a:moveTo>
                                <a:lnTo>
                                  <a:pt x="270" y="63"/>
                                </a:lnTo>
                                <a:lnTo>
                                  <a:pt x="129" y="138"/>
                                </a:lnTo>
                                <a:lnTo>
                                  <a:pt x="0" y="71"/>
                                </a:lnTo>
                                <a:lnTo>
                                  <a:pt x="153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4680" bIns="46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51" name=""/>
                          <p:cNvSpPr/>
                          <p:nvPr/>
                        </p:nvSpPr>
                        <p:spPr>
                          <a:xfrm>
                            <a:off x="6759720" y="4551480"/>
                            <a:ext cx="76680" cy="3852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13" h="107">
                                <a:moveTo>
                                  <a:pt x="102" y="0"/>
                                </a:moveTo>
                                <a:lnTo>
                                  <a:pt x="213" y="57"/>
                                </a:lnTo>
                                <a:lnTo>
                                  <a:pt x="118" y="107"/>
                                </a:lnTo>
                                <a:lnTo>
                                  <a:pt x="0" y="46"/>
                                </a:lnTo>
                                <a:lnTo>
                                  <a:pt x="102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-6480" bIns="-64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52" name=""/>
                          <p:cNvSpPr/>
                          <p:nvPr/>
                        </p:nvSpPr>
                        <p:spPr>
                          <a:xfrm>
                            <a:off x="6473880" y="4619520"/>
                            <a:ext cx="100440" cy="5112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79" h="142">
                                <a:moveTo>
                                  <a:pt x="145" y="0"/>
                                </a:moveTo>
                                <a:lnTo>
                                  <a:pt x="279" y="75"/>
                                </a:lnTo>
                                <a:lnTo>
                                  <a:pt x="133" y="142"/>
                                </a:lnTo>
                                <a:lnTo>
                                  <a:pt x="0" y="66"/>
                                </a:lnTo>
                                <a:lnTo>
                                  <a:pt x="145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6120" bIns="61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53" name=""/>
                          <p:cNvSpPr/>
                          <p:nvPr/>
                        </p:nvSpPr>
                        <p:spPr>
                          <a:xfrm>
                            <a:off x="6550200" y="4581360"/>
                            <a:ext cx="100440" cy="4968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79" h="138">
                                <a:moveTo>
                                  <a:pt x="145" y="0"/>
                                </a:moveTo>
                                <a:lnTo>
                                  <a:pt x="279" y="67"/>
                                </a:lnTo>
                                <a:lnTo>
                                  <a:pt x="133" y="138"/>
                                </a:lnTo>
                                <a:lnTo>
                                  <a:pt x="0" y="67"/>
                                </a:lnTo>
                                <a:lnTo>
                                  <a:pt x="145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4680" bIns="46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54" name=""/>
                          <p:cNvSpPr/>
                          <p:nvPr/>
                        </p:nvSpPr>
                        <p:spPr>
                          <a:xfrm>
                            <a:off x="6629400" y="4545000"/>
                            <a:ext cx="97200" cy="4968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70" h="138">
                                <a:moveTo>
                                  <a:pt x="145" y="0"/>
                                </a:moveTo>
                                <a:lnTo>
                                  <a:pt x="270" y="63"/>
                                </a:lnTo>
                                <a:lnTo>
                                  <a:pt x="129" y="138"/>
                                </a:lnTo>
                                <a:lnTo>
                                  <a:pt x="0" y="71"/>
                                </a:lnTo>
                                <a:lnTo>
                                  <a:pt x="145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4680" bIns="46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55" name=""/>
                          <p:cNvSpPr/>
                          <p:nvPr/>
                        </p:nvSpPr>
                        <p:spPr>
                          <a:xfrm>
                            <a:off x="6700680" y="4521240"/>
                            <a:ext cx="78120" cy="3672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17" h="102">
                                <a:moveTo>
                                  <a:pt x="98" y="0"/>
                                </a:moveTo>
                                <a:lnTo>
                                  <a:pt x="217" y="60"/>
                                </a:lnTo>
                                <a:lnTo>
                                  <a:pt x="122" y="102"/>
                                </a:lnTo>
                                <a:lnTo>
                                  <a:pt x="0" y="41"/>
                                </a:lnTo>
                                <a:lnTo>
                                  <a:pt x="98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-8280" bIns="-82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56" name=""/>
                          <p:cNvSpPr/>
                          <p:nvPr/>
                        </p:nvSpPr>
                        <p:spPr>
                          <a:xfrm>
                            <a:off x="6392880" y="4656240"/>
                            <a:ext cx="105120" cy="5292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92" h="147">
                                <a:moveTo>
                                  <a:pt x="150" y="0"/>
                                </a:moveTo>
                                <a:lnTo>
                                  <a:pt x="292" y="75"/>
                                </a:lnTo>
                                <a:lnTo>
                                  <a:pt x="145" y="147"/>
                                </a:lnTo>
                                <a:lnTo>
                                  <a:pt x="0" y="71"/>
                                </a:lnTo>
                                <a:lnTo>
                                  <a:pt x="15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7920" bIns="79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57" name=""/>
                          <p:cNvSpPr/>
                          <p:nvPr/>
                        </p:nvSpPr>
                        <p:spPr>
                          <a:xfrm>
                            <a:off x="6335640" y="4621320"/>
                            <a:ext cx="97200" cy="4968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70" h="138">
                                <a:moveTo>
                                  <a:pt x="145" y="0"/>
                                </a:moveTo>
                                <a:lnTo>
                                  <a:pt x="270" y="71"/>
                                </a:lnTo>
                                <a:lnTo>
                                  <a:pt x="129" y="138"/>
                                </a:lnTo>
                                <a:lnTo>
                                  <a:pt x="0" y="74"/>
                                </a:lnTo>
                                <a:lnTo>
                                  <a:pt x="145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4680" bIns="46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58" name=""/>
                          <p:cNvSpPr/>
                          <p:nvPr/>
                        </p:nvSpPr>
                        <p:spPr>
                          <a:xfrm>
                            <a:off x="6411960" y="4583160"/>
                            <a:ext cx="100440" cy="5292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79" h="147">
                                <a:moveTo>
                                  <a:pt x="145" y="0"/>
                                </a:moveTo>
                                <a:lnTo>
                                  <a:pt x="279" y="68"/>
                                </a:lnTo>
                                <a:lnTo>
                                  <a:pt x="129" y="147"/>
                                </a:lnTo>
                                <a:lnTo>
                                  <a:pt x="0" y="68"/>
                                </a:lnTo>
                                <a:lnTo>
                                  <a:pt x="145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7920" bIns="79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59" name=""/>
                          <p:cNvSpPr/>
                          <p:nvPr/>
                        </p:nvSpPr>
                        <p:spPr>
                          <a:xfrm>
                            <a:off x="6491160" y="4548240"/>
                            <a:ext cx="97200" cy="4968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70" h="138">
                                <a:moveTo>
                                  <a:pt x="137" y="0"/>
                                </a:moveTo>
                                <a:lnTo>
                                  <a:pt x="270" y="63"/>
                                </a:lnTo>
                                <a:lnTo>
                                  <a:pt x="125" y="138"/>
                                </a:lnTo>
                                <a:lnTo>
                                  <a:pt x="0" y="67"/>
                                </a:lnTo>
                                <a:lnTo>
                                  <a:pt x="137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4680" bIns="46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60" name=""/>
                          <p:cNvSpPr/>
                          <p:nvPr/>
                        </p:nvSpPr>
                        <p:spPr>
                          <a:xfrm>
                            <a:off x="6566040" y="4513320"/>
                            <a:ext cx="97200" cy="4788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70" h="133">
                                <a:moveTo>
                                  <a:pt x="153" y="0"/>
                                </a:moveTo>
                                <a:lnTo>
                                  <a:pt x="270" y="58"/>
                                </a:lnTo>
                                <a:lnTo>
                                  <a:pt x="129" y="133"/>
                                </a:lnTo>
                                <a:lnTo>
                                  <a:pt x="0" y="67"/>
                                </a:lnTo>
                                <a:lnTo>
                                  <a:pt x="153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2880" bIns="28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61" name=""/>
                          <p:cNvSpPr/>
                          <p:nvPr/>
                        </p:nvSpPr>
                        <p:spPr>
                          <a:xfrm>
                            <a:off x="6643800" y="4487760"/>
                            <a:ext cx="78120" cy="3528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17" h="98">
                                <a:moveTo>
                                  <a:pt x="94" y="0"/>
                                </a:moveTo>
                                <a:lnTo>
                                  <a:pt x="217" y="56"/>
                                </a:lnTo>
                                <a:lnTo>
                                  <a:pt x="111" y="98"/>
                                </a:lnTo>
                                <a:lnTo>
                                  <a:pt x="0" y="45"/>
                                </a:lnTo>
                                <a:lnTo>
                                  <a:pt x="94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-9720" bIns="-97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62" name=""/>
                          <p:cNvSpPr/>
                          <p:nvPr/>
                        </p:nvSpPr>
                        <p:spPr>
                          <a:xfrm>
                            <a:off x="6351480" y="4552920"/>
                            <a:ext cx="95760" cy="4788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66" h="133">
                                <a:moveTo>
                                  <a:pt x="149" y="0"/>
                                </a:moveTo>
                                <a:lnTo>
                                  <a:pt x="266" y="58"/>
                                </a:lnTo>
                                <a:lnTo>
                                  <a:pt x="129" y="133"/>
                                </a:lnTo>
                                <a:lnTo>
                                  <a:pt x="0" y="67"/>
                                </a:lnTo>
                                <a:lnTo>
                                  <a:pt x="149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2880" bIns="28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63" name=""/>
                          <p:cNvSpPr/>
                          <p:nvPr/>
                        </p:nvSpPr>
                        <p:spPr>
                          <a:xfrm>
                            <a:off x="6432480" y="4516560"/>
                            <a:ext cx="95760" cy="4644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66" h="129">
                                <a:moveTo>
                                  <a:pt x="149" y="0"/>
                                </a:moveTo>
                                <a:lnTo>
                                  <a:pt x="266" y="59"/>
                                </a:lnTo>
                                <a:lnTo>
                                  <a:pt x="117" y="129"/>
                                </a:lnTo>
                                <a:lnTo>
                                  <a:pt x="0" y="66"/>
                                </a:lnTo>
                                <a:lnTo>
                                  <a:pt x="149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1440" bIns="14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64" name=""/>
                          <p:cNvSpPr/>
                          <p:nvPr/>
                        </p:nvSpPr>
                        <p:spPr>
                          <a:xfrm>
                            <a:off x="6507000" y="4481640"/>
                            <a:ext cx="98640" cy="4644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74" h="129">
                                <a:moveTo>
                                  <a:pt x="149" y="0"/>
                                </a:moveTo>
                                <a:lnTo>
                                  <a:pt x="274" y="63"/>
                                </a:lnTo>
                                <a:lnTo>
                                  <a:pt x="128" y="129"/>
                                </a:lnTo>
                                <a:lnTo>
                                  <a:pt x="0" y="70"/>
                                </a:lnTo>
                                <a:lnTo>
                                  <a:pt x="149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1440" bIns="14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65" name=""/>
                          <p:cNvSpPr/>
                          <p:nvPr/>
                        </p:nvSpPr>
                        <p:spPr>
                          <a:xfrm>
                            <a:off x="6583320" y="4457880"/>
                            <a:ext cx="74880" cy="3528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08" h="98">
                                <a:moveTo>
                                  <a:pt x="86" y="0"/>
                                </a:moveTo>
                                <a:lnTo>
                                  <a:pt x="208" y="56"/>
                                </a:lnTo>
                                <a:lnTo>
                                  <a:pt x="118" y="98"/>
                                </a:lnTo>
                                <a:lnTo>
                                  <a:pt x="0" y="38"/>
                                </a:lnTo>
                                <a:lnTo>
                                  <a:pt x="86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-9720" bIns="-97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66" name=""/>
                          <p:cNvSpPr/>
                          <p:nvPr/>
                        </p:nvSpPr>
                        <p:spPr>
                          <a:xfrm>
                            <a:off x="6275520" y="4586400"/>
                            <a:ext cx="98640" cy="4968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74" h="138">
                                <a:moveTo>
                                  <a:pt x="149" y="0"/>
                                </a:moveTo>
                                <a:lnTo>
                                  <a:pt x="274" y="74"/>
                                </a:lnTo>
                                <a:lnTo>
                                  <a:pt x="120" y="138"/>
                                </a:lnTo>
                                <a:lnTo>
                                  <a:pt x="0" y="74"/>
                                </a:lnTo>
                                <a:lnTo>
                                  <a:pt x="149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4680" bIns="46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67" name=""/>
                          <p:cNvSpPr/>
                          <p:nvPr/>
                        </p:nvSpPr>
                        <p:spPr>
                          <a:xfrm>
                            <a:off x="6211800" y="4552920"/>
                            <a:ext cx="100440" cy="4788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79" h="133">
                                <a:moveTo>
                                  <a:pt x="162" y="0"/>
                                </a:moveTo>
                                <a:lnTo>
                                  <a:pt x="279" y="67"/>
                                </a:lnTo>
                                <a:lnTo>
                                  <a:pt x="133" y="133"/>
                                </a:lnTo>
                                <a:lnTo>
                                  <a:pt x="0" y="67"/>
                                </a:lnTo>
                                <a:lnTo>
                                  <a:pt x="162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2880" bIns="28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68" name=""/>
                          <p:cNvSpPr/>
                          <p:nvPr/>
                        </p:nvSpPr>
                        <p:spPr>
                          <a:xfrm>
                            <a:off x="6292800" y="4518000"/>
                            <a:ext cx="98640" cy="4788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74" h="133">
                                <a:moveTo>
                                  <a:pt x="145" y="0"/>
                                </a:moveTo>
                                <a:lnTo>
                                  <a:pt x="274" y="70"/>
                                </a:lnTo>
                                <a:lnTo>
                                  <a:pt x="116" y="133"/>
                                </a:lnTo>
                                <a:lnTo>
                                  <a:pt x="0" y="62"/>
                                </a:lnTo>
                                <a:lnTo>
                                  <a:pt x="145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2880" bIns="28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69" name=""/>
                          <p:cNvSpPr/>
                          <p:nvPr/>
                        </p:nvSpPr>
                        <p:spPr>
                          <a:xfrm>
                            <a:off x="6370560" y="4483080"/>
                            <a:ext cx="98640" cy="4644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74" h="129">
                                <a:moveTo>
                                  <a:pt x="145" y="0"/>
                                </a:moveTo>
                                <a:lnTo>
                                  <a:pt x="274" y="66"/>
                                </a:lnTo>
                                <a:lnTo>
                                  <a:pt x="132" y="129"/>
                                </a:lnTo>
                                <a:lnTo>
                                  <a:pt x="0" y="66"/>
                                </a:lnTo>
                                <a:lnTo>
                                  <a:pt x="145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1440" bIns="14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70" name=""/>
                          <p:cNvSpPr/>
                          <p:nvPr/>
                        </p:nvSpPr>
                        <p:spPr>
                          <a:xfrm>
                            <a:off x="6445080" y="4448160"/>
                            <a:ext cx="103680" cy="4644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88" h="129">
                                <a:moveTo>
                                  <a:pt x="158" y="0"/>
                                </a:moveTo>
                                <a:lnTo>
                                  <a:pt x="288" y="63"/>
                                </a:lnTo>
                                <a:lnTo>
                                  <a:pt x="130" y="129"/>
                                </a:lnTo>
                                <a:lnTo>
                                  <a:pt x="0" y="66"/>
                                </a:lnTo>
                                <a:lnTo>
                                  <a:pt x="158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1440" bIns="14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71" name=""/>
                          <p:cNvSpPr/>
                          <p:nvPr/>
                        </p:nvSpPr>
                        <p:spPr>
                          <a:xfrm>
                            <a:off x="6524640" y="4424400"/>
                            <a:ext cx="76680" cy="3528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13" h="98">
                                <a:moveTo>
                                  <a:pt x="91" y="0"/>
                                </a:moveTo>
                                <a:lnTo>
                                  <a:pt x="213" y="56"/>
                                </a:lnTo>
                                <a:lnTo>
                                  <a:pt x="122" y="98"/>
                                </a:lnTo>
                                <a:lnTo>
                                  <a:pt x="0" y="41"/>
                                </a:lnTo>
                                <a:lnTo>
                                  <a:pt x="91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-9720" bIns="-97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72" name=""/>
                          <p:cNvSpPr/>
                          <p:nvPr/>
                        </p:nvSpPr>
                        <p:spPr>
                          <a:xfrm>
                            <a:off x="6238800" y="4487760"/>
                            <a:ext cx="90720" cy="4176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52" h="116">
                                <a:moveTo>
                                  <a:pt x="156" y="0"/>
                                </a:moveTo>
                                <a:lnTo>
                                  <a:pt x="252" y="58"/>
                                </a:lnTo>
                                <a:lnTo>
                                  <a:pt x="107" y="116"/>
                                </a:lnTo>
                                <a:lnTo>
                                  <a:pt x="0" y="61"/>
                                </a:lnTo>
                                <a:lnTo>
                                  <a:pt x="156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-3240" bIns="-32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73" name=""/>
                          <p:cNvSpPr/>
                          <p:nvPr/>
                        </p:nvSpPr>
                        <p:spPr>
                          <a:xfrm>
                            <a:off x="6318360" y="4451400"/>
                            <a:ext cx="90720" cy="4320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52" h="120">
                                <a:moveTo>
                                  <a:pt x="140" y="0"/>
                                </a:moveTo>
                                <a:lnTo>
                                  <a:pt x="252" y="57"/>
                                </a:lnTo>
                                <a:lnTo>
                                  <a:pt x="99" y="120"/>
                                </a:lnTo>
                                <a:lnTo>
                                  <a:pt x="0" y="69"/>
                                </a:lnTo>
                                <a:lnTo>
                                  <a:pt x="14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-1800" bIns="-1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74" name=""/>
                          <p:cNvSpPr/>
                          <p:nvPr/>
                        </p:nvSpPr>
                        <p:spPr>
                          <a:xfrm>
                            <a:off x="6389640" y="4417920"/>
                            <a:ext cx="97200" cy="4176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70" h="116">
                                <a:moveTo>
                                  <a:pt x="165" y="0"/>
                                </a:moveTo>
                                <a:lnTo>
                                  <a:pt x="270" y="58"/>
                                </a:lnTo>
                                <a:lnTo>
                                  <a:pt x="117" y="116"/>
                                </a:lnTo>
                                <a:lnTo>
                                  <a:pt x="0" y="65"/>
                                </a:lnTo>
                                <a:lnTo>
                                  <a:pt x="165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-3240" bIns="-32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75" name=""/>
                          <p:cNvSpPr/>
                          <p:nvPr/>
                        </p:nvSpPr>
                        <p:spPr>
                          <a:xfrm>
                            <a:off x="6464160" y="4394160"/>
                            <a:ext cx="74880" cy="3204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08" h="89">
                                <a:moveTo>
                                  <a:pt x="97" y="0"/>
                                </a:moveTo>
                                <a:lnTo>
                                  <a:pt x="208" y="51"/>
                                </a:lnTo>
                                <a:lnTo>
                                  <a:pt x="114" y="89"/>
                                </a:lnTo>
                                <a:lnTo>
                                  <a:pt x="0" y="33"/>
                                </a:lnTo>
                                <a:lnTo>
                                  <a:pt x="97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-12960" bIns="-129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76" name=""/>
                          <p:cNvSpPr/>
                          <p:nvPr/>
                        </p:nvSpPr>
                        <p:spPr>
                          <a:xfrm>
                            <a:off x="6161040" y="4524480"/>
                            <a:ext cx="93960" cy="4176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61" h="116">
                                <a:moveTo>
                                  <a:pt x="161" y="0"/>
                                </a:moveTo>
                                <a:lnTo>
                                  <a:pt x="261" y="54"/>
                                </a:lnTo>
                                <a:lnTo>
                                  <a:pt x="108" y="116"/>
                                </a:lnTo>
                                <a:lnTo>
                                  <a:pt x="0" y="65"/>
                                </a:lnTo>
                                <a:lnTo>
                                  <a:pt x="161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-3240" bIns="-32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77" name=""/>
                          <p:cNvSpPr/>
                          <p:nvPr/>
                        </p:nvSpPr>
                        <p:spPr>
                          <a:xfrm>
                            <a:off x="6170760" y="4448160"/>
                            <a:ext cx="108360" cy="5436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301" h="151">
                                <a:moveTo>
                                  <a:pt x="154" y="0"/>
                                </a:moveTo>
                                <a:lnTo>
                                  <a:pt x="301" y="83"/>
                                </a:lnTo>
                                <a:lnTo>
                                  <a:pt x="150" y="151"/>
                                </a:lnTo>
                                <a:lnTo>
                                  <a:pt x="0" y="64"/>
                                </a:lnTo>
                                <a:lnTo>
                                  <a:pt x="154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9360" bIns="93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78" name=""/>
                          <p:cNvSpPr/>
                          <p:nvPr/>
                        </p:nvSpPr>
                        <p:spPr>
                          <a:xfrm>
                            <a:off x="6248520" y="4416480"/>
                            <a:ext cx="108360" cy="4968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301" h="138">
                                <a:moveTo>
                                  <a:pt x="154" y="0"/>
                                </a:moveTo>
                                <a:lnTo>
                                  <a:pt x="301" y="74"/>
                                </a:lnTo>
                                <a:lnTo>
                                  <a:pt x="146" y="138"/>
                                </a:lnTo>
                                <a:lnTo>
                                  <a:pt x="0" y="60"/>
                                </a:lnTo>
                                <a:lnTo>
                                  <a:pt x="154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4680" bIns="46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79" name=""/>
                          <p:cNvSpPr/>
                          <p:nvPr/>
                        </p:nvSpPr>
                        <p:spPr>
                          <a:xfrm>
                            <a:off x="6327720" y="4381560"/>
                            <a:ext cx="103680" cy="4644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88" h="129">
                                <a:moveTo>
                                  <a:pt x="154" y="0"/>
                                </a:moveTo>
                                <a:lnTo>
                                  <a:pt x="288" y="74"/>
                                </a:lnTo>
                                <a:lnTo>
                                  <a:pt x="138" y="129"/>
                                </a:lnTo>
                                <a:lnTo>
                                  <a:pt x="0" y="63"/>
                                </a:lnTo>
                                <a:lnTo>
                                  <a:pt x="154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1440" bIns="14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80" name=""/>
                          <p:cNvSpPr/>
                          <p:nvPr/>
                        </p:nvSpPr>
                        <p:spPr>
                          <a:xfrm>
                            <a:off x="6402240" y="4362480"/>
                            <a:ext cx="79560" cy="3384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21" h="94">
                                <a:moveTo>
                                  <a:pt x="94" y="0"/>
                                </a:moveTo>
                                <a:lnTo>
                                  <a:pt x="221" y="59"/>
                                </a:lnTo>
                                <a:lnTo>
                                  <a:pt x="134" y="94"/>
                                </a:lnTo>
                                <a:lnTo>
                                  <a:pt x="0" y="31"/>
                                </a:lnTo>
                                <a:lnTo>
                                  <a:pt x="94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-11160" bIns="-111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81" name=""/>
                          <p:cNvSpPr/>
                          <p:nvPr/>
                        </p:nvSpPr>
                        <p:spPr>
                          <a:xfrm>
                            <a:off x="6089760" y="4481640"/>
                            <a:ext cx="116280" cy="5436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323" h="151">
                                <a:moveTo>
                                  <a:pt x="163" y="0"/>
                                </a:moveTo>
                                <a:lnTo>
                                  <a:pt x="323" y="83"/>
                                </a:lnTo>
                                <a:lnTo>
                                  <a:pt x="168" y="151"/>
                                </a:lnTo>
                                <a:lnTo>
                                  <a:pt x="0" y="64"/>
                                </a:lnTo>
                                <a:lnTo>
                                  <a:pt x="163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9360" bIns="93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82" name=""/>
                          <p:cNvSpPr/>
                          <p:nvPr/>
                        </p:nvSpPr>
                        <p:spPr>
                          <a:xfrm>
                            <a:off x="5979960" y="4416480"/>
                            <a:ext cx="147960" cy="7488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411" h="208">
                                <a:moveTo>
                                  <a:pt x="157" y="0"/>
                                </a:moveTo>
                                <a:lnTo>
                                  <a:pt x="411" y="149"/>
                                </a:lnTo>
                                <a:lnTo>
                                  <a:pt x="253" y="208"/>
                                </a:lnTo>
                                <a:lnTo>
                                  <a:pt x="0" y="66"/>
                                </a:lnTo>
                                <a:lnTo>
                                  <a:pt x="157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29880" bIns="298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83" name=""/>
                          <p:cNvSpPr/>
                          <p:nvPr/>
                        </p:nvSpPr>
                        <p:spPr>
                          <a:xfrm>
                            <a:off x="5999040" y="4324320"/>
                            <a:ext cx="208440" cy="13536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579" h="376">
                                <a:moveTo>
                                  <a:pt x="0" y="136"/>
                                </a:moveTo>
                                <a:lnTo>
                                  <a:pt x="422" y="376"/>
                                </a:lnTo>
                                <a:lnTo>
                                  <a:pt x="579" y="310"/>
                                </a:lnTo>
                                <a:lnTo>
                                  <a:pt x="287" y="136"/>
                                </a:lnTo>
                                <a:lnTo>
                                  <a:pt x="499" y="57"/>
                                </a:lnTo>
                                <a:lnTo>
                                  <a:pt x="393" y="0"/>
                                </a:lnTo>
                                <a:lnTo>
                                  <a:pt x="0" y="136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45000" bIns="450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84" name=""/>
                          <p:cNvSpPr/>
                          <p:nvPr/>
                        </p:nvSpPr>
                        <p:spPr>
                          <a:xfrm>
                            <a:off x="6134040" y="4349880"/>
                            <a:ext cx="154440" cy="7668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429" h="213">
                                <a:moveTo>
                                  <a:pt x="0" y="67"/>
                                </a:moveTo>
                                <a:lnTo>
                                  <a:pt x="266" y="213"/>
                                </a:lnTo>
                                <a:lnTo>
                                  <a:pt x="429" y="149"/>
                                </a:lnTo>
                                <a:lnTo>
                                  <a:pt x="162" y="0"/>
                                </a:lnTo>
                                <a:lnTo>
                                  <a:pt x="0" y="6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31680" bIns="316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85" name=""/>
                          <p:cNvSpPr/>
                          <p:nvPr/>
                        </p:nvSpPr>
                        <p:spPr>
                          <a:xfrm>
                            <a:off x="6270480" y="4352760"/>
                            <a:ext cx="98640" cy="4320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74" h="120">
                                <a:moveTo>
                                  <a:pt x="0" y="62"/>
                                </a:moveTo>
                                <a:lnTo>
                                  <a:pt x="116" y="120"/>
                                </a:lnTo>
                                <a:lnTo>
                                  <a:pt x="274" y="54"/>
                                </a:lnTo>
                                <a:lnTo>
                                  <a:pt x="157" y="0"/>
                                </a:lnTo>
                                <a:lnTo>
                                  <a:pt x="0" y="62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-1800" bIns="-1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86" name=""/>
                          <p:cNvSpPr/>
                          <p:nvPr/>
                        </p:nvSpPr>
                        <p:spPr>
                          <a:xfrm>
                            <a:off x="6210360" y="4321080"/>
                            <a:ext cx="100440" cy="4464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79" h="124">
                                <a:moveTo>
                                  <a:pt x="0" y="58"/>
                                </a:moveTo>
                                <a:lnTo>
                                  <a:pt x="129" y="124"/>
                                </a:lnTo>
                                <a:lnTo>
                                  <a:pt x="279" y="58"/>
                                </a:lnTo>
                                <a:lnTo>
                                  <a:pt x="153" y="0"/>
                                </a:lnTo>
                                <a:lnTo>
                                  <a:pt x="0" y="58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-360" bIns="-3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87" name=""/>
                          <p:cNvSpPr/>
                          <p:nvPr/>
                        </p:nvSpPr>
                        <p:spPr>
                          <a:xfrm>
                            <a:off x="6157800" y="4292640"/>
                            <a:ext cx="93960" cy="3852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61" h="107">
                                <a:moveTo>
                                  <a:pt x="0" y="53"/>
                                </a:moveTo>
                                <a:lnTo>
                                  <a:pt x="104" y="107"/>
                                </a:lnTo>
                                <a:lnTo>
                                  <a:pt x="261" y="46"/>
                                </a:lnTo>
                                <a:lnTo>
                                  <a:pt x="169" y="0"/>
                                </a:lnTo>
                                <a:lnTo>
                                  <a:pt x="0" y="53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-6480" bIns="-64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88" name=""/>
                          <p:cNvSpPr/>
                          <p:nvPr/>
                        </p:nvSpPr>
                        <p:spPr>
                          <a:xfrm>
                            <a:off x="6242040" y="4273560"/>
                            <a:ext cx="59040" cy="2412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164" h="67">
                                <a:moveTo>
                                  <a:pt x="0" y="28"/>
                                </a:moveTo>
                                <a:lnTo>
                                  <a:pt x="88" y="67"/>
                                </a:lnTo>
                                <a:lnTo>
                                  <a:pt x="164" y="38"/>
                                </a:lnTo>
                                <a:lnTo>
                                  <a:pt x="79" y="0"/>
                                </a:lnTo>
                                <a:lnTo>
                                  <a:pt x="0" y="28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-20880" bIns="-208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89" name=""/>
                          <p:cNvSpPr/>
                          <p:nvPr/>
                        </p:nvSpPr>
                        <p:spPr>
                          <a:xfrm>
                            <a:off x="6288120" y="4297320"/>
                            <a:ext cx="71640" cy="3384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199" h="94">
                                <a:moveTo>
                                  <a:pt x="0" y="35"/>
                                </a:moveTo>
                                <a:lnTo>
                                  <a:pt x="117" y="94"/>
                                </a:lnTo>
                                <a:lnTo>
                                  <a:pt x="199" y="59"/>
                                </a:lnTo>
                                <a:lnTo>
                                  <a:pt x="81" y="0"/>
                                </a:lnTo>
                                <a:lnTo>
                                  <a:pt x="0" y="35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-11160" bIns="-111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90" name=""/>
                          <p:cNvSpPr/>
                          <p:nvPr/>
                        </p:nvSpPr>
                        <p:spPr>
                          <a:xfrm>
                            <a:off x="5924520" y="4383000"/>
                            <a:ext cx="95760" cy="4320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66" h="120">
                                <a:moveTo>
                                  <a:pt x="0" y="62"/>
                                </a:moveTo>
                                <a:lnTo>
                                  <a:pt x="109" y="120"/>
                                </a:lnTo>
                                <a:lnTo>
                                  <a:pt x="266" y="62"/>
                                </a:lnTo>
                                <a:lnTo>
                                  <a:pt x="157" y="0"/>
                                </a:lnTo>
                                <a:lnTo>
                                  <a:pt x="0" y="62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-1800" bIns="-1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91" name=""/>
                          <p:cNvSpPr/>
                          <p:nvPr/>
                        </p:nvSpPr>
                        <p:spPr>
                          <a:xfrm>
                            <a:off x="6346800" y="4327560"/>
                            <a:ext cx="71640" cy="3384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199" h="94">
                                <a:moveTo>
                                  <a:pt x="0" y="42"/>
                                </a:moveTo>
                                <a:lnTo>
                                  <a:pt x="113" y="94"/>
                                </a:lnTo>
                                <a:lnTo>
                                  <a:pt x="199" y="62"/>
                                </a:lnTo>
                                <a:lnTo>
                                  <a:pt x="85" y="0"/>
                                </a:lnTo>
                                <a:lnTo>
                                  <a:pt x="0" y="42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-11160" bIns="-111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192" name=""/>
                      <p:cNvGrpSpPr/>
                      <p:nvPr/>
                    </p:nvGrpSpPr>
                    <p:grpSpPr>
                      <a:xfrm>
                        <a:off x="5433840" y="4554360"/>
                        <a:ext cx="1570680" cy="632160"/>
                        <a:chOff x="5433840" y="4554360"/>
                        <a:chExt cx="1570680" cy="632160"/>
                      </a:xfrm>
                    </p:grpSpPr>
                    <p:sp>
                      <p:nvSpPr>
                        <p:cNvPr id="1193" name=""/>
                        <p:cNvSpPr/>
                        <p:nvPr/>
                      </p:nvSpPr>
                      <p:spPr>
                        <a:xfrm>
                          <a:off x="6329520" y="4851360"/>
                          <a:ext cx="675000" cy="33516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w="1875" h="931">
                              <a:moveTo>
                                <a:pt x="1875" y="0"/>
                              </a:moveTo>
                              <a:lnTo>
                                <a:pt x="52" y="742"/>
                              </a:lnTo>
                              <a:lnTo>
                                <a:pt x="13" y="785"/>
                              </a:lnTo>
                              <a:lnTo>
                                <a:pt x="0" y="832"/>
                              </a:lnTo>
                              <a:lnTo>
                                <a:pt x="13" y="867"/>
                              </a:lnTo>
                              <a:lnTo>
                                <a:pt x="34" y="910"/>
                              </a:lnTo>
                              <a:lnTo>
                                <a:pt x="69" y="931"/>
                              </a:lnTo>
                              <a:lnTo>
                                <a:pt x="1827" y="188"/>
                              </a:lnTo>
                              <a:lnTo>
                                <a:pt x="1875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c0c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45000" bIns="45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94" name=""/>
                        <p:cNvSpPr/>
                        <p:nvPr/>
                      </p:nvSpPr>
                      <p:spPr>
                        <a:xfrm>
                          <a:off x="5446800" y="4554360"/>
                          <a:ext cx="927360" cy="57348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w="2576" h="1593">
                              <a:moveTo>
                                <a:pt x="2576" y="1528"/>
                              </a:moveTo>
                              <a:lnTo>
                                <a:pt x="2480" y="1563"/>
                              </a:lnTo>
                              <a:lnTo>
                                <a:pt x="2440" y="1593"/>
                              </a:lnTo>
                              <a:lnTo>
                                <a:pt x="0" y="13"/>
                              </a:lnTo>
                              <a:lnTo>
                                <a:pt x="65" y="4"/>
                              </a:lnTo>
                              <a:lnTo>
                                <a:pt x="117" y="0"/>
                              </a:lnTo>
                              <a:lnTo>
                                <a:pt x="174" y="0"/>
                              </a:lnTo>
                              <a:lnTo>
                                <a:pt x="235" y="8"/>
                              </a:lnTo>
                              <a:lnTo>
                                <a:pt x="2576" y="152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f9f9f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45000" bIns="45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95" name=""/>
                        <p:cNvSpPr/>
                        <p:nvPr/>
                      </p:nvSpPr>
                      <p:spPr>
                        <a:xfrm>
                          <a:off x="5433840" y="4559400"/>
                          <a:ext cx="898920" cy="61776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w="2497" h="1716">
                              <a:moveTo>
                                <a:pt x="39" y="0"/>
                              </a:moveTo>
                              <a:lnTo>
                                <a:pt x="2476" y="1581"/>
                              </a:lnTo>
                              <a:lnTo>
                                <a:pt x="2467" y="1646"/>
                              </a:lnTo>
                              <a:lnTo>
                                <a:pt x="2497" y="1716"/>
                              </a:lnTo>
                              <a:lnTo>
                                <a:pt x="0" y="82"/>
                              </a:lnTo>
                              <a:lnTo>
                                <a:pt x="0" y="34"/>
                              </a:lnTo>
                              <a:lnTo>
                                <a:pt x="39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08080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45000" bIns="45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196" name=""/>
                    <p:cNvGrpSpPr/>
                    <p:nvPr/>
                  </p:nvGrpSpPr>
                  <p:grpSpPr>
                    <a:xfrm>
                      <a:off x="6388200" y="3335400"/>
                      <a:ext cx="1219320" cy="1141560"/>
                      <a:chOff x="6388200" y="3335400"/>
                      <a:chExt cx="1219320" cy="1141560"/>
                    </a:xfrm>
                  </p:grpSpPr>
                  <p:sp>
                    <p:nvSpPr>
                      <p:cNvPr id="1197" name=""/>
                      <p:cNvSpPr/>
                      <p:nvPr/>
                    </p:nvSpPr>
                    <p:spPr>
                      <a:xfrm>
                        <a:off x="7257960" y="3774960"/>
                        <a:ext cx="349560" cy="70200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971" h="1950">
                            <a:moveTo>
                              <a:pt x="906" y="0"/>
                            </a:moveTo>
                            <a:lnTo>
                              <a:pt x="971" y="130"/>
                            </a:lnTo>
                            <a:lnTo>
                              <a:pt x="68" y="1950"/>
                            </a:lnTo>
                            <a:lnTo>
                              <a:pt x="0" y="1810"/>
                            </a:lnTo>
                            <a:lnTo>
                              <a:pt x="906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98" name=""/>
                      <p:cNvSpPr/>
                      <p:nvPr/>
                    </p:nvSpPr>
                    <p:spPr>
                      <a:xfrm>
                        <a:off x="6388200" y="3335400"/>
                        <a:ext cx="1202040" cy="109260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339" h="3035">
                            <a:moveTo>
                              <a:pt x="910" y="0"/>
                            </a:moveTo>
                            <a:lnTo>
                              <a:pt x="3339" y="1211"/>
                            </a:lnTo>
                            <a:lnTo>
                              <a:pt x="2416" y="3035"/>
                            </a:lnTo>
                            <a:lnTo>
                              <a:pt x="0" y="1823"/>
                            </a:lnTo>
                            <a:lnTo>
                              <a:pt x="910" y="0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99" name=""/>
                      <p:cNvSpPr/>
                      <p:nvPr/>
                    </p:nvSpPr>
                    <p:spPr>
                      <a:xfrm>
                        <a:off x="6456240" y="3409920"/>
                        <a:ext cx="1070280" cy="93708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2973" h="2603">
                            <a:moveTo>
                              <a:pt x="2973" y="1105"/>
                            </a:moveTo>
                            <a:lnTo>
                              <a:pt x="2208" y="2603"/>
                            </a:lnTo>
                            <a:lnTo>
                              <a:pt x="0" y="1511"/>
                            </a:lnTo>
                            <a:lnTo>
                              <a:pt x="756" y="0"/>
                            </a:lnTo>
                            <a:lnTo>
                              <a:pt x="2973" y="1105"/>
                            </a:lnTo>
                            <a:close/>
                          </a:path>
                        </a:pathLst>
                      </a:custGeom>
                      <a:solidFill>
                        <a:srgbClr val="5f5f5f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00" name=""/>
                      <p:cNvSpPr/>
                      <p:nvPr/>
                    </p:nvSpPr>
                    <p:spPr>
                      <a:xfrm>
                        <a:off x="6505560" y="3452760"/>
                        <a:ext cx="972000" cy="84960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2700" h="2360">
                            <a:moveTo>
                              <a:pt x="2700" y="1016"/>
                            </a:moveTo>
                            <a:lnTo>
                              <a:pt x="2036" y="2360"/>
                            </a:lnTo>
                            <a:lnTo>
                              <a:pt x="0" y="1352"/>
                            </a:lnTo>
                            <a:lnTo>
                              <a:pt x="672" y="0"/>
                            </a:lnTo>
                            <a:lnTo>
                              <a:pt x="2700" y="101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01" name=""/>
                      <p:cNvSpPr/>
                      <p:nvPr/>
                    </p:nvSpPr>
                    <p:spPr>
                      <a:xfrm>
                        <a:off x="7174080" y="4340160"/>
                        <a:ext cx="66960" cy="5904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86" h="164">
                            <a:moveTo>
                              <a:pt x="50" y="0"/>
                            </a:moveTo>
                            <a:lnTo>
                              <a:pt x="186" y="64"/>
                            </a:lnTo>
                            <a:lnTo>
                              <a:pt x="136" y="164"/>
                            </a:lnTo>
                            <a:lnTo>
                              <a:pt x="0" y="95"/>
                            </a:lnTo>
                            <a:lnTo>
                              <a:pt x="50" y="0"/>
                            </a:lnTo>
                            <a:close/>
                          </a:path>
                        </a:pathLst>
                      </a:custGeom>
                      <a:solidFill>
                        <a:srgbClr val="800000"/>
                      </a:solidFill>
                      <a:ln w="0">
                        <a:noFill/>
                      </a:ln>
                    </p:spPr>
                    <p:txBody>
                      <a:bodyPr lIns="90000" rIns="90000" tIns="14040" bIns="14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02" name=""/>
                      <p:cNvSpPr/>
                      <p:nvPr/>
                    </p:nvSpPr>
                    <p:spPr>
                      <a:xfrm>
                        <a:off x="6389640" y="3997440"/>
                        <a:ext cx="883080" cy="47808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2453" h="1328">
                            <a:moveTo>
                              <a:pt x="2453" y="1328"/>
                            </a:moveTo>
                            <a:lnTo>
                              <a:pt x="69" y="151"/>
                            </a:lnTo>
                            <a:lnTo>
                              <a:pt x="0" y="0"/>
                            </a:lnTo>
                            <a:lnTo>
                              <a:pt x="2405" y="1194"/>
                            </a:lnTo>
                            <a:lnTo>
                              <a:pt x="2453" y="1328"/>
                            </a:lnTo>
                            <a:close/>
                          </a:path>
                        </a:pathLst>
                      </a:custGeom>
                      <a:solidFill>
                        <a:srgbClr val="5f5f5f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03" name=""/>
                      <p:cNvSpPr/>
                      <p:nvPr/>
                    </p:nvSpPr>
                    <p:spPr>
                      <a:xfrm>
                        <a:off x="6600960" y="4113360"/>
                        <a:ext cx="370080" cy="27828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028" h="773">
                            <a:moveTo>
                              <a:pt x="0" y="376"/>
                            </a:moveTo>
                            <a:lnTo>
                              <a:pt x="266" y="0"/>
                            </a:lnTo>
                            <a:lnTo>
                              <a:pt x="1028" y="380"/>
                            </a:lnTo>
                            <a:lnTo>
                              <a:pt x="761" y="773"/>
                            </a:lnTo>
                            <a:lnTo>
                              <a:pt x="0" y="376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204" name=""/>
                  <p:cNvGrpSpPr/>
                  <p:nvPr/>
                </p:nvGrpSpPr>
                <p:grpSpPr>
                  <a:xfrm>
                    <a:off x="7148520" y="4900680"/>
                    <a:ext cx="892440" cy="455760"/>
                    <a:chOff x="7148520" y="4900680"/>
                    <a:chExt cx="892440" cy="455760"/>
                  </a:xfrm>
                </p:grpSpPr>
                <p:sp>
                  <p:nvSpPr>
                    <p:cNvPr id="1205" name=""/>
                    <p:cNvSpPr/>
                    <p:nvPr/>
                  </p:nvSpPr>
                  <p:spPr>
                    <a:xfrm>
                      <a:off x="7167600" y="4941720"/>
                      <a:ext cx="706680" cy="4147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963" h="1152">
                          <a:moveTo>
                            <a:pt x="0" y="673"/>
                          </a:moveTo>
                          <a:lnTo>
                            <a:pt x="1280" y="1152"/>
                          </a:lnTo>
                          <a:lnTo>
                            <a:pt x="1963" y="509"/>
                          </a:lnTo>
                          <a:lnTo>
                            <a:pt x="709" y="0"/>
                          </a:lnTo>
                          <a:lnTo>
                            <a:pt x="0" y="67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206" name=""/>
                    <p:cNvGrpSpPr/>
                    <p:nvPr/>
                  </p:nvGrpSpPr>
                  <p:grpSpPr>
                    <a:xfrm>
                      <a:off x="7148520" y="4900680"/>
                      <a:ext cx="740160" cy="362160"/>
                      <a:chOff x="7148520" y="4900680"/>
                      <a:chExt cx="740160" cy="362160"/>
                    </a:xfrm>
                  </p:grpSpPr>
                  <p:sp>
                    <p:nvSpPr>
                      <p:cNvPr id="1207" name=""/>
                      <p:cNvSpPr/>
                      <p:nvPr/>
                    </p:nvSpPr>
                    <p:spPr>
                      <a:xfrm>
                        <a:off x="7148520" y="4900680"/>
                        <a:ext cx="740160" cy="36216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2056" h="1006">
                            <a:moveTo>
                              <a:pt x="0" y="309"/>
                            </a:moveTo>
                            <a:lnTo>
                              <a:pt x="793" y="1006"/>
                            </a:lnTo>
                            <a:lnTo>
                              <a:pt x="2056" y="688"/>
                            </a:lnTo>
                            <a:lnTo>
                              <a:pt x="1276" y="0"/>
                            </a:lnTo>
                            <a:lnTo>
                              <a:pt x="0" y="309"/>
                            </a:lnTo>
                            <a:close/>
                          </a:path>
                        </a:pathLst>
                      </a:custGeom>
                      <a:solidFill>
                        <a:srgbClr val="3f3f3f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08" name=""/>
                      <p:cNvSpPr/>
                      <p:nvPr/>
                    </p:nvSpPr>
                    <p:spPr>
                      <a:xfrm>
                        <a:off x="7170840" y="4971960"/>
                        <a:ext cx="240120" cy="9396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667" h="261">
                            <a:moveTo>
                              <a:pt x="0" y="120"/>
                            </a:moveTo>
                            <a:lnTo>
                              <a:pt x="165" y="261"/>
                            </a:lnTo>
                            <a:lnTo>
                              <a:pt x="667" y="137"/>
                            </a:lnTo>
                            <a:lnTo>
                              <a:pt x="510" y="0"/>
                            </a:lnTo>
                            <a:lnTo>
                              <a:pt x="0" y="120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209" name=""/>
                    <p:cNvGrpSpPr/>
                    <p:nvPr/>
                  </p:nvGrpSpPr>
                  <p:grpSpPr>
                    <a:xfrm>
                      <a:off x="7308720" y="4967280"/>
                      <a:ext cx="732240" cy="360720"/>
                      <a:chOff x="7308720" y="4967280"/>
                      <a:chExt cx="732240" cy="360720"/>
                    </a:xfrm>
                  </p:grpSpPr>
                  <p:sp>
                    <p:nvSpPr>
                      <p:cNvPr id="1210" name=""/>
                      <p:cNvSpPr/>
                      <p:nvPr/>
                    </p:nvSpPr>
                    <p:spPr>
                      <a:xfrm>
                        <a:off x="7308720" y="4967280"/>
                        <a:ext cx="732240" cy="3607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2034" h="1002">
                            <a:moveTo>
                              <a:pt x="0" y="305"/>
                            </a:moveTo>
                            <a:lnTo>
                              <a:pt x="788" y="1002"/>
                            </a:lnTo>
                            <a:lnTo>
                              <a:pt x="2034" y="696"/>
                            </a:lnTo>
                            <a:lnTo>
                              <a:pt x="1245" y="0"/>
                            </a:lnTo>
                            <a:lnTo>
                              <a:pt x="0" y="305"/>
                            </a:lnTo>
                            <a:close/>
                          </a:path>
                        </a:pathLst>
                      </a:custGeom>
                      <a:solidFill>
                        <a:srgbClr val="5f5f5f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11" name=""/>
                      <p:cNvSpPr/>
                      <p:nvPr/>
                    </p:nvSpPr>
                    <p:spPr>
                      <a:xfrm>
                        <a:off x="7618320" y="5092560"/>
                        <a:ext cx="162000" cy="114480"/>
                      </a:xfrm>
                      <a:prstGeom prst="ellipse">
                        <a:avLst/>
                      </a:prstGeom>
                      <a:solidFill>
                        <a:srgbClr val="3f3f3f"/>
                      </a:solidFill>
                      <a:ln w="12600">
                        <a:solidFill>
                          <a:srgbClr val="808080"/>
                        </a:solidFill>
                        <a:round/>
                      </a:ln>
                    </p:spPr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12" name=""/>
                      <p:cNvSpPr/>
                      <p:nvPr/>
                    </p:nvSpPr>
                    <p:spPr>
                      <a:xfrm>
                        <a:off x="7327800" y="5037120"/>
                        <a:ext cx="240120" cy="9396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667" h="261">
                            <a:moveTo>
                              <a:pt x="0" y="116"/>
                            </a:moveTo>
                            <a:lnTo>
                              <a:pt x="165" y="261"/>
                            </a:lnTo>
                            <a:lnTo>
                              <a:pt x="667" y="137"/>
                            </a:lnTo>
                            <a:lnTo>
                              <a:pt x="506" y="0"/>
                            </a:lnTo>
                            <a:lnTo>
                              <a:pt x="0" y="116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</p:grpSp>
        <p:grpSp>
          <p:nvGrpSpPr>
            <p:cNvPr id="1213" name=""/>
            <p:cNvGrpSpPr/>
            <p:nvPr/>
          </p:nvGrpSpPr>
          <p:grpSpPr>
            <a:xfrm>
              <a:off x="6199200" y="2766960"/>
              <a:ext cx="2939040" cy="3378600"/>
              <a:chOff x="6199200" y="2766960"/>
              <a:chExt cx="2939040" cy="3378600"/>
            </a:xfrm>
          </p:grpSpPr>
          <p:grpSp>
            <p:nvGrpSpPr>
              <p:cNvPr id="1214" name=""/>
              <p:cNvGrpSpPr/>
              <p:nvPr/>
            </p:nvGrpSpPr>
            <p:grpSpPr>
              <a:xfrm>
                <a:off x="6199200" y="2766960"/>
                <a:ext cx="2939040" cy="3378600"/>
                <a:chOff x="6199200" y="2766960"/>
                <a:chExt cx="2939040" cy="3378600"/>
              </a:xfrm>
            </p:grpSpPr>
            <p:grpSp>
              <p:nvGrpSpPr>
                <p:cNvPr id="1215" name=""/>
                <p:cNvGrpSpPr/>
                <p:nvPr/>
              </p:nvGrpSpPr>
              <p:grpSpPr>
                <a:xfrm>
                  <a:off x="6199200" y="2766960"/>
                  <a:ext cx="2939040" cy="3378600"/>
                  <a:chOff x="6199200" y="2766960"/>
                  <a:chExt cx="2939040" cy="3378600"/>
                </a:xfrm>
              </p:grpSpPr>
              <p:grpSp>
                <p:nvGrpSpPr>
                  <p:cNvPr id="1216" name=""/>
                  <p:cNvGrpSpPr/>
                  <p:nvPr/>
                </p:nvGrpSpPr>
                <p:grpSpPr>
                  <a:xfrm>
                    <a:off x="6199200" y="2766960"/>
                    <a:ext cx="2163960" cy="3378600"/>
                    <a:chOff x="6199200" y="2766960"/>
                    <a:chExt cx="2163960" cy="3378600"/>
                  </a:xfrm>
                </p:grpSpPr>
                <p:grpSp>
                  <p:nvGrpSpPr>
                    <p:cNvPr id="1217" name=""/>
                    <p:cNvGrpSpPr/>
                    <p:nvPr/>
                  </p:nvGrpSpPr>
                  <p:grpSpPr>
                    <a:xfrm>
                      <a:off x="6199200" y="2766960"/>
                      <a:ext cx="1882800" cy="3378600"/>
                      <a:chOff x="6199200" y="2766960"/>
                      <a:chExt cx="1882800" cy="3378600"/>
                    </a:xfrm>
                  </p:grpSpPr>
                  <p:grpSp>
                    <p:nvGrpSpPr>
                      <p:cNvPr id="1218" name=""/>
                      <p:cNvGrpSpPr/>
                      <p:nvPr/>
                    </p:nvGrpSpPr>
                    <p:grpSpPr>
                      <a:xfrm>
                        <a:off x="6199200" y="3273480"/>
                        <a:ext cx="1882800" cy="2872080"/>
                        <a:chOff x="6199200" y="3273480"/>
                        <a:chExt cx="1882800" cy="2872080"/>
                      </a:xfrm>
                    </p:grpSpPr>
                    <p:grpSp>
                      <p:nvGrpSpPr>
                        <p:cNvPr id="1219" name=""/>
                        <p:cNvGrpSpPr/>
                        <p:nvPr/>
                      </p:nvGrpSpPr>
                      <p:grpSpPr>
                        <a:xfrm>
                          <a:off x="6199200" y="3273480"/>
                          <a:ext cx="1882800" cy="2872080"/>
                          <a:chOff x="6199200" y="3273480"/>
                          <a:chExt cx="1882800" cy="2872080"/>
                        </a:xfrm>
                      </p:grpSpPr>
                      <p:grpSp>
                        <p:nvGrpSpPr>
                          <p:cNvPr id="1220" name=""/>
                          <p:cNvGrpSpPr/>
                          <p:nvPr/>
                        </p:nvGrpSpPr>
                        <p:grpSpPr>
                          <a:xfrm>
                            <a:off x="6199200" y="4940280"/>
                            <a:ext cx="808200" cy="1205280"/>
                            <a:chOff x="6199200" y="4940280"/>
                            <a:chExt cx="808200" cy="1205280"/>
                          </a:xfrm>
                        </p:grpSpPr>
                        <p:grpSp>
                          <p:nvGrpSpPr>
                            <p:cNvPr id="1221" name=""/>
                            <p:cNvGrpSpPr/>
                            <p:nvPr/>
                          </p:nvGrpSpPr>
                          <p:grpSpPr>
                            <a:xfrm>
                              <a:off x="6199200" y="5226120"/>
                              <a:ext cx="601920" cy="919440"/>
                              <a:chOff x="6199200" y="5226120"/>
                              <a:chExt cx="601920" cy="919440"/>
                            </a:xfrm>
                          </p:grpSpPr>
                          <p:sp>
                            <p:nvSpPr>
                              <p:cNvPr id="1222" name=""/>
                              <p:cNvSpPr/>
                              <p:nvPr/>
                            </p:nvSpPr>
                            <p:spPr>
                              <a:xfrm>
                                <a:off x="6400800" y="5862600"/>
                                <a:ext cx="182880" cy="9396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508" h="261">
                                    <a:moveTo>
                                      <a:pt x="0" y="169"/>
                                    </a:moveTo>
                                    <a:lnTo>
                                      <a:pt x="113" y="0"/>
                                    </a:lnTo>
                                    <a:lnTo>
                                      <a:pt x="226" y="12"/>
                                    </a:lnTo>
                                    <a:lnTo>
                                      <a:pt x="332" y="36"/>
                                    </a:lnTo>
                                    <a:lnTo>
                                      <a:pt x="508" y="96"/>
                                    </a:lnTo>
                                    <a:lnTo>
                                      <a:pt x="453" y="261"/>
                                    </a:lnTo>
                                    <a:lnTo>
                                      <a:pt x="0" y="169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bf3f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45000" bIns="450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23" name=""/>
                              <p:cNvSpPr/>
                              <p:nvPr/>
                            </p:nvSpPr>
                            <p:spPr>
                              <a:xfrm>
                                <a:off x="6354720" y="5918040"/>
                                <a:ext cx="200520" cy="8280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557" h="230">
                                    <a:moveTo>
                                      <a:pt x="134" y="0"/>
                                    </a:moveTo>
                                    <a:lnTo>
                                      <a:pt x="211" y="7"/>
                                    </a:lnTo>
                                    <a:lnTo>
                                      <a:pt x="337" y="31"/>
                                    </a:lnTo>
                                    <a:lnTo>
                                      <a:pt x="460" y="59"/>
                                    </a:lnTo>
                                    <a:lnTo>
                                      <a:pt x="544" y="75"/>
                                    </a:lnTo>
                                    <a:lnTo>
                                      <a:pt x="557" y="110"/>
                                    </a:lnTo>
                                    <a:lnTo>
                                      <a:pt x="553" y="159"/>
                                    </a:lnTo>
                                    <a:lnTo>
                                      <a:pt x="511" y="202"/>
                                    </a:lnTo>
                                    <a:lnTo>
                                      <a:pt x="452" y="230"/>
                                    </a:lnTo>
                                    <a:lnTo>
                                      <a:pt x="337" y="214"/>
                                    </a:lnTo>
                                    <a:lnTo>
                                      <a:pt x="152" y="167"/>
                                    </a:lnTo>
                                    <a:lnTo>
                                      <a:pt x="0" y="83"/>
                                    </a:lnTo>
                                    <a:lnTo>
                                      <a:pt x="134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7f3f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37800" bIns="37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24" name=""/>
                              <p:cNvSpPr/>
                              <p:nvPr/>
                            </p:nvSpPr>
                            <p:spPr>
                              <a:xfrm>
                                <a:off x="6199200" y="5226120"/>
                                <a:ext cx="601920" cy="91944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1672" h="2554">
                                    <a:moveTo>
                                      <a:pt x="1246" y="0"/>
                                    </a:moveTo>
                                    <a:lnTo>
                                      <a:pt x="1186" y="104"/>
                                    </a:lnTo>
                                    <a:lnTo>
                                      <a:pt x="1155" y="213"/>
                                    </a:lnTo>
                                    <a:lnTo>
                                      <a:pt x="1099" y="327"/>
                                    </a:lnTo>
                                    <a:lnTo>
                                      <a:pt x="1047" y="401"/>
                                    </a:lnTo>
                                    <a:lnTo>
                                      <a:pt x="999" y="484"/>
                                    </a:lnTo>
                                    <a:lnTo>
                                      <a:pt x="929" y="558"/>
                                    </a:lnTo>
                                    <a:lnTo>
                                      <a:pt x="843" y="628"/>
                                    </a:lnTo>
                                    <a:lnTo>
                                      <a:pt x="820" y="654"/>
                                    </a:lnTo>
                                    <a:lnTo>
                                      <a:pt x="807" y="707"/>
                                    </a:lnTo>
                                    <a:lnTo>
                                      <a:pt x="798" y="798"/>
                                    </a:lnTo>
                                    <a:lnTo>
                                      <a:pt x="764" y="907"/>
                                    </a:lnTo>
                                    <a:lnTo>
                                      <a:pt x="694" y="982"/>
                                    </a:lnTo>
                                    <a:lnTo>
                                      <a:pt x="633" y="1064"/>
                                    </a:lnTo>
                                    <a:lnTo>
                                      <a:pt x="594" y="1134"/>
                                    </a:lnTo>
                                    <a:lnTo>
                                      <a:pt x="516" y="1288"/>
                                    </a:lnTo>
                                    <a:lnTo>
                                      <a:pt x="421" y="1450"/>
                                    </a:lnTo>
                                    <a:lnTo>
                                      <a:pt x="412" y="1506"/>
                                    </a:lnTo>
                                    <a:lnTo>
                                      <a:pt x="403" y="1602"/>
                                    </a:lnTo>
                                    <a:lnTo>
                                      <a:pt x="399" y="1724"/>
                                    </a:lnTo>
                                    <a:lnTo>
                                      <a:pt x="408" y="1816"/>
                                    </a:lnTo>
                                    <a:lnTo>
                                      <a:pt x="416" y="1903"/>
                                    </a:lnTo>
                                    <a:lnTo>
                                      <a:pt x="399" y="1978"/>
                                    </a:lnTo>
                                    <a:lnTo>
                                      <a:pt x="338" y="2082"/>
                                    </a:lnTo>
                                    <a:lnTo>
                                      <a:pt x="260" y="2187"/>
                                    </a:lnTo>
                                    <a:lnTo>
                                      <a:pt x="0" y="2501"/>
                                    </a:lnTo>
                                    <a:lnTo>
                                      <a:pt x="173" y="2554"/>
                                    </a:lnTo>
                                    <a:lnTo>
                                      <a:pt x="286" y="2440"/>
                                    </a:lnTo>
                                    <a:lnTo>
                                      <a:pt x="425" y="2305"/>
                                    </a:lnTo>
                                    <a:lnTo>
                                      <a:pt x="529" y="2191"/>
                                    </a:lnTo>
                                    <a:lnTo>
                                      <a:pt x="629" y="2078"/>
                                    </a:lnTo>
                                    <a:lnTo>
                                      <a:pt x="698" y="1978"/>
                                    </a:lnTo>
                                    <a:lnTo>
                                      <a:pt x="764" y="1825"/>
                                    </a:lnTo>
                                    <a:lnTo>
                                      <a:pt x="873" y="1746"/>
                                    </a:lnTo>
                                    <a:lnTo>
                                      <a:pt x="951" y="1681"/>
                                    </a:lnTo>
                                    <a:lnTo>
                                      <a:pt x="995" y="1620"/>
                                    </a:lnTo>
                                    <a:lnTo>
                                      <a:pt x="964" y="1742"/>
                                    </a:lnTo>
                                    <a:lnTo>
                                      <a:pt x="934" y="1851"/>
                                    </a:lnTo>
                                    <a:lnTo>
                                      <a:pt x="916" y="1986"/>
                                    </a:lnTo>
                                    <a:lnTo>
                                      <a:pt x="925" y="2117"/>
                                    </a:lnTo>
                                    <a:lnTo>
                                      <a:pt x="960" y="2266"/>
                                    </a:lnTo>
                                    <a:lnTo>
                                      <a:pt x="990" y="2357"/>
                                    </a:lnTo>
                                    <a:lnTo>
                                      <a:pt x="1025" y="2397"/>
                                    </a:lnTo>
                                    <a:lnTo>
                                      <a:pt x="1073" y="2427"/>
                                    </a:lnTo>
                                    <a:lnTo>
                                      <a:pt x="1134" y="2440"/>
                                    </a:lnTo>
                                    <a:lnTo>
                                      <a:pt x="1181" y="2432"/>
                                    </a:lnTo>
                                    <a:lnTo>
                                      <a:pt x="1220" y="2414"/>
                                    </a:lnTo>
                                    <a:lnTo>
                                      <a:pt x="1242" y="2370"/>
                                    </a:lnTo>
                                    <a:lnTo>
                                      <a:pt x="1220" y="2301"/>
                                    </a:lnTo>
                                    <a:lnTo>
                                      <a:pt x="1177" y="2257"/>
                                    </a:lnTo>
                                    <a:lnTo>
                                      <a:pt x="1138" y="2209"/>
                                    </a:lnTo>
                                    <a:lnTo>
                                      <a:pt x="1125" y="2074"/>
                                    </a:lnTo>
                                    <a:lnTo>
                                      <a:pt x="1155" y="1925"/>
                                    </a:lnTo>
                                    <a:lnTo>
                                      <a:pt x="1168" y="1816"/>
                                    </a:lnTo>
                                    <a:lnTo>
                                      <a:pt x="1207" y="1729"/>
                                    </a:lnTo>
                                    <a:lnTo>
                                      <a:pt x="1242" y="1650"/>
                                    </a:lnTo>
                                    <a:lnTo>
                                      <a:pt x="1294" y="1559"/>
                                    </a:lnTo>
                                    <a:lnTo>
                                      <a:pt x="1303" y="1506"/>
                                    </a:lnTo>
                                    <a:lnTo>
                                      <a:pt x="1329" y="1353"/>
                                    </a:lnTo>
                                    <a:lnTo>
                                      <a:pt x="1333" y="1222"/>
                                    </a:lnTo>
                                    <a:lnTo>
                                      <a:pt x="1429" y="1003"/>
                                    </a:lnTo>
                                    <a:lnTo>
                                      <a:pt x="1507" y="811"/>
                                    </a:lnTo>
                                    <a:lnTo>
                                      <a:pt x="1563" y="628"/>
                                    </a:lnTo>
                                    <a:lnTo>
                                      <a:pt x="1637" y="432"/>
                                    </a:lnTo>
                                    <a:lnTo>
                                      <a:pt x="1672" y="82"/>
                                    </a:lnTo>
                                    <a:lnTo>
                                      <a:pt x="1246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9f7f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45000" bIns="450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25" name=""/>
                              <p:cNvSpPr/>
                              <p:nvPr/>
                            </p:nvSpPr>
                            <p:spPr>
                              <a:xfrm>
                                <a:off x="6523200" y="5796000"/>
                                <a:ext cx="41760" cy="1018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116" h="283">
                                    <a:moveTo>
                                      <a:pt x="0" y="154"/>
                                    </a:moveTo>
                                    <a:lnTo>
                                      <a:pt x="36" y="120"/>
                                    </a:lnTo>
                                    <a:lnTo>
                                      <a:pt x="65" y="84"/>
                                    </a:lnTo>
                                    <a:lnTo>
                                      <a:pt x="86" y="52"/>
                                    </a:lnTo>
                                    <a:lnTo>
                                      <a:pt x="116" y="0"/>
                                    </a:lnTo>
                                    <a:lnTo>
                                      <a:pt x="91" y="92"/>
                                    </a:lnTo>
                                    <a:lnTo>
                                      <a:pt x="72" y="137"/>
                                    </a:lnTo>
                                    <a:lnTo>
                                      <a:pt x="54" y="218"/>
                                    </a:lnTo>
                                    <a:lnTo>
                                      <a:pt x="36" y="283"/>
                                    </a:lnTo>
                                    <a:lnTo>
                                      <a:pt x="21" y="194"/>
                                    </a:lnTo>
                                    <a:lnTo>
                                      <a:pt x="0" y="154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7f3f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45000" bIns="450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26" name=""/>
                              <p:cNvSpPr/>
                              <p:nvPr/>
                            </p:nvSpPr>
                            <p:spPr>
                              <a:xfrm>
                                <a:off x="6581880" y="5877000"/>
                                <a:ext cx="39960" cy="197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111" h="548">
                                    <a:moveTo>
                                      <a:pt x="111" y="460"/>
                                    </a:moveTo>
                                    <a:lnTo>
                                      <a:pt x="75" y="456"/>
                                    </a:lnTo>
                                    <a:lnTo>
                                      <a:pt x="42" y="477"/>
                                    </a:lnTo>
                                    <a:lnTo>
                                      <a:pt x="14" y="519"/>
                                    </a:lnTo>
                                    <a:lnTo>
                                      <a:pt x="0" y="548"/>
                                    </a:lnTo>
                                    <a:lnTo>
                                      <a:pt x="14" y="494"/>
                                    </a:lnTo>
                                    <a:lnTo>
                                      <a:pt x="32" y="452"/>
                                    </a:lnTo>
                                    <a:lnTo>
                                      <a:pt x="57" y="426"/>
                                    </a:lnTo>
                                    <a:lnTo>
                                      <a:pt x="49" y="375"/>
                                    </a:lnTo>
                                    <a:lnTo>
                                      <a:pt x="46" y="274"/>
                                    </a:lnTo>
                                    <a:lnTo>
                                      <a:pt x="53" y="190"/>
                                    </a:lnTo>
                                    <a:lnTo>
                                      <a:pt x="72" y="117"/>
                                    </a:lnTo>
                                    <a:lnTo>
                                      <a:pt x="104" y="0"/>
                                    </a:lnTo>
                                    <a:lnTo>
                                      <a:pt x="93" y="88"/>
                                    </a:lnTo>
                                    <a:lnTo>
                                      <a:pt x="86" y="169"/>
                                    </a:lnTo>
                                    <a:lnTo>
                                      <a:pt x="75" y="249"/>
                                    </a:lnTo>
                                    <a:lnTo>
                                      <a:pt x="72" y="299"/>
                                    </a:lnTo>
                                    <a:lnTo>
                                      <a:pt x="75" y="345"/>
                                    </a:lnTo>
                                    <a:lnTo>
                                      <a:pt x="82" y="404"/>
                                    </a:lnTo>
                                    <a:lnTo>
                                      <a:pt x="111" y="46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7f3f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45000" bIns="450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27" name=""/>
                              <p:cNvSpPr/>
                              <p:nvPr/>
                            </p:nvSpPr>
                            <p:spPr>
                              <a:xfrm>
                                <a:off x="6343560" y="5753160"/>
                                <a:ext cx="71640" cy="1828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199" h="508">
                                    <a:moveTo>
                                      <a:pt x="3" y="508"/>
                                    </a:moveTo>
                                    <a:lnTo>
                                      <a:pt x="27" y="470"/>
                                    </a:lnTo>
                                    <a:lnTo>
                                      <a:pt x="54" y="411"/>
                                    </a:lnTo>
                                    <a:lnTo>
                                      <a:pt x="70" y="353"/>
                                    </a:lnTo>
                                    <a:lnTo>
                                      <a:pt x="66" y="277"/>
                                    </a:lnTo>
                                    <a:lnTo>
                                      <a:pt x="66" y="201"/>
                                    </a:lnTo>
                                    <a:lnTo>
                                      <a:pt x="73" y="129"/>
                                    </a:lnTo>
                                    <a:lnTo>
                                      <a:pt x="81" y="88"/>
                                    </a:lnTo>
                                    <a:lnTo>
                                      <a:pt x="109" y="54"/>
                                    </a:lnTo>
                                    <a:lnTo>
                                      <a:pt x="148" y="29"/>
                                    </a:lnTo>
                                    <a:lnTo>
                                      <a:pt x="199" y="0"/>
                                    </a:lnTo>
                                    <a:lnTo>
                                      <a:pt x="133" y="29"/>
                                    </a:lnTo>
                                    <a:lnTo>
                                      <a:pt x="85" y="54"/>
                                    </a:lnTo>
                                    <a:lnTo>
                                      <a:pt x="42" y="54"/>
                                    </a:lnTo>
                                    <a:lnTo>
                                      <a:pt x="19" y="33"/>
                                    </a:lnTo>
                                    <a:lnTo>
                                      <a:pt x="11" y="71"/>
                                    </a:lnTo>
                                    <a:lnTo>
                                      <a:pt x="3" y="134"/>
                                    </a:lnTo>
                                    <a:lnTo>
                                      <a:pt x="3" y="192"/>
                                    </a:lnTo>
                                    <a:lnTo>
                                      <a:pt x="0" y="273"/>
                                    </a:lnTo>
                                    <a:lnTo>
                                      <a:pt x="3" y="340"/>
                                    </a:lnTo>
                                    <a:lnTo>
                                      <a:pt x="11" y="394"/>
                                    </a:lnTo>
                                    <a:lnTo>
                                      <a:pt x="15" y="432"/>
                                    </a:lnTo>
                                    <a:lnTo>
                                      <a:pt x="3" y="508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7f3f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45000" bIns="450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228" name=""/>
                            <p:cNvGrpSpPr/>
                            <p:nvPr/>
                          </p:nvGrpSpPr>
                          <p:grpSpPr>
                            <a:xfrm>
                              <a:off x="6626160" y="4940280"/>
                              <a:ext cx="381240" cy="454320"/>
                              <a:chOff x="6626160" y="4940280"/>
                              <a:chExt cx="381240" cy="454320"/>
                            </a:xfrm>
                          </p:grpSpPr>
                          <p:sp>
                            <p:nvSpPr>
                              <p:cNvPr id="1229" name=""/>
                              <p:cNvSpPr/>
                              <p:nvPr/>
                            </p:nvSpPr>
                            <p:spPr>
                              <a:xfrm>
                                <a:off x="6626160" y="4940280"/>
                                <a:ext cx="381240" cy="45432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1059" h="1262">
                                    <a:moveTo>
                                      <a:pt x="309" y="0"/>
                                    </a:moveTo>
                                    <a:lnTo>
                                      <a:pt x="473" y="47"/>
                                    </a:lnTo>
                                    <a:lnTo>
                                      <a:pt x="771" y="164"/>
                                    </a:lnTo>
                                    <a:lnTo>
                                      <a:pt x="968" y="328"/>
                                    </a:lnTo>
                                    <a:lnTo>
                                      <a:pt x="1059" y="496"/>
                                    </a:lnTo>
                                    <a:lnTo>
                                      <a:pt x="1029" y="608"/>
                                    </a:lnTo>
                                    <a:lnTo>
                                      <a:pt x="964" y="700"/>
                                    </a:lnTo>
                                    <a:lnTo>
                                      <a:pt x="908" y="756"/>
                                    </a:lnTo>
                                    <a:lnTo>
                                      <a:pt x="835" y="821"/>
                                    </a:lnTo>
                                    <a:lnTo>
                                      <a:pt x="753" y="920"/>
                                    </a:lnTo>
                                    <a:lnTo>
                                      <a:pt x="693" y="1024"/>
                                    </a:lnTo>
                                    <a:lnTo>
                                      <a:pt x="642" y="1106"/>
                                    </a:lnTo>
                                    <a:lnTo>
                                      <a:pt x="603" y="1175"/>
                                    </a:lnTo>
                                    <a:lnTo>
                                      <a:pt x="551" y="1223"/>
                                    </a:lnTo>
                                    <a:lnTo>
                                      <a:pt x="503" y="1249"/>
                                    </a:lnTo>
                                    <a:lnTo>
                                      <a:pt x="447" y="1262"/>
                                    </a:lnTo>
                                    <a:lnTo>
                                      <a:pt x="460" y="1210"/>
                                    </a:lnTo>
                                    <a:lnTo>
                                      <a:pt x="477" y="1167"/>
                                    </a:lnTo>
                                    <a:lnTo>
                                      <a:pt x="460" y="1046"/>
                                    </a:lnTo>
                                    <a:lnTo>
                                      <a:pt x="374" y="964"/>
                                    </a:lnTo>
                                    <a:lnTo>
                                      <a:pt x="202" y="877"/>
                                    </a:lnTo>
                                    <a:lnTo>
                                      <a:pt x="60" y="860"/>
                                    </a:lnTo>
                                    <a:lnTo>
                                      <a:pt x="21" y="882"/>
                                    </a:lnTo>
                                    <a:lnTo>
                                      <a:pt x="0" y="847"/>
                                    </a:lnTo>
                                    <a:lnTo>
                                      <a:pt x="4" y="808"/>
                                    </a:lnTo>
                                    <a:lnTo>
                                      <a:pt x="12" y="765"/>
                                    </a:lnTo>
                                    <a:lnTo>
                                      <a:pt x="43" y="717"/>
                                    </a:lnTo>
                                    <a:lnTo>
                                      <a:pt x="98" y="608"/>
                                    </a:lnTo>
                                    <a:lnTo>
                                      <a:pt x="133" y="470"/>
                                    </a:lnTo>
                                    <a:lnTo>
                                      <a:pt x="197" y="254"/>
                                    </a:lnTo>
                                    <a:lnTo>
                                      <a:pt x="275" y="69"/>
                                    </a:lnTo>
                                    <a:lnTo>
                                      <a:pt x="309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ffff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45000" bIns="450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30" name=""/>
                              <p:cNvSpPr/>
                              <p:nvPr/>
                            </p:nvSpPr>
                            <p:spPr>
                              <a:xfrm>
                                <a:off x="6634080" y="5248440"/>
                                <a:ext cx="165600" cy="14472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460" h="402">
                                    <a:moveTo>
                                      <a:pt x="0" y="41"/>
                                    </a:moveTo>
                                    <a:lnTo>
                                      <a:pt x="16" y="16"/>
                                    </a:lnTo>
                                    <a:lnTo>
                                      <a:pt x="37" y="8"/>
                                    </a:lnTo>
                                    <a:lnTo>
                                      <a:pt x="100" y="0"/>
                                    </a:lnTo>
                                    <a:lnTo>
                                      <a:pt x="155" y="4"/>
                                    </a:lnTo>
                                    <a:lnTo>
                                      <a:pt x="213" y="20"/>
                                    </a:lnTo>
                                    <a:lnTo>
                                      <a:pt x="271" y="45"/>
                                    </a:lnTo>
                                    <a:lnTo>
                                      <a:pt x="334" y="82"/>
                                    </a:lnTo>
                                    <a:lnTo>
                                      <a:pt x="385" y="119"/>
                                    </a:lnTo>
                                    <a:lnTo>
                                      <a:pt x="427" y="173"/>
                                    </a:lnTo>
                                    <a:lnTo>
                                      <a:pt x="456" y="228"/>
                                    </a:lnTo>
                                    <a:lnTo>
                                      <a:pt x="460" y="282"/>
                                    </a:lnTo>
                                    <a:lnTo>
                                      <a:pt x="452" y="340"/>
                                    </a:lnTo>
                                    <a:lnTo>
                                      <a:pt x="431" y="369"/>
                                    </a:lnTo>
                                    <a:lnTo>
                                      <a:pt x="410" y="402"/>
                                    </a:lnTo>
                                    <a:lnTo>
                                      <a:pt x="427" y="336"/>
                                    </a:lnTo>
                                    <a:lnTo>
                                      <a:pt x="431" y="274"/>
                                    </a:lnTo>
                                    <a:lnTo>
                                      <a:pt x="410" y="203"/>
                                    </a:lnTo>
                                    <a:lnTo>
                                      <a:pt x="373" y="157"/>
                                    </a:lnTo>
                                    <a:lnTo>
                                      <a:pt x="301" y="107"/>
                                    </a:lnTo>
                                    <a:lnTo>
                                      <a:pt x="230" y="74"/>
                                    </a:lnTo>
                                    <a:lnTo>
                                      <a:pt x="159" y="49"/>
                                    </a:lnTo>
                                    <a:lnTo>
                                      <a:pt x="91" y="37"/>
                                    </a:lnTo>
                                    <a:lnTo>
                                      <a:pt x="0" y="41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d5d5d5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45000" bIns="450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1231" name=""/>
                          <p:cNvGrpSpPr/>
                          <p:nvPr/>
                        </p:nvGrpSpPr>
                        <p:grpSpPr>
                          <a:xfrm>
                            <a:off x="6727680" y="3273480"/>
                            <a:ext cx="1354320" cy="1887840"/>
                            <a:chOff x="6727680" y="3273480"/>
                            <a:chExt cx="1354320" cy="1887840"/>
                          </a:xfrm>
                        </p:grpSpPr>
                        <p:sp>
                          <p:nvSpPr>
                            <p:cNvPr id="1232" name=""/>
                            <p:cNvSpPr/>
                            <p:nvPr/>
                          </p:nvSpPr>
                          <p:spPr>
                            <a:xfrm>
                              <a:off x="6727680" y="3273480"/>
                              <a:ext cx="1354320" cy="1872000"/>
                            </a:xfrm>
                            <a:custGeom>
                              <a:avLst/>
                              <a:gdLst/>
                              <a:ahLst/>
                              <a:rect l="0" t="0" r="r" b="b"/>
                              <a:pathLst>
                                <a:path w="3762" h="5200">
                                  <a:moveTo>
                                    <a:pt x="1624" y="0"/>
                                  </a:moveTo>
                                  <a:lnTo>
                                    <a:pt x="2991" y="855"/>
                                  </a:lnTo>
                                  <a:lnTo>
                                    <a:pt x="3276" y="1855"/>
                                  </a:lnTo>
                                  <a:lnTo>
                                    <a:pt x="3762" y="2629"/>
                                  </a:lnTo>
                                  <a:lnTo>
                                    <a:pt x="3534" y="3230"/>
                                  </a:lnTo>
                                  <a:lnTo>
                                    <a:pt x="3394" y="3001"/>
                                  </a:lnTo>
                                  <a:lnTo>
                                    <a:pt x="3075" y="2769"/>
                                  </a:lnTo>
                                  <a:lnTo>
                                    <a:pt x="2707" y="2681"/>
                                  </a:lnTo>
                                  <a:lnTo>
                                    <a:pt x="2571" y="2597"/>
                                  </a:lnTo>
                                  <a:lnTo>
                                    <a:pt x="2457" y="2483"/>
                                  </a:lnTo>
                                  <a:lnTo>
                                    <a:pt x="2365" y="2712"/>
                                  </a:lnTo>
                                  <a:lnTo>
                                    <a:pt x="2111" y="3168"/>
                                  </a:lnTo>
                                  <a:lnTo>
                                    <a:pt x="1878" y="3510"/>
                                  </a:lnTo>
                                  <a:lnTo>
                                    <a:pt x="1865" y="3567"/>
                                  </a:lnTo>
                                  <a:lnTo>
                                    <a:pt x="1834" y="3607"/>
                                  </a:lnTo>
                                  <a:lnTo>
                                    <a:pt x="1795" y="3624"/>
                                  </a:lnTo>
                                  <a:lnTo>
                                    <a:pt x="1760" y="3690"/>
                                  </a:lnTo>
                                  <a:lnTo>
                                    <a:pt x="1707" y="3853"/>
                                  </a:lnTo>
                                  <a:lnTo>
                                    <a:pt x="1659" y="3997"/>
                                  </a:lnTo>
                                  <a:lnTo>
                                    <a:pt x="1624" y="3989"/>
                                  </a:lnTo>
                                  <a:lnTo>
                                    <a:pt x="1593" y="3997"/>
                                  </a:lnTo>
                                  <a:lnTo>
                                    <a:pt x="1537" y="4138"/>
                                  </a:lnTo>
                                  <a:lnTo>
                                    <a:pt x="1480" y="4309"/>
                                  </a:lnTo>
                                  <a:lnTo>
                                    <a:pt x="1427" y="4353"/>
                                  </a:lnTo>
                                  <a:lnTo>
                                    <a:pt x="1366" y="4379"/>
                                  </a:lnTo>
                                  <a:lnTo>
                                    <a:pt x="1283" y="4397"/>
                                  </a:lnTo>
                                  <a:lnTo>
                                    <a:pt x="1274" y="4502"/>
                                  </a:lnTo>
                                  <a:lnTo>
                                    <a:pt x="1252" y="4594"/>
                                  </a:lnTo>
                                  <a:lnTo>
                                    <a:pt x="1182" y="4669"/>
                                  </a:lnTo>
                                  <a:lnTo>
                                    <a:pt x="1107" y="4713"/>
                                  </a:lnTo>
                                  <a:lnTo>
                                    <a:pt x="1033" y="4818"/>
                                  </a:lnTo>
                                  <a:lnTo>
                                    <a:pt x="994" y="4910"/>
                                  </a:lnTo>
                                  <a:lnTo>
                                    <a:pt x="980" y="4993"/>
                                  </a:lnTo>
                                  <a:lnTo>
                                    <a:pt x="950" y="5077"/>
                                  </a:lnTo>
                                  <a:lnTo>
                                    <a:pt x="923" y="5160"/>
                                  </a:lnTo>
                                  <a:lnTo>
                                    <a:pt x="853" y="5182"/>
                                  </a:lnTo>
                                  <a:lnTo>
                                    <a:pt x="766" y="5200"/>
                                  </a:lnTo>
                                  <a:lnTo>
                                    <a:pt x="735" y="4998"/>
                                  </a:lnTo>
                                  <a:lnTo>
                                    <a:pt x="586" y="4813"/>
                                  </a:lnTo>
                                  <a:lnTo>
                                    <a:pt x="306" y="4721"/>
                                  </a:lnTo>
                                  <a:lnTo>
                                    <a:pt x="179" y="4660"/>
                                  </a:lnTo>
                                  <a:lnTo>
                                    <a:pt x="0" y="4682"/>
                                  </a:lnTo>
                                  <a:lnTo>
                                    <a:pt x="65" y="4467"/>
                                  </a:lnTo>
                                  <a:lnTo>
                                    <a:pt x="83" y="4340"/>
                                  </a:lnTo>
                                  <a:lnTo>
                                    <a:pt x="109" y="4204"/>
                                  </a:lnTo>
                                  <a:lnTo>
                                    <a:pt x="153" y="4098"/>
                                  </a:lnTo>
                                  <a:lnTo>
                                    <a:pt x="201" y="4028"/>
                                  </a:lnTo>
                                  <a:lnTo>
                                    <a:pt x="394" y="3883"/>
                                  </a:lnTo>
                                  <a:lnTo>
                                    <a:pt x="380" y="3760"/>
                                  </a:lnTo>
                                  <a:lnTo>
                                    <a:pt x="394" y="3655"/>
                                  </a:lnTo>
                                  <a:lnTo>
                                    <a:pt x="424" y="3546"/>
                                  </a:lnTo>
                                  <a:lnTo>
                                    <a:pt x="477" y="3427"/>
                                  </a:lnTo>
                                  <a:lnTo>
                                    <a:pt x="538" y="3357"/>
                                  </a:lnTo>
                                  <a:lnTo>
                                    <a:pt x="621" y="3287"/>
                                  </a:lnTo>
                                  <a:lnTo>
                                    <a:pt x="705" y="3252"/>
                                  </a:lnTo>
                                  <a:lnTo>
                                    <a:pt x="665" y="3181"/>
                                  </a:lnTo>
                                  <a:lnTo>
                                    <a:pt x="652" y="3116"/>
                                  </a:lnTo>
                                  <a:lnTo>
                                    <a:pt x="634" y="3019"/>
                                  </a:lnTo>
                                  <a:lnTo>
                                    <a:pt x="652" y="2940"/>
                                  </a:lnTo>
                                  <a:lnTo>
                                    <a:pt x="687" y="2865"/>
                                  </a:lnTo>
                                  <a:lnTo>
                                    <a:pt x="740" y="2808"/>
                                  </a:lnTo>
                                  <a:lnTo>
                                    <a:pt x="796" y="2769"/>
                                  </a:lnTo>
                                  <a:lnTo>
                                    <a:pt x="810" y="2712"/>
                                  </a:lnTo>
                                  <a:lnTo>
                                    <a:pt x="849" y="2672"/>
                                  </a:lnTo>
                                  <a:lnTo>
                                    <a:pt x="910" y="2655"/>
                                  </a:lnTo>
                                  <a:lnTo>
                                    <a:pt x="923" y="2579"/>
                                  </a:lnTo>
                                  <a:lnTo>
                                    <a:pt x="985" y="2509"/>
                                  </a:lnTo>
                                  <a:lnTo>
                                    <a:pt x="1037" y="2492"/>
                                  </a:lnTo>
                                  <a:lnTo>
                                    <a:pt x="1094" y="2478"/>
                                  </a:lnTo>
                                  <a:lnTo>
                                    <a:pt x="1103" y="2413"/>
                                  </a:lnTo>
                                  <a:lnTo>
                                    <a:pt x="1125" y="2369"/>
                                  </a:lnTo>
                                  <a:lnTo>
                                    <a:pt x="1112" y="2298"/>
                                  </a:lnTo>
                                  <a:lnTo>
                                    <a:pt x="1094" y="2228"/>
                                  </a:lnTo>
                                  <a:lnTo>
                                    <a:pt x="1085" y="2132"/>
                                  </a:lnTo>
                                  <a:lnTo>
                                    <a:pt x="1077" y="2057"/>
                                  </a:lnTo>
                                  <a:lnTo>
                                    <a:pt x="1103" y="1991"/>
                                  </a:lnTo>
                                  <a:lnTo>
                                    <a:pt x="1147" y="1930"/>
                                  </a:lnTo>
                                  <a:lnTo>
                                    <a:pt x="1182" y="1886"/>
                                  </a:lnTo>
                                  <a:lnTo>
                                    <a:pt x="1221" y="1855"/>
                                  </a:lnTo>
                                  <a:lnTo>
                                    <a:pt x="1226" y="1776"/>
                                  </a:lnTo>
                                  <a:lnTo>
                                    <a:pt x="1239" y="1706"/>
                                  </a:lnTo>
                                  <a:lnTo>
                                    <a:pt x="1221" y="1610"/>
                                  </a:lnTo>
                                  <a:lnTo>
                                    <a:pt x="1191" y="1539"/>
                                  </a:lnTo>
                                  <a:lnTo>
                                    <a:pt x="1261" y="1329"/>
                                  </a:lnTo>
                                  <a:lnTo>
                                    <a:pt x="1335" y="1136"/>
                                  </a:lnTo>
                                  <a:lnTo>
                                    <a:pt x="1370" y="899"/>
                                  </a:lnTo>
                                  <a:lnTo>
                                    <a:pt x="1423" y="697"/>
                                  </a:lnTo>
                                  <a:lnTo>
                                    <a:pt x="1624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9f9fbf"/>
                            </a:solidFill>
                            <a:ln w="0">
                              <a:noFill/>
                            </a:ln>
                          </p:spPr>
                          <p:txBody>
                            <a:bodyPr lIns="90000" rIns="90000" tIns="45000" bIns="450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1233" name=""/>
                            <p:cNvGrpSpPr/>
                            <p:nvPr/>
                          </p:nvGrpSpPr>
                          <p:grpSpPr>
                            <a:xfrm>
                              <a:off x="6729480" y="3541680"/>
                              <a:ext cx="1322640" cy="1619640"/>
                              <a:chOff x="6729480" y="3541680"/>
                              <a:chExt cx="1322640" cy="1619640"/>
                            </a:xfrm>
                          </p:grpSpPr>
                          <p:sp>
                            <p:nvSpPr>
                              <p:cNvPr id="1234" name=""/>
                              <p:cNvSpPr/>
                              <p:nvPr/>
                            </p:nvSpPr>
                            <p:spPr>
                              <a:xfrm>
                                <a:off x="7088040" y="3541680"/>
                                <a:ext cx="964080" cy="94644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678" h="2629">
                                    <a:moveTo>
                                      <a:pt x="970" y="2629"/>
                                    </a:moveTo>
                                    <a:lnTo>
                                      <a:pt x="1105" y="2441"/>
                                    </a:lnTo>
                                    <a:lnTo>
                                      <a:pt x="1210" y="2271"/>
                                    </a:lnTo>
                                    <a:lnTo>
                                      <a:pt x="1302" y="2100"/>
                                    </a:lnTo>
                                    <a:lnTo>
                                      <a:pt x="1407" y="1895"/>
                                    </a:lnTo>
                                    <a:lnTo>
                                      <a:pt x="1459" y="1760"/>
                                    </a:lnTo>
                                    <a:lnTo>
                                      <a:pt x="1555" y="1847"/>
                                    </a:lnTo>
                                    <a:lnTo>
                                      <a:pt x="1638" y="1917"/>
                                    </a:lnTo>
                                    <a:lnTo>
                                      <a:pt x="1747" y="1961"/>
                                    </a:lnTo>
                                    <a:lnTo>
                                      <a:pt x="1891" y="1996"/>
                                    </a:lnTo>
                                    <a:lnTo>
                                      <a:pt x="2049" y="2044"/>
                                    </a:lnTo>
                                    <a:lnTo>
                                      <a:pt x="2150" y="2083"/>
                                    </a:lnTo>
                                    <a:lnTo>
                                      <a:pt x="2250" y="2157"/>
                                    </a:lnTo>
                                    <a:lnTo>
                                      <a:pt x="2351" y="2231"/>
                                    </a:lnTo>
                                    <a:lnTo>
                                      <a:pt x="2456" y="2354"/>
                                    </a:lnTo>
                                    <a:lnTo>
                                      <a:pt x="2521" y="2472"/>
                                    </a:lnTo>
                                    <a:lnTo>
                                      <a:pt x="2578" y="2624"/>
                                    </a:lnTo>
                                    <a:lnTo>
                                      <a:pt x="2621" y="2476"/>
                                    </a:lnTo>
                                    <a:lnTo>
                                      <a:pt x="2678" y="1537"/>
                                    </a:lnTo>
                                    <a:lnTo>
                                      <a:pt x="2276" y="1309"/>
                                    </a:lnTo>
                                    <a:lnTo>
                                      <a:pt x="2049" y="1021"/>
                                    </a:lnTo>
                                    <a:lnTo>
                                      <a:pt x="1878" y="567"/>
                                    </a:lnTo>
                                    <a:lnTo>
                                      <a:pt x="1769" y="0"/>
                                    </a:lnTo>
                                    <a:lnTo>
                                      <a:pt x="1171" y="52"/>
                                    </a:lnTo>
                                    <a:lnTo>
                                      <a:pt x="1031" y="336"/>
                                    </a:lnTo>
                                    <a:lnTo>
                                      <a:pt x="970" y="536"/>
                                    </a:lnTo>
                                    <a:lnTo>
                                      <a:pt x="952" y="794"/>
                                    </a:lnTo>
                                    <a:lnTo>
                                      <a:pt x="970" y="995"/>
                                    </a:lnTo>
                                    <a:lnTo>
                                      <a:pt x="1149" y="1367"/>
                                    </a:lnTo>
                                    <a:lnTo>
                                      <a:pt x="1284" y="1537"/>
                                    </a:lnTo>
                                    <a:lnTo>
                                      <a:pt x="1000" y="1309"/>
                                    </a:lnTo>
                                    <a:lnTo>
                                      <a:pt x="760" y="1161"/>
                                    </a:lnTo>
                                    <a:lnTo>
                                      <a:pt x="537" y="1017"/>
                                    </a:lnTo>
                                    <a:lnTo>
                                      <a:pt x="257" y="851"/>
                                    </a:lnTo>
                                    <a:lnTo>
                                      <a:pt x="554" y="1104"/>
                                    </a:lnTo>
                                    <a:lnTo>
                                      <a:pt x="708" y="1287"/>
                                    </a:lnTo>
                                    <a:lnTo>
                                      <a:pt x="782" y="1406"/>
                                    </a:lnTo>
                                    <a:lnTo>
                                      <a:pt x="773" y="1476"/>
                                    </a:lnTo>
                                    <a:lnTo>
                                      <a:pt x="743" y="1524"/>
                                    </a:lnTo>
                                    <a:lnTo>
                                      <a:pt x="677" y="1555"/>
                                    </a:lnTo>
                                    <a:lnTo>
                                      <a:pt x="602" y="1563"/>
                                    </a:lnTo>
                                    <a:lnTo>
                                      <a:pt x="497" y="1533"/>
                                    </a:lnTo>
                                    <a:lnTo>
                                      <a:pt x="227" y="1367"/>
                                    </a:lnTo>
                                    <a:lnTo>
                                      <a:pt x="323" y="1515"/>
                                    </a:lnTo>
                                    <a:lnTo>
                                      <a:pt x="401" y="1607"/>
                                    </a:lnTo>
                                    <a:lnTo>
                                      <a:pt x="502" y="1716"/>
                                    </a:lnTo>
                                    <a:lnTo>
                                      <a:pt x="602" y="1808"/>
                                    </a:lnTo>
                                    <a:lnTo>
                                      <a:pt x="769" y="1930"/>
                                    </a:lnTo>
                                    <a:lnTo>
                                      <a:pt x="637" y="1887"/>
                                    </a:lnTo>
                                    <a:lnTo>
                                      <a:pt x="510" y="1865"/>
                                    </a:lnTo>
                                    <a:lnTo>
                                      <a:pt x="344" y="1860"/>
                                    </a:lnTo>
                                    <a:lnTo>
                                      <a:pt x="187" y="1887"/>
                                    </a:lnTo>
                                    <a:lnTo>
                                      <a:pt x="30" y="1904"/>
                                    </a:lnTo>
                                    <a:lnTo>
                                      <a:pt x="205" y="1952"/>
                                    </a:lnTo>
                                    <a:lnTo>
                                      <a:pt x="353" y="2009"/>
                                    </a:lnTo>
                                    <a:lnTo>
                                      <a:pt x="462" y="2057"/>
                                    </a:lnTo>
                                    <a:lnTo>
                                      <a:pt x="572" y="2131"/>
                                    </a:lnTo>
                                    <a:lnTo>
                                      <a:pt x="388" y="2105"/>
                                    </a:lnTo>
                                    <a:lnTo>
                                      <a:pt x="261" y="2100"/>
                                    </a:lnTo>
                                    <a:lnTo>
                                      <a:pt x="130" y="2122"/>
                                    </a:lnTo>
                                    <a:lnTo>
                                      <a:pt x="0" y="2157"/>
                                    </a:lnTo>
                                    <a:lnTo>
                                      <a:pt x="248" y="2218"/>
                                    </a:lnTo>
                                    <a:lnTo>
                                      <a:pt x="489" y="2293"/>
                                    </a:lnTo>
                                    <a:lnTo>
                                      <a:pt x="663" y="2362"/>
                                    </a:lnTo>
                                    <a:lnTo>
                                      <a:pt x="800" y="2441"/>
                                    </a:lnTo>
                                    <a:lnTo>
                                      <a:pt x="904" y="2528"/>
                                    </a:lnTo>
                                    <a:lnTo>
                                      <a:pt x="970" y="2629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7f7f9f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45000" bIns="450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35" name=""/>
                              <p:cNvSpPr/>
                              <p:nvPr/>
                            </p:nvSpPr>
                            <p:spPr>
                              <a:xfrm>
                                <a:off x="6767640" y="4741920"/>
                                <a:ext cx="398880" cy="23832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1108" h="662">
                                    <a:moveTo>
                                      <a:pt x="0" y="156"/>
                                    </a:moveTo>
                                    <a:lnTo>
                                      <a:pt x="120" y="165"/>
                                    </a:lnTo>
                                    <a:lnTo>
                                      <a:pt x="267" y="182"/>
                                    </a:lnTo>
                                    <a:lnTo>
                                      <a:pt x="427" y="224"/>
                                    </a:lnTo>
                                    <a:lnTo>
                                      <a:pt x="526" y="275"/>
                                    </a:lnTo>
                                    <a:lnTo>
                                      <a:pt x="647" y="352"/>
                                    </a:lnTo>
                                    <a:lnTo>
                                      <a:pt x="780" y="446"/>
                                    </a:lnTo>
                                    <a:lnTo>
                                      <a:pt x="867" y="547"/>
                                    </a:lnTo>
                                    <a:lnTo>
                                      <a:pt x="953" y="662"/>
                                    </a:lnTo>
                                    <a:lnTo>
                                      <a:pt x="1001" y="637"/>
                                    </a:lnTo>
                                    <a:lnTo>
                                      <a:pt x="1044" y="615"/>
                                    </a:lnTo>
                                    <a:lnTo>
                                      <a:pt x="1108" y="547"/>
                                    </a:lnTo>
                                    <a:lnTo>
                                      <a:pt x="1065" y="492"/>
                                    </a:lnTo>
                                    <a:lnTo>
                                      <a:pt x="949" y="416"/>
                                    </a:lnTo>
                                    <a:lnTo>
                                      <a:pt x="846" y="335"/>
                                    </a:lnTo>
                                    <a:lnTo>
                                      <a:pt x="780" y="275"/>
                                    </a:lnTo>
                                    <a:lnTo>
                                      <a:pt x="638" y="178"/>
                                    </a:lnTo>
                                    <a:lnTo>
                                      <a:pt x="491" y="101"/>
                                    </a:lnTo>
                                    <a:lnTo>
                                      <a:pt x="341" y="46"/>
                                    </a:lnTo>
                                    <a:lnTo>
                                      <a:pt x="198" y="12"/>
                                    </a:lnTo>
                                    <a:lnTo>
                                      <a:pt x="68" y="0"/>
                                    </a:lnTo>
                                    <a:lnTo>
                                      <a:pt x="43" y="33"/>
                                    </a:lnTo>
                                    <a:lnTo>
                                      <a:pt x="17" y="93"/>
                                    </a:lnTo>
                                    <a:lnTo>
                                      <a:pt x="0" y="156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7f7f9f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45000" bIns="450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36" name=""/>
                              <p:cNvSpPr/>
                              <p:nvPr/>
                            </p:nvSpPr>
                            <p:spPr>
                              <a:xfrm>
                                <a:off x="6953400" y="4687920"/>
                                <a:ext cx="313200" cy="1576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870" h="438">
                                    <a:moveTo>
                                      <a:pt x="0" y="33"/>
                                    </a:moveTo>
                                    <a:lnTo>
                                      <a:pt x="149" y="78"/>
                                    </a:lnTo>
                                    <a:lnTo>
                                      <a:pt x="291" y="138"/>
                                    </a:lnTo>
                                    <a:lnTo>
                                      <a:pt x="403" y="192"/>
                                    </a:lnTo>
                                    <a:lnTo>
                                      <a:pt x="527" y="258"/>
                                    </a:lnTo>
                                    <a:lnTo>
                                      <a:pt x="625" y="342"/>
                                    </a:lnTo>
                                    <a:lnTo>
                                      <a:pt x="733" y="438"/>
                                    </a:lnTo>
                                    <a:lnTo>
                                      <a:pt x="793" y="426"/>
                                    </a:lnTo>
                                    <a:lnTo>
                                      <a:pt x="840" y="388"/>
                                    </a:lnTo>
                                    <a:lnTo>
                                      <a:pt x="866" y="342"/>
                                    </a:lnTo>
                                    <a:lnTo>
                                      <a:pt x="870" y="271"/>
                                    </a:lnTo>
                                    <a:lnTo>
                                      <a:pt x="810" y="233"/>
                                    </a:lnTo>
                                    <a:lnTo>
                                      <a:pt x="746" y="217"/>
                                    </a:lnTo>
                                    <a:lnTo>
                                      <a:pt x="665" y="204"/>
                                    </a:lnTo>
                                    <a:lnTo>
                                      <a:pt x="582" y="175"/>
                                    </a:lnTo>
                                    <a:lnTo>
                                      <a:pt x="505" y="121"/>
                                    </a:lnTo>
                                    <a:lnTo>
                                      <a:pt x="428" y="70"/>
                                    </a:lnTo>
                                    <a:lnTo>
                                      <a:pt x="326" y="24"/>
                                    </a:lnTo>
                                    <a:lnTo>
                                      <a:pt x="244" y="8"/>
                                    </a:lnTo>
                                    <a:lnTo>
                                      <a:pt x="171" y="0"/>
                                    </a:lnTo>
                                    <a:lnTo>
                                      <a:pt x="81" y="8"/>
                                    </a:lnTo>
                                    <a:lnTo>
                                      <a:pt x="0" y="33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7f7f9f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45000" bIns="450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37" name=""/>
                              <p:cNvSpPr/>
                              <p:nvPr/>
                            </p:nvSpPr>
                            <p:spPr>
                              <a:xfrm>
                                <a:off x="6892920" y="4500720"/>
                                <a:ext cx="444960" cy="20196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1236" h="561">
                                    <a:moveTo>
                                      <a:pt x="0" y="252"/>
                                    </a:moveTo>
                                    <a:lnTo>
                                      <a:pt x="82" y="214"/>
                                    </a:lnTo>
                                    <a:lnTo>
                                      <a:pt x="159" y="181"/>
                                    </a:lnTo>
                                    <a:lnTo>
                                      <a:pt x="284" y="147"/>
                                    </a:lnTo>
                                    <a:lnTo>
                                      <a:pt x="389" y="164"/>
                                    </a:lnTo>
                                    <a:lnTo>
                                      <a:pt x="501" y="223"/>
                                    </a:lnTo>
                                    <a:lnTo>
                                      <a:pt x="601" y="287"/>
                                    </a:lnTo>
                                    <a:lnTo>
                                      <a:pt x="769" y="367"/>
                                    </a:lnTo>
                                    <a:lnTo>
                                      <a:pt x="907" y="459"/>
                                    </a:lnTo>
                                    <a:lnTo>
                                      <a:pt x="1064" y="561"/>
                                    </a:lnTo>
                                    <a:lnTo>
                                      <a:pt x="1107" y="535"/>
                                    </a:lnTo>
                                    <a:lnTo>
                                      <a:pt x="1159" y="531"/>
                                    </a:lnTo>
                                    <a:lnTo>
                                      <a:pt x="1202" y="544"/>
                                    </a:lnTo>
                                    <a:lnTo>
                                      <a:pt x="1236" y="422"/>
                                    </a:lnTo>
                                    <a:lnTo>
                                      <a:pt x="943" y="244"/>
                                    </a:lnTo>
                                    <a:lnTo>
                                      <a:pt x="743" y="138"/>
                                    </a:lnTo>
                                    <a:lnTo>
                                      <a:pt x="601" y="71"/>
                                    </a:lnTo>
                                    <a:lnTo>
                                      <a:pt x="493" y="25"/>
                                    </a:lnTo>
                                    <a:lnTo>
                                      <a:pt x="380" y="0"/>
                                    </a:lnTo>
                                    <a:lnTo>
                                      <a:pt x="267" y="12"/>
                                    </a:lnTo>
                                    <a:lnTo>
                                      <a:pt x="177" y="58"/>
                                    </a:lnTo>
                                    <a:lnTo>
                                      <a:pt x="82" y="138"/>
                                    </a:lnTo>
                                    <a:lnTo>
                                      <a:pt x="0" y="252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7f7f9f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45000" bIns="450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38" name=""/>
                              <p:cNvSpPr/>
                              <p:nvPr/>
                            </p:nvSpPr>
                            <p:spPr>
                              <a:xfrm>
                                <a:off x="6964200" y="4327560"/>
                                <a:ext cx="290880" cy="18756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808" h="521">
                                    <a:moveTo>
                                      <a:pt x="0" y="83"/>
                                    </a:moveTo>
                                    <a:lnTo>
                                      <a:pt x="8" y="172"/>
                                    </a:lnTo>
                                    <a:lnTo>
                                      <a:pt x="38" y="247"/>
                                    </a:lnTo>
                                    <a:lnTo>
                                      <a:pt x="72" y="298"/>
                                    </a:lnTo>
                                    <a:lnTo>
                                      <a:pt x="140" y="324"/>
                                    </a:lnTo>
                                    <a:lnTo>
                                      <a:pt x="415" y="303"/>
                                    </a:lnTo>
                                    <a:lnTo>
                                      <a:pt x="526" y="382"/>
                                    </a:lnTo>
                                    <a:lnTo>
                                      <a:pt x="659" y="454"/>
                                    </a:lnTo>
                                    <a:lnTo>
                                      <a:pt x="808" y="521"/>
                                    </a:lnTo>
                                    <a:lnTo>
                                      <a:pt x="702" y="395"/>
                                    </a:lnTo>
                                    <a:lnTo>
                                      <a:pt x="585" y="298"/>
                                    </a:lnTo>
                                    <a:lnTo>
                                      <a:pt x="474" y="205"/>
                                    </a:lnTo>
                                    <a:lnTo>
                                      <a:pt x="334" y="134"/>
                                    </a:lnTo>
                                    <a:lnTo>
                                      <a:pt x="231" y="58"/>
                                    </a:lnTo>
                                    <a:lnTo>
                                      <a:pt x="153" y="16"/>
                                    </a:lnTo>
                                    <a:lnTo>
                                      <a:pt x="81" y="0"/>
                                    </a:lnTo>
                                    <a:lnTo>
                                      <a:pt x="25" y="20"/>
                                    </a:lnTo>
                                    <a:lnTo>
                                      <a:pt x="0" y="83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7f7f9f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45000" bIns="450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39" name=""/>
                              <p:cNvSpPr/>
                              <p:nvPr/>
                            </p:nvSpPr>
                            <p:spPr>
                              <a:xfrm>
                                <a:off x="6729480" y="4956120"/>
                                <a:ext cx="286200" cy="20520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795" h="570">
                                    <a:moveTo>
                                      <a:pt x="0" y="25"/>
                                    </a:moveTo>
                                    <a:lnTo>
                                      <a:pt x="72" y="29"/>
                                    </a:lnTo>
                                    <a:lnTo>
                                      <a:pt x="170" y="42"/>
                                    </a:lnTo>
                                    <a:lnTo>
                                      <a:pt x="274" y="75"/>
                                    </a:lnTo>
                                    <a:lnTo>
                                      <a:pt x="372" y="117"/>
                                    </a:lnTo>
                                    <a:lnTo>
                                      <a:pt x="517" y="177"/>
                                    </a:lnTo>
                                    <a:lnTo>
                                      <a:pt x="594" y="224"/>
                                    </a:lnTo>
                                    <a:lnTo>
                                      <a:pt x="663" y="287"/>
                                    </a:lnTo>
                                    <a:lnTo>
                                      <a:pt x="706" y="354"/>
                                    </a:lnTo>
                                    <a:lnTo>
                                      <a:pt x="723" y="431"/>
                                    </a:lnTo>
                                    <a:lnTo>
                                      <a:pt x="740" y="528"/>
                                    </a:lnTo>
                                    <a:lnTo>
                                      <a:pt x="736" y="570"/>
                                    </a:lnTo>
                                    <a:lnTo>
                                      <a:pt x="778" y="511"/>
                                    </a:lnTo>
                                    <a:lnTo>
                                      <a:pt x="795" y="426"/>
                                    </a:lnTo>
                                    <a:lnTo>
                                      <a:pt x="787" y="338"/>
                                    </a:lnTo>
                                    <a:lnTo>
                                      <a:pt x="740" y="258"/>
                                    </a:lnTo>
                                    <a:lnTo>
                                      <a:pt x="667" y="182"/>
                                    </a:lnTo>
                                    <a:lnTo>
                                      <a:pt x="572" y="113"/>
                                    </a:lnTo>
                                    <a:lnTo>
                                      <a:pt x="432" y="50"/>
                                    </a:lnTo>
                                    <a:lnTo>
                                      <a:pt x="286" y="12"/>
                                    </a:lnTo>
                                    <a:lnTo>
                                      <a:pt x="205" y="4"/>
                                    </a:lnTo>
                                    <a:lnTo>
                                      <a:pt x="89" y="0"/>
                                    </a:lnTo>
                                    <a:lnTo>
                                      <a:pt x="0" y="25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5f5f7f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45000" bIns="450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40" name=""/>
                              <p:cNvSpPr/>
                              <p:nvPr/>
                            </p:nvSpPr>
                            <p:spPr>
                              <a:xfrm>
                                <a:off x="7223040" y="3646440"/>
                                <a:ext cx="311400" cy="4384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865" h="1218">
                                    <a:moveTo>
                                      <a:pt x="0" y="0"/>
                                    </a:moveTo>
                                    <a:lnTo>
                                      <a:pt x="201" y="189"/>
                                    </a:lnTo>
                                    <a:lnTo>
                                      <a:pt x="355" y="422"/>
                                    </a:lnTo>
                                    <a:lnTo>
                                      <a:pt x="505" y="713"/>
                                    </a:lnTo>
                                    <a:lnTo>
                                      <a:pt x="865" y="1192"/>
                                    </a:lnTo>
                                    <a:lnTo>
                                      <a:pt x="861" y="1218"/>
                                    </a:lnTo>
                                    <a:lnTo>
                                      <a:pt x="655" y="1032"/>
                                    </a:lnTo>
                                    <a:lnTo>
                                      <a:pt x="514" y="881"/>
                                    </a:lnTo>
                                    <a:lnTo>
                                      <a:pt x="350" y="695"/>
                                    </a:lnTo>
                                    <a:lnTo>
                                      <a:pt x="201" y="448"/>
                                    </a:lnTo>
                                    <a:lnTo>
                                      <a:pt x="102" y="233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5f5f7f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45000" bIns="450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41" name=""/>
                              <p:cNvSpPr/>
                              <p:nvPr/>
                            </p:nvSpPr>
                            <p:spPr>
                              <a:xfrm>
                                <a:off x="6859440" y="4718160"/>
                                <a:ext cx="322560" cy="24660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896" h="685">
                                    <a:moveTo>
                                      <a:pt x="896" y="417"/>
                                    </a:moveTo>
                                    <a:lnTo>
                                      <a:pt x="754" y="247"/>
                                    </a:lnTo>
                                    <a:lnTo>
                                      <a:pt x="652" y="165"/>
                                    </a:lnTo>
                                    <a:lnTo>
                                      <a:pt x="497" y="80"/>
                                    </a:lnTo>
                                    <a:lnTo>
                                      <a:pt x="364" y="33"/>
                                    </a:lnTo>
                                    <a:lnTo>
                                      <a:pt x="205" y="8"/>
                                    </a:lnTo>
                                    <a:lnTo>
                                      <a:pt x="98" y="0"/>
                                    </a:lnTo>
                                    <a:lnTo>
                                      <a:pt x="38" y="8"/>
                                    </a:lnTo>
                                    <a:lnTo>
                                      <a:pt x="0" y="33"/>
                                    </a:lnTo>
                                    <a:lnTo>
                                      <a:pt x="8" y="72"/>
                                    </a:lnTo>
                                    <a:lnTo>
                                      <a:pt x="59" y="114"/>
                                    </a:lnTo>
                                    <a:lnTo>
                                      <a:pt x="205" y="179"/>
                                    </a:lnTo>
                                    <a:lnTo>
                                      <a:pt x="346" y="264"/>
                                    </a:lnTo>
                                    <a:lnTo>
                                      <a:pt x="506" y="374"/>
                                    </a:lnTo>
                                    <a:lnTo>
                                      <a:pt x="622" y="472"/>
                                    </a:lnTo>
                                    <a:lnTo>
                                      <a:pt x="716" y="579"/>
                                    </a:lnTo>
                                    <a:lnTo>
                                      <a:pt x="789" y="685"/>
                                    </a:lnTo>
                                    <a:lnTo>
                                      <a:pt x="831" y="630"/>
                                    </a:lnTo>
                                    <a:lnTo>
                                      <a:pt x="870" y="592"/>
                                    </a:lnTo>
                                    <a:lnTo>
                                      <a:pt x="891" y="532"/>
                                    </a:lnTo>
                                    <a:lnTo>
                                      <a:pt x="896" y="480"/>
                                    </a:lnTo>
                                    <a:lnTo>
                                      <a:pt x="896" y="417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bfbfdf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45000" bIns="450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42" name=""/>
                              <p:cNvSpPr/>
                              <p:nvPr/>
                            </p:nvSpPr>
                            <p:spPr>
                              <a:xfrm>
                                <a:off x="6934320" y="4606920"/>
                                <a:ext cx="359280" cy="1828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998" h="508">
                                    <a:moveTo>
                                      <a:pt x="0" y="159"/>
                                    </a:moveTo>
                                    <a:lnTo>
                                      <a:pt x="115" y="142"/>
                                    </a:lnTo>
                                    <a:lnTo>
                                      <a:pt x="223" y="159"/>
                                    </a:lnTo>
                                    <a:lnTo>
                                      <a:pt x="348" y="192"/>
                                    </a:lnTo>
                                    <a:lnTo>
                                      <a:pt x="456" y="238"/>
                                    </a:lnTo>
                                    <a:lnTo>
                                      <a:pt x="563" y="285"/>
                                    </a:lnTo>
                                    <a:lnTo>
                                      <a:pt x="675" y="361"/>
                                    </a:lnTo>
                                    <a:lnTo>
                                      <a:pt x="709" y="420"/>
                                    </a:lnTo>
                                    <a:lnTo>
                                      <a:pt x="783" y="462"/>
                                    </a:lnTo>
                                    <a:lnTo>
                                      <a:pt x="848" y="495"/>
                                    </a:lnTo>
                                    <a:lnTo>
                                      <a:pt x="916" y="508"/>
                                    </a:lnTo>
                                    <a:lnTo>
                                      <a:pt x="964" y="436"/>
                                    </a:lnTo>
                                    <a:lnTo>
                                      <a:pt x="985" y="374"/>
                                    </a:lnTo>
                                    <a:lnTo>
                                      <a:pt x="998" y="302"/>
                                    </a:lnTo>
                                    <a:lnTo>
                                      <a:pt x="739" y="138"/>
                                    </a:lnTo>
                                    <a:lnTo>
                                      <a:pt x="602" y="67"/>
                                    </a:lnTo>
                                    <a:lnTo>
                                      <a:pt x="456" y="16"/>
                                    </a:lnTo>
                                    <a:lnTo>
                                      <a:pt x="336" y="0"/>
                                    </a:lnTo>
                                    <a:lnTo>
                                      <a:pt x="258" y="8"/>
                                    </a:lnTo>
                                    <a:lnTo>
                                      <a:pt x="171" y="37"/>
                                    </a:lnTo>
                                    <a:lnTo>
                                      <a:pt x="90" y="96"/>
                                    </a:lnTo>
                                    <a:lnTo>
                                      <a:pt x="0" y="159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bfbfdf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45000" bIns="450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43" name=""/>
                              <p:cNvSpPr/>
                              <p:nvPr/>
                            </p:nvSpPr>
                            <p:spPr>
                              <a:xfrm>
                                <a:off x="6912000" y="4309920"/>
                                <a:ext cx="446400" cy="38124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1240" h="1059">
                                    <a:moveTo>
                                      <a:pt x="0" y="581"/>
                                    </a:moveTo>
                                    <a:lnTo>
                                      <a:pt x="125" y="573"/>
                                    </a:lnTo>
                                    <a:lnTo>
                                      <a:pt x="233" y="577"/>
                                    </a:lnTo>
                                    <a:lnTo>
                                      <a:pt x="397" y="594"/>
                                    </a:lnTo>
                                    <a:lnTo>
                                      <a:pt x="552" y="637"/>
                                    </a:lnTo>
                                    <a:lnTo>
                                      <a:pt x="709" y="702"/>
                                    </a:lnTo>
                                    <a:lnTo>
                                      <a:pt x="868" y="779"/>
                                    </a:lnTo>
                                    <a:lnTo>
                                      <a:pt x="994" y="852"/>
                                    </a:lnTo>
                                    <a:lnTo>
                                      <a:pt x="1093" y="951"/>
                                    </a:lnTo>
                                    <a:lnTo>
                                      <a:pt x="1158" y="1059"/>
                                    </a:lnTo>
                                    <a:lnTo>
                                      <a:pt x="1205" y="917"/>
                                    </a:lnTo>
                                    <a:lnTo>
                                      <a:pt x="1240" y="792"/>
                                    </a:lnTo>
                                    <a:lnTo>
                                      <a:pt x="1235" y="697"/>
                                    </a:lnTo>
                                    <a:lnTo>
                                      <a:pt x="1209" y="603"/>
                                    </a:lnTo>
                                    <a:lnTo>
                                      <a:pt x="1158" y="520"/>
                                    </a:lnTo>
                                    <a:lnTo>
                                      <a:pt x="1179" y="434"/>
                                    </a:lnTo>
                                    <a:lnTo>
                                      <a:pt x="1166" y="331"/>
                                    </a:lnTo>
                                    <a:lnTo>
                                      <a:pt x="1050" y="279"/>
                                    </a:lnTo>
                                    <a:lnTo>
                                      <a:pt x="903" y="236"/>
                                    </a:lnTo>
                                    <a:lnTo>
                                      <a:pt x="743" y="193"/>
                                    </a:lnTo>
                                    <a:lnTo>
                                      <a:pt x="608" y="137"/>
                                    </a:lnTo>
                                    <a:lnTo>
                                      <a:pt x="440" y="60"/>
                                    </a:lnTo>
                                    <a:lnTo>
                                      <a:pt x="336" y="17"/>
                                    </a:lnTo>
                                    <a:lnTo>
                                      <a:pt x="267" y="0"/>
                                    </a:lnTo>
                                    <a:lnTo>
                                      <a:pt x="224" y="17"/>
                                    </a:lnTo>
                                    <a:lnTo>
                                      <a:pt x="185" y="51"/>
                                    </a:lnTo>
                                    <a:lnTo>
                                      <a:pt x="172" y="103"/>
                                    </a:lnTo>
                                    <a:lnTo>
                                      <a:pt x="172" y="159"/>
                                    </a:lnTo>
                                    <a:lnTo>
                                      <a:pt x="198" y="210"/>
                                    </a:lnTo>
                                    <a:lnTo>
                                      <a:pt x="302" y="249"/>
                                    </a:lnTo>
                                    <a:lnTo>
                                      <a:pt x="444" y="279"/>
                                    </a:lnTo>
                                    <a:lnTo>
                                      <a:pt x="674" y="326"/>
                                    </a:lnTo>
                                    <a:lnTo>
                                      <a:pt x="821" y="352"/>
                                    </a:lnTo>
                                    <a:lnTo>
                                      <a:pt x="1015" y="378"/>
                                    </a:lnTo>
                                    <a:lnTo>
                                      <a:pt x="842" y="391"/>
                                    </a:lnTo>
                                    <a:lnTo>
                                      <a:pt x="661" y="404"/>
                                    </a:lnTo>
                                    <a:lnTo>
                                      <a:pt x="487" y="434"/>
                                    </a:lnTo>
                                    <a:lnTo>
                                      <a:pt x="349" y="464"/>
                                    </a:lnTo>
                                    <a:lnTo>
                                      <a:pt x="177" y="507"/>
                                    </a:lnTo>
                                    <a:lnTo>
                                      <a:pt x="0" y="581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bfbfdf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45000" bIns="450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sp>
                      <p:nvSpPr>
                        <p:cNvPr id="1244" name=""/>
                        <p:cNvSpPr/>
                        <p:nvPr/>
                      </p:nvSpPr>
                      <p:spPr>
                        <a:xfrm>
                          <a:off x="7489800" y="3489480"/>
                          <a:ext cx="541800" cy="59256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w="1505" h="1646">
                              <a:moveTo>
                                <a:pt x="0" y="556"/>
                              </a:moveTo>
                              <a:lnTo>
                                <a:pt x="26" y="373"/>
                              </a:lnTo>
                              <a:lnTo>
                                <a:pt x="65" y="256"/>
                              </a:lnTo>
                              <a:lnTo>
                                <a:pt x="290" y="0"/>
                              </a:lnTo>
                              <a:lnTo>
                                <a:pt x="937" y="534"/>
                              </a:lnTo>
                              <a:lnTo>
                                <a:pt x="1075" y="738"/>
                              </a:lnTo>
                              <a:lnTo>
                                <a:pt x="1193" y="934"/>
                              </a:lnTo>
                              <a:lnTo>
                                <a:pt x="1475" y="1159"/>
                              </a:lnTo>
                              <a:lnTo>
                                <a:pt x="1505" y="1646"/>
                              </a:lnTo>
                              <a:lnTo>
                                <a:pt x="1362" y="1599"/>
                              </a:lnTo>
                              <a:lnTo>
                                <a:pt x="1241" y="1542"/>
                              </a:lnTo>
                              <a:lnTo>
                                <a:pt x="1133" y="1468"/>
                              </a:lnTo>
                              <a:lnTo>
                                <a:pt x="1036" y="1364"/>
                              </a:lnTo>
                              <a:lnTo>
                                <a:pt x="963" y="1247"/>
                              </a:lnTo>
                              <a:lnTo>
                                <a:pt x="880" y="1098"/>
                              </a:lnTo>
                              <a:lnTo>
                                <a:pt x="815" y="938"/>
                              </a:lnTo>
                              <a:lnTo>
                                <a:pt x="755" y="730"/>
                              </a:lnTo>
                              <a:lnTo>
                                <a:pt x="711" y="534"/>
                              </a:lnTo>
                              <a:lnTo>
                                <a:pt x="333" y="508"/>
                              </a:lnTo>
                              <a:lnTo>
                                <a:pt x="69" y="517"/>
                              </a:lnTo>
                              <a:lnTo>
                                <a:pt x="0" y="55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eaeaea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45000" bIns="45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245" name=""/>
                      <p:cNvGrpSpPr/>
                      <p:nvPr/>
                    </p:nvGrpSpPr>
                    <p:grpSpPr>
                      <a:xfrm>
                        <a:off x="7016760" y="2766960"/>
                        <a:ext cx="902160" cy="881280"/>
                        <a:chOff x="7016760" y="2766960"/>
                        <a:chExt cx="902160" cy="881280"/>
                      </a:xfrm>
                    </p:grpSpPr>
                    <p:grpSp>
                      <p:nvGrpSpPr>
                        <p:cNvPr id="1246" name=""/>
                        <p:cNvGrpSpPr/>
                        <p:nvPr/>
                      </p:nvGrpSpPr>
                      <p:grpSpPr>
                        <a:xfrm>
                          <a:off x="7016760" y="2766960"/>
                          <a:ext cx="902160" cy="881280"/>
                          <a:chOff x="7016760" y="2766960"/>
                          <a:chExt cx="902160" cy="881280"/>
                        </a:xfrm>
                      </p:grpSpPr>
                      <p:grpSp>
                        <p:nvGrpSpPr>
                          <p:cNvPr id="1247" name=""/>
                          <p:cNvGrpSpPr/>
                          <p:nvPr/>
                        </p:nvGrpSpPr>
                        <p:grpSpPr>
                          <a:xfrm>
                            <a:off x="7124760" y="3149640"/>
                            <a:ext cx="141840" cy="117720"/>
                            <a:chOff x="7124760" y="3149640"/>
                            <a:chExt cx="141840" cy="117720"/>
                          </a:xfrm>
                        </p:grpSpPr>
                        <p:sp>
                          <p:nvSpPr>
                            <p:cNvPr id="1248" name=""/>
                            <p:cNvSpPr/>
                            <p:nvPr/>
                          </p:nvSpPr>
                          <p:spPr>
                            <a:xfrm>
                              <a:off x="7124760" y="3149640"/>
                              <a:ext cx="100440" cy="84600"/>
                            </a:xfrm>
                            <a:custGeom>
                              <a:avLst/>
                              <a:gdLst/>
                              <a:ahLst/>
                              <a:rect l="0" t="0" r="r" b="b"/>
                              <a:pathLst>
                                <a:path w="279" h="235">
                                  <a:moveTo>
                                    <a:pt x="12" y="0"/>
                                  </a:moveTo>
                                  <a:lnTo>
                                    <a:pt x="8" y="115"/>
                                  </a:lnTo>
                                  <a:lnTo>
                                    <a:pt x="0" y="159"/>
                                  </a:lnTo>
                                  <a:lnTo>
                                    <a:pt x="0" y="188"/>
                                  </a:lnTo>
                                  <a:lnTo>
                                    <a:pt x="8" y="211"/>
                                  </a:lnTo>
                                  <a:lnTo>
                                    <a:pt x="52" y="215"/>
                                  </a:lnTo>
                                  <a:lnTo>
                                    <a:pt x="279" y="235"/>
                                  </a:lnTo>
                                  <a:lnTo>
                                    <a:pt x="12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9f7f5f"/>
                            </a:solidFill>
                            <a:ln w="0">
                              <a:noFill/>
                            </a:ln>
                          </p:spPr>
                          <p:txBody>
                            <a:bodyPr lIns="90000" rIns="90000" tIns="39600" bIns="396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249" name=""/>
                            <p:cNvSpPr/>
                            <p:nvPr/>
                          </p:nvSpPr>
                          <p:spPr>
                            <a:xfrm>
                              <a:off x="7151760" y="3200400"/>
                              <a:ext cx="114840" cy="66960"/>
                            </a:xfrm>
                            <a:custGeom>
                              <a:avLst/>
                              <a:gdLst/>
                              <a:ahLst/>
                              <a:rect l="0" t="0" r="r" b="b"/>
                              <a:pathLst>
                                <a:path w="319" h="186">
                                  <a:moveTo>
                                    <a:pt x="0" y="0"/>
                                  </a:moveTo>
                                  <a:lnTo>
                                    <a:pt x="40" y="109"/>
                                  </a:lnTo>
                                  <a:lnTo>
                                    <a:pt x="52" y="151"/>
                                  </a:lnTo>
                                  <a:lnTo>
                                    <a:pt x="48" y="186"/>
                                  </a:lnTo>
                                  <a:lnTo>
                                    <a:pt x="77" y="147"/>
                                  </a:lnTo>
                                  <a:lnTo>
                                    <a:pt x="102" y="139"/>
                                  </a:lnTo>
                                  <a:lnTo>
                                    <a:pt x="319" y="105"/>
                                  </a:lnTo>
                                  <a:lnTo>
                                    <a:pt x="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5f3f1f"/>
                            </a:solidFill>
                            <a:ln w="0">
                              <a:noFill/>
                            </a:ln>
                          </p:spPr>
                          <p:txBody>
                            <a:bodyPr lIns="90000" rIns="90000" tIns="21960" bIns="219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250" name=""/>
                          <p:cNvGrpSpPr/>
                          <p:nvPr/>
                        </p:nvGrpSpPr>
                        <p:grpSpPr>
                          <a:xfrm>
                            <a:off x="7016760" y="2766960"/>
                            <a:ext cx="902160" cy="881280"/>
                            <a:chOff x="7016760" y="2766960"/>
                            <a:chExt cx="902160" cy="881280"/>
                          </a:xfrm>
                        </p:grpSpPr>
                        <p:sp>
                          <p:nvSpPr>
                            <p:cNvPr id="1251" name=""/>
                            <p:cNvSpPr/>
                            <p:nvPr/>
                          </p:nvSpPr>
                          <p:spPr>
                            <a:xfrm>
                              <a:off x="7016760" y="2766960"/>
                              <a:ext cx="881280" cy="879840"/>
                            </a:xfrm>
                            <a:custGeom>
                              <a:avLst/>
                              <a:gdLst/>
                              <a:ahLst/>
                              <a:rect l="0" t="0" r="r" b="b"/>
                              <a:pathLst>
                                <a:path w="2448" h="2444">
                                  <a:moveTo>
                                    <a:pt x="0" y="624"/>
                                  </a:moveTo>
                                  <a:lnTo>
                                    <a:pt x="165" y="995"/>
                                  </a:lnTo>
                                  <a:lnTo>
                                    <a:pt x="279" y="1174"/>
                                  </a:lnTo>
                                  <a:lnTo>
                                    <a:pt x="379" y="1287"/>
                                  </a:lnTo>
                                  <a:lnTo>
                                    <a:pt x="510" y="1392"/>
                                  </a:lnTo>
                                  <a:lnTo>
                                    <a:pt x="519" y="1471"/>
                                  </a:lnTo>
                                  <a:lnTo>
                                    <a:pt x="510" y="1562"/>
                                  </a:lnTo>
                                  <a:lnTo>
                                    <a:pt x="488" y="1689"/>
                                  </a:lnTo>
                                  <a:lnTo>
                                    <a:pt x="475" y="1785"/>
                                  </a:lnTo>
                                  <a:lnTo>
                                    <a:pt x="479" y="1847"/>
                                  </a:lnTo>
                                  <a:lnTo>
                                    <a:pt x="510" y="1904"/>
                                  </a:lnTo>
                                  <a:lnTo>
                                    <a:pt x="558" y="1938"/>
                                  </a:lnTo>
                                  <a:lnTo>
                                    <a:pt x="623" y="1956"/>
                                  </a:lnTo>
                                  <a:lnTo>
                                    <a:pt x="706" y="1947"/>
                                  </a:lnTo>
                                  <a:lnTo>
                                    <a:pt x="767" y="1956"/>
                                  </a:lnTo>
                                  <a:lnTo>
                                    <a:pt x="841" y="2061"/>
                                  </a:lnTo>
                                  <a:lnTo>
                                    <a:pt x="859" y="2122"/>
                                  </a:lnTo>
                                  <a:lnTo>
                                    <a:pt x="903" y="2139"/>
                                  </a:lnTo>
                                  <a:lnTo>
                                    <a:pt x="959" y="2130"/>
                                  </a:lnTo>
                                  <a:lnTo>
                                    <a:pt x="990" y="2126"/>
                                  </a:lnTo>
                                  <a:lnTo>
                                    <a:pt x="1003" y="2170"/>
                                  </a:lnTo>
                                  <a:lnTo>
                                    <a:pt x="1016" y="2218"/>
                                  </a:lnTo>
                                  <a:lnTo>
                                    <a:pt x="1064" y="2248"/>
                                  </a:lnTo>
                                  <a:lnTo>
                                    <a:pt x="1116" y="2270"/>
                                  </a:lnTo>
                                  <a:lnTo>
                                    <a:pt x="1160" y="2261"/>
                                  </a:lnTo>
                                  <a:lnTo>
                                    <a:pt x="1217" y="2301"/>
                                  </a:lnTo>
                                  <a:lnTo>
                                    <a:pt x="1266" y="2344"/>
                                  </a:lnTo>
                                  <a:lnTo>
                                    <a:pt x="1296" y="2392"/>
                                  </a:lnTo>
                                  <a:lnTo>
                                    <a:pt x="1383" y="2436"/>
                                  </a:lnTo>
                                  <a:lnTo>
                                    <a:pt x="1462" y="2444"/>
                                  </a:lnTo>
                                  <a:lnTo>
                                    <a:pt x="1562" y="2410"/>
                                  </a:lnTo>
                                  <a:lnTo>
                                    <a:pt x="1658" y="2349"/>
                                  </a:lnTo>
                                  <a:lnTo>
                                    <a:pt x="1737" y="2274"/>
                                  </a:lnTo>
                                  <a:lnTo>
                                    <a:pt x="1820" y="2161"/>
                                  </a:lnTo>
                                  <a:lnTo>
                                    <a:pt x="1907" y="2135"/>
                                  </a:lnTo>
                                  <a:lnTo>
                                    <a:pt x="2086" y="1930"/>
                                  </a:lnTo>
                                  <a:lnTo>
                                    <a:pt x="2448" y="1506"/>
                                  </a:lnTo>
                                  <a:lnTo>
                                    <a:pt x="2382" y="1335"/>
                                  </a:lnTo>
                                  <a:lnTo>
                                    <a:pt x="2269" y="738"/>
                                  </a:lnTo>
                                  <a:lnTo>
                                    <a:pt x="1994" y="335"/>
                                  </a:lnTo>
                                  <a:lnTo>
                                    <a:pt x="1536" y="78"/>
                                  </a:lnTo>
                                  <a:lnTo>
                                    <a:pt x="964" y="0"/>
                                  </a:lnTo>
                                  <a:lnTo>
                                    <a:pt x="309" y="109"/>
                                  </a:lnTo>
                                  <a:lnTo>
                                    <a:pt x="82" y="283"/>
                                  </a:lnTo>
                                  <a:lnTo>
                                    <a:pt x="0" y="624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9f7f"/>
                            </a:solidFill>
                            <a:ln w="0">
                              <a:noFill/>
                            </a:ln>
                          </p:spPr>
                          <p:txBody>
                            <a:bodyPr lIns="90000" rIns="90000" tIns="45000" bIns="450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1252" name=""/>
                            <p:cNvGrpSpPr/>
                            <p:nvPr/>
                          </p:nvGrpSpPr>
                          <p:grpSpPr>
                            <a:xfrm>
                              <a:off x="7229520" y="2900520"/>
                              <a:ext cx="689400" cy="747720"/>
                              <a:chOff x="7229520" y="2900520"/>
                              <a:chExt cx="689400" cy="747720"/>
                            </a:xfrm>
                          </p:grpSpPr>
                          <p:sp>
                            <p:nvSpPr>
                              <p:cNvPr id="1253" name=""/>
                              <p:cNvSpPr/>
                              <p:nvPr/>
                            </p:nvSpPr>
                            <p:spPr>
                              <a:xfrm>
                                <a:off x="7432560" y="3548160"/>
                                <a:ext cx="55800" cy="4644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155" h="129">
                                    <a:moveTo>
                                      <a:pt x="0" y="92"/>
                                    </a:moveTo>
                                    <a:lnTo>
                                      <a:pt x="71" y="10"/>
                                    </a:lnTo>
                                    <a:lnTo>
                                      <a:pt x="110" y="14"/>
                                    </a:lnTo>
                                    <a:lnTo>
                                      <a:pt x="155" y="0"/>
                                    </a:lnTo>
                                    <a:lnTo>
                                      <a:pt x="98" y="74"/>
                                    </a:lnTo>
                                    <a:lnTo>
                                      <a:pt x="60" y="129"/>
                                    </a:lnTo>
                                    <a:lnTo>
                                      <a:pt x="33" y="111"/>
                                    </a:lnTo>
                                    <a:lnTo>
                                      <a:pt x="0" y="92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9774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1440" bIns="144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54" name=""/>
                              <p:cNvSpPr/>
                              <p:nvPr/>
                            </p:nvSpPr>
                            <p:spPr>
                              <a:xfrm>
                                <a:off x="7253280" y="2900520"/>
                                <a:ext cx="665640" cy="6796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1849" h="1888">
                                    <a:moveTo>
                                      <a:pt x="0" y="482"/>
                                    </a:moveTo>
                                    <a:lnTo>
                                      <a:pt x="252" y="582"/>
                                    </a:lnTo>
                                    <a:lnTo>
                                      <a:pt x="382" y="621"/>
                                    </a:lnTo>
                                    <a:lnTo>
                                      <a:pt x="540" y="643"/>
                                    </a:lnTo>
                                    <a:lnTo>
                                      <a:pt x="683" y="652"/>
                                    </a:lnTo>
                                    <a:lnTo>
                                      <a:pt x="648" y="734"/>
                                    </a:lnTo>
                                    <a:lnTo>
                                      <a:pt x="618" y="848"/>
                                    </a:lnTo>
                                    <a:lnTo>
                                      <a:pt x="600" y="966"/>
                                    </a:lnTo>
                                    <a:lnTo>
                                      <a:pt x="561" y="1018"/>
                                    </a:lnTo>
                                    <a:lnTo>
                                      <a:pt x="487" y="1062"/>
                                    </a:lnTo>
                                    <a:lnTo>
                                      <a:pt x="369" y="1105"/>
                                    </a:lnTo>
                                    <a:lnTo>
                                      <a:pt x="326" y="1170"/>
                                    </a:lnTo>
                                    <a:lnTo>
                                      <a:pt x="313" y="1249"/>
                                    </a:lnTo>
                                    <a:lnTo>
                                      <a:pt x="326" y="1340"/>
                                    </a:lnTo>
                                    <a:lnTo>
                                      <a:pt x="365" y="1436"/>
                                    </a:lnTo>
                                    <a:lnTo>
                                      <a:pt x="413" y="1501"/>
                                    </a:lnTo>
                                    <a:lnTo>
                                      <a:pt x="487" y="1553"/>
                                    </a:lnTo>
                                    <a:lnTo>
                                      <a:pt x="527" y="1536"/>
                                    </a:lnTo>
                                    <a:lnTo>
                                      <a:pt x="579" y="1518"/>
                                    </a:lnTo>
                                    <a:lnTo>
                                      <a:pt x="627" y="1531"/>
                                    </a:lnTo>
                                    <a:lnTo>
                                      <a:pt x="600" y="1675"/>
                                    </a:lnTo>
                                    <a:lnTo>
                                      <a:pt x="661" y="1705"/>
                                    </a:lnTo>
                                    <a:lnTo>
                                      <a:pt x="722" y="1749"/>
                                    </a:lnTo>
                                    <a:lnTo>
                                      <a:pt x="766" y="1810"/>
                                    </a:lnTo>
                                    <a:lnTo>
                                      <a:pt x="792" y="1862"/>
                                    </a:lnTo>
                                    <a:lnTo>
                                      <a:pt x="840" y="1884"/>
                                    </a:lnTo>
                                    <a:lnTo>
                                      <a:pt x="900" y="1888"/>
                                    </a:lnTo>
                                    <a:lnTo>
                                      <a:pt x="983" y="1836"/>
                                    </a:lnTo>
                                    <a:lnTo>
                                      <a:pt x="1048" y="1770"/>
                                    </a:lnTo>
                                    <a:lnTo>
                                      <a:pt x="1087" y="1714"/>
                                    </a:lnTo>
                                    <a:lnTo>
                                      <a:pt x="1113" y="1592"/>
                                    </a:lnTo>
                                    <a:lnTo>
                                      <a:pt x="1135" y="1475"/>
                                    </a:lnTo>
                                    <a:lnTo>
                                      <a:pt x="1196" y="1423"/>
                                    </a:lnTo>
                                    <a:lnTo>
                                      <a:pt x="1406" y="1340"/>
                                    </a:lnTo>
                                    <a:lnTo>
                                      <a:pt x="1606" y="1262"/>
                                    </a:lnTo>
                                    <a:lnTo>
                                      <a:pt x="1749" y="1175"/>
                                    </a:lnTo>
                                    <a:lnTo>
                                      <a:pt x="1849" y="1066"/>
                                    </a:lnTo>
                                    <a:lnTo>
                                      <a:pt x="1675" y="369"/>
                                    </a:lnTo>
                                    <a:lnTo>
                                      <a:pt x="600" y="0"/>
                                    </a:lnTo>
                                    <a:lnTo>
                                      <a:pt x="0" y="482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9774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45000" bIns="450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55" name=""/>
                              <p:cNvSpPr/>
                              <p:nvPr/>
                            </p:nvSpPr>
                            <p:spPr>
                              <a:xfrm>
                                <a:off x="7229520" y="3382920"/>
                                <a:ext cx="117720" cy="8460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7" h="235">
                                    <a:moveTo>
                                      <a:pt x="36" y="223"/>
                                    </a:moveTo>
                                    <a:lnTo>
                                      <a:pt x="0" y="207"/>
                                    </a:lnTo>
                                    <a:lnTo>
                                      <a:pt x="0" y="175"/>
                                    </a:lnTo>
                                    <a:lnTo>
                                      <a:pt x="32" y="167"/>
                                    </a:lnTo>
                                    <a:lnTo>
                                      <a:pt x="89" y="163"/>
                                    </a:lnTo>
                                    <a:lnTo>
                                      <a:pt x="146" y="167"/>
                                    </a:lnTo>
                                    <a:lnTo>
                                      <a:pt x="213" y="188"/>
                                    </a:lnTo>
                                    <a:lnTo>
                                      <a:pt x="249" y="127"/>
                                    </a:lnTo>
                                    <a:lnTo>
                                      <a:pt x="249" y="76"/>
                                    </a:lnTo>
                                    <a:lnTo>
                                      <a:pt x="229" y="39"/>
                                    </a:lnTo>
                                    <a:lnTo>
                                      <a:pt x="188" y="27"/>
                                    </a:lnTo>
                                    <a:lnTo>
                                      <a:pt x="150" y="39"/>
                                    </a:lnTo>
                                    <a:lnTo>
                                      <a:pt x="118" y="64"/>
                                    </a:lnTo>
                                    <a:lnTo>
                                      <a:pt x="130" y="27"/>
                                    </a:lnTo>
                                    <a:lnTo>
                                      <a:pt x="172" y="0"/>
                                    </a:lnTo>
                                    <a:lnTo>
                                      <a:pt x="225" y="0"/>
                                    </a:lnTo>
                                    <a:lnTo>
                                      <a:pt x="290" y="23"/>
                                    </a:lnTo>
                                    <a:lnTo>
                                      <a:pt x="319" y="60"/>
                                    </a:lnTo>
                                    <a:lnTo>
                                      <a:pt x="327" y="103"/>
                                    </a:lnTo>
                                    <a:lnTo>
                                      <a:pt x="319" y="151"/>
                                    </a:lnTo>
                                    <a:lnTo>
                                      <a:pt x="286" y="204"/>
                                    </a:lnTo>
                                    <a:lnTo>
                                      <a:pt x="245" y="227"/>
                                    </a:lnTo>
                                    <a:lnTo>
                                      <a:pt x="180" y="235"/>
                                    </a:lnTo>
                                    <a:lnTo>
                                      <a:pt x="138" y="223"/>
                                    </a:lnTo>
                                    <a:lnTo>
                                      <a:pt x="89" y="211"/>
                                    </a:lnTo>
                                    <a:lnTo>
                                      <a:pt x="36" y="223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9774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39600" bIns="396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56" name=""/>
                              <p:cNvSpPr/>
                              <p:nvPr/>
                            </p:nvSpPr>
                            <p:spPr>
                              <a:xfrm>
                                <a:off x="7494480" y="3619440"/>
                                <a:ext cx="89280" cy="2880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48" h="80">
                                    <a:moveTo>
                                      <a:pt x="0" y="50"/>
                                    </a:moveTo>
                                    <a:lnTo>
                                      <a:pt x="59" y="33"/>
                                    </a:lnTo>
                                    <a:lnTo>
                                      <a:pt x="120" y="0"/>
                                    </a:lnTo>
                                    <a:lnTo>
                                      <a:pt x="148" y="13"/>
                                    </a:lnTo>
                                    <a:lnTo>
                                      <a:pt x="180" y="29"/>
                                    </a:lnTo>
                                    <a:lnTo>
                                      <a:pt x="213" y="36"/>
                                    </a:lnTo>
                                    <a:lnTo>
                                      <a:pt x="248" y="43"/>
                                    </a:lnTo>
                                    <a:lnTo>
                                      <a:pt x="189" y="67"/>
                                    </a:lnTo>
                                    <a:lnTo>
                                      <a:pt x="132" y="80"/>
                                    </a:lnTo>
                                    <a:lnTo>
                                      <a:pt x="84" y="77"/>
                                    </a:lnTo>
                                    <a:lnTo>
                                      <a:pt x="47" y="70"/>
                                    </a:lnTo>
                                    <a:lnTo>
                                      <a:pt x="0" y="5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9774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16200" bIns="-162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1257" name=""/>
                        <p:cNvGrpSpPr/>
                        <p:nvPr/>
                      </p:nvGrpSpPr>
                      <p:grpSpPr>
                        <a:xfrm>
                          <a:off x="7186680" y="3071880"/>
                          <a:ext cx="276480" cy="511560"/>
                          <a:chOff x="7186680" y="3071880"/>
                          <a:chExt cx="276480" cy="511560"/>
                        </a:xfrm>
                      </p:grpSpPr>
                      <p:grpSp>
                        <p:nvGrpSpPr>
                          <p:cNvPr id="1258" name=""/>
                          <p:cNvGrpSpPr/>
                          <p:nvPr/>
                        </p:nvGrpSpPr>
                        <p:grpSpPr>
                          <a:xfrm>
                            <a:off x="7326360" y="3465360"/>
                            <a:ext cx="136800" cy="118080"/>
                            <a:chOff x="7326360" y="3465360"/>
                            <a:chExt cx="136800" cy="118080"/>
                          </a:xfrm>
                        </p:grpSpPr>
                        <p:sp>
                          <p:nvSpPr>
                            <p:cNvPr id="1259" name=""/>
                            <p:cNvSpPr/>
                            <p:nvPr/>
                          </p:nvSpPr>
                          <p:spPr>
                            <a:xfrm>
                              <a:off x="7342200" y="3468600"/>
                              <a:ext cx="119520" cy="90720"/>
                            </a:xfrm>
                            <a:custGeom>
                              <a:avLst/>
                              <a:gdLst/>
                              <a:ahLst/>
                              <a:rect l="0" t="0" r="r" b="b"/>
                              <a:pathLst>
                                <a:path w="332" h="252">
                                  <a:moveTo>
                                    <a:pt x="0" y="168"/>
                                  </a:moveTo>
                                  <a:lnTo>
                                    <a:pt x="73" y="180"/>
                                  </a:lnTo>
                                  <a:lnTo>
                                    <a:pt x="107" y="228"/>
                                  </a:lnTo>
                                  <a:lnTo>
                                    <a:pt x="131" y="252"/>
                                  </a:lnTo>
                                  <a:lnTo>
                                    <a:pt x="251" y="204"/>
                                  </a:lnTo>
                                  <a:lnTo>
                                    <a:pt x="283" y="148"/>
                                  </a:lnTo>
                                  <a:lnTo>
                                    <a:pt x="332" y="0"/>
                                  </a:lnTo>
                                  <a:lnTo>
                                    <a:pt x="279" y="23"/>
                                  </a:lnTo>
                                  <a:lnTo>
                                    <a:pt x="0" y="168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df3f5f"/>
                            </a:solidFill>
                            <a:ln w="0">
                              <a:noFill/>
                            </a:ln>
                          </p:spPr>
                          <p:txBody>
                            <a:bodyPr lIns="90000" rIns="90000" tIns="45000" bIns="450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260" name=""/>
                            <p:cNvSpPr/>
                            <p:nvPr/>
                          </p:nvSpPr>
                          <p:spPr>
                            <a:xfrm>
                              <a:off x="7358040" y="3467160"/>
                              <a:ext cx="100440" cy="79560"/>
                            </a:xfrm>
                            <a:custGeom>
                              <a:avLst/>
                              <a:gdLst/>
                              <a:ahLst/>
                              <a:rect l="0" t="0" r="r" b="b"/>
                              <a:pathLst>
                                <a:path w="279" h="221">
                                  <a:moveTo>
                                    <a:pt x="0" y="154"/>
                                  </a:moveTo>
                                  <a:lnTo>
                                    <a:pt x="64" y="221"/>
                                  </a:lnTo>
                                  <a:lnTo>
                                    <a:pt x="105" y="205"/>
                                  </a:lnTo>
                                  <a:lnTo>
                                    <a:pt x="275" y="23"/>
                                  </a:lnTo>
                                  <a:lnTo>
                                    <a:pt x="279" y="0"/>
                                  </a:lnTo>
                                  <a:lnTo>
                                    <a:pt x="0" y="154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txBody>
                            <a:bodyPr lIns="90000" rIns="90000" tIns="34560" bIns="345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261" name=""/>
                            <p:cNvSpPr/>
                            <p:nvPr/>
                          </p:nvSpPr>
                          <p:spPr>
                            <a:xfrm>
                              <a:off x="7326360" y="3465360"/>
                              <a:ext cx="136800" cy="70200"/>
                            </a:xfrm>
                            <a:custGeom>
                              <a:avLst/>
                              <a:gdLst/>
                              <a:ahLst/>
                              <a:rect l="0" t="0" r="r" b="b"/>
                              <a:pathLst>
                                <a:path w="380" h="195">
                                  <a:moveTo>
                                    <a:pt x="380" y="0"/>
                                  </a:moveTo>
                                  <a:lnTo>
                                    <a:pt x="314" y="31"/>
                                  </a:lnTo>
                                  <a:lnTo>
                                    <a:pt x="215" y="62"/>
                                  </a:lnTo>
                                  <a:lnTo>
                                    <a:pt x="115" y="81"/>
                                  </a:lnTo>
                                  <a:lnTo>
                                    <a:pt x="41" y="117"/>
                                  </a:lnTo>
                                  <a:lnTo>
                                    <a:pt x="12" y="136"/>
                                  </a:lnTo>
                                  <a:lnTo>
                                    <a:pt x="0" y="179"/>
                                  </a:lnTo>
                                  <a:lnTo>
                                    <a:pt x="20" y="195"/>
                                  </a:lnTo>
                                  <a:lnTo>
                                    <a:pt x="61" y="195"/>
                                  </a:lnTo>
                                  <a:lnTo>
                                    <a:pt x="90" y="191"/>
                                  </a:lnTo>
                                  <a:lnTo>
                                    <a:pt x="160" y="160"/>
                                  </a:lnTo>
                                  <a:lnTo>
                                    <a:pt x="235" y="113"/>
                                  </a:lnTo>
                                  <a:lnTo>
                                    <a:pt x="355" y="31"/>
                                  </a:lnTo>
                                  <a:lnTo>
                                    <a:pt x="38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7f9f"/>
                            </a:solidFill>
                            <a:ln w="0">
                              <a:noFill/>
                            </a:ln>
                          </p:spPr>
                          <p:txBody>
                            <a:bodyPr lIns="90000" rIns="90000" tIns="25200" bIns="252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262" name=""/>
                            <p:cNvSpPr/>
                            <p:nvPr/>
                          </p:nvSpPr>
                          <p:spPr>
                            <a:xfrm>
                              <a:off x="7381800" y="3467160"/>
                              <a:ext cx="81360" cy="116280"/>
                            </a:xfrm>
                            <a:custGeom>
                              <a:avLst/>
                              <a:gdLst/>
                              <a:ahLst/>
                              <a:rect l="0" t="0" r="r" b="b"/>
                              <a:pathLst>
                                <a:path w="226" h="323">
                                  <a:moveTo>
                                    <a:pt x="226" y="0"/>
                                  </a:moveTo>
                                  <a:lnTo>
                                    <a:pt x="171" y="115"/>
                                  </a:lnTo>
                                  <a:lnTo>
                                    <a:pt x="123" y="176"/>
                                  </a:lnTo>
                                  <a:lnTo>
                                    <a:pt x="95" y="225"/>
                                  </a:lnTo>
                                  <a:lnTo>
                                    <a:pt x="64" y="241"/>
                                  </a:lnTo>
                                  <a:lnTo>
                                    <a:pt x="35" y="241"/>
                                  </a:lnTo>
                                  <a:lnTo>
                                    <a:pt x="0" y="229"/>
                                  </a:lnTo>
                                  <a:lnTo>
                                    <a:pt x="7" y="266"/>
                                  </a:lnTo>
                                  <a:lnTo>
                                    <a:pt x="27" y="283"/>
                                  </a:lnTo>
                                  <a:lnTo>
                                    <a:pt x="75" y="311"/>
                                  </a:lnTo>
                                  <a:lnTo>
                                    <a:pt x="107" y="323"/>
                                  </a:lnTo>
                                  <a:lnTo>
                                    <a:pt x="143" y="315"/>
                                  </a:lnTo>
                                  <a:lnTo>
                                    <a:pt x="175" y="283"/>
                                  </a:lnTo>
                                  <a:lnTo>
                                    <a:pt x="203" y="241"/>
                                  </a:lnTo>
                                  <a:lnTo>
                                    <a:pt x="211" y="188"/>
                                  </a:lnTo>
                                  <a:lnTo>
                                    <a:pt x="207" y="127"/>
                                  </a:lnTo>
                                  <a:lnTo>
                                    <a:pt x="226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7f9f"/>
                            </a:solidFill>
                            <a:ln w="0">
                              <a:noFill/>
                            </a:ln>
                          </p:spPr>
                          <p:txBody>
                            <a:bodyPr lIns="90000" rIns="90000" tIns="45000" bIns="450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263" name=""/>
                          <p:cNvGrpSpPr/>
                          <p:nvPr/>
                        </p:nvGrpSpPr>
                        <p:grpSpPr>
                          <a:xfrm>
                            <a:off x="7186680" y="3071880"/>
                            <a:ext cx="160560" cy="292320"/>
                            <a:chOff x="7186680" y="3071880"/>
                            <a:chExt cx="160560" cy="292320"/>
                          </a:xfrm>
                        </p:grpSpPr>
                        <p:grpSp>
                          <p:nvGrpSpPr>
                            <p:cNvPr id="1264" name=""/>
                            <p:cNvGrpSpPr/>
                            <p:nvPr/>
                          </p:nvGrpSpPr>
                          <p:grpSpPr>
                            <a:xfrm>
                              <a:off x="7205760" y="3184560"/>
                              <a:ext cx="141480" cy="179640"/>
                              <a:chOff x="7205760" y="3184560"/>
                              <a:chExt cx="141480" cy="179640"/>
                            </a:xfrm>
                          </p:grpSpPr>
                          <p:sp>
                            <p:nvSpPr>
                              <p:cNvPr id="1265" name=""/>
                              <p:cNvSpPr/>
                              <p:nvPr/>
                            </p:nvSpPr>
                            <p:spPr>
                              <a:xfrm>
                                <a:off x="7238880" y="3186000"/>
                                <a:ext cx="106560" cy="9396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96" h="261">
                                    <a:moveTo>
                                      <a:pt x="0" y="145"/>
                                    </a:moveTo>
                                    <a:lnTo>
                                      <a:pt x="32" y="96"/>
                                    </a:lnTo>
                                    <a:lnTo>
                                      <a:pt x="89" y="60"/>
                                    </a:lnTo>
                                    <a:lnTo>
                                      <a:pt x="158" y="28"/>
                                    </a:lnTo>
                                    <a:lnTo>
                                      <a:pt x="219" y="16"/>
                                    </a:lnTo>
                                    <a:lnTo>
                                      <a:pt x="288" y="0"/>
                                    </a:lnTo>
                                    <a:lnTo>
                                      <a:pt x="292" y="44"/>
                                    </a:lnTo>
                                    <a:lnTo>
                                      <a:pt x="296" y="92"/>
                                    </a:lnTo>
                                    <a:lnTo>
                                      <a:pt x="284" y="153"/>
                                    </a:lnTo>
                                    <a:lnTo>
                                      <a:pt x="255" y="205"/>
                                    </a:lnTo>
                                    <a:lnTo>
                                      <a:pt x="207" y="241"/>
                                    </a:lnTo>
                                    <a:lnTo>
                                      <a:pt x="154" y="261"/>
                                    </a:lnTo>
                                    <a:lnTo>
                                      <a:pt x="129" y="217"/>
                                    </a:lnTo>
                                    <a:lnTo>
                                      <a:pt x="89" y="193"/>
                                    </a:lnTo>
                                    <a:lnTo>
                                      <a:pt x="64" y="173"/>
                                    </a:lnTo>
                                    <a:lnTo>
                                      <a:pt x="24" y="161"/>
                                    </a:lnTo>
                                    <a:lnTo>
                                      <a:pt x="0" y="145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7f3f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45000" bIns="450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66" name=""/>
                              <p:cNvSpPr/>
                              <p:nvPr/>
                            </p:nvSpPr>
                            <p:spPr>
                              <a:xfrm>
                                <a:off x="7300800" y="3189240"/>
                                <a:ext cx="41760" cy="4644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116" h="129">
                                    <a:moveTo>
                                      <a:pt x="0" y="74"/>
                                    </a:moveTo>
                                    <a:lnTo>
                                      <a:pt x="51" y="129"/>
                                    </a:lnTo>
                                    <a:lnTo>
                                      <a:pt x="83" y="85"/>
                                    </a:lnTo>
                                    <a:lnTo>
                                      <a:pt x="113" y="21"/>
                                    </a:lnTo>
                                    <a:lnTo>
                                      <a:pt x="116" y="0"/>
                                    </a:lnTo>
                                    <a:lnTo>
                                      <a:pt x="72" y="18"/>
                                    </a:lnTo>
                                    <a:lnTo>
                                      <a:pt x="0" y="74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ffdf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1440" bIns="144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67" name=""/>
                              <p:cNvSpPr/>
                              <p:nvPr/>
                            </p:nvSpPr>
                            <p:spPr>
                              <a:xfrm>
                                <a:off x="7270920" y="3184560"/>
                                <a:ext cx="74880" cy="8604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08" h="239">
                                    <a:moveTo>
                                      <a:pt x="0" y="199"/>
                                    </a:moveTo>
                                    <a:lnTo>
                                      <a:pt x="15" y="183"/>
                                    </a:lnTo>
                                    <a:lnTo>
                                      <a:pt x="46" y="131"/>
                                    </a:lnTo>
                                    <a:lnTo>
                                      <a:pt x="97" y="91"/>
                                    </a:lnTo>
                                    <a:lnTo>
                                      <a:pt x="149" y="51"/>
                                    </a:lnTo>
                                    <a:lnTo>
                                      <a:pt x="196" y="19"/>
                                    </a:lnTo>
                                    <a:lnTo>
                                      <a:pt x="176" y="67"/>
                                    </a:lnTo>
                                    <a:lnTo>
                                      <a:pt x="149" y="115"/>
                                    </a:lnTo>
                                    <a:lnTo>
                                      <a:pt x="130" y="139"/>
                                    </a:lnTo>
                                    <a:lnTo>
                                      <a:pt x="101" y="199"/>
                                    </a:lnTo>
                                    <a:lnTo>
                                      <a:pt x="97" y="239"/>
                                    </a:lnTo>
                                    <a:lnTo>
                                      <a:pt x="114" y="195"/>
                                    </a:lnTo>
                                    <a:lnTo>
                                      <a:pt x="137" y="159"/>
                                    </a:lnTo>
                                    <a:lnTo>
                                      <a:pt x="176" y="103"/>
                                    </a:lnTo>
                                    <a:lnTo>
                                      <a:pt x="196" y="59"/>
                                    </a:lnTo>
                                    <a:lnTo>
                                      <a:pt x="204" y="27"/>
                                    </a:lnTo>
                                    <a:lnTo>
                                      <a:pt x="208" y="0"/>
                                    </a:lnTo>
                                    <a:lnTo>
                                      <a:pt x="176" y="23"/>
                                    </a:lnTo>
                                    <a:lnTo>
                                      <a:pt x="130" y="47"/>
                                    </a:lnTo>
                                    <a:lnTo>
                                      <a:pt x="82" y="79"/>
                                    </a:lnTo>
                                    <a:lnTo>
                                      <a:pt x="43" y="115"/>
                                    </a:lnTo>
                                    <a:lnTo>
                                      <a:pt x="7" y="159"/>
                                    </a:lnTo>
                                    <a:lnTo>
                                      <a:pt x="0" y="199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3f1f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41040" bIns="4104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68" name=""/>
                              <p:cNvSpPr/>
                              <p:nvPr/>
                            </p:nvSpPr>
                            <p:spPr>
                              <a:xfrm>
                                <a:off x="7283520" y="3219480"/>
                                <a:ext cx="3060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85" h="98">
                                    <a:moveTo>
                                      <a:pt x="0" y="45"/>
                                    </a:moveTo>
                                    <a:lnTo>
                                      <a:pt x="0" y="84"/>
                                    </a:lnTo>
                                    <a:lnTo>
                                      <a:pt x="20" y="98"/>
                                    </a:lnTo>
                                    <a:lnTo>
                                      <a:pt x="57" y="91"/>
                                    </a:lnTo>
                                    <a:lnTo>
                                      <a:pt x="85" y="56"/>
                                    </a:lnTo>
                                    <a:lnTo>
                                      <a:pt x="85" y="27"/>
                                    </a:lnTo>
                                    <a:lnTo>
                                      <a:pt x="51" y="0"/>
                                    </a:lnTo>
                                    <a:lnTo>
                                      <a:pt x="0" y="45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5f3f1f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69" name=""/>
                              <p:cNvSpPr/>
                              <p:nvPr/>
                            </p:nvSpPr>
                            <p:spPr>
                              <a:xfrm>
                                <a:off x="7284960" y="3213000"/>
                                <a:ext cx="39960" cy="4464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111" h="124">
                                    <a:moveTo>
                                      <a:pt x="0" y="56"/>
                                    </a:moveTo>
                                    <a:lnTo>
                                      <a:pt x="0" y="105"/>
                                    </a:lnTo>
                                    <a:lnTo>
                                      <a:pt x="30" y="124"/>
                                    </a:lnTo>
                                    <a:lnTo>
                                      <a:pt x="75" y="119"/>
                                    </a:lnTo>
                                    <a:lnTo>
                                      <a:pt x="111" y="72"/>
                                    </a:lnTo>
                                    <a:lnTo>
                                      <a:pt x="111" y="28"/>
                                    </a:lnTo>
                                    <a:lnTo>
                                      <a:pt x="80" y="0"/>
                                    </a:lnTo>
                                    <a:lnTo>
                                      <a:pt x="0" y="56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3f1f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360" bIns="-36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70" name=""/>
                              <p:cNvSpPr/>
                              <p:nvPr/>
                            </p:nvSpPr>
                            <p:spPr>
                              <a:xfrm>
                                <a:off x="7294680" y="3222720"/>
                                <a:ext cx="25560" cy="255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19440" bIns="-1944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71" name=""/>
                              <p:cNvSpPr/>
                              <p:nvPr/>
                            </p:nvSpPr>
                            <p:spPr>
                              <a:xfrm>
                                <a:off x="7242120" y="3186000"/>
                                <a:ext cx="105120" cy="6552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fill="none" w="292" h="182">
                                    <a:moveTo>
                                      <a:pt x="0" y="182"/>
                                    </a:moveTo>
                                    <a:lnTo>
                                      <a:pt x="4" y="147"/>
                                    </a:lnTo>
                                    <a:lnTo>
                                      <a:pt x="26" y="106"/>
                                    </a:lnTo>
                                    <a:lnTo>
                                      <a:pt x="61" y="75"/>
                                    </a:lnTo>
                                    <a:lnTo>
                                      <a:pt x="119" y="39"/>
                                    </a:lnTo>
                                    <a:lnTo>
                                      <a:pt x="181" y="17"/>
                                    </a:lnTo>
                                    <a:lnTo>
                                      <a:pt x="252" y="0"/>
                                    </a:lnTo>
                                    <a:lnTo>
                                      <a:pt x="292" y="0"/>
                                    </a:lnTo>
                                  </a:path>
                                </a:pathLst>
                              </a:custGeom>
                              <a:ln w="12600">
                                <a:solidFill>
                                  <a:srgbClr val="bf3f00"/>
                                </a:solidFill>
                                <a:round/>
                              </a:ln>
                            </p:spPr>
                            <p:txBody>
                              <a:bodyPr lIns="96120" rIns="96120" tIns="14400" bIns="144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72" name=""/>
                              <p:cNvSpPr/>
                              <p:nvPr/>
                            </p:nvSpPr>
                            <p:spPr>
                              <a:xfrm>
                                <a:off x="7205760" y="3216240"/>
                                <a:ext cx="55800" cy="14796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155" h="411">
                                    <a:moveTo>
                                      <a:pt x="0" y="0"/>
                                    </a:moveTo>
                                    <a:lnTo>
                                      <a:pt x="63" y="53"/>
                                    </a:lnTo>
                                    <a:lnTo>
                                      <a:pt x="155" y="107"/>
                                    </a:lnTo>
                                    <a:lnTo>
                                      <a:pt x="110" y="169"/>
                                    </a:lnTo>
                                    <a:lnTo>
                                      <a:pt x="98" y="228"/>
                                    </a:lnTo>
                                    <a:lnTo>
                                      <a:pt x="106" y="303"/>
                                    </a:lnTo>
                                    <a:lnTo>
                                      <a:pt x="144" y="411"/>
                                    </a:lnTo>
                                    <a:lnTo>
                                      <a:pt x="113" y="353"/>
                                    </a:lnTo>
                                    <a:lnTo>
                                      <a:pt x="80" y="290"/>
                                    </a:lnTo>
                                    <a:lnTo>
                                      <a:pt x="48" y="220"/>
                                    </a:lnTo>
                                    <a:lnTo>
                                      <a:pt x="26" y="115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7f3f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45000" bIns="450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273" name=""/>
                            <p:cNvSpPr/>
                            <p:nvPr/>
                          </p:nvSpPr>
                          <p:spPr>
                            <a:xfrm>
                              <a:off x="7186680" y="3071880"/>
                              <a:ext cx="130680" cy="149760"/>
                            </a:xfrm>
                            <a:custGeom>
                              <a:avLst/>
                              <a:gdLst/>
                              <a:ahLst/>
                              <a:rect l="0" t="0" r="r" b="b"/>
                              <a:pathLst>
                                <a:path w="363" h="416">
                                  <a:moveTo>
                                    <a:pt x="95" y="399"/>
                                  </a:moveTo>
                                  <a:lnTo>
                                    <a:pt x="99" y="337"/>
                                  </a:lnTo>
                                  <a:lnTo>
                                    <a:pt x="103" y="274"/>
                                  </a:lnTo>
                                  <a:lnTo>
                                    <a:pt x="136" y="220"/>
                                  </a:lnTo>
                                  <a:lnTo>
                                    <a:pt x="243" y="150"/>
                                  </a:lnTo>
                                  <a:lnTo>
                                    <a:pt x="343" y="53"/>
                                  </a:lnTo>
                                  <a:lnTo>
                                    <a:pt x="363" y="0"/>
                                  </a:lnTo>
                                  <a:lnTo>
                                    <a:pt x="218" y="121"/>
                                  </a:lnTo>
                                  <a:lnTo>
                                    <a:pt x="69" y="179"/>
                                  </a:lnTo>
                                  <a:lnTo>
                                    <a:pt x="20" y="253"/>
                                  </a:lnTo>
                                  <a:lnTo>
                                    <a:pt x="0" y="329"/>
                                  </a:lnTo>
                                  <a:lnTo>
                                    <a:pt x="0" y="383"/>
                                  </a:lnTo>
                                  <a:lnTo>
                                    <a:pt x="20" y="404"/>
                                  </a:lnTo>
                                  <a:lnTo>
                                    <a:pt x="53" y="416"/>
                                  </a:lnTo>
                                  <a:lnTo>
                                    <a:pt x="95" y="399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9f7f5f"/>
                            </a:solidFill>
                            <a:ln w="0">
                              <a:noFill/>
                            </a:ln>
                          </p:spPr>
                          <p:txBody>
                            <a:bodyPr lIns="90000" rIns="90000" tIns="45000" bIns="450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1274" name=""/>
                    <p:cNvGrpSpPr/>
                    <p:nvPr/>
                  </p:nvGrpSpPr>
                  <p:grpSpPr>
                    <a:xfrm>
                      <a:off x="7637400" y="3159000"/>
                      <a:ext cx="725760" cy="726120"/>
                      <a:chOff x="7637400" y="3159000"/>
                      <a:chExt cx="725760" cy="726120"/>
                    </a:xfrm>
                  </p:grpSpPr>
                  <p:sp>
                    <p:nvSpPr>
                      <p:cNvPr id="1275" name=""/>
                      <p:cNvSpPr/>
                      <p:nvPr/>
                    </p:nvSpPr>
                    <p:spPr>
                      <a:xfrm>
                        <a:off x="7637400" y="3159000"/>
                        <a:ext cx="725760" cy="71460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2016" h="1985">
                            <a:moveTo>
                              <a:pt x="1049" y="1985"/>
                            </a:moveTo>
                            <a:lnTo>
                              <a:pt x="848" y="1872"/>
                            </a:lnTo>
                            <a:lnTo>
                              <a:pt x="705" y="1672"/>
                            </a:lnTo>
                            <a:lnTo>
                              <a:pt x="648" y="1532"/>
                            </a:lnTo>
                            <a:lnTo>
                              <a:pt x="561" y="1528"/>
                            </a:lnTo>
                            <a:lnTo>
                              <a:pt x="448" y="1502"/>
                            </a:lnTo>
                            <a:lnTo>
                              <a:pt x="274" y="1428"/>
                            </a:lnTo>
                            <a:lnTo>
                              <a:pt x="139" y="1345"/>
                            </a:lnTo>
                            <a:lnTo>
                              <a:pt x="0" y="1245"/>
                            </a:lnTo>
                            <a:lnTo>
                              <a:pt x="60" y="1206"/>
                            </a:lnTo>
                            <a:lnTo>
                              <a:pt x="200" y="1045"/>
                            </a:lnTo>
                            <a:lnTo>
                              <a:pt x="326" y="892"/>
                            </a:lnTo>
                            <a:lnTo>
                              <a:pt x="443" y="722"/>
                            </a:lnTo>
                            <a:lnTo>
                              <a:pt x="591" y="509"/>
                            </a:lnTo>
                            <a:lnTo>
                              <a:pt x="661" y="335"/>
                            </a:lnTo>
                            <a:lnTo>
                              <a:pt x="735" y="0"/>
                            </a:lnTo>
                            <a:lnTo>
                              <a:pt x="2016" y="200"/>
                            </a:lnTo>
                            <a:lnTo>
                              <a:pt x="1049" y="1985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76" name=""/>
                      <p:cNvSpPr/>
                      <p:nvPr/>
                    </p:nvSpPr>
                    <p:spPr>
                      <a:xfrm>
                        <a:off x="7800840" y="3408480"/>
                        <a:ext cx="260640" cy="47664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4" h="1324">
                            <a:moveTo>
                              <a:pt x="541" y="1290"/>
                            </a:moveTo>
                            <a:lnTo>
                              <a:pt x="626" y="1324"/>
                            </a:lnTo>
                            <a:lnTo>
                              <a:pt x="558" y="1203"/>
                            </a:lnTo>
                            <a:lnTo>
                              <a:pt x="532" y="1104"/>
                            </a:lnTo>
                            <a:lnTo>
                              <a:pt x="519" y="960"/>
                            </a:lnTo>
                            <a:lnTo>
                              <a:pt x="532" y="813"/>
                            </a:lnTo>
                            <a:lnTo>
                              <a:pt x="554" y="653"/>
                            </a:lnTo>
                            <a:lnTo>
                              <a:pt x="588" y="506"/>
                            </a:lnTo>
                            <a:lnTo>
                              <a:pt x="626" y="381"/>
                            </a:lnTo>
                            <a:lnTo>
                              <a:pt x="668" y="281"/>
                            </a:lnTo>
                            <a:lnTo>
                              <a:pt x="690" y="138"/>
                            </a:lnTo>
                            <a:lnTo>
                              <a:pt x="724" y="0"/>
                            </a:lnTo>
                            <a:lnTo>
                              <a:pt x="613" y="138"/>
                            </a:lnTo>
                            <a:lnTo>
                              <a:pt x="532" y="250"/>
                            </a:lnTo>
                            <a:lnTo>
                              <a:pt x="460" y="364"/>
                            </a:lnTo>
                            <a:lnTo>
                              <a:pt x="392" y="476"/>
                            </a:lnTo>
                            <a:lnTo>
                              <a:pt x="302" y="541"/>
                            </a:lnTo>
                            <a:lnTo>
                              <a:pt x="204" y="619"/>
                            </a:lnTo>
                            <a:lnTo>
                              <a:pt x="97" y="714"/>
                            </a:lnTo>
                            <a:lnTo>
                              <a:pt x="0" y="813"/>
                            </a:lnTo>
                            <a:lnTo>
                              <a:pt x="136" y="848"/>
                            </a:lnTo>
                            <a:lnTo>
                              <a:pt x="174" y="913"/>
                            </a:lnTo>
                            <a:lnTo>
                              <a:pt x="216" y="991"/>
                            </a:lnTo>
                            <a:lnTo>
                              <a:pt x="272" y="1069"/>
                            </a:lnTo>
                            <a:lnTo>
                              <a:pt x="327" y="1134"/>
                            </a:lnTo>
                            <a:lnTo>
                              <a:pt x="392" y="1190"/>
                            </a:lnTo>
                            <a:lnTo>
                              <a:pt x="468" y="1242"/>
                            </a:lnTo>
                            <a:lnTo>
                              <a:pt x="541" y="1290"/>
                            </a:lnTo>
                            <a:close/>
                          </a:path>
                        </a:pathLst>
                      </a:custGeom>
                      <a:solidFill>
                        <a:srgbClr val="d5d5d5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77" name=""/>
                      <p:cNvSpPr/>
                      <p:nvPr/>
                    </p:nvSpPr>
                    <p:spPr>
                      <a:xfrm>
                        <a:off x="7786800" y="3344760"/>
                        <a:ext cx="181440" cy="35280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504" h="980">
                            <a:moveTo>
                              <a:pt x="504" y="533"/>
                            </a:moveTo>
                            <a:lnTo>
                              <a:pt x="433" y="524"/>
                            </a:lnTo>
                            <a:lnTo>
                              <a:pt x="369" y="503"/>
                            </a:lnTo>
                            <a:lnTo>
                              <a:pt x="348" y="430"/>
                            </a:lnTo>
                            <a:lnTo>
                              <a:pt x="357" y="335"/>
                            </a:lnTo>
                            <a:lnTo>
                              <a:pt x="379" y="240"/>
                            </a:lnTo>
                            <a:lnTo>
                              <a:pt x="395" y="145"/>
                            </a:lnTo>
                            <a:lnTo>
                              <a:pt x="412" y="68"/>
                            </a:lnTo>
                            <a:lnTo>
                              <a:pt x="425" y="0"/>
                            </a:lnTo>
                            <a:lnTo>
                              <a:pt x="369" y="21"/>
                            </a:lnTo>
                            <a:lnTo>
                              <a:pt x="315" y="60"/>
                            </a:lnTo>
                            <a:lnTo>
                              <a:pt x="269" y="111"/>
                            </a:lnTo>
                            <a:lnTo>
                              <a:pt x="231" y="171"/>
                            </a:lnTo>
                            <a:lnTo>
                              <a:pt x="210" y="240"/>
                            </a:lnTo>
                            <a:lnTo>
                              <a:pt x="206" y="323"/>
                            </a:lnTo>
                            <a:lnTo>
                              <a:pt x="147" y="383"/>
                            </a:lnTo>
                            <a:lnTo>
                              <a:pt x="96" y="464"/>
                            </a:lnTo>
                            <a:lnTo>
                              <a:pt x="50" y="572"/>
                            </a:lnTo>
                            <a:lnTo>
                              <a:pt x="25" y="709"/>
                            </a:lnTo>
                            <a:lnTo>
                              <a:pt x="8" y="856"/>
                            </a:lnTo>
                            <a:lnTo>
                              <a:pt x="0" y="972"/>
                            </a:lnTo>
                            <a:lnTo>
                              <a:pt x="50" y="980"/>
                            </a:lnTo>
                            <a:lnTo>
                              <a:pt x="425" y="653"/>
                            </a:lnTo>
                            <a:lnTo>
                              <a:pt x="504" y="533"/>
                            </a:lnTo>
                            <a:close/>
                          </a:path>
                        </a:pathLst>
                      </a:custGeom>
                      <a:solidFill>
                        <a:srgbClr val="f4f4f4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278" name=""/>
                  <p:cNvGrpSpPr/>
                  <p:nvPr/>
                </p:nvGrpSpPr>
                <p:grpSpPr>
                  <a:xfrm>
                    <a:off x="7964640" y="3033720"/>
                    <a:ext cx="1173600" cy="1913400"/>
                    <a:chOff x="7964640" y="3033720"/>
                    <a:chExt cx="1173600" cy="1913400"/>
                  </a:xfrm>
                </p:grpSpPr>
                <p:sp>
                  <p:nvSpPr>
                    <p:cNvPr id="1279" name=""/>
                    <p:cNvSpPr/>
                    <p:nvPr/>
                  </p:nvSpPr>
                  <p:spPr>
                    <a:xfrm>
                      <a:off x="7964640" y="3033720"/>
                      <a:ext cx="1173600" cy="19134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3260" h="5315">
                          <a:moveTo>
                            <a:pt x="209" y="30"/>
                          </a:moveTo>
                          <a:lnTo>
                            <a:pt x="314" y="478"/>
                          </a:lnTo>
                          <a:lnTo>
                            <a:pt x="328" y="653"/>
                          </a:lnTo>
                          <a:lnTo>
                            <a:pt x="284" y="1149"/>
                          </a:lnTo>
                          <a:lnTo>
                            <a:pt x="166" y="1334"/>
                          </a:lnTo>
                          <a:lnTo>
                            <a:pt x="104" y="1545"/>
                          </a:lnTo>
                          <a:lnTo>
                            <a:pt x="87" y="1519"/>
                          </a:lnTo>
                          <a:lnTo>
                            <a:pt x="0" y="1795"/>
                          </a:lnTo>
                          <a:lnTo>
                            <a:pt x="65" y="2379"/>
                          </a:lnTo>
                          <a:lnTo>
                            <a:pt x="87" y="3024"/>
                          </a:lnTo>
                          <a:lnTo>
                            <a:pt x="65" y="3230"/>
                          </a:lnTo>
                          <a:lnTo>
                            <a:pt x="69" y="3471"/>
                          </a:lnTo>
                          <a:lnTo>
                            <a:pt x="96" y="3717"/>
                          </a:lnTo>
                          <a:lnTo>
                            <a:pt x="209" y="4262"/>
                          </a:lnTo>
                          <a:lnTo>
                            <a:pt x="380" y="4517"/>
                          </a:lnTo>
                          <a:lnTo>
                            <a:pt x="524" y="4635"/>
                          </a:lnTo>
                          <a:lnTo>
                            <a:pt x="494" y="4947"/>
                          </a:lnTo>
                          <a:lnTo>
                            <a:pt x="752" y="5087"/>
                          </a:lnTo>
                          <a:lnTo>
                            <a:pt x="1063" y="5175"/>
                          </a:lnTo>
                          <a:lnTo>
                            <a:pt x="1435" y="5118"/>
                          </a:lnTo>
                          <a:lnTo>
                            <a:pt x="1610" y="5030"/>
                          </a:lnTo>
                          <a:lnTo>
                            <a:pt x="1663" y="5201"/>
                          </a:lnTo>
                          <a:lnTo>
                            <a:pt x="2061" y="5232"/>
                          </a:lnTo>
                          <a:lnTo>
                            <a:pt x="2547" y="5315"/>
                          </a:lnTo>
                          <a:lnTo>
                            <a:pt x="2976" y="5232"/>
                          </a:lnTo>
                          <a:lnTo>
                            <a:pt x="3260" y="5061"/>
                          </a:lnTo>
                          <a:lnTo>
                            <a:pt x="3260" y="2366"/>
                          </a:lnTo>
                          <a:lnTo>
                            <a:pt x="3077" y="2146"/>
                          </a:lnTo>
                          <a:lnTo>
                            <a:pt x="2945" y="1957"/>
                          </a:lnTo>
                          <a:lnTo>
                            <a:pt x="2714" y="1549"/>
                          </a:lnTo>
                          <a:lnTo>
                            <a:pt x="2657" y="1330"/>
                          </a:lnTo>
                          <a:lnTo>
                            <a:pt x="2574" y="1092"/>
                          </a:lnTo>
                          <a:lnTo>
                            <a:pt x="2447" y="855"/>
                          </a:lnTo>
                          <a:lnTo>
                            <a:pt x="2310" y="653"/>
                          </a:lnTo>
                          <a:lnTo>
                            <a:pt x="2126" y="447"/>
                          </a:lnTo>
                          <a:lnTo>
                            <a:pt x="1978" y="320"/>
                          </a:lnTo>
                          <a:lnTo>
                            <a:pt x="1803" y="206"/>
                          </a:lnTo>
                          <a:lnTo>
                            <a:pt x="1636" y="118"/>
                          </a:lnTo>
                          <a:lnTo>
                            <a:pt x="1391" y="48"/>
                          </a:lnTo>
                          <a:lnTo>
                            <a:pt x="1155" y="4"/>
                          </a:lnTo>
                          <a:lnTo>
                            <a:pt x="932" y="0"/>
                          </a:lnTo>
                          <a:lnTo>
                            <a:pt x="721" y="4"/>
                          </a:lnTo>
                          <a:lnTo>
                            <a:pt x="209" y="30"/>
                          </a:lnTo>
                          <a:close/>
                        </a:path>
                      </a:pathLst>
                    </a:custGeom>
                    <a:solidFill>
                      <a:srgbClr val="9f9fb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280" name=""/>
                    <p:cNvGrpSpPr/>
                    <p:nvPr/>
                  </p:nvGrpSpPr>
                  <p:grpSpPr>
                    <a:xfrm>
                      <a:off x="7967520" y="3044880"/>
                      <a:ext cx="1167480" cy="1860840"/>
                      <a:chOff x="7967520" y="3044880"/>
                      <a:chExt cx="1167480" cy="1860840"/>
                    </a:xfrm>
                  </p:grpSpPr>
                  <p:sp>
                    <p:nvSpPr>
                      <p:cNvPr id="1281" name=""/>
                      <p:cNvSpPr/>
                      <p:nvPr/>
                    </p:nvSpPr>
                    <p:spPr>
                      <a:xfrm>
                        <a:off x="8526600" y="4260960"/>
                        <a:ext cx="268560" cy="56700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46" h="1575">
                            <a:moveTo>
                              <a:pt x="601" y="147"/>
                            </a:moveTo>
                            <a:lnTo>
                              <a:pt x="392" y="342"/>
                            </a:lnTo>
                            <a:lnTo>
                              <a:pt x="157" y="637"/>
                            </a:lnTo>
                            <a:lnTo>
                              <a:pt x="170" y="767"/>
                            </a:lnTo>
                            <a:lnTo>
                              <a:pt x="17" y="1089"/>
                            </a:lnTo>
                            <a:lnTo>
                              <a:pt x="0" y="1436"/>
                            </a:lnTo>
                            <a:lnTo>
                              <a:pt x="55" y="1575"/>
                            </a:lnTo>
                            <a:lnTo>
                              <a:pt x="63" y="1458"/>
                            </a:lnTo>
                            <a:lnTo>
                              <a:pt x="68" y="1354"/>
                            </a:lnTo>
                            <a:lnTo>
                              <a:pt x="102" y="1245"/>
                            </a:lnTo>
                            <a:lnTo>
                              <a:pt x="132" y="1137"/>
                            </a:lnTo>
                            <a:lnTo>
                              <a:pt x="140" y="1080"/>
                            </a:lnTo>
                            <a:lnTo>
                              <a:pt x="200" y="1028"/>
                            </a:lnTo>
                            <a:lnTo>
                              <a:pt x="204" y="946"/>
                            </a:lnTo>
                            <a:lnTo>
                              <a:pt x="238" y="864"/>
                            </a:lnTo>
                            <a:lnTo>
                              <a:pt x="285" y="790"/>
                            </a:lnTo>
                            <a:lnTo>
                              <a:pt x="344" y="741"/>
                            </a:lnTo>
                            <a:lnTo>
                              <a:pt x="323" y="676"/>
                            </a:lnTo>
                            <a:lnTo>
                              <a:pt x="409" y="607"/>
                            </a:lnTo>
                            <a:lnTo>
                              <a:pt x="456" y="516"/>
                            </a:lnTo>
                            <a:lnTo>
                              <a:pt x="490" y="429"/>
                            </a:lnTo>
                            <a:lnTo>
                              <a:pt x="571" y="381"/>
                            </a:lnTo>
                            <a:lnTo>
                              <a:pt x="648" y="312"/>
                            </a:lnTo>
                            <a:lnTo>
                              <a:pt x="699" y="221"/>
                            </a:lnTo>
                            <a:lnTo>
                              <a:pt x="737" y="108"/>
                            </a:lnTo>
                            <a:lnTo>
                              <a:pt x="746" y="0"/>
                            </a:lnTo>
                            <a:lnTo>
                              <a:pt x="601" y="147"/>
                            </a:lnTo>
                            <a:close/>
                          </a:path>
                        </a:pathLst>
                      </a:custGeom>
                      <a:solidFill>
                        <a:srgbClr val="7f7f9f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82" name=""/>
                      <p:cNvSpPr/>
                      <p:nvPr/>
                    </p:nvSpPr>
                    <p:spPr>
                      <a:xfrm>
                        <a:off x="8682120" y="3594240"/>
                        <a:ext cx="317880" cy="59868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883" h="1663">
                            <a:moveTo>
                              <a:pt x="0" y="1298"/>
                            </a:moveTo>
                            <a:lnTo>
                              <a:pt x="304" y="934"/>
                            </a:lnTo>
                            <a:lnTo>
                              <a:pt x="386" y="742"/>
                            </a:lnTo>
                            <a:lnTo>
                              <a:pt x="416" y="590"/>
                            </a:lnTo>
                            <a:lnTo>
                              <a:pt x="471" y="373"/>
                            </a:lnTo>
                            <a:lnTo>
                              <a:pt x="497" y="169"/>
                            </a:lnTo>
                            <a:lnTo>
                              <a:pt x="501" y="0"/>
                            </a:lnTo>
                            <a:lnTo>
                              <a:pt x="587" y="134"/>
                            </a:lnTo>
                            <a:lnTo>
                              <a:pt x="643" y="277"/>
                            </a:lnTo>
                            <a:lnTo>
                              <a:pt x="660" y="412"/>
                            </a:lnTo>
                            <a:lnTo>
                              <a:pt x="669" y="533"/>
                            </a:lnTo>
                            <a:lnTo>
                              <a:pt x="768" y="551"/>
                            </a:lnTo>
                            <a:lnTo>
                              <a:pt x="832" y="585"/>
                            </a:lnTo>
                            <a:lnTo>
                              <a:pt x="866" y="651"/>
                            </a:lnTo>
                            <a:lnTo>
                              <a:pt x="883" y="724"/>
                            </a:lnTo>
                            <a:lnTo>
                              <a:pt x="875" y="807"/>
                            </a:lnTo>
                            <a:lnTo>
                              <a:pt x="828" y="903"/>
                            </a:lnTo>
                            <a:lnTo>
                              <a:pt x="725" y="1051"/>
                            </a:lnTo>
                            <a:lnTo>
                              <a:pt x="557" y="1242"/>
                            </a:lnTo>
                            <a:lnTo>
                              <a:pt x="162" y="1663"/>
                            </a:lnTo>
                            <a:lnTo>
                              <a:pt x="0" y="1298"/>
                            </a:lnTo>
                            <a:close/>
                          </a:path>
                        </a:pathLst>
                      </a:custGeom>
                      <a:solidFill>
                        <a:srgbClr val="7f7f9f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83" name=""/>
                      <p:cNvSpPr/>
                      <p:nvPr/>
                    </p:nvSpPr>
                    <p:spPr>
                      <a:xfrm>
                        <a:off x="8856720" y="4043520"/>
                        <a:ext cx="278280" cy="31464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73" h="874">
                            <a:moveTo>
                              <a:pt x="59" y="0"/>
                            </a:moveTo>
                            <a:lnTo>
                              <a:pt x="773" y="737"/>
                            </a:lnTo>
                            <a:lnTo>
                              <a:pt x="773" y="874"/>
                            </a:lnTo>
                            <a:lnTo>
                              <a:pt x="0" y="42"/>
                            </a:lnTo>
                            <a:lnTo>
                              <a:pt x="59" y="0"/>
                            </a:lnTo>
                            <a:close/>
                          </a:path>
                        </a:pathLst>
                      </a:custGeom>
                      <a:solidFill>
                        <a:srgbClr val="7f7f9f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84" name=""/>
                      <p:cNvSpPr/>
                      <p:nvPr/>
                    </p:nvSpPr>
                    <p:spPr>
                      <a:xfrm>
                        <a:off x="7985160" y="3062160"/>
                        <a:ext cx="419400" cy="67680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165" h="1880">
                            <a:moveTo>
                              <a:pt x="94" y="1880"/>
                            </a:moveTo>
                            <a:lnTo>
                              <a:pt x="112" y="1676"/>
                            </a:lnTo>
                            <a:lnTo>
                              <a:pt x="150" y="1480"/>
                            </a:lnTo>
                            <a:lnTo>
                              <a:pt x="194" y="1344"/>
                            </a:lnTo>
                            <a:lnTo>
                              <a:pt x="250" y="1235"/>
                            </a:lnTo>
                            <a:lnTo>
                              <a:pt x="353" y="1092"/>
                            </a:lnTo>
                            <a:lnTo>
                              <a:pt x="482" y="979"/>
                            </a:lnTo>
                            <a:lnTo>
                              <a:pt x="613" y="883"/>
                            </a:lnTo>
                            <a:lnTo>
                              <a:pt x="772" y="766"/>
                            </a:lnTo>
                            <a:lnTo>
                              <a:pt x="871" y="644"/>
                            </a:lnTo>
                            <a:lnTo>
                              <a:pt x="940" y="522"/>
                            </a:lnTo>
                            <a:lnTo>
                              <a:pt x="923" y="391"/>
                            </a:lnTo>
                            <a:lnTo>
                              <a:pt x="953" y="256"/>
                            </a:lnTo>
                            <a:lnTo>
                              <a:pt x="1022" y="126"/>
                            </a:lnTo>
                            <a:lnTo>
                              <a:pt x="1070" y="65"/>
                            </a:lnTo>
                            <a:lnTo>
                              <a:pt x="1165" y="8"/>
                            </a:lnTo>
                            <a:lnTo>
                              <a:pt x="1100" y="0"/>
                            </a:lnTo>
                            <a:lnTo>
                              <a:pt x="1048" y="8"/>
                            </a:lnTo>
                            <a:lnTo>
                              <a:pt x="945" y="43"/>
                            </a:lnTo>
                            <a:lnTo>
                              <a:pt x="850" y="104"/>
                            </a:lnTo>
                            <a:lnTo>
                              <a:pt x="781" y="191"/>
                            </a:lnTo>
                            <a:lnTo>
                              <a:pt x="721" y="313"/>
                            </a:lnTo>
                            <a:lnTo>
                              <a:pt x="626" y="439"/>
                            </a:lnTo>
                            <a:lnTo>
                              <a:pt x="534" y="548"/>
                            </a:lnTo>
                            <a:lnTo>
                              <a:pt x="409" y="622"/>
                            </a:lnTo>
                            <a:lnTo>
                              <a:pt x="263" y="675"/>
                            </a:lnTo>
                            <a:lnTo>
                              <a:pt x="245" y="875"/>
                            </a:lnTo>
                            <a:lnTo>
                              <a:pt x="228" y="1057"/>
                            </a:lnTo>
                            <a:lnTo>
                              <a:pt x="107" y="1231"/>
                            </a:lnTo>
                            <a:lnTo>
                              <a:pt x="43" y="1370"/>
                            </a:lnTo>
                            <a:lnTo>
                              <a:pt x="0" y="1571"/>
                            </a:lnTo>
                            <a:lnTo>
                              <a:pt x="30" y="1719"/>
                            </a:lnTo>
                            <a:lnTo>
                              <a:pt x="94" y="1880"/>
                            </a:lnTo>
                            <a:close/>
                          </a:path>
                        </a:pathLst>
                      </a:custGeom>
                      <a:solidFill>
                        <a:srgbClr val="5f5f7f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85" name=""/>
                      <p:cNvSpPr/>
                      <p:nvPr/>
                    </p:nvSpPr>
                    <p:spPr>
                      <a:xfrm>
                        <a:off x="7967520" y="3583080"/>
                        <a:ext cx="206640" cy="113688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574" h="3158">
                            <a:moveTo>
                              <a:pt x="574" y="3158"/>
                            </a:moveTo>
                            <a:lnTo>
                              <a:pt x="498" y="2987"/>
                            </a:lnTo>
                            <a:lnTo>
                              <a:pt x="456" y="2834"/>
                            </a:lnTo>
                            <a:lnTo>
                              <a:pt x="439" y="2707"/>
                            </a:lnTo>
                            <a:lnTo>
                              <a:pt x="367" y="2611"/>
                            </a:lnTo>
                            <a:lnTo>
                              <a:pt x="329" y="2533"/>
                            </a:lnTo>
                            <a:lnTo>
                              <a:pt x="300" y="2406"/>
                            </a:lnTo>
                            <a:lnTo>
                              <a:pt x="308" y="2301"/>
                            </a:lnTo>
                            <a:lnTo>
                              <a:pt x="329" y="2222"/>
                            </a:lnTo>
                            <a:lnTo>
                              <a:pt x="273" y="2078"/>
                            </a:lnTo>
                            <a:lnTo>
                              <a:pt x="252" y="1920"/>
                            </a:lnTo>
                            <a:lnTo>
                              <a:pt x="261" y="1772"/>
                            </a:lnTo>
                            <a:lnTo>
                              <a:pt x="304" y="1623"/>
                            </a:lnTo>
                            <a:lnTo>
                              <a:pt x="367" y="1584"/>
                            </a:lnTo>
                            <a:lnTo>
                              <a:pt x="414" y="1534"/>
                            </a:lnTo>
                            <a:lnTo>
                              <a:pt x="439" y="1425"/>
                            </a:lnTo>
                            <a:lnTo>
                              <a:pt x="435" y="1311"/>
                            </a:lnTo>
                            <a:lnTo>
                              <a:pt x="414" y="1198"/>
                            </a:lnTo>
                            <a:lnTo>
                              <a:pt x="468" y="1084"/>
                            </a:lnTo>
                            <a:lnTo>
                              <a:pt x="498" y="997"/>
                            </a:lnTo>
                            <a:lnTo>
                              <a:pt x="468" y="883"/>
                            </a:lnTo>
                            <a:lnTo>
                              <a:pt x="414" y="769"/>
                            </a:lnTo>
                            <a:lnTo>
                              <a:pt x="359" y="682"/>
                            </a:lnTo>
                            <a:lnTo>
                              <a:pt x="393" y="529"/>
                            </a:lnTo>
                            <a:lnTo>
                              <a:pt x="414" y="341"/>
                            </a:lnTo>
                            <a:lnTo>
                              <a:pt x="397" y="223"/>
                            </a:lnTo>
                            <a:lnTo>
                              <a:pt x="409" y="113"/>
                            </a:lnTo>
                            <a:lnTo>
                              <a:pt x="439" y="0"/>
                            </a:lnTo>
                            <a:lnTo>
                              <a:pt x="355" y="26"/>
                            </a:lnTo>
                            <a:lnTo>
                              <a:pt x="286" y="69"/>
                            </a:lnTo>
                            <a:lnTo>
                              <a:pt x="227" y="157"/>
                            </a:lnTo>
                            <a:lnTo>
                              <a:pt x="193" y="258"/>
                            </a:lnTo>
                            <a:lnTo>
                              <a:pt x="185" y="179"/>
                            </a:lnTo>
                            <a:lnTo>
                              <a:pt x="155" y="109"/>
                            </a:lnTo>
                            <a:lnTo>
                              <a:pt x="113" y="48"/>
                            </a:lnTo>
                            <a:lnTo>
                              <a:pt x="75" y="4"/>
                            </a:lnTo>
                            <a:lnTo>
                              <a:pt x="46" y="83"/>
                            </a:lnTo>
                            <a:lnTo>
                              <a:pt x="12" y="196"/>
                            </a:lnTo>
                            <a:lnTo>
                              <a:pt x="0" y="279"/>
                            </a:lnTo>
                            <a:lnTo>
                              <a:pt x="71" y="428"/>
                            </a:lnTo>
                            <a:lnTo>
                              <a:pt x="109" y="599"/>
                            </a:lnTo>
                            <a:lnTo>
                              <a:pt x="118" y="717"/>
                            </a:lnTo>
                            <a:lnTo>
                              <a:pt x="139" y="857"/>
                            </a:lnTo>
                            <a:lnTo>
                              <a:pt x="168" y="983"/>
                            </a:lnTo>
                            <a:lnTo>
                              <a:pt x="219" y="1141"/>
                            </a:lnTo>
                            <a:lnTo>
                              <a:pt x="231" y="1255"/>
                            </a:lnTo>
                            <a:lnTo>
                              <a:pt x="219" y="1368"/>
                            </a:lnTo>
                            <a:lnTo>
                              <a:pt x="164" y="1623"/>
                            </a:lnTo>
                            <a:lnTo>
                              <a:pt x="139" y="1798"/>
                            </a:lnTo>
                            <a:lnTo>
                              <a:pt x="126" y="1999"/>
                            </a:lnTo>
                            <a:lnTo>
                              <a:pt x="151" y="2156"/>
                            </a:lnTo>
                            <a:lnTo>
                              <a:pt x="193" y="2336"/>
                            </a:lnTo>
                            <a:lnTo>
                              <a:pt x="151" y="2524"/>
                            </a:lnTo>
                            <a:lnTo>
                              <a:pt x="164" y="2659"/>
                            </a:lnTo>
                            <a:lnTo>
                              <a:pt x="202" y="2777"/>
                            </a:lnTo>
                            <a:lnTo>
                              <a:pt x="265" y="2882"/>
                            </a:lnTo>
                            <a:lnTo>
                              <a:pt x="346" y="2983"/>
                            </a:lnTo>
                            <a:lnTo>
                              <a:pt x="489" y="3105"/>
                            </a:lnTo>
                            <a:lnTo>
                              <a:pt x="574" y="3158"/>
                            </a:lnTo>
                            <a:close/>
                          </a:path>
                        </a:pathLst>
                      </a:custGeom>
                      <a:solidFill>
                        <a:srgbClr val="5f5f7f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86" name=""/>
                      <p:cNvSpPr/>
                      <p:nvPr/>
                    </p:nvSpPr>
                    <p:spPr>
                      <a:xfrm>
                        <a:off x="8070840" y="4316400"/>
                        <a:ext cx="487800" cy="13860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355" h="385">
                            <a:moveTo>
                              <a:pt x="0" y="0"/>
                            </a:moveTo>
                            <a:lnTo>
                              <a:pt x="103" y="49"/>
                            </a:lnTo>
                            <a:lnTo>
                              <a:pt x="246" y="112"/>
                            </a:lnTo>
                            <a:lnTo>
                              <a:pt x="394" y="161"/>
                            </a:lnTo>
                            <a:lnTo>
                              <a:pt x="515" y="190"/>
                            </a:lnTo>
                            <a:lnTo>
                              <a:pt x="680" y="219"/>
                            </a:lnTo>
                            <a:lnTo>
                              <a:pt x="827" y="207"/>
                            </a:lnTo>
                            <a:lnTo>
                              <a:pt x="987" y="219"/>
                            </a:lnTo>
                            <a:lnTo>
                              <a:pt x="1126" y="232"/>
                            </a:lnTo>
                            <a:lnTo>
                              <a:pt x="1273" y="269"/>
                            </a:lnTo>
                            <a:lnTo>
                              <a:pt x="1321" y="294"/>
                            </a:lnTo>
                            <a:lnTo>
                              <a:pt x="1355" y="348"/>
                            </a:lnTo>
                            <a:lnTo>
                              <a:pt x="1226" y="373"/>
                            </a:lnTo>
                            <a:lnTo>
                              <a:pt x="1061" y="385"/>
                            </a:lnTo>
                            <a:lnTo>
                              <a:pt x="879" y="377"/>
                            </a:lnTo>
                            <a:lnTo>
                              <a:pt x="684" y="360"/>
                            </a:lnTo>
                            <a:lnTo>
                              <a:pt x="476" y="315"/>
                            </a:lnTo>
                            <a:lnTo>
                              <a:pt x="342" y="269"/>
                            </a:lnTo>
                            <a:lnTo>
                              <a:pt x="203" y="194"/>
                            </a:lnTo>
                            <a:lnTo>
                              <a:pt x="103" y="124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5f5f7f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87" name=""/>
                      <p:cNvSpPr/>
                      <p:nvPr/>
                    </p:nvSpPr>
                    <p:spPr>
                      <a:xfrm>
                        <a:off x="8515440" y="4786200"/>
                        <a:ext cx="619560" cy="9864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721" h="274">
                            <a:moveTo>
                              <a:pt x="0" y="12"/>
                            </a:moveTo>
                            <a:lnTo>
                              <a:pt x="173" y="80"/>
                            </a:lnTo>
                            <a:lnTo>
                              <a:pt x="317" y="120"/>
                            </a:lnTo>
                            <a:lnTo>
                              <a:pt x="470" y="161"/>
                            </a:lnTo>
                            <a:lnTo>
                              <a:pt x="652" y="189"/>
                            </a:lnTo>
                            <a:lnTo>
                              <a:pt x="860" y="206"/>
                            </a:lnTo>
                            <a:lnTo>
                              <a:pt x="1078" y="198"/>
                            </a:lnTo>
                            <a:lnTo>
                              <a:pt x="1225" y="181"/>
                            </a:lnTo>
                            <a:lnTo>
                              <a:pt x="1387" y="145"/>
                            </a:lnTo>
                            <a:lnTo>
                              <a:pt x="1495" y="104"/>
                            </a:lnTo>
                            <a:lnTo>
                              <a:pt x="1604" y="60"/>
                            </a:lnTo>
                            <a:lnTo>
                              <a:pt x="1721" y="0"/>
                            </a:lnTo>
                            <a:lnTo>
                              <a:pt x="1678" y="64"/>
                            </a:lnTo>
                            <a:lnTo>
                              <a:pt x="1574" y="145"/>
                            </a:lnTo>
                            <a:lnTo>
                              <a:pt x="1443" y="198"/>
                            </a:lnTo>
                            <a:lnTo>
                              <a:pt x="1296" y="234"/>
                            </a:lnTo>
                            <a:lnTo>
                              <a:pt x="1134" y="258"/>
                            </a:lnTo>
                            <a:lnTo>
                              <a:pt x="973" y="270"/>
                            </a:lnTo>
                            <a:lnTo>
                              <a:pt x="821" y="274"/>
                            </a:lnTo>
                            <a:lnTo>
                              <a:pt x="665" y="262"/>
                            </a:lnTo>
                            <a:lnTo>
                              <a:pt x="517" y="234"/>
                            </a:lnTo>
                            <a:lnTo>
                              <a:pt x="386" y="202"/>
                            </a:lnTo>
                            <a:lnTo>
                              <a:pt x="238" y="145"/>
                            </a:lnTo>
                            <a:lnTo>
                              <a:pt x="104" y="80"/>
                            </a:lnTo>
                            <a:lnTo>
                              <a:pt x="0" y="12"/>
                            </a:lnTo>
                            <a:close/>
                          </a:path>
                        </a:pathLst>
                      </a:custGeom>
                      <a:solidFill>
                        <a:srgbClr val="5f5f7f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88" name=""/>
                      <p:cNvSpPr/>
                      <p:nvPr/>
                    </p:nvSpPr>
                    <p:spPr>
                      <a:xfrm>
                        <a:off x="8112240" y="4665600"/>
                        <a:ext cx="416160" cy="7164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156" h="199">
                            <a:moveTo>
                              <a:pt x="1156" y="85"/>
                            </a:moveTo>
                            <a:lnTo>
                              <a:pt x="966" y="160"/>
                            </a:lnTo>
                            <a:lnTo>
                              <a:pt x="789" y="195"/>
                            </a:lnTo>
                            <a:lnTo>
                              <a:pt x="617" y="199"/>
                            </a:lnTo>
                            <a:lnTo>
                              <a:pt x="452" y="176"/>
                            </a:lnTo>
                            <a:lnTo>
                              <a:pt x="288" y="133"/>
                            </a:lnTo>
                            <a:lnTo>
                              <a:pt x="155" y="85"/>
                            </a:lnTo>
                            <a:lnTo>
                              <a:pt x="0" y="0"/>
                            </a:lnTo>
                            <a:lnTo>
                              <a:pt x="163" y="46"/>
                            </a:lnTo>
                            <a:lnTo>
                              <a:pt x="284" y="70"/>
                            </a:lnTo>
                            <a:lnTo>
                              <a:pt x="491" y="113"/>
                            </a:lnTo>
                            <a:lnTo>
                              <a:pt x="621" y="125"/>
                            </a:lnTo>
                            <a:lnTo>
                              <a:pt x="789" y="133"/>
                            </a:lnTo>
                            <a:lnTo>
                              <a:pt x="970" y="121"/>
                            </a:lnTo>
                            <a:lnTo>
                              <a:pt x="1156" y="85"/>
                            </a:lnTo>
                            <a:close/>
                          </a:path>
                        </a:pathLst>
                      </a:custGeom>
                      <a:solidFill>
                        <a:srgbClr val="7f7f9f"/>
                      </a:solidFill>
                      <a:ln w="0">
                        <a:noFill/>
                      </a:ln>
                    </p:spPr>
                    <p:txBody>
                      <a:bodyPr lIns="90000" rIns="90000" tIns="26640" bIns="26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89" name=""/>
                      <p:cNvSpPr/>
                      <p:nvPr/>
                    </p:nvSpPr>
                    <p:spPr>
                      <a:xfrm>
                        <a:off x="8091360" y="4460760"/>
                        <a:ext cx="457560" cy="20844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271" h="579">
                            <a:moveTo>
                              <a:pt x="1214" y="59"/>
                            </a:moveTo>
                            <a:lnTo>
                              <a:pt x="1089" y="88"/>
                            </a:lnTo>
                            <a:lnTo>
                              <a:pt x="959" y="109"/>
                            </a:lnTo>
                            <a:lnTo>
                              <a:pt x="769" y="130"/>
                            </a:lnTo>
                            <a:lnTo>
                              <a:pt x="591" y="126"/>
                            </a:lnTo>
                            <a:lnTo>
                              <a:pt x="414" y="105"/>
                            </a:lnTo>
                            <a:lnTo>
                              <a:pt x="254" y="80"/>
                            </a:lnTo>
                            <a:lnTo>
                              <a:pt x="112" y="46"/>
                            </a:lnTo>
                            <a:lnTo>
                              <a:pt x="0" y="0"/>
                            </a:lnTo>
                            <a:lnTo>
                              <a:pt x="51" y="105"/>
                            </a:lnTo>
                            <a:lnTo>
                              <a:pt x="112" y="220"/>
                            </a:lnTo>
                            <a:lnTo>
                              <a:pt x="185" y="325"/>
                            </a:lnTo>
                            <a:lnTo>
                              <a:pt x="285" y="440"/>
                            </a:lnTo>
                            <a:lnTo>
                              <a:pt x="406" y="524"/>
                            </a:lnTo>
                            <a:lnTo>
                              <a:pt x="561" y="579"/>
                            </a:lnTo>
                            <a:lnTo>
                              <a:pt x="679" y="562"/>
                            </a:lnTo>
                            <a:lnTo>
                              <a:pt x="808" y="545"/>
                            </a:lnTo>
                            <a:lnTo>
                              <a:pt x="929" y="550"/>
                            </a:lnTo>
                            <a:lnTo>
                              <a:pt x="1050" y="524"/>
                            </a:lnTo>
                            <a:lnTo>
                              <a:pt x="1145" y="491"/>
                            </a:lnTo>
                            <a:lnTo>
                              <a:pt x="1271" y="418"/>
                            </a:lnTo>
                            <a:lnTo>
                              <a:pt x="1102" y="393"/>
                            </a:lnTo>
                            <a:lnTo>
                              <a:pt x="959" y="388"/>
                            </a:lnTo>
                            <a:lnTo>
                              <a:pt x="774" y="405"/>
                            </a:lnTo>
                            <a:lnTo>
                              <a:pt x="591" y="440"/>
                            </a:lnTo>
                            <a:lnTo>
                              <a:pt x="470" y="321"/>
                            </a:lnTo>
                            <a:lnTo>
                              <a:pt x="336" y="220"/>
                            </a:lnTo>
                            <a:lnTo>
                              <a:pt x="444" y="249"/>
                            </a:lnTo>
                            <a:lnTo>
                              <a:pt x="552" y="270"/>
                            </a:lnTo>
                            <a:lnTo>
                              <a:pt x="700" y="287"/>
                            </a:lnTo>
                            <a:lnTo>
                              <a:pt x="882" y="279"/>
                            </a:lnTo>
                            <a:lnTo>
                              <a:pt x="1037" y="253"/>
                            </a:lnTo>
                            <a:lnTo>
                              <a:pt x="1154" y="220"/>
                            </a:lnTo>
                            <a:lnTo>
                              <a:pt x="1171" y="139"/>
                            </a:lnTo>
                            <a:lnTo>
                              <a:pt x="1214" y="59"/>
                            </a:lnTo>
                            <a:close/>
                          </a:path>
                        </a:pathLst>
                      </a:custGeom>
                      <a:solidFill>
                        <a:srgbClr val="7f7f9f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90" name=""/>
                      <p:cNvSpPr/>
                      <p:nvPr/>
                    </p:nvSpPr>
                    <p:spPr>
                      <a:xfrm>
                        <a:off x="8091360" y="3654360"/>
                        <a:ext cx="673560" cy="6847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871" h="1902">
                            <a:moveTo>
                              <a:pt x="0" y="1563"/>
                            </a:moveTo>
                            <a:lnTo>
                              <a:pt x="156" y="1624"/>
                            </a:lnTo>
                            <a:lnTo>
                              <a:pt x="313" y="1676"/>
                            </a:lnTo>
                            <a:lnTo>
                              <a:pt x="452" y="1711"/>
                            </a:lnTo>
                            <a:lnTo>
                              <a:pt x="627" y="1728"/>
                            </a:lnTo>
                            <a:lnTo>
                              <a:pt x="583" y="1763"/>
                            </a:lnTo>
                            <a:lnTo>
                              <a:pt x="522" y="1806"/>
                            </a:lnTo>
                            <a:lnTo>
                              <a:pt x="452" y="1841"/>
                            </a:lnTo>
                            <a:lnTo>
                              <a:pt x="561" y="1876"/>
                            </a:lnTo>
                            <a:lnTo>
                              <a:pt x="701" y="1902"/>
                            </a:lnTo>
                            <a:lnTo>
                              <a:pt x="853" y="1885"/>
                            </a:lnTo>
                            <a:lnTo>
                              <a:pt x="996" y="1841"/>
                            </a:lnTo>
                            <a:lnTo>
                              <a:pt x="1161" y="1759"/>
                            </a:lnTo>
                            <a:lnTo>
                              <a:pt x="1480" y="1728"/>
                            </a:lnTo>
                            <a:lnTo>
                              <a:pt x="1728" y="1728"/>
                            </a:lnTo>
                            <a:lnTo>
                              <a:pt x="1871" y="1728"/>
                            </a:lnTo>
                            <a:lnTo>
                              <a:pt x="1871" y="1532"/>
                            </a:lnTo>
                            <a:lnTo>
                              <a:pt x="1815" y="1223"/>
                            </a:lnTo>
                            <a:lnTo>
                              <a:pt x="1841" y="683"/>
                            </a:lnTo>
                            <a:lnTo>
                              <a:pt x="1758" y="256"/>
                            </a:lnTo>
                            <a:lnTo>
                              <a:pt x="1684" y="126"/>
                            </a:lnTo>
                            <a:lnTo>
                              <a:pt x="1593" y="0"/>
                            </a:lnTo>
                            <a:lnTo>
                              <a:pt x="1558" y="200"/>
                            </a:lnTo>
                            <a:lnTo>
                              <a:pt x="1523" y="461"/>
                            </a:lnTo>
                            <a:lnTo>
                              <a:pt x="1515" y="670"/>
                            </a:lnTo>
                            <a:lnTo>
                              <a:pt x="1536" y="909"/>
                            </a:lnTo>
                            <a:lnTo>
                              <a:pt x="1419" y="1357"/>
                            </a:lnTo>
                            <a:lnTo>
                              <a:pt x="1305" y="1532"/>
                            </a:lnTo>
                            <a:lnTo>
                              <a:pt x="1179" y="1541"/>
                            </a:lnTo>
                            <a:lnTo>
                              <a:pt x="1061" y="1545"/>
                            </a:lnTo>
                            <a:lnTo>
                              <a:pt x="909" y="1580"/>
                            </a:lnTo>
                            <a:lnTo>
                              <a:pt x="770" y="1615"/>
                            </a:lnTo>
                            <a:lnTo>
                              <a:pt x="618" y="1554"/>
                            </a:lnTo>
                            <a:lnTo>
                              <a:pt x="483" y="1532"/>
                            </a:lnTo>
                            <a:lnTo>
                              <a:pt x="300" y="1519"/>
                            </a:lnTo>
                            <a:lnTo>
                              <a:pt x="156" y="1537"/>
                            </a:lnTo>
                            <a:lnTo>
                              <a:pt x="0" y="1563"/>
                            </a:lnTo>
                            <a:close/>
                          </a:path>
                        </a:pathLst>
                      </a:custGeom>
                      <a:solidFill>
                        <a:srgbClr val="7f7f9f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91" name=""/>
                      <p:cNvSpPr/>
                      <p:nvPr/>
                    </p:nvSpPr>
                    <p:spPr>
                      <a:xfrm>
                        <a:off x="8123400" y="3541680"/>
                        <a:ext cx="465480" cy="57996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293" h="1611">
                            <a:moveTo>
                              <a:pt x="1284" y="0"/>
                            </a:moveTo>
                            <a:lnTo>
                              <a:pt x="1293" y="151"/>
                            </a:lnTo>
                            <a:lnTo>
                              <a:pt x="1280" y="277"/>
                            </a:lnTo>
                            <a:lnTo>
                              <a:pt x="1245" y="439"/>
                            </a:lnTo>
                            <a:lnTo>
                              <a:pt x="1202" y="595"/>
                            </a:lnTo>
                            <a:lnTo>
                              <a:pt x="1128" y="764"/>
                            </a:lnTo>
                            <a:lnTo>
                              <a:pt x="1007" y="916"/>
                            </a:lnTo>
                            <a:lnTo>
                              <a:pt x="865" y="1024"/>
                            </a:lnTo>
                            <a:lnTo>
                              <a:pt x="688" y="1150"/>
                            </a:lnTo>
                            <a:lnTo>
                              <a:pt x="505" y="1247"/>
                            </a:lnTo>
                            <a:lnTo>
                              <a:pt x="401" y="1355"/>
                            </a:lnTo>
                            <a:lnTo>
                              <a:pt x="276" y="1446"/>
                            </a:lnTo>
                            <a:lnTo>
                              <a:pt x="151" y="1529"/>
                            </a:lnTo>
                            <a:lnTo>
                              <a:pt x="0" y="1611"/>
                            </a:lnTo>
                            <a:lnTo>
                              <a:pt x="77" y="1481"/>
                            </a:lnTo>
                            <a:lnTo>
                              <a:pt x="181" y="1346"/>
                            </a:lnTo>
                            <a:lnTo>
                              <a:pt x="285" y="1260"/>
                            </a:lnTo>
                            <a:lnTo>
                              <a:pt x="384" y="1133"/>
                            </a:lnTo>
                            <a:lnTo>
                              <a:pt x="505" y="1016"/>
                            </a:lnTo>
                            <a:lnTo>
                              <a:pt x="626" y="920"/>
                            </a:lnTo>
                            <a:lnTo>
                              <a:pt x="722" y="812"/>
                            </a:lnTo>
                            <a:lnTo>
                              <a:pt x="791" y="708"/>
                            </a:lnTo>
                            <a:lnTo>
                              <a:pt x="912" y="638"/>
                            </a:lnTo>
                            <a:lnTo>
                              <a:pt x="1016" y="564"/>
                            </a:lnTo>
                            <a:lnTo>
                              <a:pt x="1098" y="443"/>
                            </a:lnTo>
                            <a:lnTo>
                              <a:pt x="1176" y="295"/>
                            </a:lnTo>
                            <a:lnTo>
                              <a:pt x="1228" y="164"/>
                            </a:lnTo>
                            <a:lnTo>
                              <a:pt x="1284" y="0"/>
                            </a:lnTo>
                            <a:close/>
                          </a:path>
                        </a:pathLst>
                      </a:custGeom>
                      <a:solidFill>
                        <a:srgbClr val="7f7f9f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92" name=""/>
                      <p:cNvSpPr/>
                      <p:nvPr/>
                    </p:nvSpPr>
                    <p:spPr>
                      <a:xfrm>
                        <a:off x="8164440" y="3460680"/>
                        <a:ext cx="321120" cy="547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892" h="1522">
                            <a:moveTo>
                              <a:pt x="25" y="1522"/>
                            </a:moveTo>
                            <a:lnTo>
                              <a:pt x="68" y="1409"/>
                            </a:lnTo>
                            <a:lnTo>
                              <a:pt x="89" y="1327"/>
                            </a:lnTo>
                            <a:lnTo>
                              <a:pt x="89" y="1236"/>
                            </a:lnTo>
                            <a:lnTo>
                              <a:pt x="162" y="1223"/>
                            </a:lnTo>
                            <a:lnTo>
                              <a:pt x="227" y="1184"/>
                            </a:lnTo>
                            <a:lnTo>
                              <a:pt x="317" y="1062"/>
                            </a:lnTo>
                            <a:lnTo>
                              <a:pt x="399" y="932"/>
                            </a:lnTo>
                            <a:lnTo>
                              <a:pt x="613" y="559"/>
                            </a:lnTo>
                            <a:lnTo>
                              <a:pt x="777" y="351"/>
                            </a:lnTo>
                            <a:lnTo>
                              <a:pt x="854" y="221"/>
                            </a:lnTo>
                            <a:lnTo>
                              <a:pt x="888" y="143"/>
                            </a:lnTo>
                            <a:lnTo>
                              <a:pt x="892" y="73"/>
                            </a:lnTo>
                            <a:lnTo>
                              <a:pt x="862" y="21"/>
                            </a:lnTo>
                            <a:lnTo>
                              <a:pt x="798" y="0"/>
                            </a:lnTo>
                            <a:lnTo>
                              <a:pt x="712" y="21"/>
                            </a:lnTo>
                            <a:lnTo>
                              <a:pt x="643" y="78"/>
                            </a:lnTo>
                            <a:lnTo>
                              <a:pt x="549" y="251"/>
                            </a:lnTo>
                            <a:lnTo>
                              <a:pt x="454" y="442"/>
                            </a:lnTo>
                            <a:lnTo>
                              <a:pt x="343" y="684"/>
                            </a:lnTo>
                            <a:lnTo>
                              <a:pt x="249" y="876"/>
                            </a:lnTo>
                            <a:lnTo>
                              <a:pt x="167" y="1028"/>
                            </a:lnTo>
                            <a:lnTo>
                              <a:pt x="98" y="1114"/>
                            </a:lnTo>
                            <a:lnTo>
                              <a:pt x="0" y="1184"/>
                            </a:lnTo>
                            <a:lnTo>
                              <a:pt x="25" y="1283"/>
                            </a:lnTo>
                            <a:lnTo>
                              <a:pt x="29" y="1379"/>
                            </a:lnTo>
                            <a:lnTo>
                              <a:pt x="25" y="1522"/>
                            </a:lnTo>
                            <a:close/>
                          </a:path>
                        </a:pathLst>
                      </a:custGeom>
                      <a:solidFill>
                        <a:srgbClr val="7f7f9f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93" name=""/>
                      <p:cNvSpPr/>
                      <p:nvPr/>
                    </p:nvSpPr>
                    <p:spPr>
                      <a:xfrm>
                        <a:off x="8879040" y="4048200"/>
                        <a:ext cx="254520" cy="25740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07" h="715">
                            <a:moveTo>
                              <a:pt x="0" y="0"/>
                            </a:moveTo>
                            <a:lnTo>
                              <a:pt x="170" y="165"/>
                            </a:lnTo>
                            <a:lnTo>
                              <a:pt x="264" y="263"/>
                            </a:lnTo>
                            <a:lnTo>
                              <a:pt x="375" y="430"/>
                            </a:lnTo>
                            <a:lnTo>
                              <a:pt x="494" y="549"/>
                            </a:lnTo>
                            <a:lnTo>
                              <a:pt x="707" y="715"/>
                            </a:lnTo>
                            <a:lnTo>
                              <a:pt x="387" y="301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bfbfdf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94" name=""/>
                      <p:cNvSpPr/>
                      <p:nvPr/>
                    </p:nvSpPr>
                    <p:spPr>
                      <a:xfrm>
                        <a:off x="8155080" y="3044880"/>
                        <a:ext cx="38520" cy="18936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07" h="526">
                            <a:moveTo>
                              <a:pt x="0" y="0"/>
                            </a:moveTo>
                            <a:lnTo>
                              <a:pt x="36" y="50"/>
                            </a:lnTo>
                            <a:lnTo>
                              <a:pt x="71" y="147"/>
                            </a:lnTo>
                            <a:lnTo>
                              <a:pt x="97" y="252"/>
                            </a:lnTo>
                            <a:lnTo>
                              <a:pt x="107" y="409"/>
                            </a:lnTo>
                            <a:lnTo>
                              <a:pt x="93" y="526"/>
                            </a:lnTo>
                            <a:lnTo>
                              <a:pt x="68" y="290"/>
                            </a:lnTo>
                            <a:lnTo>
                              <a:pt x="36" y="14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bfbfdf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95" name=""/>
                      <p:cNvSpPr/>
                      <p:nvPr/>
                    </p:nvSpPr>
                    <p:spPr>
                      <a:xfrm>
                        <a:off x="8267760" y="3530520"/>
                        <a:ext cx="538560" cy="86868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496" h="2413">
                            <a:moveTo>
                              <a:pt x="0" y="2299"/>
                            </a:moveTo>
                            <a:lnTo>
                              <a:pt x="194" y="2186"/>
                            </a:lnTo>
                            <a:lnTo>
                              <a:pt x="399" y="2186"/>
                            </a:lnTo>
                            <a:lnTo>
                              <a:pt x="594" y="2216"/>
                            </a:lnTo>
                            <a:lnTo>
                              <a:pt x="637" y="2142"/>
                            </a:lnTo>
                            <a:lnTo>
                              <a:pt x="728" y="2081"/>
                            </a:lnTo>
                            <a:lnTo>
                              <a:pt x="867" y="2046"/>
                            </a:lnTo>
                            <a:lnTo>
                              <a:pt x="993" y="2037"/>
                            </a:lnTo>
                            <a:lnTo>
                              <a:pt x="1128" y="2042"/>
                            </a:lnTo>
                            <a:lnTo>
                              <a:pt x="1271" y="2072"/>
                            </a:lnTo>
                            <a:lnTo>
                              <a:pt x="1353" y="1959"/>
                            </a:lnTo>
                            <a:lnTo>
                              <a:pt x="1332" y="1710"/>
                            </a:lnTo>
                            <a:lnTo>
                              <a:pt x="1323" y="1492"/>
                            </a:lnTo>
                            <a:lnTo>
                              <a:pt x="1332" y="1257"/>
                            </a:lnTo>
                            <a:lnTo>
                              <a:pt x="1349" y="1134"/>
                            </a:lnTo>
                            <a:lnTo>
                              <a:pt x="1345" y="985"/>
                            </a:lnTo>
                            <a:lnTo>
                              <a:pt x="1297" y="767"/>
                            </a:lnTo>
                            <a:lnTo>
                              <a:pt x="1241" y="466"/>
                            </a:lnTo>
                            <a:lnTo>
                              <a:pt x="1215" y="287"/>
                            </a:lnTo>
                            <a:lnTo>
                              <a:pt x="1184" y="0"/>
                            </a:lnTo>
                            <a:lnTo>
                              <a:pt x="1288" y="209"/>
                            </a:lnTo>
                            <a:lnTo>
                              <a:pt x="1353" y="370"/>
                            </a:lnTo>
                            <a:lnTo>
                              <a:pt x="1405" y="331"/>
                            </a:lnTo>
                            <a:lnTo>
                              <a:pt x="1470" y="226"/>
                            </a:lnTo>
                            <a:lnTo>
                              <a:pt x="1479" y="335"/>
                            </a:lnTo>
                            <a:lnTo>
                              <a:pt x="1466" y="510"/>
                            </a:lnTo>
                            <a:lnTo>
                              <a:pt x="1440" y="654"/>
                            </a:lnTo>
                            <a:lnTo>
                              <a:pt x="1431" y="863"/>
                            </a:lnTo>
                            <a:lnTo>
                              <a:pt x="1440" y="1081"/>
                            </a:lnTo>
                            <a:lnTo>
                              <a:pt x="1496" y="1702"/>
                            </a:lnTo>
                            <a:lnTo>
                              <a:pt x="1470" y="2020"/>
                            </a:lnTo>
                            <a:lnTo>
                              <a:pt x="1418" y="2138"/>
                            </a:lnTo>
                            <a:lnTo>
                              <a:pt x="1327" y="2247"/>
                            </a:lnTo>
                            <a:lnTo>
                              <a:pt x="1223" y="2308"/>
                            </a:lnTo>
                            <a:lnTo>
                              <a:pt x="1132" y="2360"/>
                            </a:lnTo>
                            <a:lnTo>
                              <a:pt x="988" y="2395"/>
                            </a:lnTo>
                            <a:lnTo>
                              <a:pt x="850" y="2413"/>
                            </a:lnTo>
                            <a:lnTo>
                              <a:pt x="711" y="2369"/>
                            </a:lnTo>
                            <a:lnTo>
                              <a:pt x="555" y="2334"/>
                            </a:lnTo>
                            <a:lnTo>
                              <a:pt x="368" y="2330"/>
                            </a:lnTo>
                            <a:lnTo>
                              <a:pt x="0" y="2299"/>
                            </a:lnTo>
                            <a:close/>
                          </a:path>
                        </a:pathLst>
                      </a:custGeom>
                      <a:solidFill>
                        <a:srgbClr val="bfbfdf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96" name=""/>
                      <p:cNvSpPr/>
                      <p:nvPr/>
                    </p:nvSpPr>
                    <p:spPr>
                      <a:xfrm>
                        <a:off x="8267760" y="4389480"/>
                        <a:ext cx="405000" cy="51624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125" h="1434">
                            <a:moveTo>
                              <a:pt x="0" y="225"/>
                            </a:moveTo>
                            <a:lnTo>
                              <a:pt x="103" y="203"/>
                            </a:lnTo>
                            <a:lnTo>
                              <a:pt x="172" y="164"/>
                            </a:lnTo>
                            <a:lnTo>
                              <a:pt x="331" y="186"/>
                            </a:lnTo>
                            <a:lnTo>
                              <a:pt x="486" y="194"/>
                            </a:lnTo>
                            <a:lnTo>
                              <a:pt x="647" y="186"/>
                            </a:lnTo>
                            <a:lnTo>
                              <a:pt x="767" y="177"/>
                            </a:lnTo>
                            <a:lnTo>
                              <a:pt x="905" y="142"/>
                            </a:lnTo>
                            <a:lnTo>
                              <a:pt x="1022" y="77"/>
                            </a:lnTo>
                            <a:lnTo>
                              <a:pt x="1125" y="0"/>
                            </a:lnTo>
                            <a:lnTo>
                              <a:pt x="1099" y="95"/>
                            </a:lnTo>
                            <a:lnTo>
                              <a:pt x="1035" y="199"/>
                            </a:lnTo>
                            <a:lnTo>
                              <a:pt x="927" y="277"/>
                            </a:lnTo>
                            <a:lnTo>
                              <a:pt x="957" y="389"/>
                            </a:lnTo>
                            <a:lnTo>
                              <a:pt x="897" y="471"/>
                            </a:lnTo>
                            <a:lnTo>
                              <a:pt x="862" y="549"/>
                            </a:lnTo>
                            <a:lnTo>
                              <a:pt x="841" y="632"/>
                            </a:lnTo>
                            <a:lnTo>
                              <a:pt x="789" y="705"/>
                            </a:lnTo>
                            <a:lnTo>
                              <a:pt x="772" y="832"/>
                            </a:lnTo>
                            <a:lnTo>
                              <a:pt x="759" y="923"/>
                            </a:lnTo>
                            <a:lnTo>
                              <a:pt x="733" y="1061"/>
                            </a:lnTo>
                            <a:lnTo>
                              <a:pt x="763" y="1209"/>
                            </a:lnTo>
                            <a:lnTo>
                              <a:pt x="668" y="1286"/>
                            </a:lnTo>
                            <a:lnTo>
                              <a:pt x="560" y="1351"/>
                            </a:lnTo>
                            <a:lnTo>
                              <a:pt x="435" y="1403"/>
                            </a:lnTo>
                            <a:lnTo>
                              <a:pt x="314" y="1434"/>
                            </a:lnTo>
                            <a:lnTo>
                              <a:pt x="435" y="1343"/>
                            </a:lnTo>
                            <a:lnTo>
                              <a:pt x="538" y="1256"/>
                            </a:lnTo>
                            <a:lnTo>
                              <a:pt x="621" y="1174"/>
                            </a:lnTo>
                            <a:lnTo>
                              <a:pt x="673" y="1070"/>
                            </a:lnTo>
                            <a:lnTo>
                              <a:pt x="569" y="1100"/>
                            </a:lnTo>
                            <a:lnTo>
                              <a:pt x="448" y="1105"/>
                            </a:lnTo>
                            <a:lnTo>
                              <a:pt x="297" y="1092"/>
                            </a:lnTo>
                            <a:lnTo>
                              <a:pt x="142" y="1070"/>
                            </a:lnTo>
                            <a:lnTo>
                              <a:pt x="318" y="1044"/>
                            </a:lnTo>
                            <a:lnTo>
                              <a:pt x="448" y="1009"/>
                            </a:lnTo>
                            <a:lnTo>
                              <a:pt x="551" y="966"/>
                            </a:lnTo>
                            <a:lnTo>
                              <a:pt x="642" y="901"/>
                            </a:lnTo>
                            <a:lnTo>
                              <a:pt x="703" y="819"/>
                            </a:lnTo>
                            <a:lnTo>
                              <a:pt x="574" y="802"/>
                            </a:lnTo>
                            <a:lnTo>
                              <a:pt x="448" y="758"/>
                            </a:lnTo>
                            <a:lnTo>
                              <a:pt x="525" y="684"/>
                            </a:lnTo>
                            <a:lnTo>
                              <a:pt x="625" y="619"/>
                            </a:lnTo>
                            <a:lnTo>
                              <a:pt x="733" y="549"/>
                            </a:lnTo>
                            <a:lnTo>
                              <a:pt x="815" y="506"/>
                            </a:lnTo>
                            <a:lnTo>
                              <a:pt x="746" y="476"/>
                            </a:lnTo>
                            <a:lnTo>
                              <a:pt x="686" y="450"/>
                            </a:lnTo>
                            <a:lnTo>
                              <a:pt x="591" y="419"/>
                            </a:lnTo>
                            <a:lnTo>
                              <a:pt x="686" y="368"/>
                            </a:lnTo>
                            <a:lnTo>
                              <a:pt x="763" y="307"/>
                            </a:lnTo>
                            <a:lnTo>
                              <a:pt x="621" y="311"/>
                            </a:lnTo>
                            <a:lnTo>
                              <a:pt x="495" y="307"/>
                            </a:lnTo>
                            <a:lnTo>
                              <a:pt x="323" y="290"/>
                            </a:lnTo>
                            <a:lnTo>
                              <a:pt x="150" y="259"/>
                            </a:lnTo>
                            <a:lnTo>
                              <a:pt x="0" y="225"/>
                            </a:lnTo>
                            <a:close/>
                          </a:path>
                        </a:pathLst>
                      </a:custGeom>
                      <a:solidFill>
                        <a:srgbClr val="bfbfdf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297" name=""/>
                <p:cNvGrpSpPr/>
                <p:nvPr/>
              </p:nvGrpSpPr>
              <p:grpSpPr>
                <a:xfrm>
                  <a:off x="8186760" y="5226120"/>
                  <a:ext cx="490680" cy="698760"/>
                  <a:chOff x="8186760" y="5226120"/>
                  <a:chExt cx="490680" cy="698760"/>
                </a:xfrm>
              </p:grpSpPr>
              <p:sp>
                <p:nvSpPr>
                  <p:cNvPr id="1298" name=""/>
                  <p:cNvSpPr/>
                  <p:nvPr/>
                </p:nvSpPr>
                <p:spPr>
                  <a:xfrm>
                    <a:off x="8188200" y="5226120"/>
                    <a:ext cx="489240" cy="698760"/>
                  </a:xfrm>
                  <a:custGeom>
                    <a:avLst/>
                    <a:gdLst/>
                    <a:ahLst/>
                    <a:rect l="0" t="0" r="r" b="b"/>
                    <a:pathLst>
                      <a:path w="1359" h="1941">
                        <a:moveTo>
                          <a:pt x="680" y="87"/>
                        </a:moveTo>
                        <a:lnTo>
                          <a:pt x="627" y="395"/>
                        </a:lnTo>
                        <a:lnTo>
                          <a:pt x="622" y="543"/>
                        </a:lnTo>
                        <a:lnTo>
                          <a:pt x="653" y="696"/>
                        </a:lnTo>
                        <a:lnTo>
                          <a:pt x="701" y="774"/>
                        </a:lnTo>
                        <a:lnTo>
                          <a:pt x="757" y="813"/>
                        </a:lnTo>
                        <a:lnTo>
                          <a:pt x="848" y="857"/>
                        </a:lnTo>
                        <a:lnTo>
                          <a:pt x="991" y="926"/>
                        </a:lnTo>
                        <a:lnTo>
                          <a:pt x="1052" y="961"/>
                        </a:lnTo>
                        <a:lnTo>
                          <a:pt x="1125" y="1018"/>
                        </a:lnTo>
                        <a:lnTo>
                          <a:pt x="1147" y="1058"/>
                        </a:lnTo>
                        <a:lnTo>
                          <a:pt x="1177" y="1132"/>
                        </a:lnTo>
                        <a:lnTo>
                          <a:pt x="1238" y="1171"/>
                        </a:lnTo>
                        <a:lnTo>
                          <a:pt x="1289" y="1219"/>
                        </a:lnTo>
                        <a:lnTo>
                          <a:pt x="1311" y="1280"/>
                        </a:lnTo>
                        <a:lnTo>
                          <a:pt x="1320" y="1332"/>
                        </a:lnTo>
                        <a:lnTo>
                          <a:pt x="1289" y="1427"/>
                        </a:lnTo>
                        <a:lnTo>
                          <a:pt x="1268" y="1488"/>
                        </a:lnTo>
                        <a:lnTo>
                          <a:pt x="1220" y="1541"/>
                        </a:lnTo>
                        <a:lnTo>
                          <a:pt x="1177" y="1558"/>
                        </a:lnTo>
                        <a:lnTo>
                          <a:pt x="1242" y="1610"/>
                        </a:lnTo>
                        <a:lnTo>
                          <a:pt x="1302" y="1671"/>
                        </a:lnTo>
                        <a:lnTo>
                          <a:pt x="1341" y="1745"/>
                        </a:lnTo>
                        <a:lnTo>
                          <a:pt x="1359" y="1815"/>
                        </a:lnTo>
                        <a:lnTo>
                          <a:pt x="1346" y="1880"/>
                        </a:lnTo>
                        <a:lnTo>
                          <a:pt x="1328" y="1915"/>
                        </a:lnTo>
                        <a:lnTo>
                          <a:pt x="1302" y="1941"/>
                        </a:lnTo>
                        <a:lnTo>
                          <a:pt x="1264" y="1932"/>
                        </a:lnTo>
                        <a:lnTo>
                          <a:pt x="1207" y="1871"/>
                        </a:lnTo>
                        <a:lnTo>
                          <a:pt x="1147" y="1784"/>
                        </a:lnTo>
                        <a:lnTo>
                          <a:pt x="952" y="1645"/>
                        </a:lnTo>
                        <a:lnTo>
                          <a:pt x="809" y="1558"/>
                        </a:lnTo>
                        <a:lnTo>
                          <a:pt x="688" y="1514"/>
                        </a:lnTo>
                        <a:lnTo>
                          <a:pt x="583" y="1484"/>
                        </a:lnTo>
                        <a:lnTo>
                          <a:pt x="471" y="1440"/>
                        </a:lnTo>
                        <a:lnTo>
                          <a:pt x="367" y="1380"/>
                        </a:lnTo>
                        <a:lnTo>
                          <a:pt x="229" y="1301"/>
                        </a:lnTo>
                        <a:lnTo>
                          <a:pt x="60" y="1058"/>
                        </a:lnTo>
                        <a:lnTo>
                          <a:pt x="8" y="904"/>
                        </a:lnTo>
                        <a:lnTo>
                          <a:pt x="0" y="761"/>
                        </a:lnTo>
                        <a:lnTo>
                          <a:pt x="21" y="600"/>
                        </a:lnTo>
                        <a:lnTo>
                          <a:pt x="64" y="391"/>
                        </a:lnTo>
                        <a:lnTo>
                          <a:pt x="129" y="0"/>
                        </a:lnTo>
                        <a:lnTo>
                          <a:pt x="680" y="87"/>
                        </a:lnTo>
                        <a:close/>
                      </a:path>
                    </a:pathLst>
                  </a:custGeom>
                  <a:solidFill>
                    <a:srgbClr val="ff9f7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9" name=""/>
                  <p:cNvSpPr/>
                  <p:nvPr/>
                </p:nvSpPr>
                <p:spPr>
                  <a:xfrm>
                    <a:off x="8512200" y="5718240"/>
                    <a:ext cx="138600" cy="66960"/>
                  </a:xfrm>
                  <a:custGeom>
                    <a:avLst/>
                    <a:gdLst/>
                    <a:ahLst/>
                    <a:rect l="0" t="0" r="r" b="b"/>
                    <a:pathLst>
                      <a:path w="385" h="186">
                        <a:moveTo>
                          <a:pt x="0" y="0"/>
                        </a:moveTo>
                        <a:lnTo>
                          <a:pt x="112" y="38"/>
                        </a:lnTo>
                        <a:lnTo>
                          <a:pt x="190" y="69"/>
                        </a:lnTo>
                        <a:lnTo>
                          <a:pt x="240" y="65"/>
                        </a:lnTo>
                        <a:lnTo>
                          <a:pt x="273" y="38"/>
                        </a:lnTo>
                        <a:lnTo>
                          <a:pt x="303" y="57"/>
                        </a:lnTo>
                        <a:lnTo>
                          <a:pt x="340" y="77"/>
                        </a:lnTo>
                        <a:lnTo>
                          <a:pt x="385" y="81"/>
                        </a:lnTo>
                        <a:lnTo>
                          <a:pt x="373" y="124"/>
                        </a:lnTo>
                        <a:lnTo>
                          <a:pt x="340" y="166"/>
                        </a:lnTo>
                        <a:lnTo>
                          <a:pt x="285" y="186"/>
                        </a:lnTo>
                        <a:lnTo>
                          <a:pt x="227" y="139"/>
                        </a:lnTo>
                        <a:lnTo>
                          <a:pt x="174" y="101"/>
                        </a:lnTo>
                        <a:lnTo>
                          <a:pt x="100" y="5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txBody>
                  <a:bodyPr lIns="90000" rIns="90000" tIns="21960" bIns="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0" name=""/>
                  <p:cNvSpPr/>
                  <p:nvPr/>
                </p:nvSpPr>
                <p:spPr>
                  <a:xfrm>
                    <a:off x="8186760" y="5297400"/>
                    <a:ext cx="233640" cy="421200"/>
                  </a:xfrm>
                  <a:custGeom>
                    <a:avLst/>
                    <a:gdLst/>
                    <a:ahLst/>
                    <a:rect l="0" t="0" r="r" b="b"/>
                    <a:pathLst>
                      <a:path w="649" h="1170">
                        <a:moveTo>
                          <a:pt x="479" y="630"/>
                        </a:moveTo>
                        <a:lnTo>
                          <a:pt x="433" y="535"/>
                        </a:lnTo>
                        <a:lnTo>
                          <a:pt x="390" y="432"/>
                        </a:lnTo>
                        <a:lnTo>
                          <a:pt x="361" y="328"/>
                        </a:lnTo>
                        <a:lnTo>
                          <a:pt x="348" y="241"/>
                        </a:lnTo>
                        <a:lnTo>
                          <a:pt x="352" y="185"/>
                        </a:lnTo>
                        <a:lnTo>
                          <a:pt x="428" y="194"/>
                        </a:lnTo>
                        <a:lnTo>
                          <a:pt x="509" y="181"/>
                        </a:lnTo>
                        <a:lnTo>
                          <a:pt x="568" y="168"/>
                        </a:lnTo>
                        <a:lnTo>
                          <a:pt x="611" y="146"/>
                        </a:lnTo>
                        <a:lnTo>
                          <a:pt x="636" y="112"/>
                        </a:lnTo>
                        <a:lnTo>
                          <a:pt x="649" y="34"/>
                        </a:lnTo>
                        <a:lnTo>
                          <a:pt x="93" y="0"/>
                        </a:lnTo>
                        <a:lnTo>
                          <a:pt x="63" y="172"/>
                        </a:lnTo>
                        <a:lnTo>
                          <a:pt x="46" y="267"/>
                        </a:lnTo>
                        <a:lnTo>
                          <a:pt x="25" y="367"/>
                        </a:lnTo>
                        <a:lnTo>
                          <a:pt x="8" y="462"/>
                        </a:lnTo>
                        <a:lnTo>
                          <a:pt x="0" y="561"/>
                        </a:lnTo>
                        <a:lnTo>
                          <a:pt x="4" y="652"/>
                        </a:lnTo>
                        <a:lnTo>
                          <a:pt x="12" y="721"/>
                        </a:lnTo>
                        <a:lnTo>
                          <a:pt x="29" y="785"/>
                        </a:lnTo>
                        <a:lnTo>
                          <a:pt x="50" y="850"/>
                        </a:lnTo>
                        <a:lnTo>
                          <a:pt x="101" y="916"/>
                        </a:lnTo>
                        <a:lnTo>
                          <a:pt x="131" y="972"/>
                        </a:lnTo>
                        <a:lnTo>
                          <a:pt x="177" y="1041"/>
                        </a:lnTo>
                        <a:lnTo>
                          <a:pt x="228" y="1097"/>
                        </a:lnTo>
                        <a:lnTo>
                          <a:pt x="279" y="1131"/>
                        </a:lnTo>
                        <a:lnTo>
                          <a:pt x="348" y="1170"/>
                        </a:lnTo>
                        <a:lnTo>
                          <a:pt x="327" y="1110"/>
                        </a:lnTo>
                        <a:lnTo>
                          <a:pt x="317" y="1011"/>
                        </a:lnTo>
                        <a:lnTo>
                          <a:pt x="327" y="933"/>
                        </a:lnTo>
                        <a:lnTo>
                          <a:pt x="348" y="850"/>
                        </a:lnTo>
                        <a:lnTo>
                          <a:pt x="386" y="764"/>
                        </a:lnTo>
                        <a:lnTo>
                          <a:pt x="437" y="686"/>
                        </a:lnTo>
                        <a:lnTo>
                          <a:pt x="479" y="63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1" name=""/>
                  <p:cNvSpPr/>
                  <p:nvPr/>
                </p:nvSpPr>
                <p:spPr>
                  <a:xfrm>
                    <a:off x="8499600" y="5587920"/>
                    <a:ext cx="111600" cy="41760"/>
                  </a:xfrm>
                  <a:custGeom>
                    <a:avLst/>
                    <a:gdLst/>
                    <a:ahLst/>
                    <a:rect l="0" t="0" r="r" b="b"/>
                    <a:pathLst>
                      <a:path w="310" h="116">
                        <a:moveTo>
                          <a:pt x="310" y="116"/>
                        </a:moveTo>
                        <a:lnTo>
                          <a:pt x="233" y="72"/>
                        </a:lnTo>
                        <a:lnTo>
                          <a:pt x="151" y="36"/>
                        </a:lnTo>
                        <a:lnTo>
                          <a:pt x="73" y="14"/>
                        </a:lnTo>
                        <a:lnTo>
                          <a:pt x="0" y="0"/>
                        </a:lnTo>
                        <a:lnTo>
                          <a:pt x="94" y="10"/>
                        </a:lnTo>
                        <a:lnTo>
                          <a:pt x="175" y="33"/>
                        </a:lnTo>
                        <a:lnTo>
                          <a:pt x="261" y="61"/>
                        </a:lnTo>
                        <a:lnTo>
                          <a:pt x="298" y="72"/>
                        </a:lnTo>
                        <a:lnTo>
                          <a:pt x="310" y="116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txBody>
                  <a:bodyPr lIns="90000" rIns="90000" tIns="-3240" bIns="-3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2" name=""/>
                  <p:cNvSpPr/>
                  <p:nvPr/>
                </p:nvSpPr>
                <p:spPr>
                  <a:xfrm>
                    <a:off x="8488440" y="5794200"/>
                    <a:ext cx="149760" cy="81360"/>
                  </a:xfrm>
                  <a:custGeom>
                    <a:avLst/>
                    <a:gdLst/>
                    <a:ahLst/>
                    <a:rect l="0" t="0" r="r" b="b"/>
                    <a:pathLst>
                      <a:path w="416" h="226">
                        <a:moveTo>
                          <a:pt x="416" y="139"/>
                        </a:moveTo>
                        <a:lnTo>
                          <a:pt x="383" y="158"/>
                        </a:lnTo>
                        <a:lnTo>
                          <a:pt x="362" y="187"/>
                        </a:lnTo>
                        <a:lnTo>
                          <a:pt x="333" y="226"/>
                        </a:lnTo>
                        <a:lnTo>
                          <a:pt x="317" y="207"/>
                        </a:lnTo>
                        <a:lnTo>
                          <a:pt x="291" y="187"/>
                        </a:lnTo>
                        <a:lnTo>
                          <a:pt x="228" y="146"/>
                        </a:lnTo>
                        <a:lnTo>
                          <a:pt x="170" y="103"/>
                        </a:lnTo>
                        <a:lnTo>
                          <a:pt x="117" y="72"/>
                        </a:lnTo>
                        <a:lnTo>
                          <a:pt x="58" y="39"/>
                        </a:lnTo>
                        <a:lnTo>
                          <a:pt x="0" y="0"/>
                        </a:lnTo>
                        <a:lnTo>
                          <a:pt x="78" y="31"/>
                        </a:lnTo>
                        <a:lnTo>
                          <a:pt x="129" y="55"/>
                        </a:lnTo>
                        <a:lnTo>
                          <a:pt x="199" y="91"/>
                        </a:lnTo>
                        <a:lnTo>
                          <a:pt x="266" y="135"/>
                        </a:lnTo>
                        <a:lnTo>
                          <a:pt x="307" y="171"/>
                        </a:lnTo>
                        <a:lnTo>
                          <a:pt x="337" y="191"/>
                        </a:lnTo>
                        <a:lnTo>
                          <a:pt x="362" y="158"/>
                        </a:lnTo>
                        <a:lnTo>
                          <a:pt x="416" y="139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txBody>
                  <a:bodyPr lIns="90000" rIns="90000" tIns="36360" bIns="36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03" name=""/>
              <p:cNvGrpSpPr/>
              <p:nvPr/>
            </p:nvGrpSpPr>
            <p:grpSpPr>
              <a:xfrm>
                <a:off x="8115480" y="4818240"/>
                <a:ext cx="449640" cy="525600"/>
                <a:chOff x="8115480" y="4818240"/>
                <a:chExt cx="449640" cy="525600"/>
              </a:xfrm>
            </p:grpSpPr>
            <p:sp>
              <p:nvSpPr>
                <p:cNvPr id="1304" name=""/>
                <p:cNvSpPr/>
                <p:nvPr/>
              </p:nvSpPr>
              <p:spPr>
                <a:xfrm>
                  <a:off x="8115480" y="4818240"/>
                  <a:ext cx="449640" cy="524160"/>
                </a:xfrm>
                <a:custGeom>
                  <a:avLst/>
                  <a:gdLst/>
                  <a:ahLst/>
                  <a:rect l="0" t="0" r="r" b="b"/>
                  <a:pathLst>
                    <a:path w="1249" h="1456">
                      <a:moveTo>
                        <a:pt x="77" y="0"/>
                      </a:moveTo>
                      <a:lnTo>
                        <a:pt x="43" y="86"/>
                      </a:lnTo>
                      <a:lnTo>
                        <a:pt x="12" y="190"/>
                      </a:lnTo>
                      <a:lnTo>
                        <a:pt x="0" y="303"/>
                      </a:lnTo>
                      <a:lnTo>
                        <a:pt x="12" y="420"/>
                      </a:lnTo>
                      <a:lnTo>
                        <a:pt x="21" y="463"/>
                      </a:lnTo>
                      <a:lnTo>
                        <a:pt x="73" y="528"/>
                      </a:lnTo>
                      <a:lnTo>
                        <a:pt x="133" y="576"/>
                      </a:lnTo>
                      <a:lnTo>
                        <a:pt x="220" y="632"/>
                      </a:lnTo>
                      <a:lnTo>
                        <a:pt x="190" y="745"/>
                      </a:lnTo>
                      <a:lnTo>
                        <a:pt x="172" y="880"/>
                      </a:lnTo>
                      <a:lnTo>
                        <a:pt x="164" y="1031"/>
                      </a:lnTo>
                      <a:lnTo>
                        <a:pt x="181" y="1179"/>
                      </a:lnTo>
                      <a:lnTo>
                        <a:pt x="190" y="1287"/>
                      </a:lnTo>
                      <a:lnTo>
                        <a:pt x="220" y="1339"/>
                      </a:lnTo>
                      <a:lnTo>
                        <a:pt x="302" y="1404"/>
                      </a:lnTo>
                      <a:lnTo>
                        <a:pt x="428" y="1447"/>
                      </a:lnTo>
                      <a:lnTo>
                        <a:pt x="562" y="1456"/>
                      </a:lnTo>
                      <a:lnTo>
                        <a:pt x="687" y="1447"/>
                      </a:lnTo>
                      <a:lnTo>
                        <a:pt x="765" y="1430"/>
                      </a:lnTo>
                      <a:lnTo>
                        <a:pt x="825" y="1382"/>
                      </a:lnTo>
                      <a:lnTo>
                        <a:pt x="890" y="1295"/>
                      </a:lnTo>
                      <a:lnTo>
                        <a:pt x="925" y="1213"/>
                      </a:lnTo>
                      <a:lnTo>
                        <a:pt x="956" y="1114"/>
                      </a:lnTo>
                      <a:lnTo>
                        <a:pt x="964" y="1044"/>
                      </a:lnTo>
                      <a:lnTo>
                        <a:pt x="956" y="971"/>
                      </a:lnTo>
                      <a:lnTo>
                        <a:pt x="995" y="888"/>
                      </a:lnTo>
                      <a:lnTo>
                        <a:pt x="1008" y="806"/>
                      </a:lnTo>
                      <a:lnTo>
                        <a:pt x="1116" y="754"/>
                      </a:lnTo>
                      <a:lnTo>
                        <a:pt x="1185" y="705"/>
                      </a:lnTo>
                      <a:lnTo>
                        <a:pt x="1206" y="662"/>
                      </a:lnTo>
                      <a:lnTo>
                        <a:pt x="1193" y="576"/>
                      </a:lnTo>
                      <a:lnTo>
                        <a:pt x="1206" y="493"/>
                      </a:lnTo>
                      <a:lnTo>
                        <a:pt x="1224" y="394"/>
                      </a:lnTo>
                      <a:lnTo>
                        <a:pt x="1249" y="320"/>
                      </a:lnTo>
                      <a:lnTo>
                        <a:pt x="1245" y="259"/>
                      </a:lnTo>
                      <a:lnTo>
                        <a:pt x="1219" y="186"/>
                      </a:lnTo>
                      <a:lnTo>
                        <a:pt x="1189" y="142"/>
                      </a:lnTo>
                      <a:lnTo>
                        <a:pt x="1176" y="95"/>
                      </a:lnTo>
                      <a:lnTo>
                        <a:pt x="1081" y="129"/>
                      </a:lnTo>
                      <a:lnTo>
                        <a:pt x="973" y="168"/>
                      </a:lnTo>
                      <a:lnTo>
                        <a:pt x="894" y="190"/>
                      </a:lnTo>
                      <a:lnTo>
                        <a:pt x="808" y="203"/>
                      </a:lnTo>
                      <a:lnTo>
                        <a:pt x="687" y="216"/>
                      </a:lnTo>
                      <a:lnTo>
                        <a:pt x="575" y="199"/>
                      </a:lnTo>
                      <a:lnTo>
                        <a:pt x="475" y="168"/>
                      </a:lnTo>
                      <a:lnTo>
                        <a:pt x="372" y="142"/>
                      </a:lnTo>
                      <a:lnTo>
                        <a:pt x="263" y="86"/>
                      </a:lnTo>
                      <a:lnTo>
                        <a:pt x="164" y="38"/>
                      </a:lnTo>
                      <a:lnTo>
                        <a:pt x="7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>
                  <a:off x="8277120" y="5046840"/>
                  <a:ext cx="244800" cy="117720"/>
                </a:xfrm>
                <a:custGeom>
                  <a:avLst/>
                  <a:gdLst/>
                  <a:ahLst/>
                  <a:rect l="0" t="0" r="r" b="b"/>
                  <a:pathLst>
                    <a:path w="680" h="327">
                      <a:moveTo>
                        <a:pt x="21" y="8"/>
                      </a:moveTo>
                      <a:lnTo>
                        <a:pt x="97" y="0"/>
                      </a:lnTo>
                      <a:lnTo>
                        <a:pt x="165" y="16"/>
                      </a:lnTo>
                      <a:lnTo>
                        <a:pt x="229" y="36"/>
                      </a:lnTo>
                      <a:lnTo>
                        <a:pt x="305" y="61"/>
                      </a:lnTo>
                      <a:lnTo>
                        <a:pt x="361" y="77"/>
                      </a:lnTo>
                      <a:lnTo>
                        <a:pt x="416" y="61"/>
                      </a:lnTo>
                      <a:lnTo>
                        <a:pt x="476" y="36"/>
                      </a:lnTo>
                      <a:lnTo>
                        <a:pt x="527" y="24"/>
                      </a:lnTo>
                      <a:lnTo>
                        <a:pt x="586" y="36"/>
                      </a:lnTo>
                      <a:lnTo>
                        <a:pt x="629" y="44"/>
                      </a:lnTo>
                      <a:lnTo>
                        <a:pt x="663" y="73"/>
                      </a:lnTo>
                      <a:lnTo>
                        <a:pt x="680" y="122"/>
                      </a:lnTo>
                      <a:lnTo>
                        <a:pt x="612" y="146"/>
                      </a:lnTo>
                      <a:lnTo>
                        <a:pt x="561" y="164"/>
                      </a:lnTo>
                      <a:lnTo>
                        <a:pt x="514" y="196"/>
                      </a:lnTo>
                      <a:lnTo>
                        <a:pt x="467" y="213"/>
                      </a:lnTo>
                      <a:lnTo>
                        <a:pt x="399" y="217"/>
                      </a:lnTo>
                      <a:lnTo>
                        <a:pt x="335" y="241"/>
                      </a:lnTo>
                      <a:lnTo>
                        <a:pt x="301" y="274"/>
                      </a:lnTo>
                      <a:lnTo>
                        <a:pt x="284" y="327"/>
                      </a:lnTo>
                      <a:lnTo>
                        <a:pt x="229" y="266"/>
                      </a:lnTo>
                      <a:lnTo>
                        <a:pt x="161" y="221"/>
                      </a:lnTo>
                      <a:lnTo>
                        <a:pt x="93" y="180"/>
                      </a:lnTo>
                      <a:lnTo>
                        <a:pt x="42" y="146"/>
                      </a:lnTo>
                      <a:lnTo>
                        <a:pt x="12" y="114"/>
                      </a:lnTo>
                      <a:lnTo>
                        <a:pt x="0" y="73"/>
                      </a:lnTo>
                      <a:lnTo>
                        <a:pt x="4" y="36"/>
                      </a:lnTo>
                      <a:lnTo>
                        <a:pt x="21" y="8"/>
                      </a:lnTo>
                      <a:close/>
                    </a:path>
                  </a:pathLst>
                </a:custGeom>
                <a:solidFill>
                  <a:srgbClr val="d5d5d5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>
                  <a:off x="8248680" y="4886280"/>
                  <a:ext cx="73440" cy="133560"/>
                </a:xfrm>
                <a:custGeom>
                  <a:avLst/>
                  <a:gdLst/>
                  <a:ahLst/>
                  <a:rect l="0" t="0" r="r" b="b"/>
                  <a:pathLst>
                    <a:path w="204" h="371">
                      <a:moveTo>
                        <a:pt x="11" y="0"/>
                      </a:moveTo>
                      <a:lnTo>
                        <a:pt x="0" y="102"/>
                      </a:lnTo>
                      <a:lnTo>
                        <a:pt x="7" y="186"/>
                      </a:lnTo>
                      <a:lnTo>
                        <a:pt x="35" y="268"/>
                      </a:lnTo>
                      <a:lnTo>
                        <a:pt x="75" y="334"/>
                      </a:lnTo>
                      <a:lnTo>
                        <a:pt x="125" y="371"/>
                      </a:lnTo>
                      <a:lnTo>
                        <a:pt x="141" y="309"/>
                      </a:lnTo>
                      <a:lnTo>
                        <a:pt x="169" y="256"/>
                      </a:lnTo>
                      <a:lnTo>
                        <a:pt x="204" y="210"/>
                      </a:lnTo>
                      <a:lnTo>
                        <a:pt x="154" y="198"/>
                      </a:lnTo>
                      <a:lnTo>
                        <a:pt x="121" y="181"/>
                      </a:lnTo>
                      <a:lnTo>
                        <a:pt x="106" y="107"/>
                      </a:lnTo>
                      <a:lnTo>
                        <a:pt x="82" y="49"/>
                      </a:lnTo>
                      <a:lnTo>
                        <a:pt x="50" y="8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eaeaea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8143920" y="4838760"/>
                  <a:ext cx="36720" cy="140040"/>
                </a:xfrm>
                <a:custGeom>
                  <a:avLst/>
                  <a:gdLst/>
                  <a:ahLst/>
                  <a:rect l="0" t="0" r="r" b="b"/>
                  <a:pathLst>
                    <a:path w="102" h="389">
                      <a:moveTo>
                        <a:pt x="38" y="0"/>
                      </a:moveTo>
                      <a:lnTo>
                        <a:pt x="63" y="53"/>
                      </a:lnTo>
                      <a:lnTo>
                        <a:pt x="91" y="123"/>
                      </a:lnTo>
                      <a:lnTo>
                        <a:pt x="102" y="181"/>
                      </a:lnTo>
                      <a:lnTo>
                        <a:pt x="91" y="236"/>
                      </a:lnTo>
                      <a:lnTo>
                        <a:pt x="48" y="314"/>
                      </a:lnTo>
                      <a:lnTo>
                        <a:pt x="0" y="389"/>
                      </a:lnTo>
                      <a:lnTo>
                        <a:pt x="31" y="302"/>
                      </a:lnTo>
                      <a:lnTo>
                        <a:pt x="45" y="232"/>
                      </a:lnTo>
                      <a:lnTo>
                        <a:pt x="56" y="156"/>
                      </a:lnTo>
                      <a:lnTo>
                        <a:pt x="45" y="86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d5d5d5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>
                  <a:off x="8172360" y="5049720"/>
                  <a:ext cx="170280" cy="294120"/>
                </a:xfrm>
                <a:custGeom>
                  <a:avLst/>
                  <a:gdLst/>
                  <a:ahLst/>
                  <a:rect l="0" t="0" r="r" b="b"/>
                  <a:pathLst>
                    <a:path w="473" h="817">
                      <a:moveTo>
                        <a:pt x="62" y="0"/>
                      </a:moveTo>
                      <a:lnTo>
                        <a:pt x="142" y="29"/>
                      </a:lnTo>
                      <a:lnTo>
                        <a:pt x="230" y="85"/>
                      </a:lnTo>
                      <a:lnTo>
                        <a:pt x="322" y="162"/>
                      </a:lnTo>
                      <a:lnTo>
                        <a:pt x="386" y="235"/>
                      </a:lnTo>
                      <a:lnTo>
                        <a:pt x="419" y="334"/>
                      </a:lnTo>
                      <a:lnTo>
                        <a:pt x="432" y="415"/>
                      </a:lnTo>
                      <a:lnTo>
                        <a:pt x="419" y="505"/>
                      </a:lnTo>
                      <a:lnTo>
                        <a:pt x="415" y="569"/>
                      </a:lnTo>
                      <a:lnTo>
                        <a:pt x="423" y="634"/>
                      </a:lnTo>
                      <a:lnTo>
                        <a:pt x="444" y="728"/>
                      </a:lnTo>
                      <a:lnTo>
                        <a:pt x="473" y="804"/>
                      </a:lnTo>
                      <a:lnTo>
                        <a:pt x="427" y="817"/>
                      </a:lnTo>
                      <a:lnTo>
                        <a:pt x="356" y="817"/>
                      </a:lnTo>
                      <a:lnTo>
                        <a:pt x="280" y="813"/>
                      </a:lnTo>
                      <a:lnTo>
                        <a:pt x="218" y="796"/>
                      </a:lnTo>
                      <a:lnTo>
                        <a:pt x="168" y="775"/>
                      </a:lnTo>
                      <a:lnTo>
                        <a:pt x="104" y="740"/>
                      </a:lnTo>
                      <a:lnTo>
                        <a:pt x="58" y="702"/>
                      </a:lnTo>
                      <a:lnTo>
                        <a:pt x="29" y="634"/>
                      </a:lnTo>
                      <a:lnTo>
                        <a:pt x="8" y="496"/>
                      </a:lnTo>
                      <a:lnTo>
                        <a:pt x="0" y="398"/>
                      </a:lnTo>
                      <a:lnTo>
                        <a:pt x="8" y="295"/>
                      </a:lnTo>
                      <a:lnTo>
                        <a:pt x="16" y="170"/>
                      </a:lnTo>
                      <a:lnTo>
                        <a:pt x="37" y="68"/>
                      </a:lnTo>
                      <a:lnTo>
                        <a:pt x="62" y="0"/>
                      </a:lnTo>
                      <a:close/>
                    </a:path>
                  </a:pathLst>
                </a:custGeom>
                <a:solidFill>
                  <a:srgbClr val="eaeaea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8139240" y="4818240"/>
                  <a:ext cx="403560" cy="84600"/>
                </a:xfrm>
                <a:custGeom>
                  <a:avLst/>
                  <a:gdLst/>
                  <a:ahLst/>
                  <a:rect l="0" t="0" r="r" b="b"/>
                  <a:pathLst>
                    <a:path w="1121" h="235">
                      <a:moveTo>
                        <a:pt x="12" y="0"/>
                      </a:moveTo>
                      <a:lnTo>
                        <a:pt x="0" y="15"/>
                      </a:lnTo>
                      <a:lnTo>
                        <a:pt x="60" y="51"/>
                      </a:lnTo>
                      <a:lnTo>
                        <a:pt x="120" y="84"/>
                      </a:lnTo>
                      <a:lnTo>
                        <a:pt x="176" y="111"/>
                      </a:lnTo>
                      <a:lnTo>
                        <a:pt x="267" y="147"/>
                      </a:lnTo>
                      <a:lnTo>
                        <a:pt x="344" y="180"/>
                      </a:lnTo>
                      <a:lnTo>
                        <a:pt x="443" y="207"/>
                      </a:lnTo>
                      <a:lnTo>
                        <a:pt x="534" y="223"/>
                      </a:lnTo>
                      <a:lnTo>
                        <a:pt x="604" y="227"/>
                      </a:lnTo>
                      <a:lnTo>
                        <a:pt x="681" y="235"/>
                      </a:lnTo>
                      <a:lnTo>
                        <a:pt x="763" y="223"/>
                      </a:lnTo>
                      <a:lnTo>
                        <a:pt x="845" y="211"/>
                      </a:lnTo>
                      <a:lnTo>
                        <a:pt x="922" y="200"/>
                      </a:lnTo>
                      <a:lnTo>
                        <a:pt x="1004" y="180"/>
                      </a:lnTo>
                      <a:lnTo>
                        <a:pt x="1073" y="155"/>
                      </a:lnTo>
                      <a:lnTo>
                        <a:pt x="1121" y="135"/>
                      </a:lnTo>
                      <a:lnTo>
                        <a:pt x="1108" y="88"/>
                      </a:lnTo>
                      <a:lnTo>
                        <a:pt x="1013" y="119"/>
                      </a:lnTo>
                      <a:lnTo>
                        <a:pt x="905" y="155"/>
                      </a:lnTo>
                      <a:lnTo>
                        <a:pt x="828" y="175"/>
                      </a:lnTo>
                      <a:lnTo>
                        <a:pt x="741" y="188"/>
                      </a:lnTo>
                      <a:lnTo>
                        <a:pt x="621" y="200"/>
                      </a:lnTo>
                      <a:lnTo>
                        <a:pt x="508" y="184"/>
                      </a:lnTo>
                      <a:lnTo>
                        <a:pt x="409" y="155"/>
                      </a:lnTo>
                      <a:lnTo>
                        <a:pt x="305" y="131"/>
                      </a:lnTo>
                      <a:lnTo>
                        <a:pt x="198" y="80"/>
                      </a:lnTo>
                      <a:lnTo>
                        <a:pt x="99" y="35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5f5f7f"/>
                </a:solidFill>
                <a:ln w="0">
                  <a:noFill/>
                </a:ln>
              </p:spPr>
              <p:txBody>
                <a:bodyPr lIns="90000" rIns="90000" tIns="39600" bIns="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0" name=""/>
            <p:cNvGrpSpPr/>
            <p:nvPr/>
          </p:nvGrpSpPr>
          <p:grpSpPr>
            <a:xfrm>
              <a:off x="6859440" y="2462040"/>
              <a:ext cx="1303560" cy="941760"/>
              <a:chOff x="6859440" y="2462040"/>
              <a:chExt cx="1303560" cy="941760"/>
            </a:xfrm>
          </p:grpSpPr>
          <p:sp>
            <p:nvSpPr>
              <p:cNvPr id="1311" name=""/>
              <p:cNvSpPr/>
              <p:nvPr/>
            </p:nvSpPr>
            <p:spPr>
              <a:xfrm>
                <a:off x="6859440" y="2462040"/>
                <a:ext cx="1303560" cy="941760"/>
              </a:xfrm>
              <a:custGeom>
                <a:avLst/>
                <a:gdLst/>
                <a:ahLst/>
                <a:rect l="0" t="0" r="r" b="b"/>
                <a:pathLst>
                  <a:path w="3621" h="2616">
                    <a:moveTo>
                      <a:pt x="634" y="414"/>
                    </a:moveTo>
                    <a:lnTo>
                      <a:pt x="542" y="467"/>
                    </a:lnTo>
                    <a:lnTo>
                      <a:pt x="455" y="536"/>
                    </a:lnTo>
                    <a:lnTo>
                      <a:pt x="358" y="650"/>
                    </a:lnTo>
                    <a:lnTo>
                      <a:pt x="284" y="712"/>
                    </a:lnTo>
                    <a:lnTo>
                      <a:pt x="218" y="795"/>
                    </a:lnTo>
                    <a:lnTo>
                      <a:pt x="179" y="856"/>
                    </a:lnTo>
                    <a:lnTo>
                      <a:pt x="157" y="917"/>
                    </a:lnTo>
                    <a:lnTo>
                      <a:pt x="148" y="983"/>
                    </a:lnTo>
                    <a:lnTo>
                      <a:pt x="157" y="1048"/>
                    </a:lnTo>
                    <a:lnTo>
                      <a:pt x="175" y="1131"/>
                    </a:lnTo>
                    <a:lnTo>
                      <a:pt x="135" y="1197"/>
                    </a:lnTo>
                    <a:lnTo>
                      <a:pt x="105" y="1245"/>
                    </a:lnTo>
                    <a:lnTo>
                      <a:pt x="91" y="1310"/>
                    </a:lnTo>
                    <a:lnTo>
                      <a:pt x="74" y="1389"/>
                    </a:lnTo>
                    <a:lnTo>
                      <a:pt x="39" y="1472"/>
                    </a:lnTo>
                    <a:lnTo>
                      <a:pt x="17" y="1546"/>
                    </a:lnTo>
                    <a:lnTo>
                      <a:pt x="0" y="1633"/>
                    </a:lnTo>
                    <a:lnTo>
                      <a:pt x="8" y="1742"/>
                    </a:lnTo>
                    <a:lnTo>
                      <a:pt x="43" y="1843"/>
                    </a:lnTo>
                    <a:lnTo>
                      <a:pt x="74" y="1917"/>
                    </a:lnTo>
                    <a:lnTo>
                      <a:pt x="113" y="1988"/>
                    </a:lnTo>
                    <a:lnTo>
                      <a:pt x="170" y="2040"/>
                    </a:lnTo>
                    <a:lnTo>
                      <a:pt x="245" y="2088"/>
                    </a:lnTo>
                    <a:lnTo>
                      <a:pt x="214" y="2045"/>
                    </a:lnTo>
                    <a:lnTo>
                      <a:pt x="218" y="2014"/>
                    </a:lnTo>
                    <a:lnTo>
                      <a:pt x="253" y="1992"/>
                    </a:lnTo>
                    <a:lnTo>
                      <a:pt x="293" y="2001"/>
                    </a:lnTo>
                    <a:lnTo>
                      <a:pt x="337" y="2018"/>
                    </a:lnTo>
                    <a:lnTo>
                      <a:pt x="372" y="2058"/>
                    </a:lnTo>
                    <a:lnTo>
                      <a:pt x="429" y="2097"/>
                    </a:lnTo>
                    <a:lnTo>
                      <a:pt x="398" y="2049"/>
                    </a:lnTo>
                    <a:lnTo>
                      <a:pt x="393" y="2014"/>
                    </a:lnTo>
                    <a:lnTo>
                      <a:pt x="472" y="2023"/>
                    </a:lnTo>
                    <a:lnTo>
                      <a:pt x="542" y="2014"/>
                    </a:lnTo>
                    <a:lnTo>
                      <a:pt x="604" y="1979"/>
                    </a:lnTo>
                    <a:lnTo>
                      <a:pt x="652" y="1930"/>
                    </a:lnTo>
                    <a:lnTo>
                      <a:pt x="691" y="1860"/>
                    </a:lnTo>
                    <a:lnTo>
                      <a:pt x="796" y="1882"/>
                    </a:lnTo>
                    <a:lnTo>
                      <a:pt x="893" y="1891"/>
                    </a:lnTo>
                    <a:lnTo>
                      <a:pt x="1002" y="1873"/>
                    </a:lnTo>
                    <a:lnTo>
                      <a:pt x="1107" y="1843"/>
                    </a:lnTo>
                    <a:lnTo>
                      <a:pt x="1208" y="1790"/>
                    </a:lnTo>
                    <a:lnTo>
                      <a:pt x="1295" y="1721"/>
                    </a:lnTo>
                    <a:lnTo>
                      <a:pt x="1361" y="1651"/>
                    </a:lnTo>
                    <a:lnTo>
                      <a:pt x="1427" y="1607"/>
                    </a:lnTo>
                    <a:lnTo>
                      <a:pt x="1501" y="1572"/>
                    </a:lnTo>
                    <a:lnTo>
                      <a:pt x="1593" y="1585"/>
                    </a:lnTo>
                    <a:lnTo>
                      <a:pt x="1716" y="1594"/>
                    </a:lnTo>
                    <a:lnTo>
                      <a:pt x="1772" y="1677"/>
                    </a:lnTo>
                    <a:lnTo>
                      <a:pt x="1848" y="1769"/>
                    </a:lnTo>
                    <a:lnTo>
                      <a:pt x="1953" y="1843"/>
                    </a:lnTo>
                    <a:lnTo>
                      <a:pt x="2076" y="1917"/>
                    </a:lnTo>
                    <a:lnTo>
                      <a:pt x="2132" y="1970"/>
                    </a:lnTo>
                    <a:lnTo>
                      <a:pt x="2159" y="2049"/>
                    </a:lnTo>
                    <a:lnTo>
                      <a:pt x="2141" y="2106"/>
                    </a:lnTo>
                    <a:lnTo>
                      <a:pt x="2137" y="2162"/>
                    </a:lnTo>
                    <a:lnTo>
                      <a:pt x="2154" y="2206"/>
                    </a:lnTo>
                    <a:lnTo>
                      <a:pt x="2189" y="2263"/>
                    </a:lnTo>
                    <a:lnTo>
                      <a:pt x="2198" y="2363"/>
                    </a:lnTo>
                    <a:lnTo>
                      <a:pt x="2189" y="2485"/>
                    </a:lnTo>
                    <a:lnTo>
                      <a:pt x="2159" y="2616"/>
                    </a:lnTo>
                    <a:lnTo>
                      <a:pt x="2286" y="2582"/>
                    </a:lnTo>
                    <a:lnTo>
                      <a:pt x="2452" y="2529"/>
                    </a:lnTo>
                    <a:lnTo>
                      <a:pt x="2645" y="2459"/>
                    </a:lnTo>
                    <a:lnTo>
                      <a:pt x="2820" y="2376"/>
                    </a:lnTo>
                    <a:lnTo>
                      <a:pt x="2947" y="2289"/>
                    </a:lnTo>
                    <a:lnTo>
                      <a:pt x="3056" y="2202"/>
                    </a:lnTo>
                    <a:lnTo>
                      <a:pt x="3152" y="2176"/>
                    </a:lnTo>
                    <a:lnTo>
                      <a:pt x="3258" y="2128"/>
                    </a:lnTo>
                    <a:lnTo>
                      <a:pt x="3341" y="2062"/>
                    </a:lnTo>
                    <a:lnTo>
                      <a:pt x="3402" y="1970"/>
                    </a:lnTo>
                    <a:lnTo>
                      <a:pt x="3450" y="1878"/>
                    </a:lnTo>
                    <a:lnTo>
                      <a:pt x="3498" y="1760"/>
                    </a:lnTo>
                    <a:lnTo>
                      <a:pt x="3511" y="1651"/>
                    </a:lnTo>
                    <a:lnTo>
                      <a:pt x="3498" y="1563"/>
                    </a:lnTo>
                    <a:lnTo>
                      <a:pt x="3560" y="1480"/>
                    </a:lnTo>
                    <a:lnTo>
                      <a:pt x="3603" y="1376"/>
                    </a:lnTo>
                    <a:lnTo>
                      <a:pt x="3621" y="1267"/>
                    </a:lnTo>
                    <a:lnTo>
                      <a:pt x="3599" y="1166"/>
                    </a:lnTo>
                    <a:lnTo>
                      <a:pt x="3555" y="1061"/>
                    </a:lnTo>
                    <a:lnTo>
                      <a:pt x="3455" y="891"/>
                    </a:lnTo>
                    <a:lnTo>
                      <a:pt x="3328" y="721"/>
                    </a:lnTo>
                    <a:lnTo>
                      <a:pt x="3209" y="567"/>
                    </a:lnTo>
                    <a:lnTo>
                      <a:pt x="3100" y="445"/>
                    </a:lnTo>
                    <a:lnTo>
                      <a:pt x="3004" y="371"/>
                    </a:lnTo>
                    <a:lnTo>
                      <a:pt x="2942" y="327"/>
                    </a:lnTo>
                    <a:lnTo>
                      <a:pt x="2846" y="279"/>
                    </a:lnTo>
                    <a:lnTo>
                      <a:pt x="2758" y="213"/>
                    </a:lnTo>
                    <a:lnTo>
                      <a:pt x="2706" y="117"/>
                    </a:lnTo>
                    <a:lnTo>
                      <a:pt x="2636" y="56"/>
                    </a:lnTo>
                    <a:lnTo>
                      <a:pt x="2548" y="17"/>
                    </a:lnTo>
                    <a:lnTo>
                      <a:pt x="2408" y="0"/>
                    </a:lnTo>
                    <a:lnTo>
                      <a:pt x="2273" y="13"/>
                    </a:lnTo>
                    <a:lnTo>
                      <a:pt x="2172" y="30"/>
                    </a:lnTo>
                    <a:lnTo>
                      <a:pt x="2067" y="52"/>
                    </a:lnTo>
                    <a:lnTo>
                      <a:pt x="1949" y="61"/>
                    </a:lnTo>
                    <a:lnTo>
                      <a:pt x="1813" y="52"/>
                    </a:lnTo>
                    <a:lnTo>
                      <a:pt x="1694" y="30"/>
                    </a:lnTo>
                    <a:lnTo>
                      <a:pt x="1575" y="13"/>
                    </a:lnTo>
                    <a:lnTo>
                      <a:pt x="1470" y="4"/>
                    </a:lnTo>
                    <a:lnTo>
                      <a:pt x="1365" y="26"/>
                    </a:lnTo>
                    <a:lnTo>
                      <a:pt x="1265" y="52"/>
                    </a:lnTo>
                    <a:lnTo>
                      <a:pt x="1177" y="91"/>
                    </a:lnTo>
                    <a:lnTo>
                      <a:pt x="1076" y="117"/>
                    </a:lnTo>
                    <a:lnTo>
                      <a:pt x="976" y="148"/>
                    </a:lnTo>
                    <a:lnTo>
                      <a:pt x="914" y="205"/>
                    </a:lnTo>
                    <a:lnTo>
                      <a:pt x="844" y="288"/>
                    </a:lnTo>
                    <a:lnTo>
                      <a:pt x="766" y="357"/>
                    </a:lnTo>
                    <a:lnTo>
                      <a:pt x="634" y="414"/>
                    </a:lnTo>
                    <a:close/>
                  </a:path>
                </a:pathLst>
              </a:custGeom>
              <a:solidFill>
                <a:srgbClr val="5f3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7534440" y="2590920"/>
                <a:ext cx="605160" cy="532080"/>
              </a:xfrm>
              <a:custGeom>
                <a:avLst/>
                <a:gdLst/>
                <a:ahLst/>
                <a:rect l="0" t="0" r="r" b="b"/>
                <a:pathLst>
                  <a:path w="1681" h="1478">
                    <a:moveTo>
                      <a:pt x="0" y="632"/>
                    </a:moveTo>
                    <a:lnTo>
                      <a:pt x="104" y="680"/>
                    </a:lnTo>
                    <a:lnTo>
                      <a:pt x="204" y="723"/>
                    </a:lnTo>
                    <a:lnTo>
                      <a:pt x="295" y="780"/>
                    </a:lnTo>
                    <a:lnTo>
                      <a:pt x="382" y="841"/>
                    </a:lnTo>
                    <a:lnTo>
                      <a:pt x="451" y="902"/>
                    </a:lnTo>
                    <a:lnTo>
                      <a:pt x="494" y="958"/>
                    </a:lnTo>
                    <a:lnTo>
                      <a:pt x="551" y="1101"/>
                    </a:lnTo>
                    <a:lnTo>
                      <a:pt x="607" y="1352"/>
                    </a:lnTo>
                    <a:lnTo>
                      <a:pt x="646" y="1270"/>
                    </a:lnTo>
                    <a:lnTo>
                      <a:pt x="642" y="1356"/>
                    </a:lnTo>
                    <a:lnTo>
                      <a:pt x="616" y="1478"/>
                    </a:lnTo>
                    <a:lnTo>
                      <a:pt x="690" y="1434"/>
                    </a:lnTo>
                    <a:lnTo>
                      <a:pt x="729" y="1382"/>
                    </a:lnTo>
                    <a:lnTo>
                      <a:pt x="751" y="1309"/>
                    </a:lnTo>
                    <a:lnTo>
                      <a:pt x="759" y="1213"/>
                    </a:lnTo>
                    <a:lnTo>
                      <a:pt x="794" y="1274"/>
                    </a:lnTo>
                    <a:lnTo>
                      <a:pt x="803" y="1343"/>
                    </a:lnTo>
                    <a:lnTo>
                      <a:pt x="790" y="1382"/>
                    </a:lnTo>
                    <a:lnTo>
                      <a:pt x="843" y="1348"/>
                    </a:lnTo>
                    <a:lnTo>
                      <a:pt x="890" y="1296"/>
                    </a:lnTo>
                    <a:lnTo>
                      <a:pt x="973" y="1326"/>
                    </a:lnTo>
                    <a:lnTo>
                      <a:pt x="951" y="1278"/>
                    </a:lnTo>
                    <a:lnTo>
                      <a:pt x="956" y="1222"/>
                    </a:lnTo>
                    <a:lnTo>
                      <a:pt x="973" y="1170"/>
                    </a:lnTo>
                    <a:lnTo>
                      <a:pt x="1025" y="1179"/>
                    </a:lnTo>
                    <a:lnTo>
                      <a:pt x="1086" y="1213"/>
                    </a:lnTo>
                    <a:lnTo>
                      <a:pt x="1051" y="1149"/>
                    </a:lnTo>
                    <a:lnTo>
                      <a:pt x="1029" y="1071"/>
                    </a:lnTo>
                    <a:lnTo>
                      <a:pt x="1042" y="988"/>
                    </a:lnTo>
                    <a:lnTo>
                      <a:pt x="1112" y="1014"/>
                    </a:lnTo>
                    <a:lnTo>
                      <a:pt x="1177" y="1058"/>
                    </a:lnTo>
                    <a:lnTo>
                      <a:pt x="1229" y="1118"/>
                    </a:lnTo>
                    <a:lnTo>
                      <a:pt x="1212" y="1213"/>
                    </a:lnTo>
                    <a:lnTo>
                      <a:pt x="1281" y="1088"/>
                    </a:lnTo>
                    <a:lnTo>
                      <a:pt x="1281" y="1001"/>
                    </a:lnTo>
                    <a:lnTo>
                      <a:pt x="1299" y="863"/>
                    </a:lnTo>
                    <a:lnTo>
                      <a:pt x="1229" y="675"/>
                    </a:lnTo>
                    <a:lnTo>
                      <a:pt x="1294" y="719"/>
                    </a:lnTo>
                    <a:lnTo>
                      <a:pt x="1355" y="772"/>
                    </a:lnTo>
                    <a:lnTo>
                      <a:pt x="1385" y="863"/>
                    </a:lnTo>
                    <a:lnTo>
                      <a:pt x="1429" y="837"/>
                    </a:lnTo>
                    <a:lnTo>
                      <a:pt x="1455" y="789"/>
                    </a:lnTo>
                    <a:lnTo>
                      <a:pt x="1464" y="714"/>
                    </a:lnTo>
                    <a:lnTo>
                      <a:pt x="1455" y="658"/>
                    </a:lnTo>
                    <a:lnTo>
                      <a:pt x="1429" y="571"/>
                    </a:lnTo>
                    <a:lnTo>
                      <a:pt x="1385" y="467"/>
                    </a:lnTo>
                    <a:lnTo>
                      <a:pt x="1451" y="485"/>
                    </a:lnTo>
                    <a:lnTo>
                      <a:pt x="1498" y="550"/>
                    </a:lnTo>
                    <a:lnTo>
                      <a:pt x="1524" y="628"/>
                    </a:lnTo>
                    <a:lnTo>
                      <a:pt x="1568" y="701"/>
                    </a:lnTo>
                    <a:lnTo>
                      <a:pt x="1615" y="736"/>
                    </a:lnTo>
                    <a:lnTo>
                      <a:pt x="1681" y="763"/>
                    </a:lnTo>
                    <a:lnTo>
                      <a:pt x="1607" y="619"/>
                    </a:lnTo>
                    <a:lnTo>
                      <a:pt x="1529" y="498"/>
                    </a:lnTo>
                    <a:lnTo>
                      <a:pt x="1394" y="329"/>
                    </a:lnTo>
                    <a:lnTo>
                      <a:pt x="1286" y="190"/>
                    </a:lnTo>
                    <a:lnTo>
                      <a:pt x="1160" y="82"/>
                    </a:lnTo>
                    <a:lnTo>
                      <a:pt x="1042" y="0"/>
                    </a:lnTo>
                    <a:lnTo>
                      <a:pt x="1003" y="73"/>
                    </a:lnTo>
                    <a:lnTo>
                      <a:pt x="943" y="112"/>
                    </a:lnTo>
                    <a:lnTo>
                      <a:pt x="1060" y="194"/>
                    </a:lnTo>
                    <a:lnTo>
                      <a:pt x="1129" y="277"/>
                    </a:lnTo>
                    <a:lnTo>
                      <a:pt x="1194" y="363"/>
                    </a:lnTo>
                    <a:lnTo>
                      <a:pt x="1238" y="441"/>
                    </a:lnTo>
                    <a:lnTo>
                      <a:pt x="1273" y="524"/>
                    </a:lnTo>
                    <a:lnTo>
                      <a:pt x="1299" y="606"/>
                    </a:lnTo>
                    <a:lnTo>
                      <a:pt x="1242" y="567"/>
                    </a:lnTo>
                    <a:lnTo>
                      <a:pt x="1168" y="541"/>
                    </a:lnTo>
                    <a:lnTo>
                      <a:pt x="1147" y="589"/>
                    </a:lnTo>
                    <a:lnTo>
                      <a:pt x="1064" y="459"/>
                    </a:lnTo>
                    <a:lnTo>
                      <a:pt x="986" y="342"/>
                    </a:lnTo>
                    <a:lnTo>
                      <a:pt x="869" y="190"/>
                    </a:lnTo>
                    <a:lnTo>
                      <a:pt x="746" y="60"/>
                    </a:lnTo>
                    <a:lnTo>
                      <a:pt x="864" y="246"/>
                    </a:lnTo>
                    <a:lnTo>
                      <a:pt x="930" y="363"/>
                    </a:lnTo>
                    <a:lnTo>
                      <a:pt x="986" y="485"/>
                    </a:lnTo>
                    <a:lnTo>
                      <a:pt x="1060" y="641"/>
                    </a:lnTo>
                    <a:lnTo>
                      <a:pt x="1147" y="832"/>
                    </a:lnTo>
                    <a:lnTo>
                      <a:pt x="1064" y="741"/>
                    </a:lnTo>
                    <a:lnTo>
                      <a:pt x="986" y="688"/>
                    </a:lnTo>
                    <a:lnTo>
                      <a:pt x="1008" y="772"/>
                    </a:lnTo>
                    <a:lnTo>
                      <a:pt x="986" y="841"/>
                    </a:lnTo>
                    <a:lnTo>
                      <a:pt x="956" y="884"/>
                    </a:lnTo>
                    <a:lnTo>
                      <a:pt x="930" y="714"/>
                    </a:lnTo>
                    <a:lnTo>
                      <a:pt x="882" y="558"/>
                    </a:lnTo>
                    <a:lnTo>
                      <a:pt x="820" y="428"/>
                    </a:lnTo>
                    <a:lnTo>
                      <a:pt x="742" y="298"/>
                    </a:lnTo>
                    <a:lnTo>
                      <a:pt x="672" y="203"/>
                    </a:lnTo>
                    <a:lnTo>
                      <a:pt x="586" y="95"/>
                    </a:lnTo>
                    <a:lnTo>
                      <a:pt x="455" y="0"/>
                    </a:lnTo>
                    <a:lnTo>
                      <a:pt x="542" y="134"/>
                    </a:lnTo>
                    <a:lnTo>
                      <a:pt x="603" y="225"/>
                    </a:lnTo>
                    <a:lnTo>
                      <a:pt x="668" y="333"/>
                    </a:lnTo>
                    <a:lnTo>
                      <a:pt x="742" y="472"/>
                    </a:lnTo>
                    <a:lnTo>
                      <a:pt x="798" y="615"/>
                    </a:lnTo>
                    <a:lnTo>
                      <a:pt x="843" y="802"/>
                    </a:lnTo>
                    <a:lnTo>
                      <a:pt x="860" y="1088"/>
                    </a:lnTo>
                    <a:lnTo>
                      <a:pt x="790" y="884"/>
                    </a:lnTo>
                    <a:lnTo>
                      <a:pt x="716" y="632"/>
                    </a:lnTo>
                    <a:lnTo>
                      <a:pt x="725" y="798"/>
                    </a:lnTo>
                    <a:lnTo>
                      <a:pt x="716" y="949"/>
                    </a:lnTo>
                    <a:lnTo>
                      <a:pt x="694" y="1053"/>
                    </a:lnTo>
                    <a:lnTo>
                      <a:pt x="672" y="1157"/>
                    </a:lnTo>
                    <a:lnTo>
                      <a:pt x="638" y="1036"/>
                    </a:lnTo>
                    <a:lnTo>
                      <a:pt x="607" y="945"/>
                    </a:lnTo>
                    <a:lnTo>
                      <a:pt x="568" y="832"/>
                    </a:lnTo>
                    <a:lnTo>
                      <a:pt x="586" y="772"/>
                    </a:lnTo>
                    <a:lnTo>
                      <a:pt x="599" y="706"/>
                    </a:lnTo>
                    <a:lnTo>
                      <a:pt x="581" y="632"/>
                    </a:lnTo>
                    <a:lnTo>
                      <a:pt x="564" y="706"/>
                    </a:lnTo>
                    <a:lnTo>
                      <a:pt x="547" y="759"/>
                    </a:lnTo>
                    <a:lnTo>
                      <a:pt x="507" y="815"/>
                    </a:lnTo>
                    <a:lnTo>
                      <a:pt x="429" y="763"/>
                    </a:lnTo>
                    <a:lnTo>
                      <a:pt x="351" y="706"/>
                    </a:lnTo>
                    <a:lnTo>
                      <a:pt x="269" y="667"/>
                    </a:lnTo>
                    <a:lnTo>
                      <a:pt x="182" y="645"/>
                    </a:lnTo>
                    <a:lnTo>
                      <a:pt x="91" y="628"/>
                    </a:lnTo>
                    <a:lnTo>
                      <a:pt x="0" y="632"/>
                    </a:lnTo>
                    <a:close/>
                  </a:path>
                </a:pathLst>
              </a:custGeom>
              <a:solidFill>
                <a:srgbClr val="7f5f3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3" name=""/>
            <p:cNvGrpSpPr/>
            <p:nvPr/>
          </p:nvGrpSpPr>
          <p:grpSpPr>
            <a:xfrm>
              <a:off x="4721400" y="5189400"/>
              <a:ext cx="662400" cy="838440"/>
              <a:chOff x="4721400" y="5189400"/>
              <a:chExt cx="662400" cy="838440"/>
            </a:xfrm>
          </p:grpSpPr>
          <p:sp>
            <p:nvSpPr>
              <p:cNvPr id="1314" name=""/>
              <p:cNvSpPr/>
              <p:nvPr/>
            </p:nvSpPr>
            <p:spPr>
              <a:xfrm>
                <a:off x="4807080" y="5189400"/>
                <a:ext cx="565560" cy="411480"/>
              </a:xfrm>
              <a:custGeom>
                <a:avLst/>
                <a:gdLst/>
                <a:ahLst/>
                <a:rect l="0" t="0" r="r" b="b"/>
                <a:pathLst>
                  <a:path w="1571" h="1143">
                    <a:moveTo>
                      <a:pt x="1571" y="224"/>
                    </a:moveTo>
                    <a:lnTo>
                      <a:pt x="1502" y="478"/>
                    </a:lnTo>
                    <a:lnTo>
                      <a:pt x="1441" y="555"/>
                    </a:lnTo>
                    <a:lnTo>
                      <a:pt x="1424" y="591"/>
                    </a:lnTo>
                    <a:lnTo>
                      <a:pt x="1433" y="651"/>
                    </a:lnTo>
                    <a:lnTo>
                      <a:pt x="1454" y="725"/>
                    </a:lnTo>
                    <a:lnTo>
                      <a:pt x="1459" y="798"/>
                    </a:lnTo>
                    <a:lnTo>
                      <a:pt x="1376" y="923"/>
                    </a:lnTo>
                    <a:lnTo>
                      <a:pt x="521" y="759"/>
                    </a:lnTo>
                    <a:lnTo>
                      <a:pt x="277" y="944"/>
                    </a:lnTo>
                    <a:lnTo>
                      <a:pt x="199" y="1031"/>
                    </a:lnTo>
                    <a:lnTo>
                      <a:pt x="143" y="1112"/>
                    </a:lnTo>
                    <a:lnTo>
                      <a:pt x="78" y="1143"/>
                    </a:lnTo>
                    <a:lnTo>
                      <a:pt x="34" y="1138"/>
                    </a:lnTo>
                    <a:lnTo>
                      <a:pt x="8" y="1117"/>
                    </a:lnTo>
                    <a:lnTo>
                      <a:pt x="0" y="1069"/>
                    </a:lnTo>
                    <a:lnTo>
                      <a:pt x="8" y="1018"/>
                    </a:lnTo>
                    <a:lnTo>
                      <a:pt x="34" y="975"/>
                    </a:lnTo>
                    <a:lnTo>
                      <a:pt x="104" y="871"/>
                    </a:lnTo>
                    <a:lnTo>
                      <a:pt x="156" y="824"/>
                    </a:lnTo>
                    <a:lnTo>
                      <a:pt x="216" y="772"/>
                    </a:lnTo>
                    <a:lnTo>
                      <a:pt x="281" y="681"/>
                    </a:lnTo>
                    <a:lnTo>
                      <a:pt x="325" y="621"/>
                    </a:lnTo>
                    <a:lnTo>
                      <a:pt x="377" y="568"/>
                    </a:lnTo>
                    <a:lnTo>
                      <a:pt x="421" y="534"/>
                    </a:lnTo>
                    <a:lnTo>
                      <a:pt x="582" y="426"/>
                    </a:lnTo>
                    <a:lnTo>
                      <a:pt x="707" y="336"/>
                    </a:lnTo>
                    <a:lnTo>
                      <a:pt x="833" y="267"/>
                    </a:lnTo>
                    <a:lnTo>
                      <a:pt x="920" y="219"/>
                    </a:lnTo>
                    <a:lnTo>
                      <a:pt x="903" y="172"/>
                    </a:lnTo>
                    <a:lnTo>
                      <a:pt x="920" y="103"/>
                    </a:lnTo>
                    <a:lnTo>
                      <a:pt x="1033" y="0"/>
                    </a:lnTo>
                    <a:lnTo>
                      <a:pt x="1571" y="224"/>
                    </a:lnTo>
                    <a:close/>
                  </a:path>
                </a:pathLst>
              </a:custGeom>
              <a:solidFill>
                <a:srgbClr val="ff7f3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4721400" y="5340240"/>
                <a:ext cx="662400" cy="687600"/>
              </a:xfrm>
              <a:custGeom>
                <a:avLst/>
                <a:gdLst/>
                <a:ahLst/>
                <a:rect l="0" t="0" r="r" b="b"/>
                <a:pathLst>
                  <a:path w="1840" h="1910">
                    <a:moveTo>
                      <a:pt x="0" y="1401"/>
                    </a:moveTo>
                    <a:lnTo>
                      <a:pt x="99" y="1284"/>
                    </a:lnTo>
                    <a:lnTo>
                      <a:pt x="195" y="1210"/>
                    </a:lnTo>
                    <a:lnTo>
                      <a:pt x="382" y="1079"/>
                    </a:lnTo>
                    <a:lnTo>
                      <a:pt x="378" y="948"/>
                    </a:lnTo>
                    <a:lnTo>
                      <a:pt x="373" y="795"/>
                    </a:lnTo>
                    <a:lnTo>
                      <a:pt x="382" y="656"/>
                    </a:lnTo>
                    <a:lnTo>
                      <a:pt x="395" y="517"/>
                    </a:lnTo>
                    <a:lnTo>
                      <a:pt x="421" y="469"/>
                    </a:lnTo>
                    <a:lnTo>
                      <a:pt x="466" y="430"/>
                    </a:lnTo>
                    <a:lnTo>
                      <a:pt x="535" y="387"/>
                    </a:lnTo>
                    <a:lnTo>
                      <a:pt x="600" y="343"/>
                    </a:lnTo>
                    <a:lnTo>
                      <a:pt x="640" y="282"/>
                    </a:lnTo>
                    <a:lnTo>
                      <a:pt x="657" y="243"/>
                    </a:lnTo>
                    <a:lnTo>
                      <a:pt x="683" y="204"/>
                    </a:lnTo>
                    <a:lnTo>
                      <a:pt x="744" y="91"/>
                    </a:lnTo>
                    <a:lnTo>
                      <a:pt x="774" y="69"/>
                    </a:lnTo>
                    <a:lnTo>
                      <a:pt x="813" y="60"/>
                    </a:lnTo>
                    <a:lnTo>
                      <a:pt x="848" y="69"/>
                    </a:lnTo>
                    <a:lnTo>
                      <a:pt x="861" y="108"/>
                    </a:lnTo>
                    <a:lnTo>
                      <a:pt x="879" y="178"/>
                    </a:lnTo>
                    <a:lnTo>
                      <a:pt x="866" y="256"/>
                    </a:lnTo>
                    <a:lnTo>
                      <a:pt x="844" y="339"/>
                    </a:lnTo>
                    <a:lnTo>
                      <a:pt x="944" y="213"/>
                    </a:lnTo>
                    <a:lnTo>
                      <a:pt x="1048" y="108"/>
                    </a:lnTo>
                    <a:lnTo>
                      <a:pt x="1183" y="26"/>
                    </a:lnTo>
                    <a:lnTo>
                      <a:pt x="1248" y="0"/>
                    </a:lnTo>
                    <a:lnTo>
                      <a:pt x="1322" y="17"/>
                    </a:lnTo>
                    <a:lnTo>
                      <a:pt x="1388" y="39"/>
                    </a:lnTo>
                    <a:lnTo>
                      <a:pt x="1453" y="69"/>
                    </a:lnTo>
                    <a:lnTo>
                      <a:pt x="1527" y="108"/>
                    </a:lnTo>
                    <a:lnTo>
                      <a:pt x="1558" y="134"/>
                    </a:lnTo>
                    <a:lnTo>
                      <a:pt x="1593" y="195"/>
                    </a:lnTo>
                    <a:lnTo>
                      <a:pt x="1601" y="252"/>
                    </a:lnTo>
                    <a:lnTo>
                      <a:pt x="1640" y="282"/>
                    </a:lnTo>
                    <a:lnTo>
                      <a:pt x="1671" y="321"/>
                    </a:lnTo>
                    <a:lnTo>
                      <a:pt x="1697" y="391"/>
                    </a:lnTo>
                    <a:lnTo>
                      <a:pt x="1710" y="443"/>
                    </a:lnTo>
                    <a:lnTo>
                      <a:pt x="1697" y="495"/>
                    </a:lnTo>
                    <a:lnTo>
                      <a:pt x="1740" y="517"/>
                    </a:lnTo>
                    <a:lnTo>
                      <a:pt x="1762" y="552"/>
                    </a:lnTo>
                    <a:lnTo>
                      <a:pt x="1745" y="621"/>
                    </a:lnTo>
                    <a:lnTo>
                      <a:pt x="1697" y="691"/>
                    </a:lnTo>
                    <a:lnTo>
                      <a:pt x="1749" y="769"/>
                    </a:lnTo>
                    <a:lnTo>
                      <a:pt x="1801" y="835"/>
                    </a:lnTo>
                    <a:lnTo>
                      <a:pt x="1840" y="948"/>
                    </a:lnTo>
                    <a:lnTo>
                      <a:pt x="1814" y="975"/>
                    </a:lnTo>
                    <a:lnTo>
                      <a:pt x="1749" y="979"/>
                    </a:lnTo>
                    <a:lnTo>
                      <a:pt x="1701" y="939"/>
                    </a:lnTo>
                    <a:lnTo>
                      <a:pt x="1645" y="913"/>
                    </a:lnTo>
                    <a:lnTo>
                      <a:pt x="1593" y="909"/>
                    </a:lnTo>
                    <a:lnTo>
                      <a:pt x="1536" y="917"/>
                    </a:lnTo>
                    <a:lnTo>
                      <a:pt x="1471" y="983"/>
                    </a:lnTo>
                    <a:lnTo>
                      <a:pt x="1423" y="1070"/>
                    </a:lnTo>
                    <a:lnTo>
                      <a:pt x="1370" y="1192"/>
                    </a:lnTo>
                    <a:lnTo>
                      <a:pt x="1292" y="1275"/>
                    </a:lnTo>
                    <a:lnTo>
                      <a:pt x="1209" y="1318"/>
                    </a:lnTo>
                    <a:lnTo>
                      <a:pt x="1079" y="1423"/>
                    </a:lnTo>
                    <a:lnTo>
                      <a:pt x="979" y="1510"/>
                    </a:lnTo>
                    <a:lnTo>
                      <a:pt x="787" y="1627"/>
                    </a:lnTo>
                    <a:lnTo>
                      <a:pt x="339" y="1910"/>
                    </a:lnTo>
                    <a:lnTo>
                      <a:pt x="0" y="1401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4762440" y="5452920"/>
                <a:ext cx="300240" cy="533880"/>
              </a:xfrm>
              <a:custGeom>
                <a:avLst/>
                <a:gdLst/>
                <a:ahLst/>
                <a:rect l="0" t="0" r="r" b="b"/>
                <a:pathLst>
                  <a:path w="834" h="1483">
                    <a:moveTo>
                      <a:pt x="401" y="307"/>
                    </a:moveTo>
                    <a:lnTo>
                      <a:pt x="441" y="255"/>
                    </a:lnTo>
                    <a:lnTo>
                      <a:pt x="509" y="229"/>
                    </a:lnTo>
                    <a:lnTo>
                      <a:pt x="573" y="177"/>
                    </a:lnTo>
                    <a:lnTo>
                      <a:pt x="629" y="108"/>
                    </a:lnTo>
                    <a:lnTo>
                      <a:pt x="697" y="0"/>
                    </a:lnTo>
                    <a:lnTo>
                      <a:pt x="625" y="151"/>
                    </a:lnTo>
                    <a:lnTo>
                      <a:pt x="577" y="216"/>
                    </a:lnTo>
                    <a:lnTo>
                      <a:pt x="522" y="298"/>
                    </a:lnTo>
                    <a:lnTo>
                      <a:pt x="492" y="377"/>
                    </a:lnTo>
                    <a:lnTo>
                      <a:pt x="479" y="481"/>
                    </a:lnTo>
                    <a:lnTo>
                      <a:pt x="505" y="551"/>
                    </a:lnTo>
                    <a:lnTo>
                      <a:pt x="577" y="559"/>
                    </a:lnTo>
                    <a:lnTo>
                      <a:pt x="663" y="546"/>
                    </a:lnTo>
                    <a:lnTo>
                      <a:pt x="744" y="525"/>
                    </a:lnTo>
                    <a:lnTo>
                      <a:pt x="774" y="577"/>
                    </a:lnTo>
                    <a:lnTo>
                      <a:pt x="783" y="646"/>
                    </a:lnTo>
                    <a:lnTo>
                      <a:pt x="766" y="720"/>
                    </a:lnTo>
                    <a:lnTo>
                      <a:pt x="723" y="806"/>
                    </a:lnTo>
                    <a:lnTo>
                      <a:pt x="744" y="858"/>
                    </a:lnTo>
                    <a:lnTo>
                      <a:pt x="778" y="915"/>
                    </a:lnTo>
                    <a:lnTo>
                      <a:pt x="834" y="945"/>
                    </a:lnTo>
                    <a:lnTo>
                      <a:pt x="766" y="954"/>
                    </a:lnTo>
                    <a:lnTo>
                      <a:pt x="706" y="967"/>
                    </a:lnTo>
                    <a:lnTo>
                      <a:pt x="650" y="1006"/>
                    </a:lnTo>
                    <a:lnTo>
                      <a:pt x="625" y="1071"/>
                    </a:lnTo>
                    <a:lnTo>
                      <a:pt x="629" y="1150"/>
                    </a:lnTo>
                    <a:lnTo>
                      <a:pt x="646" y="1232"/>
                    </a:lnTo>
                    <a:lnTo>
                      <a:pt x="663" y="1310"/>
                    </a:lnTo>
                    <a:lnTo>
                      <a:pt x="414" y="1483"/>
                    </a:lnTo>
                    <a:lnTo>
                      <a:pt x="111" y="1145"/>
                    </a:lnTo>
                    <a:lnTo>
                      <a:pt x="0" y="945"/>
                    </a:lnTo>
                    <a:lnTo>
                      <a:pt x="145" y="845"/>
                    </a:lnTo>
                    <a:lnTo>
                      <a:pt x="269" y="754"/>
                    </a:lnTo>
                    <a:lnTo>
                      <a:pt x="312" y="681"/>
                    </a:lnTo>
                    <a:lnTo>
                      <a:pt x="333" y="546"/>
                    </a:lnTo>
                    <a:lnTo>
                      <a:pt x="346" y="403"/>
                    </a:lnTo>
                    <a:lnTo>
                      <a:pt x="401" y="307"/>
                    </a:lnTo>
                    <a:close/>
                  </a:path>
                </a:pathLst>
              </a:custGeom>
              <a:solidFill>
                <a:srgbClr val="ff7f3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5213520" y="5580000"/>
                <a:ext cx="117720" cy="46440"/>
              </a:xfrm>
              <a:custGeom>
                <a:avLst/>
                <a:gdLst/>
                <a:ahLst/>
                <a:rect l="0" t="0" r="r" b="b"/>
                <a:pathLst>
                  <a:path w="327" h="129">
                    <a:moveTo>
                      <a:pt x="327" y="37"/>
                    </a:moveTo>
                    <a:lnTo>
                      <a:pt x="257" y="25"/>
                    </a:lnTo>
                    <a:lnTo>
                      <a:pt x="192" y="29"/>
                    </a:lnTo>
                    <a:lnTo>
                      <a:pt x="122" y="63"/>
                    </a:lnTo>
                    <a:lnTo>
                      <a:pt x="0" y="129"/>
                    </a:lnTo>
                    <a:lnTo>
                      <a:pt x="65" y="81"/>
                    </a:lnTo>
                    <a:lnTo>
                      <a:pt x="126" y="33"/>
                    </a:lnTo>
                    <a:lnTo>
                      <a:pt x="196" y="3"/>
                    </a:lnTo>
                    <a:lnTo>
                      <a:pt x="249" y="0"/>
                    </a:lnTo>
                    <a:lnTo>
                      <a:pt x="302" y="14"/>
                    </a:lnTo>
                    <a:lnTo>
                      <a:pt x="327" y="37"/>
                    </a:lnTo>
                    <a:close/>
                  </a:path>
                </a:pathLst>
              </a:custGeom>
              <a:solidFill>
                <a:srgbClr val="ff7f3f"/>
              </a:solidFill>
              <a:ln w="0">
                <a:noFill/>
              </a:ln>
            </p:spPr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5189400" y="5502240"/>
                <a:ext cx="141480" cy="44640"/>
              </a:xfrm>
              <a:custGeom>
                <a:avLst/>
                <a:gdLst/>
                <a:ahLst/>
                <a:rect l="0" t="0" r="r" b="b"/>
                <a:pathLst>
                  <a:path w="393" h="124">
                    <a:moveTo>
                      <a:pt x="393" y="43"/>
                    </a:moveTo>
                    <a:lnTo>
                      <a:pt x="327" y="25"/>
                    </a:lnTo>
                    <a:lnTo>
                      <a:pt x="261" y="18"/>
                    </a:lnTo>
                    <a:lnTo>
                      <a:pt x="177" y="39"/>
                    </a:lnTo>
                    <a:lnTo>
                      <a:pt x="61" y="102"/>
                    </a:lnTo>
                    <a:lnTo>
                      <a:pt x="0" y="124"/>
                    </a:lnTo>
                    <a:lnTo>
                      <a:pt x="86" y="77"/>
                    </a:lnTo>
                    <a:lnTo>
                      <a:pt x="144" y="39"/>
                    </a:lnTo>
                    <a:lnTo>
                      <a:pt x="190" y="18"/>
                    </a:lnTo>
                    <a:lnTo>
                      <a:pt x="253" y="0"/>
                    </a:lnTo>
                    <a:lnTo>
                      <a:pt x="302" y="7"/>
                    </a:lnTo>
                    <a:lnTo>
                      <a:pt x="393" y="43"/>
                    </a:lnTo>
                    <a:close/>
                  </a:path>
                </a:pathLst>
              </a:custGeom>
              <a:solidFill>
                <a:srgbClr val="ff7f3f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5151600" y="5411880"/>
                <a:ext cx="141480" cy="84600"/>
              </a:xfrm>
              <a:custGeom>
                <a:avLst/>
                <a:gdLst/>
                <a:ahLst/>
                <a:rect l="0" t="0" r="r" b="b"/>
                <a:pathLst>
                  <a:path w="393" h="235">
                    <a:moveTo>
                      <a:pt x="393" y="51"/>
                    </a:moveTo>
                    <a:lnTo>
                      <a:pt x="348" y="68"/>
                    </a:lnTo>
                    <a:lnTo>
                      <a:pt x="310" y="68"/>
                    </a:lnTo>
                    <a:lnTo>
                      <a:pt x="265" y="51"/>
                    </a:lnTo>
                    <a:lnTo>
                      <a:pt x="228" y="27"/>
                    </a:lnTo>
                    <a:lnTo>
                      <a:pt x="148" y="68"/>
                    </a:lnTo>
                    <a:lnTo>
                      <a:pt x="99" y="111"/>
                    </a:lnTo>
                    <a:lnTo>
                      <a:pt x="41" y="175"/>
                    </a:lnTo>
                    <a:lnTo>
                      <a:pt x="0" y="235"/>
                    </a:lnTo>
                    <a:lnTo>
                      <a:pt x="49" y="143"/>
                    </a:lnTo>
                    <a:lnTo>
                      <a:pt x="111" y="68"/>
                    </a:lnTo>
                    <a:lnTo>
                      <a:pt x="161" y="27"/>
                    </a:lnTo>
                    <a:lnTo>
                      <a:pt x="215" y="11"/>
                    </a:lnTo>
                    <a:lnTo>
                      <a:pt x="240" y="0"/>
                    </a:lnTo>
                    <a:lnTo>
                      <a:pt x="277" y="35"/>
                    </a:lnTo>
                    <a:lnTo>
                      <a:pt x="310" y="43"/>
                    </a:lnTo>
                    <a:lnTo>
                      <a:pt x="348" y="51"/>
                    </a:lnTo>
                    <a:lnTo>
                      <a:pt x="393" y="51"/>
                    </a:lnTo>
                    <a:close/>
                  </a:path>
                </a:pathLst>
              </a:custGeom>
              <a:solidFill>
                <a:srgbClr val="ff7f3f"/>
              </a:solidFill>
              <a:ln w="0">
                <a:noFill/>
              </a:ln>
            </p:spPr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0" name=""/>
            <p:cNvGrpSpPr/>
            <p:nvPr/>
          </p:nvGrpSpPr>
          <p:grpSpPr>
            <a:xfrm>
              <a:off x="3552840" y="4437000"/>
              <a:ext cx="2067120" cy="1957680"/>
              <a:chOff x="3552840" y="4437000"/>
              <a:chExt cx="2067120" cy="1957680"/>
            </a:xfrm>
          </p:grpSpPr>
          <p:grpSp>
            <p:nvGrpSpPr>
              <p:cNvPr id="1321" name=""/>
              <p:cNvGrpSpPr/>
              <p:nvPr/>
            </p:nvGrpSpPr>
            <p:grpSpPr>
              <a:xfrm>
                <a:off x="3552840" y="4437000"/>
                <a:ext cx="2067120" cy="1957680"/>
                <a:chOff x="3552840" y="4437000"/>
                <a:chExt cx="2067120" cy="1957680"/>
              </a:xfrm>
            </p:grpSpPr>
            <p:sp>
              <p:nvSpPr>
                <p:cNvPr id="1322" name=""/>
                <p:cNvSpPr/>
                <p:nvPr/>
              </p:nvSpPr>
              <p:spPr>
                <a:xfrm>
                  <a:off x="3552840" y="4437000"/>
                  <a:ext cx="2067120" cy="1957680"/>
                </a:xfrm>
                <a:custGeom>
                  <a:avLst/>
                  <a:gdLst/>
                  <a:ahLst/>
                  <a:rect l="0" t="0" r="r" b="b"/>
                  <a:pathLst>
                    <a:path w="5742" h="5438">
                      <a:moveTo>
                        <a:pt x="1624" y="57"/>
                      </a:moveTo>
                      <a:lnTo>
                        <a:pt x="1575" y="65"/>
                      </a:lnTo>
                      <a:lnTo>
                        <a:pt x="1536" y="109"/>
                      </a:lnTo>
                      <a:lnTo>
                        <a:pt x="1492" y="144"/>
                      </a:lnTo>
                      <a:lnTo>
                        <a:pt x="1422" y="171"/>
                      </a:lnTo>
                      <a:lnTo>
                        <a:pt x="1343" y="184"/>
                      </a:lnTo>
                      <a:lnTo>
                        <a:pt x="1281" y="215"/>
                      </a:lnTo>
                      <a:lnTo>
                        <a:pt x="1189" y="298"/>
                      </a:lnTo>
                      <a:lnTo>
                        <a:pt x="1071" y="399"/>
                      </a:lnTo>
                      <a:lnTo>
                        <a:pt x="952" y="513"/>
                      </a:lnTo>
                      <a:lnTo>
                        <a:pt x="855" y="627"/>
                      </a:lnTo>
                      <a:lnTo>
                        <a:pt x="807" y="706"/>
                      </a:lnTo>
                      <a:lnTo>
                        <a:pt x="750" y="781"/>
                      </a:lnTo>
                      <a:lnTo>
                        <a:pt x="680" y="855"/>
                      </a:lnTo>
                      <a:lnTo>
                        <a:pt x="583" y="956"/>
                      </a:lnTo>
                      <a:lnTo>
                        <a:pt x="509" y="1048"/>
                      </a:lnTo>
                      <a:lnTo>
                        <a:pt x="434" y="1154"/>
                      </a:lnTo>
                      <a:lnTo>
                        <a:pt x="377" y="1263"/>
                      </a:lnTo>
                      <a:lnTo>
                        <a:pt x="316" y="1399"/>
                      </a:lnTo>
                      <a:lnTo>
                        <a:pt x="254" y="1549"/>
                      </a:lnTo>
                      <a:lnTo>
                        <a:pt x="215" y="1680"/>
                      </a:lnTo>
                      <a:lnTo>
                        <a:pt x="188" y="1742"/>
                      </a:lnTo>
                      <a:lnTo>
                        <a:pt x="197" y="1794"/>
                      </a:lnTo>
                      <a:lnTo>
                        <a:pt x="162" y="1886"/>
                      </a:lnTo>
                      <a:lnTo>
                        <a:pt x="131" y="1965"/>
                      </a:lnTo>
                      <a:lnTo>
                        <a:pt x="114" y="2080"/>
                      </a:lnTo>
                      <a:lnTo>
                        <a:pt x="127" y="2181"/>
                      </a:lnTo>
                      <a:lnTo>
                        <a:pt x="136" y="2277"/>
                      </a:lnTo>
                      <a:lnTo>
                        <a:pt x="114" y="2369"/>
                      </a:lnTo>
                      <a:lnTo>
                        <a:pt x="61" y="2400"/>
                      </a:lnTo>
                      <a:lnTo>
                        <a:pt x="26" y="2461"/>
                      </a:lnTo>
                      <a:lnTo>
                        <a:pt x="8" y="2562"/>
                      </a:lnTo>
                      <a:lnTo>
                        <a:pt x="0" y="2712"/>
                      </a:lnTo>
                      <a:lnTo>
                        <a:pt x="4" y="2892"/>
                      </a:lnTo>
                      <a:lnTo>
                        <a:pt x="21" y="3138"/>
                      </a:lnTo>
                      <a:lnTo>
                        <a:pt x="13" y="3305"/>
                      </a:lnTo>
                      <a:lnTo>
                        <a:pt x="4" y="3485"/>
                      </a:lnTo>
                      <a:lnTo>
                        <a:pt x="8" y="3647"/>
                      </a:lnTo>
                      <a:lnTo>
                        <a:pt x="21" y="3853"/>
                      </a:lnTo>
                      <a:lnTo>
                        <a:pt x="48" y="3902"/>
                      </a:lnTo>
                      <a:lnTo>
                        <a:pt x="83" y="3941"/>
                      </a:lnTo>
                      <a:lnTo>
                        <a:pt x="74" y="4055"/>
                      </a:lnTo>
                      <a:lnTo>
                        <a:pt x="61" y="4226"/>
                      </a:lnTo>
                      <a:lnTo>
                        <a:pt x="83" y="4341"/>
                      </a:lnTo>
                      <a:lnTo>
                        <a:pt x="65" y="4494"/>
                      </a:lnTo>
                      <a:lnTo>
                        <a:pt x="83" y="4635"/>
                      </a:lnTo>
                      <a:lnTo>
                        <a:pt x="122" y="4766"/>
                      </a:lnTo>
                      <a:lnTo>
                        <a:pt x="166" y="4880"/>
                      </a:lnTo>
                      <a:lnTo>
                        <a:pt x="228" y="5012"/>
                      </a:lnTo>
                      <a:lnTo>
                        <a:pt x="280" y="5104"/>
                      </a:lnTo>
                      <a:lnTo>
                        <a:pt x="342" y="5196"/>
                      </a:lnTo>
                      <a:lnTo>
                        <a:pt x="430" y="5267"/>
                      </a:lnTo>
                      <a:lnTo>
                        <a:pt x="539" y="5350"/>
                      </a:lnTo>
                      <a:lnTo>
                        <a:pt x="640" y="5438"/>
                      </a:lnTo>
                      <a:lnTo>
                        <a:pt x="2884" y="5438"/>
                      </a:lnTo>
                      <a:lnTo>
                        <a:pt x="2972" y="5341"/>
                      </a:lnTo>
                      <a:lnTo>
                        <a:pt x="3086" y="5280"/>
                      </a:lnTo>
                      <a:lnTo>
                        <a:pt x="3143" y="5249"/>
                      </a:lnTo>
                      <a:lnTo>
                        <a:pt x="3170" y="5227"/>
                      </a:lnTo>
                      <a:lnTo>
                        <a:pt x="3231" y="5082"/>
                      </a:lnTo>
                      <a:lnTo>
                        <a:pt x="3284" y="4999"/>
                      </a:lnTo>
                      <a:lnTo>
                        <a:pt x="3380" y="4933"/>
                      </a:lnTo>
                      <a:lnTo>
                        <a:pt x="3459" y="4907"/>
                      </a:lnTo>
                      <a:lnTo>
                        <a:pt x="3508" y="4858"/>
                      </a:lnTo>
                      <a:lnTo>
                        <a:pt x="3543" y="4793"/>
                      </a:lnTo>
                      <a:lnTo>
                        <a:pt x="3648" y="4757"/>
                      </a:lnTo>
                      <a:lnTo>
                        <a:pt x="3727" y="4714"/>
                      </a:lnTo>
                      <a:lnTo>
                        <a:pt x="3771" y="4652"/>
                      </a:lnTo>
                      <a:lnTo>
                        <a:pt x="3828" y="4635"/>
                      </a:lnTo>
                      <a:lnTo>
                        <a:pt x="3846" y="4591"/>
                      </a:lnTo>
                      <a:lnTo>
                        <a:pt x="3841" y="4512"/>
                      </a:lnTo>
                      <a:lnTo>
                        <a:pt x="3837" y="4345"/>
                      </a:lnTo>
                      <a:lnTo>
                        <a:pt x="3846" y="4240"/>
                      </a:lnTo>
                      <a:lnTo>
                        <a:pt x="3841" y="4117"/>
                      </a:lnTo>
                      <a:lnTo>
                        <a:pt x="3775" y="4007"/>
                      </a:lnTo>
                      <a:lnTo>
                        <a:pt x="3688" y="3911"/>
                      </a:lnTo>
                      <a:lnTo>
                        <a:pt x="3613" y="3849"/>
                      </a:lnTo>
                      <a:lnTo>
                        <a:pt x="3516" y="3788"/>
                      </a:lnTo>
                      <a:lnTo>
                        <a:pt x="3429" y="3739"/>
                      </a:lnTo>
                      <a:lnTo>
                        <a:pt x="3341" y="3744"/>
                      </a:lnTo>
                      <a:lnTo>
                        <a:pt x="3258" y="3766"/>
                      </a:lnTo>
                      <a:lnTo>
                        <a:pt x="3205" y="3827"/>
                      </a:lnTo>
                      <a:lnTo>
                        <a:pt x="3157" y="3862"/>
                      </a:lnTo>
                      <a:lnTo>
                        <a:pt x="3086" y="3911"/>
                      </a:lnTo>
                      <a:lnTo>
                        <a:pt x="3051" y="3959"/>
                      </a:lnTo>
                      <a:lnTo>
                        <a:pt x="2999" y="3968"/>
                      </a:lnTo>
                      <a:lnTo>
                        <a:pt x="2955" y="4011"/>
                      </a:lnTo>
                      <a:lnTo>
                        <a:pt x="2915" y="4082"/>
                      </a:lnTo>
                      <a:lnTo>
                        <a:pt x="2848" y="4064"/>
                      </a:lnTo>
                      <a:lnTo>
                        <a:pt x="2800" y="4082"/>
                      </a:lnTo>
                      <a:lnTo>
                        <a:pt x="2774" y="4121"/>
                      </a:lnTo>
                      <a:lnTo>
                        <a:pt x="2739" y="4139"/>
                      </a:lnTo>
                      <a:lnTo>
                        <a:pt x="2681" y="4156"/>
                      </a:lnTo>
                      <a:lnTo>
                        <a:pt x="2624" y="4139"/>
                      </a:lnTo>
                      <a:lnTo>
                        <a:pt x="2572" y="4055"/>
                      </a:lnTo>
                      <a:lnTo>
                        <a:pt x="2760" y="3937"/>
                      </a:lnTo>
                      <a:lnTo>
                        <a:pt x="3121" y="3520"/>
                      </a:lnTo>
                      <a:lnTo>
                        <a:pt x="3723" y="2792"/>
                      </a:lnTo>
                      <a:lnTo>
                        <a:pt x="3758" y="2694"/>
                      </a:lnTo>
                      <a:lnTo>
                        <a:pt x="3767" y="2567"/>
                      </a:lnTo>
                      <a:lnTo>
                        <a:pt x="3749" y="2422"/>
                      </a:lnTo>
                      <a:lnTo>
                        <a:pt x="3833" y="2400"/>
                      </a:lnTo>
                      <a:lnTo>
                        <a:pt x="3898" y="2347"/>
                      </a:lnTo>
                      <a:lnTo>
                        <a:pt x="3894" y="2303"/>
                      </a:lnTo>
                      <a:lnTo>
                        <a:pt x="3841" y="2181"/>
                      </a:lnTo>
                      <a:lnTo>
                        <a:pt x="3802" y="2080"/>
                      </a:lnTo>
                      <a:lnTo>
                        <a:pt x="3828" y="1882"/>
                      </a:lnTo>
                      <a:lnTo>
                        <a:pt x="3837" y="1746"/>
                      </a:lnTo>
                      <a:lnTo>
                        <a:pt x="3833" y="1623"/>
                      </a:lnTo>
                      <a:lnTo>
                        <a:pt x="3920" y="1676"/>
                      </a:lnTo>
                      <a:lnTo>
                        <a:pt x="3995" y="1737"/>
                      </a:lnTo>
                      <a:lnTo>
                        <a:pt x="4087" y="1768"/>
                      </a:lnTo>
                      <a:lnTo>
                        <a:pt x="4197" y="1781"/>
                      </a:lnTo>
                      <a:lnTo>
                        <a:pt x="4293" y="1772"/>
                      </a:lnTo>
                      <a:lnTo>
                        <a:pt x="4438" y="1742"/>
                      </a:lnTo>
                      <a:lnTo>
                        <a:pt x="4535" y="1715"/>
                      </a:lnTo>
                      <a:lnTo>
                        <a:pt x="4627" y="1711"/>
                      </a:lnTo>
                      <a:lnTo>
                        <a:pt x="4579" y="1825"/>
                      </a:lnTo>
                      <a:lnTo>
                        <a:pt x="4548" y="1935"/>
                      </a:lnTo>
                      <a:lnTo>
                        <a:pt x="4482" y="2014"/>
                      </a:lnTo>
                      <a:lnTo>
                        <a:pt x="4425" y="2088"/>
                      </a:lnTo>
                      <a:lnTo>
                        <a:pt x="4386" y="2150"/>
                      </a:lnTo>
                      <a:lnTo>
                        <a:pt x="4359" y="2211"/>
                      </a:lnTo>
                      <a:lnTo>
                        <a:pt x="4368" y="2251"/>
                      </a:lnTo>
                      <a:lnTo>
                        <a:pt x="4403" y="2308"/>
                      </a:lnTo>
                      <a:lnTo>
                        <a:pt x="4390" y="2255"/>
                      </a:lnTo>
                      <a:lnTo>
                        <a:pt x="4416" y="2216"/>
                      </a:lnTo>
                      <a:lnTo>
                        <a:pt x="4465" y="2198"/>
                      </a:lnTo>
                      <a:lnTo>
                        <a:pt x="4526" y="2194"/>
                      </a:lnTo>
                      <a:lnTo>
                        <a:pt x="4605" y="2202"/>
                      </a:lnTo>
                      <a:lnTo>
                        <a:pt x="4684" y="2229"/>
                      </a:lnTo>
                      <a:lnTo>
                        <a:pt x="4763" y="2268"/>
                      </a:lnTo>
                      <a:lnTo>
                        <a:pt x="4838" y="2321"/>
                      </a:lnTo>
                      <a:lnTo>
                        <a:pt x="4899" y="2382"/>
                      </a:lnTo>
                      <a:lnTo>
                        <a:pt x="4961" y="2461"/>
                      </a:lnTo>
                      <a:lnTo>
                        <a:pt x="4987" y="2536"/>
                      </a:lnTo>
                      <a:lnTo>
                        <a:pt x="4965" y="2571"/>
                      </a:lnTo>
                      <a:lnTo>
                        <a:pt x="4947" y="2602"/>
                      </a:lnTo>
                      <a:lnTo>
                        <a:pt x="4991" y="2602"/>
                      </a:lnTo>
                      <a:lnTo>
                        <a:pt x="5040" y="2589"/>
                      </a:lnTo>
                      <a:lnTo>
                        <a:pt x="5075" y="2571"/>
                      </a:lnTo>
                      <a:lnTo>
                        <a:pt x="5114" y="2514"/>
                      </a:lnTo>
                      <a:lnTo>
                        <a:pt x="5145" y="2444"/>
                      </a:lnTo>
                      <a:lnTo>
                        <a:pt x="5215" y="2378"/>
                      </a:lnTo>
                      <a:lnTo>
                        <a:pt x="5259" y="2308"/>
                      </a:lnTo>
                      <a:lnTo>
                        <a:pt x="5334" y="2299"/>
                      </a:lnTo>
                      <a:lnTo>
                        <a:pt x="5404" y="2299"/>
                      </a:lnTo>
                      <a:lnTo>
                        <a:pt x="5461" y="2286"/>
                      </a:lnTo>
                      <a:lnTo>
                        <a:pt x="5514" y="2194"/>
                      </a:lnTo>
                      <a:lnTo>
                        <a:pt x="5575" y="2080"/>
                      </a:lnTo>
                      <a:lnTo>
                        <a:pt x="5628" y="1965"/>
                      </a:lnTo>
                      <a:lnTo>
                        <a:pt x="5681" y="1886"/>
                      </a:lnTo>
                      <a:lnTo>
                        <a:pt x="5689" y="1825"/>
                      </a:lnTo>
                      <a:lnTo>
                        <a:pt x="5729" y="1636"/>
                      </a:lnTo>
                      <a:lnTo>
                        <a:pt x="5742" y="1478"/>
                      </a:lnTo>
                      <a:lnTo>
                        <a:pt x="5733" y="1347"/>
                      </a:lnTo>
                      <a:lnTo>
                        <a:pt x="5720" y="1224"/>
                      </a:lnTo>
                      <a:lnTo>
                        <a:pt x="5698" y="1158"/>
                      </a:lnTo>
                      <a:lnTo>
                        <a:pt x="5628" y="1048"/>
                      </a:lnTo>
                      <a:lnTo>
                        <a:pt x="5553" y="934"/>
                      </a:lnTo>
                      <a:lnTo>
                        <a:pt x="5492" y="855"/>
                      </a:lnTo>
                      <a:lnTo>
                        <a:pt x="5448" y="838"/>
                      </a:lnTo>
                      <a:lnTo>
                        <a:pt x="5211" y="767"/>
                      </a:lnTo>
                      <a:lnTo>
                        <a:pt x="4996" y="636"/>
                      </a:lnTo>
                      <a:lnTo>
                        <a:pt x="4693" y="473"/>
                      </a:lnTo>
                      <a:lnTo>
                        <a:pt x="4267" y="294"/>
                      </a:lnTo>
                      <a:lnTo>
                        <a:pt x="4109" y="219"/>
                      </a:lnTo>
                      <a:lnTo>
                        <a:pt x="3960" y="118"/>
                      </a:lnTo>
                      <a:lnTo>
                        <a:pt x="3824" y="0"/>
                      </a:lnTo>
                      <a:lnTo>
                        <a:pt x="3574" y="26"/>
                      </a:lnTo>
                      <a:lnTo>
                        <a:pt x="2884" y="1110"/>
                      </a:lnTo>
                      <a:lnTo>
                        <a:pt x="2550" y="996"/>
                      </a:lnTo>
                      <a:lnTo>
                        <a:pt x="2431" y="934"/>
                      </a:lnTo>
                      <a:lnTo>
                        <a:pt x="2326" y="877"/>
                      </a:lnTo>
                      <a:lnTo>
                        <a:pt x="2207" y="781"/>
                      </a:lnTo>
                      <a:lnTo>
                        <a:pt x="2085" y="658"/>
                      </a:lnTo>
                      <a:lnTo>
                        <a:pt x="1940" y="482"/>
                      </a:lnTo>
                      <a:lnTo>
                        <a:pt x="1624" y="5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23" name=""/>
                <p:cNvGrpSpPr/>
                <p:nvPr/>
              </p:nvGrpSpPr>
              <p:grpSpPr>
                <a:xfrm>
                  <a:off x="3584520" y="4438800"/>
                  <a:ext cx="1994040" cy="1954440"/>
                  <a:chOff x="3584520" y="4438800"/>
                  <a:chExt cx="1994040" cy="1954440"/>
                </a:xfrm>
              </p:grpSpPr>
              <p:sp>
                <p:nvSpPr>
                  <p:cNvPr id="1324" name=""/>
                  <p:cNvSpPr/>
                  <p:nvPr/>
                </p:nvSpPr>
                <p:spPr>
                  <a:xfrm>
                    <a:off x="4943520" y="4764240"/>
                    <a:ext cx="201960" cy="248040"/>
                  </a:xfrm>
                  <a:custGeom>
                    <a:avLst/>
                    <a:gdLst/>
                    <a:ahLst/>
                    <a:rect l="0" t="0" r="r" b="b"/>
                    <a:pathLst>
                      <a:path w="561" h="689">
                        <a:moveTo>
                          <a:pt x="0" y="677"/>
                        </a:moveTo>
                        <a:lnTo>
                          <a:pt x="25" y="532"/>
                        </a:lnTo>
                        <a:lnTo>
                          <a:pt x="46" y="400"/>
                        </a:lnTo>
                        <a:lnTo>
                          <a:pt x="37" y="260"/>
                        </a:lnTo>
                        <a:lnTo>
                          <a:pt x="25" y="110"/>
                        </a:lnTo>
                        <a:lnTo>
                          <a:pt x="21" y="0"/>
                        </a:lnTo>
                        <a:lnTo>
                          <a:pt x="63" y="118"/>
                        </a:lnTo>
                        <a:lnTo>
                          <a:pt x="96" y="213"/>
                        </a:lnTo>
                        <a:lnTo>
                          <a:pt x="164" y="281"/>
                        </a:lnTo>
                        <a:lnTo>
                          <a:pt x="244" y="315"/>
                        </a:lnTo>
                        <a:lnTo>
                          <a:pt x="342" y="327"/>
                        </a:lnTo>
                        <a:lnTo>
                          <a:pt x="422" y="332"/>
                        </a:lnTo>
                        <a:lnTo>
                          <a:pt x="561" y="357"/>
                        </a:lnTo>
                        <a:lnTo>
                          <a:pt x="485" y="374"/>
                        </a:lnTo>
                        <a:lnTo>
                          <a:pt x="396" y="391"/>
                        </a:lnTo>
                        <a:lnTo>
                          <a:pt x="337" y="404"/>
                        </a:lnTo>
                        <a:lnTo>
                          <a:pt x="261" y="408"/>
                        </a:lnTo>
                        <a:lnTo>
                          <a:pt x="160" y="404"/>
                        </a:lnTo>
                        <a:lnTo>
                          <a:pt x="227" y="438"/>
                        </a:lnTo>
                        <a:lnTo>
                          <a:pt x="321" y="451"/>
                        </a:lnTo>
                        <a:lnTo>
                          <a:pt x="405" y="455"/>
                        </a:lnTo>
                        <a:lnTo>
                          <a:pt x="561" y="485"/>
                        </a:lnTo>
                        <a:lnTo>
                          <a:pt x="476" y="502"/>
                        </a:lnTo>
                        <a:lnTo>
                          <a:pt x="405" y="520"/>
                        </a:lnTo>
                        <a:lnTo>
                          <a:pt x="316" y="524"/>
                        </a:lnTo>
                        <a:lnTo>
                          <a:pt x="240" y="528"/>
                        </a:lnTo>
                        <a:lnTo>
                          <a:pt x="299" y="558"/>
                        </a:lnTo>
                        <a:lnTo>
                          <a:pt x="363" y="588"/>
                        </a:lnTo>
                        <a:lnTo>
                          <a:pt x="438" y="604"/>
                        </a:lnTo>
                        <a:lnTo>
                          <a:pt x="535" y="630"/>
                        </a:lnTo>
                        <a:lnTo>
                          <a:pt x="451" y="647"/>
                        </a:lnTo>
                        <a:lnTo>
                          <a:pt x="363" y="638"/>
                        </a:lnTo>
                        <a:lnTo>
                          <a:pt x="291" y="617"/>
                        </a:lnTo>
                        <a:lnTo>
                          <a:pt x="240" y="660"/>
                        </a:lnTo>
                        <a:lnTo>
                          <a:pt x="168" y="681"/>
                        </a:lnTo>
                        <a:lnTo>
                          <a:pt x="88" y="689"/>
                        </a:lnTo>
                        <a:lnTo>
                          <a:pt x="0" y="677"/>
                        </a:lnTo>
                        <a:close/>
                      </a:path>
                    </a:pathLst>
                  </a:custGeom>
                  <a:solidFill>
                    <a:srgbClr val="d5d5d5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5" name=""/>
                  <p:cNvSpPr/>
                  <p:nvPr/>
                </p:nvSpPr>
                <p:spPr>
                  <a:xfrm>
                    <a:off x="4871880" y="4740120"/>
                    <a:ext cx="93960" cy="563760"/>
                  </a:xfrm>
                  <a:custGeom>
                    <a:avLst/>
                    <a:gdLst/>
                    <a:ahLst/>
                    <a:rect l="0" t="0" r="r" b="b"/>
                    <a:pathLst>
                      <a:path w="261" h="1566">
                        <a:moveTo>
                          <a:pt x="76" y="0"/>
                        </a:moveTo>
                        <a:lnTo>
                          <a:pt x="112" y="446"/>
                        </a:lnTo>
                        <a:lnTo>
                          <a:pt x="100" y="816"/>
                        </a:lnTo>
                        <a:lnTo>
                          <a:pt x="112" y="902"/>
                        </a:lnTo>
                        <a:lnTo>
                          <a:pt x="100" y="1072"/>
                        </a:lnTo>
                        <a:lnTo>
                          <a:pt x="153" y="1124"/>
                        </a:lnTo>
                        <a:lnTo>
                          <a:pt x="145" y="1228"/>
                        </a:lnTo>
                        <a:lnTo>
                          <a:pt x="181" y="1288"/>
                        </a:lnTo>
                        <a:lnTo>
                          <a:pt x="217" y="1358"/>
                        </a:lnTo>
                        <a:lnTo>
                          <a:pt x="253" y="1423"/>
                        </a:lnTo>
                        <a:lnTo>
                          <a:pt x="261" y="1471"/>
                        </a:lnTo>
                        <a:lnTo>
                          <a:pt x="245" y="1518"/>
                        </a:lnTo>
                        <a:lnTo>
                          <a:pt x="205" y="1549"/>
                        </a:lnTo>
                        <a:lnTo>
                          <a:pt x="177" y="1566"/>
                        </a:lnTo>
                        <a:lnTo>
                          <a:pt x="133" y="1566"/>
                        </a:lnTo>
                        <a:lnTo>
                          <a:pt x="92" y="1562"/>
                        </a:lnTo>
                        <a:lnTo>
                          <a:pt x="0" y="1523"/>
                        </a:lnTo>
                        <a:lnTo>
                          <a:pt x="84" y="1514"/>
                        </a:lnTo>
                        <a:lnTo>
                          <a:pt x="128" y="1497"/>
                        </a:lnTo>
                        <a:lnTo>
                          <a:pt x="153" y="1471"/>
                        </a:lnTo>
                        <a:lnTo>
                          <a:pt x="128" y="1414"/>
                        </a:lnTo>
                        <a:lnTo>
                          <a:pt x="76" y="1358"/>
                        </a:lnTo>
                        <a:lnTo>
                          <a:pt x="20" y="1327"/>
                        </a:lnTo>
                        <a:lnTo>
                          <a:pt x="44" y="1262"/>
                        </a:lnTo>
                        <a:lnTo>
                          <a:pt x="48" y="1197"/>
                        </a:lnTo>
                        <a:lnTo>
                          <a:pt x="36" y="998"/>
                        </a:lnTo>
                        <a:lnTo>
                          <a:pt x="20" y="620"/>
                        </a:lnTo>
                        <a:lnTo>
                          <a:pt x="64" y="346"/>
                        </a:lnTo>
                        <a:lnTo>
                          <a:pt x="76" y="0"/>
                        </a:lnTo>
                        <a:close/>
                      </a:path>
                    </a:pathLst>
                  </a:custGeom>
                  <a:solidFill>
                    <a:srgbClr val="d5d5d5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6" name=""/>
                  <p:cNvSpPr/>
                  <p:nvPr/>
                </p:nvSpPr>
                <p:spPr>
                  <a:xfrm>
                    <a:off x="4756320" y="5313240"/>
                    <a:ext cx="146520" cy="227520"/>
                  </a:xfrm>
                  <a:custGeom>
                    <a:avLst/>
                    <a:gdLst/>
                    <a:ahLst/>
                    <a:rect l="0" t="0" r="r" b="b"/>
                    <a:pathLst>
                      <a:path w="407" h="632">
                        <a:moveTo>
                          <a:pt x="125" y="0"/>
                        </a:moveTo>
                        <a:lnTo>
                          <a:pt x="166" y="71"/>
                        </a:lnTo>
                        <a:lnTo>
                          <a:pt x="191" y="148"/>
                        </a:lnTo>
                        <a:lnTo>
                          <a:pt x="203" y="229"/>
                        </a:lnTo>
                        <a:lnTo>
                          <a:pt x="207" y="314"/>
                        </a:lnTo>
                        <a:lnTo>
                          <a:pt x="253" y="335"/>
                        </a:lnTo>
                        <a:lnTo>
                          <a:pt x="316" y="331"/>
                        </a:lnTo>
                        <a:lnTo>
                          <a:pt x="366" y="301"/>
                        </a:lnTo>
                        <a:lnTo>
                          <a:pt x="407" y="246"/>
                        </a:lnTo>
                        <a:lnTo>
                          <a:pt x="391" y="309"/>
                        </a:lnTo>
                        <a:lnTo>
                          <a:pt x="374" y="360"/>
                        </a:lnTo>
                        <a:lnTo>
                          <a:pt x="294" y="458"/>
                        </a:lnTo>
                        <a:lnTo>
                          <a:pt x="154" y="632"/>
                        </a:lnTo>
                        <a:lnTo>
                          <a:pt x="0" y="314"/>
                        </a:lnTo>
                        <a:lnTo>
                          <a:pt x="125" y="0"/>
                        </a:lnTo>
                        <a:close/>
                      </a:path>
                    </a:pathLst>
                  </a:custGeom>
                  <a:solidFill>
                    <a:srgbClr val="d5d5d5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7" name=""/>
                  <p:cNvSpPr/>
                  <p:nvPr/>
                </p:nvSpPr>
                <p:spPr>
                  <a:xfrm>
                    <a:off x="4398840" y="5648400"/>
                    <a:ext cx="290880" cy="435240"/>
                  </a:xfrm>
                  <a:custGeom>
                    <a:avLst/>
                    <a:gdLst/>
                    <a:ahLst/>
                    <a:rect l="0" t="0" r="r" b="b"/>
                    <a:pathLst>
                      <a:path w="808" h="1209">
                        <a:moveTo>
                          <a:pt x="0" y="491"/>
                        </a:moveTo>
                        <a:lnTo>
                          <a:pt x="98" y="517"/>
                        </a:lnTo>
                        <a:lnTo>
                          <a:pt x="183" y="457"/>
                        </a:lnTo>
                        <a:lnTo>
                          <a:pt x="265" y="362"/>
                        </a:lnTo>
                        <a:lnTo>
                          <a:pt x="338" y="271"/>
                        </a:lnTo>
                        <a:lnTo>
                          <a:pt x="381" y="181"/>
                        </a:lnTo>
                        <a:lnTo>
                          <a:pt x="436" y="0"/>
                        </a:lnTo>
                        <a:lnTo>
                          <a:pt x="440" y="94"/>
                        </a:lnTo>
                        <a:lnTo>
                          <a:pt x="423" y="215"/>
                        </a:lnTo>
                        <a:lnTo>
                          <a:pt x="381" y="353"/>
                        </a:lnTo>
                        <a:lnTo>
                          <a:pt x="338" y="474"/>
                        </a:lnTo>
                        <a:lnTo>
                          <a:pt x="363" y="548"/>
                        </a:lnTo>
                        <a:lnTo>
                          <a:pt x="419" y="466"/>
                        </a:lnTo>
                        <a:lnTo>
                          <a:pt x="492" y="362"/>
                        </a:lnTo>
                        <a:lnTo>
                          <a:pt x="594" y="245"/>
                        </a:lnTo>
                        <a:lnTo>
                          <a:pt x="702" y="181"/>
                        </a:lnTo>
                        <a:lnTo>
                          <a:pt x="808" y="107"/>
                        </a:lnTo>
                        <a:lnTo>
                          <a:pt x="235" y="786"/>
                        </a:lnTo>
                        <a:lnTo>
                          <a:pt x="231" y="846"/>
                        </a:lnTo>
                        <a:lnTo>
                          <a:pt x="210" y="920"/>
                        </a:lnTo>
                        <a:lnTo>
                          <a:pt x="179" y="976"/>
                        </a:lnTo>
                        <a:lnTo>
                          <a:pt x="136" y="1066"/>
                        </a:lnTo>
                        <a:lnTo>
                          <a:pt x="115" y="1209"/>
                        </a:lnTo>
                        <a:lnTo>
                          <a:pt x="98" y="971"/>
                        </a:lnTo>
                        <a:lnTo>
                          <a:pt x="76" y="786"/>
                        </a:lnTo>
                        <a:lnTo>
                          <a:pt x="38" y="618"/>
                        </a:lnTo>
                        <a:lnTo>
                          <a:pt x="0" y="491"/>
                        </a:lnTo>
                        <a:close/>
                      </a:path>
                    </a:pathLst>
                  </a:custGeom>
                  <a:solidFill>
                    <a:srgbClr val="d5d5d5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8" name=""/>
                  <p:cNvSpPr/>
                  <p:nvPr/>
                </p:nvSpPr>
                <p:spPr>
                  <a:xfrm>
                    <a:off x="4260960" y="5276880"/>
                    <a:ext cx="157680" cy="559080"/>
                  </a:xfrm>
                  <a:custGeom>
                    <a:avLst/>
                    <a:gdLst/>
                    <a:ahLst/>
                    <a:rect l="0" t="0" r="r" b="b"/>
                    <a:pathLst>
                      <a:path w="438" h="1553">
                        <a:moveTo>
                          <a:pt x="87" y="1206"/>
                        </a:moveTo>
                        <a:lnTo>
                          <a:pt x="167" y="1288"/>
                        </a:lnTo>
                        <a:lnTo>
                          <a:pt x="229" y="1353"/>
                        </a:lnTo>
                        <a:lnTo>
                          <a:pt x="300" y="1423"/>
                        </a:lnTo>
                        <a:lnTo>
                          <a:pt x="376" y="1553"/>
                        </a:lnTo>
                        <a:lnTo>
                          <a:pt x="409" y="1444"/>
                        </a:lnTo>
                        <a:lnTo>
                          <a:pt x="426" y="1297"/>
                        </a:lnTo>
                        <a:lnTo>
                          <a:pt x="438" y="1076"/>
                        </a:lnTo>
                        <a:lnTo>
                          <a:pt x="417" y="924"/>
                        </a:lnTo>
                        <a:lnTo>
                          <a:pt x="376" y="685"/>
                        </a:lnTo>
                        <a:lnTo>
                          <a:pt x="325" y="455"/>
                        </a:lnTo>
                        <a:lnTo>
                          <a:pt x="279" y="312"/>
                        </a:lnTo>
                        <a:lnTo>
                          <a:pt x="225" y="169"/>
                        </a:lnTo>
                        <a:lnTo>
                          <a:pt x="134" y="0"/>
                        </a:lnTo>
                        <a:lnTo>
                          <a:pt x="183" y="169"/>
                        </a:lnTo>
                        <a:lnTo>
                          <a:pt x="213" y="312"/>
                        </a:lnTo>
                        <a:lnTo>
                          <a:pt x="233" y="459"/>
                        </a:lnTo>
                        <a:lnTo>
                          <a:pt x="254" y="650"/>
                        </a:lnTo>
                        <a:lnTo>
                          <a:pt x="262" y="885"/>
                        </a:lnTo>
                        <a:lnTo>
                          <a:pt x="246" y="1071"/>
                        </a:lnTo>
                        <a:lnTo>
                          <a:pt x="213" y="1115"/>
                        </a:lnTo>
                        <a:lnTo>
                          <a:pt x="167" y="1141"/>
                        </a:lnTo>
                        <a:lnTo>
                          <a:pt x="99" y="1149"/>
                        </a:lnTo>
                        <a:lnTo>
                          <a:pt x="0" y="1132"/>
                        </a:lnTo>
                        <a:lnTo>
                          <a:pt x="87" y="1206"/>
                        </a:lnTo>
                        <a:close/>
                      </a:path>
                    </a:pathLst>
                  </a:custGeom>
                  <a:solidFill>
                    <a:srgbClr val="d5d5d5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9" name=""/>
                  <p:cNvSpPr/>
                  <p:nvPr/>
                </p:nvSpPr>
                <p:spPr>
                  <a:xfrm>
                    <a:off x="4030560" y="4479840"/>
                    <a:ext cx="582840" cy="524160"/>
                  </a:xfrm>
                  <a:custGeom>
                    <a:avLst/>
                    <a:gdLst/>
                    <a:ahLst/>
                    <a:rect l="0" t="0" r="r" b="b"/>
                    <a:pathLst>
                      <a:path w="1619" h="1456">
                        <a:moveTo>
                          <a:pt x="386" y="47"/>
                        </a:moveTo>
                        <a:lnTo>
                          <a:pt x="325" y="0"/>
                        </a:lnTo>
                        <a:lnTo>
                          <a:pt x="260" y="8"/>
                        </a:lnTo>
                        <a:lnTo>
                          <a:pt x="177" y="51"/>
                        </a:lnTo>
                        <a:lnTo>
                          <a:pt x="112" y="99"/>
                        </a:lnTo>
                        <a:lnTo>
                          <a:pt x="52" y="177"/>
                        </a:lnTo>
                        <a:lnTo>
                          <a:pt x="17" y="255"/>
                        </a:lnTo>
                        <a:lnTo>
                          <a:pt x="0" y="329"/>
                        </a:lnTo>
                        <a:lnTo>
                          <a:pt x="34" y="355"/>
                        </a:lnTo>
                        <a:lnTo>
                          <a:pt x="99" y="376"/>
                        </a:lnTo>
                        <a:lnTo>
                          <a:pt x="169" y="381"/>
                        </a:lnTo>
                        <a:lnTo>
                          <a:pt x="212" y="368"/>
                        </a:lnTo>
                        <a:lnTo>
                          <a:pt x="225" y="437"/>
                        </a:lnTo>
                        <a:lnTo>
                          <a:pt x="255" y="515"/>
                        </a:lnTo>
                        <a:lnTo>
                          <a:pt x="312" y="589"/>
                        </a:lnTo>
                        <a:lnTo>
                          <a:pt x="416" y="679"/>
                        </a:lnTo>
                        <a:lnTo>
                          <a:pt x="511" y="754"/>
                        </a:lnTo>
                        <a:lnTo>
                          <a:pt x="624" y="845"/>
                        </a:lnTo>
                        <a:lnTo>
                          <a:pt x="698" y="962"/>
                        </a:lnTo>
                        <a:lnTo>
                          <a:pt x="763" y="1062"/>
                        </a:lnTo>
                        <a:lnTo>
                          <a:pt x="894" y="1127"/>
                        </a:lnTo>
                        <a:lnTo>
                          <a:pt x="1033" y="1230"/>
                        </a:lnTo>
                        <a:lnTo>
                          <a:pt x="1146" y="1300"/>
                        </a:lnTo>
                        <a:lnTo>
                          <a:pt x="1289" y="1330"/>
                        </a:lnTo>
                        <a:lnTo>
                          <a:pt x="1424" y="1373"/>
                        </a:lnTo>
                        <a:lnTo>
                          <a:pt x="1541" y="1408"/>
                        </a:lnTo>
                        <a:lnTo>
                          <a:pt x="1619" y="1456"/>
                        </a:lnTo>
                        <a:lnTo>
                          <a:pt x="1541" y="1382"/>
                        </a:lnTo>
                        <a:lnTo>
                          <a:pt x="1424" y="1330"/>
                        </a:lnTo>
                        <a:lnTo>
                          <a:pt x="1272" y="1274"/>
                        </a:lnTo>
                        <a:lnTo>
                          <a:pt x="1133" y="1230"/>
                        </a:lnTo>
                        <a:lnTo>
                          <a:pt x="1033" y="1140"/>
                        </a:lnTo>
                        <a:lnTo>
                          <a:pt x="920" y="1075"/>
                        </a:lnTo>
                        <a:lnTo>
                          <a:pt x="825" y="1014"/>
                        </a:lnTo>
                        <a:lnTo>
                          <a:pt x="776" y="914"/>
                        </a:lnTo>
                        <a:lnTo>
                          <a:pt x="655" y="767"/>
                        </a:lnTo>
                        <a:lnTo>
                          <a:pt x="551" y="692"/>
                        </a:lnTo>
                        <a:lnTo>
                          <a:pt x="481" y="640"/>
                        </a:lnTo>
                        <a:lnTo>
                          <a:pt x="399" y="567"/>
                        </a:lnTo>
                        <a:lnTo>
                          <a:pt x="329" y="480"/>
                        </a:lnTo>
                        <a:lnTo>
                          <a:pt x="299" y="398"/>
                        </a:lnTo>
                        <a:lnTo>
                          <a:pt x="286" y="294"/>
                        </a:lnTo>
                        <a:lnTo>
                          <a:pt x="299" y="207"/>
                        </a:lnTo>
                        <a:lnTo>
                          <a:pt x="342" y="112"/>
                        </a:lnTo>
                        <a:lnTo>
                          <a:pt x="386" y="47"/>
                        </a:lnTo>
                        <a:close/>
                      </a:path>
                    </a:pathLst>
                  </a:custGeom>
                  <a:solidFill>
                    <a:srgbClr val="d5d5d5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0" name=""/>
                  <p:cNvSpPr/>
                  <p:nvPr/>
                </p:nvSpPr>
                <p:spPr>
                  <a:xfrm>
                    <a:off x="4441680" y="4795920"/>
                    <a:ext cx="192600" cy="119520"/>
                  </a:xfrm>
                  <a:custGeom>
                    <a:avLst/>
                    <a:gdLst/>
                    <a:ahLst/>
                    <a:rect l="0" t="0" r="r" b="b"/>
                    <a:pathLst>
                      <a:path w="535" h="332">
                        <a:moveTo>
                          <a:pt x="0" y="0"/>
                        </a:moveTo>
                        <a:lnTo>
                          <a:pt x="109" y="77"/>
                        </a:lnTo>
                        <a:lnTo>
                          <a:pt x="206" y="131"/>
                        </a:lnTo>
                        <a:lnTo>
                          <a:pt x="299" y="168"/>
                        </a:lnTo>
                        <a:lnTo>
                          <a:pt x="400" y="180"/>
                        </a:lnTo>
                        <a:lnTo>
                          <a:pt x="518" y="172"/>
                        </a:lnTo>
                        <a:lnTo>
                          <a:pt x="535" y="332"/>
                        </a:lnTo>
                        <a:lnTo>
                          <a:pt x="426" y="324"/>
                        </a:lnTo>
                        <a:lnTo>
                          <a:pt x="311" y="291"/>
                        </a:lnTo>
                        <a:lnTo>
                          <a:pt x="219" y="241"/>
                        </a:lnTo>
                        <a:lnTo>
                          <a:pt x="148" y="184"/>
                        </a:lnTo>
                        <a:lnTo>
                          <a:pt x="67" y="9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d5d5d5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1" name=""/>
                  <p:cNvSpPr/>
                  <p:nvPr/>
                </p:nvSpPr>
                <p:spPr>
                  <a:xfrm>
                    <a:off x="3584520" y="5556240"/>
                    <a:ext cx="179640" cy="270360"/>
                  </a:xfrm>
                  <a:custGeom>
                    <a:avLst/>
                    <a:gdLst/>
                    <a:ahLst/>
                    <a:rect l="0" t="0" r="r" b="b"/>
                    <a:pathLst>
                      <a:path w="499" h="751">
                        <a:moveTo>
                          <a:pt x="0" y="0"/>
                        </a:moveTo>
                        <a:lnTo>
                          <a:pt x="159" y="72"/>
                        </a:lnTo>
                        <a:lnTo>
                          <a:pt x="356" y="174"/>
                        </a:lnTo>
                        <a:lnTo>
                          <a:pt x="499" y="282"/>
                        </a:lnTo>
                        <a:lnTo>
                          <a:pt x="469" y="486"/>
                        </a:lnTo>
                        <a:lnTo>
                          <a:pt x="490" y="751"/>
                        </a:lnTo>
                        <a:lnTo>
                          <a:pt x="382" y="721"/>
                        </a:lnTo>
                        <a:lnTo>
                          <a:pt x="298" y="666"/>
                        </a:lnTo>
                        <a:lnTo>
                          <a:pt x="209" y="533"/>
                        </a:lnTo>
                        <a:lnTo>
                          <a:pt x="146" y="414"/>
                        </a:lnTo>
                        <a:lnTo>
                          <a:pt x="117" y="273"/>
                        </a:lnTo>
                        <a:lnTo>
                          <a:pt x="71" y="11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d5d5d5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2" name=""/>
                  <p:cNvSpPr/>
                  <p:nvPr/>
                </p:nvSpPr>
                <p:spPr>
                  <a:xfrm>
                    <a:off x="4124160" y="5616720"/>
                    <a:ext cx="265320" cy="405000"/>
                  </a:xfrm>
                  <a:custGeom>
                    <a:avLst/>
                    <a:gdLst/>
                    <a:ahLst/>
                    <a:rect l="0" t="0" r="r" b="b"/>
                    <a:pathLst>
                      <a:path w="737" h="1125">
                        <a:moveTo>
                          <a:pt x="0" y="0"/>
                        </a:moveTo>
                        <a:lnTo>
                          <a:pt x="136" y="81"/>
                        </a:lnTo>
                        <a:lnTo>
                          <a:pt x="246" y="163"/>
                        </a:lnTo>
                        <a:lnTo>
                          <a:pt x="361" y="267"/>
                        </a:lnTo>
                        <a:lnTo>
                          <a:pt x="460" y="361"/>
                        </a:lnTo>
                        <a:lnTo>
                          <a:pt x="541" y="469"/>
                        </a:lnTo>
                        <a:lnTo>
                          <a:pt x="605" y="599"/>
                        </a:lnTo>
                        <a:lnTo>
                          <a:pt x="635" y="750"/>
                        </a:lnTo>
                        <a:lnTo>
                          <a:pt x="618" y="961"/>
                        </a:lnTo>
                        <a:lnTo>
                          <a:pt x="584" y="1125"/>
                        </a:lnTo>
                        <a:lnTo>
                          <a:pt x="711" y="1069"/>
                        </a:lnTo>
                        <a:lnTo>
                          <a:pt x="728" y="927"/>
                        </a:lnTo>
                        <a:lnTo>
                          <a:pt x="737" y="785"/>
                        </a:lnTo>
                        <a:lnTo>
                          <a:pt x="720" y="655"/>
                        </a:lnTo>
                        <a:lnTo>
                          <a:pt x="682" y="547"/>
                        </a:lnTo>
                        <a:lnTo>
                          <a:pt x="626" y="439"/>
                        </a:lnTo>
                        <a:lnTo>
                          <a:pt x="537" y="336"/>
                        </a:lnTo>
                        <a:lnTo>
                          <a:pt x="439" y="249"/>
                        </a:lnTo>
                        <a:lnTo>
                          <a:pt x="332" y="163"/>
                        </a:lnTo>
                        <a:lnTo>
                          <a:pt x="229" y="86"/>
                        </a:lnTo>
                        <a:lnTo>
                          <a:pt x="110" y="3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eaeaea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3" name=""/>
                  <p:cNvSpPr/>
                  <p:nvPr/>
                </p:nvSpPr>
                <p:spPr>
                  <a:xfrm>
                    <a:off x="4527720" y="5132520"/>
                    <a:ext cx="147960" cy="254520"/>
                  </a:xfrm>
                  <a:custGeom>
                    <a:avLst/>
                    <a:gdLst/>
                    <a:ahLst/>
                    <a:rect l="0" t="0" r="r" b="b"/>
                    <a:pathLst>
                      <a:path w="411" h="707">
                        <a:moveTo>
                          <a:pt x="0" y="0"/>
                        </a:moveTo>
                        <a:lnTo>
                          <a:pt x="70" y="136"/>
                        </a:lnTo>
                        <a:lnTo>
                          <a:pt x="120" y="226"/>
                        </a:lnTo>
                        <a:lnTo>
                          <a:pt x="190" y="315"/>
                        </a:lnTo>
                        <a:lnTo>
                          <a:pt x="295" y="430"/>
                        </a:lnTo>
                        <a:lnTo>
                          <a:pt x="411" y="541"/>
                        </a:lnTo>
                        <a:lnTo>
                          <a:pt x="394" y="707"/>
                        </a:lnTo>
                        <a:lnTo>
                          <a:pt x="315" y="677"/>
                        </a:lnTo>
                        <a:lnTo>
                          <a:pt x="212" y="584"/>
                        </a:lnTo>
                        <a:lnTo>
                          <a:pt x="124" y="464"/>
                        </a:lnTo>
                        <a:lnTo>
                          <a:pt x="62" y="307"/>
                        </a:lnTo>
                        <a:lnTo>
                          <a:pt x="28" y="18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eaeaea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4" name=""/>
                  <p:cNvSpPr/>
                  <p:nvPr/>
                </p:nvSpPr>
                <p:spPr>
                  <a:xfrm>
                    <a:off x="4654440" y="5430960"/>
                    <a:ext cx="87840" cy="294120"/>
                  </a:xfrm>
                  <a:custGeom>
                    <a:avLst/>
                    <a:gdLst/>
                    <a:ahLst/>
                    <a:rect l="0" t="0" r="r" b="b"/>
                    <a:pathLst>
                      <a:path w="244" h="817">
                        <a:moveTo>
                          <a:pt x="23" y="0"/>
                        </a:moveTo>
                        <a:lnTo>
                          <a:pt x="11" y="235"/>
                        </a:lnTo>
                        <a:lnTo>
                          <a:pt x="3" y="389"/>
                        </a:lnTo>
                        <a:lnTo>
                          <a:pt x="0" y="543"/>
                        </a:lnTo>
                        <a:lnTo>
                          <a:pt x="7" y="672"/>
                        </a:lnTo>
                        <a:lnTo>
                          <a:pt x="15" y="817"/>
                        </a:lnTo>
                        <a:lnTo>
                          <a:pt x="104" y="698"/>
                        </a:lnTo>
                        <a:lnTo>
                          <a:pt x="244" y="278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d5d5d5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5" name=""/>
                  <p:cNvSpPr/>
                  <p:nvPr/>
                </p:nvSpPr>
                <p:spPr>
                  <a:xfrm>
                    <a:off x="5224320" y="4788000"/>
                    <a:ext cx="354240" cy="262440"/>
                  </a:xfrm>
                  <a:custGeom>
                    <a:avLst/>
                    <a:gdLst/>
                    <a:ahLst/>
                    <a:rect l="0" t="0" r="r" b="b"/>
                    <a:pathLst>
                      <a:path w="984" h="729">
                        <a:moveTo>
                          <a:pt x="0" y="721"/>
                        </a:moveTo>
                        <a:lnTo>
                          <a:pt x="60" y="635"/>
                        </a:lnTo>
                        <a:lnTo>
                          <a:pt x="115" y="532"/>
                        </a:lnTo>
                        <a:lnTo>
                          <a:pt x="188" y="439"/>
                        </a:lnTo>
                        <a:lnTo>
                          <a:pt x="274" y="392"/>
                        </a:lnTo>
                        <a:lnTo>
                          <a:pt x="377" y="328"/>
                        </a:lnTo>
                        <a:lnTo>
                          <a:pt x="425" y="286"/>
                        </a:lnTo>
                        <a:lnTo>
                          <a:pt x="450" y="200"/>
                        </a:lnTo>
                        <a:lnTo>
                          <a:pt x="516" y="165"/>
                        </a:lnTo>
                        <a:lnTo>
                          <a:pt x="585" y="127"/>
                        </a:lnTo>
                        <a:lnTo>
                          <a:pt x="670" y="76"/>
                        </a:lnTo>
                        <a:lnTo>
                          <a:pt x="821" y="0"/>
                        </a:lnTo>
                        <a:lnTo>
                          <a:pt x="705" y="89"/>
                        </a:lnTo>
                        <a:lnTo>
                          <a:pt x="619" y="144"/>
                        </a:lnTo>
                        <a:lnTo>
                          <a:pt x="563" y="205"/>
                        </a:lnTo>
                        <a:lnTo>
                          <a:pt x="507" y="269"/>
                        </a:lnTo>
                        <a:lnTo>
                          <a:pt x="580" y="264"/>
                        </a:lnTo>
                        <a:lnTo>
                          <a:pt x="692" y="269"/>
                        </a:lnTo>
                        <a:lnTo>
                          <a:pt x="804" y="290"/>
                        </a:lnTo>
                        <a:lnTo>
                          <a:pt x="889" y="328"/>
                        </a:lnTo>
                        <a:lnTo>
                          <a:pt x="937" y="362"/>
                        </a:lnTo>
                        <a:lnTo>
                          <a:pt x="975" y="426"/>
                        </a:lnTo>
                        <a:lnTo>
                          <a:pt x="984" y="520"/>
                        </a:lnTo>
                        <a:lnTo>
                          <a:pt x="941" y="447"/>
                        </a:lnTo>
                        <a:lnTo>
                          <a:pt x="877" y="388"/>
                        </a:lnTo>
                        <a:lnTo>
                          <a:pt x="808" y="354"/>
                        </a:lnTo>
                        <a:lnTo>
                          <a:pt x="731" y="337"/>
                        </a:lnTo>
                        <a:lnTo>
                          <a:pt x="649" y="324"/>
                        </a:lnTo>
                        <a:lnTo>
                          <a:pt x="563" y="328"/>
                        </a:lnTo>
                        <a:lnTo>
                          <a:pt x="480" y="345"/>
                        </a:lnTo>
                        <a:lnTo>
                          <a:pt x="407" y="379"/>
                        </a:lnTo>
                        <a:lnTo>
                          <a:pt x="356" y="422"/>
                        </a:lnTo>
                        <a:lnTo>
                          <a:pt x="382" y="456"/>
                        </a:lnTo>
                        <a:lnTo>
                          <a:pt x="399" y="503"/>
                        </a:lnTo>
                        <a:lnTo>
                          <a:pt x="352" y="494"/>
                        </a:lnTo>
                        <a:lnTo>
                          <a:pt x="296" y="464"/>
                        </a:lnTo>
                        <a:lnTo>
                          <a:pt x="326" y="511"/>
                        </a:lnTo>
                        <a:lnTo>
                          <a:pt x="343" y="563"/>
                        </a:lnTo>
                        <a:lnTo>
                          <a:pt x="274" y="559"/>
                        </a:lnTo>
                        <a:lnTo>
                          <a:pt x="214" y="545"/>
                        </a:lnTo>
                        <a:lnTo>
                          <a:pt x="176" y="606"/>
                        </a:lnTo>
                        <a:lnTo>
                          <a:pt x="94" y="644"/>
                        </a:lnTo>
                        <a:lnTo>
                          <a:pt x="21" y="729"/>
                        </a:lnTo>
                        <a:lnTo>
                          <a:pt x="0" y="721"/>
                        </a:lnTo>
                        <a:close/>
                      </a:path>
                    </a:pathLst>
                  </a:custGeom>
                  <a:solidFill>
                    <a:srgbClr val="d5d5d5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6" name=""/>
                  <p:cNvSpPr/>
                  <p:nvPr/>
                </p:nvSpPr>
                <p:spPr>
                  <a:xfrm>
                    <a:off x="5176800" y="5064120"/>
                    <a:ext cx="140040" cy="87840"/>
                  </a:xfrm>
                  <a:custGeom>
                    <a:avLst/>
                    <a:gdLst/>
                    <a:ahLst/>
                    <a:rect l="0" t="0" r="r" b="b"/>
                    <a:pathLst>
                      <a:path w="389" h="244">
                        <a:moveTo>
                          <a:pt x="107" y="11"/>
                        </a:moveTo>
                        <a:lnTo>
                          <a:pt x="78" y="76"/>
                        </a:lnTo>
                        <a:lnTo>
                          <a:pt x="61" y="132"/>
                        </a:lnTo>
                        <a:lnTo>
                          <a:pt x="53" y="179"/>
                        </a:lnTo>
                        <a:lnTo>
                          <a:pt x="0" y="244"/>
                        </a:lnTo>
                        <a:lnTo>
                          <a:pt x="53" y="236"/>
                        </a:lnTo>
                        <a:lnTo>
                          <a:pt x="103" y="208"/>
                        </a:lnTo>
                        <a:lnTo>
                          <a:pt x="156" y="132"/>
                        </a:lnTo>
                        <a:lnTo>
                          <a:pt x="223" y="88"/>
                        </a:lnTo>
                        <a:lnTo>
                          <a:pt x="302" y="72"/>
                        </a:lnTo>
                        <a:lnTo>
                          <a:pt x="389" y="80"/>
                        </a:lnTo>
                        <a:lnTo>
                          <a:pt x="331" y="39"/>
                        </a:lnTo>
                        <a:lnTo>
                          <a:pt x="252" y="3"/>
                        </a:lnTo>
                        <a:lnTo>
                          <a:pt x="173" y="0"/>
                        </a:lnTo>
                        <a:lnTo>
                          <a:pt x="107" y="11"/>
                        </a:lnTo>
                        <a:close/>
                      </a:path>
                    </a:pathLst>
                  </a:custGeom>
                  <a:solidFill>
                    <a:srgbClr val="eaeaea"/>
                  </a:solidFill>
                  <a:ln w="0">
                    <a:noFill/>
                  </a:ln>
                </p:spPr>
                <p:txBody>
                  <a:bodyPr lIns="90000" rIns="90000" tIns="42840" bIns="42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7" name=""/>
                  <p:cNvSpPr/>
                  <p:nvPr/>
                </p:nvSpPr>
                <p:spPr>
                  <a:xfrm>
                    <a:off x="4938840" y="4438800"/>
                    <a:ext cx="563760" cy="373320"/>
                  </a:xfrm>
                  <a:custGeom>
                    <a:avLst/>
                    <a:gdLst/>
                    <a:ahLst/>
                    <a:rect l="0" t="0" r="r" b="b"/>
                    <a:pathLst>
                      <a:path w="1566" h="1037">
                        <a:moveTo>
                          <a:pt x="39" y="878"/>
                        </a:moveTo>
                        <a:lnTo>
                          <a:pt x="30" y="757"/>
                        </a:lnTo>
                        <a:lnTo>
                          <a:pt x="34" y="620"/>
                        </a:lnTo>
                        <a:lnTo>
                          <a:pt x="43" y="464"/>
                        </a:lnTo>
                        <a:lnTo>
                          <a:pt x="69" y="348"/>
                        </a:lnTo>
                        <a:lnTo>
                          <a:pt x="73" y="219"/>
                        </a:lnTo>
                        <a:lnTo>
                          <a:pt x="43" y="128"/>
                        </a:lnTo>
                        <a:lnTo>
                          <a:pt x="0" y="0"/>
                        </a:lnTo>
                        <a:lnTo>
                          <a:pt x="138" y="111"/>
                        </a:lnTo>
                        <a:lnTo>
                          <a:pt x="281" y="210"/>
                        </a:lnTo>
                        <a:lnTo>
                          <a:pt x="416" y="270"/>
                        </a:lnTo>
                        <a:lnTo>
                          <a:pt x="585" y="343"/>
                        </a:lnTo>
                        <a:lnTo>
                          <a:pt x="767" y="417"/>
                        </a:lnTo>
                        <a:lnTo>
                          <a:pt x="937" y="498"/>
                        </a:lnTo>
                        <a:lnTo>
                          <a:pt x="1080" y="577"/>
                        </a:lnTo>
                        <a:lnTo>
                          <a:pt x="1297" y="697"/>
                        </a:lnTo>
                        <a:lnTo>
                          <a:pt x="1375" y="753"/>
                        </a:lnTo>
                        <a:lnTo>
                          <a:pt x="1445" y="770"/>
                        </a:lnTo>
                        <a:lnTo>
                          <a:pt x="1497" y="817"/>
                        </a:lnTo>
                        <a:lnTo>
                          <a:pt x="1566" y="843"/>
                        </a:lnTo>
                        <a:lnTo>
                          <a:pt x="1462" y="878"/>
                        </a:lnTo>
                        <a:lnTo>
                          <a:pt x="1366" y="891"/>
                        </a:lnTo>
                        <a:lnTo>
                          <a:pt x="1284" y="882"/>
                        </a:lnTo>
                        <a:lnTo>
                          <a:pt x="1189" y="946"/>
                        </a:lnTo>
                        <a:lnTo>
                          <a:pt x="1089" y="1007"/>
                        </a:lnTo>
                        <a:lnTo>
                          <a:pt x="972" y="1032"/>
                        </a:lnTo>
                        <a:lnTo>
                          <a:pt x="842" y="1037"/>
                        </a:lnTo>
                        <a:lnTo>
                          <a:pt x="693" y="1032"/>
                        </a:lnTo>
                        <a:lnTo>
                          <a:pt x="524" y="1015"/>
                        </a:lnTo>
                        <a:lnTo>
                          <a:pt x="377" y="998"/>
                        </a:lnTo>
                        <a:lnTo>
                          <a:pt x="238" y="968"/>
                        </a:lnTo>
                        <a:lnTo>
                          <a:pt x="121" y="925"/>
                        </a:lnTo>
                        <a:lnTo>
                          <a:pt x="39" y="878"/>
                        </a:lnTo>
                        <a:close/>
                      </a:path>
                    </a:pathLst>
                  </a:custGeom>
                  <a:solidFill>
                    <a:srgbClr val="eaeaea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8" name=""/>
                  <p:cNvSpPr/>
                  <p:nvPr/>
                </p:nvSpPr>
                <p:spPr>
                  <a:xfrm>
                    <a:off x="5386320" y="5210280"/>
                    <a:ext cx="147960" cy="119520"/>
                  </a:xfrm>
                  <a:custGeom>
                    <a:avLst/>
                    <a:gdLst/>
                    <a:ahLst/>
                    <a:rect l="0" t="0" r="r" b="b"/>
                    <a:pathLst>
                      <a:path w="411" h="332">
                        <a:moveTo>
                          <a:pt x="0" y="332"/>
                        </a:moveTo>
                        <a:lnTo>
                          <a:pt x="41" y="225"/>
                        </a:lnTo>
                        <a:lnTo>
                          <a:pt x="124" y="156"/>
                        </a:lnTo>
                        <a:lnTo>
                          <a:pt x="136" y="77"/>
                        </a:lnTo>
                        <a:lnTo>
                          <a:pt x="216" y="131"/>
                        </a:lnTo>
                        <a:lnTo>
                          <a:pt x="311" y="77"/>
                        </a:lnTo>
                        <a:lnTo>
                          <a:pt x="411" y="0"/>
                        </a:lnTo>
                        <a:lnTo>
                          <a:pt x="328" y="119"/>
                        </a:lnTo>
                        <a:lnTo>
                          <a:pt x="261" y="172"/>
                        </a:lnTo>
                        <a:lnTo>
                          <a:pt x="190" y="196"/>
                        </a:lnTo>
                        <a:lnTo>
                          <a:pt x="0" y="332"/>
                        </a:lnTo>
                        <a:close/>
                      </a:path>
                    </a:pathLst>
                  </a:custGeom>
                  <a:solidFill>
                    <a:srgbClr val="d5d5d5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9" name=""/>
                  <p:cNvSpPr/>
                  <p:nvPr/>
                </p:nvSpPr>
                <p:spPr>
                  <a:xfrm>
                    <a:off x="4649760" y="5829480"/>
                    <a:ext cx="128880" cy="100440"/>
                  </a:xfrm>
                  <a:custGeom>
                    <a:avLst/>
                    <a:gdLst/>
                    <a:ahLst/>
                    <a:rect l="0" t="0" r="r" b="b"/>
                    <a:pathLst>
                      <a:path w="358" h="279">
                        <a:moveTo>
                          <a:pt x="358" y="24"/>
                        </a:moveTo>
                        <a:lnTo>
                          <a:pt x="292" y="32"/>
                        </a:lnTo>
                        <a:lnTo>
                          <a:pt x="226" y="12"/>
                        </a:lnTo>
                        <a:lnTo>
                          <a:pt x="164" y="4"/>
                        </a:lnTo>
                        <a:lnTo>
                          <a:pt x="119" y="0"/>
                        </a:lnTo>
                        <a:lnTo>
                          <a:pt x="65" y="36"/>
                        </a:lnTo>
                        <a:lnTo>
                          <a:pt x="36" y="56"/>
                        </a:lnTo>
                        <a:lnTo>
                          <a:pt x="12" y="105"/>
                        </a:lnTo>
                        <a:lnTo>
                          <a:pt x="0" y="174"/>
                        </a:lnTo>
                        <a:lnTo>
                          <a:pt x="65" y="190"/>
                        </a:lnTo>
                        <a:lnTo>
                          <a:pt x="127" y="223"/>
                        </a:lnTo>
                        <a:lnTo>
                          <a:pt x="168" y="279"/>
                        </a:lnTo>
                        <a:lnTo>
                          <a:pt x="222" y="255"/>
                        </a:lnTo>
                        <a:lnTo>
                          <a:pt x="259" y="219"/>
                        </a:lnTo>
                        <a:lnTo>
                          <a:pt x="292" y="158"/>
                        </a:lnTo>
                        <a:lnTo>
                          <a:pt x="325" y="93"/>
                        </a:lnTo>
                        <a:lnTo>
                          <a:pt x="358" y="24"/>
                        </a:lnTo>
                        <a:close/>
                      </a:path>
                    </a:pathLst>
                  </a:custGeom>
                  <a:solidFill>
                    <a:srgbClr val="d5d5d5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0" name=""/>
                  <p:cNvSpPr/>
                  <p:nvPr/>
                </p:nvSpPr>
                <p:spPr>
                  <a:xfrm>
                    <a:off x="3608280" y="5838840"/>
                    <a:ext cx="279720" cy="552960"/>
                  </a:xfrm>
                  <a:custGeom>
                    <a:avLst/>
                    <a:gdLst/>
                    <a:ahLst/>
                    <a:rect l="0" t="0" r="r" b="b"/>
                    <a:pathLst>
                      <a:path w="777" h="1536">
                        <a:moveTo>
                          <a:pt x="0" y="0"/>
                        </a:moveTo>
                        <a:lnTo>
                          <a:pt x="204" y="47"/>
                        </a:lnTo>
                        <a:lnTo>
                          <a:pt x="332" y="130"/>
                        </a:lnTo>
                        <a:lnTo>
                          <a:pt x="397" y="242"/>
                        </a:lnTo>
                        <a:lnTo>
                          <a:pt x="453" y="130"/>
                        </a:lnTo>
                        <a:lnTo>
                          <a:pt x="504" y="599"/>
                        </a:lnTo>
                        <a:lnTo>
                          <a:pt x="542" y="915"/>
                        </a:lnTo>
                        <a:lnTo>
                          <a:pt x="598" y="1172"/>
                        </a:lnTo>
                        <a:lnTo>
                          <a:pt x="777" y="1536"/>
                        </a:lnTo>
                        <a:lnTo>
                          <a:pt x="661" y="1454"/>
                        </a:lnTo>
                        <a:lnTo>
                          <a:pt x="555" y="1371"/>
                        </a:lnTo>
                        <a:lnTo>
                          <a:pt x="444" y="1285"/>
                        </a:lnTo>
                        <a:lnTo>
                          <a:pt x="311" y="1241"/>
                        </a:lnTo>
                        <a:lnTo>
                          <a:pt x="170" y="1211"/>
                        </a:lnTo>
                        <a:lnTo>
                          <a:pt x="289" y="1168"/>
                        </a:lnTo>
                        <a:lnTo>
                          <a:pt x="397" y="1163"/>
                        </a:lnTo>
                        <a:lnTo>
                          <a:pt x="495" y="1194"/>
                        </a:lnTo>
                        <a:lnTo>
                          <a:pt x="568" y="1259"/>
                        </a:lnTo>
                        <a:lnTo>
                          <a:pt x="504" y="1015"/>
                        </a:lnTo>
                        <a:lnTo>
                          <a:pt x="474" y="802"/>
                        </a:lnTo>
                        <a:lnTo>
                          <a:pt x="328" y="733"/>
                        </a:lnTo>
                        <a:lnTo>
                          <a:pt x="234" y="664"/>
                        </a:lnTo>
                        <a:lnTo>
                          <a:pt x="191" y="599"/>
                        </a:lnTo>
                        <a:lnTo>
                          <a:pt x="221" y="529"/>
                        </a:lnTo>
                        <a:lnTo>
                          <a:pt x="272" y="499"/>
                        </a:lnTo>
                        <a:lnTo>
                          <a:pt x="345" y="477"/>
                        </a:lnTo>
                        <a:lnTo>
                          <a:pt x="410" y="482"/>
                        </a:lnTo>
                        <a:lnTo>
                          <a:pt x="406" y="399"/>
                        </a:lnTo>
                        <a:lnTo>
                          <a:pt x="298" y="381"/>
                        </a:lnTo>
                        <a:lnTo>
                          <a:pt x="204" y="325"/>
                        </a:lnTo>
                        <a:lnTo>
                          <a:pt x="144" y="229"/>
                        </a:lnTo>
                        <a:lnTo>
                          <a:pt x="123" y="8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d5d5d5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1" name=""/>
                  <p:cNvSpPr/>
                  <p:nvPr/>
                </p:nvSpPr>
                <p:spPr>
                  <a:xfrm>
                    <a:off x="4094280" y="6040440"/>
                    <a:ext cx="176400" cy="249480"/>
                  </a:xfrm>
                  <a:custGeom>
                    <a:avLst/>
                    <a:gdLst/>
                    <a:ahLst/>
                    <a:rect l="0" t="0" r="r" b="b"/>
                    <a:pathLst>
                      <a:path w="490" h="693">
                        <a:moveTo>
                          <a:pt x="0" y="693"/>
                        </a:moveTo>
                        <a:lnTo>
                          <a:pt x="46" y="527"/>
                        </a:lnTo>
                        <a:lnTo>
                          <a:pt x="62" y="396"/>
                        </a:lnTo>
                        <a:lnTo>
                          <a:pt x="79" y="288"/>
                        </a:lnTo>
                        <a:lnTo>
                          <a:pt x="104" y="229"/>
                        </a:lnTo>
                        <a:lnTo>
                          <a:pt x="146" y="165"/>
                        </a:lnTo>
                        <a:lnTo>
                          <a:pt x="204" y="123"/>
                        </a:lnTo>
                        <a:lnTo>
                          <a:pt x="293" y="76"/>
                        </a:lnTo>
                        <a:lnTo>
                          <a:pt x="385" y="46"/>
                        </a:lnTo>
                        <a:lnTo>
                          <a:pt x="490" y="0"/>
                        </a:lnTo>
                        <a:lnTo>
                          <a:pt x="398" y="101"/>
                        </a:lnTo>
                        <a:lnTo>
                          <a:pt x="335" y="144"/>
                        </a:lnTo>
                        <a:lnTo>
                          <a:pt x="260" y="216"/>
                        </a:lnTo>
                        <a:lnTo>
                          <a:pt x="217" y="331"/>
                        </a:lnTo>
                        <a:lnTo>
                          <a:pt x="188" y="442"/>
                        </a:lnTo>
                        <a:lnTo>
                          <a:pt x="142" y="531"/>
                        </a:lnTo>
                        <a:lnTo>
                          <a:pt x="87" y="604"/>
                        </a:lnTo>
                        <a:lnTo>
                          <a:pt x="0" y="693"/>
                        </a:lnTo>
                        <a:close/>
                      </a:path>
                    </a:pathLst>
                  </a:custGeom>
                  <a:solidFill>
                    <a:srgbClr val="eaeaea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2" name=""/>
                  <p:cNvSpPr/>
                  <p:nvPr/>
                </p:nvSpPr>
                <p:spPr>
                  <a:xfrm>
                    <a:off x="4265640" y="6005520"/>
                    <a:ext cx="124200" cy="117720"/>
                  </a:xfrm>
                  <a:custGeom>
                    <a:avLst/>
                    <a:gdLst/>
                    <a:ahLst/>
                    <a:rect l="0" t="0" r="r" b="b"/>
                    <a:pathLst>
                      <a:path w="345" h="327">
                        <a:moveTo>
                          <a:pt x="36" y="89"/>
                        </a:moveTo>
                        <a:lnTo>
                          <a:pt x="65" y="138"/>
                        </a:lnTo>
                        <a:lnTo>
                          <a:pt x="73" y="209"/>
                        </a:lnTo>
                        <a:lnTo>
                          <a:pt x="53" y="262"/>
                        </a:lnTo>
                        <a:lnTo>
                          <a:pt x="0" y="327"/>
                        </a:lnTo>
                        <a:lnTo>
                          <a:pt x="81" y="311"/>
                        </a:lnTo>
                        <a:lnTo>
                          <a:pt x="148" y="282"/>
                        </a:lnTo>
                        <a:lnTo>
                          <a:pt x="197" y="241"/>
                        </a:lnTo>
                        <a:lnTo>
                          <a:pt x="238" y="196"/>
                        </a:lnTo>
                        <a:lnTo>
                          <a:pt x="276" y="225"/>
                        </a:lnTo>
                        <a:lnTo>
                          <a:pt x="296" y="257"/>
                        </a:lnTo>
                        <a:lnTo>
                          <a:pt x="309" y="327"/>
                        </a:lnTo>
                        <a:lnTo>
                          <a:pt x="333" y="213"/>
                        </a:lnTo>
                        <a:lnTo>
                          <a:pt x="345" y="118"/>
                        </a:lnTo>
                        <a:lnTo>
                          <a:pt x="329" y="40"/>
                        </a:lnTo>
                        <a:lnTo>
                          <a:pt x="309" y="0"/>
                        </a:lnTo>
                        <a:lnTo>
                          <a:pt x="242" y="0"/>
                        </a:lnTo>
                        <a:lnTo>
                          <a:pt x="152" y="20"/>
                        </a:lnTo>
                        <a:lnTo>
                          <a:pt x="81" y="53"/>
                        </a:lnTo>
                        <a:lnTo>
                          <a:pt x="36" y="89"/>
                        </a:lnTo>
                        <a:close/>
                      </a:path>
                    </a:pathLst>
                  </a:custGeom>
                  <a:solidFill>
                    <a:srgbClr val="eaeaea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3" name=""/>
                  <p:cNvSpPr/>
                  <p:nvPr/>
                </p:nvSpPr>
                <p:spPr>
                  <a:xfrm>
                    <a:off x="4419720" y="6078600"/>
                    <a:ext cx="106560" cy="298800"/>
                  </a:xfrm>
                  <a:custGeom>
                    <a:avLst/>
                    <a:gdLst/>
                    <a:ahLst/>
                    <a:rect l="0" t="0" r="r" b="b"/>
                    <a:pathLst>
                      <a:path w="296" h="830">
                        <a:moveTo>
                          <a:pt x="0" y="0"/>
                        </a:moveTo>
                        <a:lnTo>
                          <a:pt x="105" y="98"/>
                        </a:lnTo>
                        <a:lnTo>
                          <a:pt x="166" y="196"/>
                        </a:lnTo>
                        <a:lnTo>
                          <a:pt x="195" y="329"/>
                        </a:lnTo>
                        <a:lnTo>
                          <a:pt x="199" y="471"/>
                        </a:lnTo>
                        <a:lnTo>
                          <a:pt x="187" y="599"/>
                        </a:lnTo>
                        <a:lnTo>
                          <a:pt x="141" y="706"/>
                        </a:lnTo>
                        <a:lnTo>
                          <a:pt x="56" y="830"/>
                        </a:lnTo>
                        <a:lnTo>
                          <a:pt x="158" y="765"/>
                        </a:lnTo>
                        <a:lnTo>
                          <a:pt x="239" y="659"/>
                        </a:lnTo>
                        <a:lnTo>
                          <a:pt x="288" y="526"/>
                        </a:lnTo>
                        <a:lnTo>
                          <a:pt x="296" y="363"/>
                        </a:lnTo>
                        <a:lnTo>
                          <a:pt x="272" y="222"/>
                        </a:lnTo>
                        <a:lnTo>
                          <a:pt x="199" y="111"/>
                        </a:lnTo>
                        <a:lnTo>
                          <a:pt x="109" y="4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d5d5d5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4" name=""/>
                  <p:cNvSpPr/>
                  <p:nvPr/>
                </p:nvSpPr>
                <p:spPr>
                  <a:xfrm>
                    <a:off x="4808520" y="6014880"/>
                    <a:ext cx="109800" cy="140040"/>
                  </a:xfrm>
                  <a:custGeom>
                    <a:avLst/>
                    <a:gdLst/>
                    <a:ahLst/>
                    <a:rect l="0" t="0" r="r" b="b"/>
                    <a:pathLst>
                      <a:path w="305" h="389">
                        <a:moveTo>
                          <a:pt x="0" y="389"/>
                        </a:moveTo>
                        <a:lnTo>
                          <a:pt x="105" y="277"/>
                        </a:lnTo>
                        <a:lnTo>
                          <a:pt x="199" y="189"/>
                        </a:lnTo>
                        <a:lnTo>
                          <a:pt x="305" y="0"/>
                        </a:lnTo>
                        <a:lnTo>
                          <a:pt x="199" y="82"/>
                        </a:lnTo>
                        <a:lnTo>
                          <a:pt x="105" y="215"/>
                        </a:lnTo>
                        <a:lnTo>
                          <a:pt x="0" y="389"/>
                        </a:lnTo>
                        <a:close/>
                      </a:path>
                    </a:pathLst>
                  </a:custGeom>
                  <a:solidFill>
                    <a:srgbClr val="eaeaea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5" name=""/>
                  <p:cNvSpPr/>
                  <p:nvPr/>
                </p:nvSpPr>
                <p:spPr>
                  <a:xfrm>
                    <a:off x="4238640" y="6148440"/>
                    <a:ext cx="63720" cy="244800"/>
                  </a:xfrm>
                  <a:custGeom>
                    <a:avLst/>
                    <a:gdLst/>
                    <a:ahLst/>
                    <a:rect l="0" t="0" r="r" b="b"/>
                    <a:pathLst>
                      <a:path w="177" h="680">
                        <a:moveTo>
                          <a:pt x="108" y="680"/>
                        </a:moveTo>
                        <a:lnTo>
                          <a:pt x="131" y="565"/>
                        </a:lnTo>
                        <a:lnTo>
                          <a:pt x="165" y="476"/>
                        </a:lnTo>
                        <a:lnTo>
                          <a:pt x="131" y="391"/>
                        </a:lnTo>
                        <a:lnTo>
                          <a:pt x="108" y="301"/>
                        </a:lnTo>
                        <a:lnTo>
                          <a:pt x="116" y="186"/>
                        </a:lnTo>
                        <a:lnTo>
                          <a:pt x="135" y="106"/>
                        </a:lnTo>
                        <a:lnTo>
                          <a:pt x="177" y="0"/>
                        </a:lnTo>
                        <a:lnTo>
                          <a:pt x="104" y="84"/>
                        </a:lnTo>
                        <a:lnTo>
                          <a:pt x="49" y="165"/>
                        </a:lnTo>
                        <a:lnTo>
                          <a:pt x="19" y="246"/>
                        </a:lnTo>
                        <a:lnTo>
                          <a:pt x="0" y="387"/>
                        </a:lnTo>
                        <a:lnTo>
                          <a:pt x="19" y="497"/>
                        </a:lnTo>
                        <a:lnTo>
                          <a:pt x="61" y="595"/>
                        </a:lnTo>
                        <a:lnTo>
                          <a:pt x="108" y="680"/>
                        </a:lnTo>
                        <a:close/>
                      </a:path>
                    </a:pathLst>
                  </a:custGeom>
                  <a:solidFill>
                    <a:srgbClr val="eaeaea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6" name=""/>
                  <p:cNvSpPr/>
                  <p:nvPr/>
                </p:nvSpPr>
                <p:spPr>
                  <a:xfrm>
                    <a:off x="4116240" y="4503600"/>
                    <a:ext cx="39960" cy="119520"/>
                  </a:xfrm>
                  <a:custGeom>
                    <a:avLst/>
                    <a:gdLst/>
                    <a:ahLst/>
                    <a:rect l="0" t="0" r="r" b="b"/>
                    <a:pathLst>
                      <a:path w="111" h="332">
                        <a:moveTo>
                          <a:pt x="111" y="0"/>
                        </a:moveTo>
                        <a:lnTo>
                          <a:pt x="82" y="61"/>
                        </a:lnTo>
                        <a:lnTo>
                          <a:pt x="68" y="107"/>
                        </a:lnTo>
                        <a:lnTo>
                          <a:pt x="49" y="160"/>
                        </a:lnTo>
                        <a:lnTo>
                          <a:pt x="46" y="213"/>
                        </a:lnTo>
                        <a:lnTo>
                          <a:pt x="49" y="267"/>
                        </a:lnTo>
                        <a:lnTo>
                          <a:pt x="61" y="332"/>
                        </a:lnTo>
                        <a:lnTo>
                          <a:pt x="39" y="279"/>
                        </a:lnTo>
                        <a:lnTo>
                          <a:pt x="24" y="213"/>
                        </a:lnTo>
                        <a:lnTo>
                          <a:pt x="17" y="176"/>
                        </a:lnTo>
                        <a:lnTo>
                          <a:pt x="0" y="135"/>
                        </a:lnTo>
                        <a:lnTo>
                          <a:pt x="24" y="131"/>
                        </a:lnTo>
                        <a:lnTo>
                          <a:pt x="49" y="94"/>
                        </a:lnTo>
                        <a:lnTo>
                          <a:pt x="79" y="44"/>
                        </a:lnTo>
                        <a:lnTo>
                          <a:pt x="111" y="0"/>
                        </a:lnTo>
                        <a:close/>
                      </a:path>
                    </a:pathLst>
                  </a:custGeom>
                  <a:solidFill>
                    <a:srgbClr val="bfbfb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47" name=""/>
              <p:cNvGrpSpPr/>
              <p:nvPr/>
            </p:nvGrpSpPr>
            <p:grpSpPr>
              <a:xfrm>
                <a:off x="4597560" y="4821120"/>
                <a:ext cx="211320" cy="894240"/>
                <a:chOff x="4597560" y="4821120"/>
                <a:chExt cx="211320" cy="894240"/>
              </a:xfrm>
            </p:grpSpPr>
            <p:sp>
              <p:nvSpPr>
                <p:cNvPr id="1348" name=""/>
                <p:cNvSpPr/>
                <p:nvPr/>
              </p:nvSpPr>
              <p:spPr>
                <a:xfrm>
                  <a:off x="4597560" y="4821120"/>
                  <a:ext cx="211320" cy="894240"/>
                </a:xfrm>
                <a:custGeom>
                  <a:avLst/>
                  <a:gdLst/>
                  <a:ahLst/>
                  <a:rect l="0" t="0" r="r" b="b"/>
                  <a:pathLst>
                    <a:path w="587" h="2484">
                      <a:moveTo>
                        <a:pt x="25" y="0"/>
                      </a:moveTo>
                      <a:lnTo>
                        <a:pt x="16" y="47"/>
                      </a:lnTo>
                      <a:lnTo>
                        <a:pt x="33" y="130"/>
                      </a:lnTo>
                      <a:lnTo>
                        <a:pt x="42" y="226"/>
                      </a:lnTo>
                      <a:lnTo>
                        <a:pt x="25" y="318"/>
                      </a:lnTo>
                      <a:lnTo>
                        <a:pt x="0" y="370"/>
                      </a:lnTo>
                      <a:lnTo>
                        <a:pt x="16" y="423"/>
                      </a:lnTo>
                      <a:lnTo>
                        <a:pt x="50" y="453"/>
                      </a:lnTo>
                      <a:lnTo>
                        <a:pt x="67" y="549"/>
                      </a:lnTo>
                      <a:lnTo>
                        <a:pt x="71" y="655"/>
                      </a:lnTo>
                      <a:lnTo>
                        <a:pt x="46" y="707"/>
                      </a:lnTo>
                      <a:lnTo>
                        <a:pt x="25" y="773"/>
                      </a:lnTo>
                      <a:lnTo>
                        <a:pt x="42" y="882"/>
                      </a:lnTo>
                      <a:lnTo>
                        <a:pt x="71" y="982"/>
                      </a:lnTo>
                      <a:lnTo>
                        <a:pt x="118" y="1052"/>
                      </a:lnTo>
                      <a:lnTo>
                        <a:pt x="156" y="1187"/>
                      </a:lnTo>
                      <a:lnTo>
                        <a:pt x="172" y="1344"/>
                      </a:lnTo>
                      <a:lnTo>
                        <a:pt x="151" y="1414"/>
                      </a:lnTo>
                      <a:lnTo>
                        <a:pt x="135" y="1484"/>
                      </a:lnTo>
                      <a:lnTo>
                        <a:pt x="143" y="1558"/>
                      </a:lnTo>
                      <a:lnTo>
                        <a:pt x="168" y="1632"/>
                      </a:lnTo>
                      <a:lnTo>
                        <a:pt x="189" y="1707"/>
                      </a:lnTo>
                      <a:lnTo>
                        <a:pt x="177" y="2087"/>
                      </a:lnTo>
                      <a:lnTo>
                        <a:pt x="194" y="2484"/>
                      </a:lnTo>
                      <a:lnTo>
                        <a:pt x="579" y="2013"/>
                      </a:lnTo>
                      <a:lnTo>
                        <a:pt x="549" y="1759"/>
                      </a:lnTo>
                      <a:lnTo>
                        <a:pt x="579" y="1453"/>
                      </a:lnTo>
                      <a:lnTo>
                        <a:pt x="587" y="1135"/>
                      </a:lnTo>
                      <a:lnTo>
                        <a:pt x="549" y="773"/>
                      </a:lnTo>
                      <a:lnTo>
                        <a:pt x="465" y="638"/>
                      </a:lnTo>
                      <a:lnTo>
                        <a:pt x="393" y="549"/>
                      </a:lnTo>
                      <a:lnTo>
                        <a:pt x="338" y="475"/>
                      </a:lnTo>
                      <a:lnTo>
                        <a:pt x="384" y="453"/>
                      </a:lnTo>
                      <a:lnTo>
                        <a:pt x="410" y="423"/>
                      </a:lnTo>
                      <a:lnTo>
                        <a:pt x="384" y="318"/>
                      </a:lnTo>
                      <a:lnTo>
                        <a:pt x="351" y="209"/>
                      </a:lnTo>
                      <a:lnTo>
                        <a:pt x="317" y="109"/>
                      </a:lnTo>
                      <a:lnTo>
                        <a:pt x="270" y="0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>
                  <a:off x="4686120" y="4975200"/>
                  <a:ext cx="97200" cy="97200"/>
                </a:xfrm>
                <a:custGeom>
                  <a:avLst/>
                  <a:gdLst/>
                  <a:ahLst/>
                  <a:rect l="0" t="0" r="r" b="b"/>
                  <a:pathLst>
                    <a:path w="270" h="270">
                      <a:moveTo>
                        <a:pt x="270" y="270"/>
                      </a:moveTo>
                      <a:lnTo>
                        <a:pt x="129" y="177"/>
                      </a:lnTo>
                      <a:lnTo>
                        <a:pt x="0" y="105"/>
                      </a:lnTo>
                      <a:lnTo>
                        <a:pt x="32" y="0"/>
                      </a:lnTo>
                      <a:lnTo>
                        <a:pt x="105" y="56"/>
                      </a:lnTo>
                      <a:lnTo>
                        <a:pt x="145" y="97"/>
                      </a:lnTo>
                      <a:lnTo>
                        <a:pt x="218" y="185"/>
                      </a:lnTo>
                      <a:lnTo>
                        <a:pt x="270" y="27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4614840" y="4976640"/>
                  <a:ext cx="192600" cy="308160"/>
                </a:xfrm>
                <a:custGeom>
                  <a:avLst/>
                  <a:gdLst/>
                  <a:ahLst/>
                  <a:rect l="0" t="0" r="r" b="b"/>
                  <a:pathLst>
                    <a:path w="535" h="856">
                      <a:moveTo>
                        <a:pt x="21" y="218"/>
                      </a:moveTo>
                      <a:lnTo>
                        <a:pt x="12" y="136"/>
                      </a:lnTo>
                      <a:lnTo>
                        <a:pt x="0" y="0"/>
                      </a:lnTo>
                      <a:lnTo>
                        <a:pt x="42" y="145"/>
                      </a:lnTo>
                      <a:lnTo>
                        <a:pt x="84" y="235"/>
                      </a:lnTo>
                      <a:lnTo>
                        <a:pt x="181" y="372"/>
                      </a:lnTo>
                      <a:lnTo>
                        <a:pt x="261" y="450"/>
                      </a:lnTo>
                      <a:lnTo>
                        <a:pt x="400" y="569"/>
                      </a:lnTo>
                      <a:lnTo>
                        <a:pt x="535" y="681"/>
                      </a:lnTo>
                      <a:lnTo>
                        <a:pt x="535" y="856"/>
                      </a:lnTo>
                      <a:lnTo>
                        <a:pt x="395" y="736"/>
                      </a:lnTo>
                      <a:lnTo>
                        <a:pt x="261" y="629"/>
                      </a:lnTo>
                      <a:lnTo>
                        <a:pt x="169" y="561"/>
                      </a:lnTo>
                      <a:lnTo>
                        <a:pt x="181" y="492"/>
                      </a:lnTo>
                      <a:lnTo>
                        <a:pt x="164" y="397"/>
                      </a:lnTo>
                      <a:lnTo>
                        <a:pt x="96" y="325"/>
                      </a:lnTo>
                      <a:lnTo>
                        <a:pt x="21" y="218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4646520" y="5319720"/>
                  <a:ext cx="155880" cy="203400"/>
                </a:xfrm>
                <a:custGeom>
                  <a:avLst/>
                  <a:gdLst/>
                  <a:ahLst/>
                  <a:rect l="0" t="0" r="r" b="b"/>
                  <a:pathLst>
                    <a:path w="433" h="565">
                      <a:moveTo>
                        <a:pt x="37" y="0"/>
                      </a:moveTo>
                      <a:lnTo>
                        <a:pt x="12" y="46"/>
                      </a:lnTo>
                      <a:lnTo>
                        <a:pt x="0" y="109"/>
                      </a:lnTo>
                      <a:lnTo>
                        <a:pt x="83" y="130"/>
                      </a:lnTo>
                      <a:lnTo>
                        <a:pt x="66" y="269"/>
                      </a:lnTo>
                      <a:lnTo>
                        <a:pt x="242" y="392"/>
                      </a:lnTo>
                      <a:lnTo>
                        <a:pt x="433" y="565"/>
                      </a:lnTo>
                      <a:lnTo>
                        <a:pt x="416" y="375"/>
                      </a:lnTo>
                      <a:lnTo>
                        <a:pt x="420" y="304"/>
                      </a:lnTo>
                      <a:lnTo>
                        <a:pt x="250" y="176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4616280" y="4978440"/>
                  <a:ext cx="73440" cy="16200"/>
                </a:xfrm>
                <a:custGeom>
                  <a:avLst/>
                  <a:gdLst/>
                  <a:ahLst/>
                  <a:rect l="0" t="0" r="r" b="b"/>
                  <a:pathLst>
                    <a:path w="204" h="45">
                      <a:moveTo>
                        <a:pt x="0" y="11"/>
                      </a:moveTo>
                      <a:lnTo>
                        <a:pt x="94" y="23"/>
                      </a:lnTo>
                      <a:lnTo>
                        <a:pt x="149" y="19"/>
                      </a:lnTo>
                      <a:lnTo>
                        <a:pt x="204" y="0"/>
                      </a:lnTo>
                      <a:lnTo>
                        <a:pt x="169" y="28"/>
                      </a:lnTo>
                      <a:lnTo>
                        <a:pt x="137" y="42"/>
                      </a:lnTo>
                      <a:lnTo>
                        <a:pt x="86" y="45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53" name=""/>
            <p:cNvGrpSpPr/>
            <p:nvPr/>
          </p:nvGrpSpPr>
          <p:grpSpPr>
            <a:xfrm>
              <a:off x="4135320" y="4016520"/>
              <a:ext cx="857520" cy="835560"/>
              <a:chOff x="4135320" y="4016520"/>
              <a:chExt cx="857520" cy="835560"/>
            </a:xfrm>
          </p:grpSpPr>
          <p:sp>
            <p:nvSpPr>
              <p:cNvPr id="1354" name=""/>
              <p:cNvSpPr/>
              <p:nvPr/>
            </p:nvSpPr>
            <p:spPr>
              <a:xfrm>
                <a:off x="4135320" y="4016520"/>
                <a:ext cx="857520" cy="835560"/>
              </a:xfrm>
              <a:custGeom>
                <a:avLst/>
                <a:gdLst/>
                <a:ahLst/>
                <a:rect l="0" t="0" r="r" b="b"/>
                <a:pathLst>
                  <a:path w="2382" h="2321">
                    <a:moveTo>
                      <a:pt x="2146" y="82"/>
                    </a:moveTo>
                    <a:lnTo>
                      <a:pt x="2281" y="217"/>
                    </a:lnTo>
                    <a:lnTo>
                      <a:pt x="2312" y="274"/>
                    </a:lnTo>
                    <a:lnTo>
                      <a:pt x="2351" y="409"/>
                    </a:lnTo>
                    <a:lnTo>
                      <a:pt x="2382" y="540"/>
                    </a:lnTo>
                    <a:lnTo>
                      <a:pt x="2369" y="668"/>
                    </a:lnTo>
                    <a:lnTo>
                      <a:pt x="2329" y="720"/>
                    </a:lnTo>
                    <a:lnTo>
                      <a:pt x="2308" y="772"/>
                    </a:lnTo>
                    <a:lnTo>
                      <a:pt x="2316" y="864"/>
                    </a:lnTo>
                    <a:lnTo>
                      <a:pt x="2329" y="929"/>
                    </a:lnTo>
                    <a:lnTo>
                      <a:pt x="2316" y="1016"/>
                    </a:lnTo>
                    <a:lnTo>
                      <a:pt x="2290" y="1086"/>
                    </a:lnTo>
                    <a:lnTo>
                      <a:pt x="2247" y="1152"/>
                    </a:lnTo>
                    <a:lnTo>
                      <a:pt x="2220" y="1191"/>
                    </a:lnTo>
                    <a:lnTo>
                      <a:pt x="2220" y="1335"/>
                    </a:lnTo>
                    <a:lnTo>
                      <a:pt x="2238" y="1435"/>
                    </a:lnTo>
                    <a:lnTo>
                      <a:pt x="2238" y="1487"/>
                    </a:lnTo>
                    <a:lnTo>
                      <a:pt x="2164" y="1518"/>
                    </a:lnTo>
                    <a:lnTo>
                      <a:pt x="2124" y="1531"/>
                    </a:lnTo>
                    <a:lnTo>
                      <a:pt x="2107" y="1644"/>
                    </a:lnTo>
                    <a:lnTo>
                      <a:pt x="2107" y="1705"/>
                    </a:lnTo>
                    <a:lnTo>
                      <a:pt x="2020" y="1759"/>
                    </a:lnTo>
                    <a:lnTo>
                      <a:pt x="2020" y="1789"/>
                    </a:lnTo>
                    <a:lnTo>
                      <a:pt x="2033" y="1859"/>
                    </a:lnTo>
                    <a:lnTo>
                      <a:pt x="2007" y="1916"/>
                    </a:lnTo>
                    <a:lnTo>
                      <a:pt x="1994" y="1942"/>
                    </a:lnTo>
                    <a:lnTo>
                      <a:pt x="1985" y="2007"/>
                    </a:lnTo>
                    <a:lnTo>
                      <a:pt x="2007" y="2081"/>
                    </a:lnTo>
                    <a:lnTo>
                      <a:pt x="2020" y="2160"/>
                    </a:lnTo>
                    <a:lnTo>
                      <a:pt x="2007" y="2212"/>
                    </a:lnTo>
                    <a:lnTo>
                      <a:pt x="1981" y="2256"/>
                    </a:lnTo>
                    <a:lnTo>
                      <a:pt x="1928" y="2290"/>
                    </a:lnTo>
                    <a:lnTo>
                      <a:pt x="1845" y="2299"/>
                    </a:lnTo>
                    <a:lnTo>
                      <a:pt x="1706" y="2304"/>
                    </a:lnTo>
                    <a:lnTo>
                      <a:pt x="1553" y="2321"/>
                    </a:lnTo>
                    <a:lnTo>
                      <a:pt x="1427" y="2290"/>
                    </a:lnTo>
                    <a:lnTo>
                      <a:pt x="1300" y="2286"/>
                    </a:lnTo>
                    <a:lnTo>
                      <a:pt x="1147" y="2234"/>
                    </a:lnTo>
                    <a:lnTo>
                      <a:pt x="928" y="2147"/>
                    </a:lnTo>
                    <a:lnTo>
                      <a:pt x="763" y="2068"/>
                    </a:lnTo>
                    <a:lnTo>
                      <a:pt x="593" y="1942"/>
                    </a:lnTo>
                    <a:lnTo>
                      <a:pt x="444" y="1793"/>
                    </a:lnTo>
                    <a:lnTo>
                      <a:pt x="300" y="1618"/>
                    </a:lnTo>
                    <a:lnTo>
                      <a:pt x="117" y="1365"/>
                    </a:lnTo>
                    <a:lnTo>
                      <a:pt x="100" y="1274"/>
                    </a:lnTo>
                    <a:lnTo>
                      <a:pt x="170" y="1147"/>
                    </a:lnTo>
                    <a:lnTo>
                      <a:pt x="0" y="807"/>
                    </a:lnTo>
                    <a:lnTo>
                      <a:pt x="152" y="523"/>
                    </a:lnTo>
                    <a:lnTo>
                      <a:pt x="584" y="637"/>
                    </a:lnTo>
                    <a:lnTo>
                      <a:pt x="937" y="449"/>
                    </a:lnTo>
                    <a:lnTo>
                      <a:pt x="955" y="174"/>
                    </a:lnTo>
                    <a:lnTo>
                      <a:pt x="1427" y="0"/>
                    </a:lnTo>
                    <a:lnTo>
                      <a:pt x="1793" y="0"/>
                    </a:lnTo>
                    <a:lnTo>
                      <a:pt x="2146" y="82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5" name=""/>
              <p:cNvGrpSpPr/>
              <p:nvPr/>
            </p:nvGrpSpPr>
            <p:grpSpPr>
              <a:xfrm>
                <a:off x="4273560" y="4249800"/>
                <a:ext cx="714600" cy="600120"/>
                <a:chOff x="4273560" y="4249800"/>
                <a:chExt cx="714600" cy="600120"/>
              </a:xfrm>
            </p:grpSpPr>
            <p:grpSp>
              <p:nvGrpSpPr>
                <p:cNvPr id="1356" name=""/>
                <p:cNvGrpSpPr/>
                <p:nvPr/>
              </p:nvGrpSpPr>
              <p:grpSpPr>
                <a:xfrm>
                  <a:off x="4554360" y="4249800"/>
                  <a:ext cx="433800" cy="187920"/>
                  <a:chOff x="4554360" y="4249800"/>
                  <a:chExt cx="433800" cy="187920"/>
                </a:xfrm>
              </p:grpSpPr>
              <p:grpSp>
                <p:nvGrpSpPr>
                  <p:cNvPr id="1357" name=""/>
                  <p:cNvGrpSpPr/>
                  <p:nvPr/>
                </p:nvGrpSpPr>
                <p:grpSpPr>
                  <a:xfrm>
                    <a:off x="4890960" y="4249800"/>
                    <a:ext cx="97200" cy="122760"/>
                    <a:chOff x="4890960" y="4249800"/>
                    <a:chExt cx="97200" cy="122760"/>
                  </a:xfrm>
                </p:grpSpPr>
                <p:sp>
                  <p:nvSpPr>
                    <p:cNvPr id="1358" name=""/>
                    <p:cNvSpPr/>
                    <p:nvPr/>
                  </p:nvSpPr>
                  <p:spPr>
                    <a:xfrm>
                      <a:off x="4890960" y="4249800"/>
                      <a:ext cx="95760" cy="12276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66" h="341">
                          <a:moveTo>
                            <a:pt x="81" y="333"/>
                          </a:moveTo>
                          <a:lnTo>
                            <a:pt x="24" y="341"/>
                          </a:lnTo>
                          <a:lnTo>
                            <a:pt x="0" y="284"/>
                          </a:lnTo>
                          <a:lnTo>
                            <a:pt x="0" y="201"/>
                          </a:lnTo>
                          <a:lnTo>
                            <a:pt x="24" y="115"/>
                          </a:lnTo>
                          <a:lnTo>
                            <a:pt x="64" y="53"/>
                          </a:lnTo>
                          <a:lnTo>
                            <a:pt x="133" y="16"/>
                          </a:lnTo>
                          <a:lnTo>
                            <a:pt x="193" y="0"/>
                          </a:lnTo>
                          <a:lnTo>
                            <a:pt x="266" y="20"/>
                          </a:lnTo>
                          <a:lnTo>
                            <a:pt x="238" y="65"/>
                          </a:lnTo>
                          <a:lnTo>
                            <a:pt x="206" y="123"/>
                          </a:lnTo>
                          <a:lnTo>
                            <a:pt x="218" y="209"/>
                          </a:lnTo>
                          <a:lnTo>
                            <a:pt x="157" y="234"/>
                          </a:lnTo>
                          <a:lnTo>
                            <a:pt x="113" y="280"/>
                          </a:lnTo>
                          <a:lnTo>
                            <a:pt x="81" y="333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9" name=""/>
                    <p:cNvSpPr/>
                    <p:nvPr/>
                  </p:nvSpPr>
                  <p:spPr>
                    <a:xfrm>
                      <a:off x="4902120" y="4327560"/>
                      <a:ext cx="81360" cy="288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26" h="80">
                          <a:moveTo>
                            <a:pt x="0" y="9"/>
                          </a:moveTo>
                          <a:lnTo>
                            <a:pt x="68" y="26"/>
                          </a:lnTo>
                          <a:lnTo>
                            <a:pt x="127" y="47"/>
                          </a:lnTo>
                          <a:lnTo>
                            <a:pt x="171" y="57"/>
                          </a:lnTo>
                          <a:lnTo>
                            <a:pt x="226" y="80"/>
                          </a:lnTo>
                          <a:lnTo>
                            <a:pt x="199" y="33"/>
                          </a:lnTo>
                          <a:lnTo>
                            <a:pt x="191" y="0"/>
                          </a:lnTo>
                          <a:lnTo>
                            <a:pt x="158" y="9"/>
                          </a:lnTo>
                          <a:lnTo>
                            <a:pt x="119" y="23"/>
                          </a:lnTo>
                          <a:lnTo>
                            <a:pt x="83" y="19"/>
                          </a:lnTo>
                          <a:lnTo>
                            <a:pt x="0" y="9"/>
                          </a:lnTo>
                          <a:close/>
                        </a:path>
                      </a:pathLst>
                    </a:custGeom>
                    <a:solidFill>
                      <a:srgbClr val="bf3f00"/>
                    </a:solidFill>
                    <a:ln w="0">
                      <a:noFill/>
                    </a:ln>
                  </p:spPr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0" name=""/>
                    <p:cNvSpPr/>
                    <p:nvPr/>
                  </p:nvSpPr>
                  <p:spPr>
                    <a:xfrm>
                      <a:off x="4897440" y="4249800"/>
                      <a:ext cx="90720" cy="3996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52" h="111">
                          <a:moveTo>
                            <a:pt x="252" y="14"/>
                          </a:moveTo>
                          <a:lnTo>
                            <a:pt x="200" y="0"/>
                          </a:lnTo>
                          <a:lnTo>
                            <a:pt x="148" y="0"/>
                          </a:lnTo>
                          <a:lnTo>
                            <a:pt x="95" y="17"/>
                          </a:lnTo>
                          <a:lnTo>
                            <a:pt x="47" y="42"/>
                          </a:lnTo>
                          <a:lnTo>
                            <a:pt x="15" y="75"/>
                          </a:lnTo>
                          <a:lnTo>
                            <a:pt x="0" y="111"/>
                          </a:lnTo>
                          <a:lnTo>
                            <a:pt x="39" y="79"/>
                          </a:lnTo>
                          <a:lnTo>
                            <a:pt x="83" y="53"/>
                          </a:lnTo>
                          <a:lnTo>
                            <a:pt x="140" y="42"/>
                          </a:lnTo>
                          <a:lnTo>
                            <a:pt x="180" y="46"/>
                          </a:lnTo>
                          <a:lnTo>
                            <a:pt x="228" y="61"/>
                          </a:lnTo>
                          <a:lnTo>
                            <a:pt x="236" y="39"/>
                          </a:lnTo>
                          <a:lnTo>
                            <a:pt x="252" y="14"/>
                          </a:lnTo>
                          <a:close/>
                        </a:path>
                      </a:pathLst>
                    </a:custGeom>
                    <a:solidFill>
                      <a:srgbClr val="9f7f5f"/>
                    </a:solidFill>
                    <a:ln w="0">
                      <a:noFill/>
                    </a:ln>
                  </p:spPr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61" name=""/>
                  <p:cNvGrpSpPr/>
                  <p:nvPr/>
                </p:nvGrpSpPr>
                <p:grpSpPr>
                  <a:xfrm>
                    <a:off x="4554360" y="4259160"/>
                    <a:ext cx="295560" cy="178560"/>
                    <a:chOff x="4554360" y="4259160"/>
                    <a:chExt cx="295560" cy="178560"/>
                  </a:xfrm>
                </p:grpSpPr>
                <p:sp>
                  <p:nvSpPr>
                    <p:cNvPr id="1362" name=""/>
                    <p:cNvSpPr/>
                    <p:nvPr/>
                  </p:nvSpPr>
                  <p:spPr>
                    <a:xfrm>
                      <a:off x="4554360" y="4264200"/>
                      <a:ext cx="295560" cy="1735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821" h="482">
                          <a:moveTo>
                            <a:pt x="0" y="264"/>
                          </a:moveTo>
                          <a:lnTo>
                            <a:pt x="89" y="164"/>
                          </a:lnTo>
                          <a:lnTo>
                            <a:pt x="166" y="96"/>
                          </a:lnTo>
                          <a:lnTo>
                            <a:pt x="243" y="50"/>
                          </a:lnTo>
                          <a:lnTo>
                            <a:pt x="333" y="16"/>
                          </a:lnTo>
                          <a:lnTo>
                            <a:pt x="428" y="0"/>
                          </a:lnTo>
                          <a:lnTo>
                            <a:pt x="522" y="0"/>
                          </a:lnTo>
                          <a:lnTo>
                            <a:pt x="607" y="16"/>
                          </a:lnTo>
                          <a:lnTo>
                            <a:pt x="701" y="45"/>
                          </a:lnTo>
                          <a:lnTo>
                            <a:pt x="752" y="58"/>
                          </a:lnTo>
                          <a:lnTo>
                            <a:pt x="821" y="33"/>
                          </a:lnTo>
                          <a:lnTo>
                            <a:pt x="799" y="96"/>
                          </a:lnTo>
                          <a:lnTo>
                            <a:pt x="795" y="159"/>
                          </a:lnTo>
                          <a:lnTo>
                            <a:pt x="804" y="239"/>
                          </a:lnTo>
                          <a:lnTo>
                            <a:pt x="816" y="318"/>
                          </a:lnTo>
                          <a:lnTo>
                            <a:pt x="799" y="403"/>
                          </a:lnTo>
                          <a:lnTo>
                            <a:pt x="765" y="445"/>
                          </a:lnTo>
                          <a:lnTo>
                            <a:pt x="714" y="482"/>
                          </a:lnTo>
                          <a:lnTo>
                            <a:pt x="731" y="411"/>
                          </a:lnTo>
                          <a:lnTo>
                            <a:pt x="744" y="343"/>
                          </a:lnTo>
                          <a:lnTo>
                            <a:pt x="722" y="301"/>
                          </a:lnTo>
                          <a:lnTo>
                            <a:pt x="688" y="268"/>
                          </a:lnTo>
                          <a:lnTo>
                            <a:pt x="628" y="322"/>
                          </a:lnTo>
                          <a:lnTo>
                            <a:pt x="564" y="352"/>
                          </a:lnTo>
                          <a:lnTo>
                            <a:pt x="487" y="369"/>
                          </a:lnTo>
                          <a:lnTo>
                            <a:pt x="401" y="365"/>
                          </a:lnTo>
                          <a:lnTo>
                            <a:pt x="324" y="322"/>
                          </a:lnTo>
                          <a:lnTo>
                            <a:pt x="252" y="268"/>
                          </a:lnTo>
                          <a:lnTo>
                            <a:pt x="196" y="235"/>
                          </a:lnTo>
                          <a:lnTo>
                            <a:pt x="0" y="264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3" name=""/>
                    <p:cNvSpPr/>
                    <p:nvPr/>
                  </p:nvSpPr>
                  <p:spPr>
                    <a:xfrm>
                      <a:off x="4643280" y="4335480"/>
                      <a:ext cx="141480" cy="496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393" h="138">
                          <a:moveTo>
                            <a:pt x="0" y="0"/>
                          </a:moveTo>
                          <a:lnTo>
                            <a:pt x="61" y="37"/>
                          </a:lnTo>
                          <a:lnTo>
                            <a:pt x="119" y="63"/>
                          </a:lnTo>
                          <a:lnTo>
                            <a:pt x="194" y="74"/>
                          </a:lnTo>
                          <a:lnTo>
                            <a:pt x="240" y="74"/>
                          </a:lnTo>
                          <a:lnTo>
                            <a:pt x="286" y="63"/>
                          </a:lnTo>
                          <a:lnTo>
                            <a:pt x="360" y="22"/>
                          </a:lnTo>
                          <a:lnTo>
                            <a:pt x="314" y="67"/>
                          </a:lnTo>
                          <a:lnTo>
                            <a:pt x="393" y="100"/>
                          </a:lnTo>
                          <a:lnTo>
                            <a:pt x="319" y="120"/>
                          </a:lnTo>
                          <a:lnTo>
                            <a:pt x="257" y="138"/>
                          </a:lnTo>
                          <a:lnTo>
                            <a:pt x="173" y="135"/>
                          </a:lnTo>
                          <a:lnTo>
                            <a:pt x="111" y="109"/>
                          </a:lnTo>
                          <a:lnTo>
                            <a:pt x="49" y="6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f3f00"/>
                    </a:solidFill>
                    <a:ln w="0">
                      <a:noFill/>
                    </a:ln>
                  </p:spPr>
                  <p:txBody>
                    <a:bodyPr lIns="90000" rIns="90000" tIns="4680" bIns="4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4" name=""/>
                    <p:cNvSpPr/>
                    <p:nvPr/>
                  </p:nvSpPr>
                  <p:spPr>
                    <a:xfrm>
                      <a:off x="4587840" y="4259160"/>
                      <a:ext cx="259200" cy="590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0" h="164">
                          <a:moveTo>
                            <a:pt x="0" y="160"/>
                          </a:moveTo>
                          <a:lnTo>
                            <a:pt x="55" y="107"/>
                          </a:lnTo>
                          <a:lnTo>
                            <a:pt x="80" y="84"/>
                          </a:lnTo>
                          <a:lnTo>
                            <a:pt x="119" y="64"/>
                          </a:lnTo>
                          <a:lnTo>
                            <a:pt x="148" y="41"/>
                          </a:lnTo>
                          <a:lnTo>
                            <a:pt x="192" y="30"/>
                          </a:lnTo>
                          <a:lnTo>
                            <a:pt x="230" y="18"/>
                          </a:lnTo>
                          <a:lnTo>
                            <a:pt x="294" y="3"/>
                          </a:lnTo>
                          <a:lnTo>
                            <a:pt x="349" y="0"/>
                          </a:lnTo>
                          <a:lnTo>
                            <a:pt x="417" y="3"/>
                          </a:lnTo>
                          <a:lnTo>
                            <a:pt x="481" y="18"/>
                          </a:lnTo>
                          <a:lnTo>
                            <a:pt x="542" y="30"/>
                          </a:lnTo>
                          <a:lnTo>
                            <a:pt x="618" y="45"/>
                          </a:lnTo>
                          <a:lnTo>
                            <a:pt x="661" y="41"/>
                          </a:lnTo>
                          <a:lnTo>
                            <a:pt x="699" y="37"/>
                          </a:lnTo>
                          <a:lnTo>
                            <a:pt x="712" y="53"/>
                          </a:lnTo>
                          <a:lnTo>
                            <a:pt x="720" y="72"/>
                          </a:lnTo>
                          <a:lnTo>
                            <a:pt x="708" y="107"/>
                          </a:lnTo>
                          <a:lnTo>
                            <a:pt x="691" y="130"/>
                          </a:lnTo>
                          <a:lnTo>
                            <a:pt x="661" y="122"/>
                          </a:lnTo>
                          <a:lnTo>
                            <a:pt x="614" y="126"/>
                          </a:lnTo>
                          <a:lnTo>
                            <a:pt x="567" y="111"/>
                          </a:lnTo>
                          <a:lnTo>
                            <a:pt x="524" y="103"/>
                          </a:lnTo>
                          <a:lnTo>
                            <a:pt x="481" y="103"/>
                          </a:lnTo>
                          <a:lnTo>
                            <a:pt x="451" y="92"/>
                          </a:lnTo>
                          <a:lnTo>
                            <a:pt x="417" y="84"/>
                          </a:lnTo>
                          <a:lnTo>
                            <a:pt x="379" y="72"/>
                          </a:lnTo>
                          <a:lnTo>
                            <a:pt x="337" y="72"/>
                          </a:lnTo>
                          <a:lnTo>
                            <a:pt x="294" y="84"/>
                          </a:lnTo>
                          <a:lnTo>
                            <a:pt x="251" y="75"/>
                          </a:lnTo>
                          <a:lnTo>
                            <a:pt x="200" y="72"/>
                          </a:lnTo>
                          <a:lnTo>
                            <a:pt x="153" y="92"/>
                          </a:lnTo>
                          <a:lnTo>
                            <a:pt x="106" y="111"/>
                          </a:lnTo>
                          <a:lnTo>
                            <a:pt x="59" y="133"/>
                          </a:lnTo>
                          <a:lnTo>
                            <a:pt x="42" y="164"/>
                          </a:lnTo>
                          <a:lnTo>
                            <a:pt x="0" y="160"/>
                          </a:lnTo>
                          <a:close/>
                        </a:path>
                      </a:pathLst>
                    </a:custGeom>
                    <a:solidFill>
                      <a:srgbClr val="9f7f5f"/>
                    </a:solidFill>
                    <a:ln w="0">
                      <a:noFill/>
                    </a:ln>
                  </p:spPr>
                  <p:txBody>
                    <a:bodyPr lIns="90000" rIns="90000" tIns="14040" bIns="14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365" name=""/>
                <p:cNvGrpSpPr/>
                <p:nvPr/>
              </p:nvGrpSpPr>
              <p:grpSpPr>
                <a:xfrm>
                  <a:off x="4273560" y="4371840"/>
                  <a:ext cx="673560" cy="478080"/>
                  <a:chOff x="4273560" y="4371840"/>
                  <a:chExt cx="673560" cy="478080"/>
                </a:xfrm>
              </p:grpSpPr>
              <p:grpSp>
                <p:nvGrpSpPr>
                  <p:cNvPr id="1366" name=""/>
                  <p:cNvGrpSpPr/>
                  <p:nvPr/>
                </p:nvGrpSpPr>
                <p:grpSpPr>
                  <a:xfrm>
                    <a:off x="4789440" y="4371840"/>
                    <a:ext cx="157680" cy="252720"/>
                    <a:chOff x="4789440" y="4371840"/>
                    <a:chExt cx="157680" cy="252720"/>
                  </a:xfrm>
                </p:grpSpPr>
                <p:sp>
                  <p:nvSpPr>
                    <p:cNvPr id="1367" name=""/>
                    <p:cNvSpPr/>
                    <p:nvPr/>
                  </p:nvSpPr>
                  <p:spPr>
                    <a:xfrm>
                      <a:off x="4789440" y="4419720"/>
                      <a:ext cx="92520" cy="1638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57" h="455">
                          <a:moveTo>
                            <a:pt x="112" y="0"/>
                          </a:moveTo>
                          <a:lnTo>
                            <a:pt x="76" y="95"/>
                          </a:lnTo>
                          <a:lnTo>
                            <a:pt x="47" y="187"/>
                          </a:lnTo>
                          <a:lnTo>
                            <a:pt x="88" y="154"/>
                          </a:lnTo>
                          <a:lnTo>
                            <a:pt x="136" y="141"/>
                          </a:lnTo>
                          <a:lnTo>
                            <a:pt x="172" y="150"/>
                          </a:lnTo>
                          <a:lnTo>
                            <a:pt x="201" y="183"/>
                          </a:lnTo>
                          <a:lnTo>
                            <a:pt x="205" y="225"/>
                          </a:lnTo>
                          <a:lnTo>
                            <a:pt x="176" y="208"/>
                          </a:lnTo>
                          <a:lnTo>
                            <a:pt x="140" y="191"/>
                          </a:lnTo>
                          <a:lnTo>
                            <a:pt x="88" y="187"/>
                          </a:lnTo>
                          <a:lnTo>
                            <a:pt x="51" y="204"/>
                          </a:lnTo>
                          <a:lnTo>
                            <a:pt x="35" y="255"/>
                          </a:lnTo>
                          <a:lnTo>
                            <a:pt x="39" y="309"/>
                          </a:lnTo>
                          <a:lnTo>
                            <a:pt x="68" y="338"/>
                          </a:lnTo>
                          <a:lnTo>
                            <a:pt x="120" y="346"/>
                          </a:lnTo>
                          <a:lnTo>
                            <a:pt x="184" y="355"/>
                          </a:lnTo>
                          <a:lnTo>
                            <a:pt x="225" y="371"/>
                          </a:lnTo>
                          <a:lnTo>
                            <a:pt x="257" y="421"/>
                          </a:lnTo>
                          <a:lnTo>
                            <a:pt x="237" y="451"/>
                          </a:lnTo>
                          <a:lnTo>
                            <a:pt x="176" y="455"/>
                          </a:lnTo>
                          <a:lnTo>
                            <a:pt x="112" y="434"/>
                          </a:lnTo>
                          <a:lnTo>
                            <a:pt x="47" y="392"/>
                          </a:lnTo>
                          <a:lnTo>
                            <a:pt x="11" y="355"/>
                          </a:lnTo>
                          <a:lnTo>
                            <a:pt x="0" y="292"/>
                          </a:lnTo>
                          <a:lnTo>
                            <a:pt x="3" y="246"/>
                          </a:lnTo>
                          <a:lnTo>
                            <a:pt x="23" y="179"/>
                          </a:lnTo>
                          <a:lnTo>
                            <a:pt x="112" y="0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8" name=""/>
                    <p:cNvSpPr/>
                    <p:nvPr/>
                  </p:nvSpPr>
                  <p:spPr>
                    <a:xfrm>
                      <a:off x="4886280" y="4371840"/>
                      <a:ext cx="60840" cy="2527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69" h="702">
                          <a:moveTo>
                            <a:pt x="26" y="0"/>
                          </a:moveTo>
                          <a:lnTo>
                            <a:pt x="100" y="152"/>
                          </a:lnTo>
                          <a:lnTo>
                            <a:pt x="126" y="216"/>
                          </a:lnTo>
                          <a:lnTo>
                            <a:pt x="146" y="310"/>
                          </a:lnTo>
                          <a:lnTo>
                            <a:pt x="161" y="379"/>
                          </a:lnTo>
                          <a:lnTo>
                            <a:pt x="169" y="447"/>
                          </a:lnTo>
                          <a:lnTo>
                            <a:pt x="158" y="498"/>
                          </a:lnTo>
                          <a:lnTo>
                            <a:pt x="131" y="523"/>
                          </a:lnTo>
                          <a:lnTo>
                            <a:pt x="88" y="536"/>
                          </a:lnTo>
                          <a:lnTo>
                            <a:pt x="54" y="553"/>
                          </a:lnTo>
                          <a:lnTo>
                            <a:pt x="38" y="702"/>
                          </a:lnTo>
                          <a:lnTo>
                            <a:pt x="26" y="608"/>
                          </a:lnTo>
                          <a:lnTo>
                            <a:pt x="0" y="557"/>
                          </a:lnTo>
                          <a:lnTo>
                            <a:pt x="58" y="523"/>
                          </a:lnTo>
                          <a:lnTo>
                            <a:pt x="103" y="489"/>
                          </a:lnTo>
                          <a:lnTo>
                            <a:pt x="135" y="434"/>
                          </a:lnTo>
                          <a:lnTo>
                            <a:pt x="126" y="335"/>
                          </a:lnTo>
                          <a:lnTo>
                            <a:pt x="100" y="233"/>
                          </a:lnTo>
                          <a:lnTo>
                            <a:pt x="77" y="144"/>
                          </a:lnTo>
                          <a:lnTo>
                            <a:pt x="26" y="0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69" name=""/>
                  <p:cNvGrpSpPr/>
                  <p:nvPr/>
                </p:nvGrpSpPr>
                <p:grpSpPr>
                  <a:xfrm>
                    <a:off x="4273560" y="4538520"/>
                    <a:ext cx="619560" cy="311400"/>
                    <a:chOff x="4273560" y="4538520"/>
                    <a:chExt cx="619560" cy="311400"/>
                  </a:xfrm>
                </p:grpSpPr>
                <p:grpSp>
                  <p:nvGrpSpPr>
                    <p:cNvPr id="1370" name=""/>
                    <p:cNvGrpSpPr/>
                    <p:nvPr/>
                  </p:nvGrpSpPr>
                  <p:grpSpPr>
                    <a:xfrm>
                      <a:off x="4273560" y="4538520"/>
                      <a:ext cx="570240" cy="311400"/>
                      <a:chOff x="4273560" y="4538520"/>
                      <a:chExt cx="570240" cy="311400"/>
                    </a:xfrm>
                  </p:grpSpPr>
                  <p:sp>
                    <p:nvSpPr>
                      <p:cNvPr id="1371" name=""/>
                      <p:cNvSpPr/>
                      <p:nvPr/>
                    </p:nvSpPr>
                    <p:spPr>
                      <a:xfrm>
                        <a:off x="4467240" y="4746600"/>
                        <a:ext cx="178200" cy="9396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495" h="261">
                            <a:moveTo>
                              <a:pt x="0" y="0"/>
                            </a:moveTo>
                            <a:lnTo>
                              <a:pt x="139" y="88"/>
                            </a:lnTo>
                            <a:lnTo>
                              <a:pt x="256" y="153"/>
                            </a:lnTo>
                            <a:lnTo>
                              <a:pt x="356" y="193"/>
                            </a:lnTo>
                            <a:lnTo>
                              <a:pt x="495" y="233"/>
                            </a:lnTo>
                            <a:lnTo>
                              <a:pt x="403" y="261"/>
                            </a:lnTo>
                            <a:lnTo>
                              <a:pt x="197" y="193"/>
                            </a:lnTo>
                            <a:lnTo>
                              <a:pt x="121" y="149"/>
                            </a:lnTo>
                            <a:lnTo>
                              <a:pt x="66" y="84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7f3f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72" name=""/>
                      <p:cNvSpPr/>
                      <p:nvPr/>
                    </p:nvSpPr>
                    <p:spPr>
                      <a:xfrm>
                        <a:off x="4273560" y="4538520"/>
                        <a:ext cx="179640" cy="23364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499" h="649">
                            <a:moveTo>
                              <a:pt x="0" y="0"/>
                            </a:moveTo>
                            <a:lnTo>
                              <a:pt x="58" y="148"/>
                            </a:lnTo>
                            <a:lnTo>
                              <a:pt x="96" y="233"/>
                            </a:lnTo>
                            <a:lnTo>
                              <a:pt x="163" y="300"/>
                            </a:lnTo>
                            <a:lnTo>
                              <a:pt x="247" y="395"/>
                            </a:lnTo>
                            <a:lnTo>
                              <a:pt x="348" y="483"/>
                            </a:lnTo>
                            <a:lnTo>
                              <a:pt x="436" y="547"/>
                            </a:lnTo>
                            <a:lnTo>
                              <a:pt x="499" y="649"/>
                            </a:lnTo>
                            <a:lnTo>
                              <a:pt x="352" y="543"/>
                            </a:lnTo>
                            <a:lnTo>
                              <a:pt x="247" y="450"/>
                            </a:lnTo>
                            <a:lnTo>
                              <a:pt x="117" y="327"/>
                            </a:lnTo>
                            <a:lnTo>
                              <a:pt x="46" y="203"/>
                            </a:lnTo>
                            <a:lnTo>
                              <a:pt x="12" y="97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7f3f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73" name=""/>
                      <p:cNvSpPr/>
                      <p:nvPr/>
                    </p:nvSpPr>
                    <p:spPr>
                      <a:xfrm>
                        <a:off x="4684680" y="4809960"/>
                        <a:ext cx="159120" cy="3996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442" h="111">
                            <a:moveTo>
                              <a:pt x="0" y="82"/>
                            </a:moveTo>
                            <a:lnTo>
                              <a:pt x="74" y="68"/>
                            </a:lnTo>
                            <a:lnTo>
                              <a:pt x="142" y="53"/>
                            </a:lnTo>
                            <a:lnTo>
                              <a:pt x="200" y="28"/>
                            </a:lnTo>
                            <a:lnTo>
                              <a:pt x="246" y="0"/>
                            </a:lnTo>
                            <a:lnTo>
                              <a:pt x="275" y="35"/>
                            </a:lnTo>
                            <a:lnTo>
                              <a:pt x="325" y="61"/>
                            </a:lnTo>
                            <a:lnTo>
                              <a:pt x="372" y="68"/>
                            </a:lnTo>
                            <a:lnTo>
                              <a:pt x="442" y="61"/>
                            </a:lnTo>
                            <a:lnTo>
                              <a:pt x="418" y="86"/>
                            </a:lnTo>
                            <a:lnTo>
                              <a:pt x="368" y="100"/>
                            </a:lnTo>
                            <a:lnTo>
                              <a:pt x="317" y="111"/>
                            </a:lnTo>
                            <a:lnTo>
                              <a:pt x="229" y="111"/>
                            </a:lnTo>
                            <a:lnTo>
                              <a:pt x="146" y="100"/>
                            </a:lnTo>
                            <a:lnTo>
                              <a:pt x="66" y="97"/>
                            </a:lnTo>
                            <a:lnTo>
                              <a:pt x="0" y="82"/>
                            </a:lnTo>
                            <a:close/>
                          </a:path>
                        </a:pathLst>
                      </a:custGeom>
                      <a:solidFill>
                        <a:srgbClr val="ff7f3f"/>
                      </a:solidFill>
                      <a:ln w="0">
                        <a:noFill/>
                      </a:ln>
                    </p:spPr>
                    <p:txBody>
                      <a:bodyPr lIns="90000" rIns="90000" tIns="-5040" bIns="-5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74" name=""/>
                    <p:cNvGrpSpPr/>
                    <p:nvPr/>
                  </p:nvGrpSpPr>
                  <p:grpSpPr>
                    <a:xfrm>
                      <a:off x="4702320" y="4613400"/>
                      <a:ext cx="190800" cy="130320"/>
                      <a:chOff x="4702320" y="4613400"/>
                      <a:chExt cx="190800" cy="130320"/>
                    </a:xfrm>
                  </p:grpSpPr>
                  <p:sp>
                    <p:nvSpPr>
                      <p:cNvPr id="1375" name=""/>
                      <p:cNvSpPr/>
                      <p:nvPr/>
                    </p:nvSpPr>
                    <p:spPr>
                      <a:xfrm>
                        <a:off x="4751280" y="4681440"/>
                        <a:ext cx="108360" cy="6228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01" h="173">
                            <a:moveTo>
                              <a:pt x="32" y="0"/>
                            </a:moveTo>
                            <a:lnTo>
                              <a:pt x="94" y="26"/>
                            </a:lnTo>
                            <a:lnTo>
                              <a:pt x="199" y="65"/>
                            </a:lnTo>
                            <a:lnTo>
                              <a:pt x="301" y="77"/>
                            </a:lnTo>
                            <a:lnTo>
                              <a:pt x="269" y="127"/>
                            </a:lnTo>
                            <a:lnTo>
                              <a:pt x="223" y="135"/>
                            </a:lnTo>
                            <a:lnTo>
                              <a:pt x="187" y="131"/>
                            </a:lnTo>
                            <a:lnTo>
                              <a:pt x="122" y="115"/>
                            </a:lnTo>
                            <a:lnTo>
                              <a:pt x="82" y="119"/>
                            </a:lnTo>
                            <a:lnTo>
                              <a:pt x="40" y="143"/>
                            </a:lnTo>
                            <a:lnTo>
                              <a:pt x="0" y="173"/>
                            </a:lnTo>
                            <a:lnTo>
                              <a:pt x="48" y="108"/>
                            </a:lnTo>
                            <a:lnTo>
                              <a:pt x="60" y="65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ff702b"/>
                      </a:solidFill>
                      <a:ln w="0">
                        <a:noFill/>
                      </a:ln>
                    </p:spPr>
                    <p:txBody>
                      <a:bodyPr lIns="90000" rIns="90000" tIns="17280" bIns="17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76" name=""/>
                      <p:cNvSpPr/>
                      <p:nvPr/>
                    </p:nvSpPr>
                    <p:spPr>
                      <a:xfrm>
                        <a:off x="4714920" y="4640400"/>
                        <a:ext cx="146520" cy="3204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407" h="89">
                            <a:moveTo>
                              <a:pt x="0" y="40"/>
                            </a:moveTo>
                            <a:lnTo>
                              <a:pt x="174" y="13"/>
                            </a:lnTo>
                            <a:lnTo>
                              <a:pt x="312" y="0"/>
                            </a:lnTo>
                            <a:lnTo>
                              <a:pt x="407" y="27"/>
                            </a:lnTo>
                            <a:lnTo>
                              <a:pt x="407" y="72"/>
                            </a:lnTo>
                            <a:lnTo>
                              <a:pt x="382" y="89"/>
                            </a:lnTo>
                            <a:lnTo>
                              <a:pt x="274" y="89"/>
                            </a:lnTo>
                            <a:lnTo>
                              <a:pt x="0" y="40"/>
                            </a:lnTo>
                            <a:close/>
                          </a:path>
                        </a:pathLst>
                      </a:custGeom>
                      <a:solidFill>
                        <a:srgbClr val="bf3f00"/>
                      </a:solidFill>
                      <a:ln w="0">
                        <a:noFill/>
                      </a:ln>
                    </p:spPr>
                    <p:txBody>
                      <a:bodyPr lIns="90000" rIns="90000" tIns="-12960" bIns="-12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77" name=""/>
                      <p:cNvSpPr/>
                      <p:nvPr/>
                    </p:nvSpPr>
                    <p:spPr>
                      <a:xfrm>
                        <a:off x="4702320" y="4613400"/>
                        <a:ext cx="190800" cy="367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530" h="102">
                            <a:moveTo>
                              <a:pt x="0" y="95"/>
                            </a:moveTo>
                            <a:lnTo>
                              <a:pt x="71" y="102"/>
                            </a:lnTo>
                            <a:lnTo>
                              <a:pt x="155" y="91"/>
                            </a:lnTo>
                            <a:lnTo>
                              <a:pt x="256" y="91"/>
                            </a:lnTo>
                            <a:lnTo>
                              <a:pt x="341" y="84"/>
                            </a:lnTo>
                            <a:lnTo>
                              <a:pt x="387" y="84"/>
                            </a:lnTo>
                            <a:lnTo>
                              <a:pt x="458" y="91"/>
                            </a:lnTo>
                            <a:lnTo>
                              <a:pt x="492" y="81"/>
                            </a:lnTo>
                            <a:lnTo>
                              <a:pt x="513" y="63"/>
                            </a:lnTo>
                            <a:lnTo>
                              <a:pt x="530" y="53"/>
                            </a:lnTo>
                            <a:lnTo>
                              <a:pt x="496" y="24"/>
                            </a:lnTo>
                            <a:lnTo>
                              <a:pt x="446" y="3"/>
                            </a:lnTo>
                            <a:lnTo>
                              <a:pt x="395" y="0"/>
                            </a:lnTo>
                            <a:lnTo>
                              <a:pt x="336" y="3"/>
                            </a:lnTo>
                            <a:lnTo>
                              <a:pt x="239" y="31"/>
                            </a:lnTo>
                            <a:lnTo>
                              <a:pt x="163" y="60"/>
                            </a:lnTo>
                            <a:lnTo>
                              <a:pt x="71" y="77"/>
                            </a:lnTo>
                            <a:lnTo>
                              <a:pt x="0" y="95"/>
                            </a:lnTo>
                            <a:close/>
                          </a:path>
                        </a:pathLst>
                      </a:custGeom>
                      <a:solidFill>
                        <a:srgbClr val="ff7f3f"/>
                      </a:solidFill>
                      <a:ln w="0">
                        <a:noFill/>
                      </a:ln>
                    </p:spPr>
                    <p:txBody>
                      <a:bodyPr lIns="90000" rIns="90000" tIns="-8280" bIns="-8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78" name=""/>
                      <p:cNvSpPr/>
                      <p:nvPr/>
                    </p:nvSpPr>
                    <p:spPr>
                      <a:xfrm>
                        <a:off x="4702320" y="4654440"/>
                        <a:ext cx="165600" cy="52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460" h="147">
                            <a:moveTo>
                              <a:pt x="0" y="0"/>
                            </a:moveTo>
                            <a:lnTo>
                              <a:pt x="180" y="33"/>
                            </a:lnTo>
                            <a:lnTo>
                              <a:pt x="301" y="45"/>
                            </a:lnTo>
                            <a:lnTo>
                              <a:pt x="356" y="45"/>
                            </a:lnTo>
                            <a:lnTo>
                              <a:pt x="410" y="33"/>
                            </a:lnTo>
                            <a:lnTo>
                              <a:pt x="443" y="18"/>
                            </a:lnTo>
                            <a:lnTo>
                              <a:pt x="456" y="49"/>
                            </a:lnTo>
                            <a:lnTo>
                              <a:pt x="460" y="83"/>
                            </a:lnTo>
                            <a:lnTo>
                              <a:pt x="452" y="121"/>
                            </a:lnTo>
                            <a:lnTo>
                              <a:pt x="423" y="140"/>
                            </a:lnTo>
                            <a:lnTo>
                              <a:pt x="389" y="147"/>
                            </a:lnTo>
                            <a:lnTo>
                              <a:pt x="348" y="143"/>
                            </a:lnTo>
                            <a:lnTo>
                              <a:pt x="276" y="121"/>
                            </a:lnTo>
                            <a:lnTo>
                              <a:pt x="201" y="98"/>
                            </a:lnTo>
                            <a:lnTo>
                              <a:pt x="134" y="68"/>
                            </a:lnTo>
                            <a:lnTo>
                              <a:pt x="83" y="45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7f3f"/>
                      </a:solidFill>
                      <a:ln w="0">
                        <a:noFill/>
                      </a:ln>
                    </p:spPr>
                    <p:txBody>
                      <a:bodyPr lIns="90000" rIns="90000" tIns="7920" bIns="79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</p:grpSp>
        <p:sp>
          <p:nvSpPr>
            <p:cNvPr id="1379" name=""/>
            <p:cNvSpPr/>
            <p:nvPr/>
          </p:nvSpPr>
          <p:spPr>
            <a:xfrm>
              <a:off x="4052880" y="3654360"/>
              <a:ext cx="946440" cy="849600"/>
            </a:xfrm>
            <a:custGeom>
              <a:avLst/>
              <a:gdLst/>
              <a:ahLst/>
              <a:rect l="0" t="0" r="r" b="b"/>
              <a:pathLst>
                <a:path w="2629" h="2360">
                  <a:moveTo>
                    <a:pt x="2546" y="1322"/>
                  </a:moveTo>
                  <a:lnTo>
                    <a:pt x="2594" y="1182"/>
                  </a:lnTo>
                  <a:lnTo>
                    <a:pt x="2620" y="1081"/>
                  </a:lnTo>
                  <a:lnTo>
                    <a:pt x="2629" y="985"/>
                  </a:lnTo>
                  <a:lnTo>
                    <a:pt x="2624" y="885"/>
                  </a:lnTo>
                  <a:lnTo>
                    <a:pt x="2598" y="784"/>
                  </a:lnTo>
                  <a:lnTo>
                    <a:pt x="2541" y="767"/>
                  </a:lnTo>
                  <a:lnTo>
                    <a:pt x="2485" y="754"/>
                  </a:lnTo>
                  <a:lnTo>
                    <a:pt x="2515" y="697"/>
                  </a:lnTo>
                  <a:lnTo>
                    <a:pt x="2528" y="632"/>
                  </a:lnTo>
                  <a:lnTo>
                    <a:pt x="2515" y="584"/>
                  </a:lnTo>
                  <a:lnTo>
                    <a:pt x="2458" y="532"/>
                  </a:lnTo>
                  <a:lnTo>
                    <a:pt x="2371" y="492"/>
                  </a:lnTo>
                  <a:lnTo>
                    <a:pt x="2293" y="470"/>
                  </a:lnTo>
                  <a:lnTo>
                    <a:pt x="2253" y="414"/>
                  </a:lnTo>
                  <a:lnTo>
                    <a:pt x="2192" y="370"/>
                  </a:lnTo>
                  <a:lnTo>
                    <a:pt x="2118" y="331"/>
                  </a:lnTo>
                  <a:lnTo>
                    <a:pt x="2061" y="248"/>
                  </a:lnTo>
                  <a:lnTo>
                    <a:pt x="1978" y="187"/>
                  </a:lnTo>
                  <a:lnTo>
                    <a:pt x="1865" y="156"/>
                  </a:lnTo>
                  <a:lnTo>
                    <a:pt x="1812" y="109"/>
                  </a:lnTo>
                  <a:lnTo>
                    <a:pt x="1751" y="74"/>
                  </a:lnTo>
                  <a:lnTo>
                    <a:pt x="1646" y="61"/>
                  </a:lnTo>
                  <a:lnTo>
                    <a:pt x="1581" y="43"/>
                  </a:lnTo>
                  <a:lnTo>
                    <a:pt x="1441" y="13"/>
                  </a:lnTo>
                  <a:lnTo>
                    <a:pt x="1319" y="0"/>
                  </a:lnTo>
                  <a:lnTo>
                    <a:pt x="1209" y="13"/>
                  </a:lnTo>
                  <a:lnTo>
                    <a:pt x="1113" y="52"/>
                  </a:lnTo>
                  <a:lnTo>
                    <a:pt x="1017" y="65"/>
                  </a:lnTo>
                  <a:lnTo>
                    <a:pt x="951" y="74"/>
                  </a:lnTo>
                  <a:lnTo>
                    <a:pt x="868" y="61"/>
                  </a:lnTo>
                  <a:lnTo>
                    <a:pt x="781" y="74"/>
                  </a:lnTo>
                  <a:lnTo>
                    <a:pt x="685" y="100"/>
                  </a:lnTo>
                  <a:lnTo>
                    <a:pt x="611" y="148"/>
                  </a:lnTo>
                  <a:lnTo>
                    <a:pt x="585" y="218"/>
                  </a:lnTo>
                  <a:lnTo>
                    <a:pt x="523" y="244"/>
                  </a:lnTo>
                  <a:lnTo>
                    <a:pt x="484" y="287"/>
                  </a:lnTo>
                  <a:lnTo>
                    <a:pt x="449" y="340"/>
                  </a:lnTo>
                  <a:lnTo>
                    <a:pt x="406" y="361"/>
                  </a:lnTo>
                  <a:lnTo>
                    <a:pt x="375" y="392"/>
                  </a:lnTo>
                  <a:lnTo>
                    <a:pt x="357" y="444"/>
                  </a:lnTo>
                  <a:lnTo>
                    <a:pt x="301" y="479"/>
                  </a:lnTo>
                  <a:lnTo>
                    <a:pt x="266" y="527"/>
                  </a:lnTo>
                  <a:lnTo>
                    <a:pt x="240" y="614"/>
                  </a:lnTo>
                  <a:lnTo>
                    <a:pt x="213" y="728"/>
                  </a:lnTo>
                  <a:lnTo>
                    <a:pt x="130" y="745"/>
                  </a:lnTo>
                  <a:lnTo>
                    <a:pt x="78" y="780"/>
                  </a:lnTo>
                  <a:lnTo>
                    <a:pt x="52" y="845"/>
                  </a:lnTo>
                  <a:lnTo>
                    <a:pt x="69" y="898"/>
                  </a:lnTo>
                  <a:lnTo>
                    <a:pt x="43" y="994"/>
                  </a:lnTo>
                  <a:lnTo>
                    <a:pt x="30" y="1081"/>
                  </a:lnTo>
                  <a:lnTo>
                    <a:pt x="34" y="1177"/>
                  </a:lnTo>
                  <a:lnTo>
                    <a:pt x="52" y="1287"/>
                  </a:lnTo>
                  <a:lnTo>
                    <a:pt x="56" y="1379"/>
                  </a:lnTo>
                  <a:lnTo>
                    <a:pt x="43" y="1483"/>
                  </a:lnTo>
                  <a:lnTo>
                    <a:pt x="13" y="1579"/>
                  </a:lnTo>
                  <a:lnTo>
                    <a:pt x="0" y="1684"/>
                  </a:lnTo>
                  <a:lnTo>
                    <a:pt x="13" y="1806"/>
                  </a:lnTo>
                  <a:lnTo>
                    <a:pt x="39" y="1915"/>
                  </a:lnTo>
                  <a:lnTo>
                    <a:pt x="100" y="2033"/>
                  </a:lnTo>
                  <a:lnTo>
                    <a:pt x="139" y="2115"/>
                  </a:lnTo>
                  <a:lnTo>
                    <a:pt x="187" y="2159"/>
                  </a:lnTo>
                  <a:lnTo>
                    <a:pt x="248" y="2233"/>
                  </a:lnTo>
                  <a:lnTo>
                    <a:pt x="275" y="2307"/>
                  </a:lnTo>
                  <a:lnTo>
                    <a:pt x="331" y="2360"/>
                  </a:lnTo>
                  <a:lnTo>
                    <a:pt x="406" y="2351"/>
                  </a:lnTo>
                  <a:lnTo>
                    <a:pt x="471" y="2320"/>
                  </a:lnTo>
                  <a:lnTo>
                    <a:pt x="493" y="2255"/>
                  </a:lnTo>
                  <a:lnTo>
                    <a:pt x="493" y="2207"/>
                  </a:lnTo>
                  <a:lnTo>
                    <a:pt x="480" y="2107"/>
                  </a:lnTo>
                  <a:lnTo>
                    <a:pt x="493" y="2063"/>
                  </a:lnTo>
                  <a:lnTo>
                    <a:pt x="423" y="2046"/>
                  </a:lnTo>
                  <a:lnTo>
                    <a:pt x="357" y="2063"/>
                  </a:lnTo>
                  <a:lnTo>
                    <a:pt x="336" y="1972"/>
                  </a:lnTo>
                  <a:lnTo>
                    <a:pt x="305" y="1906"/>
                  </a:lnTo>
                  <a:lnTo>
                    <a:pt x="331" y="1815"/>
                  </a:lnTo>
                  <a:lnTo>
                    <a:pt x="336" y="1749"/>
                  </a:lnTo>
                  <a:lnTo>
                    <a:pt x="327" y="1692"/>
                  </a:lnTo>
                  <a:lnTo>
                    <a:pt x="423" y="1631"/>
                  </a:lnTo>
                  <a:lnTo>
                    <a:pt x="528" y="1618"/>
                  </a:lnTo>
                  <a:lnTo>
                    <a:pt x="637" y="1636"/>
                  </a:lnTo>
                  <a:lnTo>
                    <a:pt x="641" y="1706"/>
                  </a:lnTo>
                  <a:lnTo>
                    <a:pt x="676" y="1775"/>
                  </a:lnTo>
                  <a:lnTo>
                    <a:pt x="720" y="1836"/>
                  </a:lnTo>
                  <a:lnTo>
                    <a:pt x="790" y="1849"/>
                  </a:lnTo>
                  <a:lnTo>
                    <a:pt x="864" y="1854"/>
                  </a:lnTo>
                  <a:lnTo>
                    <a:pt x="925" y="1836"/>
                  </a:lnTo>
                  <a:lnTo>
                    <a:pt x="995" y="1775"/>
                  </a:lnTo>
                  <a:lnTo>
                    <a:pt x="1039" y="1692"/>
                  </a:lnTo>
                  <a:lnTo>
                    <a:pt x="1113" y="1701"/>
                  </a:lnTo>
                  <a:lnTo>
                    <a:pt x="1183" y="1692"/>
                  </a:lnTo>
                  <a:lnTo>
                    <a:pt x="1266" y="1636"/>
                  </a:lnTo>
                  <a:lnTo>
                    <a:pt x="1305" y="1562"/>
                  </a:lnTo>
                  <a:lnTo>
                    <a:pt x="1323" y="1492"/>
                  </a:lnTo>
                  <a:lnTo>
                    <a:pt x="1296" y="1379"/>
                  </a:lnTo>
                  <a:lnTo>
                    <a:pt x="1350" y="1291"/>
                  </a:lnTo>
                  <a:lnTo>
                    <a:pt x="1441" y="1304"/>
                  </a:lnTo>
                  <a:lnTo>
                    <a:pt x="1533" y="1322"/>
                  </a:lnTo>
                  <a:lnTo>
                    <a:pt x="1598" y="1300"/>
                  </a:lnTo>
                  <a:lnTo>
                    <a:pt x="1638" y="1265"/>
                  </a:lnTo>
                  <a:lnTo>
                    <a:pt x="1655" y="1296"/>
                  </a:lnTo>
                  <a:lnTo>
                    <a:pt x="1638" y="1352"/>
                  </a:lnTo>
                  <a:lnTo>
                    <a:pt x="1598" y="1396"/>
                  </a:lnTo>
                  <a:lnTo>
                    <a:pt x="1550" y="1426"/>
                  </a:lnTo>
                  <a:lnTo>
                    <a:pt x="1480" y="1448"/>
                  </a:lnTo>
                  <a:lnTo>
                    <a:pt x="1411" y="1466"/>
                  </a:lnTo>
                  <a:lnTo>
                    <a:pt x="1494" y="1505"/>
                  </a:lnTo>
                  <a:lnTo>
                    <a:pt x="1581" y="1518"/>
                  </a:lnTo>
                  <a:lnTo>
                    <a:pt x="1659" y="1522"/>
                  </a:lnTo>
                  <a:lnTo>
                    <a:pt x="1751" y="1518"/>
                  </a:lnTo>
                  <a:lnTo>
                    <a:pt x="1825" y="1505"/>
                  </a:lnTo>
                  <a:lnTo>
                    <a:pt x="1921" y="1492"/>
                  </a:lnTo>
                  <a:lnTo>
                    <a:pt x="1882" y="1549"/>
                  </a:lnTo>
                  <a:lnTo>
                    <a:pt x="1838" y="1579"/>
                  </a:lnTo>
                  <a:lnTo>
                    <a:pt x="1777" y="1610"/>
                  </a:lnTo>
                  <a:lnTo>
                    <a:pt x="1843" y="1618"/>
                  </a:lnTo>
                  <a:lnTo>
                    <a:pt x="1948" y="1614"/>
                  </a:lnTo>
                  <a:lnTo>
                    <a:pt x="2026" y="1597"/>
                  </a:lnTo>
                  <a:lnTo>
                    <a:pt x="2087" y="1562"/>
                  </a:lnTo>
                  <a:lnTo>
                    <a:pt x="2179" y="1492"/>
                  </a:lnTo>
                  <a:lnTo>
                    <a:pt x="2175" y="1544"/>
                  </a:lnTo>
                  <a:lnTo>
                    <a:pt x="2140" y="1597"/>
                  </a:lnTo>
                  <a:lnTo>
                    <a:pt x="2096" y="1636"/>
                  </a:lnTo>
                  <a:lnTo>
                    <a:pt x="2175" y="1649"/>
                  </a:lnTo>
                  <a:lnTo>
                    <a:pt x="2262" y="1631"/>
                  </a:lnTo>
                  <a:lnTo>
                    <a:pt x="2336" y="1601"/>
                  </a:lnTo>
                  <a:lnTo>
                    <a:pt x="2428" y="1527"/>
                  </a:lnTo>
                  <a:lnTo>
                    <a:pt x="2480" y="1440"/>
                  </a:lnTo>
                  <a:lnTo>
                    <a:pt x="2546" y="1322"/>
                  </a:lnTo>
                  <a:close/>
                </a:path>
              </a:pathLst>
            </a:custGeom>
            <a:solidFill>
              <a:srgbClr val="9f7f5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0" name=""/>
          <p:cNvGrpSpPr/>
          <p:nvPr/>
        </p:nvGrpSpPr>
        <p:grpSpPr>
          <a:xfrm>
            <a:off x="0" y="0"/>
            <a:ext cx="9132840" cy="1528920"/>
            <a:chOff x="0" y="0"/>
            <a:chExt cx="9132840" cy="1528920"/>
          </a:xfrm>
        </p:grpSpPr>
        <p:sp>
          <p:nvSpPr>
            <p:cNvPr id="1381" name=""/>
            <p:cNvSpPr/>
            <p:nvPr/>
          </p:nvSpPr>
          <p:spPr>
            <a:xfrm>
              <a:off x="0" y="0"/>
              <a:ext cx="9132840" cy="1440000"/>
            </a:xfrm>
            <a:prstGeom prst="rect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0" y="1440000"/>
              <a:ext cx="91328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0" y="1528920"/>
              <a:ext cx="9132840" cy="0"/>
            </a:xfrm>
            <a:prstGeom prst="line">
              <a:avLst/>
            </a:prstGeom>
            <a:ln w="1260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4" name=""/>
          <p:cNvSpPr txBox="1"/>
          <p:nvPr/>
        </p:nvSpPr>
        <p:spPr>
          <a:xfrm>
            <a:off x="971640" y="2476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  <a:ea typeface="Book Antiqua"/>
              </a:rPr>
              <a:t>Central Office Business Telephone Serv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5" name=""/>
          <p:cNvGrpSpPr/>
          <p:nvPr/>
        </p:nvGrpSpPr>
        <p:grpSpPr>
          <a:xfrm>
            <a:off x="247680" y="1695600"/>
            <a:ext cx="8591760" cy="617400"/>
            <a:chOff x="247680" y="1695600"/>
            <a:chExt cx="8591760" cy="617400"/>
          </a:xfrm>
        </p:grpSpPr>
        <p:grpSp>
          <p:nvGrpSpPr>
            <p:cNvPr id="1386" name=""/>
            <p:cNvGrpSpPr/>
            <p:nvPr/>
          </p:nvGrpSpPr>
          <p:grpSpPr>
            <a:xfrm>
              <a:off x="247680" y="1695600"/>
              <a:ext cx="8591760" cy="590760"/>
              <a:chOff x="247680" y="1695600"/>
              <a:chExt cx="8591760" cy="590760"/>
            </a:xfrm>
          </p:grpSpPr>
          <p:sp>
            <p:nvSpPr>
              <p:cNvPr id="1387" name=""/>
              <p:cNvSpPr/>
              <p:nvPr/>
            </p:nvSpPr>
            <p:spPr>
              <a:xfrm>
                <a:off x="247680" y="1695600"/>
                <a:ext cx="2495880" cy="590760"/>
              </a:xfrm>
              <a:custGeom>
                <a:avLst/>
                <a:gdLst/>
                <a:ahLst/>
                <a:rect l="0" t="0" r="r" b="b"/>
                <a:pathLst>
                  <a:path w="6933" h="1641">
                    <a:moveTo>
                      <a:pt x="0" y="1641"/>
                    </a:moveTo>
                    <a:lnTo>
                      <a:pt x="4853" y="1641"/>
                    </a:lnTo>
                    <a:lnTo>
                      <a:pt x="6933" y="0"/>
                    </a:lnTo>
                    <a:lnTo>
                      <a:pt x="2079" y="0"/>
                    </a:lnTo>
                    <a:lnTo>
                      <a:pt x="0" y="1641"/>
                    </a:lnTo>
                    <a:close/>
                  </a:path>
                </a:pathLst>
              </a:custGeom>
              <a:solidFill>
                <a:srgbClr val="004040"/>
              </a:solidFill>
              <a:ln w="12600">
                <a:solidFill>
                  <a:srgbClr val="00606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6305400" y="1695600"/>
                <a:ext cx="2534040" cy="590760"/>
              </a:xfrm>
              <a:custGeom>
                <a:avLst/>
                <a:gdLst/>
                <a:ahLst/>
                <a:rect l="0" t="0" r="r" b="b"/>
                <a:pathLst>
                  <a:path w="7039" h="1641">
                    <a:moveTo>
                      <a:pt x="0" y="1641"/>
                    </a:moveTo>
                    <a:lnTo>
                      <a:pt x="4927" y="1641"/>
                    </a:lnTo>
                    <a:lnTo>
                      <a:pt x="7039" y="0"/>
                    </a:lnTo>
                    <a:lnTo>
                      <a:pt x="2112" y="0"/>
                    </a:lnTo>
                    <a:lnTo>
                      <a:pt x="0" y="1641"/>
                    </a:lnTo>
                    <a:close/>
                  </a:path>
                </a:pathLst>
              </a:custGeom>
              <a:solidFill>
                <a:srgbClr val="004040"/>
              </a:solidFill>
              <a:ln w="12600">
                <a:solidFill>
                  <a:srgbClr val="00606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89" name=""/>
            <p:cNvSpPr txBox="1"/>
            <p:nvPr/>
          </p:nvSpPr>
          <p:spPr>
            <a:xfrm>
              <a:off x="782640" y="1731960"/>
              <a:ext cx="1425600" cy="58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FUTUR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TARGE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 txBox="1"/>
            <p:nvPr/>
          </p:nvSpPr>
          <p:spPr>
            <a:xfrm>
              <a:off x="6823080" y="1731960"/>
              <a:ext cx="1650960" cy="58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TARGET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PRODU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"/>
          <p:cNvGrpSpPr/>
          <p:nvPr/>
        </p:nvGrpSpPr>
        <p:grpSpPr>
          <a:xfrm>
            <a:off x="338040" y="2438280"/>
            <a:ext cx="8282160" cy="5773680"/>
            <a:chOff x="338040" y="2438280"/>
            <a:chExt cx="8282160" cy="5773680"/>
          </a:xfrm>
        </p:grpSpPr>
        <p:sp>
          <p:nvSpPr>
            <p:cNvPr id="1392" name=""/>
            <p:cNvSpPr txBox="1"/>
            <p:nvPr/>
          </p:nvSpPr>
          <p:spPr>
            <a:xfrm>
              <a:off x="338040" y="2550960"/>
              <a:ext cx="2368440" cy="389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e0e0e0"/>
                  </a:solidFill>
                  <a:latin typeface="Book Antiqua"/>
                  <a:ea typeface="Book Antiqua"/>
                </a:rPr>
                <a:t>Traffic Analysi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e0e0e0"/>
                  </a:solidFill>
                  <a:latin typeface="Book Antiqua"/>
                  <a:ea typeface="Book Antiqua"/>
                </a:rPr>
                <a:t>Automated Attenda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e0e0e0"/>
                  </a:solidFill>
                  <a:latin typeface="Book Antiqua"/>
                  <a:ea typeface="Book Antiqua"/>
                </a:rPr>
                <a:t>Directory Manag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e0e0e0"/>
                  </a:solidFill>
                  <a:latin typeface="Book Antiqua"/>
                  <a:ea typeface="Book Antiqua"/>
                </a:rPr>
                <a:t>FAX Billbac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e0e0e0"/>
                  </a:solidFill>
                  <a:latin typeface="Book Antiqua"/>
                  <a:ea typeface="Book Antiqua"/>
                </a:rPr>
                <a:t>Voice Messag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e0e0e0"/>
                  </a:solidFill>
                  <a:latin typeface="Book Antiqua"/>
                  <a:ea typeface="Book Antiqua"/>
                </a:rPr>
                <a:t>Voice Process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e0e0e0"/>
                  </a:solidFill>
                  <a:latin typeface="Book Antiqua"/>
                  <a:ea typeface="Book Antiqua"/>
                </a:rPr>
                <a:t>Inventory Manag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3" name=""/>
            <p:cNvGrpSpPr/>
            <p:nvPr/>
          </p:nvGrpSpPr>
          <p:grpSpPr>
            <a:xfrm>
              <a:off x="2647800" y="2705040"/>
              <a:ext cx="304920" cy="2952720"/>
              <a:chOff x="2647800" y="2705040"/>
              <a:chExt cx="304920" cy="2952720"/>
            </a:xfrm>
          </p:grpSpPr>
          <p:sp>
            <p:nvSpPr>
              <p:cNvPr id="1394" name=""/>
              <p:cNvSpPr/>
              <p:nvPr/>
            </p:nvSpPr>
            <p:spPr>
              <a:xfrm>
                <a:off x="2647800" y="2705040"/>
                <a:ext cx="304920" cy="0"/>
              </a:xfrm>
              <a:prstGeom prst="line">
                <a:avLst/>
              </a:prstGeom>
              <a:ln w="25560">
                <a:solidFill>
                  <a:srgbClr val="ffc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2647800" y="3124080"/>
                <a:ext cx="304920" cy="0"/>
              </a:xfrm>
              <a:prstGeom prst="line">
                <a:avLst/>
              </a:prstGeom>
              <a:ln w="25560">
                <a:solidFill>
                  <a:srgbClr val="ffc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2647800" y="3371760"/>
                <a:ext cx="304920" cy="0"/>
              </a:xfrm>
              <a:prstGeom prst="line">
                <a:avLst/>
              </a:prstGeom>
              <a:ln w="25560">
                <a:solidFill>
                  <a:srgbClr val="ffc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2647800" y="3809880"/>
                <a:ext cx="304920" cy="0"/>
              </a:xfrm>
              <a:prstGeom prst="line">
                <a:avLst/>
              </a:prstGeom>
              <a:ln w="25560">
                <a:solidFill>
                  <a:srgbClr val="ffc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2647800" y="4248000"/>
                <a:ext cx="304920" cy="0"/>
              </a:xfrm>
              <a:prstGeom prst="line">
                <a:avLst/>
              </a:prstGeom>
              <a:ln w="25560">
                <a:solidFill>
                  <a:srgbClr val="ffc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2647800" y="4495680"/>
                <a:ext cx="304920" cy="0"/>
              </a:xfrm>
              <a:prstGeom prst="line">
                <a:avLst/>
              </a:prstGeom>
              <a:ln w="25560">
                <a:solidFill>
                  <a:srgbClr val="ffc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2647800" y="5657760"/>
                <a:ext cx="304920" cy="0"/>
              </a:xfrm>
              <a:prstGeom prst="line">
                <a:avLst/>
              </a:prstGeom>
              <a:ln w="25560">
                <a:solidFill>
                  <a:srgbClr val="ffc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1" name=""/>
            <p:cNvSpPr txBox="1"/>
            <p:nvPr/>
          </p:nvSpPr>
          <p:spPr>
            <a:xfrm>
              <a:off x="2933640" y="2438280"/>
              <a:ext cx="2228760" cy="647640"/>
            </a:xfrm>
            <a:prstGeom prst="rect">
              <a:avLst/>
            </a:prstGeom>
            <a:solidFill>
              <a:srgbClr val="c06000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IN &amp; OU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Trunk Li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 txBox="1"/>
            <p:nvPr/>
          </p:nvSpPr>
          <p:spPr>
            <a:xfrm>
              <a:off x="2933640" y="2990880"/>
              <a:ext cx="2228760" cy="647640"/>
            </a:xfrm>
            <a:prstGeom prst="rect">
              <a:avLst/>
            </a:prstGeom>
            <a:solidFill>
              <a:srgbClr val="c06000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Attendant Conso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 txBox="1"/>
            <p:nvPr/>
          </p:nvSpPr>
          <p:spPr>
            <a:xfrm>
              <a:off x="2933640" y="3543120"/>
              <a:ext cx="2228760" cy="1266840"/>
            </a:xfrm>
            <a:prstGeom prst="rect">
              <a:avLst/>
            </a:prstGeom>
            <a:solidFill>
              <a:srgbClr val="c06000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Call Process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(at Central Offic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 txBox="1"/>
            <p:nvPr/>
          </p:nvSpPr>
          <p:spPr>
            <a:xfrm>
              <a:off x="3506760" y="4025880"/>
              <a:ext cx="1297080" cy="83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28600" indent="-228600">
                <a:lnSpc>
                  <a:spcPct val="85000"/>
                </a:lnSpc>
                <a:buClr>
                  <a:srgbClr val="e0e0e0"/>
                </a:buClr>
                <a:buSzPct val="85000"/>
                <a:buFont typeface="Monotype Sorts"/>
                <a:buChar char=""/>
              </a:pPr>
              <a:r>
                <a:rPr b="1" lang="en-US" sz="16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Voi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85000"/>
                </a:lnSpc>
                <a:buClr>
                  <a:srgbClr val="e0e0e0"/>
                </a:buClr>
                <a:buSzPct val="85000"/>
                <a:buFont typeface="Monotype Sorts"/>
                <a:buChar char=""/>
              </a:pPr>
              <a:r>
                <a:rPr b="1" lang="en-US" sz="16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85000"/>
                </a:lnSpc>
                <a:buClr>
                  <a:srgbClr val="e0e0e0"/>
                </a:buClr>
                <a:buSzPct val="85000"/>
                <a:buFont typeface="Monotype Sorts"/>
                <a:buChar char=""/>
              </a:pPr>
              <a:r>
                <a:rPr b="1" lang="en-US" sz="16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FA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 txBox="1"/>
            <p:nvPr/>
          </p:nvSpPr>
          <p:spPr>
            <a:xfrm>
              <a:off x="2933640" y="4714920"/>
              <a:ext cx="2228760" cy="647640"/>
            </a:xfrm>
            <a:prstGeom prst="rect">
              <a:avLst/>
            </a:prstGeom>
            <a:solidFill>
              <a:srgbClr val="c06000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Automatic Ca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Distribu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 txBox="1"/>
            <p:nvPr/>
          </p:nvSpPr>
          <p:spPr>
            <a:xfrm>
              <a:off x="2933640" y="5400720"/>
              <a:ext cx="2228760" cy="647640"/>
            </a:xfrm>
            <a:prstGeom prst="rect">
              <a:avLst/>
            </a:prstGeom>
            <a:solidFill>
              <a:srgbClr val="ff8000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Cable &amp; Wire Pla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7" name=""/>
            <p:cNvGrpSpPr/>
            <p:nvPr/>
          </p:nvGrpSpPr>
          <p:grpSpPr>
            <a:xfrm>
              <a:off x="5124600" y="3867120"/>
              <a:ext cx="552240" cy="1162080"/>
              <a:chOff x="5124600" y="3867120"/>
              <a:chExt cx="552240" cy="1162080"/>
            </a:xfrm>
          </p:grpSpPr>
          <p:sp>
            <p:nvSpPr>
              <p:cNvPr id="1408" name=""/>
              <p:cNvSpPr/>
              <p:nvPr/>
            </p:nvSpPr>
            <p:spPr>
              <a:xfrm>
                <a:off x="5124600" y="3867120"/>
                <a:ext cx="552240" cy="0"/>
              </a:xfrm>
              <a:prstGeom prst="line">
                <a:avLst/>
              </a:prstGeom>
              <a:ln w="25560">
                <a:solidFill>
                  <a:srgbClr val="ffc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5124600" y="4457880"/>
                <a:ext cx="552240" cy="0"/>
              </a:xfrm>
              <a:prstGeom prst="line">
                <a:avLst/>
              </a:prstGeom>
              <a:ln w="25560">
                <a:solidFill>
                  <a:srgbClr val="ffc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5124600" y="5029200"/>
                <a:ext cx="552240" cy="0"/>
              </a:xfrm>
              <a:prstGeom prst="line">
                <a:avLst/>
              </a:prstGeom>
              <a:ln w="25560">
                <a:solidFill>
                  <a:srgbClr val="ffc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1" name=""/>
            <p:cNvSpPr txBox="1"/>
            <p:nvPr/>
          </p:nvSpPr>
          <p:spPr>
            <a:xfrm>
              <a:off x="5600520" y="3448080"/>
              <a:ext cx="552600" cy="4763880"/>
            </a:xfrm>
            <a:prstGeom prst="rect">
              <a:avLst/>
            </a:prstGeom>
            <a:solidFill>
              <a:srgbClr val="00a0a0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e0e0e0"/>
                  </a:solidFill>
                  <a:latin typeface="Book Antiqua"/>
                  <a:ea typeface="Book Antiqua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e0e0e0"/>
                  </a:solidFill>
                  <a:latin typeface="Book Antiqua"/>
                  <a:ea typeface="Book Antiqua"/>
                </a:rPr>
                <a:t>Colle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e0e0e0"/>
                  </a:solidFill>
                  <a:latin typeface="Book Antiqua"/>
                  <a:ea typeface="Book Antiqua"/>
                </a:rPr>
                <a:t>a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e0e0e0"/>
                  </a:solidFill>
                  <a:latin typeface="Book Antiqua"/>
                  <a:ea typeface="Book Antiqua"/>
                </a:rPr>
                <a:t>Process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2" name=""/>
            <p:cNvGrpSpPr/>
            <p:nvPr/>
          </p:nvGrpSpPr>
          <p:grpSpPr>
            <a:xfrm>
              <a:off x="6114960" y="3867120"/>
              <a:ext cx="552600" cy="1162080"/>
              <a:chOff x="6114960" y="3867120"/>
              <a:chExt cx="552600" cy="1162080"/>
            </a:xfrm>
          </p:grpSpPr>
          <p:sp>
            <p:nvSpPr>
              <p:cNvPr id="1413" name=""/>
              <p:cNvSpPr/>
              <p:nvPr/>
            </p:nvSpPr>
            <p:spPr>
              <a:xfrm>
                <a:off x="6114960" y="3867120"/>
                <a:ext cx="552600" cy="0"/>
              </a:xfrm>
              <a:prstGeom prst="line">
                <a:avLst/>
              </a:prstGeom>
              <a:ln w="25560">
                <a:solidFill>
                  <a:srgbClr val="ffc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6114960" y="4457880"/>
                <a:ext cx="552600" cy="0"/>
              </a:xfrm>
              <a:prstGeom prst="line">
                <a:avLst/>
              </a:prstGeom>
              <a:ln w="25560">
                <a:solidFill>
                  <a:srgbClr val="ffc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6114960" y="5029200"/>
                <a:ext cx="552600" cy="0"/>
              </a:xfrm>
              <a:prstGeom prst="line">
                <a:avLst/>
              </a:prstGeom>
              <a:ln w="25560">
                <a:solidFill>
                  <a:srgbClr val="ffc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6" name=""/>
            <p:cNvSpPr txBox="1"/>
            <p:nvPr/>
          </p:nvSpPr>
          <p:spPr>
            <a:xfrm>
              <a:off x="6691320" y="3713040"/>
              <a:ext cx="1928880" cy="1588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e0e0e0"/>
                  </a:solidFill>
                  <a:latin typeface="Book Antiqua"/>
                  <a:ea typeface="Book Antiqua"/>
                </a:rPr>
                <a:t>Call Account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e0e0e0"/>
                  </a:solidFill>
                  <a:latin typeface="Book Antiqua"/>
                  <a:ea typeface="Book Antiqua"/>
                </a:rPr>
                <a:t>Client Billbac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e0e0e0"/>
                  </a:solidFill>
                  <a:latin typeface="Book Antiqua"/>
                  <a:ea typeface="Book Antiqua"/>
                </a:rPr>
                <a:t>ACD Manag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7" name=""/>
          <p:cNvGrpSpPr/>
          <p:nvPr/>
        </p:nvGrpSpPr>
        <p:grpSpPr>
          <a:xfrm>
            <a:off x="0" y="0"/>
            <a:ext cx="9131400" cy="6389640"/>
            <a:chOff x="0" y="0"/>
            <a:chExt cx="9131400" cy="6389640"/>
          </a:xfrm>
        </p:grpSpPr>
        <p:grpSp>
          <p:nvGrpSpPr>
            <p:cNvPr id="1418" name=""/>
            <p:cNvGrpSpPr/>
            <p:nvPr/>
          </p:nvGrpSpPr>
          <p:grpSpPr>
            <a:xfrm>
              <a:off x="0" y="0"/>
              <a:ext cx="9131400" cy="6389640"/>
              <a:chOff x="0" y="0"/>
              <a:chExt cx="9131400" cy="6389640"/>
            </a:xfrm>
          </p:grpSpPr>
          <p:sp>
            <p:nvSpPr>
              <p:cNvPr id="1419" name=""/>
              <p:cNvSpPr/>
              <p:nvPr/>
            </p:nvSpPr>
            <p:spPr>
              <a:xfrm>
                <a:off x="0" y="0"/>
                <a:ext cx="9131400" cy="63896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333333"/>
                  </a:gs>
                </a:gsLst>
                <a:path path="rect">
                  <a:fillToRect l="0" t="0" r="100000" b="100000"/>
                </a:path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380880" y="355680"/>
                <a:ext cx="8750160" cy="60339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1" name=""/>
            <p:cNvGrpSpPr/>
            <p:nvPr/>
          </p:nvGrpSpPr>
          <p:grpSpPr>
            <a:xfrm>
              <a:off x="6477120" y="3983040"/>
              <a:ext cx="2285640" cy="2133720"/>
              <a:chOff x="6477120" y="3983040"/>
              <a:chExt cx="2285640" cy="2133720"/>
            </a:xfrm>
          </p:grpSpPr>
          <p:sp>
            <p:nvSpPr>
              <p:cNvPr id="1422" name=""/>
              <p:cNvSpPr/>
              <p:nvPr/>
            </p:nvSpPr>
            <p:spPr>
              <a:xfrm>
                <a:off x="8610480" y="5973840"/>
                <a:ext cx="152280" cy="1429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8305920" y="5973840"/>
                <a:ext cx="152280" cy="142920"/>
              </a:xfrm>
              <a:prstGeom prst="rect">
                <a:avLst/>
              </a:prstGeom>
              <a:solidFill>
                <a:srgbClr val="ff8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8001000" y="5973840"/>
                <a:ext cx="152280" cy="1429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7696080" y="5973840"/>
                <a:ext cx="152280" cy="1429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7391520" y="5973840"/>
                <a:ext cx="152280" cy="14292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7086600" y="5973840"/>
                <a:ext cx="152280" cy="1429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6781680" y="5973840"/>
                <a:ext cx="152280" cy="14292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6477120" y="5973840"/>
                <a:ext cx="152280" cy="142920"/>
              </a:xfrm>
              <a:prstGeom prst="rect">
                <a:avLst/>
              </a:prstGeom>
              <a:solidFill>
                <a:srgbClr val="a000a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8610480" y="5689440"/>
                <a:ext cx="152280" cy="142920"/>
              </a:xfrm>
              <a:prstGeom prst="rect">
                <a:avLst/>
              </a:prstGeom>
              <a:solidFill>
                <a:srgbClr val="ff8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8610480" y="5405400"/>
                <a:ext cx="152280" cy="1411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8610480" y="5121360"/>
                <a:ext cx="152280" cy="1411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8610480" y="4835520"/>
                <a:ext cx="152280" cy="14292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8610480" y="4551480"/>
                <a:ext cx="152280" cy="1429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8610480" y="4267080"/>
                <a:ext cx="152280" cy="14292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8610480" y="3983040"/>
                <a:ext cx="152280" cy="141120"/>
              </a:xfrm>
              <a:prstGeom prst="rect">
                <a:avLst/>
              </a:prstGeom>
              <a:solidFill>
                <a:srgbClr val="a000a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37" name=""/>
          <p:cNvSpPr txBox="1"/>
          <p:nvPr/>
        </p:nvSpPr>
        <p:spPr>
          <a:xfrm>
            <a:off x="990720" y="361800"/>
            <a:ext cx="7124760" cy="9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Direct Remote Ope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 txBox="1"/>
          <p:nvPr/>
        </p:nvSpPr>
        <p:spPr>
          <a:xfrm>
            <a:off x="990720" y="1428840"/>
            <a:ext cx="716292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 u="sng">
                <a:solidFill>
                  <a:srgbClr val="00ff00"/>
                </a:solidFill>
                <a:uFillTx/>
                <a:latin typeface="Arial"/>
                <a:ea typeface="Arial"/>
              </a:rPr>
              <a:t>Setting the answer mode remote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ff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all your unit and let the telephone ring 15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e unit will answer, and the OGM will be heard, then hang 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e unit will be ready to answer the next phone c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 u="sng">
                <a:solidFill>
                  <a:srgbClr val="00ff00"/>
                </a:solidFill>
                <a:uFillTx/>
                <a:latin typeface="Arial"/>
                <a:ea typeface="Arial"/>
              </a:rPr>
              <a:t>Canceling the answer mode remote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ff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all your unit, dial your code number while the OGM is playing. Press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e unit will announce the number of recorded messa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e unit will be turned off once you have pressed 0 and will not answer any ca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oftwell Development Corp</dc:creator>
  <dc:description/>
  <dc:language>en-US</dc:language>
  <cp:lastModifiedBy>Ray Karwel</cp:lastModifiedBy>
  <cp:revision>0</cp:revision>
  <dc:subject/>
  <dc:title>Demo for BroadCast</dc:title>
</cp:coreProperties>
</file>