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31400" cy="6845400"/>
          </a:xfrm>
          <a:prstGeom prst="rect">
            <a:avLst/>
          </a:prstGeom>
          <a:solidFill>
            <a:srgbClr val="ebebe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228600"/>
            <a:ext cx="7772400" cy="12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WinG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Book Antiqua"/>
                <a:ea typeface="Book Antiqua"/>
              </a:rPr>
              <a:t>A DLL for High Performance Game Graph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2857680" y="3962520"/>
            <a:ext cx="3429000" cy="201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65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ris Heck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er@microsof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n Bloss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65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onbl@microsof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What does WinG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5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S blt bandwidth under 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5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aster than BitBlt in a lot of ca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45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lows away StretchDIBits on most ca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solates apps from hardware and driver dependent h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What doesn’t WinG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4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esn’t draw for you (besides GD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esn’t page f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oesn’t let you allocate the bitmap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What does WinG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Book Antiqua"/>
                <a:ea typeface="Book Antiqua"/>
              </a:rPr>
              <a:t>really</a:t>
            </a: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 do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How do you use WinG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257480" y="3276720"/>
            <a:ext cx="662940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MO.EXE - A Simple Sample A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EMO.EX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reate an Offscreen Buf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raw into 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lt it to the Scre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DEMO.EXE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952880" y="2057400"/>
            <a:ext cx="3581280" cy="3581280"/>
          </a:xfrm>
          <a:prstGeom prst="rect">
            <a:avLst/>
          </a:prstGeom>
          <a:solidFill>
            <a:srgbClr val="919191"/>
          </a:solidFill>
          <a:ln w="25560">
            <a:solidFill>
              <a:srgbClr val="cecece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143680" y="2209680"/>
            <a:ext cx="3200400" cy="320040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7640" y="2590920"/>
            <a:ext cx="2552760" cy="236232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81480" y="5638680"/>
            <a:ext cx="3124440" cy="457560"/>
          </a:xfrm>
          <a:custGeom>
            <a:avLst/>
            <a:gdLst/>
            <a:ahLst/>
            <a:rect l="0" t="0" r="r" b="b"/>
            <a:pathLst>
              <a:path w="8679" h="1271">
                <a:moveTo>
                  <a:pt x="0" y="1271"/>
                </a:moveTo>
                <a:lnTo>
                  <a:pt x="2603" y="0"/>
                </a:lnTo>
                <a:lnTo>
                  <a:pt x="6075" y="0"/>
                </a:lnTo>
                <a:lnTo>
                  <a:pt x="8679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289080" y="1812960"/>
            <a:ext cx="725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32323"/>
                </a:solidFill>
                <a:latin typeface="Arial"/>
                <a:ea typeface="Arial"/>
              </a:rPr>
              <a:t>G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3260880" y="3260880"/>
            <a:ext cx="1657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32323"/>
                </a:solidFill>
                <a:latin typeface="Arial"/>
                <a:ea typeface="Arial"/>
              </a:rPr>
              <a:t>WinGBitB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32680" y="6156360"/>
            <a:ext cx="1184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32323"/>
                </a:solidFill>
                <a:latin typeface="Arial"/>
                <a:ea typeface="Arial"/>
              </a:rPr>
              <a:t>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974880" y="5013360"/>
            <a:ext cx="18954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32323"/>
                </a:solidFill>
                <a:latin typeface="Arial"/>
                <a:ea typeface="Arial"/>
              </a:rPr>
              <a:t>WinGBit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257800" y="2362320"/>
            <a:ext cx="1981080" cy="198108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257800" y="2362320"/>
            <a:ext cx="1981080" cy="152280"/>
          </a:xfrm>
          <a:prstGeom prst="rect">
            <a:avLst/>
          </a:prstGeom>
          <a:solidFill>
            <a:srgbClr val="cecece"/>
          </a:solidFill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248520" y="2819520"/>
            <a:ext cx="1981080" cy="2133720"/>
          </a:xfrm>
          <a:prstGeom prst="rect">
            <a:avLst/>
          </a:pr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48520" y="2819520"/>
            <a:ext cx="1981080" cy="152280"/>
          </a:xfrm>
          <a:prstGeom prst="rect">
            <a:avLst/>
          </a:prstGeom>
          <a:solidFill>
            <a:srgbClr val="ebebeb"/>
          </a:solidFill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971800" y="3733920"/>
            <a:ext cx="3581280" cy="0"/>
          </a:xfrm>
          <a:prstGeom prst="line">
            <a:avLst/>
          </a:prstGeom>
          <a:ln w="25560">
            <a:solidFill>
              <a:srgbClr val="9c9c9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5800" y="2590920"/>
            <a:ext cx="1371600" cy="1371600"/>
          </a:xfrm>
          <a:prstGeom prst="ellipse">
            <a:avLst/>
          </a:prstGeom>
          <a:noFill/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248520" y="2971800"/>
            <a:ext cx="1143000" cy="1143000"/>
          </a:xfrm>
          <a:prstGeom prst="ellipse">
            <a:avLst/>
          </a:prstGeom>
          <a:noFill/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219320" y="3124080"/>
            <a:ext cx="1371600" cy="1371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629400" y="3429000"/>
            <a:ext cx="1143000" cy="1143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346480" y="18129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32323"/>
                </a:solidFill>
                <a:latin typeface="Arial"/>
                <a:ea typeface="Arial"/>
              </a:rPr>
              <a:t>Appl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5800" y="2209680"/>
            <a:ext cx="609480" cy="609840"/>
          </a:xfrm>
          <a:prstGeom prst="line">
            <a:avLst/>
          </a:prstGeom>
          <a:ln w="25560">
            <a:solidFill>
              <a:srgbClr val="9c9c9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>
            <a:off x="2438280" y="2209680"/>
            <a:ext cx="914400" cy="609840"/>
          </a:xfrm>
          <a:prstGeom prst="line">
            <a:avLst/>
          </a:prstGeom>
          <a:ln w="25560">
            <a:solidFill>
              <a:srgbClr val="9c9c9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086600" y="3809880"/>
            <a:ext cx="1143000" cy="1143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828800" y="3581280"/>
            <a:ext cx="1371600" cy="13716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reate an Offscreen Buf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80880" y="1828800"/>
            <a:ext cx="8458200" cy="449568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380880" y="1812960"/>
            <a:ext cx="8534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DC Buffer = WinGCreateDC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nGRecommendDIBFormat(pInf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Info-&gt;bmiHeader.biHeight *= 1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Info-&gt;bmiHeader.biWidth = 1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illInColorTable(pInf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BITMAP Bitmap = WinGCreateBitmap(Buff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Info,&amp;pBit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304920" y="1488960"/>
            <a:ext cx="8535960" cy="1025640"/>
            <a:chOff x="304920" y="1488960"/>
            <a:chExt cx="8535960" cy="1025640"/>
          </a:xfrm>
        </p:grpSpPr>
        <p:sp>
          <p:nvSpPr>
            <p:cNvPr id="97" name=""/>
            <p:cNvSpPr/>
            <p:nvPr/>
          </p:nvSpPr>
          <p:spPr>
            <a:xfrm>
              <a:off x="304920" y="1528920"/>
              <a:ext cx="8534520" cy="98568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306360" y="1488960"/>
              <a:ext cx="8534520" cy="91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75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HDC Buffer = WinGCreateDC()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Create an Offscreen Buffer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685800" y="2743200"/>
            <a:ext cx="777240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reate a WinG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Cs (Device Contexts) are how Windows associates a “drawer” with a “drawe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l GDI drawing functions operate on D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 WinGDC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an H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Create an Offscreen Buffer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685800" y="281952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et the recommended DIB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he fastest WinGBitmap format for WinG to b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untime platform depend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304920" y="1488960"/>
            <a:ext cx="8535960" cy="1025640"/>
            <a:chOff x="304920" y="1488960"/>
            <a:chExt cx="8535960" cy="1025640"/>
          </a:xfrm>
        </p:grpSpPr>
        <p:sp>
          <p:nvSpPr>
            <p:cNvPr id="104" name=""/>
            <p:cNvSpPr/>
            <p:nvPr/>
          </p:nvSpPr>
          <p:spPr>
            <a:xfrm>
              <a:off x="304920" y="1528920"/>
              <a:ext cx="8534520" cy="985680"/>
            </a:xfrm>
            <a:prstGeom prst="rect">
              <a:avLst/>
            </a:prstGeom>
            <a:noFill/>
            <a:ln w="12600">
              <a:solidFill>
                <a:srgbClr val="919191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306360" y="1488960"/>
              <a:ext cx="8534520" cy="915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75000"/>
                </a:lnSpc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5000"/>
                </a:lnSpc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WinGRecommendDIBFormat(pInfo);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85800" y="228600"/>
            <a:ext cx="777240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Create an Offscreen Buffer (cont.)</a:t>
            </a: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BITMAPINFOHEA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1828800"/>
            <a:ext cx="8458200" cy="449568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80880" y="1812960"/>
            <a:ext cx="853452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2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struct tagBITMAPINFOHEADER {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WORD   biSiz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NG    biWidth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NG    biHeigh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    biPlan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ORD    biBitCou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WORD   biCompressi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WORD   biSizeImag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NG    biXPelsPerMet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NG    biYPelsPerMet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WORD   biClrUse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DWORD   biClrImportan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2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} BITMAPINFOHEAD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533520" y="60948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OS Game Graphics Archite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476440" y="3124080"/>
            <a:ext cx="38862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5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l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ll Scree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irty Rect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age Fli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693800" y="2408400"/>
            <a:ext cx="509256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herent Updat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the ke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Create an Offscreen Buffer (cont.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BITMAPINFOH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828800"/>
            <a:ext cx="8458200" cy="114300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80880" y="1812960"/>
            <a:ext cx="85345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Info-&gt;bmiHeader.biHeight *= 1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Info-&gt;bmiHeader.biWidth = 1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685800" y="3200400"/>
            <a:ext cx="7772400" cy="289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rien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ottom-up   “normal DIB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p-down   “upside-down DIB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828800" y="2666880"/>
            <a:ext cx="2352600" cy="2286000"/>
          </a:xfrm>
          <a:prstGeom prst="rect">
            <a:avLst/>
          </a:prstGeom>
          <a:solidFill>
            <a:srgbClr val="000000"/>
          </a:solidFill>
          <a:ln w="25560">
            <a:solidFill>
              <a:srgbClr val="cecece"/>
            </a:solidFill>
            <a:round/>
          </a:ln>
        </p:spPr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17680" y="2422440"/>
            <a:ext cx="861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32323"/>
                </a:solidFill>
                <a:latin typeface="Arial"/>
                <a:ea typeface="Arial"/>
              </a:rPr>
              <a:t>pB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71600" y="2666880"/>
            <a:ext cx="457200" cy="0"/>
          </a:xfrm>
          <a:prstGeom prst="line">
            <a:avLst/>
          </a:prstGeom>
          <a:ln w="25560">
            <a:solidFill>
              <a:srgbClr val="9c9c9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-57600" bIns="-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76520" y="2895480"/>
            <a:ext cx="0" cy="2057400"/>
          </a:xfrm>
          <a:prstGeom prst="line">
            <a:avLst/>
          </a:prstGeom>
          <a:ln w="25560">
            <a:solidFill>
              <a:srgbClr val="9c9c9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65040" y="3641760"/>
            <a:ext cx="1301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32323"/>
                </a:solidFill>
                <a:latin typeface="Arial"/>
                <a:ea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32323"/>
                </a:solidFill>
                <a:latin typeface="Arial"/>
                <a:ea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889280" y="5013360"/>
            <a:ext cx="21826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232323"/>
                </a:solidFill>
                <a:latin typeface="Arial"/>
                <a:ea typeface="Arial"/>
              </a:rPr>
              <a:t>Top-Down D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Create an Offscreen Buffer (cont.)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BITMAPINFOH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784760" y="2666880"/>
            <a:ext cx="3816360" cy="2803680"/>
            <a:chOff x="4784760" y="2666880"/>
            <a:chExt cx="3816360" cy="2803680"/>
          </a:xfrm>
        </p:grpSpPr>
        <p:sp>
          <p:nvSpPr>
            <p:cNvPr id="121" name=""/>
            <p:cNvSpPr/>
            <p:nvPr/>
          </p:nvSpPr>
          <p:spPr>
            <a:xfrm>
              <a:off x="6248520" y="2666880"/>
              <a:ext cx="2352600" cy="2286000"/>
            </a:xfrm>
            <a:prstGeom prst="rect">
              <a:avLst/>
            </a:prstGeom>
            <a:solidFill>
              <a:srgbClr val="000000"/>
            </a:solidFill>
            <a:ln w="25560">
              <a:solidFill>
                <a:srgbClr val="cecece"/>
              </a:solidFill>
              <a:round/>
            </a:ln>
          </p:spPr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4937040" y="4708440"/>
              <a:ext cx="1311480" cy="457200"/>
              <a:chOff x="4937040" y="4708440"/>
              <a:chExt cx="1311480" cy="457200"/>
            </a:xfrm>
          </p:grpSpPr>
          <p:sp>
            <p:nvSpPr>
              <p:cNvPr id="123" name=""/>
              <p:cNvSpPr txBox="1"/>
              <p:nvPr/>
            </p:nvSpPr>
            <p:spPr>
              <a:xfrm>
                <a:off x="4937040" y="4708440"/>
                <a:ext cx="861840" cy="457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0" lang="en-US" sz="2400" spc="-1" strike="noStrike">
                    <a:solidFill>
                      <a:srgbClr val="232323"/>
                    </a:solidFill>
                    <a:latin typeface="Arial"/>
                    <a:ea typeface="Arial"/>
                  </a:rPr>
                  <a:t>pBit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91320" y="4952880"/>
                <a:ext cx="457200" cy="0"/>
              </a:xfrm>
              <a:prstGeom prst="line">
                <a:avLst/>
              </a:prstGeom>
              <a:ln w="25560">
                <a:solidFill>
                  <a:srgbClr val="9c9c9c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2600" rIns="102600" tIns="-57600" bIns="-57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 flipV="1">
              <a:off x="6095880" y="2666880"/>
              <a:ext cx="0" cy="1828800"/>
            </a:xfrm>
            <a:prstGeom prst="line">
              <a:avLst/>
            </a:prstGeom>
            <a:ln w="25560">
              <a:solidFill>
                <a:srgbClr val="9c9c9c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102600" rIns="102600" tIns="57600" bIns="57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4784760" y="3336840"/>
              <a:ext cx="1301760" cy="822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232323"/>
                  </a:solidFill>
                  <a:latin typeface="Arial"/>
                  <a:ea typeface="Arial"/>
                </a:rPr>
                <a:t>Memo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232323"/>
                  </a:solidFill>
                  <a:latin typeface="Arial"/>
                  <a:ea typeface="Arial"/>
                </a:rPr>
                <a:t>Addres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 txBox="1"/>
            <p:nvPr/>
          </p:nvSpPr>
          <p:spPr>
            <a:xfrm>
              <a:off x="6308640" y="5013360"/>
              <a:ext cx="2233440" cy="457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232323"/>
                  </a:solidFill>
                  <a:latin typeface="Arial"/>
                  <a:ea typeface="Arial"/>
                </a:rPr>
                <a:t>Bottom-Up DI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286000" y="4648320"/>
            <a:ext cx="1219680" cy="305280"/>
          </a:xfrm>
          <a:custGeom>
            <a:avLst/>
            <a:gdLst/>
            <a:ahLst/>
            <a:rect l="0" t="0" r="r" b="b"/>
            <a:pathLst>
              <a:path w="3388" h="848">
                <a:moveTo>
                  <a:pt x="0" y="848"/>
                </a:moveTo>
                <a:lnTo>
                  <a:pt x="1017" y="0"/>
                </a:lnTo>
                <a:lnTo>
                  <a:pt x="2371" y="0"/>
                </a:lnTo>
                <a:lnTo>
                  <a:pt x="3388" y="848"/>
                </a:lnTo>
                <a:lnTo>
                  <a:pt x="0" y="848"/>
                </a:lnTo>
                <a:close/>
              </a:path>
            </a:pathLst>
          </a:cu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57400" y="3048120"/>
            <a:ext cx="1676520" cy="1676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3962520"/>
            <a:ext cx="686160" cy="457560"/>
          </a:xfrm>
          <a:custGeom>
            <a:avLst/>
            <a:gdLst/>
            <a:ahLst/>
            <a:rect l="0" t="0" r="r" b="b"/>
            <a:pathLst>
              <a:path fill="none" w="1906" h="1271">
                <a:moveTo>
                  <a:pt x="0" y="1271"/>
                </a:moveTo>
                <a:lnTo>
                  <a:pt x="0" y="1271"/>
                </a:lnTo>
                <a:cubicBezTo>
                  <a:pt x="335" y="1271"/>
                  <a:pt x="663" y="1212"/>
                  <a:pt x="953" y="1101"/>
                </a:cubicBezTo>
                <a:cubicBezTo>
                  <a:pt x="1243" y="989"/>
                  <a:pt x="1483" y="829"/>
                  <a:pt x="1651" y="635"/>
                </a:cubicBezTo>
                <a:cubicBezTo>
                  <a:pt x="1818" y="442"/>
                  <a:pt x="1906" y="223"/>
                  <a:pt x="1906" y="0"/>
                </a:cubicBez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209680" y="3962520"/>
            <a:ext cx="686160" cy="457560"/>
          </a:xfrm>
          <a:custGeom>
            <a:avLst/>
            <a:gdLst/>
            <a:ahLst/>
            <a:rect l="0" t="0" r="r" b="b"/>
            <a:pathLst>
              <a:path fill="none" w="1906" h="1271">
                <a:moveTo>
                  <a:pt x="0" y="0"/>
                </a:moveTo>
                <a:lnTo>
                  <a:pt x="0" y="0"/>
                </a:lnTo>
                <a:cubicBezTo>
                  <a:pt x="0" y="223"/>
                  <a:pt x="88" y="442"/>
                  <a:pt x="255" y="636"/>
                </a:cubicBezTo>
                <a:cubicBezTo>
                  <a:pt x="423" y="829"/>
                  <a:pt x="663" y="989"/>
                  <a:pt x="953" y="1101"/>
                </a:cubicBezTo>
                <a:cubicBezTo>
                  <a:pt x="1243" y="1212"/>
                  <a:pt x="1571" y="1271"/>
                  <a:pt x="1906" y="1271"/>
                </a:cubicBezTo>
              </a:path>
            </a:pathLst>
          </a:custGeom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438280" y="3429000"/>
            <a:ext cx="380880" cy="533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971800" y="3429000"/>
            <a:ext cx="380880" cy="5335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90920" y="3581280"/>
            <a:ext cx="228600" cy="3049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24080" y="3581280"/>
            <a:ext cx="228600" cy="304920"/>
          </a:xfrm>
          <a:prstGeom prst="ellipse">
            <a:avLst/>
          </a:prstGeom>
          <a:solidFill>
            <a:srgbClr val="cecece"/>
          </a:solidFill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743200" y="3886200"/>
            <a:ext cx="304920" cy="38088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cecece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629400" y="3048120"/>
            <a:ext cx="1676520" cy="1905480"/>
            <a:chOff x="6629400" y="3048120"/>
            <a:chExt cx="1676520" cy="1905480"/>
          </a:xfrm>
        </p:grpSpPr>
        <p:sp>
          <p:nvSpPr>
            <p:cNvPr id="138" name=""/>
            <p:cNvSpPr/>
            <p:nvPr/>
          </p:nvSpPr>
          <p:spPr>
            <a:xfrm>
              <a:off x="6858000" y="4648320"/>
              <a:ext cx="1219680" cy="305280"/>
            </a:xfrm>
            <a:custGeom>
              <a:avLst/>
              <a:gdLst/>
              <a:ahLst/>
              <a:rect l="0" t="0" r="r" b="b"/>
              <a:pathLst>
                <a:path w="3388" h="848">
                  <a:moveTo>
                    <a:pt x="0" y="848"/>
                  </a:moveTo>
                  <a:lnTo>
                    <a:pt x="1016" y="0"/>
                  </a:lnTo>
                  <a:lnTo>
                    <a:pt x="2371" y="0"/>
                  </a:lnTo>
                  <a:lnTo>
                    <a:pt x="3388" y="848"/>
                  </a:lnTo>
                  <a:lnTo>
                    <a:pt x="0" y="848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cecece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629400" y="3048120"/>
              <a:ext cx="1676520" cy="1676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ecece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467480" y="3962520"/>
              <a:ext cx="686160" cy="457560"/>
            </a:xfrm>
            <a:custGeom>
              <a:avLst/>
              <a:gdLst/>
              <a:ahLst/>
              <a:rect l="0" t="0" r="r" b="b"/>
              <a:pathLst>
                <a:path fill="none" w="1906" h="1271">
                  <a:moveTo>
                    <a:pt x="0" y="1271"/>
                  </a:moveTo>
                  <a:lnTo>
                    <a:pt x="0" y="1271"/>
                  </a:lnTo>
                  <a:cubicBezTo>
                    <a:pt x="335" y="1271"/>
                    <a:pt x="663" y="1212"/>
                    <a:pt x="953" y="1101"/>
                  </a:cubicBezTo>
                  <a:cubicBezTo>
                    <a:pt x="1243" y="989"/>
                    <a:pt x="1483" y="829"/>
                    <a:pt x="1651" y="635"/>
                  </a:cubicBezTo>
                  <a:cubicBezTo>
                    <a:pt x="1818" y="442"/>
                    <a:pt x="1906" y="223"/>
                    <a:pt x="1906" y="0"/>
                  </a:cubicBezTo>
                </a:path>
              </a:pathLst>
            </a:custGeom>
            <a:ln w="12600">
              <a:solidFill>
                <a:srgbClr val="cecece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781680" y="3962520"/>
              <a:ext cx="686160" cy="457560"/>
            </a:xfrm>
            <a:custGeom>
              <a:avLst/>
              <a:gdLst/>
              <a:ahLst/>
              <a:rect l="0" t="0" r="r" b="b"/>
              <a:pathLst>
                <a:path fill="none" w="1906" h="1271">
                  <a:moveTo>
                    <a:pt x="0" y="0"/>
                  </a:moveTo>
                  <a:lnTo>
                    <a:pt x="0" y="0"/>
                  </a:lnTo>
                  <a:cubicBezTo>
                    <a:pt x="0" y="223"/>
                    <a:pt x="88" y="442"/>
                    <a:pt x="255" y="636"/>
                  </a:cubicBezTo>
                  <a:cubicBezTo>
                    <a:pt x="423" y="829"/>
                    <a:pt x="663" y="989"/>
                    <a:pt x="953" y="1101"/>
                  </a:cubicBezTo>
                  <a:cubicBezTo>
                    <a:pt x="1243" y="1212"/>
                    <a:pt x="1571" y="1271"/>
                    <a:pt x="1906" y="1271"/>
                  </a:cubicBezTo>
                </a:path>
              </a:pathLst>
            </a:custGeom>
            <a:ln w="12600">
              <a:solidFill>
                <a:srgbClr val="cecece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010280" y="3429000"/>
              <a:ext cx="380880" cy="533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ecece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543800" y="3429000"/>
              <a:ext cx="380880" cy="5335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ecece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10280" y="3581280"/>
              <a:ext cx="228600" cy="30492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cecece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543800" y="3581280"/>
              <a:ext cx="228600" cy="30492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cecece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315200" y="3886200"/>
              <a:ext cx="304920" cy="3808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cecece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2063880" y="2984400"/>
            <a:ext cx="1667160" cy="730440"/>
          </a:xfrm>
          <a:custGeom>
            <a:avLst/>
            <a:gdLst/>
            <a:ahLst/>
            <a:rect l="0" t="0" r="r" b="b"/>
            <a:pathLst>
              <a:path fill="none" w="4631" h="2029">
                <a:moveTo>
                  <a:pt x="405" y="1870"/>
                </a:moveTo>
                <a:lnTo>
                  <a:pt x="308" y="1786"/>
                </a:lnTo>
                <a:lnTo>
                  <a:pt x="198" y="1831"/>
                </a:lnTo>
                <a:lnTo>
                  <a:pt x="132" y="1853"/>
                </a:lnTo>
                <a:lnTo>
                  <a:pt x="66" y="1853"/>
                </a:lnTo>
                <a:lnTo>
                  <a:pt x="0" y="1786"/>
                </a:lnTo>
                <a:lnTo>
                  <a:pt x="0" y="1698"/>
                </a:lnTo>
                <a:lnTo>
                  <a:pt x="0" y="1610"/>
                </a:lnTo>
                <a:lnTo>
                  <a:pt x="0" y="1544"/>
                </a:lnTo>
                <a:lnTo>
                  <a:pt x="0" y="1478"/>
                </a:lnTo>
                <a:lnTo>
                  <a:pt x="66" y="1412"/>
                </a:lnTo>
                <a:lnTo>
                  <a:pt x="132" y="1390"/>
                </a:lnTo>
                <a:lnTo>
                  <a:pt x="198" y="1390"/>
                </a:lnTo>
                <a:lnTo>
                  <a:pt x="286" y="1390"/>
                </a:lnTo>
                <a:lnTo>
                  <a:pt x="352" y="1434"/>
                </a:lnTo>
                <a:lnTo>
                  <a:pt x="352" y="1500"/>
                </a:lnTo>
                <a:lnTo>
                  <a:pt x="374" y="1610"/>
                </a:lnTo>
                <a:lnTo>
                  <a:pt x="374" y="1676"/>
                </a:lnTo>
                <a:lnTo>
                  <a:pt x="374" y="1742"/>
                </a:lnTo>
                <a:lnTo>
                  <a:pt x="308" y="1742"/>
                </a:lnTo>
                <a:lnTo>
                  <a:pt x="242" y="1698"/>
                </a:lnTo>
                <a:lnTo>
                  <a:pt x="220" y="1632"/>
                </a:lnTo>
                <a:lnTo>
                  <a:pt x="198" y="1544"/>
                </a:lnTo>
                <a:lnTo>
                  <a:pt x="198" y="1478"/>
                </a:lnTo>
                <a:lnTo>
                  <a:pt x="198" y="1412"/>
                </a:lnTo>
                <a:lnTo>
                  <a:pt x="198" y="1345"/>
                </a:lnTo>
                <a:lnTo>
                  <a:pt x="198" y="1279"/>
                </a:lnTo>
                <a:lnTo>
                  <a:pt x="198" y="1213"/>
                </a:lnTo>
                <a:lnTo>
                  <a:pt x="242" y="1147"/>
                </a:lnTo>
                <a:lnTo>
                  <a:pt x="308" y="1103"/>
                </a:lnTo>
                <a:lnTo>
                  <a:pt x="374" y="1059"/>
                </a:lnTo>
                <a:lnTo>
                  <a:pt x="440" y="1037"/>
                </a:lnTo>
                <a:lnTo>
                  <a:pt x="507" y="1037"/>
                </a:lnTo>
                <a:lnTo>
                  <a:pt x="551" y="1125"/>
                </a:lnTo>
                <a:lnTo>
                  <a:pt x="551" y="1213"/>
                </a:lnTo>
                <a:lnTo>
                  <a:pt x="551" y="1301"/>
                </a:lnTo>
                <a:lnTo>
                  <a:pt x="551" y="1368"/>
                </a:lnTo>
                <a:lnTo>
                  <a:pt x="485" y="1412"/>
                </a:lnTo>
                <a:lnTo>
                  <a:pt x="440" y="1301"/>
                </a:lnTo>
                <a:lnTo>
                  <a:pt x="440" y="1213"/>
                </a:lnTo>
                <a:lnTo>
                  <a:pt x="440" y="1125"/>
                </a:lnTo>
                <a:lnTo>
                  <a:pt x="440" y="1059"/>
                </a:lnTo>
                <a:lnTo>
                  <a:pt x="440" y="970"/>
                </a:lnTo>
                <a:lnTo>
                  <a:pt x="440" y="903"/>
                </a:lnTo>
                <a:lnTo>
                  <a:pt x="529" y="793"/>
                </a:lnTo>
                <a:lnTo>
                  <a:pt x="617" y="749"/>
                </a:lnTo>
                <a:lnTo>
                  <a:pt x="683" y="705"/>
                </a:lnTo>
                <a:lnTo>
                  <a:pt x="749" y="705"/>
                </a:lnTo>
                <a:lnTo>
                  <a:pt x="793" y="793"/>
                </a:lnTo>
                <a:lnTo>
                  <a:pt x="793" y="859"/>
                </a:lnTo>
                <a:lnTo>
                  <a:pt x="793" y="926"/>
                </a:lnTo>
                <a:lnTo>
                  <a:pt x="793" y="992"/>
                </a:lnTo>
                <a:lnTo>
                  <a:pt x="771" y="1059"/>
                </a:lnTo>
                <a:lnTo>
                  <a:pt x="705" y="1103"/>
                </a:lnTo>
                <a:lnTo>
                  <a:pt x="661" y="1015"/>
                </a:lnTo>
                <a:lnTo>
                  <a:pt x="661" y="948"/>
                </a:lnTo>
                <a:lnTo>
                  <a:pt x="661" y="859"/>
                </a:lnTo>
                <a:lnTo>
                  <a:pt x="661" y="793"/>
                </a:lnTo>
                <a:lnTo>
                  <a:pt x="661" y="705"/>
                </a:lnTo>
                <a:lnTo>
                  <a:pt x="705" y="617"/>
                </a:lnTo>
                <a:lnTo>
                  <a:pt x="771" y="573"/>
                </a:lnTo>
                <a:lnTo>
                  <a:pt x="837" y="551"/>
                </a:lnTo>
                <a:lnTo>
                  <a:pt x="903" y="507"/>
                </a:lnTo>
                <a:lnTo>
                  <a:pt x="970" y="507"/>
                </a:lnTo>
                <a:lnTo>
                  <a:pt x="1036" y="507"/>
                </a:lnTo>
                <a:lnTo>
                  <a:pt x="1080" y="573"/>
                </a:lnTo>
                <a:lnTo>
                  <a:pt x="1080" y="639"/>
                </a:lnTo>
                <a:lnTo>
                  <a:pt x="1080" y="749"/>
                </a:lnTo>
                <a:lnTo>
                  <a:pt x="1014" y="837"/>
                </a:lnTo>
                <a:lnTo>
                  <a:pt x="926" y="881"/>
                </a:lnTo>
                <a:lnTo>
                  <a:pt x="881" y="771"/>
                </a:lnTo>
                <a:lnTo>
                  <a:pt x="881" y="705"/>
                </a:lnTo>
                <a:lnTo>
                  <a:pt x="881" y="639"/>
                </a:lnTo>
                <a:lnTo>
                  <a:pt x="881" y="573"/>
                </a:lnTo>
                <a:lnTo>
                  <a:pt x="926" y="485"/>
                </a:lnTo>
                <a:lnTo>
                  <a:pt x="948" y="418"/>
                </a:lnTo>
                <a:lnTo>
                  <a:pt x="1014" y="374"/>
                </a:lnTo>
                <a:lnTo>
                  <a:pt x="1080" y="330"/>
                </a:lnTo>
                <a:lnTo>
                  <a:pt x="1146" y="308"/>
                </a:lnTo>
                <a:lnTo>
                  <a:pt x="1212" y="308"/>
                </a:lnTo>
                <a:lnTo>
                  <a:pt x="1300" y="308"/>
                </a:lnTo>
                <a:lnTo>
                  <a:pt x="1367" y="308"/>
                </a:lnTo>
                <a:lnTo>
                  <a:pt x="1411" y="396"/>
                </a:lnTo>
                <a:lnTo>
                  <a:pt x="1411" y="463"/>
                </a:lnTo>
                <a:lnTo>
                  <a:pt x="1411" y="529"/>
                </a:lnTo>
                <a:lnTo>
                  <a:pt x="1411" y="617"/>
                </a:lnTo>
                <a:lnTo>
                  <a:pt x="1344" y="705"/>
                </a:lnTo>
                <a:lnTo>
                  <a:pt x="1256" y="749"/>
                </a:lnTo>
                <a:lnTo>
                  <a:pt x="1190" y="749"/>
                </a:lnTo>
                <a:lnTo>
                  <a:pt x="1168" y="683"/>
                </a:lnTo>
                <a:lnTo>
                  <a:pt x="1168" y="617"/>
                </a:lnTo>
                <a:lnTo>
                  <a:pt x="1168" y="529"/>
                </a:lnTo>
                <a:lnTo>
                  <a:pt x="1168" y="440"/>
                </a:lnTo>
                <a:lnTo>
                  <a:pt x="1168" y="374"/>
                </a:lnTo>
                <a:lnTo>
                  <a:pt x="1234" y="330"/>
                </a:lnTo>
                <a:lnTo>
                  <a:pt x="1344" y="330"/>
                </a:lnTo>
                <a:lnTo>
                  <a:pt x="1455" y="330"/>
                </a:lnTo>
                <a:lnTo>
                  <a:pt x="1521" y="330"/>
                </a:lnTo>
                <a:lnTo>
                  <a:pt x="1587" y="330"/>
                </a:lnTo>
                <a:lnTo>
                  <a:pt x="1719" y="330"/>
                </a:lnTo>
                <a:lnTo>
                  <a:pt x="1763" y="396"/>
                </a:lnTo>
                <a:lnTo>
                  <a:pt x="1763" y="485"/>
                </a:lnTo>
                <a:lnTo>
                  <a:pt x="1763" y="551"/>
                </a:lnTo>
                <a:lnTo>
                  <a:pt x="1675" y="639"/>
                </a:lnTo>
                <a:lnTo>
                  <a:pt x="1631" y="573"/>
                </a:lnTo>
                <a:lnTo>
                  <a:pt x="1631" y="463"/>
                </a:lnTo>
                <a:lnTo>
                  <a:pt x="1631" y="396"/>
                </a:lnTo>
                <a:lnTo>
                  <a:pt x="1631" y="330"/>
                </a:lnTo>
                <a:lnTo>
                  <a:pt x="1631" y="264"/>
                </a:lnTo>
                <a:lnTo>
                  <a:pt x="1653" y="198"/>
                </a:lnTo>
                <a:lnTo>
                  <a:pt x="1741" y="154"/>
                </a:lnTo>
                <a:lnTo>
                  <a:pt x="1830" y="154"/>
                </a:lnTo>
                <a:lnTo>
                  <a:pt x="1896" y="154"/>
                </a:lnTo>
                <a:lnTo>
                  <a:pt x="1984" y="154"/>
                </a:lnTo>
                <a:lnTo>
                  <a:pt x="2072" y="154"/>
                </a:lnTo>
                <a:lnTo>
                  <a:pt x="2072" y="220"/>
                </a:lnTo>
                <a:lnTo>
                  <a:pt x="2072" y="308"/>
                </a:lnTo>
                <a:lnTo>
                  <a:pt x="2072" y="418"/>
                </a:lnTo>
                <a:lnTo>
                  <a:pt x="2006" y="463"/>
                </a:lnTo>
                <a:lnTo>
                  <a:pt x="1940" y="463"/>
                </a:lnTo>
                <a:lnTo>
                  <a:pt x="1940" y="396"/>
                </a:lnTo>
                <a:lnTo>
                  <a:pt x="1940" y="330"/>
                </a:lnTo>
                <a:lnTo>
                  <a:pt x="1940" y="242"/>
                </a:lnTo>
                <a:lnTo>
                  <a:pt x="1940" y="176"/>
                </a:lnTo>
                <a:lnTo>
                  <a:pt x="1984" y="110"/>
                </a:lnTo>
                <a:lnTo>
                  <a:pt x="2050" y="88"/>
                </a:lnTo>
                <a:lnTo>
                  <a:pt x="2160" y="88"/>
                </a:lnTo>
                <a:lnTo>
                  <a:pt x="2226" y="88"/>
                </a:lnTo>
                <a:lnTo>
                  <a:pt x="2293" y="88"/>
                </a:lnTo>
                <a:lnTo>
                  <a:pt x="2360" y="110"/>
                </a:lnTo>
                <a:lnTo>
                  <a:pt x="2382" y="220"/>
                </a:lnTo>
                <a:lnTo>
                  <a:pt x="2382" y="286"/>
                </a:lnTo>
                <a:lnTo>
                  <a:pt x="2382" y="374"/>
                </a:lnTo>
                <a:lnTo>
                  <a:pt x="2293" y="396"/>
                </a:lnTo>
                <a:lnTo>
                  <a:pt x="2226" y="396"/>
                </a:lnTo>
                <a:lnTo>
                  <a:pt x="2226" y="330"/>
                </a:lnTo>
                <a:lnTo>
                  <a:pt x="2204" y="264"/>
                </a:lnTo>
                <a:lnTo>
                  <a:pt x="2204" y="154"/>
                </a:lnTo>
                <a:lnTo>
                  <a:pt x="2204" y="88"/>
                </a:lnTo>
                <a:lnTo>
                  <a:pt x="2316" y="88"/>
                </a:lnTo>
                <a:lnTo>
                  <a:pt x="2404" y="88"/>
                </a:lnTo>
                <a:lnTo>
                  <a:pt x="2514" y="88"/>
                </a:lnTo>
                <a:lnTo>
                  <a:pt x="2602" y="88"/>
                </a:lnTo>
                <a:lnTo>
                  <a:pt x="2668" y="88"/>
                </a:lnTo>
                <a:lnTo>
                  <a:pt x="2735" y="88"/>
                </a:lnTo>
                <a:lnTo>
                  <a:pt x="2735" y="154"/>
                </a:lnTo>
                <a:lnTo>
                  <a:pt x="2735" y="242"/>
                </a:lnTo>
                <a:lnTo>
                  <a:pt x="2735" y="330"/>
                </a:lnTo>
                <a:lnTo>
                  <a:pt x="2712" y="396"/>
                </a:lnTo>
                <a:lnTo>
                  <a:pt x="2602" y="396"/>
                </a:lnTo>
                <a:lnTo>
                  <a:pt x="2514" y="396"/>
                </a:lnTo>
                <a:lnTo>
                  <a:pt x="2470" y="330"/>
                </a:lnTo>
                <a:lnTo>
                  <a:pt x="2448" y="264"/>
                </a:lnTo>
                <a:lnTo>
                  <a:pt x="2448" y="176"/>
                </a:lnTo>
                <a:lnTo>
                  <a:pt x="2448" y="110"/>
                </a:lnTo>
                <a:lnTo>
                  <a:pt x="2492" y="44"/>
                </a:lnTo>
                <a:lnTo>
                  <a:pt x="2602" y="22"/>
                </a:lnTo>
                <a:lnTo>
                  <a:pt x="2668" y="0"/>
                </a:lnTo>
                <a:lnTo>
                  <a:pt x="2735" y="0"/>
                </a:lnTo>
                <a:lnTo>
                  <a:pt x="2845" y="0"/>
                </a:lnTo>
                <a:lnTo>
                  <a:pt x="2955" y="0"/>
                </a:lnTo>
                <a:lnTo>
                  <a:pt x="3021" y="0"/>
                </a:lnTo>
                <a:lnTo>
                  <a:pt x="3065" y="88"/>
                </a:lnTo>
                <a:lnTo>
                  <a:pt x="3065" y="154"/>
                </a:lnTo>
                <a:lnTo>
                  <a:pt x="3087" y="220"/>
                </a:lnTo>
                <a:lnTo>
                  <a:pt x="3087" y="308"/>
                </a:lnTo>
                <a:lnTo>
                  <a:pt x="3087" y="374"/>
                </a:lnTo>
                <a:lnTo>
                  <a:pt x="3065" y="463"/>
                </a:lnTo>
                <a:lnTo>
                  <a:pt x="2977" y="507"/>
                </a:lnTo>
                <a:lnTo>
                  <a:pt x="2911" y="507"/>
                </a:lnTo>
                <a:lnTo>
                  <a:pt x="2867" y="440"/>
                </a:lnTo>
                <a:lnTo>
                  <a:pt x="2867" y="374"/>
                </a:lnTo>
                <a:lnTo>
                  <a:pt x="2867" y="308"/>
                </a:lnTo>
                <a:lnTo>
                  <a:pt x="2933" y="286"/>
                </a:lnTo>
                <a:lnTo>
                  <a:pt x="2999" y="286"/>
                </a:lnTo>
                <a:lnTo>
                  <a:pt x="3109" y="286"/>
                </a:lnTo>
                <a:lnTo>
                  <a:pt x="3198" y="286"/>
                </a:lnTo>
                <a:lnTo>
                  <a:pt x="3286" y="286"/>
                </a:lnTo>
                <a:lnTo>
                  <a:pt x="3352" y="286"/>
                </a:lnTo>
                <a:lnTo>
                  <a:pt x="3418" y="286"/>
                </a:lnTo>
                <a:lnTo>
                  <a:pt x="3484" y="352"/>
                </a:lnTo>
                <a:lnTo>
                  <a:pt x="3528" y="440"/>
                </a:lnTo>
                <a:lnTo>
                  <a:pt x="3528" y="529"/>
                </a:lnTo>
                <a:lnTo>
                  <a:pt x="3528" y="595"/>
                </a:lnTo>
                <a:lnTo>
                  <a:pt x="3462" y="639"/>
                </a:lnTo>
                <a:lnTo>
                  <a:pt x="3374" y="639"/>
                </a:lnTo>
                <a:lnTo>
                  <a:pt x="3308" y="595"/>
                </a:lnTo>
                <a:lnTo>
                  <a:pt x="3308" y="485"/>
                </a:lnTo>
                <a:lnTo>
                  <a:pt x="3308" y="418"/>
                </a:lnTo>
                <a:lnTo>
                  <a:pt x="3418" y="352"/>
                </a:lnTo>
                <a:lnTo>
                  <a:pt x="3484" y="352"/>
                </a:lnTo>
                <a:lnTo>
                  <a:pt x="3550" y="352"/>
                </a:lnTo>
                <a:lnTo>
                  <a:pt x="3616" y="352"/>
                </a:lnTo>
                <a:lnTo>
                  <a:pt x="3683" y="352"/>
                </a:lnTo>
                <a:lnTo>
                  <a:pt x="3771" y="352"/>
                </a:lnTo>
                <a:lnTo>
                  <a:pt x="3815" y="418"/>
                </a:lnTo>
                <a:lnTo>
                  <a:pt x="3815" y="485"/>
                </a:lnTo>
                <a:lnTo>
                  <a:pt x="3815" y="551"/>
                </a:lnTo>
                <a:lnTo>
                  <a:pt x="3815" y="639"/>
                </a:lnTo>
                <a:lnTo>
                  <a:pt x="3815" y="727"/>
                </a:lnTo>
                <a:lnTo>
                  <a:pt x="3793" y="815"/>
                </a:lnTo>
                <a:lnTo>
                  <a:pt x="3749" y="881"/>
                </a:lnTo>
                <a:lnTo>
                  <a:pt x="3639" y="881"/>
                </a:lnTo>
                <a:lnTo>
                  <a:pt x="3572" y="881"/>
                </a:lnTo>
                <a:lnTo>
                  <a:pt x="3550" y="793"/>
                </a:lnTo>
                <a:lnTo>
                  <a:pt x="3528" y="705"/>
                </a:lnTo>
                <a:lnTo>
                  <a:pt x="3528" y="617"/>
                </a:lnTo>
                <a:lnTo>
                  <a:pt x="3616" y="595"/>
                </a:lnTo>
                <a:lnTo>
                  <a:pt x="3705" y="595"/>
                </a:lnTo>
                <a:lnTo>
                  <a:pt x="3771" y="617"/>
                </a:lnTo>
                <a:lnTo>
                  <a:pt x="3837" y="639"/>
                </a:lnTo>
                <a:lnTo>
                  <a:pt x="3881" y="705"/>
                </a:lnTo>
                <a:lnTo>
                  <a:pt x="3969" y="793"/>
                </a:lnTo>
                <a:lnTo>
                  <a:pt x="4057" y="837"/>
                </a:lnTo>
                <a:lnTo>
                  <a:pt x="4079" y="926"/>
                </a:lnTo>
                <a:lnTo>
                  <a:pt x="4124" y="1015"/>
                </a:lnTo>
                <a:lnTo>
                  <a:pt x="4124" y="1103"/>
                </a:lnTo>
                <a:lnTo>
                  <a:pt x="4124" y="1169"/>
                </a:lnTo>
                <a:lnTo>
                  <a:pt x="4079" y="1235"/>
                </a:lnTo>
                <a:lnTo>
                  <a:pt x="3969" y="1213"/>
                </a:lnTo>
                <a:lnTo>
                  <a:pt x="3925" y="1147"/>
                </a:lnTo>
                <a:lnTo>
                  <a:pt x="3925" y="1081"/>
                </a:lnTo>
                <a:lnTo>
                  <a:pt x="3925" y="1015"/>
                </a:lnTo>
                <a:lnTo>
                  <a:pt x="3925" y="948"/>
                </a:lnTo>
                <a:lnTo>
                  <a:pt x="3991" y="926"/>
                </a:lnTo>
                <a:lnTo>
                  <a:pt x="4079" y="926"/>
                </a:lnTo>
                <a:lnTo>
                  <a:pt x="4146" y="926"/>
                </a:lnTo>
                <a:lnTo>
                  <a:pt x="4256" y="926"/>
                </a:lnTo>
                <a:lnTo>
                  <a:pt x="4322" y="970"/>
                </a:lnTo>
                <a:lnTo>
                  <a:pt x="4366" y="1037"/>
                </a:lnTo>
                <a:lnTo>
                  <a:pt x="4388" y="1125"/>
                </a:lnTo>
                <a:lnTo>
                  <a:pt x="4388" y="1213"/>
                </a:lnTo>
                <a:lnTo>
                  <a:pt x="4388" y="1301"/>
                </a:lnTo>
                <a:lnTo>
                  <a:pt x="4388" y="1390"/>
                </a:lnTo>
                <a:lnTo>
                  <a:pt x="4344" y="1478"/>
                </a:lnTo>
                <a:lnTo>
                  <a:pt x="4278" y="1500"/>
                </a:lnTo>
                <a:lnTo>
                  <a:pt x="4212" y="1500"/>
                </a:lnTo>
                <a:lnTo>
                  <a:pt x="4124" y="1500"/>
                </a:lnTo>
                <a:lnTo>
                  <a:pt x="4102" y="1390"/>
                </a:lnTo>
                <a:lnTo>
                  <a:pt x="4102" y="1301"/>
                </a:lnTo>
                <a:lnTo>
                  <a:pt x="4124" y="1235"/>
                </a:lnTo>
                <a:lnTo>
                  <a:pt x="4256" y="1213"/>
                </a:lnTo>
                <a:lnTo>
                  <a:pt x="4344" y="1213"/>
                </a:lnTo>
                <a:lnTo>
                  <a:pt x="4410" y="1213"/>
                </a:lnTo>
                <a:lnTo>
                  <a:pt x="4476" y="1235"/>
                </a:lnTo>
                <a:lnTo>
                  <a:pt x="4476" y="1301"/>
                </a:lnTo>
                <a:lnTo>
                  <a:pt x="4476" y="1390"/>
                </a:lnTo>
                <a:lnTo>
                  <a:pt x="4476" y="1478"/>
                </a:lnTo>
                <a:lnTo>
                  <a:pt x="4476" y="1544"/>
                </a:lnTo>
                <a:lnTo>
                  <a:pt x="4476" y="1632"/>
                </a:lnTo>
                <a:lnTo>
                  <a:pt x="4476" y="1698"/>
                </a:lnTo>
                <a:lnTo>
                  <a:pt x="4388" y="1764"/>
                </a:lnTo>
                <a:lnTo>
                  <a:pt x="4322" y="1764"/>
                </a:lnTo>
                <a:lnTo>
                  <a:pt x="4256" y="1676"/>
                </a:lnTo>
                <a:lnTo>
                  <a:pt x="4256" y="1610"/>
                </a:lnTo>
                <a:lnTo>
                  <a:pt x="4256" y="1544"/>
                </a:lnTo>
                <a:lnTo>
                  <a:pt x="4344" y="1522"/>
                </a:lnTo>
                <a:lnTo>
                  <a:pt x="4410" y="1522"/>
                </a:lnTo>
                <a:lnTo>
                  <a:pt x="4520" y="1522"/>
                </a:lnTo>
                <a:lnTo>
                  <a:pt x="4587" y="1544"/>
                </a:lnTo>
                <a:lnTo>
                  <a:pt x="4609" y="1632"/>
                </a:lnTo>
                <a:lnTo>
                  <a:pt x="4631" y="1698"/>
                </a:lnTo>
                <a:lnTo>
                  <a:pt x="4631" y="1764"/>
                </a:lnTo>
                <a:lnTo>
                  <a:pt x="4631" y="1875"/>
                </a:lnTo>
                <a:lnTo>
                  <a:pt x="4631" y="1963"/>
                </a:lnTo>
                <a:lnTo>
                  <a:pt x="4631" y="2029"/>
                </a:lnTo>
                <a:lnTo>
                  <a:pt x="4565" y="2029"/>
                </a:lnTo>
                <a:lnTo>
                  <a:pt x="4476" y="2029"/>
                </a:lnTo>
                <a:lnTo>
                  <a:pt x="4432" y="1963"/>
                </a:lnTo>
                <a:lnTo>
                  <a:pt x="4432" y="1897"/>
                </a:lnTo>
                <a:lnTo>
                  <a:pt x="4432" y="1831"/>
                </a:lnTo>
              </a:path>
            </a:pathLst>
          </a:custGeom>
          <a:ln w="12600">
            <a:solidFill>
              <a:srgbClr val="9c9c9c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86600" y="2971800"/>
            <a:ext cx="0" cy="304920"/>
          </a:xfrm>
          <a:prstGeom prst="line">
            <a:avLst/>
          </a:prstGeom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238880" y="2895480"/>
            <a:ext cx="0" cy="304920"/>
          </a:xfrm>
          <a:prstGeom prst="line">
            <a:avLst/>
          </a:prstGeom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391520" y="2819520"/>
            <a:ext cx="0" cy="304560"/>
          </a:xfrm>
          <a:prstGeom prst="line">
            <a:avLst/>
          </a:prstGeom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43800" y="2895480"/>
            <a:ext cx="0" cy="304920"/>
          </a:xfrm>
          <a:prstGeom prst="line">
            <a:avLst/>
          </a:prstGeom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696080" y="2895480"/>
            <a:ext cx="0" cy="304920"/>
          </a:xfrm>
          <a:prstGeom prst="line">
            <a:avLst/>
          </a:prstGeom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7848720" y="2971800"/>
            <a:ext cx="0" cy="304920"/>
          </a:xfrm>
          <a:prstGeom prst="line">
            <a:avLst/>
          </a:prstGeom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01000" y="3048120"/>
            <a:ext cx="0" cy="304560"/>
          </a:xfrm>
          <a:prstGeom prst="line">
            <a:avLst/>
          </a:prstGeom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153280" y="3276720"/>
            <a:ext cx="0" cy="304560"/>
          </a:xfrm>
          <a:prstGeom prst="line">
            <a:avLst/>
          </a:prstGeom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934320" y="2971800"/>
            <a:ext cx="0" cy="304920"/>
          </a:xfrm>
          <a:prstGeom prst="line">
            <a:avLst/>
          </a:prstGeom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858000" y="3124080"/>
            <a:ext cx="0" cy="304920"/>
          </a:xfrm>
          <a:prstGeom prst="line">
            <a:avLst/>
          </a:prstGeom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05720" y="3276720"/>
            <a:ext cx="0" cy="304560"/>
          </a:xfrm>
          <a:prstGeom prst="line">
            <a:avLst/>
          </a:prstGeom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048120"/>
            <a:ext cx="0" cy="304560"/>
          </a:xfrm>
          <a:prstGeom prst="line">
            <a:avLst/>
          </a:prstGeom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2971800"/>
            <a:ext cx="0" cy="304920"/>
          </a:xfrm>
          <a:prstGeom prst="line">
            <a:avLst/>
          </a:prstGeom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2819520"/>
            <a:ext cx="0" cy="304560"/>
          </a:xfrm>
          <a:prstGeom prst="line">
            <a:avLst/>
          </a:prstGeom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7467480" y="2819520"/>
            <a:ext cx="0" cy="304560"/>
          </a:xfrm>
          <a:prstGeom prst="line">
            <a:avLst/>
          </a:prstGeom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620120" y="2819520"/>
            <a:ext cx="0" cy="304560"/>
          </a:xfrm>
          <a:prstGeom prst="line">
            <a:avLst/>
          </a:prstGeom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772400" y="2895480"/>
            <a:ext cx="0" cy="304920"/>
          </a:xfrm>
          <a:prstGeom prst="line">
            <a:avLst/>
          </a:prstGeom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924680" y="3124080"/>
            <a:ext cx="0" cy="304920"/>
          </a:xfrm>
          <a:prstGeom prst="line">
            <a:avLst/>
          </a:prstGeom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3124080"/>
            <a:ext cx="0" cy="304920"/>
          </a:xfrm>
          <a:prstGeom prst="line">
            <a:avLst/>
          </a:prstGeom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81680" y="3200400"/>
            <a:ext cx="0" cy="304920"/>
          </a:xfrm>
          <a:prstGeom prst="line">
            <a:avLst/>
          </a:prstGeom>
          <a:ln w="12600">
            <a:solidFill>
              <a:srgbClr val="9191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228600"/>
            <a:ext cx="777240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Create an Offscreen Buffer (cont.)</a:t>
            </a: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lor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685800" y="2971800"/>
            <a:ext cx="7772400" cy="312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ITMAPINF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tains BITMAPINFO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lor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dentity/NonIdentity 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0880" y="1828800"/>
            <a:ext cx="8458200" cy="83808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80880" y="1812960"/>
            <a:ext cx="8534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illInColorTable(pInf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273320" y="5318280"/>
            <a:ext cx="615780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Palet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refers to a GDI HPALETTE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Color Tab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refers to array of DIB col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Create an Offscreen Buffer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85800" y="30481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reate the WinGBit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DC WinG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ITMAPINFO *p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oid **pp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1828800"/>
            <a:ext cx="8458200" cy="99072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380880" y="1812960"/>
            <a:ext cx="8534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BITMAP Bitmap = WinGCreateBitmap(Buffer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Info,&amp;pBit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raw into 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0880" y="1828800"/>
            <a:ext cx="8458200" cy="449568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380880" y="1812960"/>
            <a:ext cx="8534520" cy="31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BITMAP OldBitmap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Object(Buffer,Bitma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ppDraw(pInfo,pBit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GDIDraw(Buffer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Blt it to the Scre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80880" y="1828800"/>
            <a:ext cx="8458200" cy="449568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880" y="1812960"/>
            <a:ext cx="8534520" cy="311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DC Display = GetDC(Window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PALETTE OldPalette =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Palette(Display,Palette,FALS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alizePalette(Displa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nGBitBlt(Display,0,0,100,100,Buffer,0,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Blt it to the Screen (cont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nGBitB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nGStretchB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It’s fr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vail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ta before end of M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68580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What Nex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ore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inG.h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userve WinMM for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SDN (800) 759-547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mdinfo@microsoft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icrosoft Suite - Beer, Pizza, WinDO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tact - Microsoft Games Evange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ex St. Joh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762120" y="60948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Windows Game Graphics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400480" y="2819520"/>
            <a:ext cx="4343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DCs and HBIT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1349280" y="4708440"/>
            <a:ext cx="644688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Bitma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refers to a GDI HBITMAP 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lang="en-US" sz="2400" spc="-1" strike="noStrike">
                <a:solidFill>
                  <a:srgbClr val="232323"/>
                </a:solidFill>
                <a:latin typeface="Times New Roman"/>
                <a:ea typeface="Times New Roman"/>
              </a:rPr>
              <a:t>DI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” refers to app-owned memory and 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762120" y="609480"/>
            <a:ext cx="777240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Windows Architectures (cont.)</a:t>
            </a: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HDCs and HBIT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7621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emory DCs are fast to blt to the scr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I can draw on them (text, etc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s can’t directly draw on the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vice depen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 doesn’t own the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1828800"/>
            <a:ext cx="8458200" cy="449568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62120" y="609480"/>
            <a:ext cx="777240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Windows Architectures (cont.)</a:t>
            </a: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HDCs and HBITMAP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80880" y="1812960"/>
            <a:ext cx="853452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DC Display = GetDC(Window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DC MemoryDC = CreateCompatibleDC(Displa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BITMAP Bitmap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eCompatibleBitmap(Display,100,10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BITMAP OldBitmap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Object(MemoryDC,Bitma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llipse(MemoryDC,0,0,100,10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tBlt(Display,0,0,100,100,MemoryDC,0,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RCCOP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 can directly draw on the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 owns the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 specifies the bi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ost display drivers suck at blting DI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I can’t draw on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85800" y="228600"/>
            <a:ext cx="777240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Windows Architectures (cont.)</a:t>
            </a: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I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685800" y="228600"/>
            <a:ext cx="7772400" cy="131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Windows Architectures (cont.)</a:t>
            </a: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I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828800"/>
            <a:ext cx="8458200" cy="4495680"/>
          </a:xfrm>
          <a:prstGeom prst="rect">
            <a:avLst/>
          </a:prstGeom>
          <a:noFill/>
          <a:ln w="12600">
            <a:solidFill>
              <a:srgbClr val="919191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380880" y="1812960"/>
            <a:ext cx="853452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75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HDC Display = GetDC(Window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Header-&gt;biWidth = 1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Header-&gt;biHeight = 10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Header-&gt;biBitCount = 8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assume color table already set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*pBits = GlobalAllocPtr(GHND,100*10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emset(pBits,255,10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etchDIBits(Display,0,0,100,100,0,0,100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100,pBits,pHeader,DIB_RGB_COLOR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RCCOPY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457200"/>
            <a:ext cx="777240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WinG Game Graphics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1981080" y="2209680"/>
            <a:ext cx="5181480" cy="33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vantages of DIB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s can draw on the su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vice independ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vantages of HBITMA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DI can draw on th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800" spc="-1" strike="noStrike" u="sng">
                <a:solidFill>
                  <a:srgbClr val="232323"/>
                </a:solidFill>
                <a:uFillTx/>
                <a:latin typeface="Arial"/>
                <a:ea typeface="Arial"/>
              </a:rPr>
              <a:t>FAST BL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85800" y="228600"/>
            <a:ext cx="7772400" cy="18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000000"/>
                </a:solidFill>
                <a:latin typeface="Book Antiqua"/>
                <a:ea typeface="Book Antiqua"/>
              </a:rPr>
              <a:t>WinG Game Graphics Architecture (cont.)</a:t>
            </a:r>
            <a:br>
              <a:rPr sz="3200"/>
            </a:b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w GDI Ob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nG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lt to screen with WinGBitBlt or WinGStretchB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raw on them with GDI fun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nGBitma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pp gets a pointer to the bits and a description of the pixel forma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 Hecker - checker@microsoft.com</dc:creator>
  <dc:description/>
  <dc:language>en-US</dc:language>
  <cp:lastModifiedBy>Jeff Camp</cp:lastModifiedBy>
  <cp:revision>0</cp:revision>
  <dc:subject>WinG for Game Developers</dc:subject>
  <dc:title>1992 Game Developer's Conference Lecture</dc:title>
</cp:coreProperties>
</file>