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36520" y="0"/>
            <a:ext cx="8896320" cy="6845400"/>
            <a:chOff x="236520" y="0"/>
            <a:chExt cx="8896320" cy="6845400"/>
          </a:xfrm>
        </p:grpSpPr>
        <p:sp>
          <p:nvSpPr>
            <p:cNvPr id="1" name=""/>
            <p:cNvSpPr/>
            <p:nvPr/>
          </p:nvSpPr>
          <p:spPr>
            <a:xfrm>
              <a:off x="236520" y="0"/>
              <a:ext cx="237960" cy="6845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439560" y="0"/>
              <a:ext cx="372960" cy="46674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22200" y="0"/>
              <a:ext cx="1082520" cy="335268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06440" y="0"/>
              <a:ext cx="304920" cy="3886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92200" y="1467000"/>
              <a:ext cx="525600" cy="121932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07960" y="1409760"/>
              <a:ext cx="8624880" cy="133200"/>
            </a:xfrm>
            <a:prstGeom prst="rect">
              <a:avLst/>
            </a:prstGeom>
            <a:gradFill rotWithShape="0">
              <a:gsLst>
                <a:gs pos="0">
                  <a:srgbClr val="e9e9e9"/>
                </a:gs>
                <a:gs pos="100000">
                  <a:srgbClr val="919191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36520" y="1409760"/>
              <a:ext cx="8896320" cy="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51120" bIns="-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 txBox="1"/>
          <p:nvPr/>
        </p:nvSpPr>
        <p:spPr>
          <a:xfrm>
            <a:off x="90360" y="6485040"/>
            <a:ext cx="2584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icrosoft Windows Multime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E964A761-89DE-4CAA-9882-1F2278AF377D}" type="slidenum"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28600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soft Gets Serious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out Fu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nnouncements at the 1994 Computer Game Developer Confer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Are We Her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are committed to great multimedia support in Window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ames are the category of multimedia application that customers request the mo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 have a lot of work to do, but WinG and Chicago are a solid sta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e’re here to list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Windows 3.1 Had To Off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vanced memory manage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 large, active customer b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zzzzt!  No thanks.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533600" y="1914480"/>
            <a:ext cx="7015320" cy="4791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 txBox="1"/>
          <p:nvPr/>
        </p:nvSpPr>
        <p:spPr>
          <a:xfrm>
            <a:off x="2117880" y="1812960"/>
            <a:ext cx="56736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993 Computer Game Sales by 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432080" y="5927760"/>
            <a:ext cx="14209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98560" y="5470560"/>
            <a:ext cx="7603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2895480" y="5867280"/>
            <a:ext cx="30492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1676520" y="5486400"/>
            <a:ext cx="761760" cy="1522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937040" y="2994120"/>
            <a:ext cx="292752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i="1" lang="en-US" sz="5400" spc="-1" strike="noStrike">
                <a:solidFill>
                  <a:srgbClr val="000000"/>
                </a:solidFill>
                <a:latin typeface="Arial"/>
                <a:ea typeface="Arial"/>
              </a:rPr>
              <a:t>MS-DO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403880" y="6224760"/>
            <a:ext cx="399564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ource: PC Data 1993 Annual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raphics Speed !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(other stuff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G: Graphics Speed To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lt blaster.  Approaches raw MS-DOS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ction pulled forward from Chicago.  Games that use it will run fast on Win3.1, Chicago and Windows 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ains Windows device independence advantag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istributable at no char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mes on Chicag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2-bit performan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lexible multi-threading architec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digital video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network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uilt-in MIDI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VoiceView modem supp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D support for the fu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762120" y="22860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mmary:  Windows is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143000" y="1828800"/>
            <a:ext cx="775332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stomers want Windows ga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duce your support cost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vice independence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Windows mem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un possibilities: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Graphics, Networking, </a:t>
            </a:r>
            <a:br>
              <a:rPr sz="3200"/>
            </a:b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gital Video, VoiceView, O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eff Camp</dc:creator>
  <dc:description/>
  <dc:language>en-US</dc:language>
  <cp:lastModifiedBy>Jeff Camp</cp:lastModifiedBy>
  <cp:revision>0</cp:revision>
  <dc:subject/>
  <dc:title>Microsoft Gets Serious About Fun</dc:title>
</cp:coreProperties>
</file>