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080" cy="655308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50000">
                <a:srgbClr val="000b2f"/>
              </a:gs>
              <a:gs pos="100000">
                <a:srgbClr val="00279f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934320" y="6324480"/>
            <a:ext cx="1984320" cy="2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07960" y="198108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14600" y="3840120"/>
            <a:ext cx="42037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-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ick Greenwald,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echnology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Gupta Corpo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795240" y="304920"/>
            <a:ext cx="7180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63520" y="1554120"/>
            <a:ext cx="84916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Database design consid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70120" y="2300400"/>
            <a:ext cx="7869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20000"/>
              </a:lnSpc>
              <a:buClr>
                <a:srgbClr val="000000"/>
              </a:buClr>
              <a:buSzPct val="7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Normalize - then de-normali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947880" y="304920"/>
            <a:ext cx="7180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87200" y="1554120"/>
            <a:ext cx="84916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Database design consid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22400" y="2300400"/>
            <a:ext cx="7869240" cy="15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20000"/>
              </a:lnSpc>
              <a:buClr>
                <a:srgbClr val="000000"/>
              </a:buClr>
              <a:buSzPct val="7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Normalize - then de-normali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20000"/>
              </a:lnSpc>
              <a:buClr>
                <a:srgbClr val="000000"/>
              </a:buClr>
              <a:buSzPct val="7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Large table joins on index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252440" y="304920"/>
            <a:ext cx="7180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87200" y="1477800"/>
            <a:ext cx="84916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Database design consid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022400" y="2224080"/>
            <a:ext cx="7869240" cy="22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20000"/>
              </a:lnSpc>
              <a:buClr>
                <a:srgbClr val="000000"/>
              </a:buClr>
              <a:buSzPct val="7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Normalize - then de-normali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20000"/>
              </a:lnSpc>
              <a:buClr>
                <a:srgbClr val="000000"/>
              </a:buClr>
              <a:buSzPct val="7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Large table joins on index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20000"/>
              </a:lnSpc>
              <a:buClr>
                <a:srgbClr val="000000"/>
              </a:buClr>
              <a:buSzPct val="7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Unique index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804960" y="304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870120" y="2300400"/>
            <a:ext cx="7869240" cy="30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20000"/>
              </a:lnSpc>
              <a:buClr>
                <a:srgbClr val="000000"/>
              </a:buClr>
              <a:buSzPct val="7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Normalize - then de-normali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20000"/>
              </a:lnSpc>
              <a:buClr>
                <a:srgbClr val="000000"/>
              </a:buClr>
              <a:buSzPct val="7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Large table joins on index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20000"/>
              </a:lnSpc>
              <a:buClr>
                <a:srgbClr val="000000"/>
              </a:buClr>
              <a:buSzPct val="7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Unique index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20000"/>
              </a:lnSpc>
              <a:buClr>
                <a:srgbClr val="000000"/>
              </a:buClr>
              <a:buSzPct val="7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Sorts on index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4920" y="1554120"/>
            <a:ext cx="84916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Database design consid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804960" y="304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166760" y="2986200"/>
            <a:ext cx="693900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20000"/>
              </a:lnSpc>
              <a:buClr>
                <a:srgbClr val="000000"/>
              </a:buClr>
              <a:buSzPct val="7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Clustered hashed index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63520" y="1630440"/>
            <a:ext cx="84916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Database design consid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433680" y="2163600"/>
            <a:ext cx="1736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(cont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804960" y="304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471680" y="2909880"/>
            <a:ext cx="6939000" cy="15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20000"/>
              </a:lnSpc>
              <a:buClr>
                <a:srgbClr val="000000"/>
              </a:buClr>
              <a:buSzPct val="7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Clustered hashed index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20000"/>
              </a:lnSpc>
              <a:buClr>
                <a:srgbClr val="000000"/>
              </a:buClr>
              <a:buSzPct val="7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Derived data in databa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68440" y="1554120"/>
            <a:ext cx="84916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Database design consid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433680" y="2163600"/>
            <a:ext cx="1736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(cont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084320" y="457200"/>
            <a:ext cx="717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23720" y="2163600"/>
            <a:ext cx="849168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Database design consid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Multi-user issu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389240" y="457200"/>
            <a:ext cx="717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62080" y="2544840"/>
            <a:ext cx="83692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In a client-server system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transactions span a much long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period of time than in a tradition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computing environme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23760" y="1706400"/>
            <a:ext cx="47084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Multi-user issu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084320" y="457200"/>
            <a:ext cx="717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06360" y="2773440"/>
            <a:ext cx="873756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In a client-server system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a developer must reduce the leng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of time that locks are held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152360" y="1706400"/>
            <a:ext cx="47084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Multi-user issu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389240" y="457200"/>
            <a:ext cx="717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14280" y="1706400"/>
            <a:ext cx="47084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Multi-user issu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84280" y="2316240"/>
            <a:ext cx="83995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50000"/>
              </a:lnSpc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The SQLBase transaction trin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023840" y="609480"/>
            <a:ext cx="7180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790720" y="2620800"/>
            <a:ext cx="33591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GOFAST=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389240" y="457200"/>
            <a:ext cx="717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92000" y="3306600"/>
            <a:ext cx="7416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8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Release Lock isolation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37960" y="1706400"/>
            <a:ext cx="47084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Multi-user issu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07960" y="2316240"/>
            <a:ext cx="83995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50000"/>
              </a:lnSpc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The SQLBase transaction trin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389240" y="457200"/>
            <a:ext cx="717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68320" y="3306600"/>
            <a:ext cx="741672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8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Release Lock isolation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8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Optimistic locking strate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14280" y="1706400"/>
            <a:ext cx="47084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Multi-user issu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84280" y="2316240"/>
            <a:ext cx="83995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50000"/>
              </a:lnSpc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The SQLBase transaction trin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389240" y="457200"/>
            <a:ext cx="717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92000" y="3306600"/>
            <a:ext cx="758520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8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Release Lock isolation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8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Optimistic locking strate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8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Cursor Context Preserv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37960" y="1706400"/>
            <a:ext cx="47084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Multi-user issu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07960" y="2316240"/>
            <a:ext cx="83995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50000"/>
              </a:lnSpc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The SQLBase transaction trin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389240" y="457200"/>
            <a:ext cx="717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37960" y="1706400"/>
            <a:ext cx="47084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Multi-user issu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07960" y="2316240"/>
            <a:ext cx="839952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50000"/>
              </a:lnSpc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The SQLBase transaction trin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50000"/>
              </a:lnSpc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AUTOCOMMIT 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389240" y="457200"/>
            <a:ext cx="717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62000" y="1706400"/>
            <a:ext cx="47084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Multi-user issu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31640" y="2316240"/>
            <a:ext cx="8399520" cy="28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50000"/>
              </a:lnSpc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The SQLBase transaction trin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50000"/>
              </a:lnSpc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AUTOCOMMIT 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50000"/>
              </a:lnSpc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Reduce dead loc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14400" y="20574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89240" y="457200"/>
            <a:ext cx="717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62000" y="1706400"/>
            <a:ext cx="47084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Multi-user issu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31640" y="2316240"/>
            <a:ext cx="839952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50000"/>
              </a:lnSpc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The SQLBase transaction trin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50000"/>
              </a:lnSpc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AUTOCOMMIT 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50000"/>
              </a:lnSpc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Reduce dead loc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50000"/>
              </a:lnSpc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PCTFRE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32040" y="457200"/>
            <a:ext cx="717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840" y="2163600"/>
            <a:ext cx="899784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Database design consid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Multi-user issu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Application design consid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87200" y="1477800"/>
            <a:ext cx="8856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Application design consid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389240" y="457200"/>
            <a:ext cx="717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3640" y="2239920"/>
            <a:ext cx="58690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70000"/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UPDATE STATIST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7200" y="1477800"/>
            <a:ext cx="8856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Application design consid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08000" y="457200"/>
            <a:ext cx="717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63640" y="2239920"/>
            <a:ext cx="787392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70000"/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UPDATE STATIST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70000"/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Analyze SQL with PLANON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87200" y="1477800"/>
            <a:ext cx="8856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Application design consid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389240" y="457200"/>
            <a:ext cx="717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63640" y="2239920"/>
            <a:ext cx="787392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70000"/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UPDATE STATIST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70000"/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Analyze SQL with PLANON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374840" y="3459240"/>
            <a:ext cx="58881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- Use a real-life versio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of the databa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47880" y="685800"/>
            <a:ext cx="7180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241280" y="2460600"/>
            <a:ext cx="6319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Arial"/>
                <a:ea typeface="Arial"/>
              </a:rPr>
              <a:t>Avoid bottlenecks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11240" y="1477800"/>
            <a:ext cx="8856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Application design consid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84320" y="457200"/>
            <a:ext cx="717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87320" y="2239920"/>
            <a:ext cx="787392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70000"/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UPDATE STATIST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70000"/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Analyze SQL with PLANON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00240" y="3459240"/>
            <a:ext cx="6084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- You may be surprised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11240" y="1477800"/>
            <a:ext cx="8856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Application design consid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08000" y="457200"/>
            <a:ext cx="717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87320" y="2239920"/>
            <a:ext cx="787392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70000"/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UPDATE STATIST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70000"/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Analyze SQL with PLANON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70000"/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Stored comman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7200" y="1477800"/>
            <a:ext cx="8856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Application design consid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32040" y="457200"/>
            <a:ext cx="717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63640" y="2239920"/>
            <a:ext cx="787392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70000"/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UPDATE STATIST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70000"/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Analyze SQL with PLANON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70000"/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Stored comman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70000"/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Multiple databa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11240" y="1477800"/>
            <a:ext cx="8856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Application design consid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932040" y="457200"/>
            <a:ext cx="717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87320" y="2239920"/>
            <a:ext cx="787392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70000"/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UPDATE STATIST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70000"/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Analyze SQL with PLANON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70000"/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Stored comman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70000"/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Multiple databa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70000"/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Cache control cod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11240" y="1477800"/>
            <a:ext cx="8856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Application design consid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55720" y="457200"/>
            <a:ext cx="717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87320" y="2239920"/>
            <a:ext cx="787392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70000"/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UPDATE STATIST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70000"/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Analyze SQL with PLANON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70000"/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Stored comman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70000"/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Multiple databa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70000"/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Cache control cod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70000"/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Background fet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084320" y="457200"/>
            <a:ext cx="717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2840" y="2087640"/>
            <a:ext cx="899784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Database design consid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Multi-user issu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Application design consid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Hardware consid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55720" y="457200"/>
            <a:ext cx="717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92160" y="1859040"/>
            <a:ext cx="66279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Hardware consid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832040" y="2697120"/>
            <a:ext cx="16700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6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CP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932040" y="533520"/>
            <a:ext cx="717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068480" y="1935000"/>
            <a:ext cx="66279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Hardware consid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908000" y="2773440"/>
            <a:ext cx="254484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6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CP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6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Mem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008000" y="457200"/>
            <a:ext cx="717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144440" y="1859040"/>
            <a:ext cx="66279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Hardware consid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984320" y="2697120"/>
            <a:ext cx="254484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6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CP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6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Mem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189160" y="4008600"/>
            <a:ext cx="5086440" cy="15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QLBase needs bo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ache (3 MB to star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nd system memory (++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932040" y="457200"/>
            <a:ext cx="717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220760" y="1935000"/>
            <a:ext cx="66279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Hardware consid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060640" y="2773440"/>
            <a:ext cx="254484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6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CP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6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Mem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6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Dis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52440" y="304920"/>
            <a:ext cx="71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084320" y="762120"/>
            <a:ext cx="717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168640" y="2163600"/>
            <a:ext cx="50115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Old Italian Proverb 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389240" y="457200"/>
            <a:ext cx="717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525680" y="1859040"/>
            <a:ext cx="66279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Hardware consid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365200" y="2697120"/>
            <a:ext cx="254484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6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CP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6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Mem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6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Dis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709720" y="4541760"/>
            <a:ext cx="28717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ultiple di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084320" y="380880"/>
            <a:ext cx="717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525680" y="1859040"/>
            <a:ext cx="66279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Hardware consid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365200" y="2697120"/>
            <a:ext cx="254484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6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CP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6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Mem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6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Dis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709720" y="4541760"/>
            <a:ext cx="28717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ultiple di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922480" y="5075280"/>
            <a:ext cx="4384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atabase and logs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ifferent di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008000" y="457200"/>
            <a:ext cx="717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525680" y="1859040"/>
            <a:ext cx="66279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Hardware consid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365200" y="2697120"/>
            <a:ext cx="254484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6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CP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6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Mem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6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Dis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709720" y="4541760"/>
            <a:ext cx="39322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ultiple di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ultiple controll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008000" y="457200"/>
            <a:ext cx="717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44440" y="1859040"/>
            <a:ext cx="66279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Hardware consid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984320" y="2697120"/>
            <a:ext cx="254484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6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CP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6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Mem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6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Dis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328840" y="4541760"/>
            <a:ext cx="6189840" cy="15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ultiple di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ultiple controll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ultiple I/O threads (parti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55720" y="457200"/>
            <a:ext cx="717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992160" y="1859040"/>
            <a:ext cx="66279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Hardware consid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832040" y="2697120"/>
            <a:ext cx="254484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6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CP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6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Mem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6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Dis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6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B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932040" y="533520"/>
            <a:ext cx="717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068480" y="1935000"/>
            <a:ext cx="66279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Hardware consid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908000" y="2773440"/>
            <a:ext cx="254484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6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CP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6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Mem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6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Dis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6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B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720880" y="5227560"/>
            <a:ext cx="11336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EI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779400" y="457200"/>
            <a:ext cx="717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915840" y="1859040"/>
            <a:ext cx="66279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Hardware consid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755720" y="2697120"/>
            <a:ext cx="254484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6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CP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6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Mem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6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Dis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6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B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568600" y="5151600"/>
            <a:ext cx="2308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EI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isk cac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932040" y="457200"/>
            <a:ext cx="717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2840" y="2163600"/>
            <a:ext cx="908352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Database design consid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Multi-user issu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Application design consid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Hardware consid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Specific tips for specific situ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932040" y="457200"/>
            <a:ext cx="717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9360" y="1782720"/>
            <a:ext cx="89424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Specific tips for specific situ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92120" y="2620800"/>
            <a:ext cx="79754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Non-interactive access (BATC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98600" y="3306600"/>
            <a:ext cx="45943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7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BULK EXECU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389240" y="457200"/>
            <a:ext cx="717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62000" y="1782720"/>
            <a:ext cx="89424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Specific tips for specific situ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68440" y="2620800"/>
            <a:ext cx="79754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Non-interactive access (BATC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398600" y="3382920"/>
            <a:ext cx="583560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7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BULK EXECU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7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Multiple workst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52440" y="304920"/>
            <a:ext cx="71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08000" y="609480"/>
            <a:ext cx="717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092320" y="2011320"/>
            <a:ext cx="50115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Old Italian Proverb 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895400" y="3002040"/>
            <a:ext cx="54054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Water flows downhill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855720" y="457200"/>
            <a:ext cx="717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62000" y="1782720"/>
            <a:ext cx="89424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Specific tips for specific situ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44400" y="2620800"/>
            <a:ext cx="79754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Non-interactive access (BATC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779480" y="3382920"/>
            <a:ext cx="583560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7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BULK EXECU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7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Multiple workst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7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RECOVERY OF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008000" y="457200"/>
            <a:ext cx="717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85680" y="1706400"/>
            <a:ext cx="89424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Specific tips for specific situ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93720" y="2544840"/>
            <a:ext cx="79754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440"/>
              </a:spcAf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Non-interactive access (BATC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40"/>
              </a:spcAf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Buffer siz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31640" y="1600200"/>
            <a:ext cx="8077320" cy="23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127160" y="3763800"/>
            <a:ext cx="667692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- Rick Greenwald, Manag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Technology Partn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Gupta Corpo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252440" y="304920"/>
            <a:ext cx="71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008000" y="685800"/>
            <a:ext cx="717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092320" y="2087640"/>
            <a:ext cx="50115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Old Italian Proverb 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895400" y="3078000"/>
            <a:ext cx="540540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Water flows downhill;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Fire climbs uphil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52440" y="304920"/>
            <a:ext cx="71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08000" y="457200"/>
            <a:ext cx="717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092320" y="1859040"/>
            <a:ext cx="50115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Old Italian Proverb 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895400" y="2849400"/>
            <a:ext cx="540540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Water flows downhill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Fire climbs uphil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07920" y="4525920"/>
            <a:ext cx="73803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For best results, start with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the water at the top of the hil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023840" y="304920"/>
            <a:ext cx="7180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050840" y="2011320"/>
            <a:ext cx="7445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base design consid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252440" y="304920"/>
            <a:ext cx="7180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d1c1"/>
                </a:solidFill>
                <a:latin typeface="Arial"/>
                <a:ea typeface="Arial"/>
              </a:rPr>
              <a:t>Achieving Optimal Performance with SQL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15800" y="1554120"/>
            <a:ext cx="84916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Symbol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Database design consid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251000" y="2300400"/>
            <a:ext cx="321156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20000"/>
              </a:lnSpc>
              <a:buClr>
                <a:srgbClr val="000000"/>
              </a:buClr>
              <a:buSzPct val="70000"/>
              <a:buFont typeface="Wingdings"/>
              <a:buChar char=""/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Normaliz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