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6858000" cy="10287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42720" y="552312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35053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242964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16560" y="240696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34272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242964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4516560" y="5523120"/>
            <a:ext cx="198720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342720" y="410400"/>
            <a:ext cx="6171840" cy="796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505320" y="552312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427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505320" y="2406960"/>
            <a:ext cx="301176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342720" y="5523120"/>
            <a:ext cx="6171840" cy="28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714680" y="1714680"/>
            <a:ext cx="10274400" cy="6845400"/>
          </a:xfrm>
          <a:prstGeom prst="rect">
            <a:avLst/>
          </a:prstGeom>
          <a:solidFill>
            <a:srgbClr val="7504a0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-1274760" y="2076480"/>
            <a:ext cx="9317160" cy="6111720"/>
          </a:xfrm>
          <a:prstGeom prst="rect">
            <a:avLst/>
          </a:prstGeom>
          <a:solidFill>
            <a:srgbClr val="6792f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560760" y="2314440"/>
            <a:ext cx="2519640" cy="5459760"/>
          </a:xfrm>
          <a:custGeom>
            <a:avLst/>
            <a:gdLst/>
            <a:ahLst/>
            <a:rect l="0" t="0" r="r" b="b"/>
            <a:pathLst>
              <a:path w="6999" h="15166">
                <a:moveTo>
                  <a:pt x="0" y="0"/>
                </a:moveTo>
                <a:lnTo>
                  <a:pt x="249" y="95"/>
                </a:lnTo>
                <a:lnTo>
                  <a:pt x="449" y="143"/>
                </a:lnTo>
                <a:lnTo>
                  <a:pt x="649" y="95"/>
                </a:lnTo>
                <a:lnTo>
                  <a:pt x="849" y="239"/>
                </a:lnTo>
                <a:lnTo>
                  <a:pt x="1049" y="335"/>
                </a:lnTo>
                <a:lnTo>
                  <a:pt x="1249" y="431"/>
                </a:lnTo>
                <a:lnTo>
                  <a:pt x="1449" y="623"/>
                </a:lnTo>
                <a:lnTo>
                  <a:pt x="1649" y="767"/>
                </a:lnTo>
                <a:lnTo>
                  <a:pt x="1699" y="959"/>
                </a:lnTo>
                <a:lnTo>
                  <a:pt x="1699" y="1151"/>
                </a:lnTo>
                <a:lnTo>
                  <a:pt x="1899" y="1343"/>
                </a:lnTo>
                <a:lnTo>
                  <a:pt x="2049" y="1535"/>
                </a:lnTo>
                <a:lnTo>
                  <a:pt x="2049" y="1775"/>
                </a:lnTo>
                <a:lnTo>
                  <a:pt x="2199" y="1967"/>
                </a:lnTo>
                <a:lnTo>
                  <a:pt x="2299" y="2159"/>
                </a:lnTo>
                <a:lnTo>
                  <a:pt x="2249" y="2543"/>
                </a:lnTo>
                <a:lnTo>
                  <a:pt x="2249" y="2735"/>
                </a:lnTo>
                <a:lnTo>
                  <a:pt x="2349" y="2927"/>
                </a:lnTo>
                <a:lnTo>
                  <a:pt x="2399" y="3119"/>
                </a:lnTo>
                <a:lnTo>
                  <a:pt x="2449" y="3311"/>
                </a:lnTo>
                <a:lnTo>
                  <a:pt x="2449" y="3503"/>
                </a:lnTo>
                <a:lnTo>
                  <a:pt x="2449" y="3695"/>
                </a:lnTo>
                <a:lnTo>
                  <a:pt x="2449" y="3887"/>
                </a:lnTo>
                <a:lnTo>
                  <a:pt x="2449" y="4079"/>
                </a:lnTo>
                <a:lnTo>
                  <a:pt x="2499" y="4271"/>
                </a:lnTo>
                <a:lnTo>
                  <a:pt x="2399" y="4463"/>
                </a:lnTo>
                <a:lnTo>
                  <a:pt x="2349" y="4655"/>
                </a:lnTo>
                <a:lnTo>
                  <a:pt x="2349" y="4847"/>
                </a:lnTo>
                <a:lnTo>
                  <a:pt x="2349" y="5039"/>
                </a:lnTo>
                <a:lnTo>
                  <a:pt x="2399" y="5230"/>
                </a:lnTo>
                <a:lnTo>
                  <a:pt x="2399" y="5422"/>
                </a:lnTo>
                <a:lnTo>
                  <a:pt x="2299" y="5662"/>
                </a:lnTo>
                <a:lnTo>
                  <a:pt x="2249" y="5854"/>
                </a:lnTo>
                <a:lnTo>
                  <a:pt x="2249" y="6094"/>
                </a:lnTo>
                <a:lnTo>
                  <a:pt x="2149" y="6286"/>
                </a:lnTo>
                <a:lnTo>
                  <a:pt x="1999" y="6478"/>
                </a:lnTo>
                <a:lnTo>
                  <a:pt x="1899" y="6670"/>
                </a:lnTo>
                <a:lnTo>
                  <a:pt x="1899" y="6862"/>
                </a:lnTo>
                <a:lnTo>
                  <a:pt x="1899" y="7054"/>
                </a:lnTo>
                <a:lnTo>
                  <a:pt x="1799" y="7246"/>
                </a:lnTo>
                <a:lnTo>
                  <a:pt x="1749" y="7438"/>
                </a:lnTo>
                <a:lnTo>
                  <a:pt x="1799" y="7631"/>
                </a:lnTo>
                <a:lnTo>
                  <a:pt x="1899" y="7871"/>
                </a:lnTo>
                <a:lnTo>
                  <a:pt x="2199" y="7919"/>
                </a:lnTo>
                <a:lnTo>
                  <a:pt x="2299" y="8159"/>
                </a:lnTo>
                <a:lnTo>
                  <a:pt x="2399" y="8351"/>
                </a:lnTo>
                <a:lnTo>
                  <a:pt x="2449" y="8543"/>
                </a:lnTo>
                <a:lnTo>
                  <a:pt x="2449" y="8735"/>
                </a:lnTo>
                <a:lnTo>
                  <a:pt x="2599" y="8927"/>
                </a:lnTo>
                <a:lnTo>
                  <a:pt x="2599" y="9119"/>
                </a:lnTo>
                <a:lnTo>
                  <a:pt x="2699" y="9359"/>
                </a:lnTo>
                <a:lnTo>
                  <a:pt x="2899" y="9503"/>
                </a:lnTo>
                <a:lnTo>
                  <a:pt x="3049" y="9695"/>
                </a:lnTo>
                <a:lnTo>
                  <a:pt x="3099" y="10031"/>
                </a:lnTo>
                <a:lnTo>
                  <a:pt x="3399" y="10079"/>
                </a:lnTo>
                <a:lnTo>
                  <a:pt x="3500" y="10366"/>
                </a:lnTo>
                <a:lnTo>
                  <a:pt x="3700" y="10558"/>
                </a:lnTo>
                <a:lnTo>
                  <a:pt x="3900" y="10750"/>
                </a:lnTo>
                <a:lnTo>
                  <a:pt x="4149" y="10894"/>
                </a:lnTo>
                <a:lnTo>
                  <a:pt x="4349" y="11086"/>
                </a:lnTo>
                <a:lnTo>
                  <a:pt x="4449" y="11326"/>
                </a:lnTo>
                <a:lnTo>
                  <a:pt x="4699" y="11518"/>
                </a:lnTo>
                <a:lnTo>
                  <a:pt x="4949" y="11614"/>
                </a:lnTo>
                <a:lnTo>
                  <a:pt x="5099" y="11806"/>
                </a:lnTo>
                <a:lnTo>
                  <a:pt x="5349" y="11998"/>
                </a:lnTo>
                <a:lnTo>
                  <a:pt x="5499" y="12190"/>
                </a:lnTo>
                <a:lnTo>
                  <a:pt x="5599" y="12382"/>
                </a:lnTo>
                <a:lnTo>
                  <a:pt x="5749" y="12574"/>
                </a:lnTo>
                <a:lnTo>
                  <a:pt x="5899" y="12814"/>
                </a:lnTo>
                <a:lnTo>
                  <a:pt x="6099" y="13006"/>
                </a:lnTo>
                <a:lnTo>
                  <a:pt x="6299" y="13246"/>
                </a:lnTo>
                <a:lnTo>
                  <a:pt x="6349" y="13486"/>
                </a:lnTo>
                <a:lnTo>
                  <a:pt x="6399" y="13726"/>
                </a:lnTo>
                <a:lnTo>
                  <a:pt x="6549" y="13918"/>
                </a:lnTo>
                <a:lnTo>
                  <a:pt x="6699" y="14158"/>
                </a:lnTo>
                <a:lnTo>
                  <a:pt x="6749" y="14398"/>
                </a:lnTo>
                <a:lnTo>
                  <a:pt x="6799" y="14590"/>
                </a:lnTo>
                <a:lnTo>
                  <a:pt x="6899" y="14782"/>
                </a:lnTo>
                <a:lnTo>
                  <a:pt x="6949" y="14974"/>
                </a:lnTo>
                <a:lnTo>
                  <a:pt x="6949" y="15166"/>
                </a:lnTo>
                <a:lnTo>
                  <a:pt x="6949" y="14638"/>
                </a:lnTo>
                <a:lnTo>
                  <a:pt x="6999" y="14254"/>
                </a:lnTo>
                <a:lnTo>
                  <a:pt x="6999" y="13870"/>
                </a:lnTo>
                <a:lnTo>
                  <a:pt x="6999" y="13678"/>
                </a:lnTo>
                <a:lnTo>
                  <a:pt x="6849" y="13486"/>
                </a:lnTo>
                <a:lnTo>
                  <a:pt x="6649" y="13486"/>
                </a:lnTo>
                <a:lnTo>
                  <a:pt x="6499" y="13150"/>
                </a:lnTo>
                <a:lnTo>
                  <a:pt x="6449" y="12958"/>
                </a:lnTo>
                <a:lnTo>
                  <a:pt x="6249" y="12622"/>
                </a:lnTo>
                <a:lnTo>
                  <a:pt x="6149" y="12430"/>
                </a:lnTo>
                <a:lnTo>
                  <a:pt x="5849" y="12142"/>
                </a:lnTo>
                <a:lnTo>
                  <a:pt x="5449" y="11998"/>
                </a:lnTo>
                <a:lnTo>
                  <a:pt x="5149" y="11998"/>
                </a:lnTo>
                <a:lnTo>
                  <a:pt x="4999" y="11374"/>
                </a:lnTo>
                <a:lnTo>
                  <a:pt x="4949" y="11086"/>
                </a:lnTo>
                <a:lnTo>
                  <a:pt x="4799" y="10894"/>
                </a:lnTo>
                <a:lnTo>
                  <a:pt x="4399" y="10846"/>
                </a:lnTo>
                <a:lnTo>
                  <a:pt x="3999" y="10798"/>
                </a:lnTo>
                <a:lnTo>
                  <a:pt x="3800" y="10750"/>
                </a:lnTo>
                <a:lnTo>
                  <a:pt x="3750" y="10366"/>
                </a:lnTo>
                <a:lnTo>
                  <a:pt x="3650" y="10175"/>
                </a:lnTo>
                <a:lnTo>
                  <a:pt x="3550" y="9935"/>
                </a:lnTo>
                <a:lnTo>
                  <a:pt x="3349" y="9743"/>
                </a:lnTo>
                <a:lnTo>
                  <a:pt x="3149" y="9647"/>
                </a:lnTo>
                <a:lnTo>
                  <a:pt x="2749" y="9263"/>
                </a:lnTo>
                <a:lnTo>
                  <a:pt x="2649" y="9071"/>
                </a:lnTo>
                <a:lnTo>
                  <a:pt x="2649" y="8639"/>
                </a:lnTo>
                <a:lnTo>
                  <a:pt x="2599" y="8351"/>
                </a:lnTo>
                <a:lnTo>
                  <a:pt x="2449" y="8111"/>
                </a:lnTo>
                <a:lnTo>
                  <a:pt x="2199" y="7871"/>
                </a:lnTo>
                <a:lnTo>
                  <a:pt x="2049" y="7679"/>
                </a:lnTo>
                <a:lnTo>
                  <a:pt x="1949" y="7438"/>
                </a:lnTo>
                <a:lnTo>
                  <a:pt x="1999" y="7198"/>
                </a:lnTo>
                <a:lnTo>
                  <a:pt x="1999" y="7006"/>
                </a:lnTo>
                <a:lnTo>
                  <a:pt x="2049" y="6814"/>
                </a:lnTo>
                <a:lnTo>
                  <a:pt x="2149" y="6574"/>
                </a:lnTo>
                <a:lnTo>
                  <a:pt x="2149" y="6382"/>
                </a:lnTo>
                <a:lnTo>
                  <a:pt x="2299" y="6142"/>
                </a:lnTo>
                <a:lnTo>
                  <a:pt x="2399" y="5950"/>
                </a:lnTo>
                <a:lnTo>
                  <a:pt x="2449" y="5710"/>
                </a:lnTo>
                <a:lnTo>
                  <a:pt x="2449" y="5518"/>
                </a:lnTo>
                <a:lnTo>
                  <a:pt x="2399" y="5326"/>
                </a:lnTo>
                <a:lnTo>
                  <a:pt x="2449" y="5134"/>
                </a:lnTo>
                <a:lnTo>
                  <a:pt x="2599" y="4703"/>
                </a:lnTo>
                <a:lnTo>
                  <a:pt x="2599" y="4511"/>
                </a:lnTo>
                <a:lnTo>
                  <a:pt x="2599" y="4127"/>
                </a:lnTo>
                <a:lnTo>
                  <a:pt x="2599" y="3839"/>
                </a:lnTo>
                <a:lnTo>
                  <a:pt x="2549" y="3551"/>
                </a:lnTo>
                <a:lnTo>
                  <a:pt x="2599" y="3359"/>
                </a:lnTo>
                <a:lnTo>
                  <a:pt x="2699" y="3119"/>
                </a:lnTo>
                <a:lnTo>
                  <a:pt x="2649" y="2831"/>
                </a:lnTo>
                <a:lnTo>
                  <a:pt x="2599" y="2639"/>
                </a:lnTo>
                <a:lnTo>
                  <a:pt x="2549" y="2447"/>
                </a:lnTo>
                <a:lnTo>
                  <a:pt x="2749" y="2303"/>
                </a:lnTo>
                <a:lnTo>
                  <a:pt x="2899" y="2111"/>
                </a:lnTo>
                <a:lnTo>
                  <a:pt x="2949" y="1919"/>
                </a:lnTo>
                <a:lnTo>
                  <a:pt x="3299" y="1727"/>
                </a:lnTo>
                <a:lnTo>
                  <a:pt x="3600" y="1343"/>
                </a:lnTo>
                <a:lnTo>
                  <a:pt x="3900" y="1055"/>
                </a:lnTo>
                <a:lnTo>
                  <a:pt x="4099" y="959"/>
                </a:lnTo>
                <a:lnTo>
                  <a:pt x="4249" y="767"/>
                </a:lnTo>
                <a:lnTo>
                  <a:pt x="4249" y="575"/>
                </a:lnTo>
                <a:lnTo>
                  <a:pt x="4349" y="335"/>
                </a:lnTo>
                <a:lnTo>
                  <a:pt x="4549" y="191"/>
                </a:lnTo>
                <a:lnTo>
                  <a:pt x="4749" y="0"/>
                </a:lnTo>
                <a:lnTo>
                  <a:pt x="4549" y="47"/>
                </a:lnTo>
                <a:lnTo>
                  <a:pt x="4249" y="95"/>
                </a:lnTo>
                <a:lnTo>
                  <a:pt x="3950" y="191"/>
                </a:lnTo>
                <a:lnTo>
                  <a:pt x="3800" y="383"/>
                </a:lnTo>
                <a:lnTo>
                  <a:pt x="3850" y="575"/>
                </a:lnTo>
                <a:lnTo>
                  <a:pt x="3750" y="767"/>
                </a:lnTo>
                <a:lnTo>
                  <a:pt x="3750" y="959"/>
                </a:lnTo>
                <a:lnTo>
                  <a:pt x="4099" y="1007"/>
                </a:lnTo>
                <a:lnTo>
                  <a:pt x="3900" y="1199"/>
                </a:lnTo>
                <a:lnTo>
                  <a:pt x="3700" y="1343"/>
                </a:lnTo>
                <a:lnTo>
                  <a:pt x="3500" y="1535"/>
                </a:lnTo>
                <a:lnTo>
                  <a:pt x="3299" y="1871"/>
                </a:lnTo>
                <a:lnTo>
                  <a:pt x="3099" y="1919"/>
                </a:lnTo>
                <a:lnTo>
                  <a:pt x="2899" y="2063"/>
                </a:lnTo>
                <a:lnTo>
                  <a:pt x="2699" y="2111"/>
                </a:lnTo>
                <a:lnTo>
                  <a:pt x="2649" y="2303"/>
                </a:lnTo>
                <a:lnTo>
                  <a:pt x="2649" y="2495"/>
                </a:lnTo>
                <a:lnTo>
                  <a:pt x="2449" y="2735"/>
                </a:lnTo>
                <a:lnTo>
                  <a:pt x="2399" y="2927"/>
                </a:lnTo>
                <a:lnTo>
                  <a:pt x="2399" y="3119"/>
                </a:lnTo>
                <a:lnTo>
                  <a:pt x="2399" y="2735"/>
                </a:lnTo>
                <a:lnTo>
                  <a:pt x="2349" y="2255"/>
                </a:lnTo>
                <a:lnTo>
                  <a:pt x="2299" y="1967"/>
                </a:lnTo>
                <a:lnTo>
                  <a:pt x="2249" y="1775"/>
                </a:lnTo>
                <a:lnTo>
                  <a:pt x="2199" y="1535"/>
                </a:lnTo>
                <a:lnTo>
                  <a:pt x="2049" y="1343"/>
                </a:lnTo>
                <a:lnTo>
                  <a:pt x="1899" y="1151"/>
                </a:lnTo>
                <a:lnTo>
                  <a:pt x="1899" y="959"/>
                </a:lnTo>
                <a:lnTo>
                  <a:pt x="1749" y="767"/>
                </a:lnTo>
                <a:lnTo>
                  <a:pt x="1549" y="623"/>
                </a:lnTo>
                <a:lnTo>
                  <a:pt x="1499" y="431"/>
                </a:lnTo>
                <a:lnTo>
                  <a:pt x="1299" y="335"/>
                </a:lnTo>
                <a:lnTo>
                  <a:pt x="1099" y="335"/>
                </a:lnTo>
                <a:lnTo>
                  <a:pt x="899" y="143"/>
                </a:lnTo>
                <a:lnTo>
                  <a:pt x="699" y="47"/>
                </a:lnTo>
                <a:lnTo>
                  <a:pt x="499" y="0"/>
                </a:lnTo>
                <a:lnTo>
                  <a:pt x="299" y="47"/>
                </a:lnTo>
                <a:lnTo>
                  <a:pt x="99" y="47"/>
                </a:lnTo>
                <a:lnTo>
                  <a:pt x="0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-868320" y="7135920"/>
            <a:ext cx="3508560" cy="776520"/>
          </a:xfrm>
          <a:custGeom>
            <a:avLst/>
            <a:gdLst/>
            <a:ahLst/>
            <a:rect l="0" t="0" r="r" b="b"/>
            <a:pathLst>
              <a:path w="9746" h="2157">
                <a:moveTo>
                  <a:pt x="0" y="0"/>
                </a:moveTo>
                <a:lnTo>
                  <a:pt x="199" y="191"/>
                </a:lnTo>
                <a:lnTo>
                  <a:pt x="399" y="287"/>
                </a:lnTo>
                <a:lnTo>
                  <a:pt x="699" y="287"/>
                </a:lnTo>
                <a:lnTo>
                  <a:pt x="899" y="335"/>
                </a:lnTo>
                <a:lnTo>
                  <a:pt x="1149" y="335"/>
                </a:lnTo>
                <a:lnTo>
                  <a:pt x="1349" y="479"/>
                </a:lnTo>
                <a:lnTo>
                  <a:pt x="1799" y="575"/>
                </a:lnTo>
                <a:lnTo>
                  <a:pt x="2198" y="575"/>
                </a:lnTo>
                <a:lnTo>
                  <a:pt x="2498" y="575"/>
                </a:lnTo>
                <a:lnTo>
                  <a:pt x="2698" y="575"/>
                </a:lnTo>
                <a:lnTo>
                  <a:pt x="2998" y="622"/>
                </a:lnTo>
                <a:lnTo>
                  <a:pt x="3298" y="670"/>
                </a:lnTo>
                <a:lnTo>
                  <a:pt x="3498" y="862"/>
                </a:lnTo>
                <a:lnTo>
                  <a:pt x="3598" y="1054"/>
                </a:lnTo>
                <a:lnTo>
                  <a:pt x="3798" y="1103"/>
                </a:lnTo>
                <a:lnTo>
                  <a:pt x="4048" y="1103"/>
                </a:lnTo>
                <a:lnTo>
                  <a:pt x="4497" y="1151"/>
                </a:lnTo>
                <a:lnTo>
                  <a:pt x="4797" y="1103"/>
                </a:lnTo>
                <a:lnTo>
                  <a:pt x="4998" y="1151"/>
                </a:lnTo>
                <a:lnTo>
                  <a:pt x="5298" y="1151"/>
                </a:lnTo>
                <a:lnTo>
                  <a:pt x="5698" y="1103"/>
                </a:lnTo>
                <a:lnTo>
                  <a:pt x="5898" y="1151"/>
                </a:lnTo>
                <a:lnTo>
                  <a:pt x="6048" y="1342"/>
                </a:lnTo>
                <a:lnTo>
                  <a:pt x="6248" y="1438"/>
                </a:lnTo>
                <a:lnTo>
                  <a:pt x="6448" y="1390"/>
                </a:lnTo>
                <a:lnTo>
                  <a:pt x="6647" y="1534"/>
                </a:lnTo>
                <a:lnTo>
                  <a:pt x="6847" y="1678"/>
                </a:lnTo>
                <a:lnTo>
                  <a:pt x="7047" y="1774"/>
                </a:lnTo>
                <a:lnTo>
                  <a:pt x="7247" y="1869"/>
                </a:lnTo>
                <a:lnTo>
                  <a:pt x="7447" y="1965"/>
                </a:lnTo>
                <a:lnTo>
                  <a:pt x="7647" y="1965"/>
                </a:lnTo>
                <a:lnTo>
                  <a:pt x="8047" y="1965"/>
                </a:lnTo>
                <a:lnTo>
                  <a:pt x="8247" y="1965"/>
                </a:lnTo>
                <a:lnTo>
                  <a:pt x="8497" y="2013"/>
                </a:lnTo>
                <a:lnTo>
                  <a:pt x="8696" y="2013"/>
                </a:lnTo>
                <a:lnTo>
                  <a:pt x="9146" y="2013"/>
                </a:lnTo>
                <a:lnTo>
                  <a:pt x="9346" y="2061"/>
                </a:lnTo>
                <a:lnTo>
                  <a:pt x="9546" y="2157"/>
                </a:lnTo>
                <a:lnTo>
                  <a:pt x="9746" y="2157"/>
                </a:lnTo>
                <a:lnTo>
                  <a:pt x="9496" y="2061"/>
                </a:lnTo>
                <a:lnTo>
                  <a:pt x="9246" y="2061"/>
                </a:lnTo>
                <a:lnTo>
                  <a:pt x="9046" y="1965"/>
                </a:lnTo>
                <a:lnTo>
                  <a:pt x="8846" y="1965"/>
                </a:lnTo>
                <a:lnTo>
                  <a:pt x="8646" y="1965"/>
                </a:lnTo>
                <a:lnTo>
                  <a:pt x="8397" y="1965"/>
                </a:lnTo>
                <a:lnTo>
                  <a:pt x="8197" y="1821"/>
                </a:lnTo>
                <a:lnTo>
                  <a:pt x="7997" y="1774"/>
                </a:lnTo>
                <a:lnTo>
                  <a:pt x="7797" y="1774"/>
                </a:lnTo>
                <a:lnTo>
                  <a:pt x="7597" y="1821"/>
                </a:lnTo>
                <a:lnTo>
                  <a:pt x="7397" y="1774"/>
                </a:lnTo>
                <a:lnTo>
                  <a:pt x="7197" y="1630"/>
                </a:lnTo>
                <a:lnTo>
                  <a:pt x="6997" y="1534"/>
                </a:lnTo>
                <a:lnTo>
                  <a:pt x="6797" y="1534"/>
                </a:lnTo>
                <a:lnTo>
                  <a:pt x="6597" y="1342"/>
                </a:lnTo>
                <a:lnTo>
                  <a:pt x="6398" y="1198"/>
                </a:lnTo>
                <a:lnTo>
                  <a:pt x="6198" y="1151"/>
                </a:lnTo>
                <a:lnTo>
                  <a:pt x="5998" y="1246"/>
                </a:lnTo>
                <a:lnTo>
                  <a:pt x="5598" y="862"/>
                </a:lnTo>
                <a:lnTo>
                  <a:pt x="5198" y="575"/>
                </a:lnTo>
                <a:lnTo>
                  <a:pt x="4998" y="527"/>
                </a:lnTo>
                <a:lnTo>
                  <a:pt x="4597" y="575"/>
                </a:lnTo>
                <a:lnTo>
                  <a:pt x="4547" y="814"/>
                </a:lnTo>
                <a:lnTo>
                  <a:pt x="4397" y="1006"/>
                </a:lnTo>
                <a:lnTo>
                  <a:pt x="4198" y="1054"/>
                </a:lnTo>
                <a:lnTo>
                  <a:pt x="3998" y="1006"/>
                </a:lnTo>
                <a:lnTo>
                  <a:pt x="3798" y="910"/>
                </a:lnTo>
                <a:lnTo>
                  <a:pt x="3598" y="862"/>
                </a:lnTo>
                <a:lnTo>
                  <a:pt x="3348" y="670"/>
                </a:lnTo>
                <a:lnTo>
                  <a:pt x="3098" y="670"/>
                </a:lnTo>
                <a:lnTo>
                  <a:pt x="2898" y="622"/>
                </a:lnTo>
                <a:lnTo>
                  <a:pt x="2698" y="479"/>
                </a:lnTo>
                <a:lnTo>
                  <a:pt x="2398" y="479"/>
                </a:lnTo>
                <a:lnTo>
                  <a:pt x="2198" y="479"/>
                </a:lnTo>
                <a:lnTo>
                  <a:pt x="1999" y="479"/>
                </a:lnTo>
                <a:lnTo>
                  <a:pt x="1749" y="335"/>
                </a:lnTo>
                <a:lnTo>
                  <a:pt x="1549" y="287"/>
                </a:lnTo>
                <a:lnTo>
                  <a:pt x="1299" y="383"/>
                </a:lnTo>
                <a:lnTo>
                  <a:pt x="1099" y="383"/>
                </a:lnTo>
                <a:lnTo>
                  <a:pt x="899" y="191"/>
                </a:lnTo>
                <a:lnTo>
                  <a:pt x="699" y="143"/>
                </a:lnTo>
                <a:lnTo>
                  <a:pt x="499" y="143"/>
                </a:lnTo>
                <a:lnTo>
                  <a:pt x="299" y="191"/>
                </a:lnTo>
                <a:lnTo>
                  <a:pt x="99" y="47"/>
                </a:lnTo>
                <a:lnTo>
                  <a:pt x="0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114960" y="2071800"/>
            <a:ext cx="1943640" cy="2797560"/>
          </a:xfrm>
          <a:custGeom>
            <a:avLst/>
            <a:gdLst/>
            <a:ahLst/>
            <a:rect l="0" t="0" r="r" b="b"/>
            <a:pathLst>
              <a:path w="5399" h="7771">
                <a:moveTo>
                  <a:pt x="5382" y="0"/>
                </a:moveTo>
                <a:lnTo>
                  <a:pt x="5068" y="335"/>
                </a:lnTo>
                <a:lnTo>
                  <a:pt x="4859" y="479"/>
                </a:lnTo>
                <a:lnTo>
                  <a:pt x="4703" y="671"/>
                </a:lnTo>
                <a:lnTo>
                  <a:pt x="4494" y="575"/>
                </a:lnTo>
                <a:lnTo>
                  <a:pt x="4285" y="575"/>
                </a:lnTo>
                <a:lnTo>
                  <a:pt x="4076" y="575"/>
                </a:lnTo>
                <a:lnTo>
                  <a:pt x="3866" y="671"/>
                </a:lnTo>
                <a:lnTo>
                  <a:pt x="3761" y="863"/>
                </a:lnTo>
                <a:lnTo>
                  <a:pt x="3552" y="1007"/>
                </a:lnTo>
                <a:lnTo>
                  <a:pt x="3343" y="1007"/>
                </a:lnTo>
                <a:lnTo>
                  <a:pt x="3135" y="1103"/>
                </a:lnTo>
                <a:lnTo>
                  <a:pt x="2926" y="1247"/>
                </a:lnTo>
                <a:lnTo>
                  <a:pt x="2717" y="1247"/>
                </a:lnTo>
                <a:lnTo>
                  <a:pt x="2508" y="1342"/>
                </a:lnTo>
                <a:lnTo>
                  <a:pt x="2299" y="1534"/>
                </a:lnTo>
                <a:lnTo>
                  <a:pt x="2142" y="1726"/>
                </a:lnTo>
                <a:lnTo>
                  <a:pt x="1985" y="1918"/>
                </a:lnTo>
                <a:lnTo>
                  <a:pt x="1776" y="1967"/>
                </a:lnTo>
                <a:lnTo>
                  <a:pt x="1776" y="2255"/>
                </a:lnTo>
                <a:lnTo>
                  <a:pt x="1724" y="2447"/>
                </a:lnTo>
                <a:lnTo>
                  <a:pt x="1568" y="2638"/>
                </a:lnTo>
                <a:lnTo>
                  <a:pt x="1359" y="2686"/>
                </a:lnTo>
                <a:lnTo>
                  <a:pt x="1149" y="2638"/>
                </a:lnTo>
                <a:lnTo>
                  <a:pt x="940" y="2686"/>
                </a:lnTo>
                <a:lnTo>
                  <a:pt x="731" y="2878"/>
                </a:lnTo>
                <a:lnTo>
                  <a:pt x="522" y="2926"/>
                </a:lnTo>
                <a:lnTo>
                  <a:pt x="313" y="2878"/>
                </a:lnTo>
                <a:lnTo>
                  <a:pt x="104" y="2926"/>
                </a:lnTo>
                <a:lnTo>
                  <a:pt x="0" y="3118"/>
                </a:lnTo>
                <a:lnTo>
                  <a:pt x="208" y="3214"/>
                </a:lnTo>
                <a:lnTo>
                  <a:pt x="417" y="3214"/>
                </a:lnTo>
                <a:lnTo>
                  <a:pt x="626" y="3406"/>
                </a:lnTo>
                <a:lnTo>
                  <a:pt x="731" y="3598"/>
                </a:lnTo>
                <a:lnTo>
                  <a:pt x="940" y="3598"/>
                </a:lnTo>
                <a:lnTo>
                  <a:pt x="1149" y="3598"/>
                </a:lnTo>
                <a:lnTo>
                  <a:pt x="1359" y="3646"/>
                </a:lnTo>
                <a:lnTo>
                  <a:pt x="1568" y="3790"/>
                </a:lnTo>
                <a:lnTo>
                  <a:pt x="1776" y="3981"/>
                </a:lnTo>
                <a:lnTo>
                  <a:pt x="1985" y="4029"/>
                </a:lnTo>
                <a:lnTo>
                  <a:pt x="2194" y="4029"/>
                </a:lnTo>
                <a:lnTo>
                  <a:pt x="2403" y="4029"/>
                </a:lnTo>
                <a:lnTo>
                  <a:pt x="2612" y="4077"/>
                </a:lnTo>
                <a:lnTo>
                  <a:pt x="2717" y="3885"/>
                </a:lnTo>
                <a:lnTo>
                  <a:pt x="2821" y="3694"/>
                </a:lnTo>
                <a:lnTo>
                  <a:pt x="3030" y="3598"/>
                </a:lnTo>
                <a:lnTo>
                  <a:pt x="3187" y="3406"/>
                </a:lnTo>
                <a:lnTo>
                  <a:pt x="3396" y="3454"/>
                </a:lnTo>
                <a:lnTo>
                  <a:pt x="3500" y="3646"/>
                </a:lnTo>
                <a:lnTo>
                  <a:pt x="3657" y="3838"/>
                </a:lnTo>
                <a:lnTo>
                  <a:pt x="3709" y="4029"/>
                </a:lnTo>
                <a:lnTo>
                  <a:pt x="3814" y="4221"/>
                </a:lnTo>
                <a:lnTo>
                  <a:pt x="4023" y="4605"/>
                </a:lnTo>
                <a:lnTo>
                  <a:pt x="4128" y="4797"/>
                </a:lnTo>
                <a:lnTo>
                  <a:pt x="4128" y="4989"/>
                </a:lnTo>
                <a:lnTo>
                  <a:pt x="4389" y="5228"/>
                </a:lnTo>
                <a:lnTo>
                  <a:pt x="4546" y="5420"/>
                </a:lnTo>
                <a:lnTo>
                  <a:pt x="4546" y="5612"/>
                </a:lnTo>
                <a:lnTo>
                  <a:pt x="4598" y="5804"/>
                </a:lnTo>
                <a:lnTo>
                  <a:pt x="4703" y="5997"/>
                </a:lnTo>
                <a:lnTo>
                  <a:pt x="4755" y="6189"/>
                </a:lnTo>
                <a:lnTo>
                  <a:pt x="4755" y="6381"/>
                </a:lnTo>
                <a:lnTo>
                  <a:pt x="4755" y="6572"/>
                </a:lnTo>
                <a:lnTo>
                  <a:pt x="4964" y="6764"/>
                </a:lnTo>
                <a:lnTo>
                  <a:pt x="5068" y="6956"/>
                </a:lnTo>
                <a:lnTo>
                  <a:pt x="5068" y="7148"/>
                </a:lnTo>
                <a:lnTo>
                  <a:pt x="5277" y="7340"/>
                </a:lnTo>
                <a:lnTo>
                  <a:pt x="5277" y="7532"/>
                </a:lnTo>
                <a:lnTo>
                  <a:pt x="5382" y="7707"/>
                </a:lnTo>
                <a:lnTo>
                  <a:pt x="5399" y="7771"/>
                </a:lnTo>
                <a:lnTo>
                  <a:pt x="5382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-1131840" y="3660840"/>
            <a:ext cx="8717400" cy="2225880"/>
          </a:xfrm>
          <a:custGeom>
            <a:avLst/>
            <a:gdLst/>
            <a:ahLst/>
            <a:rect l="0" t="0" r="r" b="b"/>
            <a:pathLst>
              <a:path w="24215" h="6183">
                <a:moveTo>
                  <a:pt x="0" y="0"/>
                </a:moveTo>
                <a:lnTo>
                  <a:pt x="200" y="95"/>
                </a:lnTo>
                <a:lnTo>
                  <a:pt x="400" y="143"/>
                </a:lnTo>
                <a:lnTo>
                  <a:pt x="600" y="47"/>
                </a:lnTo>
                <a:lnTo>
                  <a:pt x="750" y="239"/>
                </a:lnTo>
                <a:lnTo>
                  <a:pt x="950" y="335"/>
                </a:lnTo>
                <a:lnTo>
                  <a:pt x="1100" y="527"/>
                </a:lnTo>
                <a:lnTo>
                  <a:pt x="1200" y="718"/>
                </a:lnTo>
                <a:lnTo>
                  <a:pt x="1250" y="910"/>
                </a:lnTo>
                <a:lnTo>
                  <a:pt x="1400" y="1102"/>
                </a:lnTo>
                <a:lnTo>
                  <a:pt x="1600" y="1198"/>
                </a:lnTo>
                <a:lnTo>
                  <a:pt x="1801" y="1198"/>
                </a:lnTo>
                <a:lnTo>
                  <a:pt x="2001" y="1102"/>
                </a:lnTo>
                <a:lnTo>
                  <a:pt x="2401" y="1102"/>
                </a:lnTo>
                <a:lnTo>
                  <a:pt x="2601" y="1150"/>
                </a:lnTo>
                <a:lnTo>
                  <a:pt x="2801" y="1341"/>
                </a:lnTo>
                <a:lnTo>
                  <a:pt x="2951" y="1533"/>
                </a:lnTo>
                <a:lnTo>
                  <a:pt x="3151" y="1677"/>
                </a:lnTo>
                <a:lnTo>
                  <a:pt x="3301" y="1869"/>
                </a:lnTo>
                <a:lnTo>
                  <a:pt x="3401" y="2060"/>
                </a:lnTo>
                <a:lnTo>
                  <a:pt x="3401" y="2252"/>
                </a:lnTo>
                <a:lnTo>
                  <a:pt x="3401" y="2444"/>
                </a:lnTo>
                <a:lnTo>
                  <a:pt x="3501" y="2683"/>
                </a:lnTo>
                <a:lnTo>
                  <a:pt x="3602" y="2923"/>
                </a:lnTo>
                <a:lnTo>
                  <a:pt x="3802" y="3116"/>
                </a:lnTo>
                <a:lnTo>
                  <a:pt x="4002" y="3164"/>
                </a:lnTo>
                <a:lnTo>
                  <a:pt x="4202" y="2971"/>
                </a:lnTo>
                <a:lnTo>
                  <a:pt x="4402" y="2875"/>
                </a:lnTo>
                <a:lnTo>
                  <a:pt x="4502" y="3067"/>
                </a:lnTo>
                <a:lnTo>
                  <a:pt x="4552" y="3259"/>
                </a:lnTo>
                <a:lnTo>
                  <a:pt x="4452" y="3451"/>
                </a:lnTo>
                <a:lnTo>
                  <a:pt x="4402" y="3643"/>
                </a:lnTo>
                <a:lnTo>
                  <a:pt x="4602" y="3835"/>
                </a:lnTo>
                <a:lnTo>
                  <a:pt x="4802" y="3739"/>
                </a:lnTo>
                <a:lnTo>
                  <a:pt x="5002" y="3595"/>
                </a:lnTo>
                <a:lnTo>
                  <a:pt x="5202" y="3643"/>
                </a:lnTo>
                <a:lnTo>
                  <a:pt x="5403" y="3739"/>
                </a:lnTo>
                <a:lnTo>
                  <a:pt x="5603" y="3739"/>
                </a:lnTo>
                <a:lnTo>
                  <a:pt x="5803" y="3787"/>
                </a:lnTo>
                <a:lnTo>
                  <a:pt x="6003" y="3835"/>
                </a:lnTo>
                <a:lnTo>
                  <a:pt x="6053" y="3643"/>
                </a:lnTo>
                <a:lnTo>
                  <a:pt x="6254" y="3595"/>
                </a:lnTo>
                <a:lnTo>
                  <a:pt x="6454" y="3643"/>
                </a:lnTo>
                <a:lnTo>
                  <a:pt x="6654" y="3595"/>
                </a:lnTo>
                <a:lnTo>
                  <a:pt x="6604" y="3403"/>
                </a:lnTo>
                <a:lnTo>
                  <a:pt x="6604" y="3212"/>
                </a:lnTo>
                <a:lnTo>
                  <a:pt x="6804" y="3067"/>
                </a:lnTo>
                <a:lnTo>
                  <a:pt x="6904" y="2875"/>
                </a:lnTo>
                <a:lnTo>
                  <a:pt x="6854" y="2683"/>
                </a:lnTo>
                <a:lnTo>
                  <a:pt x="7004" y="2492"/>
                </a:lnTo>
                <a:lnTo>
                  <a:pt x="7004" y="2300"/>
                </a:lnTo>
                <a:lnTo>
                  <a:pt x="6804" y="2204"/>
                </a:lnTo>
                <a:lnTo>
                  <a:pt x="6604" y="1964"/>
                </a:lnTo>
                <a:lnTo>
                  <a:pt x="6454" y="1773"/>
                </a:lnTo>
                <a:lnTo>
                  <a:pt x="6404" y="1581"/>
                </a:lnTo>
                <a:lnTo>
                  <a:pt x="6404" y="1389"/>
                </a:lnTo>
                <a:lnTo>
                  <a:pt x="6454" y="1198"/>
                </a:lnTo>
                <a:lnTo>
                  <a:pt x="6654" y="1006"/>
                </a:lnTo>
                <a:lnTo>
                  <a:pt x="6804" y="814"/>
                </a:lnTo>
                <a:lnTo>
                  <a:pt x="7004" y="718"/>
                </a:lnTo>
                <a:lnTo>
                  <a:pt x="7155" y="910"/>
                </a:lnTo>
                <a:lnTo>
                  <a:pt x="7355" y="958"/>
                </a:lnTo>
                <a:lnTo>
                  <a:pt x="7555" y="910"/>
                </a:lnTo>
                <a:lnTo>
                  <a:pt x="7755" y="910"/>
                </a:lnTo>
                <a:lnTo>
                  <a:pt x="7955" y="910"/>
                </a:lnTo>
                <a:lnTo>
                  <a:pt x="8205" y="862"/>
                </a:lnTo>
                <a:lnTo>
                  <a:pt x="8405" y="814"/>
                </a:lnTo>
                <a:lnTo>
                  <a:pt x="8605" y="814"/>
                </a:lnTo>
                <a:lnTo>
                  <a:pt x="8806" y="910"/>
                </a:lnTo>
                <a:lnTo>
                  <a:pt x="8856" y="1102"/>
                </a:lnTo>
                <a:lnTo>
                  <a:pt x="9056" y="1102"/>
                </a:lnTo>
                <a:lnTo>
                  <a:pt x="9256" y="1246"/>
                </a:lnTo>
                <a:lnTo>
                  <a:pt x="9456" y="1389"/>
                </a:lnTo>
                <a:lnTo>
                  <a:pt x="9656" y="1293"/>
                </a:lnTo>
                <a:lnTo>
                  <a:pt x="9756" y="1102"/>
                </a:lnTo>
                <a:lnTo>
                  <a:pt x="9806" y="910"/>
                </a:lnTo>
                <a:lnTo>
                  <a:pt x="9906" y="718"/>
                </a:lnTo>
                <a:lnTo>
                  <a:pt x="10106" y="670"/>
                </a:lnTo>
                <a:lnTo>
                  <a:pt x="10156" y="862"/>
                </a:lnTo>
                <a:lnTo>
                  <a:pt x="10356" y="958"/>
                </a:lnTo>
                <a:lnTo>
                  <a:pt x="10557" y="958"/>
                </a:lnTo>
                <a:lnTo>
                  <a:pt x="10607" y="766"/>
                </a:lnTo>
                <a:lnTo>
                  <a:pt x="10607" y="575"/>
                </a:lnTo>
                <a:lnTo>
                  <a:pt x="10807" y="527"/>
                </a:lnTo>
                <a:lnTo>
                  <a:pt x="11007" y="527"/>
                </a:lnTo>
                <a:lnTo>
                  <a:pt x="11207" y="718"/>
                </a:lnTo>
                <a:lnTo>
                  <a:pt x="11407" y="862"/>
                </a:lnTo>
                <a:lnTo>
                  <a:pt x="11607" y="862"/>
                </a:lnTo>
                <a:lnTo>
                  <a:pt x="11807" y="958"/>
                </a:lnTo>
                <a:lnTo>
                  <a:pt x="12007" y="1150"/>
                </a:lnTo>
                <a:lnTo>
                  <a:pt x="12157" y="1341"/>
                </a:lnTo>
                <a:lnTo>
                  <a:pt x="12358" y="1485"/>
                </a:lnTo>
                <a:lnTo>
                  <a:pt x="12558" y="1533"/>
                </a:lnTo>
                <a:lnTo>
                  <a:pt x="12758" y="1533"/>
                </a:lnTo>
                <a:lnTo>
                  <a:pt x="12958" y="1533"/>
                </a:lnTo>
                <a:lnTo>
                  <a:pt x="13158" y="1581"/>
                </a:lnTo>
                <a:lnTo>
                  <a:pt x="13358" y="1629"/>
                </a:lnTo>
                <a:lnTo>
                  <a:pt x="13558" y="1725"/>
                </a:lnTo>
                <a:lnTo>
                  <a:pt x="13758" y="1917"/>
                </a:lnTo>
                <a:lnTo>
                  <a:pt x="13808" y="2108"/>
                </a:lnTo>
                <a:lnTo>
                  <a:pt x="13908" y="2300"/>
                </a:lnTo>
                <a:lnTo>
                  <a:pt x="14159" y="2492"/>
                </a:lnTo>
                <a:lnTo>
                  <a:pt x="14359" y="2540"/>
                </a:lnTo>
                <a:lnTo>
                  <a:pt x="14609" y="2540"/>
                </a:lnTo>
                <a:lnTo>
                  <a:pt x="14809" y="2540"/>
                </a:lnTo>
                <a:lnTo>
                  <a:pt x="15009" y="2540"/>
                </a:lnTo>
                <a:lnTo>
                  <a:pt x="15209" y="2540"/>
                </a:lnTo>
                <a:lnTo>
                  <a:pt x="15409" y="2587"/>
                </a:lnTo>
                <a:lnTo>
                  <a:pt x="15609" y="2683"/>
                </a:lnTo>
                <a:lnTo>
                  <a:pt x="15759" y="2875"/>
                </a:lnTo>
                <a:lnTo>
                  <a:pt x="15960" y="3019"/>
                </a:lnTo>
                <a:lnTo>
                  <a:pt x="16160" y="3067"/>
                </a:lnTo>
                <a:lnTo>
                  <a:pt x="16360" y="3212"/>
                </a:lnTo>
                <a:lnTo>
                  <a:pt x="16560" y="3403"/>
                </a:lnTo>
                <a:lnTo>
                  <a:pt x="16760" y="3403"/>
                </a:lnTo>
                <a:lnTo>
                  <a:pt x="16960" y="3403"/>
                </a:lnTo>
                <a:lnTo>
                  <a:pt x="17210" y="3355"/>
                </a:lnTo>
                <a:lnTo>
                  <a:pt x="17410" y="3355"/>
                </a:lnTo>
                <a:lnTo>
                  <a:pt x="17560" y="3164"/>
                </a:lnTo>
                <a:lnTo>
                  <a:pt x="17761" y="3116"/>
                </a:lnTo>
                <a:lnTo>
                  <a:pt x="17961" y="3116"/>
                </a:lnTo>
                <a:lnTo>
                  <a:pt x="18162" y="3116"/>
                </a:lnTo>
                <a:lnTo>
                  <a:pt x="18362" y="3307"/>
                </a:lnTo>
                <a:lnTo>
                  <a:pt x="18562" y="3403"/>
                </a:lnTo>
                <a:lnTo>
                  <a:pt x="18762" y="3403"/>
                </a:lnTo>
                <a:lnTo>
                  <a:pt x="18962" y="3355"/>
                </a:lnTo>
                <a:lnTo>
                  <a:pt x="19162" y="3259"/>
                </a:lnTo>
                <a:lnTo>
                  <a:pt x="19363" y="3164"/>
                </a:lnTo>
                <a:lnTo>
                  <a:pt x="19563" y="3116"/>
                </a:lnTo>
                <a:lnTo>
                  <a:pt x="19763" y="3116"/>
                </a:lnTo>
                <a:lnTo>
                  <a:pt x="20013" y="3116"/>
                </a:lnTo>
                <a:lnTo>
                  <a:pt x="20213" y="3067"/>
                </a:lnTo>
                <a:lnTo>
                  <a:pt x="20413" y="3067"/>
                </a:lnTo>
                <a:lnTo>
                  <a:pt x="20613" y="3067"/>
                </a:lnTo>
                <a:lnTo>
                  <a:pt x="20813" y="3067"/>
                </a:lnTo>
                <a:lnTo>
                  <a:pt x="21013" y="3164"/>
                </a:lnTo>
                <a:lnTo>
                  <a:pt x="21214" y="3307"/>
                </a:lnTo>
                <a:lnTo>
                  <a:pt x="21414" y="3403"/>
                </a:lnTo>
                <a:lnTo>
                  <a:pt x="21614" y="3451"/>
                </a:lnTo>
                <a:lnTo>
                  <a:pt x="21814" y="3451"/>
                </a:lnTo>
                <a:lnTo>
                  <a:pt x="22014" y="3451"/>
                </a:lnTo>
                <a:lnTo>
                  <a:pt x="22214" y="3451"/>
                </a:lnTo>
                <a:lnTo>
                  <a:pt x="22414" y="3451"/>
                </a:lnTo>
                <a:lnTo>
                  <a:pt x="22614" y="3451"/>
                </a:lnTo>
                <a:lnTo>
                  <a:pt x="22814" y="3451"/>
                </a:lnTo>
                <a:lnTo>
                  <a:pt x="23015" y="3451"/>
                </a:lnTo>
                <a:lnTo>
                  <a:pt x="23215" y="3403"/>
                </a:lnTo>
                <a:lnTo>
                  <a:pt x="23415" y="3355"/>
                </a:lnTo>
                <a:lnTo>
                  <a:pt x="23615" y="3355"/>
                </a:lnTo>
                <a:lnTo>
                  <a:pt x="23815" y="3355"/>
                </a:lnTo>
                <a:lnTo>
                  <a:pt x="24015" y="3403"/>
                </a:lnTo>
                <a:lnTo>
                  <a:pt x="24215" y="3403"/>
                </a:lnTo>
                <a:lnTo>
                  <a:pt x="24015" y="3595"/>
                </a:lnTo>
                <a:lnTo>
                  <a:pt x="23815" y="3643"/>
                </a:lnTo>
                <a:lnTo>
                  <a:pt x="23615" y="3739"/>
                </a:lnTo>
                <a:lnTo>
                  <a:pt x="23415" y="3882"/>
                </a:lnTo>
                <a:lnTo>
                  <a:pt x="23215" y="3930"/>
                </a:lnTo>
                <a:lnTo>
                  <a:pt x="22965" y="4026"/>
                </a:lnTo>
                <a:lnTo>
                  <a:pt x="22564" y="4074"/>
                </a:lnTo>
                <a:lnTo>
                  <a:pt x="22314" y="4074"/>
                </a:lnTo>
                <a:lnTo>
                  <a:pt x="22114" y="4122"/>
                </a:lnTo>
                <a:lnTo>
                  <a:pt x="21914" y="4266"/>
                </a:lnTo>
                <a:lnTo>
                  <a:pt x="21714" y="4314"/>
                </a:lnTo>
                <a:lnTo>
                  <a:pt x="21514" y="4314"/>
                </a:lnTo>
                <a:lnTo>
                  <a:pt x="21314" y="4314"/>
                </a:lnTo>
                <a:lnTo>
                  <a:pt x="21063" y="4314"/>
                </a:lnTo>
                <a:lnTo>
                  <a:pt x="20863" y="4410"/>
                </a:lnTo>
                <a:lnTo>
                  <a:pt x="20863" y="4745"/>
                </a:lnTo>
                <a:lnTo>
                  <a:pt x="20913" y="4937"/>
                </a:lnTo>
                <a:lnTo>
                  <a:pt x="21214" y="4985"/>
                </a:lnTo>
                <a:lnTo>
                  <a:pt x="21414" y="5081"/>
                </a:lnTo>
                <a:lnTo>
                  <a:pt x="21214" y="5320"/>
                </a:lnTo>
                <a:lnTo>
                  <a:pt x="21013" y="5416"/>
                </a:lnTo>
                <a:lnTo>
                  <a:pt x="20813" y="5512"/>
                </a:lnTo>
                <a:lnTo>
                  <a:pt x="20663" y="5704"/>
                </a:lnTo>
                <a:lnTo>
                  <a:pt x="20463" y="5895"/>
                </a:lnTo>
                <a:lnTo>
                  <a:pt x="20213" y="5895"/>
                </a:lnTo>
                <a:lnTo>
                  <a:pt x="19963" y="5895"/>
                </a:lnTo>
                <a:lnTo>
                  <a:pt x="19713" y="5895"/>
                </a:lnTo>
                <a:lnTo>
                  <a:pt x="19513" y="5895"/>
                </a:lnTo>
                <a:lnTo>
                  <a:pt x="19062" y="5895"/>
                </a:lnTo>
                <a:lnTo>
                  <a:pt x="18512" y="5800"/>
                </a:lnTo>
                <a:lnTo>
                  <a:pt x="18312" y="5704"/>
                </a:lnTo>
                <a:lnTo>
                  <a:pt x="18111" y="5464"/>
                </a:lnTo>
                <a:lnTo>
                  <a:pt x="17961" y="5224"/>
                </a:lnTo>
                <a:lnTo>
                  <a:pt x="17861" y="5033"/>
                </a:lnTo>
                <a:lnTo>
                  <a:pt x="17611" y="4889"/>
                </a:lnTo>
                <a:lnTo>
                  <a:pt x="17310" y="4793"/>
                </a:lnTo>
                <a:lnTo>
                  <a:pt x="17110" y="4601"/>
                </a:lnTo>
                <a:lnTo>
                  <a:pt x="16910" y="4458"/>
                </a:lnTo>
                <a:lnTo>
                  <a:pt x="16710" y="4362"/>
                </a:lnTo>
                <a:lnTo>
                  <a:pt x="16510" y="4314"/>
                </a:lnTo>
                <a:lnTo>
                  <a:pt x="16160" y="4266"/>
                </a:lnTo>
                <a:lnTo>
                  <a:pt x="15960" y="4266"/>
                </a:lnTo>
                <a:lnTo>
                  <a:pt x="15759" y="4314"/>
                </a:lnTo>
                <a:lnTo>
                  <a:pt x="15559" y="4314"/>
                </a:lnTo>
                <a:lnTo>
                  <a:pt x="15409" y="4122"/>
                </a:lnTo>
                <a:lnTo>
                  <a:pt x="15259" y="3930"/>
                </a:lnTo>
                <a:lnTo>
                  <a:pt x="14859" y="3835"/>
                </a:lnTo>
                <a:lnTo>
                  <a:pt x="14659" y="3787"/>
                </a:lnTo>
                <a:lnTo>
                  <a:pt x="14409" y="3691"/>
                </a:lnTo>
                <a:lnTo>
                  <a:pt x="14008" y="3643"/>
                </a:lnTo>
                <a:lnTo>
                  <a:pt x="13808" y="3595"/>
                </a:lnTo>
                <a:lnTo>
                  <a:pt x="13608" y="3643"/>
                </a:lnTo>
                <a:lnTo>
                  <a:pt x="13408" y="3739"/>
                </a:lnTo>
                <a:lnTo>
                  <a:pt x="13208" y="3835"/>
                </a:lnTo>
                <a:lnTo>
                  <a:pt x="12958" y="3882"/>
                </a:lnTo>
                <a:lnTo>
                  <a:pt x="12708" y="3930"/>
                </a:lnTo>
                <a:lnTo>
                  <a:pt x="12458" y="3978"/>
                </a:lnTo>
                <a:lnTo>
                  <a:pt x="12257" y="4074"/>
                </a:lnTo>
                <a:lnTo>
                  <a:pt x="12057" y="4074"/>
                </a:lnTo>
                <a:lnTo>
                  <a:pt x="11857" y="4026"/>
                </a:lnTo>
                <a:lnTo>
                  <a:pt x="11657" y="3978"/>
                </a:lnTo>
                <a:lnTo>
                  <a:pt x="11307" y="3835"/>
                </a:lnTo>
                <a:lnTo>
                  <a:pt x="11107" y="3787"/>
                </a:lnTo>
                <a:lnTo>
                  <a:pt x="10907" y="3691"/>
                </a:lnTo>
                <a:lnTo>
                  <a:pt x="10707" y="3595"/>
                </a:lnTo>
                <a:lnTo>
                  <a:pt x="10506" y="3451"/>
                </a:lnTo>
                <a:lnTo>
                  <a:pt x="10256" y="3403"/>
                </a:lnTo>
                <a:lnTo>
                  <a:pt x="10056" y="3403"/>
                </a:lnTo>
                <a:lnTo>
                  <a:pt x="9856" y="3499"/>
                </a:lnTo>
                <a:lnTo>
                  <a:pt x="9656" y="3595"/>
                </a:lnTo>
                <a:lnTo>
                  <a:pt x="9556" y="3787"/>
                </a:lnTo>
                <a:lnTo>
                  <a:pt x="9556" y="3978"/>
                </a:lnTo>
                <a:lnTo>
                  <a:pt x="9556" y="4170"/>
                </a:lnTo>
                <a:lnTo>
                  <a:pt x="9406" y="4362"/>
                </a:lnTo>
                <a:lnTo>
                  <a:pt x="9306" y="4553"/>
                </a:lnTo>
                <a:lnTo>
                  <a:pt x="9306" y="4745"/>
                </a:lnTo>
                <a:lnTo>
                  <a:pt x="9406" y="4937"/>
                </a:lnTo>
                <a:lnTo>
                  <a:pt x="9506" y="5129"/>
                </a:lnTo>
                <a:lnTo>
                  <a:pt x="9506" y="5320"/>
                </a:lnTo>
                <a:lnTo>
                  <a:pt x="9506" y="5704"/>
                </a:lnTo>
                <a:lnTo>
                  <a:pt x="9456" y="5895"/>
                </a:lnTo>
                <a:lnTo>
                  <a:pt x="9256" y="5991"/>
                </a:lnTo>
                <a:lnTo>
                  <a:pt x="8956" y="5991"/>
                </a:lnTo>
                <a:lnTo>
                  <a:pt x="8705" y="6087"/>
                </a:lnTo>
                <a:lnTo>
                  <a:pt x="8505" y="6087"/>
                </a:lnTo>
                <a:lnTo>
                  <a:pt x="8305" y="6135"/>
                </a:lnTo>
                <a:lnTo>
                  <a:pt x="8105" y="6135"/>
                </a:lnTo>
                <a:lnTo>
                  <a:pt x="7905" y="6183"/>
                </a:lnTo>
                <a:lnTo>
                  <a:pt x="7705" y="6039"/>
                </a:lnTo>
                <a:lnTo>
                  <a:pt x="7505" y="5943"/>
                </a:lnTo>
                <a:lnTo>
                  <a:pt x="7305" y="5943"/>
                </a:lnTo>
                <a:lnTo>
                  <a:pt x="7105" y="5943"/>
                </a:lnTo>
                <a:lnTo>
                  <a:pt x="6854" y="5847"/>
                </a:lnTo>
                <a:lnTo>
                  <a:pt x="6654" y="5752"/>
                </a:lnTo>
                <a:lnTo>
                  <a:pt x="6454" y="5608"/>
                </a:lnTo>
                <a:lnTo>
                  <a:pt x="6254" y="5512"/>
                </a:lnTo>
                <a:lnTo>
                  <a:pt x="6053" y="5464"/>
                </a:lnTo>
                <a:lnTo>
                  <a:pt x="5853" y="5464"/>
                </a:lnTo>
                <a:lnTo>
                  <a:pt x="5653" y="5464"/>
                </a:lnTo>
                <a:lnTo>
                  <a:pt x="5453" y="5416"/>
                </a:lnTo>
                <a:lnTo>
                  <a:pt x="5252" y="5416"/>
                </a:lnTo>
                <a:lnTo>
                  <a:pt x="5052" y="5368"/>
                </a:lnTo>
                <a:lnTo>
                  <a:pt x="4852" y="5368"/>
                </a:lnTo>
                <a:lnTo>
                  <a:pt x="4652" y="5416"/>
                </a:lnTo>
                <a:lnTo>
                  <a:pt x="4452" y="5512"/>
                </a:lnTo>
                <a:lnTo>
                  <a:pt x="4252" y="5656"/>
                </a:lnTo>
                <a:lnTo>
                  <a:pt x="4052" y="5800"/>
                </a:lnTo>
                <a:lnTo>
                  <a:pt x="3852" y="5895"/>
                </a:lnTo>
                <a:lnTo>
                  <a:pt x="3652" y="6039"/>
                </a:lnTo>
                <a:lnTo>
                  <a:pt x="3451" y="6087"/>
                </a:lnTo>
                <a:lnTo>
                  <a:pt x="3251" y="5895"/>
                </a:lnTo>
                <a:lnTo>
                  <a:pt x="3201" y="5704"/>
                </a:lnTo>
                <a:lnTo>
                  <a:pt x="3101" y="5512"/>
                </a:lnTo>
                <a:lnTo>
                  <a:pt x="3101" y="5320"/>
                </a:lnTo>
                <a:lnTo>
                  <a:pt x="3051" y="5129"/>
                </a:lnTo>
                <a:lnTo>
                  <a:pt x="2951" y="4937"/>
                </a:lnTo>
                <a:lnTo>
                  <a:pt x="2751" y="4841"/>
                </a:lnTo>
                <a:lnTo>
                  <a:pt x="2501" y="4793"/>
                </a:lnTo>
                <a:lnTo>
                  <a:pt x="2301" y="4745"/>
                </a:lnTo>
                <a:lnTo>
                  <a:pt x="2101" y="4601"/>
                </a:lnTo>
                <a:lnTo>
                  <a:pt x="1951" y="4410"/>
                </a:lnTo>
                <a:lnTo>
                  <a:pt x="1901" y="4218"/>
                </a:lnTo>
                <a:lnTo>
                  <a:pt x="1851" y="3978"/>
                </a:lnTo>
                <a:lnTo>
                  <a:pt x="1750" y="3787"/>
                </a:lnTo>
                <a:lnTo>
                  <a:pt x="1550" y="3691"/>
                </a:lnTo>
                <a:lnTo>
                  <a:pt x="1350" y="3547"/>
                </a:lnTo>
                <a:lnTo>
                  <a:pt x="1150" y="3451"/>
                </a:lnTo>
                <a:lnTo>
                  <a:pt x="900" y="3451"/>
                </a:lnTo>
                <a:lnTo>
                  <a:pt x="700" y="3451"/>
                </a:lnTo>
                <a:lnTo>
                  <a:pt x="650" y="3259"/>
                </a:lnTo>
                <a:lnTo>
                  <a:pt x="600" y="3067"/>
                </a:lnTo>
                <a:lnTo>
                  <a:pt x="600" y="2827"/>
                </a:lnTo>
                <a:lnTo>
                  <a:pt x="600" y="2635"/>
                </a:lnTo>
                <a:lnTo>
                  <a:pt x="600" y="2444"/>
                </a:lnTo>
                <a:lnTo>
                  <a:pt x="600" y="2252"/>
                </a:lnTo>
                <a:lnTo>
                  <a:pt x="600" y="2060"/>
                </a:lnTo>
                <a:lnTo>
                  <a:pt x="400" y="2012"/>
                </a:lnTo>
                <a:lnTo>
                  <a:pt x="300" y="1821"/>
                </a:lnTo>
                <a:lnTo>
                  <a:pt x="300" y="1629"/>
                </a:lnTo>
                <a:lnTo>
                  <a:pt x="300" y="1437"/>
                </a:lnTo>
                <a:lnTo>
                  <a:pt x="300" y="1246"/>
                </a:lnTo>
                <a:lnTo>
                  <a:pt x="250" y="1054"/>
                </a:lnTo>
                <a:lnTo>
                  <a:pt x="300" y="862"/>
                </a:lnTo>
                <a:lnTo>
                  <a:pt x="450" y="670"/>
                </a:lnTo>
                <a:lnTo>
                  <a:pt x="450" y="479"/>
                </a:lnTo>
                <a:lnTo>
                  <a:pt x="300" y="287"/>
                </a:lnTo>
                <a:lnTo>
                  <a:pt x="100" y="191"/>
                </a:lnTo>
                <a:lnTo>
                  <a:pt x="0" y="0"/>
                </a:lnTo>
                <a:lnTo>
                  <a:pt x="0" y="287"/>
                </a:lnTo>
                <a:lnTo>
                  <a:pt x="0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-1359000" y="2585880"/>
            <a:ext cx="8915760" cy="5162760"/>
          </a:xfrm>
          <a:custGeom>
            <a:avLst/>
            <a:gdLst/>
            <a:ahLst/>
            <a:rect l="0" t="0" r="r" b="b"/>
            <a:pathLst>
              <a:path w="24766" h="14341">
                <a:moveTo>
                  <a:pt x="6153" y="10648"/>
                </a:moveTo>
                <a:lnTo>
                  <a:pt x="5903" y="10744"/>
                </a:lnTo>
                <a:lnTo>
                  <a:pt x="5703" y="10840"/>
                </a:lnTo>
                <a:lnTo>
                  <a:pt x="5653" y="11032"/>
                </a:lnTo>
                <a:lnTo>
                  <a:pt x="5653" y="11223"/>
                </a:lnTo>
                <a:lnTo>
                  <a:pt x="5553" y="11415"/>
                </a:lnTo>
                <a:lnTo>
                  <a:pt x="5353" y="11511"/>
                </a:lnTo>
                <a:lnTo>
                  <a:pt x="5153" y="11559"/>
                </a:lnTo>
                <a:lnTo>
                  <a:pt x="4953" y="11655"/>
                </a:lnTo>
                <a:lnTo>
                  <a:pt x="4802" y="11847"/>
                </a:lnTo>
                <a:lnTo>
                  <a:pt x="4802" y="12039"/>
                </a:lnTo>
                <a:lnTo>
                  <a:pt x="4752" y="12279"/>
                </a:lnTo>
                <a:lnTo>
                  <a:pt x="4752" y="12470"/>
                </a:lnTo>
                <a:lnTo>
                  <a:pt x="4802" y="12662"/>
                </a:lnTo>
                <a:lnTo>
                  <a:pt x="4802" y="12854"/>
                </a:lnTo>
                <a:lnTo>
                  <a:pt x="4652" y="13046"/>
                </a:lnTo>
                <a:lnTo>
                  <a:pt x="4402" y="13142"/>
                </a:lnTo>
                <a:lnTo>
                  <a:pt x="4202" y="13286"/>
                </a:lnTo>
                <a:lnTo>
                  <a:pt x="4002" y="13430"/>
                </a:lnTo>
                <a:lnTo>
                  <a:pt x="3802" y="13430"/>
                </a:lnTo>
                <a:lnTo>
                  <a:pt x="3552" y="13430"/>
                </a:lnTo>
                <a:lnTo>
                  <a:pt x="3352" y="13478"/>
                </a:lnTo>
                <a:lnTo>
                  <a:pt x="3302" y="13669"/>
                </a:lnTo>
                <a:lnTo>
                  <a:pt x="3302" y="13909"/>
                </a:lnTo>
                <a:lnTo>
                  <a:pt x="3201" y="14101"/>
                </a:lnTo>
                <a:lnTo>
                  <a:pt x="2951" y="14293"/>
                </a:lnTo>
                <a:lnTo>
                  <a:pt x="2751" y="14341"/>
                </a:lnTo>
                <a:lnTo>
                  <a:pt x="2601" y="14149"/>
                </a:lnTo>
                <a:lnTo>
                  <a:pt x="2501" y="13957"/>
                </a:lnTo>
                <a:lnTo>
                  <a:pt x="2351" y="13765"/>
                </a:lnTo>
                <a:lnTo>
                  <a:pt x="2401" y="13574"/>
                </a:lnTo>
                <a:lnTo>
                  <a:pt x="2401" y="13382"/>
                </a:lnTo>
                <a:lnTo>
                  <a:pt x="2201" y="13286"/>
                </a:lnTo>
                <a:lnTo>
                  <a:pt x="2001" y="13286"/>
                </a:lnTo>
                <a:lnTo>
                  <a:pt x="1801" y="13334"/>
                </a:lnTo>
                <a:lnTo>
                  <a:pt x="1600" y="13430"/>
                </a:lnTo>
                <a:lnTo>
                  <a:pt x="1400" y="13526"/>
                </a:lnTo>
                <a:lnTo>
                  <a:pt x="1200" y="13574"/>
                </a:lnTo>
                <a:lnTo>
                  <a:pt x="1000" y="13526"/>
                </a:lnTo>
                <a:lnTo>
                  <a:pt x="800" y="13526"/>
                </a:lnTo>
                <a:lnTo>
                  <a:pt x="600" y="13334"/>
                </a:lnTo>
                <a:lnTo>
                  <a:pt x="600" y="13142"/>
                </a:lnTo>
                <a:lnTo>
                  <a:pt x="450" y="12950"/>
                </a:lnTo>
                <a:lnTo>
                  <a:pt x="200" y="12854"/>
                </a:lnTo>
                <a:lnTo>
                  <a:pt x="0" y="12614"/>
                </a:lnTo>
                <a:lnTo>
                  <a:pt x="150" y="12422"/>
                </a:lnTo>
                <a:lnTo>
                  <a:pt x="350" y="12470"/>
                </a:lnTo>
                <a:lnTo>
                  <a:pt x="450" y="12662"/>
                </a:lnTo>
                <a:lnTo>
                  <a:pt x="700" y="12758"/>
                </a:lnTo>
                <a:lnTo>
                  <a:pt x="900" y="12758"/>
                </a:lnTo>
                <a:lnTo>
                  <a:pt x="1000" y="12950"/>
                </a:lnTo>
                <a:lnTo>
                  <a:pt x="1250" y="13094"/>
                </a:lnTo>
                <a:lnTo>
                  <a:pt x="1450" y="12950"/>
                </a:lnTo>
                <a:lnTo>
                  <a:pt x="1500" y="12758"/>
                </a:lnTo>
                <a:lnTo>
                  <a:pt x="1500" y="12566"/>
                </a:lnTo>
                <a:lnTo>
                  <a:pt x="1701" y="12518"/>
                </a:lnTo>
                <a:lnTo>
                  <a:pt x="1901" y="12614"/>
                </a:lnTo>
                <a:lnTo>
                  <a:pt x="2101" y="12470"/>
                </a:lnTo>
                <a:lnTo>
                  <a:pt x="2301" y="12327"/>
                </a:lnTo>
                <a:lnTo>
                  <a:pt x="2501" y="12470"/>
                </a:lnTo>
                <a:lnTo>
                  <a:pt x="2751" y="12614"/>
                </a:lnTo>
                <a:lnTo>
                  <a:pt x="2951" y="12662"/>
                </a:lnTo>
                <a:lnTo>
                  <a:pt x="3201" y="12710"/>
                </a:lnTo>
                <a:lnTo>
                  <a:pt x="3251" y="12518"/>
                </a:lnTo>
                <a:lnTo>
                  <a:pt x="3201" y="12327"/>
                </a:lnTo>
                <a:lnTo>
                  <a:pt x="3402" y="12231"/>
                </a:lnTo>
                <a:lnTo>
                  <a:pt x="3402" y="12039"/>
                </a:lnTo>
                <a:lnTo>
                  <a:pt x="3602" y="11943"/>
                </a:lnTo>
                <a:lnTo>
                  <a:pt x="3802" y="11943"/>
                </a:lnTo>
                <a:lnTo>
                  <a:pt x="4002" y="11943"/>
                </a:lnTo>
                <a:lnTo>
                  <a:pt x="4202" y="11847"/>
                </a:lnTo>
                <a:lnTo>
                  <a:pt x="4402" y="11751"/>
                </a:lnTo>
                <a:lnTo>
                  <a:pt x="4552" y="11559"/>
                </a:lnTo>
                <a:lnTo>
                  <a:pt x="4752" y="11463"/>
                </a:lnTo>
                <a:lnTo>
                  <a:pt x="4953" y="11463"/>
                </a:lnTo>
                <a:lnTo>
                  <a:pt x="5053" y="11271"/>
                </a:lnTo>
                <a:lnTo>
                  <a:pt x="5203" y="11080"/>
                </a:lnTo>
                <a:lnTo>
                  <a:pt x="5153" y="10888"/>
                </a:lnTo>
                <a:lnTo>
                  <a:pt x="4953" y="10792"/>
                </a:lnTo>
                <a:lnTo>
                  <a:pt x="4752" y="10792"/>
                </a:lnTo>
                <a:lnTo>
                  <a:pt x="4552" y="10696"/>
                </a:lnTo>
                <a:lnTo>
                  <a:pt x="4352" y="10600"/>
                </a:lnTo>
                <a:lnTo>
                  <a:pt x="4152" y="10648"/>
                </a:lnTo>
                <a:lnTo>
                  <a:pt x="3952" y="10600"/>
                </a:lnTo>
                <a:lnTo>
                  <a:pt x="3852" y="10408"/>
                </a:lnTo>
                <a:lnTo>
                  <a:pt x="3952" y="10216"/>
                </a:lnTo>
                <a:lnTo>
                  <a:pt x="4002" y="10024"/>
                </a:lnTo>
                <a:lnTo>
                  <a:pt x="3552" y="9881"/>
                </a:lnTo>
                <a:lnTo>
                  <a:pt x="3352" y="9833"/>
                </a:lnTo>
                <a:lnTo>
                  <a:pt x="3201" y="9641"/>
                </a:lnTo>
                <a:lnTo>
                  <a:pt x="3001" y="9545"/>
                </a:lnTo>
                <a:lnTo>
                  <a:pt x="2801" y="9497"/>
                </a:lnTo>
                <a:lnTo>
                  <a:pt x="2601" y="9401"/>
                </a:lnTo>
                <a:lnTo>
                  <a:pt x="2401" y="9305"/>
                </a:lnTo>
                <a:lnTo>
                  <a:pt x="2201" y="9305"/>
                </a:lnTo>
                <a:lnTo>
                  <a:pt x="2001" y="9257"/>
                </a:lnTo>
                <a:lnTo>
                  <a:pt x="1801" y="9257"/>
                </a:lnTo>
                <a:lnTo>
                  <a:pt x="1701" y="9065"/>
                </a:lnTo>
                <a:lnTo>
                  <a:pt x="1701" y="8873"/>
                </a:lnTo>
                <a:lnTo>
                  <a:pt x="1500" y="8825"/>
                </a:lnTo>
                <a:lnTo>
                  <a:pt x="1400" y="8634"/>
                </a:lnTo>
                <a:lnTo>
                  <a:pt x="1200" y="8442"/>
                </a:lnTo>
                <a:lnTo>
                  <a:pt x="1100" y="8250"/>
                </a:lnTo>
                <a:lnTo>
                  <a:pt x="1200" y="8058"/>
                </a:lnTo>
                <a:lnTo>
                  <a:pt x="1400" y="8058"/>
                </a:lnTo>
                <a:lnTo>
                  <a:pt x="1550" y="8250"/>
                </a:lnTo>
                <a:lnTo>
                  <a:pt x="1751" y="8394"/>
                </a:lnTo>
                <a:lnTo>
                  <a:pt x="1951" y="8490"/>
                </a:lnTo>
                <a:lnTo>
                  <a:pt x="2001" y="8681"/>
                </a:lnTo>
                <a:lnTo>
                  <a:pt x="2201" y="8873"/>
                </a:lnTo>
                <a:lnTo>
                  <a:pt x="2401" y="8921"/>
                </a:lnTo>
                <a:lnTo>
                  <a:pt x="2601" y="9113"/>
                </a:lnTo>
                <a:lnTo>
                  <a:pt x="2751" y="9305"/>
                </a:lnTo>
                <a:lnTo>
                  <a:pt x="2951" y="9353"/>
                </a:lnTo>
                <a:lnTo>
                  <a:pt x="3151" y="9353"/>
                </a:lnTo>
                <a:lnTo>
                  <a:pt x="3352" y="9353"/>
                </a:lnTo>
                <a:lnTo>
                  <a:pt x="3552" y="9257"/>
                </a:lnTo>
                <a:lnTo>
                  <a:pt x="3752" y="9113"/>
                </a:lnTo>
                <a:lnTo>
                  <a:pt x="3952" y="9065"/>
                </a:lnTo>
                <a:lnTo>
                  <a:pt x="4152" y="9161"/>
                </a:lnTo>
                <a:lnTo>
                  <a:pt x="4352" y="9305"/>
                </a:lnTo>
                <a:lnTo>
                  <a:pt x="4552" y="9305"/>
                </a:lnTo>
                <a:lnTo>
                  <a:pt x="4752" y="9305"/>
                </a:lnTo>
                <a:lnTo>
                  <a:pt x="4953" y="9353"/>
                </a:lnTo>
                <a:lnTo>
                  <a:pt x="5103" y="9545"/>
                </a:lnTo>
                <a:lnTo>
                  <a:pt x="5303" y="9545"/>
                </a:lnTo>
                <a:lnTo>
                  <a:pt x="5503" y="9497"/>
                </a:lnTo>
                <a:lnTo>
                  <a:pt x="5703" y="9449"/>
                </a:lnTo>
                <a:lnTo>
                  <a:pt x="5903" y="9449"/>
                </a:lnTo>
                <a:lnTo>
                  <a:pt x="5903" y="9641"/>
                </a:lnTo>
                <a:lnTo>
                  <a:pt x="5853" y="9833"/>
                </a:lnTo>
                <a:lnTo>
                  <a:pt x="5803" y="10024"/>
                </a:lnTo>
                <a:lnTo>
                  <a:pt x="5853" y="10216"/>
                </a:lnTo>
                <a:lnTo>
                  <a:pt x="6053" y="10360"/>
                </a:lnTo>
                <a:lnTo>
                  <a:pt x="6253" y="10552"/>
                </a:lnTo>
                <a:lnTo>
                  <a:pt x="6453" y="10600"/>
                </a:lnTo>
                <a:lnTo>
                  <a:pt x="6553" y="10408"/>
                </a:lnTo>
                <a:lnTo>
                  <a:pt x="6553" y="10216"/>
                </a:lnTo>
                <a:lnTo>
                  <a:pt x="6453" y="10024"/>
                </a:lnTo>
                <a:lnTo>
                  <a:pt x="6403" y="9833"/>
                </a:lnTo>
                <a:lnTo>
                  <a:pt x="6553" y="9641"/>
                </a:lnTo>
                <a:lnTo>
                  <a:pt x="6754" y="9545"/>
                </a:lnTo>
                <a:lnTo>
                  <a:pt x="6954" y="9545"/>
                </a:lnTo>
                <a:lnTo>
                  <a:pt x="6954" y="9353"/>
                </a:lnTo>
                <a:lnTo>
                  <a:pt x="6904" y="9161"/>
                </a:lnTo>
                <a:lnTo>
                  <a:pt x="7154" y="9113"/>
                </a:lnTo>
                <a:lnTo>
                  <a:pt x="7354" y="9113"/>
                </a:lnTo>
                <a:lnTo>
                  <a:pt x="7554" y="9161"/>
                </a:lnTo>
                <a:lnTo>
                  <a:pt x="7704" y="8969"/>
                </a:lnTo>
                <a:lnTo>
                  <a:pt x="7704" y="8777"/>
                </a:lnTo>
                <a:lnTo>
                  <a:pt x="7704" y="8586"/>
                </a:lnTo>
                <a:lnTo>
                  <a:pt x="7904" y="8442"/>
                </a:lnTo>
                <a:lnTo>
                  <a:pt x="8154" y="8442"/>
                </a:lnTo>
                <a:lnTo>
                  <a:pt x="8405" y="8394"/>
                </a:lnTo>
                <a:lnTo>
                  <a:pt x="8655" y="8394"/>
                </a:lnTo>
                <a:lnTo>
                  <a:pt x="8855" y="8394"/>
                </a:lnTo>
                <a:lnTo>
                  <a:pt x="9055" y="8298"/>
                </a:lnTo>
                <a:lnTo>
                  <a:pt x="9255" y="8298"/>
                </a:lnTo>
                <a:lnTo>
                  <a:pt x="9405" y="8106"/>
                </a:lnTo>
                <a:lnTo>
                  <a:pt x="9405" y="7914"/>
                </a:lnTo>
                <a:lnTo>
                  <a:pt x="9355" y="7722"/>
                </a:lnTo>
                <a:lnTo>
                  <a:pt x="9355" y="7530"/>
                </a:lnTo>
                <a:lnTo>
                  <a:pt x="9405" y="7339"/>
                </a:lnTo>
                <a:lnTo>
                  <a:pt x="9355" y="7146"/>
                </a:lnTo>
                <a:lnTo>
                  <a:pt x="9355" y="6954"/>
                </a:lnTo>
                <a:lnTo>
                  <a:pt x="9555" y="6858"/>
                </a:lnTo>
                <a:lnTo>
                  <a:pt x="9805" y="6858"/>
                </a:lnTo>
                <a:lnTo>
                  <a:pt x="10006" y="6858"/>
                </a:lnTo>
                <a:lnTo>
                  <a:pt x="10006" y="6666"/>
                </a:lnTo>
                <a:lnTo>
                  <a:pt x="10156" y="6474"/>
                </a:lnTo>
                <a:lnTo>
                  <a:pt x="10406" y="6330"/>
                </a:lnTo>
                <a:lnTo>
                  <a:pt x="10456" y="6139"/>
                </a:lnTo>
                <a:lnTo>
                  <a:pt x="10456" y="5947"/>
                </a:lnTo>
                <a:lnTo>
                  <a:pt x="10656" y="5803"/>
                </a:lnTo>
                <a:lnTo>
                  <a:pt x="10856" y="5755"/>
                </a:lnTo>
                <a:lnTo>
                  <a:pt x="10806" y="5947"/>
                </a:lnTo>
                <a:lnTo>
                  <a:pt x="10756" y="6139"/>
                </a:lnTo>
                <a:lnTo>
                  <a:pt x="10656" y="6330"/>
                </a:lnTo>
                <a:lnTo>
                  <a:pt x="10656" y="6522"/>
                </a:lnTo>
                <a:lnTo>
                  <a:pt x="10656" y="6714"/>
                </a:lnTo>
                <a:lnTo>
                  <a:pt x="10606" y="6906"/>
                </a:lnTo>
                <a:lnTo>
                  <a:pt x="10806" y="6858"/>
                </a:lnTo>
                <a:lnTo>
                  <a:pt x="10956" y="6666"/>
                </a:lnTo>
                <a:lnTo>
                  <a:pt x="11156" y="6810"/>
                </a:lnTo>
                <a:lnTo>
                  <a:pt x="11356" y="6906"/>
                </a:lnTo>
                <a:lnTo>
                  <a:pt x="11406" y="6714"/>
                </a:lnTo>
                <a:lnTo>
                  <a:pt x="11607" y="6618"/>
                </a:lnTo>
                <a:lnTo>
                  <a:pt x="11707" y="6426"/>
                </a:lnTo>
                <a:lnTo>
                  <a:pt x="11657" y="6234"/>
                </a:lnTo>
                <a:lnTo>
                  <a:pt x="11657" y="6043"/>
                </a:lnTo>
                <a:lnTo>
                  <a:pt x="11456" y="5995"/>
                </a:lnTo>
                <a:lnTo>
                  <a:pt x="11306" y="5803"/>
                </a:lnTo>
                <a:lnTo>
                  <a:pt x="11306" y="5563"/>
                </a:lnTo>
                <a:lnTo>
                  <a:pt x="11306" y="5371"/>
                </a:lnTo>
                <a:lnTo>
                  <a:pt x="11356" y="5179"/>
                </a:lnTo>
                <a:lnTo>
                  <a:pt x="11356" y="4987"/>
                </a:lnTo>
                <a:lnTo>
                  <a:pt x="11306" y="4796"/>
                </a:lnTo>
                <a:lnTo>
                  <a:pt x="11106" y="4748"/>
                </a:lnTo>
                <a:lnTo>
                  <a:pt x="10906" y="4844"/>
                </a:lnTo>
                <a:lnTo>
                  <a:pt x="10706" y="4796"/>
                </a:lnTo>
                <a:lnTo>
                  <a:pt x="10506" y="4604"/>
                </a:lnTo>
                <a:lnTo>
                  <a:pt x="10406" y="4412"/>
                </a:lnTo>
                <a:lnTo>
                  <a:pt x="10456" y="4220"/>
                </a:lnTo>
                <a:lnTo>
                  <a:pt x="10406" y="4028"/>
                </a:lnTo>
                <a:lnTo>
                  <a:pt x="10306" y="3836"/>
                </a:lnTo>
                <a:lnTo>
                  <a:pt x="10256" y="3645"/>
                </a:lnTo>
                <a:lnTo>
                  <a:pt x="10306" y="3453"/>
                </a:lnTo>
                <a:lnTo>
                  <a:pt x="10306" y="3261"/>
                </a:lnTo>
                <a:lnTo>
                  <a:pt x="10306" y="3069"/>
                </a:lnTo>
                <a:lnTo>
                  <a:pt x="10306" y="2877"/>
                </a:lnTo>
                <a:lnTo>
                  <a:pt x="10456" y="2685"/>
                </a:lnTo>
                <a:lnTo>
                  <a:pt x="10556" y="2493"/>
                </a:lnTo>
                <a:lnTo>
                  <a:pt x="10556" y="2302"/>
                </a:lnTo>
                <a:lnTo>
                  <a:pt x="10456" y="2110"/>
                </a:lnTo>
                <a:lnTo>
                  <a:pt x="10256" y="2014"/>
                </a:lnTo>
                <a:lnTo>
                  <a:pt x="10056" y="1870"/>
                </a:lnTo>
                <a:lnTo>
                  <a:pt x="9855" y="1774"/>
                </a:lnTo>
                <a:lnTo>
                  <a:pt x="9655" y="1774"/>
                </a:lnTo>
                <a:lnTo>
                  <a:pt x="9455" y="1774"/>
                </a:lnTo>
                <a:lnTo>
                  <a:pt x="9305" y="1582"/>
                </a:lnTo>
                <a:lnTo>
                  <a:pt x="9455" y="1390"/>
                </a:lnTo>
                <a:lnTo>
                  <a:pt x="9405" y="1199"/>
                </a:lnTo>
                <a:lnTo>
                  <a:pt x="9455" y="1007"/>
                </a:lnTo>
                <a:lnTo>
                  <a:pt x="9555" y="815"/>
                </a:lnTo>
                <a:lnTo>
                  <a:pt x="9305" y="767"/>
                </a:lnTo>
                <a:lnTo>
                  <a:pt x="9105" y="767"/>
                </a:lnTo>
                <a:lnTo>
                  <a:pt x="8855" y="719"/>
                </a:lnTo>
                <a:lnTo>
                  <a:pt x="8705" y="527"/>
                </a:lnTo>
                <a:lnTo>
                  <a:pt x="8505" y="335"/>
                </a:lnTo>
                <a:lnTo>
                  <a:pt x="8305" y="287"/>
                </a:lnTo>
                <a:lnTo>
                  <a:pt x="8104" y="239"/>
                </a:lnTo>
                <a:lnTo>
                  <a:pt x="8154" y="47"/>
                </a:lnTo>
                <a:lnTo>
                  <a:pt x="8355" y="0"/>
                </a:lnTo>
                <a:lnTo>
                  <a:pt x="8605" y="0"/>
                </a:lnTo>
                <a:lnTo>
                  <a:pt x="8705" y="191"/>
                </a:lnTo>
                <a:lnTo>
                  <a:pt x="8955" y="287"/>
                </a:lnTo>
                <a:lnTo>
                  <a:pt x="9155" y="287"/>
                </a:lnTo>
                <a:lnTo>
                  <a:pt x="9355" y="335"/>
                </a:lnTo>
                <a:lnTo>
                  <a:pt x="9605" y="383"/>
                </a:lnTo>
                <a:lnTo>
                  <a:pt x="9755" y="575"/>
                </a:lnTo>
                <a:lnTo>
                  <a:pt x="9755" y="767"/>
                </a:lnTo>
                <a:lnTo>
                  <a:pt x="9956" y="815"/>
                </a:lnTo>
                <a:lnTo>
                  <a:pt x="10106" y="1007"/>
                </a:lnTo>
                <a:lnTo>
                  <a:pt x="10306" y="1007"/>
                </a:lnTo>
                <a:lnTo>
                  <a:pt x="10556" y="911"/>
                </a:lnTo>
                <a:lnTo>
                  <a:pt x="10806" y="863"/>
                </a:lnTo>
                <a:lnTo>
                  <a:pt x="11006" y="959"/>
                </a:lnTo>
                <a:lnTo>
                  <a:pt x="11006" y="1151"/>
                </a:lnTo>
                <a:lnTo>
                  <a:pt x="10906" y="1342"/>
                </a:lnTo>
                <a:lnTo>
                  <a:pt x="10906" y="1534"/>
                </a:lnTo>
                <a:lnTo>
                  <a:pt x="11056" y="1726"/>
                </a:lnTo>
                <a:lnTo>
                  <a:pt x="11256" y="1726"/>
                </a:lnTo>
                <a:lnTo>
                  <a:pt x="11456" y="1774"/>
                </a:lnTo>
                <a:lnTo>
                  <a:pt x="11657" y="1966"/>
                </a:lnTo>
                <a:lnTo>
                  <a:pt x="11406" y="2158"/>
                </a:lnTo>
                <a:lnTo>
                  <a:pt x="11206" y="2206"/>
                </a:lnTo>
                <a:lnTo>
                  <a:pt x="11106" y="2398"/>
                </a:lnTo>
                <a:lnTo>
                  <a:pt x="11106" y="2589"/>
                </a:lnTo>
                <a:lnTo>
                  <a:pt x="11006" y="2781"/>
                </a:lnTo>
                <a:lnTo>
                  <a:pt x="10856" y="2973"/>
                </a:lnTo>
                <a:lnTo>
                  <a:pt x="10656" y="3069"/>
                </a:lnTo>
                <a:lnTo>
                  <a:pt x="10456" y="3165"/>
                </a:lnTo>
                <a:lnTo>
                  <a:pt x="10406" y="3357"/>
                </a:lnTo>
                <a:lnTo>
                  <a:pt x="10406" y="3549"/>
                </a:lnTo>
                <a:lnTo>
                  <a:pt x="10456" y="3740"/>
                </a:lnTo>
                <a:lnTo>
                  <a:pt x="10656" y="3788"/>
                </a:lnTo>
                <a:lnTo>
                  <a:pt x="10856" y="3788"/>
                </a:lnTo>
                <a:lnTo>
                  <a:pt x="11056" y="3740"/>
                </a:lnTo>
                <a:lnTo>
                  <a:pt x="11256" y="3884"/>
                </a:lnTo>
                <a:lnTo>
                  <a:pt x="11456" y="4028"/>
                </a:lnTo>
                <a:lnTo>
                  <a:pt x="11657" y="3932"/>
                </a:lnTo>
                <a:lnTo>
                  <a:pt x="11707" y="3740"/>
                </a:lnTo>
                <a:lnTo>
                  <a:pt x="11707" y="3549"/>
                </a:lnTo>
                <a:lnTo>
                  <a:pt x="11707" y="3357"/>
                </a:lnTo>
                <a:lnTo>
                  <a:pt x="11707" y="3165"/>
                </a:lnTo>
                <a:lnTo>
                  <a:pt x="11907" y="3117"/>
                </a:lnTo>
                <a:lnTo>
                  <a:pt x="12107" y="3165"/>
                </a:lnTo>
                <a:lnTo>
                  <a:pt x="12307" y="3261"/>
                </a:lnTo>
                <a:lnTo>
                  <a:pt x="12508" y="3309"/>
                </a:lnTo>
                <a:lnTo>
                  <a:pt x="12708" y="3117"/>
                </a:lnTo>
                <a:lnTo>
                  <a:pt x="12758" y="2925"/>
                </a:lnTo>
                <a:lnTo>
                  <a:pt x="12758" y="2733"/>
                </a:lnTo>
                <a:lnTo>
                  <a:pt x="12558" y="2589"/>
                </a:lnTo>
                <a:lnTo>
                  <a:pt x="12357" y="2589"/>
                </a:lnTo>
                <a:lnTo>
                  <a:pt x="12157" y="2493"/>
                </a:lnTo>
                <a:lnTo>
                  <a:pt x="12057" y="2302"/>
                </a:lnTo>
                <a:lnTo>
                  <a:pt x="12057" y="2110"/>
                </a:lnTo>
                <a:lnTo>
                  <a:pt x="12057" y="1870"/>
                </a:lnTo>
                <a:lnTo>
                  <a:pt x="11957" y="1630"/>
                </a:lnTo>
                <a:lnTo>
                  <a:pt x="11907" y="1438"/>
                </a:lnTo>
                <a:lnTo>
                  <a:pt x="12107" y="1342"/>
                </a:lnTo>
                <a:lnTo>
                  <a:pt x="12307" y="1342"/>
                </a:lnTo>
                <a:lnTo>
                  <a:pt x="12508" y="1342"/>
                </a:lnTo>
                <a:lnTo>
                  <a:pt x="12708" y="1342"/>
                </a:lnTo>
                <a:lnTo>
                  <a:pt x="12908" y="1390"/>
                </a:lnTo>
                <a:lnTo>
                  <a:pt x="13108" y="1199"/>
                </a:lnTo>
                <a:lnTo>
                  <a:pt x="13259" y="1007"/>
                </a:lnTo>
                <a:lnTo>
                  <a:pt x="13459" y="911"/>
                </a:lnTo>
                <a:lnTo>
                  <a:pt x="13659" y="863"/>
                </a:lnTo>
                <a:lnTo>
                  <a:pt x="13859" y="719"/>
                </a:lnTo>
                <a:lnTo>
                  <a:pt x="14059" y="623"/>
                </a:lnTo>
                <a:lnTo>
                  <a:pt x="14259" y="719"/>
                </a:lnTo>
                <a:lnTo>
                  <a:pt x="14459" y="863"/>
                </a:lnTo>
                <a:lnTo>
                  <a:pt x="14659" y="815"/>
                </a:lnTo>
                <a:lnTo>
                  <a:pt x="14860" y="767"/>
                </a:lnTo>
                <a:lnTo>
                  <a:pt x="15060" y="719"/>
                </a:lnTo>
                <a:lnTo>
                  <a:pt x="15260" y="863"/>
                </a:lnTo>
                <a:lnTo>
                  <a:pt x="15460" y="959"/>
                </a:lnTo>
                <a:lnTo>
                  <a:pt x="15710" y="911"/>
                </a:lnTo>
                <a:lnTo>
                  <a:pt x="15910" y="863"/>
                </a:lnTo>
                <a:lnTo>
                  <a:pt x="16110" y="959"/>
                </a:lnTo>
                <a:lnTo>
                  <a:pt x="16210" y="1151"/>
                </a:lnTo>
                <a:lnTo>
                  <a:pt x="16210" y="1342"/>
                </a:lnTo>
                <a:lnTo>
                  <a:pt x="16160" y="1534"/>
                </a:lnTo>
                <a:lnTo>
                  <a:pt x="16010" y="1726"/>
                </a:lnTo>
                <a:lnTo>
                  <a:pt x="15910" y="1918"/>
                </a:lnTo>
                <a:lnTo>
                  <a:pt x="15860" y="2110"/>
                </a:lnTo>
                <a:lnTo>
                  <a:pt x="15660" y="2254"/>
                </a:lnTo>
                <a:lnTo>
                  <a:pt x="15910" y="2398"/>
                </a:lnTo>
                <a:lnTo>
                  <a:pt x="16110" y="2446"/>
                </a:lnTo>
                <a:lnTo>
                  <a:pt x="16310" y="2493"/>
                </a:lnTo>
                <a:lnTo>
                  <a:pt x="16460" y="2685"/>
                </a:lnTo>
                <a:lnTo>
                  <a:pt x="16611" y="2877"/>
                </a:lnTo>
                <a:lnTo>
                  <a:pt x="16410" y="2973"/>
                </a:lnTo>
                <a:lnTo>
                  <a:pt x="16210" y="2973"/>
                </a:lnTo>
                <a:lnTo>
                  <a:pt x="16010" y="2973"/>
                </a:lnTo>
                <a:lnTo>
                  <a:pt x="15810" y="3117"/>
                </a:lnTo>
                <a:lnTo>
                  <a:pt x="15760" y="3309"/>
                </a:lnTo>
                <a:lnTo>
                  <a:pt x="15560" y="3453"/>
                </a:lnTo>
                <a:lnTo>
                  <a:pt x="15310" y="3453"/>
                </a:lnTo>
                <a:lnTo>
                  <a:pt x="15110" y="3453"/>
                </a:lnTo>
                <a:lnTo>
                  <a:pt x="14860" y="3453"/>
                </a:lnTo>
                <a:lnTo>
                  <a:pt x="14659" y="3453"/>
                </a:lnTo>
                <a:lnTo>
                  <a:pt x="14459" y="3453"/>
                </a:lnTo>
                <a:lnTo>
                  <a:pt x="14209" y="3453"/>
                </a:lnTo>
                <a:lnTo>
                  <a:pt x="14009" y="3453"/>
                </a:lnTo>
                <a:lnTo>
                  <a:pt x="13809" y="3453"/>
                </a:lnTo>
                <a:lnTo>
                  <a:pt x="13609" y="3549"/>
                </a:lnTo>
                <a:lnTo>
                  <a:pt x="13559" y="3740"/>
                </a:lnTo>
                <a:lnTo>
                  <a:pt x="13809" y="3884"/>
                </a:lnTo>
                <a:lnTo>
                  <a:pt x="14009" y="3884"/>
                </a:lnTo>
                <a:lnTo>
                  <a:pt x="14209" y="3836"/>
                </a:lnTo>
                <a:lnTo>
                  <a:pt x="14309" y="4028"/>
                </a:lnTo>
                <a:lnTo>
                  <a:pt x="14359" y="4220"/>
                </a:lnTo>
                <a:lnTo>
                  <a:pt x="14359" y="4460"/>
                </a:lnTo>
                <a:lnTo>
                  <a:pt x="14409" y="4652"/>
                </a:lnTo>
                <a:lnTo>
                  <a:pt x="14759" y="4652"/>
                </a:lnTo>
                <a:lnTo>
                  <a:pt x="14960" y="4604"/>
                </a:lnTo>
                <a:lnTo>
                  <a:pt x="15160" y="4556"/>
                </a:lnTo>
                <a:lnTo>
                  <a:pt x="15360" y="4652"/>
                </a:lnTo>
                <a:lnTo>
                  <a:pt x="15560" y="4652"/>
                </a:lnTo>
                <a:lnTo>
                  <a:pt x="15710" y="4460"/>
                </a:lnTo>
                <a:lnTo>
                  <a:pt x="15910" y="4364"/>
                </a:lnTo>
                <a:lnTo>
                  <a:pt x="16110" y="4268"/>
                </a:lnTo>
                <a:lnTo>
                  <a:pt x="16310" y="4172"/>
                </a:lnTo>
                <a:lnTo>
                  <a:pt x="16561" y="4220"/>
                </a:lnTo>
                <a:lnTo>
                  <a:pt x="16761" y="4412"/>
                </a:lnTo>
                <a:lnTo>
                  <a:pt x="16961" y="4556"/>
                </a:lnTo>
                <a:lnTo>
                  <a:pt x="17161" y="4556"/>
                </a:lnTo>
                <a:lnTo>
                  <a:pt x="17361" y="4556"/>
                </a:lnTo>
                <a:lnTo>
                  <a:pt x="17561" y="4460"/>
                </a:lnTo>
                <a:lnTo>
                  <a:pt x="17761" y="4412"/>
                </a:lnTo>
                <a:lnTo>
                  <a:pt x="17961" y="4412"/>
                </a:lnTo>
                <a:lnTo>
                  <a:pt x="18161" y="4460"/>
                </a:lnTo>
                <a:lnTo>
                  <a:pt x="18262" y="4700"/>
                </a:lnTo>
                <a:lnTo>
                  <a:pt x="18312" y="4892"/>
                </a:lnTo>
                <a:lnTo>
                  <a:pt x="18312" y="5083"/>
                </a:lnTo>
                <a:lnTo>
                  <a:pt x="18262" y="5275"/>
                </a:lnTo>
                <a:lnTo>
                  <a:pt x="18412" y="5467"/>
                </a:lnTo>
                <a:lnTo>
                  <a:pt x="18562" y="5659"/>
                </a:lnTo>
                <a:lnTo>
                  <a:pt x="18562" y="5851"/>
                </a:lnTo>
                <a:lnTo>
                  <a:pt x="18562" y="6091"/>
                </a:lnTo>
                <a:lnTo>
                  <a:pt x="18612" y="6282"/>
                </a:lnTo>
                <a:lnTo>
                  <a:pt x="18612" y="6474"/>
                </a:lnTo>
                <a:lnTo>
                  <a:pt x="18362" y="6570"/>
                </a:lnTo>
                <a:lnTo>
                  <a:pt x="18061" y="6618"/>
                </a:lnTo>
                <a:lnTo>
                  <a:pt x="17911" y="6810"/>
                </a:lnTo>
                <a:lnTo>
                  <a:pt x="17911" y="7002"/>
                </a:lnTo>
                <a:lnTo>
                  <a:pt x="17961" y="7195"/>
                </a:lnTo>
                <a:lnTo>
                  <a:pt x="18161" y="7339"/>
                </a:lnTo>
                <a:lnTo>
                  <a:pt x="18362" y="7434"/>
                </a:lnTo>
                <a:lnTo>
                  <a:pt x="18562" y="7387"/>
                </a:lnTo>
                <a:lnTo>
                  <a:pt x="18762" y="7291"/>
                </a:lnTo>
                <a:lnTo>
                  <a:pt x="18962" y="7339"/>
                </a:lnTo>
                <a:lnTo>
                  <a:pt x="19062" y="7530"/>
                </a:lnTo>
                <a:lnTo>
                  <a:pt x="19112" y="7722"/>
                </a:lnTo>
                <a:lnTo>
                  <a:pt x="18962" y="7914"/>
                </a:lnTo>
                <a:lnTo>
                  <a:pt x="18962" y="8106"/>
                </a:lnTo>
                <a:lnTo>
                  <a:pt x="19012" y="8346"/>
                </a:lnTo>
                <a:lnTo>
                  <a:pt x="19212" y="8394"/>
                </a:lnTo>
                <a:lnTo>
                  <a:pt x="19312" y="8586"/>
                </a:lnTo>
                <a:lnTo>
                  <a:pt x="19562" y="8681"/>
                </a:lnTo>
                <a:lnTo>
                  <a:pt x="19813" y="8681"/>
                </a:lnTo>
                <a:lnTo>
                  <a:pt x="20063" y="8634"/>
                </a:lnTo>
                <a:lnTo>
                  <a:pt x="20263" y="8634"/>
                </a:lnTo>
                <a:lnTo>
                  <a:pt x="20463" y="8634"/>
                </a:lnTo>
                <a:lnTo>
                  <a:pt x="20513" y="8442"/>
                </a:lnTo>
                <a:lnTo>
                  <a:pt x="20513" y="8250"/>
                </a:lnTo>
                <a:lnTo>
                  <a:pt x="20713" y="8058"/>
                </a:lnTo>
                <a:lnTo>
                  <a:pt x="20713" y="7866"/>
                </a:lnTo>
                <a:lnTo>
                  <a:pt x="20913" y="7722"/>
                </a:lnTo>
                <a:lnTo>
                  <a:pt x="21113" y="7578"/>
                </a:lnTo>
                <a:lnTo>
                  <a:pt x="21113" y="7387"/>
                </a:lnTo>
                <a:lnTo>
                  <a:pt x="21113" y="7195"/>
                </a:lnTo>
                <a:lnTo>
                  <a:pt x="21213" y="7002"/>
                </a:lnTo>
                <a:lnTo>
                  <a:pt x="21413" y="6906"/>
                </a:lnTo>
                <a:lnTo>
                  <a:pt x="21564" y="7146"/>
                </a:lnTo>
                <a:lnTo>
                  <a:pt x="21764" y="7291"/>
                </a:lnTo>
                <a:lnTo>
                  <a:pt x="21964" y="7243"/>
                </a:lnTo>
                <a:lnTo>
                  <a:pt x="22164" y="7195"/>
                </a:lnTo>
                <a:lnTo>
                  <a:pt x="22364" y="7243"/>
                </a:lnTo>
                <a:lnTo>
                  <a:pt x="22564" y="7339"/>
                </a:lnTo>
                <a:lnTo>
                  <a:pt x="22764" y="7195"/>
                </a:lnTo>
                <a:lnTo>
                  <a:pt x="22764" y="7002"/>
                </a:lnTo>
                <a:lnTo>
                  <a:pt x="22814" y="6810"/>
                </a:lnTo>
                <a:lnTo>
                  <a:pt x="23014" y="6714"/>
                </a:lnTo>
                <a:lnTo>
                  <a:pt x="23215" y="6714"/>
                </a:lnTo>
                <a:lnTo>
                  <a:pt x="23315" y="6522"/>
                </a:lnTo>
                <a:lnTo>
                  <a:pt x="23315" y="6330"/>
                </a:lnTo>
                <a:lnTo>
                  <a:pt x="23415" y="6139"/>
                </a:lnTo>
                <a:lnTo>
                  <a:pt x="23615" y="5995"/>
                </a:lnTo>
                <a:lnTo>
                  <a:pt x="23815" y="5947"/>
                </a:lnTo>
                <a:lnTo>
                  <a:pt x="24015" y="5947"/>
                </a:lnTo>
                <a:lnTo>
                  <a:pt x="24215" y="5803"/>
                </a:lnTo>
                <a:lnTo>
                  <a:pt x="24415" y="5755"/>
                </a:lnTo>
                <a:lnTo>
                  <a:pt x="24615" y="5755"/>
                </a:lnTo>
                <a:lnTo>
                  <a:pt x="24766" y="5995"/>
                </a:lnTo>
                <a:lnTo>
                  <a:pt x="24766" y="6187"/>
                </a:lnTo>
                <a:lnTo>
                  <a:pt x="24766" y="6378"/>
                </a:lnTo>
                <a:lnTo>
                  <a:pt x="24766" y="6570"/>
                </a:lnTo>
                <a:lnTo>
                  <a:pt x="24766" y="6762"/>
                </a:lnTo>
                <a:lnTo>
                  <a:pt x="24615" y="6954"/>
                </a:lnTo>
                <a:lnTo>
                  <a:pt x="24415" y="6906"/>
                </a:lnTo>
                <a:lnTo>
                  <a:pt x="24215" y="6810"/>
                </a:lnTo>
                <a:lnTo>
                  <a:pt x="24015" y="6858"/>
                </a:lnTo>
                <a:lnTo>
                  <a:pt x="23865" y="7050"/>
                </a:lnTo>
                <a:lnTo>
                  <a:pt x="23665" y="7195"/>
                </a:lnTo>
                <a:lnTo>
                  <a:pt x="23565" y="7387"/>
                </a:lnTo>
                <a:lnTo>
                  <a:pt x="23565" y="7578"/>
                </a:lnTo>
                <a:lnTo>
                  <a:pt x="23465" y="7770"/>
                </a:lnTo>
                <a:lnTo>
                  <a:pt x="23315" y="7962"/>
                </a:lnTo>
                <a:lnTo>
                  <a:pt x="23115" y="8154"/>
                </a:lnTo>
                <a:lnTo>
                  <a:pt x="23014" y="8346"/>
                </a:lnTo>
                <a:lnTo>
                  <a:pt x="23014" y="8538"/>
                </a:lnTo>
                <a:lnTo>
                  <a:pt x="22814" y="8538"/>
                </a:lnTo>
                <a:lnTo>
                  <a:pt x="22714" y="8777"/>
                </a:lnTo>
                <a:lnTo>
                  <a:pt x="22714" y="8969"/>
                </a:lnTo>
                <a:lnTo>
                  <a:pt x="22714" y="9161"/>
                </a:lnTo>
                <a:lnTo>
                  <a:pt x="22614" y="9353"/>
                </a:lnTo>
                <a:lnTo>
                  <a:pt x="22414" y="9401"/>
                </a:lnTo>
                <a:lnTo>
                  <a:pt x="22214" y="9401"/>
                </a:lnTo>
                <a:lnTo>
                  <a:pt x="22014" y="9449"/>
                </a:lnTo>
                <a:lnTo>
                  <a:pt x="21914" y="9641"/>
                </a:lnTo>
                <a:lnTo>
                  <a:pt x="21714" y="9785"/>
                </a:lnTo>
                <a:lnTo>
                  <a:pt x="21714" y="9976"/>
                </a:lnTo>
                <a:lnTo>
                  <a:pt x="21714" y="10216"/>
                </a:lnTo>
                <a:lnTo>
                  <a:pt x="21564" y="10408"/>
                </a:lnTo>
                <a:lnTo>
                  <a:pt x="21363" y="10648"/>
                </a:lnTo>
                <a:lnTo>
                  <a:pt x="21363" y="10888"/>
                </a:lnTo>
                <a:lnTo>
                  <a:pt x="21163" y="10984"/>
                </a:lnTo>
                <a:lnTo>
                  <a:pt x="20763" y="10984"/>
                </a:lnTo>
                <a:lnTo>
                  <a:pt x="20563" y="10984"/>
                </a:lnTo>
                <a:lnTo>
                  <a:pt x="20363" y="11032"/>
                </a:lnTo>
                <a:lnTo>
                  <a:pt x="20163" y="11080"/>
                </a:lnTo>
                <a:lnTo>
                  <a:pt x="19963" y="10984"/>
                </a:lnTo>
                <a:lnTo>
                  <a:pt x="19762" y="10840"/>
                </a:lnTo>
                <a:lnTo>
                  <a:pt x="19562" y="10840"/>
                </a:lnTo>
                <a:lnTo>
                  <a:pt x="19362" y="10840"/>
                </a:lnTo>
                <a:lnTo>
                  <a:pt x="19112" y="10936"/>
                </a:lnTo>
                <a:lnTo>
                  <a:pt x="18912" y="10888"/>
                </a:lnTo>
                <a:lnTo>
                  <a:pt x="18712" y="10840"/>
                </a:lnTo>
                <a:lnTo>
                  <a:pt x="18562" y="11223"/>
                </a:lnTo>
                <a:lnTo>
                  <a:pt x="18362" y="11367"/>
                </a:lnTo>
                <a:lnTo>
                  <a:pt x="18161" y="11367"/>
                </a:lnTo>
                <a:lnTo>
                  <a:pt x="18111" y="11175"/>
                </a:lnTo>
                <a:lnTo>
                  <a:pt x="18161" y="10984"/>
                </a:lnTo>
                <a:lnTo>
                  <a:pt x="18161" y="10792"/>
                </a:lnTo>
                <a:lnTo>
                  <a:pt x="18161" y="10600"/>
                </a:lnTo>
                <a:lnTo>
                  <a:pt x="17711" y="10408"/>
                </a:lnTo>
                <a:lnTo>
                  <a:pt x="17661" y="10216"/>
                </a:lnTo>
                <a:lnTo>
                  <a:pt x="17711" y="10024"/>
                </a:lnTo>
                <a:lnTo>
                  <a:pt x="17811" y="9833"/>
                </a:lnTo>
                <a:lnTo>
                  <a:pt x="17861" y="9593"/>
                </a:lnTo>
                <a:lnTo>
                  <a:pt x="17861" y="9353"/>
                </a:lnTo>
                <a:lnTo>
                  <a:pt x="17811" y="9161"/>
                </a:lnTo>
                <a:lnTo>
                  <a:pt x="17761" y="8921"/>
                </a:lnTo>
                <a:lnTo>
                  <a:pt x="17761" y="8729"/>
                </a:lnTo>
                <a:lnTo>
                  <a:pt x="17611" y="8538"/>
                </a:lnTo>
                <a:lnTo>
                  <a:pt x="17511" y="8346"/>
                </a:lnTo>
                <a:lnTo>
                  <a:pt x="17611" y="8154"/>
                </a:lnTo>
                <a:lnTo>
                  <a:pt x="17711" y="7962"/>
                </a:lnTo>
                <a:lnTo>
                  <a:pt x="17761" y="7770"/>
                </a:lnTo>
                <a:lnTo>
                  <a:pt x="17711" y="7387"/>
                </a:lnTo>
                <a:lnTo>
                  <a:pt x="17711" y="7195"/>
                </a:lnTo>
                <a:lnTo>
                  <a:pt x="17661" y="6954"/>
                </a:lnTo>
                <a:lnTo>
                  <a:pt x="17461" y="6810"/>
                </a:lnTo>
                <a:lnTo>
                  <a:pt x="17211" y="6906"/>
                </a:lnTo>
                <a:lnTo>
                  <a:pt x="17011" y="7002"/>
                </a:lnTo>
                <a:lnTo>
                  <a:pt x="16811" y="7002"/>
                </a:lnTo>
                <a:lnTo>
                  <a:pt x="16611" y="6906"/>
                </a:lnTo>
                <a:lnTo>
                  <a:pt x="16410" y="6810"/>
                </a:lnTo>
                <a:lnTo>
                  <a:pt x="16210" y="6954"/>
                </a:lnTo>
                <a:lnTo>
                  <a:pt x="16060" y="7146"/>
                </a:lnTo>
                <a:lnTo>
                  <a:pt x="15860" y="7195"/>
                </a:lnTo>
                <a:lnTo>
                  <a:pt x="15610" y="7098"/>
                </a:lnTo>
                <a:lnTo>
                  <a:pt x="15410" y="7050"/>
                </a:lnTo>
                <a:lnTo>
                  <a:pt x="15210" y="7243"/>
                </a:lnTo>
                <a:lnTo>
                  <a:pt x="15110" y="7434"/>
                </a:lnTo>
                <a:lnTo>
                  <a:pt x="15010" y="7626"/>
                </a:lnTo>
                <a:lnTo>
                  <a:pt x="14910" y="7818"/>
                </a:lnTo>
                <a:lnTo>
                  <a:pt x="14860" y="8010"/>
                </a:lnTo>
                <a:lnTo>
                  <a:pt x="14609" y="8010"/>
                </a:lnTo>
                <a:lnTo>
                  <a:pt x="14409" y="8010"/>
                </a:lnTo>
                <a:lnTo>
                  <a:pt x="14359" y="7818"/>
                </a:lnTo>
                <a:lnTo>
                  <a:pt x="14409" y="7626"/>
                </a:lnTo>
                <a:lnTo>
                  <a:pt x="14409" y="7434"/>
                </a:lnTo>
                <a:lnTo>
                  <a:pt x="14209" y="7387"/>
                </a:lnTo>
                <a:lnTo>
                  <a:pt x="14009" y="7339"/>
                </a:lnTo>
                <a:lnTo>
                  <a:pt x="13959" y="7098"/>
                </a:lnTo>
                <a:lnTo>
                  <a:pt x="14009" y="6906"/>
                </a:lnTo>
                <a:lnTo>
                  <a:pt x="14009" y="6666"/>
                </a:lnTo>
                <a:lnTo>
                  <a:pt x="14009" y="6474"/>
                </a:lnTo>
                <a:lnTo>
                  <a:pt x="14059" y="6282"/>
                </a:lnTo>
                <a:lnTo>
                  <a:pt x="14059" y="6091"/>
                </a:lnTo>
                <a:lnTo>
                  <a:pt x="13859" y="5995"/>
                </a:lnTo>
                <a:lnTo>
                  <a:pt x="13659" y="5899"/>
                </a:lnTo>
                <a:lnTo>
                  <a:pt x="13409" y="5899"/>
                </a:lnTo>
                <a:lnTo>
                  <a:pt x="13209" y="5899"/>
                </a:lnTo>
                <a:lnTo>
                  <a:pt x="13008" y="5755"/>
                </a:lnTo>
                <a:lnTo>
                  <a:pt x="12808" y="5707"/>
                </a:lnTo>
                <a:lnTo>
                  <a:pt x="12508" y="5707"/>
                </a:lnTo>
                <a:lnTo>
                  <a:pt x="12357" y="5899"/>
                </a:lnTo>
                <a:lnTo>
                  <a:pt x="12157" y="6091"/>
                </a:lnTo>
                <a:lnTo>
                  <a:pt x="12157" y="6282"/>
                </a:lnTo>
                <a:lnTo>
                  <a:pt x="12157" y="6474"/>
                </a:lnTo>
                <a:lnTo>
                  <a:pt x="11957" y="6666"/>
                </a:lnTo>
                <a:lnTo>
                  <a:pt x="11907" y="6858"/>
                </a:lnTo>
                <a:lnTo>
                  <a:pt x="11707" y="6906"/>
                </a:lnTo>
                <a:lnTo>
                  <a:pt x="11506" y="6858"/>
                </a:lnTo>
                <a:lnTo>
                  <a:pt x="11306" y="6954"/>
                </a:lnTo>
                <a:lnTo>
                  <a:pt x="11106" y="7050"/>
                </a:lnTo>
                <a:lnTo>
                  <a:pt x="11056" y="7291"/>
                </a:lnTo>
                <a:lnTo>
                  <a:pt x="11106" y="7482"/>
                </a:lnTo>
                <a:lnTo>
                  <a:pt x="11106" y="7674"/>
                </a:lnTo>
                <a:lnTo>
                  <a:pt x="11006" y="7866"/>
                </a:lnTo>
                <a:lnTo>
                  <a:pt x="10856" y="8058"/>
                </a:lnTo>
                <a:lnTo>
                  <a:pt x="10806" y="8250"/>
                </a:lnTo>
                <a:lnTo>
                  <a:pt x="10756" y="8442"/>
                </a:lnTo>
                <a:lnTo>
                  <a:pt x="10756" y="8634"/>
                </a:lnTo>
                <a:lnTo>
                  <a:pt x="10706" y="8825"/>
                </a:lnTo>
                <a:lnTo>
                  <a:pt x="10556" y="9017"/>
                </a:lnTo>
                <a:lnTo>
                  <a:pt x="10356" y="9209"/>
                </a:lnTo>
                <a:lnTo>
                  <a:pt x="10156" y="9209"/>
                </a:lnTo>
                <a:lnTo>
                  <a:pt x="9956" y="9161"/>
                </a:lnTo>
                <a:lnTo>
                  <a:pt x="9755" y="9257"/>
                </a:lnTo>
                <a:lnTo>
                  <a:pt x="9555" y="9449"/>
                </a:lnTo>
                <a:lnTo>
                  <a:pt x="9405" y="9689"/>
                </a:lnTo>
                <a:lnTo>
                  <a:pt x="9405" y="9881"/>
                </a:lnTo>
                <a:lnTo>
                  <a:pt x="9405" y="10072"/>
                </a:lnTo>
                <a:lnTo>
                  <a:pt x="9405" y="10264"/>
                </a:lnTo>
                <a:lnTo>
                  <a:pt x="9355" y="10456"/>
                </a:lnTo>
                <a:lnTo>
                  <a:pt x="9505" y="10648"/>
                </a:lnTo>
                <a:lnTo>
                  <a:pt x="9705" y="10792"/>
                </a:lnTo>
                <a:lnTo>
                  <a:pt x="9755" y="10984"/>
                </a:lnTo>
                <a:lnTo>
                  <a:pt x="9655" y="11175"/>
                </a:lnTo>
                <a:lnTo>
                  <a:pt x="9555" y="11415"/>
                </a:lnTo>
                <a:lnTo>
                  <a:pt x="9305" y="11511"/>
                </a:lnTo>
                <a:lnTo>
                  <a:pt x="9105" y="11511"/>
                </a:lnTo>
                <a:lnTo>
                  <a:pt x="8905" y="11655"/>
                </a:lnTo>
                <a:lnTo>
                  <a:pt x="8705" y="11655"/>
                </a:lnTo>
                <a:lnTo>
                  <a:pt x="8505" y="11655"/>
                </a:lnTo>
                <a:lnTo>
                  <a:pt x="8305" y="11559"/>
                </a:lnTo>
                <a:lnTo>
                  <a:pt x="8104" y="11559"/>
                </a:lnTo>
                <a:lnTo>
                  <a:pt x="7904" y="11655"/>
                </a:lnTo>
                <a:lnTo>
                  <a:pt x="7704" y="11415"/>
                </a:lnTo>
                <a:lnTo>
                  <a:pt x="7654" y="11223"/>
                </a:lnTo>
                <a:lnTo>
                  <a:pt x="7404" y="11223"/>
                </a:lnTo>
                <a:lnTo>
                  <a:pt x="7304" y="11032"/>
                </a:lnTo>
                <a:lnTo>
                  <a:pt x="7104" y="10888"/>
                </a:lnTo>
                <a:lnTo>
                  <a:pt x="6904" y="10744"/>
                </a:lnTo>
                <a:lnTo>
                  <a:pt x="6704" y="10744"/>
                </a:lnTo>
                <a:lnTo>
                  <a:pt x="6503" y="10696"/>
                </a:lnTo>
                <a:lnTo>
                  <a:pt x="6303" y="10648"/>
                </a:lnTo>
                <a:lnTo>
                  <a:pt x="6053" y="10840"/>
                </a:lnTo>
                <a:lnTo>
                  <a:pt x="6153" y="10648"/>
                </a:lnTo>
                <a:close/>
              </a:path>
            </a:pathLst>
          </a:custGeom>
          <a:solidFill>
            <a:srgbClr val="6792f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-855720" y="2532240"/>
            <a:ext cx="1198800" cy="959040"/>
          </a:xfrm>
          <a:custGeom>
            <a:avLst/>
            <a:gdLst/>
            <a:ahLst/>
            <a:rect l="0" t="0" r="r" b="b"/>
            <a:pathLst>
              <a:path w="3330" h="2664">
                <a:moveTo>
                  <a:pt x="665" y="0"/>
                </a:moveTo>
                <a:lnTo>
                  <a:pt x="765" y="192"/>
                </a:lnTo>
                <a:lnTo>
                  <a:pt x="832" y="320"/>
                </a:lnTo>
                <a:lnTo>
                  <a:pt x="832" y="449"/>
                </a:lnTo>
                <a:lnTo>
                  <a:pt x="832" y="577"/>
                </a:lnTo>
                <a:lnTo>
                  <a:pt x="865" y="705"/>
                </a:lnTo>
                <a:lnTo>
                  <a:pt x="898" y="834"/>
                </a:lnTo>
                <a:lnTo>
                  <a:pt x="998" y="994"/>
                </a:lnTo>
                <a:lnTo>
                  <a:pt x="998" y="1155"/>
                </a:lnTo>
                <a:lnTo>
                  <a:pt x="1032" y="1283"/>
                </a:lnTo>
                <a:lnTo>
                  <a:pt x="1065" y="1412"/>
                </a:lnTo>
                <a:lnTo>
                  <a:pt x="1098" y="1541"/>
                </a:lnTo>
                <a:lnTo>
                  <a:pt x="1098" y="1701"/>
                </a:lnTo>
                <a:lnTo>
                  <a:pt x="1131" y="1830"/>
                </a:lnTo>
                <a:lnTo>
                  <a:pt x="1131" y="1958"/>
                </a:lnTo>
                <a:lnTo>
                  <a:pt x="1098" y="2086"/>
                </a:lnTo>
                <a:lnTo>
                  <a:pt x="1131" y="2215"/>
                </a:lnTo>
                <a:lnTo>
                  <a:pt x="998" y="2311"/>
                </a:lnTo>
                <a:lnTo>
                  <a:pt x="865" y="2183"/>
                </a:lnTo>
                <a:lnTo>
                  <a:pt x="799" y="2054"/>
                </a:lnTo>
                <a:lnTo>
                  <a:pt x="665" y="1926"/>
                </a:lnTo>
                <a:lnTo>
                  <a:pt x="532" y="1926"/>
                </a:lnTo>
                <a:lnTo>
                  <a:pt x="399" y="1926"/>
                </a:lnTo>
                <a:lnTo>
                  <a:pt x="266" y="1862"/>
                </a:lnTo>
                <a:lnTo>
                  <a:pt x="133" y="1798"/>
                </a:lnTo>
                <a:lnTo>
                  <a:pt x="0" y="1798"/>
                </a:lnTo>
                <a:lnTo>
                  <a:pt x="133" y="1862"/>
                </a:lnTo>
                <a:lnTo>
                  <a:pt x="266" y="1990"/>
                </a:lnTo>
                <a:lnTo>
                  <a:pt x="399" y="1990"/>
                </a:lnTo>
                <a:lnTo>
                  <a:pt x="532" y="2022"/>
                </a:lnTo>
                <a:lnTo>
                  <a:pt x="665" y="2022"/>
                </a:lnTo>
                <a:lnTo>
                  <a:pt x="732" y="2151"/>
                </a:lnTo>
                <a:lnTo>
                  <a:pt x="832" y="2279"/>
                </a:lnTo>
                <a:lnTo>
                  <a:pt x="898" y="2407"/>
                </a:lnTo>
                <a:lnTo>
                  <a:pt x="1032" y="2407"/>
                </a:lnTo>
                <a:lnTo>
                  <a:pt x="1165" y="2343"/>
                </a:lnTo>
                <a:lnTo>
                  <a:pt x="1298" y="2311"/>
                </a:lnTo>
                <a:lnTo>
                  <a:pt x="1431" y="2407"/>
                </a:lnTo>
                <a:lnTo>
                  <a:pt x="1564" y="2471"/>
                </a:lnTo>
                <a:lnTo>
                  <a:pt x="1698" y="2568"/>
                </a:lnTo>
                <a:lnTo>
                  <a:pt x="1832" y="2632"/>
                </a:lnTo>
                <a:lnTo>
                  <a:pt x="1965" y="2632"/>
                </a:lnTo>
                <a:lnTo>
                  <a:pt x="2131" y="2632"/>
                </a:lnTo>
                <a:lnTo>
                  <a:pt x="2398" y="2664"/>
                </a:lnTo>
                <a:lnTo>
                  <a:pt x="2531" y="2664"/>
                </a:lnTo>
                <a:lnTo>
                  <a:pt x="2697" y="2600"/>
                </a:lnTo>
                <a:lnTo>
                  <a:pt x="2830" y="2600"/>
                </a:lnTo>
                <a:lnTo>
                  <a:pt x="2997" y="2568"/>
                </a:lnTo>
                <a:lnTo>
                  <a:pt x="3163" y="2536"/>
                </a:lnTo>
                <a:lnTo>
                  <a:pt x="3330" y="2504"/>
                </a:lnTo>
                <a:lnTo>
                  <a:pt x="3130" y="2504"/>
                </a:lnTo>
                <a:lnTo>
                  <a:pt x="2997" y="2504"/>
                </a:lnTo>
                <a:lnTo>
                  <a:pt x="2797" y="2536"/>
                </a:lnTo>
                <a:lnTo>
                  <a:pt x="2664" y="2536"/>
                </a:lnTo>
                <a:lnTo>
                  <a:pt x="2531" y="2536"/>
                </a:lnTo>
                <a:lnTo>
                  <a:pt x="2398" y="2536"/>
                </a:lnTo>
                <a:lnTo>
                  <a:pt x="2264" y="2536"/>
                </a:lnTo>
                <a:lnTo>
                  <a:pt x="2131" y="2536"/>
                </a:lnTo>
                <a:lnTo>
                  <a:pt x="1998" y="2536"/>
                </a:lnTo>
                <a:lnTo>
                  <a:pt x="1865" y="2504"/>
                </a:lnTo>
                <a:lnTo>
                  <a:pt x="1732" y="2407"/>
                </a:lnTo>
                <a:lnTo>
                  <a:pt x="1598" y="2311"/>
                </a:lnTo>
                <a:lnTo>
                  <a:pt x="1464" y="2311"/>
                </a:lnTo>
                <a:lnTo>
                  <a:pt x="1331" y="2247"/>
                </a:lnTo>
                <a:lnTo>
                  <a:pt x="1231" y="2118"/>
                </a:lnTo>
                <a:lnTo>
                  <a:pt x="1265" y="1990"/>
                </a:lnTo>
                <a:lnTo>
                  <a:pt x="1265" y="1862"/>
                </a:lnTo>
                <a:lnTo>
                  <a:pt x="1265" y="1733"/>
                </a:lnTo>
                <a:lnTo>
                  <a:pt x="1265" y="1605"/>
                </a:lnTo>
                <a:lnTo>
                  <a:pt x="1231" y="1445"/>
                </a:lnTo>
                <a:lnTo>
                  <a:pt x="1231" y="1315"/>
                </a:lnTo>
                <a:lnTo>
                  <a:pt x="1198" y="1187"/>
                </a:lnTo>
                <a:lnTo>
                  <a:pt x="1131" y="1058"/>
                </a:lnTo>
                <a:lnTo>
                  <a:pt x="1131" y="930"/>
                </a:lnTo>
                <a:lnTo>
                  <a:pt x="1098" y="770"/>
                </a:lnTo>
                <a:lnTo>
                  <a:pt x="998" y="641"/>
                </a:lnTo>
                <a:lnTo>
                  <a:pt x="799" y="609"/>
                </a:lnTo>
                <a:lnTo>
                  <a:pt x="699" y="481"/>
                </a:lnTo>
                <a:lnTo>
                  <a:pt x="799" y="352"/>
                </a:lnTo>
                <a:lnTo>
                  <a:pt x="799" y="224"/>
                </a:lnTo>
                <a:lnTo>
                  <a:pt x="699" y="96"/>
                </a:lnTo>
                <a:lnTo>
                  <a:pt x="665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-903240" y="2314800"/>
            <a:ext cx="2027520" cy="4030920"/>
          </a:xfrm>
          <a:custGeom>
            <a:avLst/>
            <a:gdLst/>
            <a:ahLst/>
            <a:rect l="0" t="0" r="r" b="b"/>
            <a:pathLst>
              <a:path w="5632" h="11197">
                <a:moveTo>
                  <a:pt x="5398" y="0"/>
                </a:moveTo>
                <a:lnTo>
                  <a:pt x="5532" y="127"/>
                </a:lnTo>
                <a:lnTo>
                  <a:pt x="5598" y="255"/>
                </a:lnTo>
                <a:lnTo>
                  <a:pt x="5565" y="383"/>
                </a:lnTo>
                <a:lnTo>
                  <a:pt x="5498" y="511"/>
                </a:lnTo>
                <a:lnTo>
                  <a:pt x="5432" y="639"/>
                </a:lnTo>
                <a:lnTo>
                  <a:pt x="5398" y="799"/>
                </a:lnTo>
                <a:lnTo>
                  <a:pt x="5432" y="927"/>
                </a:lnTo>
                <a:lnTo>
                  <a:pt x="5365" y="1055"/>
                </a:lnTo>
                <a:lnTo>
                  <a:pt x="5232" y="1151"/>
                </a:lnTo>
                <a:lnTo>
                  <a:pt x="5232" y="1279"/>
                </a:lnTo>
                <a:lnTo>
                  <a:pt x="5232" y="1407"/>
                </a:lnTo>
                <a:lnTo>
                  <a:pt x="5032" y="1407"/>
                </a:lnTo>
                <a:lnTo>
                  <a:pt x="5065" y="1535"/>
                </a:lnTo>
                <a:lnTo>
                  <a:pt x="5065" y="1663"/>
                </a:lnTo>
                <a:lnTo>
                  <a:pt x="5132" y="1791"/>
                </a:lnTo>
                <a:lnTo>
                  <a:pt x="5199" y="1919"/>
                </a:lnTo>
                <a:lnTo>
                  <a:pt x="5299" y="2047"/>
                </a:lnTo>
                <a:lnTo>
                  <a:pt x="5332" y="2175"/>
                </a:lnTo>
                <a:lnTo>
                  <a:pt x="5332" y="2303"/>
                </a:lnTo>
                <a:lnTo>
                  <a:pt x="5332" y="2431"/>
                </a:lnTo>
                <a:lnTo>
                  <a:pt x="5232" y="2559"/>
                </a:lnTo>
                <a:lnTo>
                  <a:pt x="5232" y="2687"/>
                </a:lnTo>
                <a:lnTo>
                  <a:pt x="5232" y="2815"/>
                </a:lnTo>
                <a:lnTo>
                  <a:pt x="5199" y="2943"/>
                </a:lnTo>
                <a:lnTo>
                  <a:pt x="5199" y="3070"/>
                </a:lnTo>
                <a:lnTo>
                  <a:pt x="5165" y="3198"/>
                </a:lnTo>
                <a:lnTo>
                  <a:pt x="5099" y="3326"/>
                </a:lnTo>
                <a:lnTo>
                  <a:pt x="5065" y="3454"/>
                </a:lnTo>
                <a:lnTo>
                  <a:pt x="4865" y="3550"/>
                </a:lnTo>
                <a:lnTo>
                  <a:pt x="4732" y="3678"/>
                </a:lnTo>
                <a:lnTo>
                  <a:pt x="4699" y="3806"/>
                </a:lnTo>
                <a:lnTo>
                  <a:pt x="4665" y="3934"/>
                </a:lnTo>
                <a:lnTo>
                  <a:pt x="4599" y="4062"/>
                </a:lnTo>
                <a:lnTo>
                  <a:pt x="4565" y="4190"/>
                </a:lnTo>
                <a:lnTo>
                  <a:pt x="4532" y="4318"/>
                </a:lnTo>
                <a:lnTo>
                  <a:pt x="4499" y="4446"/>
                </a:lnTo>
                <a:lnTo>
                  <a:pt x="4366" y="4574"/>
                </a:lnTo>
                <a:lnTo>
                  <a:pt x="4332" y="4702"/>
                </a:lnTo>
                <a:lnTo>
                  <a:pt x="4266" y="4862"/>
                </a:lnTo>
                <a:lnTo>
                  <a:pt x="4232" y="4990"/>
                </a:lnTo>
                <a:lnTo>
                  <a:pt x="4166" y="5118"/>
                </a:lnTo>
                <a:lnTo>
                  <a:pt x="4099" y="5246"/>
                </a:lnTo>
                <a:lnTo>
                  <a:pt x="4032" y="5374"/>
                </a:lnTo>
                <a:lnTo>
                  <a:pt x="3932" y="5502"/>
                </a:lnTo>
                <a:lnTo>
                  <a:pt x="3832" y="5631"/>
                </a:lnTo>
                <a:lnTo>
                  <a:pt x="3699" y="5727"/>
                </a:lnTo>
                <a:lnTo>
                  <a:pt x="3566" y="5791"/>
                </a:lnTo>
                <a:lnTo>
                  <a:pt x="3433" y="5823"/>
                </a:lnTo>
                <a:lnTo>
                  <a:pt x="3299" y="5855"/>
                </a:lnTo>
                <a:lnTo>
                  <a:pt x="3166" y="5855"/>
                </a:lnTo>
                <a:lnTo>
                  <a:pt x="3033" y="5823"/>
                </a:lnTo>
                <a:lnTo>
                  <a:pt x="2899" y="5823"/>
                </a:lnTo>
                <a:lnTo>
                  <a:pt x="2765" y="5823"/>
                </a:lnTo>
                <a:lnTo>
                  <a:pt x="2632" y="5823"/>
                </a:lnTo>
                <a:lnTo>
                  <a:pt x="2499" y="5823"/>
                </a:lnTo>
                <a:lnTo>
                  <a:pt x="2365" y="5823"/>
                </a:lnTo>
                <a:lnTo>
                  <a:pt x="2232" y="5823"/>
                </a:lnTo>
                <a:lnTo>
                  <a:pt x="2099" y="5951"/>
                </a:lnTo>
                <a:lnTo>
                  <a:pt x="1965" y="6015"/>
                </a:lnTo>
                <a:lnTo>
                  <a:pt x="1865" y="5887"/>
                </a:lnTo>
                <a:lnTo>
                  <a:pt x="1766" y="5759"/>
                </a:lnTo>
                <a:lnTo>
                  <a:pt x="1666" y="5631"/>
                </a:lnTo>
                <a:lnTo>
                  <a:pt x="1566" y="5502"/>
                </a:lnTo>
                <a:lnTo>
                  <a:pt x="1432" y="5438"/>
                </a:lnTo>
                <a:lnTo>
                  <a:pt x="1299" y="5374"/>
                </a:lnTo>
                <a:lnTo>
                  <a:pt x="1166" y="5246"/>
                </a:lnTo>
                <a:lnTo>
                  <a:pt x="1032" y="5182"/>
                </a:lnTo>
                <a:lnTo>
                  <a:pt x="899" y="5150"/>
                </a:lnTo>
                <a:lnTo>
                  <a:pt x="766" y="5150"/>
                </a:lnTo>
                <a:lnTo>
                  <a:pt x="633" y="5182"/>
                </a:lnTo>
                <a:lnTo>
                  <a:pt x="499" y="5182"/>
                </a:lnTo>
                <a:lnTo>
                  <a:pt x="366" y="5182"/>
                </a:lnTo>
                <a:lnTo>
                  <a:pt x="199" y="5150"/>
                </a:lnTo>
                <a:lnTo>
                  <a:pt x="66" y="5118"/>
                </a:lnTo>
                <a:lnTo>
                  <a:pt x="199" y="5214"/>
                </a:lnTo>
                <a:lnTo>
                  <a:pt x="366" y="5278"/>
                </a:lnTo>
                <a:lnTo>
                  <a:pt x="499" y="5278"/>
                </a:lnTo>
                <a:lnTo>
                  <a:pt x="533" y="5406"/>
                </a:lnTo>
                <a:lnTo>
                  <a:pt x="699" y="5470"/>
                </a:lnTo>
                <a:lnTo>
                  <a:pt x="833" y="5534"/>
                </a:lnTo>
                <a:lnTo>
                  <a:pt x="966" y="5599"/>
                </a:lnTo>
                <a:lnTo>
                  <a:pt x="1099" y="5727"/>
                </a:lnTo>
                <a:lnTo>
                  <a:pt x="1166" y="5855"/>
                </a:lnTo>
                <a:lnTo>
                  <a:pt x="1332" y="5951"/>
                </a:lnTo>
                <a:lnTo>
                  <a:pt x="1466" y="5951"/>
                </a:lnTo>
                <a:lnTo>
                  <a:pt x="1599" y="6015"/>
                </a:lnTo>
                <a:lnTo>
                  <a:pt x="1732" y="6110"/>
                </a:lnTo>
                <a:lnTo>
                  <a:pt x="1832" y="6238"/>
                </a:lnTo>
                <a:lnTo>
                  <a:pt x="1865" y="6366"/>
                </a:lnTo>
                <a:lnTo>
                  <a:pt x="1832" y="6494"/>
                </a:lnTo>
                <a:lnTo>
                  <a:pt x="1766" y="6750"/>
                </a:lnTo>
                <a:lnTo>
                  <a:pt x="1766" y="6878"/>
                </a:lnTo>
                <a:lnTo>
                  <a:pt x="1766" y="7198"/>
                </a:lnTo>
                <a:lnTo>
                  <a:pt x="1766" y="7326"/>
                </a:lnTo>
                <a:lnTo>
                  <a:pt x="1732" y="7454"/>
                </a:lnTo>
                <a:lnTo>
                  <a:pt x="1599" y="7582"/>
                </a:lnTo>
                <a:lnTo>
                  <a:pt x="1532" y="7710"/>
                </a:lnTo>
                <a:lnTo>
                  <a:pt x="1532" y="7870"/>
                </a:lnTo>
                <a:lnTo>
                  <a:pt x="1466" y="8030"/>
                </a:lnTo>
                <a:lnTo>
                  <a:pt x="1366" y="8190"/>
                </a:lnTo>
                <a:lnTo>
                  <a:pt x="1299" y="8318"/>
                </a:lnTo>
                <a:lnTo>
                  <a:pt x="1266" y="8446"/>
                </a:lnTo>
                <a:lnTo>
                  <a:pt x="1166" y="8606"/>
                </a:lnTo>
                <a:lnTo>
                  <a:pt x="1066" y="8766"/>
                </a:lnTo>
                <a:lnTo>
                  <a:pt x="966" y="8926"/>
                </a:lnTo>
                <a:lnTo>
                  <a:pt x="866" y="9053"/>
                </a:lnTo>
                <a:lnTo>
                  <a:pt x="833" y="9181"/>
                </a:lnTo>
                <a:lnTo>
                  <a:pt x="799" y="9309"/>
                </a:lnTo>
                <a:lnTo>
                  <a:pt x="766" y="9469"/>
                </a:lnTo>
                <a:lnTo>
                  <a:pt x="733" y="9629"/>
                </a:lnTo>
                <a:lnTo>
                  <a:pt x="666" y="9757"/>
                </a:lnTo>
                <a:lnTo>
                  <a:pt x="599" y="9885"/>
                </a:lnTo>
                <a:lnTo>
                  <a:pt x="533" y="10013"/>
                </a:lnTo>
                <a:lnTo>
                  <a:pt x="433" y="10141"/>
                </a:lnTo>
                <a:lnTo>
                  <a:pt x="333" y="10269"/>
                </a:lnTo>
                <a:lnTo>
                  <a:pt x="299" y="10397"/>
                </a:lnTo>
                <a:lnTo>
                  <a:pt x="233" y="10525"/>
                </a:lnTo>
                <a:lnTo>
                  <a:pt x="199" y="10653"/>
                </a:lnTo>
                <a:lnTo>
                  <a:pt x="133" y="10813"/>
                </a:lnTo>
                <a:lnTo>
                  <a:pt x="99" y="10941"/>
                </a:lnTo>
                <a:lnTo>
                  <a:pt x="66" y="11069"/>
                </a:lnTo>
                <a:lnTo>
                  <a:pt x="0" y="11197"/>
                </a:lnTo>
                <a:lnTo>
                  <a:pt x="99" y="11069"/>
                </a:lnTo>
                <a:lnTo>
                  <a:pt x="166" y="10941"/>
                </a:lnTo>
                <a:lnTo>
                  <a:pt x="266" y="10781"/>
                </a:lnTo>
                <a:lnTo>
                  <a:pt x="333" y="10653"/>
                </a:lnTo>
                <a:lnTo>
                  <a:pt x="399" y="10525"/>
                </a:lnTo>
                <a:lnTo>
                  <a:pt x="466" y="10397"/>
                </a:lnTo>
                <a:lnTo>
                  <a:pt x="533" y="10269"/>
                </a:lnTo>
                <a:lnTo>
                  <a:pt x="633" y="10141"/>
                </a:lnTo>
                <a:lnTo>
                  <a:pt x="733" y="10013"/>
                </a:lnTo>
                <a:lnTo>
                  <a:pt x="833" y="9885"/>
                </a:lnTo>
                <a:lnTo>
                  <a:pt x="866" y="9757"/>
                </a:lnTo>
                <a:lnTo>
                  <a:pt x="932" y="9597"/>
                </a:lnTo>
                <a:lnTo>
                  <a:pt x="999" y="9469"/>
                </a:lnTo>
                <a:lnTo>
                  <a:pt x="1066" y="9341"/>
                </a:lnTo>
                <a:lnTo>
                  <a:pt x="1099" y="9085"/>
                </a:lnTo>
                <a:lnTo>
                  <a:pt x="1166" y="8958"/>
                </a:lnTo>
                <a:lnTo>
                  <a:pt x="1199" y="8830"/>
                </a:lnTo>
                <a:lnTo>
                  <a:pt x="1332" y="8702"/>
                </a:lnTo>
                <a:lnTo>
                  <a:pt x="1466" y="8606"/>
                </a:lnTo>
                <a:lnTo>
                  <a:pt x="1532" y="8478"/>
                </a:lnTo>
                <a:lnTo>
                  <a:pt x="1566" y="8318"/>
                </a:lnTo>
                <a:lnTo>
                  <a:pt x="1632" y="8190"/>
                </a:lnTo>
                <a:lnTo>
                  <a:pt x="1766" y="8062"/>
                </a:lnTo>
                <a:lnTo>
                  <a:pt x="1899" y="7902"/>
                </a:lnTo>
                <a:lnTo>
                  <a:pt x="1999" y="7774"/>
                </a:lnTo>
                <a:lnTo>
                  <a:pt x="2065" y="7646"/>
                </a:lnTo>
                <a:lnTo>
                  <a:pt x="2099" y="7518"/>
                </a:lnTo>
                <a:lnTo>
                  <a:pt x="2132" y="7358"/>
                </a:lnTo>
                <a:lnTo>
                  <a:pt x="2132" y="7230"/>
                </a:lnTo>
                <a:lnTo>
                  <a:pt x="2132" y="7102"/>
                </a:lnTo>
                <a:lnTo>
                  <a:pt x="2099" y="6974"/>
                </a:lnTo>
                <a:lnTo>
                  <a:pt x="2099" y="6846"/>
                </a:lnTo>
                <a:lnTo>
                  <a:pt x="2099" y="6718"/>
                </a:lnTo>
                <a:lnTo>
                  <a:pt x="2099" y="6590"/>
                </a:lnTo>
                <a:lnTo>
                  <a:pt x="2199" y="6462"/>
                </a:lnTo>
                <a:lnTo>
                  <a:pt x="2332" y="6430"/>
                </a:lnTo>
                <a:lnTo>
                  <a:pt x="2465" y="6366"/>
                </a:lnTo>
                <a:lnTo>
                  <a:pt x="2599" y="6334"/>
                </a:lnTo>
                <a:lnTo>
                  <a:pt x="2899" y="6302"/>
                </a:lnTo>
                <a:lnTo>
                  <a:pt x="3066" y="6238"/>
                </a:lnTo>
                <a:lnTo>
                  <a:pt x="3233" y="6206"/>
                </a:lnTo>
                <a:lnTo>
                  <a:pt x="3366" y="6142"/>
                </a:lnTo>
                <a:lnTo>
                  <a:pt x="3566" y="6142"/>
                </a:lnTo>
                <a:lnTo>
                  <a:pt x="3799" y="6078"/>
                </a:lnTo>
                <a:lnTo>
                  <a:pt x="3932" y="6015"/>
                </a:lnTo>
                <a:lnTo>
                  <a:pt x="4066" y="5951"/>
                </a:lnTo>
                <a:lnTo>
                  <a:pt x="4199" y="5823"/>
                </a:lnTo>
                <a:lnTo>
                  <a:pt x="4232" y="5663"/>
                </a:lnTo>
                <a:lnTo>
                  <a:pt x="4299" y="5534"/>
                </a:lnTo>
                <a:lnTo>
                  <a:pt x="4299" y="5342"/>
                </a:lnTo>
                <a:lnTo>
                  <a:pt x="4366" y="5118"/>
                </a:lnTo>
                <a:lnTo>
                  <a:pt x="4432" y="4862"/>
                </a:lnTo>
                <a:lnTo>
                  <a:pt x="4499" y="4734"/>
                </a:lnTo>
                <a:lnTo>
                  <a:pt x="4699" y="4670"/>
                </a:lnTo>
                <a:lnTo>
                  <a:pt x="4832" y="4574"/>
                </a:lnTo>
                <a:lnTo>
                  <a:pt x="4965" y="4446"/>
                </a:lnTo>
                <a:lnTo>
                  <a:pt x="5032" y="4318"/>
                </a:lnTo>
                <a:lnTo>
                  <a:pt x="5065" y="4190"/>
                </a:lnTo>
                <a:lnTo>
                  <a:pt x="5132" y="4030"/>
                </a:lnTo>
                <a:lnTo>
                  <a:pt x="5165" y="3902"/>
                </a:lnTo>
                <a:lnTo>
                  <a:pt x="5199" y="3774"/>
                </a:lnTo>
                <a:lnTo>
                  <a:pt x="5232" y="3614"/>
                </a:lnTo>
                <a:lnTo>
                  <a:pt x="5265" y="3486"/>
                </a:lnTo>
                <a:lnTo>
                  <a:pt x="5332" y="3358"/>
                </a:lnTo>
                <a:lnTo>
                  <a:pt x="5398" y="3230"/>
                </a:lnTo>
                <a:lnTo>
                  <a:pt x="5432" y="3102"/>
                </a:lnTo>
                <a:lnTo>
                  <a:pt x="5498" y="2975"/>
                </a:lnTo>
                <a:lnTo>
                  <a:pt x="5498" y="2847"/>
                </a:lnTo>
                <a:lnTo>
                  <a:pt x="5532" y="2719"/>
                </a:lnTo>
                <a:lnTo>
                  <a:pt x="5532" y="2591"/>
                </a:lnTo>
                <a:lnTo>
                  <a:pt x="5532" y="2431"/>
                </a:lnTo>
                <a:lnTo>
                  <a:pt x="5498" y="2303"/>
                </a:lnTo>
                <a:lnTo>
                  <a:pt x="5498" y="2175"/>
                </a:lnTo>
                <a:lnTo>
                  <a:pt x="5465" y="2047"/>
                </a:lnTo>
                <a:lnTo>
                  <a:pt x="5398" y="1919"/>
                </a:lnTo>
                <a:lnTo>
                  <a:pt x="5365" y="1791"/>
                </a:lnTo>
                <a:lnTo>
                  <a:pt x="5365" y="1663"/>
                </a:lnTo>
                <a:lnTo>
                  <a:pt x="5365" y="1535"/>
                </a:lnTo>
                <a:lnTo>
                  <a:pt x="5365" y="1407"/>
                </a:lnTo>
                <a:lnTo>
                  <a:pt x="5365" y="1279"/>
                </a:lnTo>
                <a:lnTo>
                  <a:pt x="5398" y="1151"/>
                </a:lnTo>
                <a:lnTo>
                  <a:pt x="5432" y="1023"/>
                </a:lnTo>
                <a:lnTo>
                  <a:pt x="5498" y="895"/>
                </a:lnTo>
                <a:lnTo>
                  <a:pt x="5598" y="735"/>
                </a:lnTo>
                <a:lnTo>
                  <a:pt x="5632" y="607"/>
                </a:lnTo>
                <a:lnTo>
                  <a:pt x="5632" y="479"/>
                </a:lnTo>
                <a:lnTo>
                  <a:pt x="5598" y="351"/>
                </a:lnTo>
                <a:lnTo>
                  <a:pt x="5565" y="223"/>
                </a:lnTo>
                <a:lnTo>
                  <a:pt x="5398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71680" y="3316320"/>
            <a:ext cx="3530880" cy="668520"/>
          </a:xfrm>
          <a:custGeom>
            <a:avLst/>
            <a:gdLst/>
            <a:ahLst/>
            <a:rect l="0" t="0" r="r" b="b"/>
            <a:pathLst>
              <a:path w="9808" h="1857">
                <a:moveTo>
                  <a:pt x="200" y="320"/>
                </a:moveTo>
                <a:lnTo>
                  <a:pt x="433" y="288"/>
                </a:lnTo>
                <a:lnTo>
                  <a:pt x="633" y="256"/>
                </a:lnTo>
                <a:lnTo>
                  <a:pt x="833" y="224"/>
                </a:lnTo>
                <a:lnTo>
                  <a:pt x="967" y="224"/>
                </a:lnTo>
                <a:lnTo>
                  <a:pt x="1100" y="192"/>
                </a:lnTo>
                <a:lnTo>
                  <a:pt x="1234" y="128"/>
                </a:lnTo>
                <a:lnTo>
                  <a:pt x="1367" y="128"/>
                </a:lnTo>
                <a:lnTo>
                  <a:pt x="1534" y="96"/>
                </a:lnTo>
                <a:lnTo>
                  <a:pt x="1834" y="32"/>
                </a:lnTo>
                <a:lnTo>
                  <a:pt x="2001" y="32"/>
                </a:lnTo>
                <a:lnTo>
                  <a:pt x="2234" y="0"/>
                </a:lnTo>
                <a:lnTo>
                  <a:pt x="2368" y="0"/>
                </a:lnTo>
                <a:lnTo>
                  <a:pt x="2501" y="0"/>
                </a:lnTo>
                <a:lnTo>
                  <a:pt x="2635" y="96"/>
                </a:lnTo>
                <a:lnTo>
                  <a:pt x="2768" y="96"/>
                </a:lnTo>
                <a:lnTo>
                  <a:pt x="2902" y="160"/>
                </a:lnTo>
                <a:lnTo>
                  <a:pt x="3135" y="224"/>
                </a:lnTo>
                <a:lnTo>
                  <a:pt x="3302" y="288"/>
                </a:lnTo>
                <a:lnTo>
                  <a:pt x="3435" y="352"/>
                </a:lnTo>
                <a:lnTo>
                  <a:pt x="3569" y="352"/>
                </a:lnTo>
                <a:lnTo>
                  <a:pt x="3702" y="384"/>
                </a:lnTo>
                <a:lnTo>
                  <a:pt x="3836" y="384"/>
                </a:lnTo>
                <a:lnTo>
                  <a:pt x="3969" y="416"/>
                </a:lnTo>
                <a:lnTo>
                  <a:pt x="4136" y="480"/>
                </a:lnTo>
                <a:lnTo>
                  <a:pt x="4303" y="576"/>
                </a:lnTo>
                <a:lnTo>
                  <a:pt x="4436" y="608"/>
                </a:lnTo>
                <a:lnTo>
                  <a:pt x="4570" y="608"/>
                </a:lnTo>
                <a:lnTo>
                  <a:pt x="4736" y="608"/>
                </a:lnTo>
                <a:lnTo>
                  <a:pt x="4870" y="640"/>
                </a:lnTo>
                <a:lnTo>
                  <a:pt x="5004" y="640"/>
                </a:lnTo>
                <a:lnTo>
                  <a:pt x="5138" y="736"/>
                </a:lnTo>
                <a:lnTo>
                  <a:pt x="5404" y="832"/>
                </a:lnTo>
                <a:lnTo>
                  <a:pt x="5705" y="832"/>
                </a:lnTo>
                <a:lnTo>
                  <a:pt x="5838" y="832"/>
                </a:lnTo>
                <a:lnTo>
                  <a:pt x="6105" y="864"/>
                </a:lnTo>
                <a:lnTo>
                  <a:pt x="6238" y="928"/>
                </a:lnTo>
                <a:lnTo>
                  <a:pt x="6405" y="993"/>
                </a:lnTo>
                <a:lnTo>
                  <a:pt x="6539" y="1057"/>
                </a:lnTo>
                <a:lnTo>
                  <a:pt x="6705" y="1121"/>
                </a:lnTo>
                <a:lnTo>
                  <a:pt x="6872" y="1121"/>
                </a:lnTo>
                <a:lnTo>
                  <a:pt x="7106" y="1153"/>
                </a:lnTo>
                <a:lnTo>
                  <a:pt x="7239" y="1185"/>
                </a:lnTo>
                <a:lnTo>
                  <a:pt x="7406" y="1217"/>
                </a:lnTo>
                <a:lnTo>
                  <a:pt x="7606" y="1249"/>
                </a:lnTo>
                <a:lnTo>
                  <a:pt x="7840" y="1281"/>
                </a:lnTo>
                <a:lnTo>
                  <a:pt x="7973" y="1281"/>
                </a:lnTo>
                <a:lnTo>
                  <a:pt x="8106" y="1345"/>
                </a:lnTo>
                <a:lnTo>
                  <a:pt x="8273" y="1377"/>
                </a:lnTo>
                <a:lnTo>
                  <a:pt x="8407" y="1441"/>
                </a:lnTo>
                <a:lnTo>
                  <a:pt x="8540" y="1505"/>
                </a:lnTo>
                <a:lnTo>
                  <a:pt x="8674" y="1569"/>
                </a:lnTo>
                <a:lnTo>
                  <a:pt x="8840" y="1697"/>
                </a:lnTo>
                <a:lnTo>
                  <a:pt x="8974" y="1729"/>
                </a:lnTo>
                <a:lnTo>
                  <a:pt x="9141" y="1729"/>
                </a:lnTo>
                <a:lnTo>
                  <a:pt x="9274" y="1729"/>
                </a:lnTo>
                <a:lnTo>
                  <a:pt x="9541" y="1729"/>
                </a:lnTo>
                <a:lnTo>
                  <a:pt x="9674" y="1761"/>
                </a:lnTo>
                <a:lnTo>
                  <a:pt x="9808" y="1793"/>
                </a:lnTo>
                <a:lnTo>
                  <a:pt x="9674" y="1825"/>
                </a:lnTo>
                <a:lnTo>
                  <a:pt x="9541" y="1857"/>
                </a:lnTo>
                <a:lnTo>
                  <a:pt x="9341" y="1857"/>
                </a:lnTo>
                <a:lnTo>
                  <a:pt x="9207" y="1857"/>
                </a:lnTo>
                <a:lnTo>
                  <a:pt x="9074" y="1825"/>
                </a:lnTo>
                <a:lnTo>
                  <a:pt x="8940" y="1825"/>
                </a:lnTo>
                <a:lnTo>
                  <a:pt x="8807" y="1825"/>
                </a:lnTo>
                <a:lnTo>
                  <a:pt x="8640" y="1729"/>
                </a:lnTo>
                <a:lnTo>
                  <a:pt x="8540" y="1601"/>
                </a:lnTo>
                <a:lnTo>
                  <a:pt x="8407" y="1569"/>
                </a:lnTo>
                <a:lnTo>
                  <a:pt x="8240" y="1505"/>
                </a:lnTo>
                <a:lnTo>
                  <a:pt x="8073" y="1441"/>
                </a:lnTo>
                <a:lnTo>
                  <a:pt x="7906" y="1409"/>
                </a:lnTo>
                <a:lnTo>
                  <a:pt x="7740" y="1377"/>
                </a:lnTo>
                <a:lnTo>
                  <a:pt x="7606" y="1345"/>
                </a:lnTo>
                <a:lnTo>
                  <a:pt x="7473" y="1313"/>
                </a:lnTo>
                <a:lnTo>
                  <a:pt x="7339" y="1281"/>
                </a:lnTo>
                <a:lnTo>
                  <a:pt x="7106" y="1249"/>
                </a:lnTo>
                <a:lnTo>
                  <a:pt x="6972" y="1217"/>
                </a:lnTo>
                <a:lnTo>
                  <a:pt x="6839" y="1185"/>
                </a:lnTo>
                <a:lnTo>
                  <a:pt x="6705" y="1185"/>
                </a:lnTo>
                <a:lnTo>
                  <a:pt x="6572" y="1185"/>
                </a:lnTo>
                <a:lnTo>
                  <a:pt x="6439" y="1153"/>
                </a:lnTo>
                <a:lnTo>
                  <a:pt x="6272" y="1057"/>
                </a:lnTo>
                <a:lnTo>
                  <a:pt x="6105" y="961"/>
                </a:lnTo>
                <a:lnTo>
                  <a:pt x="5938" y="896"/>
                </a:lnTo>
                <a:lnTo>
                  <a:pt x="5805" y="864"/>
                </a:lnTo>
                <a:lnTo>
                  <a:pt x="5638" y="864"/>
                </a:lnTo>
                <a:lnTo>
                  <a:pt x="5505" y="896"/>
                </a:lnTo>
                <a:lnTo>
                  <a:pt x="5371" y="896"/>
                </a:lnTo>
                <a:lnTo>
                  <a:pt x="5238" y="896"/>
                </a:lnTo>
                <a:lnTo>
                  <a:pt x="5104" y="864"/>
                </a:lnTo>
                <a:lnTo>
                  <a:pt x="4971" y="800"/>
                </a:lnTo>
                <a:lnTo>
                  <a:pt x="4836" y="736"/>
                </a:lnTo>
                <a:lnTo>
                  <a:pt x="4703" y="672"/>
                </a:lnTo>
                <a:lnTo>
                  <a:pt x="4436" y="672"/>
                </a:lnTo>
                <a:lnTo>
                  <a:pt x="4303" y="672"/>
                </a:lnTo>
                <a:lnTo>
                  <a:pt x="4169" y="608"/>
                </a:lnTo>
                <a:lnTo>
                  <a:pt x="4036" y="512"/>
                </a:lnTo>
                <a:lnTo>
                  <a:pt x="3902" y="448"/>
                </a:lnTo>
                <a:lnTo>
                  <a:pt x="3769" y="448"/>
                </a:lnTo>
                <a:lnTo>
                  <a:pt x="3602" y="416"/>
                </a:lnTo>
                <a:lnTo>
                  <a:pt x="3469" y="352"/>
                </a:lnTo>
                <a:lnTo>
                  <a:pt x="3335" y="288"/>
                </a:lnTo>
                <a:lnTo>
                  <a:pt x="3202" y="256"/>
                </a:lnTo>
                <a:lnTo>
                  <a:pt x="3035" y="224"/>
                </a:lnTo>
                <a:lnTo>
                  <a:pt x="2902" y="192"/>
                </a:lnTo>
                <a:lnTo>
                  <a:pt x="2768" y="160"/>
                </a:lnTo>
                <a:lnTo>
                  <a:pt x="2635" y="128"/>
                </a:lnTo>
                <a:lnTo>
                  <a:pt x="2468" y="96"/>
                </a:lnTo>
                <a:lnTo>
                  <a:pt x="2301" y="64"/>
                </a:lnTo>
                <a:lnTo>
                  <a:pt x="2134" y="64"/>
                </a:lnTo>
                <a:lnTo>
                  <a:pt x="1868" y="64"/>
                </a:lnTo>
                <a:lnTo>
                  <a:pt x="1701" y="64"/>
                </a:lnTo>
                <a:lnTo>
                  <a:pt x="1567" y="64"/>
                </a:lnTo>
                <a:lnTo>
                  <a:pt x="1434" y="128"/>
                </a:lnTo>
                <a:lnTo>
                  <a:pt x="1300" y="160"/>
                </a:lnTo>
                <a:lnTo>
                  <a:pt x="1167" y="192"/>
                </a:lnTo>
                <a:lnTo>
                  <a:pt x="1000" y="256"/>
                </a:lnTo>
                <a:lnTo>
                  <a:pt x="833" y="320"/>
                </a:lnTo>
                <a:lnTo>
                  <a:pt x="667" y="384"/>
                </a:lnTo>
                <a:lnTo>
                  <a:pt x="533" y="416"/>
                </a:lnTo>
                <a:lnTo>
                  <a:pt x="400" y="416"/>
                </a:lnTo>
                <a:lnTo>
                  <a:pt x="266" y="416"/>
                </a:lnTo>
                <a:lnTo>
                  <a:pt x="133" y="352"/>
                </a:lnTo>
                <a:lnTo>
                  <a:pt x="0" y="288"/>
                </a:lnTo>
                <a:lnTo>
                  <a:pt x="133" y="320"/>
                </a:lnTo>
                <a:lnTo>
                  <a:pt x="200" y="32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389480" y="2602080"/>
            <a:ext cx="3262680" cy="1395720"/>
          </a:xfrm>
          <a:custGeom>
            <a:avLst/>
            <a:gdLst/>
            <a:ahLst/>
            <a:rect l="0" t="0" r="r" b="b"/>
            <a:pathLst>
              <a:path w="9063" h="3877">
                <a:moveTo>
                  <a:pt x="0" y="3813"/>
                </a:moveTo>
                <a:lnTo>
                  <a:pt x="133" y="3813"/>
                </a:lnTo>
                <a:lnTo>
                  <a:pt x="333" y="3781"/>
                </a:lnTo>
                <a:lnTo>
                  <a:pt x="499" y="3749"/>
                </a:lnTo>
                <a:lnTo>
                  <a:pt x="633" y="3716"/>
                </a:lnTo>
                <a:lnTo>
                  <a:pt x="766" y="3588"/>
                </a:lnTo>
                <a:lnTo>
                  <a:pt x="1066" y="3524"/>
                </a:lnTo>
                <a:lnTo>
                  <a:pt x="1299" y="3460"/>
                </a:lnTo>
                <a:lnTo>
                  <a:pt x="1432" y="3364"/>
                </a:lnTo>
                <a:lnTo>
                  <a:pt x="1599" y="3204"/>
                </a:lnTo>
                <a:lnTo>
                  <a:pt x="1732" y="3108"/>
                </a:lnTo>
                <a:lnTo>
                  <a:pt x="1865" y="3076"/>
                </a:lnTo>
                <a:lnTo>
                  <a:pt x="1998" y="3012"/>
                </a:lnTo>
                <a:lnTo>
                  <a:pt x="2132" y="2916"/>
                </a:lnTo>
                <a:lnTo>
                  <a:pt x="2299" y="2787"/>
                </a:lnTo>
                <a:lnTo>
                  <a:pt x="2466" y="2755"/>
                </a:lnTo>
                <a:lnTo>
                  <a:pt x="2666" y="2723"/>
                </a:lnTo>
                <a:lnTo>
                  <a:pt x="2866" y="2691"/>
                </a:lnTo>
                <a:lnTo>
                  <a:pt x="3066" y="2659"/>
                </a:lnTo>
                <a:lnTo>
                  <a:pt x="3232" y="2595"/>
                </a:lnTo>
                <a:lnTo>
                  <a:pt x="3365" y="2563"/>
                </a:lnTo>
                <a:lnTo>
                  <a:pt x="3499" y="2467"/>
                </a:lnTo>
                <a:lnTo>
                  <a:pt x="3632" y="2339"/>
                </a:lnTo>
                <a:lnTo>
                  <a:pt x="3799" y="2211"/>
                </a:lnTo>
                <a:lnTo>
                  <a:pt x="3932" y="2115"/>
                </a:lnTo>
                <a:lnTo>
                  <a:pt x="4165" y="2051"/>
                </a:lnTo>
                <a:lnTo>
                  <a:pt x="4265" y="1922"/>
                </a:lnTo>
                <a:lnTo>
                  <a:pt x="4398" y="1793"/>
                </a:lnTo>
                <a:lnTo>
                  <a:pt x="4465" y="1633"/>
                </a:lnTo>
                <a:lnTo>
                  <a:pt x="4531" y="1505"/>
                </a:lnTo>
                <a:lnTo>
                  <a:pt x="4631" y="1377"/>
                </a:lnTo>
                <a:lnTo>
                  <a:pt x="4798" y="1249"/>
                </a:lnTo>
                <a:lnTo>
                  <a:pt x="4965" y="1153"/>
                </a:lnTo>
                <a:lnTo>
                  <a:pt x="5098" y="1057"/>
                </a:lnTo>
                <a:lnTo>
                  <a:pt x="5264" y="961"/>
                </a:lnTo>
                <a:lnTo>
                  <a:pt x="5431" y="896"/>
                </a:lnTo>
                <a:lnTo>
                  <a:pt x="5564" y="832"/>
                </a:lnTo>
                <a:lnTo>
                  <a:pt x="5831" y="768"/>
                </a:lnTo>
                <a:lnTo>
                  <a:pt x="5964" y="800"/>
                </a:lnTo>
                <a:lnTo>
                  <a:pt x="6164" y="768"/>
                </a:lnTo>
                <a:lnTo>
                  <a:pt x="6464" y="736"/>
                </a:lnTo>
                <a:lnTo>
                  <a:pt x="6630" y="640"/>
                </a:lnTo>
                <a:lnTo>
                  <a:pt x="6764" y="576"/>
                </a:lnTo>
                <a:lnTo>
                  <a:pt x="6898" y="544"/>
                </a:lnTo>
                <a:lnTo>
                  <a:pt x="7031" y="512"/>
                </a:lnTo>
                <a:lnTo>
                  <a:pt x="7164" y="480"/>
                </a:lnTo>
                <a:lnTo>
                  <a:pt x="7298" y="448"/>
                </a:lnTo>
                <a:lnTo>
                  <a:pt x="7431" y="416"/>
                </a:lnTo>
                <a:lnTo>
                  <a:pt x="7564" y="416"/>
                </a:lnTo>
                <a:lnTo>
                  <a:pt x="7864" y="416"/>
                </a:lnTo>
                <a:lnTo>
                  <a:pt x="7997" y="384"/>
                </a:lnTo>
                <a:lnTo>
                  <a:pt x="8131" y="320"/>
                </a:lnTo>
                <a:lnTo>
                  <a:pt x="8297" y="256"/>
                </a:lnTo>
                <a:lnTo>
                  <a:pt x="8430" y="192"/>
                </a:lnTo>
                <a:lnTo>
                  <a:pt x="8597" y="160"/>
                </a:lnTo>
                <a:lnTo>
                  <a:pt x="8764" y="96"/>
                </a:lnTo>
                <a:lnTo>
                  <a:pt x="8930" y="64"/>
                </a:lnTo>
                <a:lnTo>
                  <a:pt x="9063" y="0"/>
                </a:lnTo>
                <a:lnTo>
                  <a:pt x="8897" y="0"/>
                </a:lnTo>
                <a:lnTo>
                  <a:pt x="8764" y="96"/>
                </a:lnTo>
                <a:lnTo>
                  <a:pt x="8597" y="224"/>
                </a:lnTo>
                <a:lnTo>
                  <a:pt x="8464" y="352"/>
                </a:lnTo>
                <a:lnTo>
                  <a:pt x="8331" y="448"/>
                </a:lnTo>
                <a:lnTo>
                  <a:pt x="8064" y="448"/>
                </a:lnTo>
                <a:lnTo>
                  <a:pt x="7931" y="480"/>
                </a:lnTo>
                <a:lnTo>
                  <a:pt x="7764" y="512"/>
                </a:lnTo>
                <a:lnTo>
                  <a:pt x="7598" y="576"/>
                </a:lnTo>
                <a:lnTo>
                  <a:pt x="7364" y="608"/>
                </a:lnTo>
                <a:lnTo>
                  <a:pt x="7231" y="640"/>
                </a:lnTo>
                <a:lnTo>
                  <a:pt x="7098" y="640"/>
                </a:lnTo>
                <a:lnTo>
                  <a:pt x="6931" y="704"/>
                </a:lnTo>
                <a:lnTo>
                  <a:pt x="6798" y="704"/>
                </a:lnTo>
                <a:lnTo>
                  <a:pt x="6597" y="736"/>
                </a:lnTo>
                <a:lnTo>
                  <a:pt x="6464" y="768"/>
                </a:lnTo>
                <a:lnTo>
                  <a:pt x="6331" y="832"/>
                </a:lnTo>
                <a:lnTo>
                  <a:pt x="6164" y="896"/>
                </a:lnTo>
                <a:lnTo>
                  <a:pt x="5997" y="961"/>
                </a:lnTo>
                <a:lnTo>
                  <a:pt x="5831" y="961"/>
                </a:lnTo>
                <a:lnTo>
                  <a:pt x="5698" y="993"/>
                </a:lnTo>
                <a:lnTo>
                  <a:pt x="5564" y="1057"/>
                </a:lnTo>
                <a:lnTo>
                  <a:pt x="5431" y="1089"/>
                </a:lnTo>
                <a:lnTo>
                  <a:pt x="5298" y="1153"/>
                </a:lnTo>
                <a:lnTo>
                  <a:pt x="5164" y="1217"/>
                </a:lnTo>
                <a:lnTo>
                  <a:pt x="5031" y="1313"/>
                </a:lnTo>
                <a:lnTo>
                  <a:pt x="4898" y="1377"/>
                </a:lnTo>
                <a:lnTo>
                  <a:pt x="4765" y="1441"/>
                </a:lnTo>
                <a:lnTo>
                  <a:pt x="4631" y="1505"/>
                </a:lnTo>
                <a:lnTo>
                  <a:pt x="4531" y="1633"/>
                </a:lnTo>
                <a:lnTo>
                  <a:pt x="4432" y="1761"/>
                </a:lnTo>
                <a:lnTo>
                  <a:pt x="4398" y="1955"/>
                </a:lnTo>
                <a:lnTo>
                  <a:pt x="4298" y="2083"/>
                </a:lnTo>
                <a:lnTo>
                  <a:pt x="4198" y="2243"/>
                </a:lnTo>
                <a:lnTo>
                  <a:pt x="4065" y="2339"/>
                </a:lnTo>
                <a:lnTo>
                  <a:pt x="3932" y="2403"/>
                </a:lnTo>
                <a:lnTo>
                  <a:pt x="3765" y="2467"/>
                </a:lnTo>
                <a:lnTo>
                  <a:pt x="3632" y="2499"/>
                </a:lnTo>
                <a:lnTo>
                  <a:pt x="3499" y="2563"/>
                </a:lnTo>
                <a:lnTo>
                  <a:pt x="3299" y="2595"/>
                </a:lnTo>
                <a:lnTo>
                  <a:pt x="3166" y="2627"/>
                </a:lnTo>
                <a:lnTo>
                  <a:pt x="2932" y="2691"/>
                </a:lnTo>
                <a:lnTo>
                  <a:pt x="2799" y="2787"/>
                </a:lnTo>
                <a:lnTo>
                  <a:pt x="2666" y="2852"/>
                </a:lnTo>
                <a:lnTo>
                  <a:pt x="2499" y="2884"/>
                </a:lnTo>
                <a:lnTo>
                  <a:pt x="2366" y="2884"/>
                </a:lnTo>
                <a:lnTo>
                  <a:pt x="2165" y="2916"/>
                </a:lnTo>
                <a:lnTo>
                  <a:pt x="1998" y="2980"/>
                </a:lnTo>
                <a:lnTo>
                  <a:pt x="1865" y="3076"/>
                </a:lnTo>
                <a:lnTo>
                  <a:pt x="1765" y="3236"/>
                </a:lnTo>
                <a:lnTo>
                  <a:pt x="1632" y="3332"/>
                </a:lnTo>
                <a:lnTo>
                  <a:pt x="1499" y="3428"/>
                </a:lnTo>
                <a:lnTo>
                  <a:pt x="1299" y="3460"/>
                </a:lnTo>
                <a:lnTo>
                  <a:pt x="1032" y="3524"/>
                </a:lnTo>
                <a:lnTo>
                  <a:pt x="899" y="3620"/>
                </a:lnTo>
                <a:lnTo>
                  <a:pt x="766" y="3684"/>
                </a:lnTo>
                <a:lnTo>
                  <a:pt x="633" y="3781"/>
                </a:lnTo>
                <a:lnTo>
                  <a:pt x="499" y="3845"/>
                </a:lnTo>
                <a:lnTo>
                  <a:pt x="366" y="3877"/>
                </a:lnTo>
                <a:lnTo>
                  <a:pt x="233" y="3877"/>
                </a:lnTo>
                <a:lnTo>
                  <a:pt x="66" y="3845"/>
                </a:lnTo>
                <a:lnTo>
                  <a:pt x="0" y="3813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-852480" y="2279520"/>
            <a:ext cx="8593560" cy="5494680"/>
          </a:xfrm>
          <a:custGeom>
            <a:avLst/>
            <a:gdLst/>
            <a:ahLst/>
            <a:rect l="0" t="0" r="r" b="b"/>
            <a:pathLst>
              <a:path w="23871" h="15263">
                <a:moveTo>
                  <a:pt x="500" y="0"/>
                </a:moveTo>
                <a:lnTo>
                  <a:pt x="700" y="191"/>
                </a:lnTo>
                <a:lnTo>
                  <a:pt x="900" y="335"/>
                </a:lnTo>
                <a:lnTo>
                  <a:pt x="1100" y="479"/>
                </a:lnTo>
                <a:lnTo>
                  <a:pt x="1301" y="623"/>
                </a:lnTo>
                <a:lnTo>
                  <a:pt x="1401" y="815"/>
                </a:lnTo>
                <a:lnTo>
                  <a:pt x="1601" y="959"/>
                </a:lnTo>
                <a:lnTo>
                  <a:pt x="1801" y="1151"/>
                </a:lnTo>
                <a:lnTo>
                  <a:pt x="2001" y="1343"/>
                </a:lnTo>
                <a:lnTo>
                  <a:pt x="2201" y="1535"/>
                </a:lnTo>
                <a:lnTo>
                  <a:pt x="2401" y="1631"/>
                </a:lnTo>
                <a:lnTo>
                  <a:pt x="2602" y="1823"/>
                </a:lnTo>
                <a:lnTo>
                  <a:pt x="2802" y="1919"/>
                </a:lnTo>
                <a:lnTo>
                  <a:pt x="3002" y="1967"/>
                </a:lnTo>
                <a:lnTo>
                  <a:pt x="3202" y="2111"/>
                </a:lnTo>
                <a:lnTo>
                  <a:pt x="3402" y="2207"/>
                </a:lnTo>
                <a:lnTo>
                  <a:pt x="3552" y="2399"/>
                </a:lnTo>
                <a:lnTo>
                  <a:pt x="3753" y="2495"/>
                </a:lnTo>
                <a:lnTo>
                  <a:pt x="3953" y="2591"/>
                </a:lnTo>
                <a:lnTo>
                  <a:pt x="4053" y="2927"/>
                </a:lnTo>
                <a:lnTo>
                  <a:pt x="4203" y="3119"/>
                </a:lnTo>
                <a:lnTo>
                  <a:pt x="4403" y="3215"/>
                </a:lnTo>
                <a:lnTo>
                  <a:pt x="4603" y="3359"/>
                </a:lnTo>
                <a:lnTo>
                  <a:pt x="4753" y="3551"/>
                </a:lnTo>
                <a:lnTo>
                  <a:pt x="4954" y="3551"/>
                </a:lnTo>
                <a:lnTo>
                  <a:pt x="5104" y="3743"/>
                </a:lnTo>
                <a:lnTo>
                  <a:pt x="5304" y="3839"/>
                </a:lnTo>
                <a:lnTo>
                  <a:pt x="5504" y="3935"/>
                </a:lnTo>
                <a:lnTo>
                  <a:pt x="5704" y="4079"/>
                </a:lnTo>
                <a:lnTo>
                  <a:pt x="5904" y="4079"/>
                </a:lnTo>
                <a:lnTo>
                  <a:pt x="6106" y="4175"/>
                </a:lnTo>
                <a:lnTo>
                  <a:pt x="6356" y="4271"/>
                </a:lnTo>
                <a:lnTo>
                  <a:pt x="6556" y="4463"/>
                </a:lnTo>
                <a:lnTo>
                  <a:pt x="6756" y="4511"/>
                </a:lnTo>
                <a:lnTo>
                  <a:pt x="6956" y="4703"/>
                </a:lnTo>
                <a:lnTo>
                  <a:pt x="7056" y="4943"/>
                </a:lnTo>
                <a:lnTo>
                  <a:pt x="7307" y="5135"/>
                </a:lnTo>
                <a:lnTo>
                  <a:pt x="7557" y="5279"/>
                </a:lnTo>
                <a:lnTo>
                  <a:pt x="7807" y="5471"/>
                </a:lnTo>
                <a:lnTo>
                  <a:pt x="8007" y="5519"/>
                </a:lnTo>
                <a:lnTo>
                  <a:pt x="8257" y="5663"/>
                </a:lnTo>
                <a:lnTo>
                  <a:pt x="8458" y="5855"/>
                </a:lnTo>
                <a:lnTo>
                  <a:pt x="8908" y="5951"/>
                </a:lnTo>
                <a:lnTo>
                  <a:pt x="9108" y="6095"/>
                </a:lnTo>
                <a:lnTo>
                  <a:pt x="9208" y="6335"/>
                </a:lnTo>
                <a:lnTo>
                  <a:pt x="9258" y="6671"/>
                </a:lnTo>
                <a:lnTo>
                  <a:pt x="9508" y="6863"/>
                </a:lnTo>
                <a:lnTo>
                  <a:pt x="9759" y="6911"/>
                </a:lnTo>
                <a:lnTo>
                  <a:pt x="10009" y="6959"/>
                </a:lnTo>
                <a:lnTo>
                  <a:pt x="10209" y="7103"/>
                </a:lnTo>
                <a:lnTo>
                  <a:pt x="10409" y="7247"/>
                </a:lnTo>
                <a:lnTo>
                  <a:pt x="10609" y="7343"/>
                </a:lnTo>
                <a:lnTo>
                  <a:pt x="10910" y="7343"/>
                </a:lnTo>
                <a:lnTo>
                  <a:pt x="11110" y="7391"/>
                </a:lnTo>
                <a:lnTo>
                  <a:pt x="11310" y="7439"/>
                </a:lnTo>
                <a:lnTo>
                  <a:pt x="11410" y="7823"/>
                </a:lnTo>
                <a:lnTo>
                  <a:pt x="11510" y="8015"/>
                </a:lnTo>
                <a:lnTo>
                  <a:pt x="11760" y="8207"/>
                </a:lnTo>
                <a:lnTo>
                  <a:pt x="11960" y="8303"/>
                </a:lnTo>
                <a:lnTo>
                  <a:pt x="12010" y="8495"/>
                </a:lnTo>
                <a:lnTo>
                  <a:pt x="12061" y="8687"/>
                </a:lnTo>
                <a:lnTo>
                  <a:pt x="12161" y="8879"/>
                </a:lnTo>
                <a:lnTo>
                  <a:pt x="12311" y="9119"/>
                </a:lnTo>
                <a:lnTo>
                  <a:pt x="12461" y="9359"/>
                </a:lnTo>
                <a:lnTo>
                  <a:pt x="12511" y="9551"/>
                </a:lnTo>
                <a:lnTo>
                  <a:pt x="12561" y="9743"/>
                </a:lnTo>
                <a:lnTo>
                  <a:pt x="12661" y="9935"/>
                </a:lnTo>
                <a:lnTo>
                  <a:pt x="12911" y="10127"/>
                </a:lnTo>
                <a:lnTo>
                  <a:pt x="13111" y="10223"/>
                </a:lnTo>
                <a:lnTo>
                  <a:pt x="13262" y="10415"/>
                </a:lnTo>
                <a:lnTo>
                  <a:pt x="13061" y="10415"/>
                </a:lnTo>
                <a:lnTo>
                  <a:pt x="12861" y="10415"/>
                </a:lnTo>
                <a:lnTo>
                  <a:pt x="12611" y="10367"/>
                </a:lnTo>
                <a:lnTo>
                  <a:pt x="12411" y="10319"/>
                </a:lnTo>
                <a:lnTo>
                  <a:pt x="12211" y="10319"/>
                </a:lnTo>
                <a:lnTo>
                  <a:pt x="12010" y="10319"/>
                </a:lnTo>
                <a:lnTo>
                  <a:pt x="11810" y="10175"/>
                </a:lnTo>
                <a:lnTo>
                  <a:pt x="11560" y="10127"/>
                </a:lnTo>
                <a:lnTo>
                  <a:pt x="11360" y="10127"/>
                </a:lnTo>
                <a:lnTo>
                  <a:pt x="11160" y="10223"/>
                </a:lnTo>
                <a:lnTo>
                  <a:pt x="10960" y="10271"/>
                </a:lnTo>
                <a:lnTo>
                  <a:pt x="10759" y="10271"/>
                </a:lnTo>
                <a:lnTo>
                  <a:pt x="10559" y="10271"/>
                </a:lnTo>
                <a:lnTo>
                  <a:pt x="10359" y="10271"/>
                </a:lnTo>
                <a:lnTo>
                  <a:pt x="10159" y="10271"/>
                </a:lnTo>
                <a:lnTo>
                  <a:pt x="9959" y="10271"/>
                </a:lnTo>
                <a:lnTo>
                  <a:pt x="9709" y="10319"/>
                </a:lnTo>
                <a:lnTo>
                  <a:pt x="9458" y="10319"/>
                </a:lnTo>
                <a:lnTo>
                  <a:pt x="9258" y="10223"/>
                </a:lnTo>
                <a:lnTo>
                  <a:pt x="9008" y="10175"/>
                </a:lnTo>
                <a:lnTo>
                  <a:pt x="8658" y="10223"/>
                </a:lnTo>
                <a:lnTo>
                  <a:pt x="8458" y="10319"/>
                </a:lnTo>
                <a:lnTo>
                  <a:pt x="8257" y="10415"/>
                </a:lnTo>
                <a:lnTo>
                  <a:pt x="8057" y="10463"/>
                </a:lnTo>
                <a:lnTo>
                  <a:pt x="7857" y="10463"/>
                </a:lnTo>
                <a:lnTo>
                  <a:pt x="7657" y="10463"/>
                </a:lnTo>
                <a:lnTo>
                  <a:pt x="7307" y="10463"/>
                </a:lnTo>
                <a:lnTo>
                  <a:pt x="7106" y="10463"/>
                </a:lnTo>
                <a:lnTo>
                  <a:pt x="6706" y="10463"/>
                </a:lnTo>
                <a:lnTo>
                  <a:pt x="6506" y="10463"/>
                </a:lnTo>
                <a:lnTo>
                  <a:pt x="6306" y="10511"/>
                </a:lnTo>
                <a:lnTo>
                  <a:pt x="6106" y="10607"/>
                </a:lnTo>
                <a:lnTo>
                  <a:pt x="5904" y="10607"/>
                </a:lnTo>
                <a:lnTo>
                  <a:pt x="5704" y="10607"/>
                </a:lnTo>
                <a:lnTo>
                  <a:pt x="5504" y="10607"/>
                </a:lnTo>
                <a:lnTo>
                  <a:pt x="5304" y="10607"/>
                </a:lnTo>
                <a:lnTo>
                  <a:pt x="5104" y="10607"/>
                </a:lnTo>
                <a:lnTo>
                  <a:pt x="4904" y="10559"/>
                </a:lnTo>
                <a:lnTo>
                  <a:pt x="4703" y="10415"/>
                </a:lnTo>
                <a:lnTo>
                  <a:pt x="4553" y="10223"/>
                </a:lnTo>
                <a:lnTo>
                  <a:pt x="4353" y="10079"/>
                </a:lnTo>
                <a:lnTo>
                  <a:pt x="4153" y="10031"/>
                </a:lnTo>
                <a:lnTo>
                  <a:pt x="3953" y="9935"/>
                </a:lnTo>
                <a:lnTo>
                  <a:pt x="3653" y="9887"/>
                </a:lnTo>
                <a:lnTo>
                  <a:pt x="3452" y="9791"/>
                </a:lnTo>
                <a:lnTo>
                  <a:pt x="3252" y="9791"/>
                </a:lnTo>
                <a:lnTo>
                  <a:pt x="3052" y="9695"/>
                </a:lnTo>
                <a:lnTo>
                  <a:pt x="2802" y="9455"/>
                </a:lnTo>
                <a:lnTo>
                  <a:pt x="2602" y="9359"/>
                </a:lnTo>
                <a:lnTo>
                  <a:pt x="2351" y="9359"/>
                </a:lnTo>
                <a:lnTo>
                  <a:pt x="2151" y="9263"/>
                </a:lnTo>
                <a:lnTo>
                  <a:pt x="1901" y="9071"/>
                </a:lnTo>
                <a:lnTo>
                  <a:pt x="1551" y="8879"/>
                </a:lnTo>
                <a:lnTo>
                  <a:pt x="1351" y="8735"/>
                </a:lnTo>
                <a:lnTo>
                  <a:pt x="1150" y="8687"/>
                </a:lnTo>
                <a:lnTo>
                  <a:pt x="950" y="8543"/>
                </a:lnTo>
                <a:lnTo>
                  <a:pt x="800" y="8351"/>
                </a:lnTo>
                <a:lnTo>
                  <a:pt x="600" y="8111"/>
                </a:lnTo>
                <a:lnTo>
                  <a:pt x="350" y="7871"/>
                </a:lnTo>
                <a:lnTo>
                  <a:pt x="150" y="7728"/>
                </a:lnTo>
                <a:lnTo>
                  <a:pt x="250" y="7919"/>
                </a:lnTo>
                <a:lnTo>
                  <a:pt x="450" y="8063"/>
                </a:lnTo>
                <a:lnTo>
                  <a:pt x="600" y="8255"/>
                </a:lnTo>
                <a:lnTo>
                  <a:pt x="750" y="8447"/>
                </a:lnTo>
                <a:lnTo>
                  <a:pt x="950" y="8639"/>
                </a:lnTo>
                <a:lnTo>
                  <a:pt x="1150" y="8735"/>
                </a:lnTo>
                <a:lnTo>
                  <a:pt x="1401" y="8879"/>
                </a:lnTo>
                <a:lnTo>
                  <a:pt x="1601" y="8975"/>
                </a:lnTo>
                <a:lnTo>
                  <a:pt x="1801" y="9119"/>
                </a:lnTo>
                <a:lnTo>
                  <a:pt x="2001" y="9215"/>
                </a:lnTo>
                <a:lnTo>
                  <a:pt x="2201" y="9311"/>
                </a:lnTo>
                <a:lnTo>
                  <a:pt x="2401" y="9359"/>
                </a:lnTo>
                <a:lnTo>
                  <a:pt x="2602" y="9503"/>
                </a:lnTo>
                <a:lnTo>
                  <a:pt x="2802" y="9647"/>
                </a:lnTo>
                <a:lnTo>
                  <a:pt x="3052" y="9839"/>
                </a:lnTo>
                <a:lnTo>
                  <a:pt x="3252" y="9839"/>
                </a:lnTo>
                <a:lnTo>
                  <a:pt x="3452" y="9839"/>
                </a:lnTo>
                <a:lnTo>
                  <a:pt x="3653" y="10031"/>
                </a:lnTo>
                <a:lnTo>
                  <a:pt x="3903" y="10079"/>
                </a:lnTo>
                <a:lnTo>
                  <a:pt x="4103" y="10127"/>
                </a:lnTo>
                <a:lnTo>
                  <a:pt x="4503" y="10271"/>
                </a:lnTo>
                <a:lnTo>
                  <a:pt x="4703" y="10463"/>
                </a:lnTo>
                <a:lnTo>
                  <a:pt x="4954" y="10703"/>
                </a:lnTo>
                <a:lnTo>
                  <a:pt x="4653" y="10751"/>
                </a:lnTo>
                <a:lnTo>
                  <a:pt x="4403" y="10607"/>
                </a:lnTo>
                <a:lnTo>
                  <a:pt x="4203" y="10559"/>
                </a:lnTo>
                <a:lnTo>
                  <a:pt x="4003" y="10607"/>
                </a:lnTo>
                <a:lnTo>
                  <a:pt x="3803" y="10703"/>
                </a:lnTo>
                <a:lnTo>
                  <a:pt x="3552" y="10703"/>
                </a:lnTo>
                <a:lnTo>
                  <a:pt x="3152" y="10655"/>
                </a:lnTo>
                <a:lnTo>
                  <a:pt x="2952" y="10559"/>
                </a:lnTo>
                <a:lnTo>
                  <a:pt x="2752" y="10607"/>
                </a:lnTo>
                <a:lnTo>
                  <a:pt x="2552" y="10703"/>
                </a:lnTo>
                <a:lnTo>
                  <a:pt x="2351" y="10751"/>
                </a:lnTo>
                <a:lnTo>
                  <a:pt x="2001" y="10895"/>
                </a:lnTo>
                <a:lnTo>
                  <a:pt x="1851" y="11231"/>
                </a:lnTo>
                <a:lnTo>
                  <a:pt x="1651" y="11327"/>
                </a:lnTo>
                <a:lnTo>
                  <a:pt x="1451" y="11375"/>
                </a:lnTo>
                <a:lnTo>
                  <a:pt x="1251" y="11327"/>
                </a:lnTo>
                <a:lnTo>
                  <a:pt x="1050" y="11327"/>
                </a:lnTo>
                <a:lnTo>
                  <a:pt x="850" y="11327"/>
                </a:lnTo>
                <a:lnTo>
                  <a:pt x="600" y="11327"/>
                </a:lnTo>
                <a:lnTo>
                  <a:pt x="400" y="11327"/>
                </a:lnTo>
                <a:lnTo>
                  <a:pt x="200" y="11327"/>
                </a:lnTo>
                <a:lnTo>
                  <a:pt x="0" y="11327"/>
                </a:lnTo>
                <a:lnTo>
                  <a:pt x="350" y="11327"/>
                </a:lnTo>
                <a:lnTo>
                  <a:pt x="650" y="11327"/>
                </a:lnTo>
                <a:lnTo>
                  <a:pt x="850" y="11423"/>
                </a:lnTo>
                <a:lnTo>
                  <a:pt x="1050" y="11519"/>
                </a:lnTo>
                <a:lnTo>
                  <a:pt x="1251" y="11519"/>
                </a:lnTo>
                <a:lnTo>
                  <a:pt x="1451" y="11519"/>
                </a:lnTo>
                <a:lnTo>
                  <a:pt x="1651" y="11423"/>
                </a:lnTo>
                <a:lnTo>
                  <a:pt x="1851" y="11231"/>
                </a:lnTo>
                <a:lnTo>
                  <a:pt x="2101" y="11039"/>
                </a:lnTo>
                <a:lnTo>
                  <a:pt x="2301" y="10943"/>
                </a:lnTo>
                <a:lnTo>
                  <a:pt x="2502" y="10799"/>
                </a:lnTo>
                <a:lnTo>
                  <a:pt x="2752" y="10751"/>
                </a:lnTo>
                <a:lnTo>
                  <a:pt x="2952" y="10751"/>
                </a:lnTo>
                <a:lnTo>
                  <a:pt x="3152" y="10751"/>
                </a:lnTo>
                <a:lnTo>
                  <a:pt x="3352" y="10751"/>
                </a:lnTo>
                <a:lnTo>
                  <a:pt x="3552" y="10751"/>
                </a:lnTo>
                <a:lnTo>
                  <a:pt x="3753" y="10751"/>
                </a:lnTo>
                <a:lnTo>
                  <a:pt x="3953" y="10703"/>
                </a:lnTo>
                <a:lnTo>
                  <a:pt x="4203" y="10655"/>
                </a:lnTo>
                <a:lnTo>
                  <a:pt x="4403" y="10751"/>
                </a:lnTo>
                <a:lnTo>
                  <a:pt x="4603" y="10799"/>
                </a:lnTo>
                <a:lnTo>
                  <a:pt x="4854" y="10847"/>
                </a:lnTo>
                <a:lnTo>
                  <a:pt x="5054" y="10847"/>
                </a:lnTo>
                <a:lnTo>
                  <a:pt x="5204" y="10655"/>
                </a:lnTo>
                <a:lnTo>
                  <a:pt x="5404" y="10607"/>
                </a:lnTo>
                <a:lnTo>
                  <a:pt x="5604" y="10703"/>
                </a:lnTo>
                <a:lnTo>
                  <a:pt x="5804" y="10847"/>
                </a:lnTo>
                <a:lnTo>
                  <a:pt x="6005" y="10943"/>
                </a:lnTo>
                <a:lnTo>
                  <a:pt x="6206" y="10943"/>
                </a:lnTo>
                <a:lnTo>
                  <a:pt x="6406" y="11039"/>
                </a:lnTo>
                <a:lnTo>
                  <a:pt x="6656" y="11135"/>
                </a:lnTo>
                <a:lnTo>
                  <a:pt x="6856" y="11183"/>
                </a:lnTo>
                <a:lnTo>
                  <a:pt x="7056" y="11231"/>
                </a:lnTo>
                <a:lnTo>
                  <a:pt x="7407" y="11279"/>
                </a:lnTo>
                <a:lnTo>
                  <a:pt x="7707" y="11327"/>
                </a:lnTo>
                <a:lnTo>
                  <a:pt x="7907" y="11519"/>
                </a:lnTo>
                <a:lnTo>
                  <a:pt x="7957" y="11711"/>
                </a:lnTo>
                <a:lnTo>
                  <a:pt x="8357" y="11951"/>
                </a:lnTo>
                <a:lnTo>
                  <a:pt x="8558" y="12095"/>
                </a:lnTo>
                <a:lnTo>
                  <a:pt x="8708" y="12431"/>
                </a:lnTo>
                <a:lnTo>
                  <a:pt x="8858" y="12623"/>
                </a:lnTo>
                <a:lnTo>
                  <a:pt x="8458" y="12671"/>
                </a:lnTo>
                <a:lnTo>
                  <a:pt x="8257" y="12815"/>
                </a:lnTo>
                <a:lnTo>
                  <a:pt x="8107" y="13007"/>
                </a:lnTo>
                <a:lnTo>
                  <a:pt x="8057" y="13247"/>
                </a:lnTo>
                <a:lnTo>
                  <a:pt x="7607" y="13391"/>
                </a:lnTo>
                <a:lnTo>
                  <a:pt x="7206" y="13439"/>
                </a:lnTo>
                <a:lnTo>
                  <a:pt x="6956" y="13583"/>
                </a:lnTo>
                <a:lnTo>
                  <a:pt x="6706" y="13823"/>
                </a:lnTo>
                <a:lnTo>
                  <a:pt x="6506" y="13919"/>
                </a:lnTo>
                <a:lnTo>
                  <a:pt x="6306" y="13967"/>
                </a:lnTo>
                <a:lnTo>
                  <a:pt x="6106" y="13967"/>
                </a:lnTo>
                <a:lnTo>
                  <a:pt x="5904" y="13967"/>
                </a:lnTo>
                <a:lnTo>
                  <a:pt x="5704" y="14015"/>
                </a:lnTo>
                <a:lnTo>
                  <a:pt x="5304" y="14063"/>
                </a:lnTo>
                <a:lnTo>
                  <a:pt x="5104" y="14111"/>
                </a:lnTo>
                <a:lnTo>
                  <a:pt x="4803" y="14159"/>
                </a:lnTo>
                <a:lnTo>
                  <a:pt x="4503" y="14159"/>
                </a:lnTo>
                <a:lnTo>
                  <a:pt x="4303" y="14159"/>
                </a:lnTo>
                <a:lnTo>
                  <a:pt x="4103" y="14207"/>
                </a:lnTo>
                <a:lnTo>
                  <a:pt x="3853" y="14303"/>
                </a:lnTo>
                <a:lnTo>
                  <a:pt x="3653" y="14399"/>
                </a:lnTo>
                <a:lnTo>
                  <a:pt x="3452" y="14495"/>
                </a:lnTo>
                <a:lnTo>
                  <a:pt x="3252" y="14543"/>
                </a:lnTo>
                <a:lnTo>
                  <a:pt x="2952" y="14543"/>
                </a:lnTo>
                <a:lnTo>
                  <a:pt x="2752" y="14591"/>
                </a:lnTo>
                <a:lnTo>
                  <a:pt x="2552" y="14591"/>
                </a:lnTo>
                <a:lnTo>
                  <a:pt x="2351" y="14639"/>
                </a:lnTo>
                <a:lnTo>
                  <a:pt x="2001" y="14639"/>
                </a:lnTo>
                <a:lnTo>
                  <a:pt x="1801" y="14639"/>
                </a:lnTo>
                <a:lnTo>
                  <a:pt x="1601" y="14639"/>
                </a:lnTo>
                <a:lnTo>
                  <a:pt x="1401" y="14639"/>
                </a:lnTo>
                <a:lnTo>
                  <a:pt x="1200" y="14639"/>
                </a:lnTo>
                <a:lnTo>
                  <a:pt x="1000" y="14687"/>
                </a:lnTo>
                <a:lnTo>
                  <a:pt x="800" y="14735"/>
                </a:lnTo>
                <a:lnTo>
                  <a:pt x="450" y="14735"/>
                </a:lnTo>
                <a:lnTo>
                  <a:pt x="250" y="14783"/>
                </a:lnTo>
                <a:lnTo>
                  <a:pt x="50" y="14975"/>
                </a:lnTo>
                <a:lnTo>
                  <a:pt x="250" y="14975"/>
                </a:lnTo>
                <a:lnTo>
                  <a:pt x="450" y="14879"/>
                </a:lnTo>
                <a:lnTo>
                  <a:pt x="650" y="14783"/>
                </a:lnTo>
                <a:lnTo>
                  <a:pt x="850" y="14735"/>
                </a:lnTo>
                <a:lnTo>
                  <a:pt x="1050" y="14735"/>
                </a:lnTo>
                <a:lnTo>
                  <a:pt x="1251" y="14687"/>
                </a:lnTo>
                <a:lnTo>
                  <a:pt x="1451" y="14639"/>
                </a:lnTo>
                <a:lnTo>
                  <a:pt x="1651" y="14591"/>
                </a:lnTo>
                <a:lnTo>
                  <a:pt x="1851" y="14591"/>
                </a:lnTo>
                <a:lnTo>
                  <a:pt x="2051" y="14591"/>
                </a:lnTo>
                <a:lnTo>
                  <a:pt x="2351" y="14639"/>
                </a:lnTo>
                <a:lnTo>
                  <a:pt x="2752" y="14639"/>
                </a:lnTo>
                <a:lnTo>
                  <a:pt x="2952" y="14639"/>
                </a:lnTo>
                <a:lnTo>
                  <a:pt x="3152" y="14639"/>
                </a:lnTo>
                <a:lnTo>
                  <a:pt x="3352" y="14591"/>
                </a:lnTo>
                <a:lnTo>
                  <a:pt x="3552" y="14591"/>
                </a:lnTo>
                <a:lnTo>
                  <a:pt x="3803" y="14543"/>
                </a:lnTo>
                <a:lnTo>
                  <a:pt x="4003" y="14399"/>
                </a:lnTo>
                <a:lnTo>
                  <a:pt x="4203" y="14303"/>
                </a:lnTo>
                <a:lnTo>
                  <a:pt x="4403" y="14303"/>
                </a:lnTo>
                <a:lnTo>
                  <a:pt x="4653" y="14303"/>
                </a:lnTo>
                <a:lnTo>
                  <a:pt x="4854" y="14207"/>
                </a:lnTo>
                <a:lnTo>
                  <a:pt x="5104" y="14159"/>
                </a:lnTo>
                <a:lnTo>
                  <a:pt x="5504" y="14159"/>
                </a:lnTo>
                <a:lnTo>
                  <a:pt x="5704" y="14159"/>
                </a:lnTo>
                <a:lnTo>
                  <a:pt x="5954" y="14111"/>
                </a:lnTo>
                <a:lnTo>
                  <a:pt x="6156" y="14063"/>
                </a:lnTo>
                <a:lnTo>
                  <a:pt x="6406" y="14111"/>
                </a:lnTo>
                <a:lnTo>
                  <a:pt x="6656" y="14111"/>
                </a:lnTo>
                <a:lnTo>
                  <a:pt x="6856" y="14015"/>
                </a:lnTo>
                <a:lnTo>
                  <a:pt x="7006" y="13823"/>
                </a:lnTo>
                <a:lnTo>
                  <a:pt x="7106" y="13631"/>
                </a:lnTo>
                <a:lnTo>
                  <a:pt x="7307" y="13583"/>
                </a:lnTo>
                <a:lnTo>
                  <a:pt x="7607" y="13535"/>
                </a:lnTo>
                <a:lnTo>
                  <a:pt x="7807" y="13439"/>
                </a:lnTo>
                <a:lnTo>
                  <a:pt x="8007" y="13295"/>
                </a:lnTo>
                <a:lnTo>
                  <a:pt x="8207" y="13151"/>
                </a:lnTo>
                <a:lnTo>
                  <a:pt x="8407" y="12959"/>
                </a:lnTo>
                <a:lnTo>
                  <a:pt x="8608" y="12911"/>
                </a:lnTo>
                <a:lnTo>
                  <a:pt x="8808" y="12767"/>
                </a:lnTo>
                <a:lnTo>
                  <a:pt x="9008" y="12671"/>
                </a:lnTo>
                <a:lnTo>
                  <a:pt x="9208" y="12623"/>
                </a:lnTo>
                <a:lnTo>
                  <a:pt x="9408" y="12719"/>
                </a:lnTo>
                <a:lnTo>
                  <a:pt x="9608" y="12767"/>
                </a:lnTo>
                <a:lnTo>
                  <a:pt x="9809" y="12767"/>
                </a:lnTo>
                <a:lnTo>
                  <a:pt x="10009" y="12815"/>
                </a:lnTo>
                <a:lnTo>
                  <a:pt x="10359" y="12863"/>
                </a:lnTo>
                <a:lnTo>
                  <a:pt x="10559" y="12863"/>
                </a:lnTo>
                <a:lnTo>
                  <a:pt x="10860" y="12911"/>
                </a:lnTo>
                <a:lnTo>
                  <a:pt x="11110" y="12959"/>
                </a:lnTo>
                <a:lnTo>
                  <a:pt x="11310" y="13055"/>
                </a:lnTo>
                <a:lnTo>
                  <a:pt x="11510" y="13151"/>
                </a:lnTo>
                <a:lnTo>
                  <a:pt x="11710" y="13247"/>
                </a:lnTo>
                <a:lnTo>
                  <a:pt x="11910" y="13295"/>
                </a:lnTo>
                <a:lnTo>
                  <a:pt x="12111" y="13295"/>
                </a:lnTo>
                <a:lnTo>
                  <a:pt x="12311" y="13391"/>
                </a:lnTo>
                <a:lnTo>
                  <a:pt x="12511" y="13487"/>
                </a:lnTo>
                <a:lnTo>
                  <a:pt x="12711" y="13631"/>
                </a:lnTo>
                <a:lnTo>
                  <a:pt x="13011" y="13679"/>
                </a:lnTo>
                <a:lnTo>
                  <a:pt x="13211" y="13679"/>
                </a:lnTo>
                <a:lnTo>
                  <a:pt x="13412" y="13823"/>
                </a:lnTo>
                <a:lnTo>
                  <a:pt x="13612" y="13919"/>
                </a:lnTo>
                <a:lnTo>
                  <a:pt x="13812" y="13967"/>
                </a:lnTo>
                <a:lnTo>
                  <a:pt x="14062" y="14063"/>
                </a:lnTo>
                <a:lnTo>
                  <a:pt x="14262" y="14111"/>
                </a:lnTo>
                <a:lnTo>
                  <a:pt x="14513" y="14111"/>
                </a:lnTo>
                <a:lnTo>
                  <a:pt x="14763" y="14111"/>
                </a:lnTo>
                <a:lnTo>
                  <a:pt x="14963" y="14111"/>
                </a:lnTo>
                <a:lnTo>
                  <a:pt x="15213" y="14159"/>
                </a:lnTo>
                <a:lnTo>
                  <a:pt x="15463" y="14303"/>
                </a:lnTo>
                <a:lnTo>
                  <a:pt x="15714" y="14351"/>
                </a:lnTo>
                <a:lnTo>
                  <a:pt x="15964" y="14351"/>
                </a:lnTo>
                <a:lnTo>
                  <a:pt x="16414" y="14351"/>
                </a:lnTo>
                <a:lnTo>
                  <a:pt x="16664" y="14351"/>
                </a:lnTo>
                <a:lnTo>
                  <a:pt x="16865" y="14399"/>
                </a:lnTo>
                <a:lnTo>
                  <a:pt x="17115" y="14543"/>
                </a:lnTo>
                <a:lnTo>
                  <a:pt x="17315" y="14591"/>
                </a:lnTo>
                <a:lnTo>
                  <a:pt x="17515" y="14639"/>
                </a:lnTo>
                <a:lnTo>
                  <a:pt x="17765" y="14687"/>
                </a:lnTo>
                <a:lnTo>
                  <a:pt x="18016" y="14687"/>
                </a:lnTo>
                <a:lnTo>
                  <a:pt x="18217" y="14687"/>
                </a:lnTo>
                <a:lnTo>
                  <a:pt x="18417" y="14735"/>
                </a:lnTo>
                <a:lnTo>
                  <a:pt x="18617" y="14879"/>
                </a:lnTo>
                <a:lnTo>
                  <a:pt x="18867" y="14879"/>
                </a:lnTo>
                <a:lnTo>
                  <a:pt x="19067" y="14879"/>
                </a:lnTo>
                <a:lnTo>
                  <a:pt x="19318" y="14879"/>
                </a:lnTo>
                <a:lnTo>
                  <a:pt x="19568" y="14927"/>
                </a:lnTo>
                <a:lnTo>
                  <a:pt x="19768" y="14927"/>
                </a:lnTo>
                <a:lnTo>
                  <a:pt x="19968" y="14927"/>
                </a:lnTo>
                <a:lnTo>
                  <a:pt x="20218" y="14927"/>
                </a:lnTo>
                <a:lnTo>
                  <a:pt x="20469" y="14927"/>
                </a:lnTo>
                <a:lnTo>
                  <a:pt x="20669" y="14927"/>
                </a:lnTo>
                <a:lnTo>
                  <a:pt x="20919" y="15071"/>
                </a:lnTo>
                <a:lnTo>
                  <a:pt x="21169" y="15215"/>
                </a:lnTo>
                <a:lnTo>
                  <a:pt x="21369" y="15215"/>
                </a:lnTo>
                <a:lnTo>
                  <a:pt x="21619" y="15215"/>
                </a:lnTo>
                <a:lnTo>
                  <a:pt x="21870" y="15215"/>
                </a:lnTo>
                <a:lnTo>
                  <a:pt x="22120" y="15215"/>
                </a:lnTo>
                <a:lnTo>
                  <a:pt x="22320" y="15215"/>
                </a:lnTo>
                <a:lnTo>
                  <a:pt x="22520" y="15215"/>
                </a:lnTo>
                <a:lnTo>
                  <a:pt x="22770" y="15263"/>
                </a:lnTo>
                <a:lnTo>
                  <a:pt x="23021" y="15263"/>
                </a:lnTo>
                <a:lnTo>
                  <a:pt x="22570" y="15263"/>
                </a:lnTo>
                <a:lnTo>
                  <a:pt x="22370" y="15263"/>
                </a:lnTo>
                <a:lnTo>
                  <a:pt x="21970" y="15167"/>
                </a:lnTo>
                <a:lnTo>
                  <a:pt x="21720" y="15119"/>
                </a:lnTo>
                <a:lnTo>
                  <a:pt x="21319" y="15167"/>
                </a:lnTo>
                <a:lnTo>
                  <a:pt x="21119" y="15215"/>
                </a:lnTo>
                <a:lnTo>
                  <a:pt x="20919" y="15167"/>
                </a:lnTo>
                <a:lnTo>
                  <a:pt x="20819" y="14975"/>
                </a:lnTo>
                <a:lnTo>
                  <a:pt x="20368" y="14879"/>
                </a:lnTo>
                <a:lnTo>
                  <a:pt x="20168" y="14879"/>
                </a:lnTo>
                <a:lnTo>
                  <a:pt x="19918" y="14831"/>
                </a:lnTo>
                <a:lnTo>
                  <a:pt x="19618" y="14783"/>
                </a:lnTo>
                <a:lnTo>
                  <a:pt x="19217" y="14735"/>
                </a:lnTo>
                <a:lnTo>
                  <a:pt x="18967" y="14687"/>
                </a:lnTo>
                <a:lnTo>
                  <a:pt x="18767" y="14687"/>
                </a:lnTo>
                <a:lnTo>
                  <a:pt x="18467" y="14735"/>
                </a:lnTo>
                <a:lnTo>
                  <a:pt x="17916" y="14735"/>
                </a:lnTo>
                <a:lnTo>
                  <a:pt x="17665" y="14543"/>
                </a:lnTo>
                <a:lnTo>
                  <a:pt x="17465" y="14543"/>
                </a:lnTo>
                <a:lnTo>
                  <a:pt x="17115" y="14495"/>
                </a:lnTo>
                <a:lnTo>
                  <a:pt x="16714" y="14495"/>
                </a:lnTo>
                <a:lnTo>
                  <a:pt x="16514" y="14399"/>
                </a:lnTo>
                <a:lnTo>
                  <a:pt x="16264" y="14255"/>
                </a:lnTo>
                <a:lnTo>
                  <a:pt x="16064" y="14159"/>
                </a:lnTo>
                <a:lnTo>
                  <a:pt x="15864" y="14111"/>
                </a:lnTo>
                <a:lnTo>
                  <a:pt x="15664" y="14111"/>
                </a:lnTo>
                <a:lnTo>
                  <a:pt x="15463" y="14111"/>
                </a:lnTo>
                <a:lnTo>
                  <a:pt x="15263" y="14063"/>
                </a:lnTo>
                <a:lnTo>
                  <a:pt x="14963" y="14015"/>
                </a:lnTo>
                <a:lnTo>
                  <a:pt x="14663" y="13967"/>
                </a:lnTo>
                <a:lnTo>
                  <a:pt x="14463" y="13871"/>
                </a:lnTo>
                <a:lnTo>
                  <a:pt x="14212" y="13775"/>
                </a:lnTo>
                <a:lnTo>
                  <a:pt x="14012" y="13775"/>
                </a:lnTo>
                <a:lnTo>
                  <a:pt x="13812" y="13775"/>
                </a:lnTo>
                <a:lnTo>
                  <a:pt x="13562" y="13775"/>
                </a:lnTo>
                <a:lnTo>
                  <a:pt x="13262" y="13775"/>
                </a:lnTo>
                <a:lnTo>
                  <a:pt x="12861" y="13727"/>
                </a:lnTo>
                <a:lnTo>
                  <a:pt x="12661" y="13487"/>
                </a:lnTo>
                <a:lnTo>
                  <a:pt x="12461" y="13295"/>
                </a:lnTo>
                <a:lnTo>
                  <a:pt x="12261" y="13295"/>
                </a:lnTo>
                <a:lnTo>
                  <a:pt x="11810" y="13295"/>
                </a:lnTo>
                <a:lnTo>
                  <a:pt x="11610" y="13151"/>
                </a:lnTo>
                <a:lnTo>
                  <a:pt x="11410" y="13007"/>
                </a:lnTo>
                <a:lnTo>
                  <a:pt x="11160" y="12815"/>
                </a:lnTo>
                <a:lnTo>
                  <a:pt x="10910" y="12719"/>
                </a:lnTo>
                <a:lnTo>
                  <a:pt x="10709" y="12719"/>
                </a:lnTo>
                <a:lnTo>
                  <a:pt x="10459" y="12719"/>
                </a:lnTo>
                <a:lnTo>
                  <a:pt x="10009" y="12719"/>
                </a:lnTo>
                <a:lnTo>
                  <a:pt x="9809" y="12719"/>
                </a:lnTo>
                <a:lnTo>
                  <a:pt x="9608" y="12623"/>
                </a:lnTo>
                <a:lnTo>
                  <a:pt x="9058" y="12527"/>
                </a:lnTo>
                <a:lnTo>
                  <a:pt x="8558" y="12383"/>
                </a:lnTo>
                <a:lnTo>
                  <a:pt x="8458" y="12191"/>
                </a:lnTo>
                <a:lnTo>
                  <a:pt x="8508" y="11999"/>
                </a:lnTo>
                <a:lnTo>
                  <a:pt x="8357" y="11807"/>
                </a:lnTo>
                <a:lnTo>
                  <a:pt x="8207" y="11615"/>
                </a:lnTo>
                <a:lnTo>
                  <a:pt x="8057" y="11423"/>
                </a:lnTo>
                <a:lnTo>
                  <a:pt x="7857" y="11279"/>
                </a:lnTo>
                <a:lnTo>
                  <a:pt x="7657" y="11183"/>
                </a:lnTo>
                <a:lnTo>
                  <a:pt x="7457" y="11135"/>
                </a:lnTo>
                <a:lnTo>
                  <a:pt x="7056" y="10991"/>
                </a:lnTo>
                <a:lnTo>
                  <a:pt x="6856" y="10991"/>
                </a:lnTo>
                <a:lnTo>
                  <a:pt x="6656" y="10943"/>
                </a:lnTo>
                <a:lnTo>
                  <a:pt x="6406" y="10895"/>
                </a:lnTo>
                <a:lnTo>
                  <a:pt x="6056" y="10895"/>
                </a:lnTo>
                <a:lnTo>
                  <a:pt x="5854" y="10799"/>
                </a:lnTo>
                <a:lnTo>
                  <a:pt x="5654" y="10751"/>
                </a:lnTo>
                <a:lnTo>
                  <a:pt x="5954" y="10703"/>
                </a:lnTo>
                <a:lnTo>
                  <a:pt x="6156" y="10607"/>
                </a:lnTo>
                <a:lnTo>
                  <a:pt x="6356" y="10559"/>
                </a:lnTo>
                <a:lnTo>
                  <a:pt x="6606" y="10559"/>
                </a:lnTo>
                <a:lnTo>
                  <a:pt x="6806" y="10559"/>
                </a:lnTo>
                <a:lnTo>
                  <a:pt x="7006" y="10559"/>
                </a:lnTo>
                <a:lnTo>
                  <a:pt x="7206" y="10559"/>
                </a:lnTo>
                <a:lnTo>
                  <a:pt x="7407" y="10559"/>
                </a:lnTo>
                <a:lnTo>
                  <a:pt x="7657" y="10559"/>
                </a:lnTo>
                <a:lnTo>
                  <a:pt x="7857" y="10511"/>
                </a:lnTo>
                <a:lnTo>
                  <a:pt x="8257" y="10511"/>
                </a:lnTo>
                <a:lnTo>
                  <a:pt x="8708" y="10463"/>
                </a:lnTo>
                <a:lnTo>
                  <a:pt x="8908" y="10367"/>
                </a:lnTo>
                <a:lnTo>
                  <a:pt x="9108" y="10319"/>
                </a:lnTo>
                <a:lnTo>
                  <a:pt x="9408" y="10319"/>
                </a:lnTo>
                <a:lnTo>
                  <a:pt x="9809" y="10319"/>
                </a:lnTo>
                <a:lnTo>
                  <a:pt x="10109" y="10271"/>
                </a:lnTo>
                <a:lnTo>
                  <a:pt x="10309" y="10223"/>
                </a:lnTo>
                <a:lnTo>
                  <a:pt x="10509" y="10223"/>
                </a:lnTo>
                <a:lnTo>
                  <a:pt x="10709" y="10223"/>
                </a:lnTo>
                <a:lnTo>
                  <a:pt x="10910" y="10319"/>
                </a:lnTo>
                <a:lnTo>
                  <a:pt x="11160" y="10367"/>
                </a:lnTo>
                <a:lnTo>
                  <a:pt x="11460" y="10367"/>
                </a:lnTo>
                <a:lnTo>
                  <a:pt x="11760" y="10367"/>
                </a:lnTo>
                <a:lnTo>
                  <a:pt x="12010" y="10367"/>
                </a:lnTo>
                <a:lnTo>
                  <a:pt x="12211" y="10415"/>
                </a:lnTo>
                <a:lnTo>
                  <a:pt x="12511" y="10415"/>
                </a:lnTo>
                <a:lnTo>
                  <a:pt x="12811" y="10415"/>
                </a:lnTo>
                <a:lnTo>
                  <a:pt x="13011" y="10559"/>
                </a:lnTo>
                <a:lnTo>
                  <a:pt x="13412" y="10655"/>
                </a:lnTo>
                <a:lnTo>
                  <a:pt x="13612" y="10703"/>
                </a:lnTo>
                <a:lnTo>
                  <a:pt x="13862" y="10751"/>
                </a:lnTo>
                <a:lnTo>
                  <a:pt x="14062" y="10751"/>
                </a:lnTo>
                <a:lnTo>
                  <a:pt x="14212" y="10943"/>
                </a:lnTo>
                <a:lnTo>
                  <a:pt x="14463" y="11135"/>
                </a:lnTo>
                <a:lnTo>
                  <a:pt x="14763" y="11183"/>
                </a:lnTo>
                <a:lnTo>
                  <a:pt x="14963" y="11231"/>
                </a:lnTo>
                <a:lnTo>
                  <a:pt x="15163" y="11327"/>
                </a:lnTo>
                <a:lnTo>
                  <a:pt x="15363" y="11519"/>
                </a:lnTo>
                <a:lnTo>
                  <a:pt x="15563" y="11615"/>
                </a:lnTo>
                <a:lnTo>
                  <a:pt x="15764" y="11663"/>
                </a:lnTo>
                <a:lnTo>
                  <a:pt x="16014" y="11711"/>
                </a:lnTo>
                <a:lnTo>
                  <a:pt x="16214" y="11711"/>
                </a:lnTo>
                <a:lnTo>
                  <a:pt x="16414" y="11759"/>
                </a:lnTo>
                <a:lnTo>
                  <a:pt x="16614" y="11903"/>
                </a:lnTo>
                <a:lnTo>
                  <a:pt x="16814" y="12047"/>
                </a:lnTo>
                <a:lnTo>
                  <a:pt x="17165" y="12095"/>
                </a:lnTo>
                <a:lnTo>
                  <a:pt x="17365" y="12095"/>
                </a:lnTo>
                <a:lnTo>
                  <a:pt x="17565" y="12191"/>
                </a:lnTo>
                <a:lnTo>
                  <a:pt x="17966" y="12287"/>
                </a:lnTo>
                <a:lnTo>
                  <a:pt x="18317" y="12335"/>
                </a:lnTo>
                <a:lnTo>
                  <a:pt x="18617" y="12383"/>
                </a:lnTo>
                <a:lnTo>
                  <a:pt x="19067" y="12575"/>
                </a:lnTo>
                <a:lnTo>
                  <a:pt x="19268" y="12671"/>
                </a:lnTo>
                <a:lnTo>
                  <a:pt x="19468" y="12863"/>
                </a:lnTo>
                <a:lnTo>
                  <a:pt x="19818" y="13055"/>
                </a:lnTo>
                <a:lnTo>
                  <a:pt x="20018" y="13151"/>
                </a:lnTo>
                <a:lnTo>
                  <a:pt x="20218" y="13247"/>
                </a:lnTo>
                <a:lnTo>
                  <a:pt x="20469" y="13343"/>
                </a:lnTo>
                <a:lnTo>
                  <a:pt x="20769" y="13439"/>
                </a:lnTo>
                <a:lnTo>
                  <a:pt x="21019" y="13583"/>
                </a:lnTo>
                <a:lnTo>
                  <a:pt x="21219" y="13679"/>
                </a:lnTo>
                <a:lnTo>
                  <a:pt x="21419" y="13823"/>
                </a:lnTo>
                <a:lnTo>
                  <a:pt x="21619" y="13967"/>
                </a:lnTo>
                <a:lnTo>
                  <a:pt x="21970" y="14015"/>
                </a:lnTo>
                <a:lnTo>
                  <a:pt x="22170" y="14063"/>
                </a:lnTo>
                <a:lnTo>
                  <a:pt x="22420" y="14159"/>
                </a:lnTo>
                <a:lnTo>
                  <a:pt x="22670" y="14303"/>
                </a:lnTo>
                <a:lnTo>
                  <a:pt x="22870" y="14495"/>
                </a:lnTo>
                <a:lnTo>
                  <a:pt x="23071" y="14543"/>
                </a:lnTo>
                <a:lnTo>
                  <a:pt x="23271" y="14591"/>
                </a:lnTo>
                <a:lnTo>
                  <a:pt x="23471" y="14735"/>
                </a:lnTo>
                <a:lnTo>
                  <a:pt x="23671" y="14879"/>
                </a:lnTo>
                <a:lnTo>
                  <a:pt x="23871" y="14927"/>
                </a:lnTo>
                <a:lnTo>
                  <a:pt x="23671" y="14831"/>
                </a:lnTo>
                <a:lnTo>
                  <a:pt x="23421" y="14639"/>
                </a:lnTo>
                <a:lnTo>
                  <a:pt x="23271" y="14447"/>
                </a:lnTo>
                <a:lnTo>
                  <a:pt x="23071" y="14399"/>
                </a:lnTo>
                <a:lnTo>
                  <a:pt x="22820" y="14255"/>
                </a:lnTo>
                <a:lnTo>
                  <a:pt x="22570" y="14063"/>
                </a:lnTo>
                <a:lnTo>
                  <a:pt x="22370" y="13871"/>
                </a:lnTo>
                <a:lnTo>
                  <a:pt x="22170" y="13823"/>
                </a:lnTo>
                <a:lnTo>
                  <a:pt x="21970" y="13823"/>
                </a:lnTo>
                <a:lnTo>
                  <a:pt x="21770" y="13727"/>
                </a:lnTo>
                <a:lnTo>
                  <a:pt x="21569" y="13631"/>
                </a:lnTo>
                <a:lnTo>
                  <a:pt x="21219" y="13439"/>
                </a:lnTo>
                <a:lnTo>
                  <a:pt x="21019" y="13343"/>
                </a:lnTo>
                <a:lnTo>
                  <a:pt x="20819" y="13295"/>
                </a:lnTo>
                <a:lnTo>
                  <a:pt x="20569" y="13247"/>
                </a:lnTo>
                <a:lnTo>
                  <a:pt x="20368" y="13055"/>
                </a:lnTo>
                <a:lnTo>
                  <a:pt x="20118" y="13055"/>
                </a:lnTo>
                <a:lnTo>
                  <a:pt x="19868" y="12815"/>
                </a:lnTo>
                <a:lnTo>
                  <a:pt x="19668" y="12623"/>
                </a:lnTo>
                <a:lnTo>
                  <a:pt x="19468" y="12527"/>
                </a:lnTo>
                <a:lnTo>
                  <a:pt x="19268" y="12431"/>
                </a:lnTo>
                <a:lnTo>
                  <a:pt x="18967" y="12383"/>
                </a:lnTo>
                <a:lnTo>
                  <a:pt x="18767" y="12287"/>
                </a:lnTo>
                <a:lnTo>
                  <a:pt x="18567" y="12191"/>
                </a:lnTo>
                <a:lnTo>
                  <a:pt x="18367" y="12191"/>
                </a:lnTo>
                <a:lnTo>
                  <a:pt x="18167" y="12191"/>
                </a:lnTo>
                <a:lnTo>
                  <a:pt x="17916" y="12047"/>
                </a:lnTo>
                <a:lnTo>
                  <a:pt x="17715" y="11903"/>
                </a:lnTo>
                <a:lnTo>
                  <a:pt x="17515" y="11903"/>
                </a:lnTo>
                <a:lnTo>
                  <a:pt x="17315" y="11807"/>
                </a:lnTo>
                <a:lnTo>
                  <a:pt x="17065" y="11711"/>
                </a:lnTo>
                <a:lnTo>
                  <a:pt x="16764" y="11663"/>
                </a:lnTo>
                <a:lnTo>
                  <a:pt x="16564" y="11663"/>
                </a:lnTo>
                <a:lnTo>
                  <a:pt x="16264" y="11615"/>
                </a:lnTo>
                <a:lnTo>
                  <a:pt x="16014" y="11567"/>
                </a:lnTo>
                <a:lnTo>
                  <a:pt x="15814" y="11471"/>
                </a:lnTo>
                <a:lnTo>
                  <a:pt x="15563" y="11279"/>
                </a:lnTo>
                <a:lnTo>
                  <a:pt x="15313" y="11087"/>
                </a:lnTo>
                <a:lnTo>
                  <a:pt x="15063" y="10943"/>
                </a:lnTo>
                <a:lnTo>
                  <a:pt x="14863" y="10847"/>
                </a:lnTo>
                <a:lnTo>
                  <a:pt x="14613" y="10751"/>
                </a:lnTo>
                <a:lnTo>
                  <a:pt x="14212" y="10655"/>
                </a:lnTo>
                <a:lnTo>
                  <a:pt x="14012" y="10559"/>
                </a:lnTo>
                <a:lnTo>
                  <a:pt x="13562" y="10415"/>
                </a:lnTo>
                <a:lnTo>
                  <a:pt x="13362" y="10319"/>
                </a:lnTo>
                <a:lnTo>
                  <a:pt x="13262" y="10127"/>
                </a:lnTo>
                <a:lnTo>
                  <a:pt x="13111" y="9935"/>
                </a:lnTo>
                <a:lnTo>
                  <a:pt x="12911" y="9839"/>
                </a:lnTo>
                <a:lnTo>
                  <a:pt x="12761" y="9599"/>
                </a:lnTo>
                <a:lnTo>
                  <a:pt x="12511" y="9407"/>
                </a:lnTo>
                <a:lnTo>
                  <a:pt x="12461" y="9215"/>
                </a:lnTo>
                <a:lnTo>
                  <a:pt x="12411" y="9023"/>
                </a:lnTo>
                <a:lnTo>
                  <a:pt x="12311" y="8831"/>
                </a:lnTo>
                <a:lnTo>
                  <a:pt x="12211" y="8639"/>
                </a:lnTo>
                <a:lnTo>
                  <a:pt x="12111" y="8447"/>
                </a:lnTo>
                <a:lnTo>
                  <a:pt x="12061" y="8255"/>
                </a:lnTo>
                <a:lnTo>
                  <a:pt x="11960" y="8063"/>
                </a:lnTo>
                <a:lnTo>
                  <a:pt x="11860" y="7871"/>
                </a:lnTo>
                <a:lnTo>
                  <a:pt x="11660" y="7728"/>
                </a:lnTo>
                <a:lnTo>
                  <a:pt x="11560" y="7535"/>
                </a:lnTo>
                <a:lnTo>
                  <a:pt x="11410" y="7343"/>
                </a:lnTo>
                <a:lnTo>
                  <a:pt x="11210" y="7247"/>
                </a:lnTo>
                <a:lnTo>
                  <a:pt x="10960" y="7151"/>
                </a:lnTo>
                <a:lnTo>
                  <a:pt x="10759" y="7055"/>
                </a:lnTo>
                <a:lnTo>
                  <a:pt x="10509" y="7007"/>
                </a:lnTo>
                <a:lnTo>
                  <a:pt x="10309" y="6959"/>
                </a:lnTo>
                <a:lnTo>
                  <a:pt x="10109" y="6863"/>
                </a:lnTo>
                <a:lnTo>
                  <a:pt x="9909" y="6671"/>
                </a:lnTo>
                <a:lnTo>
                  <a:pt x="9709" y="6479"/>
                </a:lnTo>
                <a:lnTo>
                  <a:pt x="9508" y="6335"/>
                </a:lnTo>
                <a:lnTo>
                  <a:pt x="9308" y="6287"/>
                </a:lnTo>
                <a:lnTo>
                  <a:pt x="9158" y="6047"/>
                </a:lnTo>
                <a:lnTo>
                  <a:pt x="8958" y="5903"/>
                </a:lnTo>
                <a:lnTo>
                  <a:pt x="8758" y="5807"/>
                </a:lnTo>
                <a:lnTo>
                  <a:pt x="8558" y="5711"/>
                </a:lnTo>
                <a:lnTo>
                  <a:pt x="8357" y="5519"/>
                </a:lnTo>
                <a:lnTo>
                  <a:pt x="8157" y="5375"/>
                </a:lnTo>
                <a:lnTo>
                  <a:pt x="7957" y="5327"/>
                </a:lnTo>
                <a:lnTo>
                  <a:pt x="7757" y="5231"/>
                </a:lnTo>
                <a:lnTo>
                  <a:pt x="7557" y="5039"/>
                </a:lnTo>
                <a:lnTo>
                  <a:pt x="7407" y="4847"/>
                </a:lnTo>
                <a:lnTo>
                  <a:pt x="7206" y="4703"/>
                </a:lnTo>
                <a:lnTo>
                  <a:pt x="6956" y="4463"/>
                </a:lnTo>
                <a:lnTo>
                  <a:pt x="6756" y="4271"/>
                </a:lnTo>
                <a:lnTo>
                  <a:pt x="6556" y="4175"/>
                </a:lnTo>
                <a:lnTo>
                  <a:pt x="6356" y="4175"/>
                </a:lnTo>
                <a:lnTo>
                  <a:pt x="6106" y="4031"/>
                </a:lnTo>
                <a:lnTo>
                  <a:pt x="5854" y="3887"/>
                </a:lnTo>
                <a:lnTo>
                  <a:pt x="5654" y="3791"/>
                </a:lnTo>
                <a:lnTo>
                  <a:pt x="5454" y="3647"/>
                </a:lnTo>
                <a:lnTo>
                  <a:pt x="5254" y="3551"/>
                </a:lnTo>
                <a:lnTo>
                  <a:pt x="5054" y="3455"/>
                </a:lnTo>
                <a:lnTo>
                  <a:pt x="4854" y="3311"/>
                </a:lnTo>
                <a:lnTo>
                  <a:pt x="4653" y="3263"/>
                </a:lnTo>
                <a:lnTo>
                  <a:pt x="4453" y="3167"/>
                </a:lnTo>
                <a:lnTo>
                  <a:pt x="4303" y="2975"/>
                </a:lnTo>
                <a:lnTo>
                  <a:pt x="4203" y="2783"/>
                </a:lnTo>
                <a:lnTo>
                  <a:pt x="4053" y="2591"/>
                </a:lnTo>
                <a:lnTo>
                  <a:pt x="3903" y="2399"/>
                </a:lnTo>
                <a:lnTo>
                  <a:pt x="3753" y="2207"/>
                </a:lnTo>
                <a:lnTo>
                  <a:pt x="3552" y="2063"/>
                </a:lnTo>
                <a:lnTo>
                  <a:pt x="3352" y="1919"/>
                </a:lnTo>
                <a:lnTo>
                  <a:pt x="3152" y="1775"/>
                </a:lnTo>
                <a:lnTo>
                  <a:pt x="2952" y="1727"/>
                </a:lnTo>
                <a:lnTo>
                  <a:pt x="2752" y="1679"/>
                </a:lnTo>
                <a:lnTo>
                  <a:pt x="2552" y="1583"/>
                </a:lnTo>
                <a:lnTo>
                  <a:pt x="2351" y="1535"/>
                </a:lnTo>
                <a:lnTo>
                  <a:pt x="2151" y="1439"/>
                </a:lnTo>
                <a:lnTo>
                  <a:pt x="2001" y="1247"/>
                </a:lnTo>
                <a:lnTo>
                  <a:pt x="1901" y="1055"/>
                </a:lnTo>
                <a:lnTo>
                  <a:pt x="1751" y="863"/>
                </a:lnTo>
                <a:lnTo>
                  <a:pt x="1551" y="719"/>
                </a:lnTo>
                <a:lnTo>
                  <a:pt x="1401" y="527"/>
                </a:lnTo>
                <a:lnTo>
                  <a:pt x="1200" y="383"/>
                </a:lnTo>
                <a:lnTo>
                  <a:pt x="1000" y="287"/>
                </a:lnTo>
                <a:lnTo>
                  <a:pt x="800" y="191"/>
                </a:lnTo>
                <a:lnTo>
                  <a:pt x="600" y="47"/>
                </a:lnTo>
                <a:lnTo>
                  <a:pt x="500" y="0"/>
                </a:lnTo>
                <a:close/>
              </a:path>
            </a:pathLst>
          </a:custGeom>
          <a:solidFill>
            <a:srgbClr val="80a4fb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8058240" y="1886040"/>
            <a:ext cx="171720" cy="6458400"/>
          </a:xfrm>
          <a:custGeom>
            <a:avLst/>
            <a:gdLst/>
            <a:ahLst/>
            <a:rect l="0" t="0" r="r" b="b"/>
            <a:pathLst>
              <a:path w="477" h="17940">
                <a:moveTo>
                  <a:pt x="0" y="535"/>
                </a:moveTo>
                <a:lnTo>
                  <a:pt x="0" y="17405"/>
                </a:lnTo>
                <a:lnTo>
                  <a:pt x="477" y="17940"/>
                </a:lnTo>
                <a:lnTo>
                  <a:pt x="477" y="0"/>
                </a:lnTo>
                <a:lnTo>
                  <a:pt x="0" y="535"/>
                </a:lnTo>
                <a:close/>
              </a:path>
            </a:pathLst>
          </a:custGeom>
          <a:solidFill>
            <a:srgbClr val="4747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-1457280" y="8178840"/>
            <a:ext cx="9680760" cy="165600"/>
          </a:xfrm>
          <a:custGeom>
            <a:avLst/>
            <a:gdLst/>
            <a:ahLst/>
            <a:rect l="0" t="0" r="r" b="b"/>
            <a:pathLst>
              <a:path w="26891" h="460">
                <a:moveTo>
                  <a:pt x="548" y="0"/>
                </a:moveTo>
                <a:lnTo>
                  <a:pt x="26342" y="0"/>
                </a:lnTo>
                <a:lnTo>
                  <a:pt x="26891" y="460"/>
                </a:lnTo>
                <a:lnTo>
                  <a:pt x="0" y="460"/>
                </a:lnTo>
                <a:lnTo>
                  <a:pt x="548" y="0"/>
                </a:lnTo>
                <a:close/>
              </a:path>
            </a:pathLst>
          </a:custGeom>
          <a:solidFill>
            <a:srgbClr val="1a000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-1457280" y="1866960"/>
            <a:ext cx="9687240" cy="203400"/>
          </a:xfrm>
          <a:custGeom>
            <a:avLst/>
            <a:gdLst/>
            <a:ahLst/>
            <a:rect l="0" t="0" r="r" b="b"/>
            <a:pathLst>
              <a:path w="26909" h="565">
                <a:moveTo>
                  <a:pt x="0" y="0"/>
                </a:moveTo>
                <a:lnTo>
                  <a:pt x="549" y="565"/>
                </a:lnTo>
                <a:lnTo>
                  <a:pt x="26359" y="565"/>
                </a:lnTo>
                <a:lnTo>
                  <a:pt x="26909" y="0"/>
                </a:lnTo>
                <a:lnTo>
                  <a:pt x="0" y="0"/>
                </a:lnTo>
                <a:close/>
              </a:path>
            </a:pathLst>
          </a:custGeom>
          <a:solidFill>
            <a:srgbClr val="1a0004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-1457280" y="1866960"/>
            <a:ext cx="171720" cy="6477480"/>
          </a:xfrm>
          <a:custGeom>
            <a:avLst/>
            <a:gdLst/>
            <a:ahLst/>
            <a:rect l="0" t="0" r="r" b="b"/>
            <a:pathLst>
              <a:path w="477" h="17993">
                <a:moveTo>
                  <a:pt x="0" y="0"/>
                </a:moveTo>
                <a:lnTo>
                  <a:pt x="0" y="17993"/>
                </a:lnTo>
                <a:lnTo>
                  <a:pt x="477" y="17456"/>
                </a:lnTo>
                <a:lnTo>
                  <a:pt x="477" y="537"/>
                </a:lnTo>
                <a:lnTo>
                  <a:pt x="0" y="0"/>
                </a:lnTo>
                <a:close/>
              </a:path>
            </a:pathLst>
          </a:custGeom>
          <a:solidFill>
            <a:srgbClr val="474747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410400"/>
            <a:ext cx="6171840" cy="171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body"/>
          </p:nvPr>
        </p:nvSpPr>
        <p:spPr>
          <a:xfrm>
            <a:off x="342720" y="2406960"/>
            <a:ext cx="6171840" cy="596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1.wmf"/><Relationship Id="rId4" Type="http://schemas.openxmlformats.org/officeDocument/2006/relationships/image" Target="../media/image7.wmf"/><Relationship Id="rId5" Type="http://schemas.openxmlformats.org/officeDocument/2006/relationships/image" Target="../media/image8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-1295280" y="2100240"/>
            <a:ext cx="9296280" cy="14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To View These Slides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-914400" y="4228920"/>
            <a:ext cx="8763120" cy="398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40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croll through these slides by using your “page up” and “page down” keys.  (Press “page down”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-1295280" y="1714680"/>
            <a:ext cx="95248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SuperTCP Products Give You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-914400" y="3238560"/>
            <a:ext cx="899172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ternet Acc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erminal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Electronic M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File Sharing and Trans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UNIX Access Through X-Wind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Network Printing and Fax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2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</a:t>
            </a:r>
            <a:r>
              <a:rPr b="1" lang="en-US" sz="3200" spc="-1" strike="noStrike">
                <a:solidFill>
                  <a:srgbClr val="f95ab7"/>
                </a:solidFill>
                <a:latin typeface="Times New Roman"/>
                <a:ea typeface="Times New Roman"/>
              </a:rPr>
              <a:t>**And Much More**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 txBox="1"/>
          <p:nvPr/>
        </p:nvSpPr>
        <p:spPr>
          <a:xfrm>
            <a:off x="-1295280" y="1714680"/>
            <a:ext cx="9296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Internet A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-990720" y="3085920"/>
            <a:ext cx="906768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Multi-Protocol Brow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WWW (World Wide Web), Gopher+, C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rchie, Veronica, Jughead, W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tegrated FTP and Telnet/VT1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Organize Internet resources by top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Listing of 600+  Internet sites -- just click to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ternet News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Easy Graphical Interf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1295280" y="1790640"/>
            <a:ext cx="929628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Electronic Ma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-1143000" y="3238560"/>
            <a:ext cx="9220320" cy="497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end Email to anyone on the worldwide Internet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MIME compliant - receive and send multimedia attachm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Formatted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Workshe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Graphics and sou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Personal and group address b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Rules-based mail sort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 txBox="1"/>
          <p:nvPr/>
        </p:nvSpPr>
        <p:spPr>
          <a:xfrm>
            <a:off x="-1295280" y="1866960"/>
            <a:ext cx="9296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NFS  -  Network File Syst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-1143000" y="369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ccess files on other server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Drag and drop files between any operating system or architectur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Look and feel of the Windows File Manager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lient </a:t>
            </a:r>
            <a:r>
              <a:rPr b="1" i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nd 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erver NFS capabilit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-1295280" y="1866960"/>
            <a:ext cx="92962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FTP  -  File Transfer Protoco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-914400" y="3691080"/>
            <a:ext cx="8991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lient - access files on remote sys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erver - makes your files available to 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other client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Drag and drop files between system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-1295280" y="2100240"/>
            <a:ext cx="9296280" cy="90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UNIX A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-1066680" y="36910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ccess Any UNIX System through X-Window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Run UNIX applications remotely, display them in your familiar Windows environmen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ports up to 10 sessions simultaneousl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-1295280" y="1866960"/>
            <a:ext cx="9296280" cy="121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Terminal Emula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-914400" y="3543120"/>
            <a:ext cx="8991720" cy="434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Your PC becomes a mainframe or minicomputer terminal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31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n327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31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VT100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31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VT22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31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VT320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-1295280" y="2171520"/>
            <a:ext cx="9296280" cy="149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3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High Performance </a:t>
            </a:r>
            <a:br>
              <a:rPr sz="5300"/>
            </a:br>
            <a:r>
              <a:rPr b="1" lang="en-US" sz="53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TCP/IP Engine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-1143000" y="3924360"/>
            <a:ext cx="92203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Latest technology, 32-Bit VxD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Occupies zero low DOS memory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PPP, SLIP and CSLIP support for dial-up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Winsock 1.1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NetBIO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-1295280" y="1943280"/>
            <a:ext cx="929628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3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Frontier’s Product Family</a:t>
            </a: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-1295280" y="3085920"/>
            <a:ext cx="9372600" cy="513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TCP Pro - TCP/IP, NFS, X-Server and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TCP/NFS - Same as Pro minus the X-Server and Internet Ac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TCP - Same as TCP/NFS minus the NF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NFS - Network File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X - Full-function, price-competitive X-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uperTCP Kernel - 32-Bit VxD TCP/IP 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Developer Toolkits 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</a:pPr>
            <a:r>
              <a:rPr b="1" i="1" lang="en-US" sz="28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   </a:t>
            </a:r>
            <a:r>
              <a:rPr b="1" i="1" lang="en-US" sz="28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And not forgetting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 txBox="1"/>
          <p:nvPr/>
        </p:nvSpPr>
        <p:spPr>
          <a:xfrm>
            <a:off x="-1295280" y="1714680"/>
            <a:ext cx="929628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SuperHighway Acces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-1143000" y="3162240"/>
            <a:ext cx="922032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he industry’s best dial-up Internet access package, 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WinTapestry multi-session, multi-protocol browser, (World Wide Web, Gopher+, CS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Ema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tegrated FTP/Tel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01720" indent="-307800">
              <a:lnSpc>
                <a:spcPct val="100000"/>
              </a:lnSpc>
              <a:spcBef>
                <a:spcPts val="479"/>
              </a:spcBef>
              <a:buClr>
                <a:srgbClr val="ffd34a"/>
              </a:buClr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ternet News R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Setup scripts for 120 Internet Service Provid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-1523880" y="3319560"/>
            <a:ext cx="9829800" cy="328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Welcome to Frontier Technologies’</a:t>
            </a:r>
            <a:br>
              <a:rPr sz="5400"/>
            </a:br>
            <a:r>
              <a:rPr b="1" lang="en-US" sz="5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Demo CD</a:t>
            </a:r>
            <a:br>
              <a:rPr sz="1800"/>
            </a:br>
            <a:r>
              <a:rPr b="1" lang="en-US" sz="53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     </a:t>
            </a:r>
            <a:br>
              <a:rPr sz="1800"/>
            </a:br>
            <a:endParaRPr b="0" lang="en-US" sz="5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-1370160" y="3543120"/>
            <a:ext cx="959976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Test Drive Frontier Technologies’ Award-Winn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r>
              <a:rPr b="1" lang="en-US" sz="22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SuperTCP Pro, SuperTCP/NFS, SuperTCP and SuperHighway A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1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10201 N. Port Washington Rd.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        303 Twin Dolphin Dr., Ste. 124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Mequon, WI 53092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                                     Redwood City, CA 94065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Phone: 414-241-4555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                                         Phone: 415-610-7880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FAX: 414-241-7084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13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                                                   FAX: 415-610-7887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 algn="ctr">
              <a:lnSpc>
                <a:spcPct val="100000"/>
              </a:lnSpc>
              <a:spcBef>
                <a:spcPts val="479"/>
              </a:spcBef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635120" y="7155000"/>
            <a:ext cx="3394080" cy="8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-1295280" y="2247840"/>
            <a:ext cx="9296280" cy="151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How to Order from Frontier Technologie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-1295280" y="4305240"/>
            <a:ext cx="9372600" cy="39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all 1-800-929-3054 in the U.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Or print the order form from the main menu and Fax to 414-241-7084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Products also available from many resellers in the U.S. and worldwid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-1295280" y="1790640"/>
            <a:ext cx="9296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Technical Suppor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-1143000" y="3691080"/>
            <a:ext cx="92203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Email: Support@FrontierTech.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ry Our “Frequently asked questions” section on our Web server: http://www.FrontierTech.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69720" indent="-36972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all Frontier Technologies’ support line at  1-414-241-2565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 txBox="1"/>
          <p:nvPr/>
        </p:nvSpPr>
        <p:spPr>
          <a:xfrm>
            <a:off x="-1143000" y="2552760"/>
            <a:ext cx="8686800" cy="16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40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The King of Connectivity</a:t>
            </a:r>
            <a:br>
              <a:rPr sz="4000"/>
            </a:br>
            <a:r>
              <a:rPr b="1" lang="en-US" sz="40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hopes you enjoyed this</a:t>
            </a:r>
            <a:br>
              <a:rPr sz="4000"/>
            </a:br>
            <a:r>
              <a:rPr b="1" lang="en-US" sz="40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presentatio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1143000" y="1719360"/>
            <a:ext cx="9144000" cy="1812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-1066680" y="6591240"/>
            <a:ext cx="9220320" cy="197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700" spc="-1" strike="noStrike">
                <a:solidFill>
                  <a:srgbClr val="ffd34a"/>
                </a:solidFill>
                <a:latin typeface="Peignot Demi"/>
                <a:ea typeface="Peignot Demi"/>
              </a:rPr>
              <a:t>***Visit Our Lion’s Web site: www.FrontierTech.com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4308480" y="2665440"/>
            <a:ext cx="3606840" cy="38401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2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-1143000" y="2171520"/>
            <a:ext cx="9144000" cy="227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You’re part of the Internet          </a:t>
            </a:r>
            <a:br>
              <a:rPr sz="5400"/>
            </a:b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Revolution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-1219320" y="3543120"/>
            <a:ext cx="9296280" cy="467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“</a:t>
            </a:r>
            <a:r>
              <a:rPr b="1" lang="en-US" sz="3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... Internet tools and products will prove to be even more important to the world than the arrival of the printing press.”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nthony-Michael Rutkowski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</a:t>
            </a:r>
            <a:r>
              <a:rPr b="1" lang="en-US" sz="2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Executive Director of the Internet Socie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-1219320" y="1790640"/>
            <a:ext cx="90136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And you’re in good company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-1066680" y="2933640"/>
            <a:ext cx="886788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1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HE INTERNE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30 million users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200 million users by the year 2000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	</a:t>
            </a: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(Source: Input, Inc.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5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CP/IP FOR P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8.4 million toda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600" spc="-1" strike="noStrike">
                <a:solidFill>
                  <a:srgbClr val="1a0004"/>
                </a:solidFill>
                <a:latin typeface="Times New Roman"/>
                <a:ea typeface="Times New Roman"/>
              </a:rPr>
              <a:t>107% annual growth (Source: ID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1332000" y="6591240"/>
            <a:ext cx="1840320" cy="1457640"/>
            <a:chOff x="1332000" y="6591240"/>
            <a:chExt cx="1840320" cy="1457640"/>
          </a:xfrm>
        </p:grpSpPr>
        <p:sp>
          <p:nvSpPr>
            <p:cNvPr id="65" name=""/>
            <p:cNvSpPr/>
            <p:nvPr/>
          </p:nvSpPr>
          <p:spPr>
            <a:xfrm>
              <a:off x="1428840" y="7505640"/>
              <a:ext cx="1627560" cy="330480"/>
            </a:xfrm>
            <a:custGeom>
              <a:avLst/>
              <a:gdLst/>
              <a:ahLst/>
              <a:rect l="0" t="0" r="r" b="b"/>
              <a:pathLst>
                <a:path w="4521" h="918">
                  <a:moveTo>
                    <a:pt x="0" y="0"/>
                  </a:moveTo>
                  <a:lnTo>
                    <a:pt x="4521" y="0"/>
                  </a:lnTo>
                  <a:lnTo>
                    <a:pt x="4521" y="918"/>
                  </a:lnTo>
                  <a:lnTo>
                    <a:pt x="0" y="9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428840" y="7505640"/>
              <a:ext cx="1643400" cy="343440"/>
            </a:xfrm>
            <a:custGeom>
              <a:avLst/>
              <a:gdLst/>
              <a:ahLst/>
              <a:rect l="0" t="0" r="r" b="b"/>
              <a:pathLst>
                <a:path fill="none" w="4565" h="954">
                  <a:moveTo>
                    <a:pt x="0" y="0"/>
                  </a:moveTo>
                  <a:lnTo>
                    <a:pt x="4565" y="0"/>
                  </a:lnTo>
                  <a:lnTo>
                    <a:pt x="4565" y="954"/>
                  </a:lnTo>
                  <a:lnTo>
                    <a:pt x="0" y="9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2011320" y="7524720"/>
              <a:ext cx="1030680" cy="155880"/>
            </a:xfrm>
            <a:custGeom>
              <a:avLst/>
              <a:gdLst/>
              <a:ahLst/>
              <a:rect l="0" t="0" r="r" b="b"/>
              <a:pathLst>
                <a:path fill="none" w="2863" h="433">
                  <a:moveTo>
                    <a:pt x="2863" y="0"/>
                  </a:moveTo>
                  <a:lnTo>
                    <a:pt x="0" y="0"/>
                  </a:lnTo>
                  <a:lnTo>
                    <a:pt x="0" y="433"/>
                  </a:lnTo>
                  <a:lnTo>
                    <a:pt x="2863" y="433"/>
                  </a:lnTo>
                  <a:lnTo>
                    <a:pt x="286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7960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51920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562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43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6844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24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7654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805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8446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86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256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670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080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0509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0876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1304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718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2114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2525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2906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32884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3716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130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541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940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5336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5750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6146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6557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6989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7367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77956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81628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8591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29005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4012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98116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022560" y="7745400"/>
              <a:ext cx="0" cy="9036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2519280" y="7578720"/>
              <a:ext cx="335160" cy="1800"/>
            </a:xfrm>
            <a:custGeom>
              <a:avLst/>
              <a:gdLst/>
              <a:ahLst/>
              <a:rect l="0" t="0" r="r" b="b"/>
              <a:pathLst>
                <a:path w="931" h="5">
                  <a:moveTo>
                    <a:pt x="0" y="0"/>
                  </a:moveTo>
                  <a:lnTo>
                    <a:pt x="931" y="0"/>
                  </a:lnTo>
                  <a:lnTo>
                    <a:pt x="931" y="5"/>
                  </a:lnTo>
                  <a:lnTo>
                    <a:pt x="0" y="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619360" y="7547040"/>
              <a:ext cx="136800" cy="19440"/>
            </a:xfrm>
            <a:custGeom>
              <a:avLst/>
              <a:gdLst/>
              <a:ahLst/>
              <a:rect l="0" t="0" r="r" b="b"/>
              <a:pathLst>
                <a:path w="380" h="54">
                  <a:moveTo>
                    <a:pt x="0" y="54"/>
                  </a:moveTo>
                  <a:lnTo>
                    <a:pt x="0" y="0"/>
                  </a:lnTo>
                  <a:lnTo>
                    <a:pt x="380" y="0"/>
                  </a:lnTo>
                  <a:lnTo>
                    <a:pt x="38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2619360" y="7593120"/>
              <a:ext cx="136800" cy="3600"/>
            </a:xfrm>
            <a:custGeom>
              <a:avLst/>
              <a:gdLst/>
              <a:ahLst/>
              <a:rect l="0" t="0" r="r" b="b"/>
              <a:pathLst>
                <a:path w="380" h="10">
                  <a:moveTo>
                    <a:pt x="0" y="0"/>
                  </a:moveTo>
                  <a:lnTo>
                    <a:pt x="0" y="10"/>
                  </a:lnTo>
                  <a:lnTo>
                    <a:pt x="380" y="10"/>
                  </a:lnTo>
                  <a:lnTo>
                    <a:pt x="38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014560" y="7527960"/>
              <a:ext cx="1011600" cy="84600"/>
            </a:xfrm>
            <a:custGeom>
              <a:avLst/>
              <a:gdLst/>
              <a:ahLst/>
              <a:rect l="0" t="0" r="r" b="b"/>
              <a:pathLst>
                <a:path w="2810" h="235">
                  <a:moveTo>
                    <a:pt x="2810" y="205"/>
                  </a:moveTo>
                  <a:lnTo>
                    <a:pt x="2704" y="205"/>
                  </a:lnTo>
                  <a:lnTo>
                    <a:pt x="2704" y="30"/>
                  </a:lnTo>
                  <a:lnTo>
                    <a:pt x="2530" y="30"/>
                  </a:lnTo>
                  <a:lnTo>
                    <a:pt x="2530" y="205"/>
                  </a:lnTo>
                  <a:lnTo>
                    <a:pt x="2326" y="205"/>
                  </a:lnTo>
                  <a:lnTo>
                    <a:pt x="2326" y="168"/>
                  </a:lnTo>
                  <a:lnTo>
                    <a:pt x="2114" y="168"/>
                  </a:lnTo>
                  <a:lnTo>
                    <a:pt x="2114" y="205"/>
                  </a:lnTo>
                  <a:lnTo>
                    <a:pt x="1265" y="205"/>
                  </a:lnTo>
                  <a:lnTo>
                    <a:pt x="1265" y="0"/>
                  </a:lnTo>
                  <a:lnTo>
                    <a:pt x="1000" y="0"/>
                  </a:lnTo>
                  <a:lnTo>
                    <a:pt x="1000" y="205"/>
                  </a:lnTo>
                  <a:lnTo>
                    <a:pt x="666" y="205"/>
                  </a:lnTo>
                  <a:lnTo>
                    <a:pt x="666" y="184"/>
                  </a:lnTo>
                  <a:lnTo>
                    <a:pt x="658" y="168"/>
                  </a:lnTo>
                  <a:lnTo>
                    <a:pt x="643" y="153"/>
                  </a:lnTo>
                  <a:lnTo>
                    <a:pt x="620" y="143"/>
                  </a:lnTo>
                  <a:lnTo>
                    <a:pt x="598" y="138"/>
                  </a:lnTo>
                  <a:lnTo>
                    <a:pt x="560" y="143"/>
                  </a:lnTo>
                  <a:lnTo>
                    <a:pt x="537" y="153"/>
                  </a:lnTo>
                  <a:lnTo>
                    <a:pt x="522" y="168"/>
                  </a:lnTo>
                  <a:lnTo>
                    <a:pt x="522" y="184"/>
                  </a:lnTo>
                  <a:lnTo>
                    <a:pt x="522" y="205"/>
                  </a:lnTo>
                  <a:lnTo>
                    <a:pt x="401" y="205"/>
                  </a:lnTo>
                  <a:lnTo>
                    <a:pt x="401" y="179"/>
                  </a:lnTo>
                  <a:lnTo>
                    <a:pt x="393" y="153"/>
                  </a:lnTo>
                  <a:lnTo>
                    <a:pt x="370" y="133"/>
                  </a:lnTo>
                  <a:lnTo>
                    <a:pt x="340" y="122"/>
                  </a:lnTo>
                  <a:lnTo>
                    <a:pt x="302" y="117"/>
                  </a:lnTo>
                  <a:lnTo>
                    <a:pt x="272" y="122"/>
                  </a:lnTo>
                  <a:lnTo>
                    <a:pt x="242" y="133"/>
                  </a:lnTo>
                  <a:lnTo>
                    <a:pt x="219" y="153"/>
                  </a:lnTo>
                  <a:lnTo>
                    <a:pt x="211" y="179"/>
                  </a:lnTo>
                  <a:lnTo>
                    <a:pt x="211" y="205"/>
                  </a:lnTo>
                  <a:lnTo>
                    <a:pt x="0" y="205"/>
                  </a:lnTo>
                  <a:lnTo>
                    <a:pt x="0" y="225"/>
                  </a:lnTo>
                  <a:lnTo>
                    <a:pt x="249" y="225"/>
                  </a:lnTo>
                  <a:lnTo>
                    <a:pt x="280" y="230"/>
                  </a:lnTo>
                  <a:lnTo>
                    <a:pt x="302" y="235"/>
                  </a:lnTo>
                  <a:lnTo>
                    <a:pt x="333" y="230"/>
                  </a:lnTo>
                  <a:lnTo>
                    <a:pt x="355" y="225"/>
                  </a:lnTo>
                  <a:lnTo>
                    <a:pt x="545" y="225"/>
                  </a:lnTo>
                  <a:lnTo>
                    <a:pt x="567" y="230"/>
                  </a:lnTo>
                  <a:lnTo>
                    <a:pt x="598" y="235"/>
                  </a:lnTo>
                  <a:lnTo>
                    <a:pt x="620" y="230"/>
                  </a:lnTo>
                  <a:lnTo>
                    <a:pt x="643" y="225"/>
                  </a:lnTo>
                  <a:lnTo>
                    <a:pt x="2121" y="225"/>
                  </a:lnTo>
                  <a:lnTo>
                    <a:pt x="2121" y="235"/>
                  </a:lnTo>
                  <a:lnTo>
                    <a:pt x="2326" y="235"/>
                  </a:lnTo>
                  <a:lnTo>
                    <a:pt x="2326" y="225"/>
                  </a:lnTo>
                  <a:lnTo>
                    <a:pt x="2810" y="225"/>
                  </a:lnTo>
                  <a:lnTo>
                    <a:pt x="2810" y="20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39600" bIns="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011320" y="7527960"/>
              <a:ext cx="1033920" cy="84600"/>
            </a:xfrm>
            <a:custGeom>
              <a:avLst/>
              <a:gdLst/>
              <a:ahLst/>
              <a:rect l="0" t="0" r="r" b="b"/>
              <a:pathLst>
                <a:path fill="none" w="2872" h="235">
                  <a:moveTo>
                    <a:pt x="0" y="235"/>
                  </a:moveTo>
                  <a:lnTo>
                    <a:pt x="223" y="235"/>
                  </a:lnTo>
                  <a:lnTo>
                    <a:pt x="223" y="206"/>
                  </a:lnTo>
                  <a:lnTo>
                    <a:pt x="230" y="177"/>
                  </a:lnTo>
                  <a:lnTo>
                    <a:pt x="253" y="152"/>
                  </a:lnTo>
                  <a:lnTo>
                    <a:pt x="284" y="141"/>
                  </a:lnTo>
                  <a:lnTo>
                    <a:pt x="315" y="135"/>
                  </a:lnTo>
                  <a:lnTo>
                    <a:pt x="354" y="141"/>
                  </a:lnTo>
                  <a:lnTo>
                    <a:pt x="384" y="152"/>
                  </a:lnTo>
                  <a:lnTo>
                    <a:pt x="407" y="177"/>
                  </a:lnTo>
                  <a:lnTo>
                    <a:pt x="415" y="206"/>
                  </a:lnTo>
                  <a:lnTo>
                    <a:pt x="415" y="235"/>
                  </a:lnTo>
                  <a:lnTo>
                    <a:pt x="538" y="235"/>
                  </a:lnTo>
                  <a:lnTo>
                    <a:pt x="538" y="212"/>
                  </a:lnTo>
                  <a:lnTo>
                    <a:pt x="538" y="194"/>
                  </a:lnTo>
                  <a:lnTo>
                    <a:pt x="554" y="177"/>
                  </a:lnTo>
                  <a:lnTo>
                    <a:pt x="577" y="164"/>
                  </a:lnTo>
                  <a:lnTo>
                    <a:pt x="615" y="158"/>
                  </a:lnTo>
                  <a:lnTo>
                    <a:pt x="638" y="164"/>
                  </a:lnTo>
                  <a:lnTo>
                    <a:pt x="661" y="177"/>
                  </a:lnTo>
                  <a:lnTo>
                    <a:pt x="677" y="194"/>
                  </a:lnTo>
                  <a:lnTo>
                    <a:pt x="684" y="212"/>
                  </a:lnTo>
                  <a:lnTo>
                    <a:pt x="684" y="235"/>
                  </a:lnTo>
                  <a:lnTo>
                    <a:pt x="1024" y="235"/>
                  </a:lnTo>
                  <a:lnTo>
                    <a:pt x="1024" y="0"/>
                  </a:lnTo>
                  <a:lnTo>
                    <a:pt x="1293" y="0"/>
                  </a:lnTo>
                  <a:lnTo>
                    <a:pt x="1293" y="235"/>
                  </a:lnTo>
                  <a:lnTo>
                    <a:pt x="2156" y="235"/>
                  </a:lnTo>
                  <a:lnTo>
                    <a:pt x="2156" y="194"/>
                  </a:lnTo>
                  <a:lnTo>
                    <a:pt x="2372" y="194"/>
                  </a:lnTo>
                  <a:lnTo>
                    <a:pt x="2372" y="235"/>
                  </a:lnTo>
                  <a:lnTo>
                    <a:pt x="2580" y="235"/>
                  </a:lnTo>
                  <a:lnTo>
                    <a:pt x="2580" y="35"/>
                  </a:lnTo>
                  <a:lnTo>
                    <a:pt x="2757" y="35"/>
                  </a:lnTo>
                  <a:lnTo>
                    <a:pt x="2757" y="235"/>
                  </a:lnTo>
                  <a:lnTo>
                    <a:pt x="2872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95560" y="7580160"/>
              <a:ext cx="43200" cy="30600"/>
            </a:xfrm>
            <a:custGeom>
              <a:avLst/>
              <a:gdLst/>
              <a:ahLst/>
              <a:rect l="0" t="0" r="r" b="b"/>
              <a:pathLst>
                <a:path w="120" h="85">
                  <a:moveTo>
                    <a:pt x="59" y="0"/>
                  </a:moveTo>
                  <a:lnTo>
                    <a:pt x="87" y="0"/>
                  </a:lnTo>
                  <a:lnTo>
                    <a:pt x="103" y="8"/>
                  </a:lnTo>
                  <a:lnTo>
                    <a:pt x="114" y="20"/>
                  </a:lnTo>
                  <a:lnTo>
                    <a:pt x="120" y="42"/>
                  </a:lnTo>
                  <a:lnTo>
                    <a:pt x="114" y="55"/>
                  </a:lnTo>
                  <a:lnTo>
                    <a:pt x="103" y="69"/>
                  </a:lnTo>
                  <a:lnTo>
                    <a:pt x="87" y="81"/>
                  </a:lnTo>
                  <a:lnTo>
                    <a:pt x="59" y="85"/>
                  </a:lnTo>
                  <a:lnTo>
                    <a:pt x="37" y="81"/>
                  </a:lnTo>
                  <a:lnTo>
                    <a:pt x="21" y="69"/>
                  </a:lnTo>
                  <a:lnTo>
                    <a:pt x="5" y="55"/>
                  </a:lnTo>
                  <a:lnTo>
                    <a:pt x="0" y="42"/>
                  </a:lnTo>
                  <a:lnTo>
                    <a:pt x="5" y="20"/>
                  </a:lnTo>
                  <a:lnTo>
                    <a:pt x="21" y="8"/>
                  </a:lnTo>
                  <a:lnTo>
                    <a:pt x="37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095560" y="7580160"/>
              <a:ext cx="60840" cy="43200"/>
            </a:xfrm>
            <a:custGeom>
              <a:avLst/>
              <a:gdLst/>
              <a:ahLst/>
              <a:rect l="0" t="0" r="r" b="b"/>
              <a:pathLst>
                <a:path fill="none" w="169" h="120">
                  <a:moveTo>
                    <a:pt x="84" y="0"/>
                  </a:moveTo>
                  <a:lnTo>
                    <a:pt x="84" y="0"/>
                  </a:lnTo>
                  <a:lnTo>
                    <a:pt x="122" y="0"/>
                  </a:lnTo>
                  <a:lnTo>
                    <a:pt x="146" y="11"/>
                  </a:lnTo>
                  <a:lnTo>
                    <a:pt x="161" y="29"/>
                  </a:lnTo>
                  <a:lnTo>
                    <a:pt x="169" y="59"/>
                  </a:lnTo>
                  <a:lnTo>
                    <a:pt x="161" y="78"/>
                  </a:lnTo>
                  <a:lnTo>
                    <a:pt x="146" y="96"/>
                  </a:lnTo>
                  <a:lnTo>
                    <a:pt x="122" y="114"/>
                  </a:lnTo>
                  <a:lnTo>
                    <a:pt x="84" y="120"/>
                  </a:lnTo>
                  <a:lnTo>
                    <a:pt x="54" y="114"/>
                  </a:lnTo>
                  <a:lnTo>
                    <a:pt x="30" y="96"/>
                  </a:lnTo>
                  <a:lnTo>
                    <a:pt x="7" y="78"/>
                  </a:lnTo>
                  <a:lnTo>
                    <a:pt x="0" y="59"/>
                  </a:lnTo>
                  <a:lnTo>
                    <a:pt x="7" y="29"/>
                  </a:lnTo>
                  <a:lnTo>
                    <a:pt x="30" y="11"/>
                  </a:lnTo>
                  <a:lnTo>
                    <a:pt x="54" y="0"/>
                  </a:lnTo>
                  <a:lnTo>
                    <a:pt x="84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 flipV="1">
              <a:off x="2130480" y="7604280"/>
              <a:ext cx="15840" cy="1080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208240" y="7589880"/>
              <a:ext cx="30600" cy="20880"/>
            </a:xfrm>
            <a:custGeom>
              <a:avLst/>
              <a:gdLst/>
              <a:ahLst/>
              <a:rect l="0" t="0" r="r" b="b"/>
              <a:pathLst>
                <a:path w="85" h="58">
                  <a:moveTo>
                    <a:pt x="45" y="0"/>
                  </a:moveTo>
                  <a:lnTo>
                    <a:pt x="60" y="0"/>
                  </a:lnTo>
                  <a:lnTo>
                    <a:pt x="75" y="7"/>
                  </a:lnTo>
                  <a:lnTo>
                    <a:pt x="85" y="14"/>
                  </a:lnTo>
                  <a:lnTo>
                    <a:pt x="85" y="25"/>
                  </a:lnTo>
                  <a:lnTo>
                    <a:pt x="85" y="40"/>
                  </a:lnTo>
                  <a:lnTo>
                    <a:pt x="75" y="47"/>
                  </a:lnTo>
                  <a:lnTo>
                    <a:pt x="60" y="54"/>
                  </a:lnTo>
                  <a:lnTo>
                    <a:pt x="45" y="58"/>
                  </a:lnTo>
                  <a:lnTo>
                    <a:pt x="30" y="54"/>
                  </a:lnTo>
                  <a:lnTo>
                    <a:pt x="14" y="47"/>
                  </a:lnTo>
                  <a:lnTo>
                    <a:pt x="4" y="40"/>
                  </a:lnTo>
                  <a:lnTo>
                    <a:pt x="0" y="25"/>
                  </a:lnTo>
                  <a:lnTo>
                    <a:pt x="4" y="14"/>
                  </a:lnTo>
                  <a:lnTo>
                    <a:pt x="14" y="7"/>
                  </a:lnTo>
                  <a:lnTo>
                    <a:pt x="30" y="0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ffe500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208240" y="7589880"/>
              <a:ext cx="47880" cy="33840"/>
            </a:xfrm>
            <a:custGeom>
              <a:avLst/>
              <a:gdLst/>
              <a:ahLst/>
              <a:rect l="0" t="0" r="r" b="b"/>
              <a:pathLst>
                <a:path fill="none" w="133" h="94">
                  <a:moveTo>
                    <a:pt x="71" y="0"/>
                  </a:moveTo>
                  <a:lnTo>
                    <a:pt x="71" y="0"/>
                  </a:lnTo>
                  <a:lnTo>
                    <a:pt x="94" y="0"/>
                  </a:lnTo>
                  <a:lnTo>
                    <a:pt x="117" y="11"/>
                  </a:lnTo>
                  <a:lnTo>
                    <a:pt x="133" y="24"/>
                  </a:lnTo>
                  <a:lnTo>
                    <a:pt x="133" y="41"/>
                  </a:lnTo>
                  <a:lnTo>
                    <a:pt x="133" y="64"/>
                  </a:lnTo>
                  <a:lnTo>
                    <a:pt x="117" y="77"/>
                  </a:lnTo>
                  <a:lnTo>
                    <a:pt x="94" y="88"/>
                  </a:lnTo>
                  <a:lnTo>
                    <a:pt x="71" y="94"/>
                  </a:lnTo>
                  <a:lnTo>
                    <a:pt x="46" y="88"/>
                  </a:lnTo>
                  <a:lnTo>
                    <a:pt x="23" y="77"/>
                  </a:lnTo>
                  <a:lnTo>
                    <a:pt x="7" y="64"/>
                  </a:lnTo>
                  <a:lnTo>
                    <a:pt x="0" y="41"/>
                  </a:lnTo>
                  <a:lnTo>
                    <a:pt x="7" y="24"/>
                  </a:lnTo>
                  <a:lnTo>
                    <a:pt x="23" y="11"/>
                  </a:lnTo>
                  <a:lnTo>
                    <a:pt x="46" y="0"/>
                  </a:lnTo>
                  <a:lnTo>
                    <a:pt x="7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548080" y="7593120"/>
              <a:ext cx="9720" cy="6840"/>
            </a:xfrm>
            <a:custGeom>
              <a:avLst/>
              <a:gdLst/>
              <a:ahLst/>
              <a:rect l="0" t="0" r="r" b="b"/>
              <a:pathLst>
                <a:path w="27" h="19">
                  <a:moveTo>
                    <a:pt x="0" y="19"/>
                  </a:moveTo>
                  <a:lnTo>
                    <a:pt x="27" y="19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90720" y="7599240"/>
              <a:ext cx="54360" cy="6840"/>
            </a:xfrm>
            <a:custGeom>
              <a:avLst/>
              <a:gdLst/>
              <a:ahLst/>
              <a:rect l="0" t="0" r="r" b="b"/>
              <a:pathLst>
                <a:path w="151" h="19">
                  <a:moveTo>
                    <a:pt x="0" y="0"/>
                  </a:moveTo>
                  <a:lnTo>
                    <a:pt x="151" y="0"/>
                  </a:lnTo>
                  <a:lnTo>
                    <a:pt x="151" y="19"/>
                  </a:lnTo>
                  <a:lnTo>
                    <a:pt x="0" y="1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bfff"/>
            </a:solidFill>
            <a:ln w="0">
              <a:noFill/>
            </a:ln>
          </p:spPr>
          <p:txBody>
            <a:bodyPr lIns="90000" rIns="9000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790720" y="7599240"/>
              <a:ext cx="70200" cy="19440"/>
            </a:xfrm>
            <a:custGeom>
              <a:avLst/>
              <a:gdLst/>
              <a:ahLst/>
              <a:rect l="0" t="0" r="r" b="b"/>
              <a:pathLst>
                <a:path fill="none" w="195" h="54">
                  <a:moveTo>
                    <a:pt x="0" y="0"/>
                  </a:moveTo>
                  <a:lnTo>
                    <a:pt x="195" y="0"/>
                  </a:lnTo>
                  <a:lnTo>
                    <a:pt x="195" y="54"/>
                  </a:lnTo>
                  <a:lnTo>
                    <a:pt x="0" y="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1680" bIns="-31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98760" y="75247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889360" y="7524720"/>
              <a:ext cx="0" cy="1555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941560" y="7543800"/>
              <a:ext cx="43200" cy="55800"/>
            </a:xfrm>
            <a:custGeom>
              <a:avLst/>
              <a:gdLst/>
              <a:ahLst/>
              <a:rect l="0" t="0" r="r" b="b"/>
              <a:pathLst>
                <a:path w="120" h="155">
                  <a:moveTo>
                    <a:pt x="0" y="0"/>
                  </a:moveTo>
                  <a:lnTo>
                    <a:pt x="0" y="155"/>
                  </a:lnTo>
                  <a:lnTo>
                    <a:pt x="22" y="127"/>
                  </a:lnTo>
                  <a:lnTo>
                    <a:pt x="0" y="0"/>
                  </a:lnTo>
                  <a:lnTo>
                    <a:pt x="120" y="0"/>
                  </a:lnTo>
                  <a:lnTo>
                    <a:pt x="120" y="155"/>
                  </a:lnTo>
                  <a:lnTo>
                    <a:pt x="97" y="127"/>
                  </a:lnTo>
                  <a:lnTo>
                    <a:pt x="12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946240" y="7580160"/>
              <a:ext cx="30600" cy="9720"/>
            </a:xfrm>
            <a:custGeom>
              <a:avLst/>
              <a:gdLst/>
              <a:ahLst/>
              <a:rect l="0" t="0" r="r" b="b"/>
              <a:pathLst>
                <a:path w="85" h="27">
                  <a:moveTo>
                    <a:pt x="0" y="0"/>
                  </a:moveTo>
                  <a:lnTo>
                    <a:pt x="85" y="0"/>
                  </a:lnTo>
                  <a:lnTo>
                    <a:pt x="85" y="27"/>
                  </a:lnTo>
                  <a:lnTo>
                    <a:pt x="0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2946240" y="7580160"/>
              <a:ext cx="49680" cy="22680"/>
            </a:xfrm>
            <a:custGeom>
              <a:avLst/>
              <a:gdLst/>
              <a:ahLst/>
              <a:rect l="0" t="0" r="r" b="b"/>
              <a:pathLst>
                <a:path fill="none" w="138" h="63">
                  <a:moveTo>
                    <a:pt x="0" y="0"/>
                  </a:moveTo>
                  <a:lnTo>
                    <a:pt x="138" y="0"/>
                  </a:lnTo>
                  <a:lnTo>
                    <a:pt x="138" y="63"/>
                  </a:lnTo>
                  <a:lnTo>
                    <a:pt x="0" y="63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8440" bIns="-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51280" y="7569360"/>
              <a:ext cx="24120" cy="18000"/>
            </a:xfrm>
            <a:custGeom>
              <a:avLst/>
              <a:gdLst/>
              <a:ahLst/>
              <a:rect l="0" t="0" r="r" b="b"/>
              <a:pathLst>
                <a:path w="67" h="50">
                  <a:moveTo>
                    <a:pt x="0" y="50"/>
                  </a:moveTo>
                  <a:lnTo>
                    <a:pt x="67" y="50"/>
                  </a:lnTo>
                  <a:lnTo>
                    <a:pt x="62" y="0"/>
                  </a:lnTo>
                  <a:lnTo>
                    <a:pt x="0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951280" y="7559640"/>
              <a:ext cx="20880" cy="9720"/>
            </a:xfrm>
            <a:custGeom>
              <a:avLst/>
              <a:gdLst/>
              <a:ahLst/>
              <a:rect l="0" t="0" r="r" b="b"/>
              <a:pathLst>
                <a:path w="58" h="27">
                  <a:moveTo>
                    <a:pt x="0" y="0"/>
                  </a:moveTo>
                  <a:lnTo>
                    <a:pt x="58" y="0"/>
                  </a:lnTo>
                  <a:lnTo>
                    <a:pt x="58" y="27"/>
                  </a:lnTo>
                  <a:lnTo>
                    <a:pt x="4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68520" y="7550280"/>
              <a:ext cx="136800" cy="60840"/>
            </a:xfrm>
            <a:custGeom>
              <a:avLst/>
              <a:gdLst/>
              <a:ahLst/>
              <a:rect l="0" t="0" r="r" b="b"/>
              <a:pathLst>
                <a:path w="380" h="169">
                  <a:moveTo>
                    <a:pt x="128" y="0"/>
                  </a:moveTo>
                  <a:lnTo>
                    <a:pt x="251" y="0"/>
                  </a:lnTo>
                  <a:lnTo>
                    <a:pt x="278" y="0"/>
                  </a:lnTo>
                  <a:lnTo>
                    <a:pt x="305" y="4"/>
                  </a:lnTo>
                  <a:lnTo>
                    <a:pt x="326" y="14"/>
                  </a:lnTo>
                  <a:lnTo>
                    <a:pt x="346" y="23"/>
                  </a:lnTo>
                  <a:lnTo>
                    <a:pt x="359" y="38"/>
                  </a:lnTo>
                  <a:lnTo>
                    <a:pt x="373" y="48"/>
                  </a:lnTo>
                  <a:lnTo>
                    <a:pt x="380" y="68"/>
                  </a:lnTo>
                  <a:lnTo>
                    <a:pt x="380" y="82"/>
                  </a:lnTo>
                  <a:lnTo>
                    <a:pt x="380" y="101"/>
                  </a:lnTo>
                  <a:lnTo>
                    <a:pt x="373" y="115"/>
                  </a:lnTo>
                  <a:lnTo>
                    <a:pt x="359" y="131"/>
                  </a:lnTo>
                  <a:lnTo>
                    <a:pt x="346" y="145"/>
                  </a:lnTo>
                  <a:lnTo>
                    <a:pt x="326" y="155"/>
                  </a:lnTo>
                  <a:lnTo>
                    <a:pt x="305" y="159"/>
                  </a:lnTo>
                  <a:lnTo>
                    <a:pt x="278" y="164"/>
                  </a:lnTo>
                  <a:lnTo>
                    <a:pt x="251" y="169"/>
                  </a:lnTo>
                  <a:lnTo>
                    <a:pt x="128" y="169"/>
                  </a:lnTo>
                  <a:lnTo>
                    <a:pt x="101" y="164"/>
                  </a:lnTo>
                  <a:lnTo>
                    <a:pt x="74" y="159"/>
                  </a:lnTo>
                  <a:lnTo>
                    <a:pt x="54" y="155"/>
                  </a:lnTo>
                  <a:lnTo>
                    <a:pt x="33" y="145"/>
                  </a:lnTo>
                  <a:lnTo>
                    <a:pt x="20" y="131"/>
                  </a:lnTo>
                  <a:lnTo>
                    <a:pt x="6" y="115"/>
                  </a:lnTo>
                  <a:lnTo>
                    <a:pt x="0" y="101"/>
                  </a:lnTo>
                  <a:lnTo>
                    <a:pt x="0" y="82"/>
                  </a:lnTo>
                  <a:lnTo>
                    <a:pt x="0" y="68"/>
                  </a:lnTo>
                  <a:lnTo>
                    <a:pt x="6" y="48"/>
                  </a:lnTo>
                  <a:lnTo>
                    <a:pt x="20" y="38"/>
                  </a:lnTo>
                  <a:lnTo>
                    <a:pt x="33" y="23"/>
                  </a:lnTo>
                  <a:lnTo>
                    <a:pt x="54" y="14"/>
                  </a:lnTo>
                  <a:lnTo>
                    <a:pt x="74" y="4"/>
                  </a:lnTo>
                  <a:lnTo>
                    <a:pt x="101" y="0"/>
                  </a:lnTo>
                  <a:lnTo>
                    <a:pt x="12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15840" bIns="15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68520" y="7550280"/>
              <a:ext cx="155880" cy="73440"/>
            </a:xfrm>
            <a:custGeom>
              <a:avLst/>
              <a:gdLst/>
              <a:ahLst/>
              <a:rect l="0" t="0" r="r" b="b"/>
              <a:pathLst>
                <a:path fill="none" w="433" h="204">
                  <a:moveTo>
                    <a:pt x="146" y="0"/>
                  </a:moveTo>
                  <a:lnTo>
                    <a:pt x="286" y="0"/>
                  </a:lnTo>
                  <a:lnTo>
                    <a:pt x="317" y="0"/>
                  </a:lnTo>
                  <a:lnTo>
                    <a:pt x="348" y="5"/>
                  </a:lnTo>
                  <a:lnTo>
                    <a:pt x="371" y="17"/>
                  </a:lnTo>
                  <a:lnTo>
                    <a:pt x="394" y="28"/>
                  </a:lnTo>
                  <a:lnTo>
                    <a:pt x="410" y="46"/>
                  </a:lnTo>
                  <a:lnTo>
                    <a:pt x="425" y="58"/>
                  </a:lnTo>
                  <a:lnTo>
                    <a:pt x="433" y="82"/>
                  </a:lnTo>
                  <a:lnTo>
                    <a:pt x="433" y="99"/>
                  </a:lnTo>
                  <a:lnTo>
                    <a:pt x="433" y="122"/>
                  </a:lnTo>
                  <a:lnTo>
                    <a:pt x="425" y="140"/>
                  </a:lnTo>
                  <a:lnTo>
                    <a:pt x="410" y="158"/>
                  </a:lnTo>
                  <a:lnTo>
                    <a:pt x="394" y="175"/>
                  </a:lnTo>
                  <a:lnTo>
                    <a:pt x="371" y="187"/>
                  </a:lnTo>
                  <a:lnTo>
                    <a:pt x="348" y="193"/>
                  </a:lnTo>
                  <a:lnTo>
                    <a:pt x="317" y="199"/>
                  </a:lnTo>
                  <a:lnTo>
                    <a:pt x="286" y="204"/>
                  </a:lnTo>
                  <a:lnTo>
                    <a:pt x="146" y="204"/>
                  </a:lnTo>
                  <a:lnTo>
                    <a:pt x="115" y="199"/>
                  </a:lnTo>
                  <a:lnTo>
                    <a:pt x="84" y="193"/>
                  </a:lnTo>
                  <a:lnTo>
                    <a:pt x="61" y="187"/>
                  </a:lnTo>
                  <a:lnTo>
                    <a:pt x="38" y="175"/>
                  </a:lnTo>
                  <a:lnTo>
                    <a:pt x="23" y="158"/>
                  </a:lnTo>
                  <a:lnTo>
                    <a:pt x="7" y="140"/>
                  </a:lnTo>
                  <a:lnTo>
                    <a:pt x="0" y="122"/>
                  </a:lnTo>
                  <a:lnTo>
                    <a:pt x="0" y="99"/>
                  </a:lnTo>
                  <a:lnTo>
                    <a:pt x="0" y="82"/>
                  </a:lnTo>
                  <a:lnTo>
                    <a:pt x="7" y="58"/>
                  </a:lnTo>
                  <a:lnTo>
                    <a:pt x="23" y="46"/>
                  </a:lnTo>
                  <a:lnTo>
                    <a:pt x="38" y="28"/>
                  </a:lnTo>
                  <a:lnTo>
                    <a:pt x="61" y="17"/>
                  </a:lnTo>
                  <a:lnTo>
                    <a:pt x="84" y="5"/>
                  </a:lnTo>
                  <a:lnTo>
                    <a:pt x="115" y="0"/>
                  </a:lnTo>
                  <a:lnTo>
                    <a:pt x="146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384280" y="7532640"/>
              <a:ext cx="70200" cy="66960"/>
            </a:xfrm>
            <a:custGeom>
              <a:avLst/>
              <a:gdLst/>
              <a:ahLst/>
              <a:rect l="0" t="0" r="r" b="b"/>
              <a:pathLst>
                <a:path w="195" h="186">
                  <a:moveTo>
                    <a:pt x="0" y="0"/>
                  </a:moveTo>
                  <a:lnTo>
                    <a:pt x="195" y="0"/>
                  </a:lnTo>
                  <a:lnTo>
                    <a:pt x="195" y="186"/>
                  </a:lnTo>
                  <a:lnTo>
                    <a:pt x="0" y="18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384280" y="7532640"/>
              <a:ext cx="87840" cy="79560"/>
            </a:xfrm>
            <a:custGeom>
              <a:avLst/>
              <a:gdLst/>
              <a:ahLst/>
              <a:rect l="0" t="0" r="r" b="b"/>
              <a:pathLst>
                <a:path fill="none" w="244" h="221">
                  <a:moveTo>
                    <a:pt x="0" y="0"/>
                  </a:moveTo>
                  <a:lnTo>
                    <a:pt x="244" y="0"/>
                  </a:lnTo>
                  <a:lnTo>
                    <a:pt x="244" y="221"/>
                  </a:lnTo>
                  <a:lnTo>
                    <a:pt x="0" y="221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28440" bIns="28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390760" y="7539120"/>
              <a:ext cx="57600" cy="54360"/>
            </a:xfrm>
            <a:custGeom>
              <a:avLst/>
              <a:gdLst/>
              <a:ahLst/>
              <a:rect l="0" t="0" r="r" b="b"/>
              <a:pathLst>
                <a:path w="160" h="151">
                  <a:moveTo>
                    <a:pt x="0" y="0"/>
                  </a:moveTo>
                  <a:lnTo>
                    <a:pt x="160" y="0"/>
                  </a:lnTo>
                  <a:lnTo>
                    <a:pt x="160" y="151"/>
                  </a:lnTo>
                  <a:lnTo>
                    <a:pt x="0" y="15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332000" y="7777080"/>
              <a:ext cx="1824480" cy="259200"/>
            </a:xfrm>
            <a:custGeom>
              <a:avLst/>
              <a:gdLst/>
              <a:ahLst/>
              <a:rect l="0" t="0" r="r" b="b"/>
              <a:pathLst>
                <a:path w="5068" h="720">
                  <a:moveTo>
                    <a:pt x="68" y="0"/>
                  </a:moveTo>
                  <a:lnTo>
                    <a:pt x="5000" y="0"/>
                  </a:lnTo>
                  <a:lnTo>
                    <a:pt x="5022" y="5"/>
                  </a:lnTo>
                  <a:lnTo>
                    <a:pt x="5045" y="16"/>
                  </a:lnTo>
                  <a:lnTo>
                    <a:pt x="5061" y="27"/>
                  </a:lnTo>
                  <a:lnTo>
                    <a:pt x="5068" y="44"/>
                  </a:lnTo>
                  <a:lnTo>
                    <a:pt x="5068" y="676"/>
                  </a:lnTo>
                  <a:lnTo>
                    <a:pt x="5061" y="692"/>
                  </a:lnTo>
                  <a:lnTo>
                    <a:pt x="5045" y="709"/>
                  </a:lnTo>
                  <a:lnTo>
                    <a:pt x="5022" y="720"/>
                  </a:lnTo>
                  <a:lnTo>
                    <a:pt x="5000" y="720"/>
                  </a:lnTo>
                  <a:lnTo>
                    <a:pt x="68" y="720"/>
                  </a:lnTo>
                  <a:lnTo>
                    <a:pt x="38" y="720"/>
                  </a:lnTo>
                  <a:lnTo>
                    <a:pt x="22" y="709"/>
                  </a:lnTo>
                  <a:lnTo>
                    <a:pt x="7" y="692"/>
                  </a:lnTo>
                  <a:lnTo>
                    <a:pt x="0" y="676"/>
                  </a:lnTo>
                  <a:lnTo>
                    <a:pt x="0" y="44"/>
                  </a:lnTo>
                  <a:lnTo>
                    <a:pt x="7" y="27"/>
                  </a:lnTo>
                  <a:lnTo>
                    <a:pt x="22" y="16"/>
                  </a:lnTo>
                  <a:lnTo>
                    <a:pt x="38" y="5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332000" y="7777080"/>
              <a:ext cx="1840320" cy="271800"/>
            </a:xfrm>
            <a:custGeom>
              <a:avLst/>
              <a:gdLst/>
              <a:ahLst/>
              <a:rect l="0" t="0" r="r" b="b"/>
              <a:pathLst>
                <a:path fill="none" w="5112" h="755">
                  <a:moveTo>
                    <a:pt x="69" y="0"/>
                  </a:moveTo>
                  <a:lnTo>
                    <a:pt x="5043" y="0"/>
                  </a:lnTo>
                  <a:lnTo>
                    <a:pt x="5066" y="5"/>
                  </a:lnTo>
                  <a:lnTo>
                    <a:pt x="5089" y="17"/>
                  </a:lnTo>
                  <a:lnTo>
                    <a:pt x="5105" y="29"/>
                  </a:lnTo>
                  <a:lnTo>
                    <a:pt x="5112" y="46"/>
                  </a:lnTo>
                  <a:lnTo>
                    <a:pt x="5112" y="708"/>
                  </a:lnTo>
                  <a:lnTo>
                    <a:pt x="5105" y="725"/>
                  </a:lnTo>
                  <a:lnTo>
                    <a:pt x="5089" y="743"/>
                  </a:lnTo>
                  <a:lnTo>
                    <a:pt x="5066" y="755"/>
                  </a:lnTo>
                  <a:lnTo>
                    <a:pt x="5043" y="755"/>
                  </a:lnTo>
                  <a:lnTo>
                    <a:pt x="69" y="755"/>
                  </a:lnTo>
                  <a:lnTo>
                    <a:pt x="38" y="755"/>
                  </a:lnTo>
                  <a:lnTo>
                    <a:pt x="23" y="743"/>
                  </a:lnTo>
                  <a:lnTo>
                    <a:pt x="7" y="725"/>
                  </a:lnTo>
                  <a:lnTo>
                    <a:pt x="0" y="708"/>
                  </a:lnTo>
                  <a:lnTo>
                    <a:pt x="0" y="46"/>
                  </a:lnTo>
                  <a:lnTo>
                    <a:pt x="7" y="29"/>
                  </a:lnTo>
                  <a:lnTo>
                    <a:pt x="23" y="17"/>
                  </a:lnTo>
                  <a:lnTo>
                    <a:pt x="38" y="5"/>
                  </a:lnTo>
                  <a:lnTo>
                    <a:pt x="6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428840" y="7823160"/>
              <a:ext cx="1629360" cy="149760"/>
            </a:xfrm>
            <a:custGeom>
              <a:avLst/>
              <a:gdLst/>
              <a:ahLst/>
              <a:rect l="0" t="0" r="r" b="b"/>
              <a:pathLst>
                <a:path w="4526" h="416">
                  <a:moveTo>
                    <a:pt x="0" y="0"/>
                  </a:moveTo>
                  <a:lnTo>
                    <a:pt x="0" y="416"/>
                  </a:lnTo>
                  <a:lnTo>
                    <a:pt x="4526" y="416"/>
                  </a:lnTo>
                  <a:lnTo>
                    <a:pt x="4526" y="0"/>
                  </a:lnTo>
                  <a:lnTo>
                    <a:pt x="4511" y="91"/>
                  </a:lnTo>
                  <a:lnTo>
                    <a:pt x="4511" y="200"/>
                  </a:lnTo>
                  <a:lnTo>
                    <a:pt x="4511" y="307"/>
                  </a:lnTo>
                  <a:lnTo>
                    <a:pt x="4518" y="416"/>
                  </a:lnTo>
                  <a:lnTo>
                    <a:pt x="0" y="416"/>
                  </a:lnTo>
                  <a:lnTo>
                    <a:pt x="7" y="314"/>
                  </a:lnTo>
                  <a:lnTo>
                    <a:pt x="15" y="205"/>
                  </a:lnTo>
                  <a:lnTo>
                    <a:pt x="15" y="10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428840" y="7823160"/>
              <a:ext cx="1646640" cy="162360"/>
            </a:xfrm>
            <a:custGeom>
              <a:avLst/>
              <a:gdLst/>
              <a:ahLst/>
              <a:rect l="0" t="0" r="r" b="b"/>
              <a:pathLst>
                <a:path fill="none" w="4574" h="451">
                  <a:moveTo>
                    <a:pt x="0" y="0"/>
                  </a:moveTo>
                  <a:lnTo>
                    <a:pt x="0" y="451"/>
                  </a:lnTo>
                  <a:lnTo>
                    <a:pt x="4574" y="451"/>
                  </a:lnTo>
                  <a:lnTo>
                    <a:pt x="4574" y="0"/>
                  </a:lnTo>
                  <a:lnTo>
                    <a:pt x="4559" y="99"/>
                  </a:lnTo>
                  <a:lnTo>
                    <a:pt x="4559" y="217"/>
                  </a:lnTo>
                  <a:lnTo>
                    <a:pt x="4559" y="333"/>
                  </a:lnTo>
                  <a:lnTo>
                    <a:pt x="4567" y="451"/>
                  </a:lnTo>
                  <a:lnTo>
                    <a:pt x="0" y="451"/>
                  </a:lnTo>
                  <a:lnTo>
                    <a:pt x="7" y="340"/>
                  </a:lnTo>
                  <a:lnTo>
                    <a:pt x="15" y="222"/>
                  </a:lnTo>
                  <a:lnTo>
                    <a:pt x="15" y="1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332000" y="8012160"/>
              <a:ext cx="1821240" cy="24120"/>
            </a:xfrm>
            <a:custGeom>
              <a:avLst/>
              <a:gdLst/>
              <a:ahLst/>
              <a:rect l="0" t="0" r="r" b="b"/>
              <a:pathLst>
                <a:path w="5059" h="67">
                  <a:moveTo>
                    <a:pt x="0" y="19"/>
                  </a:moveTo>
                  <a:lnTo>
                    <a:pt x="7" y="11"/>
                  </a:lnTo>
                  <a:lnTo>
                    <a:pt x="22" y="7"/>
                  </a:lnTo>
                  <a:lnTo>
                    <a:pt x="45" y="0"/>
                  </a:lnTo>
                  <a:lnTo>
                    <a:pt x="68" y="0"/>
                  </a:lnTo>
                  <a:lnTo>
                    <a:pt x="4991" y="0"/>
                  </a:lnTo>
                  <a:lnTo>
                    <a:pt x="5021" y="0"/>
                  </a:lnTo>
                  <a:lnTo>
                    <a:pt x="5037" y="7"/>
                  </a:lnTo>
                  <a:lnTo>
                    <a:pt x="5052" y="11"/>
                  </a:lnTo>
                  <a:lnTo>
                    <a:pt x="5059" y="19"/>
                  </a:lnTo>
                  <a:lnTo>
                    <a:pt x="5059" y="39"/>
                  </a:lnTo>
                  <a:lnTo>
                    <a:pt x="5052" y="55"/>
                  </a:lnTo>
                  <a:lnTo>
                    <a:pt x="5029" y="63"/>
                  </a:lnTo>
                  <a:lnTo>
                    <a:pt x="5014" y="67"/>
                  </a:lnTo>
                  <a:lnTo>
                    <a:pt x="4998" y="67"/>
                  </a:lnTo>
                  <a:lnTo>
                    <a:pt x="61" y="67"/>
                  </a:lnTo>
                  <a:lnTo>
                    <a:pt x="38" y="63"/>
                  </a:lnTo>
                  <a:lnTo>
                    <a:pt x="22" y="59"/>
                  </a:lnTo>
                  <a:lnTo>
                    <a:pt x="7" y="51"/>
                  </a:lnTo>
                  <a:lnTo>
                    <a:pt x="0" y="3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0880" bIns="-20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332000" y="8012160"/>
              <a:ext cx="1837080" cy="36720"/>
            </a:xfrm>
            <a:custGeom>
              <a:avLst/>
              <a:gdLst/>
              <a:ahLst/>
              <a:rect l="0" t="0" r="r" b="b"/>
              <a:pathLst>
                <a:path fill="none" w="5103" h="102">
                  <a:moveTo>
                    <a:pt x="0" y="29"/>
                  </a:moveTo>
                  <a:lnTo>
                    <a:pt x="0" y="29"/>
                  </a:lnTo>
                  <a:lnTo>
                    <a:pt x="7" y="17"/>
                  </a:lnTo>
                  <a:lnTo>
                    <a:pt x="23" y="11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5033" y="0"/>
                  </a:lnTo>
                  <a:lnTo>
                    <a:pt x="5064" y="0"/>
                  </a:lnTo>
                  <a:lnTo>
                    <a:pt x="5079" y="11"/>
                  </a:lnTo>
                  <a:lnTo>
                    <a:pt x="5095" y="17"/>
                  </a:lnTo>
                  <a:lnTo>
                    <a:pt x="5103" y="29"/>
                  </a:lnTo>
                  <a:lnTo>
                    <a:pt x="5103" y="60"/>
                  </a:lnTo>
                  <a:lnTo>
                    <a:pt x="5095" y="84"/>
                  </a:lnTo>
                  <a:lnTo>
                    <a:pt x="5072" y="96"/>
                  </a:lnTo>
                  <a:lnTo>
                    <a:pt x="5056" y="102"/>
                  </a:lnTo>
                  <a:lnTo>
                    <a:pt x="5041" y="102"/>
                  </a:lnTo>
                  <a:lnTo>
                    <a:pt x="61" y="102"/>
                  </a:lnTo>
                  <a:lnTo>
                    <a:pt x="38" y="96"/>
                  </a:lnTo>
                  <a:lnTo>
                    <a:pt x="23" y="90"/>
                  </a:lnTo>
                  <a:lnTo>
                    <a:pt x="7" y="78"/>
                  </a:lnTo>
                  <a:lnTo>
                    <a:pt x="0" y="60"/>
                  </a:lnTo>
                  <a:lnTo>
                    <a:pt x="0" y="29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1341360" y="8029440"/>
              <a:ext cx="1821240" cy="12960"/>
            </a:xfrm>
            <a:custGeom>
              <a:avLst/>
              <a:gdLst/>
              <a:ahLst/>
              <a:rect l="0" t="0" r="r" b="b"/>
              <a:pathLst>
                <a:path fill="none" w="5059" h="36">
                  <a:moveTo>
                    <a:pt x="0" y="30"/>
                  </a:moveTo>
                  <a:lnTo>
                    <a:pt x="46" y="0"/>
                  </a:lnTo>
                  <a:lnTo>
                    <a:pt x="5013" y="0"/>
                  </a:lnTo>
                  <a:lnTo>
                    <a:pt x="5059" y="36"/>
                  </a:ln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2755800" y="7802640"/>
              <a:ext cx="260640" cy="33840"/>
            </a:xfrm>
            <a:custGeom>
              <a:avLst/>
              <a:gdLst/>
              <a:ahLst/>
              <a:rect l="0" t="0" r="r" b="b"/>
              <a:pathLst>
                <a:path w="724" h="94">
                  <a:moveTo>
                    <a:pt x="21" y="0"/>
                  </a:moveTo>
                  <a:lnTo>
                    <a:pt x="702" y="0"/>
                  </a:lnTo>
                  <a:lnTo>
                    <a:pt x="709" y="4"/>
                  </a:lnTo>
                  <a:lnTo>
                    <a:pt x="716" y="4"/>
                  </a:lnTo>
                  <a:lnTo>
                    <a:pt x="724" y="8"/>
                  </a:lnTo>
                  <a:lnTo>
                    <a:pt x="724" y="12"/>
                  </a:lnTo>
                  <a:lnTo>
                    <a:pt x="724" y="81"/>
                  </a:lnTo>
                  <a:lnTo>
                    <a:pt x="724" y="90"/>
                  </a:lnTo>
                  <a:lnTo>
                    <a:pt x="716" y="90"/>
                  </a:lnTo>
                  <a:lnTo>
                    <a:pt x="709" y="94"/>
                  </a:lnTo>
                  <a:lnTo>
                    <a:pt x="702" y="94"/>
                  </a:lnTo>
                  <a:lnTo>
                    <a:pt x="21" y="94"/>
                  </a:lnTo>
                  <a:lnTo>
                    <a:pt x="14" y="94"/>
                  </a:lnTo>
                  <a:lnTo>
                    <a:pt x="7" y="90"/>
                  </a:lnTo>
                  <a:lnTo>
                    <a:pt x="0" y="81"/>
                  </a:lnTo>
                  <a:lnTo>
                    <a:pt x="0" y="12"/>
                  </a:lnTo>
                  <a:lnTo>
                    <a:pt x="7" y="8"/>
                  </a:lnTo>
                  <a:lnTo>
                    <a:pt x="7" y="4"/>
                  </a:lnTo>
                  <a:lnTo>
                    <a:pt x="14" y="4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2755800" y="7802640"/>
              <a:ext cx="276480" cy="46440"/>
            </a:xfrm>
            <a:custGeom>
              <a:avLst/>
              <a:gdLst/>
              <a:ahLst/>
              <a:rect l="0" t="0" r="r" b="b"/>
              <a:pathLst>
                <a:path fill="none" w="768" h="129">
                  <a:moveTo>
                    <a:pt x="23" y="0"/>
                  </a:moveTo>
                  <a:lnTo>
                    <a:pt x="745" y="0"/>
                  </a:lnTo>
                  <a:lnTo>
                    <a:pt x="752" y="5"/>
                  </a:lnTo>
                  <a:lnTo>
                    <a:pt x="760" y="5"/>
                  </a:lnTo>
                  <a:lnTo>
                    <a:pt x="768" y="11"/>
                  </a:lnTo>
                  <a:lnTo>
                    <a:pt x="768" y="17"/>
                  </a:lnTo>
                  <a:lnTo>
                    <a:pt x="768" y="112"/>
                  </a:lnTo>
                  <a:lnTo>
                    <a:pt x="768" y="124"/>
                  </a:lnTo>
                  <a:lnTo>
                    <a:pt x="760" y="124"/>
                  </a:lnTo>
                  <a:lnTo>
                    <a:pt x="752" y="129"/>
                  </a:lnTo>
                  <a:lnTo>
                    <a:pt x="745" y="129"/>
                  </a:lnTo>
                  <a:lnTo>
                    <a:pt x="23" y="129"/>
                  </a:lnTo>
                  <a:lnTo>
                    <a:pt x="15" y="129"/>
                  </a:lnTo>
                  <a:lnTo>
                    <a:pt x="7" y="124"/>
                  </a:lnTo>
                  <a:lnTo>
                    <a:pt x="0" y="112"/>
                  </a:lnTo>
                  <a:lnTo>
                    <a:pt x="0" y="17"/>
                  </a:lnTo>
                  <a:lnTo>
                    <a:pt x="7" y="11"/>
                  </a:lnTo>
                  <a:lnTo>
                    <a:pt x="7" y="5"/>
                  </a:lnTo>
                  <a:lnTo>
                    <a:pt x="15" y="5"/>
                  </a:lnTo>
                  <a:lnTo>
                    <a:pt x="2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760840" y="7804080"/>
              <a:ext cx="248040" cy="30600"/>
            </a:xfrm>
            <a:custGeom>
              <a:avLst/>
              <a:gdLst/>
              <a:ahLst/>
              <a:rect l="0" t="0" r="r" b="b"/>
              <a:pathLst>
                <a:path w="689" h="85">
                  <a:moveTo>
                    <a:pt x="486" y="0"/>
                  </a:moveTo>
                  <a:lnTo>
                    <a:pt x="682" y="0"/>
                  </a:lnTo>
                  <a:lnTo>
                    <a:pt x="689" y="4"/>
                  </a:lnTo>
                  <a:lnTo>
                    <a:pt x="689" y="8"/>
                  </a:lnTo>
                  <a:lnTo>
                    <a:pt x="689" y="81"/>
                  </a:lnTo>
                  <a:lnTo>
                    <a:pt x="689" y="85"/>
                  </a:lnTo>
                  <a:lnTo>
                    <a:pt x="682" y="85"/>
                  </a:lnTo>
                  <a:lnTo>
                    <a:pt x="486" y="85"/>
                  </a:lnTo>
                  <a:lnTo>
                    <a:pt x="478" y="85"/>
                  </a:lnTo>
                  <a:lnTo>
                    <a:pt x="471" y="85"/>
                  </a:lnTo>
                  <a:lnTo>
                    <a:pt x="471" y="81"/>
                  </a:lnTo>
                  <a:lnTo>
                    <a:pt x="471" y="8"/>
                  </a:lnTo>
                  <a:lnTo>
                    <a:pt x="471" y="4"/>
                  </a:lnTo>
                  <a:lnTo>
                    <a:pt x="478" y="0"/>
                  </a:lnTo>
                  <a:lnTo>
                    <a:pt x="486" y="0"/>
                  </a:lnTo>
                  <a:lnTo>
                    <a:pt x="247" y="0"/>
                  </a:lnTo>
                  <a:lnTo>
                    <a:pt x="449" y="0"/>
                  </a:lnTo>
                  <a:lnTo>
                    <a:pt x="449" y="4"/>
                  </a:lnTo>
                  <a:lnTo>
                    <a:pt x="457" y="4"/>
                  </a:lnTo>
                  <a:lnTo>
                    <a:pt x="457" y="81"/>
                  </a:lnTo>
                  <a:lnTo>
                    <a:pt x="457" y="85"/>
                  </a:lnTo>
                  <a:lnTo>
                    <a:pt x="449" y="85"/>
                  </a:lnTo>
                  <a:lnTo>
                    <a:pt x="247" y="85"/>
                  </a:lnTo>
                  <a:lnTo>
                    <a:pt x="239" y="85"/>
                  </a:lnTo>
                  <a:lnTo>
                    <a:pt x="239" y="81"/>
                  </a:lnTo>
                  <a:lnTo>
                    <a:pt x="239" y="4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14" y="0"/>
                  </a:lnTo>
                  <a:lnTo>
                    <a:pt x="203" y="0"/>
                  </a:lnTo>
                  <a:lnTo>
                    <a:pt x="210" y="0"/>
                  </a:lnTo>
                  <a:lnTo>
                    <a:pt x="210" y="4"/>
                  </a:lnTo>
                  <a:lnTo>
                    <a:pt x="218" y="4"/>
                  </a:lnTo>
                  <a:lnTo>
                    <a:pt x="218" y="8"/>
                  </a:lnTo>
                  <a:lnTo>
                    <a:pt x="218" y="81"/>
                  </a:lnTo>
                  <a:lnTo>
                    <a:pt x="218" y="85"/>
                  </a:lnTo>
                  <a:lnTo>
                    <a:pt x="210" y="85"/>
                  </a:lnTo>
                  <a:lnTo>
                    <a:pt x="203" y="85"/>
                  </a:lnTo>
                  <a:lnTo>
                    <a:pt x="14" y="85"/>
                  </a:lnTo>
                  <a:lnTo>
                    <a:pt x="7" y="85"/>
                  </a:lnTo>
                  <a:lnTo>
                    <a:pt x="0" y="85"/>
                  </a:lnTo>
                  <a:lnTo>
                    <a:pt x="0" y="81"/>
                  </a:lnTo>
                  <a:lnTo>
                    <a:pt x="0" y="8"/>
                  </a:lnTo>
                  <a:lnTo>
                    <a:pt x="0" y="4"/>
                  </a:lnTo>
                  <a:lnTo>
                    <a:pt x="7" y="0"/>
                  </a:lnTo>
                  <a:lnTo>
                    <a:pt x="14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941560" y="7804080"/>
              <a:ext cx="84600" cy="43200"/>
            </a:xfrm>
            <a:custGeom>
              <a:avLst/>
              <a:gdLst/>
              <a:ahLst/>
              <a:rect l="0" t="0" r="r" b="b"/>
              <a:pathLst>
                <a:path fill="none" w="235" h="120">
                  <a:moveTo>
                    <a:pt x="15" y="0"/>
                  </a:moveTo>
                  <a:lnTo>
                    <a:pt x="227" y="0"/>
                  </a:lnTo>
                  <a:lnTo>
                    <a:pt x="235" y="5"/>
                  </a:lnTo>
                  <a:lnTo>
                    <a:pt x="235" y="11"/>
                  </a:lnTo>
                  <a:lnTo>
                    <a:pt x="235" y="114"/>
                  </a:lnTo>
                  <a:lnTo>
                    <a:pt x="235" y="120"/>
                  </a:lnTo>
                  <a:lnTo>
                    <a:pt x="227" y="120"/>
                  </a:lnTo>
                  <a:lnTo>
                    <a:pt x="15" y="120"/>
                  </a:lnTo>
                  <a:lnTo>
                    <a:pt x="7" y="120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854440" y="7804080"/>
              <a:ext cx="82800" cy="43200"/>
            </a:xfrm>
            <a:custGeom>
              <a:avLst/>
              <a:gdLst/>
              <a:ahLst/>
              <a:rect l="0" t="0" r="r" b="b"/>
              <a:pathLst>
                <a:path fill="none" w="230" h="120">
                  <a:moveTo>
                    <a:pt x="7" y="0"/>
                  </a:moveTo>
                  <a:lnTo>
                    <a:pt x="222" y="0"/>
                  </a:lnTo>
                  <a:lnTo>
                    <a:pt x="222" y="5"/>
                  </a:lnTo>
                  <a:lnTo>
                    <a:pt x="230" y="5"/>
                  </a:lnTo>
                  <a:lnTo>
                    <a:pt x="230" y="114"/>
                  </a:lnTo>
                  <a:lnTo>
                    <a:pt x="230" y="120"/>
                  </a:lnTo>
                  <a:lnTo>
                    <a:pt x="222" y="120"/>
                  </a:lnTo>
                  <a:lnTo>
                    <a:pt x="7" y="120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5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760840" y="7804080"/>
              <a:ext cx="84600" cy="43200"/>
            </a:xfrm>
            <a:custGeom>
              <a:avLst/>
              <a:gdLst/>
              <a:ahLst/>
              <a:rect l="0" t="0" r="r" b="b"/>
              <a:pathLst>
                <a:path fill="none" w="235" h="120">
                  <a:moveTo>
                    <a:pt x="15" y="0"/>
                  </a:moveTo>
                  <a:lnTo>
                    <a:pt x="220" y="0"/>
                  </a:lnTo>
                  <a:lnTo>
                    <a:pt x="227" y="0"/>
                  </a:lnTo>
                  <a:lnTo>
                    <a:pt x="227" y="5"/>
                  </a:lnTo>
                  <a:lnTo>
                    <a:pt x="235" y="5"/>
                  </a:lnTo>
                  <a:lnTo>
                    <a:pt x="235" y="11"/>
                  </a:lnTo>
                  <a:lnTo>
                    <a:pt x="235" y="114"/>
                  </a:lnTo>
                  <a:lnTo>
                    <a:pt x="235" y="120"/>
                  </a:lnTo>
                  <a:lnTo>
                    <a:pt x="227" y="120"/>
                  </a:lnTo>
                  <a:lnTo>
                    <a:pt x="220" y="120"/>
                  </a:lnTo>
                  <a:lnTo>
                    <a:pt x="15" y="120"/>
                  </a:lnTo>
                  <a:lnTo>
                    <a:pt x="7" y="120"/>
                  </a:lnTo>
                  <a:lnTo>
                    <a:pt x="0" y="120"/>
                  </a:lnTo>
                  <a:lnTo>
                    <a:pt x="0" y="114"/>
                  </a:lnTo>
                  <a:lnTo>
                    <a:pt x="0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770200" y="7802640"/>
              <a:ext cx="186120" cy="9720"/>
            </a:xfrm>
            <a:custGeom>
              <a:avLst/>
              <a:gdLst/>
              <a:ahLst/>
              <a:rect l="0" t="0" r="r" b="b"/>
              <a:pathLst>
                <a:path w="517" h="27">
                  <a:moveTo>
                    <a:pt x="461" y="27"/>
                  </a:moveTo>
                  <a:lnTo>
                    <a:pt x="517" y="27"/>
                  </a:lnTo>
                  <a:lnTo>
                    <a:pt x="517" y="0"/>
                  </a:lnTo>
                  <a:lnTo>
                    <a:pt x="461" y="0"/>
                  </a:lnTo>
                  <a:lnTo>
                    <a:pt x="461" y="27"/>
                  </a:lnTo>
                  <a:lnTo>
                    <a:pt x="234" y="27"/>
                  </a:lnTo>
                  <a:lnTo>
                    <a:pt x="290" y="27"/>
                  </a:lnTo>
                  <a:lnTo>
                    <a:pt x="290" y="0"/>
                  </a:lnTo>
                  <a:lnTo>
                    <a:pt x="234" y="0"/>
                  </a:lnTo>
                  <a:lnTo>
                    <a:pt x="234" y="27"/>
                  </a:lnTo>
                  <a:lnTo>
                    <a:pt x="0" y="27"/>
                  </a:lnTo>
                  <a:lnTo>
                    <a:pt x="56" y="27"/>
                  </a:lnTo>
                  <a:lnTo>
                    <a:pt x="56" y="0"/>
                  </a:lnTo>
                  <a:lnTo>
                    <a:pt x="0" y="0"/>
                  </a:lnTo>
                  <a:lnTo>
                    <a:pt x="0" y="27"/>
                  </a:lnTo>
                  <a:lnTo>
                    <a:pt x="461" y="27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txBody>
            <a:bodyPr lIns="90000" rIns="90000" tIns="-35280" bIns="-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951280" y="781200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0560" y="7812000"/>
              <a:ext cx="24120" cy="3600"/>
            </a:xfrm>
            <a:custGeom>
              <a:avLst/>
              <a:gdLst/>
              <a:ahLst/>
              <a:rect l="0" t="0" r="r" b="b"/>
              <a:pathLst>
                <a:path fill="none" w="67" h="10">
                  <a:moveTo>
                    <a:pt x="0" y="0"/>
                  </a:moveTo>
                  <a:lnTo>
                    <a:pt x="67" y="0"/>
                  </a:lnTo>
                  <a:lnTo>
                    <a:pt x="67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770200" y="7812000"/>
              <a:ext cx="20880" cy="3600"/>
            </a:xfrm>
            <a:custGeom>
              <a:avLst/>
              <a:gdLst/>
              <a:ahLst/>
              <a:rect l="0" t="0" r="r" b="b"/>
              <a:pathLst>
                <a:path fill="none" w="58" h="10">
                  <a:moveTo>
                    <a:pt x="0" y="0"/>
                  </a:moveTo>
                  <a:lnTo>
                    <a:pt x="58" y="0"/>
                  </a:lnTo>
                  <a:lnTo>
                    <a:pt x="58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47520" bIns="-47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459080" y="7802640"/>
              <a:ext cx="1567080" cy="162360"/>
            </a:xfrm>
            <a:custGeom>
              <a:avLst/>
              <a:gdLst/>
              <a:ahLst/>
              <a:rect l="0" t="0" r="r" b="b"/>
              <a:pathLst>
                <a:path w="4353" h="451">
                  <a:moveTo>
                    <a:pt x="3614" y="168"/>
                  </a:moveTo>
                  <a:lnTo>
                    <a:pt x="3621" y="152"/>
                  </a:lnTo>
                  <a:lnTo>
                    <a:pt x="3621" y="147"/>
                  </a:lnTo>
                  <a:lnTo>
                    <a:pt x="3629" y="147"/>
                  </a:lnTo>
                  <a:lnTo>
                    <a:pt x="3636" y="147"/>
                  </a:lnTo>
                  <a:lnTo>
                    <a:pt x="3659" y="147"/>
                  </a:lnTo>
                  <a:lnTo>
                    <a:pt x="3690" y="147"/>
                  </a:lnTo>
                  <a:lnTo>
                    <a:pt x="3713" y="147"/>
                  </a:lnTo>
                  <a:lnTo>
                    <a:pt x="3735" y="147"/>
                  </a:lnTo>
                  <a:lnTo>
                    <a:pt x="3743" y="147"/>
                  </a:lnTo>
                  <a:lnTo>
                    <a:pt x="3743" y="152"/>
                  </a:lnTo>
                  <a:lnTo>
                    <a:pt x="3758" y="168"/>
                  </a:lnTo>
                  <a:lnTo>
                    <a:pt x="3796" y="168"/>
                  </a:lnTo>
                  <a:lnTo>
                    <a:pt x="3804" y="152"/>
                  </a:lnTo>
                  <a:lnTo>
                    <a:pt x="3804" y="147"/>
                  </a:lnTo>
                  <a:lnTo>
                    <a:pt x="3812" y="147"/>
                  </a:lnTo>
                  <a:lnTo>
                    <a:pt x="3819" y="147"/>
                  </a:lnTo>
                  <a:lnTo>
                    <a:pt x="3842" y="147"/>
                  </a:lnTo>
                  <a:lnTo>
                    <a:pt x="3873" y="147"/>
                  </a:lnTo>
                  <a:lnTo>
                    <a:pt x="3896" y="147"/>
                  </a:lnTo>
                  <a:lnTo>
                    <a:pt x="3926" y="147"/>
                  </a:lnTo>
                  <a:lnTo>
                    <a:pt x="3934" y="147"/>
                  </a:lnTo>
                  <a:lnTo>
                    <a:pt x="3934" y="152"/>
                  </a:lnTo>
                  <a:lnTo>
                    <a:pt x="3949" y="168"/>
                  </a:lnTo>
                  <a:lnTo>
                    <a:pt x="3987" y="168"/>
                  </a:lnTo>
                  <a:lnTo>
                    <a:pt x="3995" y="152"/>
                  </a:lnTo>
                  <a:lnTo>
                    <a:pt x="3995" y="147"/>
                  </a:lnTo>
                  <a:lnTo>
                    <a:pt x="4002" y="147"/>
                  </a:lnTo>
                  <a:lnTo>
                    <a:pt x="4010" y="147"/>
                  </a:lnTo>
                  <a:lnTo>
                    <a:pt x="4033" y="147"/>
                  </a:lnTo>
                  <a:lnTo>
                    <a:pt x="4056" y="147"/>
                  </a:lnTo>
                  <a:lnTo>
                    <a:pt x="4086" y="147"/>
                  </a:lnTo>
                  <a:lnTo>
                    <a:pt x="4109" y="147"/>
                  </a:lnTo>
                  <a:lnTo>
                    <a:pt x="4117" y="147"/>
                  </a:lnTo>
                  <a:lnTo>
                    <a:pt x="4124" y="147"/>
                  </a:lnTo>
                  <a:lnTo>
                    <a:pt x="4124" y="152"/>
                  </a:lnTo>
                  <a:lnTo>
                    <a:pt x="4132" y="168"/>
                  </a:lnTo>
                  <a:lnTo>
                    <a:pt x="4170" y="168"/>
                  </a:lnTo>
                  <a:lnTo>
                    <a:pt x="4185" y="152"/>
                  </a:lnTo>
                  <a:lnTo>
                    <a:pt x="4185" y="147"/>
                  </a:lnTo>
                  <a:lnTo>
                    <a:pt x="4193" y="147"/>
                  </a:lnTo>
                  <a:lnTo>
                    <a:pt x="4223" y="147"/>
                  </a:lnTo>
                  <a:lnTo>
                    <a:pt x="4246" y="147"/>
                  </a:lnTo>
                  <a:lnTo>
                    <a:pt x="4269" y="147"/>
                  </a:lnTo>
                  <a:lnTo>
                    <a:pt x="4300" y="147"/>
                  </a:lnTo>
                  <a:lnTo>
                    <a:pt x="4307" y="147"/>
                  </a:lnTo>
                  <a:lnTo>
                    <a:pt x="4315" y="152"/>
                  </a:lnTo>
                  <a:lnTo>
                    <a:pt x="4322" y="168"/>
                  </a:lnTo>
                  <a:lnTo>
                    <a:pt x="4338" y="168"/>
                  </a:lnTo>
                  <a:lnTo>
                    <a:pt x="4345" y="174"/>
                  </a:lnTo>
                  <a:lnTo>
                    <a:pt x="4353" y="179"/>
                  </a:lnTo>
                  <a:lnTo>
                    <a:pt x="4353" y="185"/>
                  </a:lnTo>
                  <a:lnTo>
                    <a:pt x="4353" y="435"/>
                  </a:lnTo>
                  <a:lnTo>
                    <a:pt x="4353" y="446"/>
                  </a:lnTo>
                  <a:lnTo>
                    <a:pt x="4345" y="446"/>
                  </a:lnTo>
                  <a:lnTo>
                    <a:pt x="4338" y="451"/>
                  </a:lnTo>
                  <a:lnTo>
                    <a:pt x="4330" y="451"/>
                  </a:lnTo>
                  <a:lnTo>
                    <a:pt x="3614" y="451"/>
                  </a:lnTo>
                  <a:lnTo>
                    <a:pt x="3598" y="451"/>
                  </a:lnTo>
                  <a:lnTo>
                    <a:pt x="3591" y="446"/>
                  </a:lnTo>
                  <a:lnTo>
                    <a:pt x="3583" y="446"/>
                  </a:lnTo>
                  <a:lnTo>
                    <a:pt x="3583" y="435"/>
                  </a:lnTo>
                  <a:lnTo>
                    <a:pt x="3583" y="185"/>
                  </a:lnTo>
                  <a:lnTo>
                    <a:pt x="3583" y="179"/>
                  </a:lnTo>
                  <a:lnTo>
                    <a:pt x="3591" y="174"/>
                  </a:lnTo>
                  <a:lnTo>
                    <a:pt x="3598" y="168"/>
                  </a:lnTo>
                  <a:lnTo>
                    <a:pt x="3614" y="168"/>
                  </a:lnTo>
                  <a:lnTo>
                    <a:pt x="2905" y="375"/>
                  </a:lnTo>
                  <a:lnTo>
                    <a:pt x="2905" y="370"/>
                  </a:lnTo>
                  <a:lnTo>
                    <a:pt x="2912" y="370"/>
                  </a:lnTo>
                  <a:lnTo>
                    <a:pt x="2912" y="365"/>
                  </a:lnTo>
                  <a:lnTo>
                    <a:pt x="2928" y="365"/>
                  </a:lnTo>
                  <a:lnTo>
                    <a:pt x="2935" y="365"/>
                  </a:lnTo>
                  <a:lnTo>
                    <a:pt x="2950" y="354"/>
                  </a:lnTo>
                  <a:lnTo>
                    <a:pt x="2950" y="348"/>
                  </a:lnTo>
                  <a:lnTo>
                    <a:pt x="2958" y="348"/>
                  </a:lnTo>
                  <a:lnTo>
                    <a:pt x="2981" y="348"/>
                  </a:lnTo>
                  <a:lnTo>
                    <a:pt x="3011" y="348"/>
                  </a:lnTo>
                  <a:lnTo>
                    <a:pt x="3034" y="348"/>
                  </a:lnTo>
                  <a:lnTo>
                    <a:pt x="3065" y="348"/>
                  </a:lnTo>
                  <a:lnTo>
                    <a:pt x="3072" y="348"/>
                  </a:lnTo>
                  <a:lnTo>
                    <a:pt x="3072" y="354"/>
                  </a:lnTo>
                  <a:lnTo>
                    <a:pt x="3080" y="365"/>
                  </a:lnTo>
                  <a:lnTo>
                    <a:pt x="3095" y="365"/>
                  </a:lnTo>
                  <a:lnTo>
                    <a:pt x="3095" y="331"/>
                  </a:lnTo>
                  <a:lnTo>
                    <a:pt x="3103" y="326"/>
                  </a:lnTo>
                  <a:lnTo>
                    <a:pt x="3110" y="326"/>
                  </a:lnTo>
                  <a:lnTo>
                    <a:pt x="3118" y="326"/>
                  </a:lnTo>
                  <a:lnTo>
                    <a:pt x="3133" y="304"/>
                  </a:lnTo>
                  <a:lnTo>
                    <a:pt x="3133" y="299"/>
                  </a:lnTo>
                  <a:lnTo>
                    <a:pt x="3141" y="299"/>
                  </a:lnTo>
                  <a:lnTo>
                    <a:pt x="3149" y="299"/>
                  </a:lnTo>
                  <a:lnTo>
                    <a:pt x="3171" y="299"/>
                  </a:lnTo>
                  <a:lnTo>
                    <a:pt x="3194" y="299"/>
                  </a:lnTo>
                  <a:lnTo>
                    <a:pt x="3225" y="299"/>
                  </a:lnTo>
                  <a:lnTo>
                    <a:pt x="3248" y="299"/>
                  </a:lnTo>
                  <a:lnTo>
                    <a:pt x="3255" y="299"/>
                  </a:lnTo>
                  <a:lnTo>
                    <a:pt x="3255" y="304"/>
                  </a:lnTo>
                  <a:lnTo>
                    <a:pt x="3278" y="326"/>
                  </a:lnTo>
                  <a:lnTo>
                    <a:pt x="3286" y="326"/>
                  </a:lnTo>
                  <a:lnTo>
                    <a:pt x="3293" y="326"/>
                  </a:lnTo>
                  <a:lnTo>
                    <a:pt x="3301" y="331"/>
                  </a:lnTo>
                  <a:lnTo>
                    <a:pt x="3301" y="365"/>
                  </a:lnTo>
                  <a:lnTo>
                    <a:pt x="3316" y="365"/>
                  </a:lnTo>
                  <a:lnTo>
                    <a:pt x="3324" y="354"/>
                  </a:lnTo>
                  <a:lnTo>
                    <a:pt x="3324" y="348"/>
                  </a:lnTo>
                  <a:lnTo>
                    <a:pt x="3331" y="348"/>
                  </a:lnTo>
                  <a:lnTo>
                    <a:pt x="3362" y="348"/>
                  </a:lnTo>
                  <a:lnTo>
                    <a:pt x="3385" y="348"/>
                  </a:lnTo>
                  <a:lnTo>
                    <a:pt x="3415" y="348"/>
                  </a:lnTo>
                  <a:lnTo>
                    <a:pt x="3438" y="348"/>
                  </a:lnTo>
                  <a:lnTo>
                    <a:pt x="3446" y="348"/>
                  </a:lnTo>
                  <a:lnTo>
                    <a:pt x="3446" y="354"/>
                  </a:lnTo>
                  <a:lnTo>
                    <a:pt x="3461" y="365"/>
                  </a:lnTo>
                  <a:lnTo>
                    <a:pt x="3476" y="365"/>
                  </a:lnTo>
                  <a:lnTo>
                    <a:pt x="3484" y="365"/>
                  </a:lnTo>
                  <a:lnTo>
                    <a:pt x="3492" y="370"/>
                  </a:lnTo>
                  <a:lnTo>
                    <a:pt x="3492" y="375"/>
                  </a:lnTo>
                  <a:lnTo>
                    <a:pt x="3492" y="440"/>
                  </a:lnTo>
                  <a:lnTo>
                    <a:pt x="3492" y="446"/>
                  </a:lnTo>
                  <a:lnTo>
                    <a:pt x="3484" y="451"/>
                  </a:lnTo>
                  <a:lnTo>
                    <a:pt x="3476" y="451"/>
                  </a:lnTo>
                  <a:lnTo>
                    <a:pt x="2928" y="451"/>
                  </a:lnTo>
                  <a:lnTo>
                    <a:pt x="2920" y="451"/>
                  </a:lnTo>
                  <a:lnTo>
                    <a:pt x="2912" y="446"/>
                  </a:lnTo>
                  <a:lnTo>
                    <a:pt x="2905" y="446"/>
                  </a:lnTo>
                  <a:lnTo>
                    <a:pt x="2905" y="375"/>
                  </a:lnTo>
                  <a:lnTo>
                    <a:pt x="2905" y="174"/>
                  </a:lnTo>
                  <a:lnTo>
                    <a:pt x="2912" y="168"/>
                  </a:lnTo>
                  <a:lnTo>
                    <a:pt x="2920" y="168"/>
                  </a:lnTo>
                  <a:lnTo>
                    <a:pt x="2928" y="163"/>
                  </a:lnTo>
                  <a:lnTo>
                    <a:pt x="2935" y="163"/>
                  </a:lnTo>
                  <a:lnTo>
                    <a:pt x="2943" y="141"/>
                  </a:lnTo>
                  <a:lnTo>
                    <a:pt x="2950" y="141"/>
                  </a:lnTo>
                  <a:lnTo>
                    <a:pt x="2958" y="141"/>
                  </a:lnTo>
                  <a:lnTo>
                    <a:pt x="2981" y="141"/>
                  </a:lnTo>
                  <a:lnTo>
                    <a:pt x="3011" y="141"/>
                  </a:lnTo>
                  <a:lnTo>
                    <a:pt x="3034" y="141"/>
                  </a:lnTo>
                  <a:lnTo>
                    <a:pt x="3057" y="141"/>
                  </a:lnTo>
                  <a:lnTo>
                    <a:pt x="3065" y="141"/>
                  </a:lnTo>
                  <a:lnTo>
                    <a:pt x="3072" y="141"/>
                  </a:lnTo>
                  <a:lnTo>
                    <a:pt x="3080" y="163"/>
                  </a:lnTo>
                  <a:lnTo>
                    <a:pt x="3126" y="163"/>
                  </a:lnTo>
                  <a:lnTo>
                    <a:pt x="3133" y="141"/>
                  </a:lnTo>
                  <a:lnTo>
                    <a:pt x="3141" y="141"/>
                  </a:lnTo>
                  <a:lnTo>
                    <a:pt x="3171" y="141"/>
                  </a:lnTo>
                  <a:lnTo>
                    <a:pt x="3194" y="141"/>
                  </a:lnTo>
                  <a:lnTo>
                    <a:pt x="3225" y="141"/>
                  </a:lnTo>
                  <a:lnTo>
                    <a:pt x="3248" y="141"/>
                  </a:lnTo>
                  <a:lnTo>
                    <a:pt x="3255" y="141"/>
                  </a:lnTo>
                  <a:lnTo>
                    <a:pt x="3263" y="141"/>
                  </a:lnTo>
                  <a:lnTo>
                    <a:pt x="3271" y="163"/>
                  </a:lnTo>
                  <a:lnTo>
                    <a:pt x="3309" y="163"/>
                  </a:lnTo>
                  <a:lnTo>
                    <a:pt x="3324" y="141"/>
                  </a:lnTo>
                  <a:lnTo>
                    <a:pt x="3331" y="141"/>
                  </a:lnTo>
                  <a:lnTo>
                    <a:pt x="3362" y="141"/>
                  </a:lnTo>
                  <a:lnTo>
                    <a:pt x="3385" y="141"/>
                  </a:lnTo>
                  <a:lnTo>
                    <a:pt x="3408" y="141"/>
                  </a:lnTo>
                  <a:lnTo>
                    <a:pt x="3438" y="141"/>
                  </a:lnTo>
                  <a:lnTo>
                    <a:pt x="3446" y="141"/>
                  </a:lnTo>
                  <a:lnTo>
                    <a:pt x="3461" y="163"/>
                  </a:lnTo>
                  <a:lnTo>
                    <a:pt x="3476" y="163"/>
                  </a:lnTo>
                  <a:lnTo>
                    <a:pt x="3484" y="168"/>
                  </a:lnTo>
                  <a:lnTo>
                    <a:pt x="3492" y="168"/>
                  </a:lnTo>
                  <a:lnTo>
                    <a:pt x="3492" y="174"/>
                  </a:lnTo>
                  <a:lnTo>
                    <a:pt x="3492" y="277"/>
                  </a:lnTo>
                  <a:lnTo>
                    <a:pt x="3492" y="282"/>
                  </a:lnTo>
                  <a:lnTo>
                    <a:pt x="3484" y="288"/>
                  </a:lnTo>
                  <a:lnTo>
                    <a:pt x="3476" y="288"/>
                  </a:lnTo>
                  <a:lnTo>
                    <a:pt x="3469" y="288"/>
                  </a:lnTo>
                  <a:lnTo>
                    <a:pt x="2935" y="288"/>
                  </a:lnTo>
                  <a:lnTo>
                    <a:pt x="2920" y="288"/>
                  </a:lnTo>
                  <a:lnTo>
                    <a:pt x="2912" y="288"/>
                  </a:lnTo>
                  <a:lnTo>
                    <a:pt x="2905" y="282"/>
                  </a:lnTo>
                  <a:lnTo>
                    <a:pt x="2905" y="277"/>
                  </a:lnTo>
                  <a:lnTo>
                    <a:pt x="2905" y="174"/>
                  </a:lnTo>
                  <a:lnTo>
                    <a:pt x="2905" y="21"/>
                  </a:lnTo>
                  <a:lnTo>
                    <a:pt x="2905" y="16"/>
                  </a:lnTo>
                  <a:lnTo>
                    <a:pt x="2912" y="10"/>
                  </a:lnTo>
                  <a:lnTo>
                    <a:pt x="2920" y="10"/>
                  </a:lnTo>
                  <a:lnTo>
                    <a:pt x="2935" y="10"/>
                  </a:lnTo>
                  <a:lnTo>
                    <a:pt x="2935" y="5"/>
                  </a:lnTo>
                  <a:lnTo>
                    <a:pt x="2943" y="0"/>
                  </a:lnTo>
                  <a:lnTo>
                    <a:pt x="2950" y="0"/>
                  </a:lnTo>
                  <a:lnTo>
                    <a:pt x="2973" y="0"/>
                  </a:lnTo>
                  <a:lnTo>
                    <a:pt x="3004" y="0"/>
                  </a:lnTo>
                  <a:lnTo>
                    <a:pt x="3027" y="0"/>
                  </a:lnTo>
                  <a:lnTo>
                    <a:pt x="3057" y="0"/>
                  </a:lnTo>
                  <a:lnTo>
                    <a:pt x="3065" y="0"/>
                  </a:lnTo>
                  <a:lnTo>
                    <a:pt x="3072" y="10"/>
                  </a:lnTo>
                  <a:lnTo>
                    <a:pt x="3126" y="10"/>
                  </a:lnTo>
                  <a:lnTo>
                    <a:pt x="3126" y="0"/>
                  </a:lnTo>
                  <a:lnTo>
                    <a:pt x="3133" y="0"/>
                  </a:lnTo>
                  <a:lnTo>
                    <a:pt x="3141" y="0"/>
                  </a:lnTo>
                  <a:lnTo>
                    <a:pt x="3164" y="0"/>
                  </a:lnTo>
                  <a:lnTo>
                    <a:pt x="3194" y="0"/>
                  </a:lnTo>
                  <a:lnTo>
                    <a:pt x="3217" y="0"/>
                  </a:lnTo>
                  <a:lnTo>
                    <a:pt x="3240" y="0"/>
                  </a:lnTo>
                  <a:lnTo>
                    <a:pt x="3248" y="0"/>
                  </a:lnTo>
                  <a:lnTo>
                    <a:pt x="3255" y="0"/>
                  </a:lnTo>
                  <a:lnTo>
                    <a:pt x="3263" y="10"/>
                  </a:lnTo>
                  <a:lnTo>
                    <a:pt x="3309" y="10"/>
                  </a:lnTo>
                  <a:lnTo>
                    <a:pt x="3316" y="5"/>
                  </a:lnTo>
                  <a:lnTo>
                    <a:pt x="3316" y="0"/>
                  </a:lnTo>
                  <a:lnTo>
                    <a:pt x="3324" y="0"/>
                  </a:lnTo>
                  <a:lnTo>
                    <a:pt x="3354" y="0"/>
                  </a:lnTo>
                  <a:lnTo>
                    <a:pt x="3377" y="0"/>
                  </a:lnTo>
                  <a:lnTo>
                    <a:pt x="3408" y="0"/>
                  </a:lnTo>
                  <a:lnTo>
                    <a:pt x="3431" y="0"/>
                  </a:lnTo>
                  <a:lnTo>
                    <a:pt x="3438" y="0"/>
                  </a:lnTo>
                  <a:lnTo>
                    <a:pt x="3446" y="0"/>
                  </a:lnTo>
                  <a:lnTo>
                    <a:pt x="3453" y="10"/>
                  </a:lnTo>
                  <a:lnTo>
                    <a:pt x="3469" y="10"/>
                  </a:lnTo>
                  <a:lnTo>
                    <a:pt x="3476" y="10"/>
                  </a:lnTo>
                  <a:lnTo>
                    <a:pt x="3484" y="16"/>
                  </a:lnTo>
                  <a:lnTo>
                    <a:pt x="3484" y="21"/>
                  </a:lnTo>
                  <a:lnTo>
                    <a:pt x="3484" y="92"/>
                  </a:lnTo>
                  <a:lnTo>
                    <a:pt x="3484" y="97"/>
                  </a:lnTo>
                  <a:lnTo>
                    <a:pt x="3476" y="97"/>
                  </a:lnTo>
                  <a:lnTo>
                    <a:pt x="3469" y="102"/>
                  </a:lnTo>
                  <a:lnTo>
                    <a:pt x="2920" y="102"/>
                  </a:lnTo>
                  <a:lnTo>
                    <a:pt x="2912" y="102"/>
                  </a:lnTo>
                  <a:lnTo>
                    <a:pt x="2905" y="97"/>
                  </a:lnTo>
                  <a:lnTo>
                    <a:pt x="2905" y="92"/>
                  </a:lnTo>
                  <a:lnTo>
                    <a:pt x="2905" y="86"/>
                  </a:lnTo>
                  <a:lnTo>
                    <a:pt x="2905" y="21"/>
                  </a:lnTo>
                  <a:lnTo>
                    <a:pt x="2088" y="21"/>
                  </a:lnTo>
                  <a:lnTo>
                    <a:pt x="2088" y="86"/>
                  </a:lnTo>
                  <a:lnTo>
                    <a:pt x="2088" y="92"/>
                  </a:lnTo>
                  <a:lnTo>
                    <a:pt x="2096" y="97"/>
                  </a:lnTo>
                  <a:lnTo>
                    <a:pt x="2103" y="97"/>
                  </a:lnTo>
                  <a:lnTo>
                    <a:pt x="2111" y="97"/>
                  </a:lnTo>
                  <a:lnTo>
                    <a:pt x="2828" y="97"/>
                  </a:lnTo>
                  <a:lnTo>
                    <a:pt x="2836" y="97"/>
                  </a:lnTo>
                  <a:lnTo>
                    <a:pt x="2844" y="97"/>
                  </a:lnTo>
                  <a:lnTo>
                    <a:pt x="2851" y="92"/>
                  </a:lnTo>
                  <a:lnTo>
                    <a:pt x="2851" y="86"/>
                  </a:lnTo>
                  <a:lnTo>
                    <a:pt x="2851" y="21"/>
                  </a:lnTo>
                  <a:lnTo>
                    <a:pt x="2851" y="16"/>
                  </a:lnTo>
                  <a:lnTo>
                    <a:pt x="2844" y="10"/>
                  </a:lnTo>
                  <a:lnTo>
                    <a:pt x="2836" y="10"/>
                  </a:lnTo>
                  <a:lnTo>
                    <a:pt x="2828" y="10"/>
                  </a:lnTo>
                  <a:lnTo>
                    <a:pt x="2813" y="10"/>
                  </a:lnTo>
                  <a:lnTo>
                    <a:pt x="2806" y="0"/>
                  </a:lnTo>
                  <a:lnTo>
                    <a:pt x="2798" y="0"/>
                  </a:lnTo>
                  <a:lnTo>
                    <a:pt x="2767" y="0"/>
                  </a:lnTo>
                  <a:lnTo>
                    <a:pt x="2745" y="0"/>
                  </a:lnTo>
                  <a:lnTo>
                    <a:pt x="2722" y="0"/>
                  </a:lnTo>
                  <a:lnTo>
                    <a:pt x="2699" y="0"/>
                  </a:lnTo>
                  <a:lnTo>
                    <a:pt x="2691" y="0"/>
                  </a:lnTo>
                  <a:lnTo>
                    <a:pt x="2684" y="0"/>
                  </a:lnTo>
                  <a:lnTo>
                    <a:pt x="2676" y="10"/>
                  </a:lnTo>
                  <a:lnTo>
                    <a:pt x="2630" y="10"/>
                  </a:lnTo>
                  <a:lnTo>
                    <a:pt x="2623" y="0"/>
                  </a:lnTo>
                  <a:lnTo>
                    <a:pt x="2615" y="0"/>
                  </a:lnTo>
                  <a:lnTo>
                    <a:pt x="2607" y="0"/>
                  </a:lnTo>
                  <a:lnTo>
                    <a:pt x="2577" y="0"/>
                  </a:lnTo>
                  <a:lnTo>
                    <a:pt x="2554" y="0"/>
                  </a:lnTo>
                  <a:lnTo>
                    <a:pt x="2531" y="0"/>
                  </a:lnTo>
                  <a:lnTo>
                    <a:pt x="2508" y="0"/>
                  </a:lnTo>
                  <a:lnTo>
                    <a:pt x="2501" y="0"/>
                  </a:lnTo>
                  <a:lnTo>
                    <a:pt x="2493" y="5"/>
                  </a:lnTo>
                  <a:lnTo>
                    <a:pt x="2493" y="10"/>
                  </a:lnTo>
                  <a:lnTo>
                    <a:pt x="2440" y="10"/>
                  </a:lnTo>
                  <a:lnTo>
                    <a:pt x="2432" y="5"/>
                  </a:lnTo>
                  <a:lnTo>
                    <a:pt x="2432" y="0"/>
                  </a:lnTo>
                  <a:lnTo>
                    <a:pt x="2424" y="0"/>
                  </a:lnTo>
                  <a:lnTo>
                    <a:pt x="2417" y="0"/>
                  </a:lnTo>
                  <a:lnTo>
                    <a:pt x="2394" y="0"/>
                  </a:lnTo>
                  <a:lnTo>
                    <a:pt x="2371" y="0"/>
                  </a:lnTo>
                  <a:lnTo>
                    <a:pt x="2348" y="0"/>
                  </a:lnTo>
                  <a:lnTo>
                    <a:pt x="2325" y="0"/>
                  </a:lnTo>
                  <a:lnTo>
                    <a:pt x="2318" y="0"/>
                  </a:lnTo>
                  <a:lnTo>
                    <a:pt x="2310" y="0"/>
                  </a:lnTo>
                  <a:lnTo>
                    <a:pt x="2302" y="10"/>
                  </a:lnTo>
                  <a:lnTo>
                    <a:pt x="2249" y="10"/>
                  </a:lnTo>
                  <a:lnTo>
                    <a:pt x="2249" y="0"/>
                  </a:lnTo>
                  <a:lnTo>
                    <a:pt x="2241" y="0"/>
                  </a:lnTo>
                  <a:lnTo>
                    <a:pt x="2234" y="0"/>
                  </a:lnTo>
                  <a:lnTo>
                    <a:pt x="2226" y="0"/>
                  </a:lnTo>
                  <a:lnTo>
                    <a:pt x="2203" y="0"/>
                  </a:lnTo>
                  <a:lnTo>
                    <a:pt x="2181" y="0"/>
                  </a:lnTo>
                  <a:lnTo>
                    <a:pt x="2157" y="0"/>
                  </a:lnTo>
                  <a:lnTo>
                    <a:pt x="2134" y="0"/>
                  </a:lnTo>
                  <a:lnTo>
                    <a:pt x="2126" y="0"/>
                  </a:lnTo>
                  <a:lnTo>
                    <a:pt x="2119" y="10"/>
                  </a:lnTo>
                  <a:lnTo>
                    <a:pt x="2103" y="10"/>
                  </a:lnTo>
                  <a:lnTo>
                    <a:pt x="2096" y="10"/>
                  </a:lnTo>
                  <a:lnTo>
                    <a:pt x="2088" y="10"/>
                  </a:lnTo>
                  <a:lnTo>
                    <a:pt x="2088" y="16"/>
                  </a:lnTo>
                  <a:lnTo>
                    <a:pt x="2088" y="21"/>
                  </a:lnTo>
                  <a:lnTo>
                    <a:pt x="1242" y="21"/>
                  </a:lnTo>
                  <a:lnTo>
                    <a:pt x="1242" y="86"/>
                  </a:lnTo>
                  <a:lnTo>
                    <a:pt x="1250" y="92"/>
                  </a:lnTo>
                  <a:lnTo>
                    <a:pt x="1250" y="97"/>
                  </a:lnTo>
                  <a:lnTo>
                    <a:pt x="1257" y="97"/>
                  </a:lnTo>
                  <a:lnTo>
                    <a:pt x="1272" y="97"/>
                  </a:lnTo>
                  <a:lnTo>
                    <a:pt x="1997" y="97"/>
                  </a:lnTo>
                  <a:lnTo>
                    <a:pt x="2004" y="97"/>
                  </a:lnTo>
                  <a:lnTo>
                    <a:pt x="2012" y="97"/>
                  </a:lnTo>
                  <a:lnTo>
                    <a:pt x="2019" y="92"/>
                  </a:lnTo>
                  <a:lnTo>
                    <a:pt x="2019" y="86"/>
                  </a:lnTo>
                  <a:lnTo>
                    <a:pt x="2019" y="21"/>
                  </a:lnTo>
                  <a:lnTo>
                    <a:pt x="2019" y="16"/>
                  </a:lnTo>
                  <a:lnTo>
                    <a:pt x="2012" y="10"/>
                  </a:lnTo>
                  <a:lnTo>
                    <a:pt x="2004" y="10"/>
                  </a:lnTo>
                  <a:lnTo>
                    <a:pt x="1997" y="10"/>
                  </a:lnTo>
                  <a:lnTo>
                    <a:pt x="1981" y="10"/>
                  </a:lnTo>
                  <a:lnTo>
                    <a:pt x="1974" y="0"/>
                  </a:lnTo>
                  <a:lnTo>
                    <a:pt x="1966" y="0"/>
                  </a:lnTo>
                  <a:lnTo>
                    <a:pt x="1958" y="0"/>
                  </a:lnTo>
                  <a:lnTo>
                    <a:pt x="1936" y="0"/>
                  </a:lnTo>
                  <a:lnTo>
                    <a:pt x="1913" y="0"/>
                  </a:lnTo>
                  <a:lnTo>
                    <a:pt x="1890" y="0"/>
                  </a:lnTo>
                  <a:lnTo>
                    <a:pt x="1867" y="0"/>
                  </a:lnTo>
                  <a:lnTo>
                    <a:pt x="1859" y="0"/>
                  </a:lnTo>
                  <a:lnTo>
                    <a:pt x="1852" y="0"/>
                  </a:lnTo>
                  <a:lnTo>
                    <a:pt x="1844" y="10"/>
                  </a:lnTo>
                  <a:lnTo>
                    <a:pt x="1791" y="10"/>
                  </a:lnTo>
                  <a:lnTo>
                    <a:pt x="1791" y="0"/>
                  </a:lnTo>
                  <a:lnTo>
                    <a:pt x="1783" y="0"/>
                  </a:lnTo>
                  <a:lnTo>
                    <a:pt x="1776" y="0"/>
                  </a:lnTo>
                  <a:lnTo>
                    <a:pt x="1768" y="0"/>
                  </a:lnTo>
                  <a:lnTo>
                    <a:pt x="1745" y="0"/>
                  </a:lnTo>
                  <a:lnTo>
                    <a:pt x="1722" y="0"/>
                  </a:lnTo>
                  <a:lnTo>
                    <a:pt x="1699" y="0"/>
                  </a:lnTo>
                  <a:lnTo>
                    <a:pt x="1676" y="0"/>
                  </a:lnTo>
                  <a:lnTo>
                    <a:pt x="1669" y="0"/>
                  </a:lnTo>
                  <a:lnTo>
                    <a:pt x="1661" y="0"/>
                  </a:lnTo>
                  <a:lnTo>
                    <a:pt x="1661" y="5"/>
                  </a:lnTo>
                  <a:lnTo>
                    <a:pt x="1654" y="10"/>
                  </a:lnTo>
                  <a:lnTo>
                    <a:pt x="1600" y="10"/>
                  </a:lnTo>
                  <a:lnTo>
                    <a:pt x="1600" y="5"/>
                  </a:lnTo>
                  <a:lnTo>
                    <a:pt x="1600" y="0"/>
                  </a:lnTo>
                  <a:lnTo>
                    <a:pt x="1593" y="0"/>
                  </a:lnTo>
                  <a:lnTo>
                    <a:pt x="1585" y="0"/>
                  </a:lnTo>
                  <a:lnTo>
                    <a:pt x="1562" y="0"/>
                  </a:lnTo>
                  <a:lnTo>
                    <a:pt x="1539" y="0"/>
                  </a:lnTo>
                  <a:lnTo>
                    <a:pt x="1509" y="0"/>
                  </a:lnTo>
                  <a:lnTo>
                    <a:pt x="1486" y="0"/>
                  </a:lnTo>
                  <a:lnTo>
                    <a:pt x="1478" y="0"/>
                  </a:lnTo>
                  <a:lnTo>
                    <a:pt x="1471" y="0"/>
                  </a:lnTo>
                  <a:lnTo>
                    <a:pt x="1471" y="10"/>
                  </a:lnTo>
                  <a:lnTo>
                    <a:pt x="1417" y="10"/>
                  </a:lnTo>
                  <a:lnTo>
                    <a:pt x="1410" y="0"/>
                  </a:lnTo>
                  <a:lnTo>
                    <a:pt x="1402" y="0"/>
                  </a:lnTo>
                  <a:lnTo>
                    <a:pt x="1394" y="0"/>
                  </a:lnTo>
                  <a:lnTo>
                    <a:pt x="1372" y="0"/>
                  </a:lnTo>
                  <a:lnTo>
                    <a:pt x="1349" y="0"/>
                  </a:lnTo>
                  <a:lnTo>
                    <a:pt x="1326" y="0"/>
                  </a:lnTo>
                  <a:lnTo>
                    <a:pt x="1303" y="0"/>
                  </a:lnTo>
                  <a:lnTo>
                    <a:pt x="1295" y="0"/>
                  </a:lnTo>
                  <a:lnTo>
                    <a:pt x="1288" y="0"/>
                  </a:lnTo>
                  <a:lnTo>
                    <a:pt x="1280" y="0"/>
                  </a:lnTo>
                  <a:lnTo>
                    <a:pt x="1280" y="10"/>
                  </a:lnTo>
                  <a:lnTo>
                    <a:pt x="1265" y="10"/>
                  </a:lnTo>
                  <a:lnTo>
                    <a:pt x="1257" y="10"/>
                  </a:lnTo>
                  <a:lnTo>
                    <a:pt x="1250" y="10"/>
                  </a:lnTo>
                  <a:lnTo>
                    <a:pt x="1242" y="16"/>
                  </a:lnTo>
                  <a:lnTo>
                    <a:pt x="1242" y="21"/>
                  </a:lnTo>
                  <a:lnTo>
                    <a:pt x="403" y="21"/>
                  </a:lnTo>
                  <a:lnTo>
                    <a:pt x="403" y="86"/>
                  </a:lnTo>
                  <a:lnTo>
                    <a:pt x="411" y="92"/>
                  </a:lnTo>
                  <a:lnTo>
                    <a:pt x="411" y="97"/>
                  </a:lnTo>
                  <a:lnTo>
                    <a:pt x="426" y="97"/>
                  </a:lnTo>
                  <a:lnTo>
                    <a:pt x="434" y="97"/>
                  </a:lnTo>
                  <a:lnTo>
                    <a:pt x="1150" y="97"/>
                  </a:lnTo>
                  <a:lnTo>
                    <a:pt x="1166" y="97"/>
                  </a:lnTo>
                  <a:lnTo>
                    <a:pt x="1173" y="97"/>
                  </a:lnTo>
                  <a:lnTo>
                    <a:pt x="1173" y="92"/>
                  </a:lnTo>
                  <a:lnTo>
                    <a:pt x="1173" y="86"/>
                  </a:lnTo>
                  <a:lnTo>
                    <a:pt x="1173" y="21"/>
                  </a:lnTo>
                  <a:lnTo>
                    <a:pt x="1173" y="16"/>
                  </a:lnTo>
                  <a:lnTo>
                    <a:pt x="1173" y="10"/>
                  </a:lnTo>
                  <a:lnTo>
                    <a:pt x="1166" y="10"/>
                  </a:lnTo>
                  <a:lnTo>
                    <a:pt x="1150" y="10"/>
                  </a:lnTo>
                  <a:lnTo>
                    <a:pt x="1135" y="10"/>
                  </a:lnTo>
                  <a:lnTo>
                    <a:pt x="1135" y="0"/>
                  </a:lnTo>
                  <a:lnTo>
                    <a:pt x="1128" y="0"/>
                  </a:lnTo>
                  <a:lnTo>
                    <a:pt x="1120" y="0"/>
                  </a:lnTo>
                  <a:lnTo>
                    <a:pt x="1090" y="0"/>
                  </a:lnTo>
                  <a:lnTo>
                    <a:pt x="1067" y="0"/>
                  </a:lnTo>
                  <a:lnTo>
                    <a:pt x="1044" y="0"/>
                  </a:lnTo>
                  <a:lnTo>
                    <a:pt x="1021" y="0"/>
                  </a:lnTo>
                  <a:lnTo>
                    <a:pt x="1013" y="0"/>
                  </a:lnTo>
                  <a:lnTo>
                    <a:pt x="1006" y="10"/>
                  </a:lnTo>
                  <a:lnTo>
                    <a:pt x="952" y="10"/>
                  </a:lnTo>
                  <a:lnTo>
                    <a:pt x="952" y="0"/>
                  </a:lnTo>
                  <a:lnTo>
                    <a:pt x="945" y="0"/>
                  </a:lnTo>
                  <a:lnTo>
                    <a:pt x="937" y="0"/>
                  </a:lnTo>
                  <a:lnTo>
                    <a:pt x="929" y="0"/>
                  </a:lnTo>
                  <a:lnTo>
                    <a:pt x="907" y="0"/>
                  </a:lnTo>
                  <a:lnTo>
                    <a:pt x="884" y="0"/>
                  </a:lnTo>
                  <a:lnTo>
                    <a:pt x="861" y="0"/>
                  </a:lnTo>
                  <a:lnTo>
                    <a:pt x="838" y="0"/>
                  </a:lnTo>
                  <a:lnTo>
                    <a:pt x="830" y="0"/>
                  </a:lnTo>
                  <a:lnTo>
                    <a:pt x="823" y="0"/>
                  </a:lnTo>
                  <a:lnTo>
                    <a:pt x="823" y="5"/>
                  </a:lnTo>
                  <a:lnTo>
                    <a:pt x="815" y="10"/>
                  </a:lnTo>
                  <a:lnTo>
                    <a:pt x="762" y="10"/>
                  </a:lnTo>
                  <a:lnTo>
                    <a:pt x="762" y="5"/>
                  </a:lnTo>
                  <a:lnTo>
                    <a:pt x="762" y="0"/>
                  </a:lnTo>
                  <a:lnTo>
                    <a:pt x="754" y="0"/>
                  </a:lnTo>
                  <a:lnTo>
                    <a:pt x="746" y="0"/>
                  </a:lnTo>
                  <a:lnTo>
                    <a:pt x="724" y="0"/>
                  </a:lnTo>
                  <a:lnTo>
                    <a:pt x="701" y="0"/>
                  </a:lnTo>
                  <a:lnTo>
                    <a:pt x="670" y="0"/>
                  </a:lnTo>
                  <a:lnTo>
                    <a:pt x="647" y="0"/>
                  </a:lnTo>
                  <a:lnTo>
                    <a:pt x="640" y="0"/>
                  </a:lnTo>
                  <a:lnTo>
                    <a:pt x="632" y="0"/>
                  </a:lnTo>
                  <a:lnTo>
                    <a:pt x="632" y="10"/>
                  </a:lnTo>
                  <a:lnTo>
                    <a:pt x="579" y="10"/>
                  </a:lnTo>
                  <a:lnTo>
                    <a:pt x="571" y="0"/>
                  </a:lnTo>
                  <a:lnTo>
                    <a:pt x="564" y="0"/>
                  </a:lnTo>
                  <a:lnTo>
                    <a:pt x="556" y="0"/>
                  </a:lnTo>
                  <a:lnTo>
                    <a:pt x="533" y="0"/>
                  </a:lnTo>
                  <a:lnTo>
                    <a:pt x="510" y="0"/>
                  </a:lnTo>
                  <a:lnTo>
                    <a:pt x="487" y="0"/>
                  </a:lnTo>
                  <a:lnTo>
                    <a:pt x="464" y="0"/>
                  </a:lnTo>
                  <a:lnTo>
                    <a:pt x="457" y="0"/>
                  </a:lnTo>
                  <a:lnTo>
                    <a:pt x="449" y="0"/>
                  </a:lnTo>
                  <a:lnTo>
                    <a:pt x="442" y="0"/>
                  </a:lnTo>
                  <a:lnTo>
                    <a:pt x="442" y="10"/>
                  </a:lnTo>
                  <a:lnTo>
                    <a:pt x="426" y="10"/>
                  </a:lnTo>
                  <a:lnTo>
                    <a:pt x="419" y="10"/>
                  </a:lnTo>
                  <a:lnTo>
                    <a:pt x="411" y="10"/>
                  </a:lnTo>
                  <a:lnTo>
                    <a:pt x="403" y="16"/>
                  </a:lnTo>
                  <a:lnTo>
                    <a:pt x="403" y="21"/>
                  </a:lnTo>
                  <a:lnTo>
                    <a:pt x="7" y="86"/>
                  </a:lnTo>
                  <a:lnTo>
                    <a:pt x="7" y="27"/>
                  </a:lnTo>
                  <a:lnTo>
                    <a:pt x="7" y="21"/>
                  </a:lnTo>
                  <a:lnTo>
                    <a:pt x="15" y="16"/>
                  </a:lnTo>
                  <a:lnTo>
                    <a:pt x="22" y="10"/>
                  </a:lnTo>
                  <a:lnTo>
                    <a:pt x="30" y="10"/>
                  </a:lnTo>
                  <a:lnTo>
                    <a:pt x="45" y="1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91" y="0"/>
                  </a:lnTo>
                  <a:lnTo>
                    <a:pt x="114" y="0"/>
                  </a:lnTo>
                  <a:lnTo>
                    <a:pt x="137" y="0"/>
                  </a:lnTo>
                  <a:lnTo>
                    <a:pt x="160" y="0"/>
                  </a:lnTo>
                  <a:lnTo>
                    <a:pt x="167" y="0"/>
                  </a:lnTo>
                  <a:lnTo>
                    <a:pt x="175" y="0"/>
                  </a:lnTo>
                  <a:lnTo>
                    <a:pt x="182" y="5"/>
                  </a:lnTo>
                  <a:lnTo>
                    <a:pt x="190" y="10"/>
                  </a:lnTo>
                  <a:lnTo>
                    <a:pt x="205" y="10"/>
                  </a:lnTo>
                  <a:lnTo>
                    <a:pt x="213" y="16"/>
                  </a:lnTo>
                  <a:lnTo>
                    <a:pt x="221" y="16"/>
                  </a:lnTo>
                  <a:lnTo>
                    <a:pt x="228" y="21"/>
                  </a:lnTo>
                  <a:lnTo>
                    <a:pt x="228" y="27"/>
                  </a:lnTo>
                  <a:lnTo>
                    <a:pt x="228" y="86"/>
                  </a:lnTo>
                  <a:lnTo>
                    <a:pt x="228" y="92"/>
                  </a:lnTo>
                  <a:lnTo>
                    <a:pt x="221" y="97"/>
                  </a:lnTo>
                  <a:lnTo>
                    <a:pt x="213" y="102"/>
                  </a:lnTo>
                  <a:lnTo>
                    <a:pt x="198" y="102"/>
                  </a:lnTo>
                  <a:lnTo>
                    <a:pt x="30" y="102"/>
                  </a:lnTo>
                  <a:lnTo>
                    <a:pt x="22" y="102"/>
                  </a:lnTo>
                  <a:lnTo>
                    <a:pt x="15" y="97"/>
                  </a:lnTo>
                  <a:lnTo>
                    <a:pt x="7" y="92"/>
                  </a:lnTo>
                  <a:lnTo>
                    <a:pt x="7" y="86"/>
                  </a:lnTo>
                  <a:lnTo>
                    <a:pt x="0" y="174"/>
                  </a:lnTo>
                  <a:lnTo>
                    <a:pt x="0" y="168"/>
                  </a:lnTo>
                  <a:lnTo>
                    <a:pt x="7" y="163"/>
                  </a:lnTo>
                  <a:lnTo>
                    <a:pt x="15" y="163"/>
                  </a:lnTo>
                  <a:lnTo>
                    <a:pt x="22" y="163"/>
                  </a:lnTo>
                  <a:lnTo>
                    <a:pt x="45" y="163"/>
                  </a:lnTo>
                  <a:lnTo>
                    <a:pt x="60" y="141"/>
                  </a:lnTo>
                  <a:lnTo>
                    <a:pt x="68" y="141"/>
                  </a:lnTo>
                  <a:lnTo>
                    <a:pt x="99" y="141"/>
                  </a:lnTo>
                  <a:lnTo>
                    <a:pt x="121" y="141"/>
                  </a:lnTo>
                  <a:lnTo>
                    <a:pt x="144" y="141"/>
                  </a:lnTo>
                  <a:lnTo>
                    <a:pt x="175" y="141"/>
                  </a:lnTo>
                  <a:lnTo>
                    <a:pt x="182" y="141"/>
                  </a:lnTo>
                  <a:lnTo>
                    <a:pt x="198" y="163"/>
                  </a:lnTo>
                  <a:lnTo>
                    <a:pt x="236" y="163"/>
                  </a:lnTo>
                  <a:lnTo>
                    <a:pt x="243" y="141"/>
                  </a:lnTo>
                  <a:lnTo>
                    <a:pt x="251" y="141"/>
                  </a:lnTo>
                  <a:lnTo>
                    <a:pt x="259" y="141"/>
                  </a:lnTo>
                  <a:lnTo>
                    <a:pt x="282" y="141"/>
                  </a:lnTo>
                  <a:lnTo>
                    <a:pt x="312" y="141"/>
                  </a:lnTo>
                  <a:lnTo>
                    <a:pt x="335" y="141"/>
                  </a:lnTo>
                  <a:lnTo>
                    <a:pt x="358" y="141"/>
                  </a:lnTo>
                  <a:lnTo>
                    <a:pt x="365" y="141"/>
                  </a:lnTo>
                  <a:lnTo>
                    <a:pt x="373" y="141"/>
                  </a:lnTo>
                  <a:lnTo>
                    <a:pt x="381" y="163"/>
                  </a:lnTo>
                  <a:lnTo>
                    <a:pt x="426" y="163"/>
                  </a:lnTo>
                  <a:lnTo>
                    <a:pt x="434" y="141"/>
                  </a:lnTo>
                  <a:lnTo>
                    <a:pt x="442" y="141"/>
                  </a:lnTo>
                  <a:lnTo>
                    <a:pt x="449" y="141"/>
                  </a:lnTo>
                  <a:lnTo>
                    <a:pt x="472" y="141"/>
                  </a:lnTo>
                  <a:lnTo>
                    <a:pt x="503" y="141"/>
                  </a:lnTo>
                  <a:lnTo>
                    <a:pt x="525" y="141"/>
                  </a:lnTo>
                  <a:lnTo>
                    <a:pt x="548" y="141"/>
                  </a:lnTo>
                  <a:lnTo>
                    <a:pt x="556" y="141"/>
                  </a:lnTo>
                  <a:lnTo>
                    <a:pt x="564" y="141"/>
                  </a:lnTo>
                  <a:lnTo>
                    <a:pt x="571" y="163"/>
                  </a:lnTo>
                  <a:lnTo>
                    <a:pt x="617" y="163"/>
                  </a:lnTo>
                  <a:lnTo>
                    <a:pt x="625" y="141"/>
                  </a:lnTo>
                  <a:lnTo>
                    <a:pt x="625" y="136"/>
                  </a:lnTo>
                  <a:lnTo>
                    <a:pt x="632" y="136"/>
                  </a:lnTo>
                  <a:lnTo>
                    <a:pt x="632" y="141"/>
                  </a:lnTo>
                  <a:lnTo>
                    <a:pt x="663" y="141"/>
                  </a:lnTo>
                  <a:lnTo>
                    <a:pt x="686" y="141"/>
                  </a:lnTo>
                  <a:lnTo>
                    <a:pt x="708" y="141"/>
                  </a:lnTo>
                  <a:lnTo>
                    <a:pt x="739" y="141"/>
                  </a:lnTo>
                  <a:lnTo>
                    <a:pt x="746" y="141"/>
                  </a:lnTo>
                  <a:lnTo>
                    <a:pt x="762" y="163"/>
                  </a:lnTo>
                  <a:lnTo>
                    <a:pt x="800" y="163"/>
                  </a:lnTo>
                  <a:lnTo>
                    <a:pt x="807" y="141"/>
                  </a:lnTo>
                  <a:lnTo>
                    <a:pt x="815" y="141"/>
                  </a:lnTo>
                  <a:lnTo>
                    <a:pt x="815" y="136"/>
                  </a:lnTo>
                  <a:lnTo>
                    <a:pt x="823" y="136"/>
                  </a:lnTo>
                  <a:lnTo>
                    <a:pt x="823" y="141"/>
                  </a:lnTo>
                  <a:lnTo>
                    <a:pt x="853" y="141"/>
                  </a:lnTo>
                  <a:lnTo>
                    <a:pt x="876" y="141"/>
                  </a:lnTo>
                  <a:lnTo>
                    <a:pt x="899" y="141"/>
                  </a:lnTo>
                  <a:lnTo>
                    <a:pt x="929" y="141"/>
                  </a:lnTo>
                  <a:lnTo>
                    <a:pt x="937" y="141"/>
                  </a:lnTo>
                  <a:lnTo>
                    <a:pt x="952" y="163"/>
                  </a:lnTo>
                  <a:lnTo>
                    <a:pt x="990" y="163"/>
                  </a:lnTo>
                  <a:lnTo>
                    <a:pt x="998" y="141"/>
                  </a:lnTo>
                  <a:lnTo>
                    <a:pt x="1006" y="141"/>
                  </a:lnTo>
                  <a:lnTo>
                    <a:pt x="1013" y="141"/>
                  </a:lnTo>
                  <a:lnTo>
                    <a:pt x="1036" y="141"/>
                  </a:lnTo>
                  <a:lnTo>
                    <a:pt x="1059" y="141"/>
                  </a:lnTo>
                  <a:lnTo>
                    <a:pt x="1082" y="141"/>
                  </a:lnTo>
                  <a:lnTo>
                    <a:pt x="1112" y="141"/>
                  </a:lnTo>
                  <a:lnTo>
                    <a:pt x="1120" y="141"/>
                  </a:lnTo>
                  <a:lnTo>
                    <a:pt x="1135" y="163"/>
                  </a:lnTo>
                  <a:lnTo>
                    <a:pt x="1173" y="163"/>
                  </a:lnTo>
                  <a:lnTo>
                    <a:pt x="1189" y="141"/>
                  </a:lnTo>
                  <a:lnTo>
                    <a:pt x="1196" y="136"/>
                  </a:lnTo>
                  <a:lnTo>
                    <a:pt x="1227" y="141"/>
                  </a:lnTo>
                  <a:lnTo>
                    <a:pt x="1250" y="141"/>
                  </a:lnTo>
                  <a:lnTo>
                    <a:pt x="1272" y="141"/>
                  </a:lnTo>
                  <a:lnTo>
                    <a:pt x="1295" y="136"/>
                  </a:lnTo>
                  <a:lnTo>
                    <a:pt x="1303" y="136"/>
                  </a:lnTo>
                  <a:lnTo>
                    <a:pt x="1303" y="141"/>
                  </a:lnTo>
                  <a:lnTo>
                    <a:pt x="1311" y="141"/>
                  </a:lnTo>
                  <a:lnTo>
                    <a:pt x="1326" y="163"/>
                  </a:lnTo>
                  <a:lnTo>
                    <a:pt x="1364" y="163"/>
                  </a:lnTo>
                  <a:lnTo>
                    <a:pt x="1372" y="141"/>
                  </a:lnTo>
                  <a:lnTo>
                    <a:pt x="1379" y="141"/>
                  </a:lnTo>
                  <a:lnTo>
                    <a:pt x="1379" y="136"/>
                  </a:lnTo>
                  <a:lnTo>
                    <a:pt x="1387" y="136"/>
                  </a:lnTo>
                  <a:lnTo>
                    <a:pt x="1410" y="141"/>
                  </a:lnTo>
                  <a:lnTo>
                    <a:pt x="1440" y="141"/>
                  </a:lnTo>
                  <a:lnTo>
                    <a:pt x="1463" y="141"/>
                  </a:lnTo>
                  <a:lnTo>
                    <a:pt x="1486" y="136"/>
                  </a:lnTo>
                  <a:lnTo>
                    <a:pt x="1493" y="136"/>
                  </a:lnTo>
                  <a:lnTo>
                    <a:pt x="1493" y="141"/>
                  </a:lnTo>
                  <a:lnTo>
                    <a:pt x="1501" y="141"/>
                  </a:lnTo>
                  <a:lnTo>
                    <a:pt x="1509" y="163"/>
                  </a:lnTo>
                  <a:lnTo>
                    <a:pt x="1554" y="163"/>
                  </a:lnTo>
                  <a:lnTo>
                    <a:pt x="1562" y="141"/>
                  </a:lnTo>
                  <a:lnTo>
                    <a:pt x="1570" y="141"/>
                  </a:lnTo>
                  <a:lnTo>
                    <a:pt x="1600" y="141"/>
                  </a:lnTo>
                  <a:lnTo>
                    <a:pt x="1623" y="141"/>
                  </a:lnTo>
                  <a:lnTo>
                    <a:pt x="1654" y="141"/>
                  </a:lnTo>
                  <a:lnTo>
                    <a:pt x="1676" y="141"/>
                  </a:lnTo>
                  <a:lnTo>
                    <a:pt x="1684" y="141"/>
                  </a:lnTo>
                  <a:lnTo>
                    <a:pt x="1692" y="141"/>
                  </a:lnTo>
                  <a:lnTo>
                    <a:pt x="1699" y="163"/>
                  </a:lnTo>
                  <a:lnTo>
                    <a:pt x="1737" y="163"/>
                  </a:lnTo>
                  <a:lnTo>
                    <a:pt x="1753" y="141"/>
                  </a:lnTo>
                  <a:lnTo>
                    <a:pt x="1760" y="141"/>
                  </a:lnTo>
                  <a:lnTo>
                    <a:pt x="1791" y="141"/>
                  </a:lnTo>
                  <a:lnTo>
                    <a:pt x="1814" y="141"/>
                  </a:lnTo>
                  <a:lnTo>
                    <a:pt x="1837" y="141"/>
                  </a:lnTo>
                  <a:lnTo>
                    <a:pt x="1867" y="141"/>
                  </a:lnTo>
                  <a:lnTo>
                    <a:pt x="1875" y="141"/>
                  </a:lnTo>
                  <a:lnTo>
                    <a:pt x="1882" y="141"/>
                  </a:lnTo>
                  <a:lnTo>
                    <a:pt x="1890" y="163"/>
                  </a:lnTo>
                  <a:lnTo>
                    <a:pt x="1928" y="163"/>
                  </a:lnTo>
                  <a:lnTo>
                    <a:pt x="1943" y="141"/>
                  </a:lnTo>
                  <a:lnTo>
                    <a:pt x="1951" y="141"/>
                  </a:lnTo>
                  <a:lnTo>
                    <a:pt x="1974" y="141"/>
                  </a:lnTo>
                  <a:lnTo>
                    <a:pt x="2004" y="141"/>
                  </a:lnTo>
                  <a:lnTo>
                    <a:pt x="2027" y="141"/>
                  </a:lnTo>
                  <a:lnTo>
                    <a:pt x="2058" y="141"/>
                  </a:lnTo>
                  <a:lnTo>
                    <a:pt x="2065" y="141"/>
                  </a:lnTo>
                  <a:lnTo>
                    <a:pt x="2080" y="163"/>
                  </a:lnTo>
                  <a:lnTo>
                    <a:pt x="2119" y="163"/>
                  </a:lnTo>
                  <a:lnTo>
                    <a:pt x="2126" y="141"/>
                  </a:lnTo>
                  <a:lnTo>
                    <a:pt x="2134" y="141"/>
                  </a:lnTo>
                  <a:lnTo>
                    <a:pt x="2164" y="141"/>
                  </a:lnTo>
                  <a:lnTo>
                    <a:pt x="2188" y="141"/>
                  </a:lnTo>
                  <a:lnTo>
                    <a:pt x="2219" y="141"/>
                  </a:lnTo>
                  <a:lnTo>
                    <a:pt x="2241" y="141"/>
                  </a:lnTo>
                  <a:lnTo>
                    <a:pt x="2249" y="141"/>
                  </a:lnTo>
                  <a:lnTo>
                    <a:pt x="2264" y="163"/>
                  </a:lnTo>
                  <a:lnTo>
                    <a:pt x="2302" y="163"/>
                  </a:lnTo>
                  <a:lnTo>
                    <a:pt x="2310" y="141"/>
                  </a:lnTo>
                  <a:lnTo>
                    <a:pt x="2318" y="141"/>
                  </a:lnTo>
                  <a:lnTo>
                    <a:pt x="2325" y="141"/>
                  </a:lnTo>
                  <a:lnTo>
                    <a:pt x="2348" y="141"/>
                  </a:lnTo>
                  <a:lnTo>
                    <a:pt x="2379" y="141"/>
                  </a:lnTo>
                  <a:lnTo>
                    <a:pt x="2402" y="141"/>
                  </a:lnTo>
                  <a:lnTo>
                    <a:pt x="2424" y="141"/>
                  </a:lnTo>
                  <a:lnTo>
                    <a:pt x="2432" y="141"/>
                  </a:lnTo>
                  <a:lnTo>
                    <a:pt x="2440" y="141"/>
                  </a:lnTo>
                  <a:lnTo>
                    <a:pt x="2447" y="163"/>
                  </a:lnTo>
                  <a:lnTo>
                    <a:pt x="2478" y="163"/>
                  </a:lnTo>
                  <a:lnTo>
                    <a:pt x="2485" y="141"/>
                  </a:lnTo>
                  <a:lnTo>
                    <a:pt x="2493" y="136"/>
                  </a:lnTo>
                  <a:lnTo>
                    <a:pt x="2539" y="141"/>
                  </a:lnTo>
                  <a:lnTo>
                    <a:pt x="2577" y="141"/>
                  </a:lnTo>
                  <a:lnTo>
                    <a:pt x="2615" y="141"/>
                  </a:lnTo>
                  <a:lnTo>
                    <a:pt x="2653" y="141"/>
                  </a:lnTo>
                  <a:lnTo>
                    <a:pt x="2699" y="141"/>
                  </a:lnTo>
                  <a:lnTo>
                    <a:pt x="2737" y="141"/>
                  </a:lnTo>
                  <a:lnTo>
                    <a:pt x="2775" y="141"/>
                  </a:lnTo>
                  <a:lnTo>
                    <a:pt x="2813" y="136"/>
                  </a:lnTo>
                  <a:lnTo>
                    <a:pt x="2821" y="141"/>
                  </a:lnTo>
                  <a:lnTo>
                    <a:pt x="2828" y="163"/>
                  </a:lnTo>
                  <a:lnTo>
                    <a:pt x="2844" y="163"/>
                  </a:lnTo>
                  <a:lnTo>
                    <a:pt x="2851" y="163"/>
                  </a:lnTo>
                  <a:lnTo>
                    <a:pt x="2859" y="168"/>
                  </a:lnTo>
                  <a:lnTo>
                    <a:pt x="2867" y="174"/>
                  </a:lnTo>
                  <a:lnTo>
                    <a:pt x="2867" y="430"/>
                  </a:lnTo>
                  <a:lnTo>
                    <a:pt x="2859" y="440"/>
                  </a:lnTo>
                  <a:lnTo>
                    <a:pt x="2851" y="446"/>
                  </a:lnTo>
                  <a:lnTo>
                    <a:pt x="2844" y="446"/>
                  </a:lnTo>
                  <a:lnTo>
                    <a:pt x="2828" y="446"/>
                  </a:lnTo>
                  <a:lnTo>
                    <a:pt x="2539" y="446"/>
                  </a:lnTo>
                  <a:lnTo>
                    <a:pt x="2539" y="397"/>
                  </a:lnTo>
                  <a:lnTo>
                    <a:pt x="2409" y="397"/>
                  </a:lnTo>
                  <a:lnTo>
                    <a:pt x="2409" y="446"/>
                  </a:lnTo>
                  <a:lnTo>
                    <a:pt x="525" y="446"/>
                  </a:lnTo>
                  <a:lnTo>
                    <a:pt x="525" y="397"/>
                  </a:lnTo>
                  <a:lnTo>
                    <a:pt x="320" y="397"/>
                  </a:lnTo>
                  <a:lnTo>
                    <a:pt x="320" y="446"/>
                  </a:lnTo>
                  <a:lnTo>
                    <a:pt x="30" y="446"/>
                  </a:lnTo>
                  <a:lnTo>
                    <a:pt x="15" y="446"/>
                  </a:lnTo>
                  <a:lnTo>
                    <a:pt x="7" y="446"/>
                  </a:lnTo>
                  <a:lnTo>
                    <a:pt x="0" y="440"/>
                  </a:lnTo>
                  <a:lnTo>
                    <a:pt x="0" y="435"/>
                  </a:lnTo>
                  <a:lnTo>
                    <a:pt x="0" y="174"/>
                  </a:lnTo>
                  <a:lnTo>
                    <a:pt x="3614" y="1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760840" y="7859880"/>
              <a:ext cx="281520" cy="117720"/>
            </a:xfrm>
            <a:custGeom>
              <a:avLst/>
              <a:gdLst/>
              <a:ahLst/>
              <a:rect l="0" t="0" r="r" b="b"/>
              <a:pathLst>
                <a:path fill="none" w="782" h="327">
                  <a:moveTo>
                    <a:pt x="30" y="23"/>
                  </a:moveTo>
                  <a:lnTo>
                    <a:pt x="38" y="5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77" y="0"/>
                  </a:lnTo>
                  <a:lnTo>
                    <a:pt x="108" y="0"/>
                  </a:lnTo>
                  <a:lnTo>
                    <a:pt x="131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2" y="5"/>
                  </a:lnTo>
                  <a:lnTo>
                    <a:pt x="177" y="23"/>
                  </a:lnTo>
                  <a:lnTo>
                    <a:pt x="217" y="23"/>
                  </a:lnTo>
                  <a:lnTo>
                    <a:pt x="225" y="5"/>
                  </a:lnTo>
                  <a:lnTo>
                    <a:pt x="225" y="0"/>
                  </a:lnTo>
                  <a:lnTo>
                    <a:pt x="232" y="0"/>
                  </a:lnTo>
                  <a:lnTo>
                    <a:pt x="240" y="0"/>
                  </a:lnTo>
                  <a:lnTo>
                    <a:pt x="263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6" y="5"/>
                  </a:lnTo>
                  <a:lnTo>
                    <a:pt x="371" y="23"/>
                  </a:lnTo>
                  <a:lnTo>
                    <a:pt x="410" y="23"/>
                  </a:lnTo>
                  <a:lnTo>
                    <a:pt x="418" y="5"/>
                  </a:lnTo>
                  <a:lnTo>
                    <a:pt x="418" y="0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56" y="0"/>
                  </a:lnTo>
                  <a:lnTo>
                    <a:pt x="480" y="0"/>
                  </a:lnTo>
                  <a:lnTo>
                    <a:pt x="511" y="0"/>
                  </a:lnTo>
                  <a:lnTo>
                    <a:pt x="534" y="0"/>
                  </a:lnTo>
                  <a:lnTo>
                    <a:pt x="541" y="0"/>
                  </a:lnTo>
                  <a:lnTo>
                    <a:pt x="549" y="0"/>
                  </a:lnTo>
                  <a:lnTo>
                    <a:pt x="549" y="5"/>
                  </a:lnTo>
                  <a:lnTo>
                    <a:pt x="557" y="23"/>
                  </a:lnTo>
                  <a:lnTo>
                    <a:pt x="597" y="23"/>
                  </a:lnTo>
                  <a:lnTo>
                    <a:pt x="612" y="5"/>
                  </a:lnTo>
                  <a:lnTo>
                    <a:pt x="612" y="0"/>
                  </a:lnTo>
                  <a:lnTo>
                    <a:pt x="620" y="0"/>
                  </a:lnTo>
                  <a:lnTo>
                    <a:pt x="651" y="0"/>
                  </a:lnTo>
                  <a:lnTo>
                    <a:pt x="674" y="0"/>
                  </a:lnTo>
                  <a:lnTo>
                    <a:pt x="697" y="0"/>
                  </a:lnTo>
                  <a:lnTo>
                    <a:pt x="728" y="0"/>
                  </a:lnTo>
                  <a:lnTo>
                    <a:pt x="736" y="0"/>
                  </a:lnTo>
                  <a:lnTo>
                    <a:pt x="743" y="5"/>
                  </a:lnTo>
                  <a:lnTo>
                    <a:pt x="751" y="23"/>
                  </a:lnTo>
                  <a:lnTo>
                    <a:pt x="767" y="23"/>
                  </a:lnTo>
                  <a:lnTo>
                    <a:pt x="774" y="29"/>
                  </a:lnTo>
                  <a:lnTo>
                    <a:pt x="782" y="34"/>
                  </a:lnTo>
                  <a:lnTo>
                    <a:pt x="782" y="40"/>
                  </a:lnTo>
                  <a:lnTo>
                    <a:pt x="782" y="309"/>
                  </a:lnTo>
                  <a:lnTo>
                    <a:pt x="782" y="321"/>
                  </a:lnTo>
                  <a:lnTo>
                    <a:pt x="774" y="321"/>
                  </a:lnTo>
                  <a:lnTo>
                    <a:pt x="767" y="327"/>
                  </a:lnTo>
                  <a:lnTo>
                    <a:pt x="759" y="327"/>
                  </a:lnTo>
                  <a:lnTo>
                    <a:pt x="30" y="327"/>
                  </a:lnTo>
                  <a:lnTo>
                    <a:pt x="15" y="327"/>
                  </a:lnTo>
                  <a:lnTo>
                    <a:pt x="7" y="321"/>
                  </a:lnTo>
                  <a:lnTo>
                    <a:pt x="0" y="321"/>
                  </a:lnTo>
                  <a:lnTo>
                    <a:pt x="0" y="309"/>
                  </a:lnTo>
                  <a:lnTo>
                    <a:pt x="0" y="40"/>
                  </a:lnTo>
                  <a:lnTo>
                    <a:pt x="0" y="34"/>
                  </a:lnTo>
                  <a:lnTo>
                    <a:pt x="7" y="29"/>
                  </a:lnTo>
                  <a:lnTo>
                    <a:pt x="15" y="23"/>
                  </a:lnTo>
                  <a:lnTo>
                    <a:pt x="3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514600" y="7918560"/>
              <a:ext cx="214560" cy="59040"/>
            </a:xfrm>
            <a:custGeom>
              <a:avLst/>
              <a:gdLst/>
              <a:ahLst/>
              <a:rect l="0" t="0" r="r" b="b"/>
              <a:pathLst>
                <a:path fill="none" w="596" h="164">
                  <a:moveTo>
                    <a:pt x="0" y="81"/>
                  </a:moveTo>
                  <a:lnTo>
                    <a:pt x="0" y="81"/>
                  </a:lnTo>
                  <a:lnTo>
                    <a:pt x="0" y="75"/>
                  </a:lnTo>
                  <a:lnTo>
                    <a:pt x="7" y="75"/>
                  </a:lnTo>
                  <a:lnTo>
                    <a:pt x="7" y="69"/>
                  </a:lnTo>
                  <a:lnTo>
                    <a:pt x="23" y="69"/>
                  </a:lnTo>
                  <a:lnTo>
                    <a:pt x="30" y="69"/>
                  </a:lnTo>
                  <a:lnTo>
                    <a:pt x="46" y="58"/>
                  </a:lnTo>
                  <a:lnTo>
                    <a:pt x="46" y="52"/>
                  </a:lnTo>
                  <a:lnTo>
                    <a:pt x="54" y="52"/>
                  </a:lnTo>
                  <a:lnTo>
                    <a:pt x="77" y="52"/>
                  </a:lnTo>
                  <a:lnTo>
                    <a:pt x="108" y="52"/>
                  </a:lnTo>
                  <a:lnTo>
                    <a:pt x="131" y="52"/>
                  </a:lnTo>
                  <a:lnTo>
                    <a:pt x="162" y="52"/>
                  </a:lnTo>
                  <a:lnTo>
                    <a:pt x="170" y="52"/>
                  </a:lnTo>
                  <a:lnTo>
                    <a:pt x="170" y="58"/>
                  </a:lnTo>
                  <a:lnTo>
                    <a:pt x="177" y="69"/>
                  </a:lnTo>
                  <a:lnTo>
                    <a:pt x="193" y="69"/>
                  </a:lnTo>
                  <a:lnTo>
                    <a:pt x="193" y="34"/>
                  </a:lnTo>
                  <a:lnTo>
                    <a:pt x="201" y="29"/>
                  </a:lnTo>
                  <a:lnTo>
                    <a:pt x="208" y="29"/>
                  </a:lnTo>
                  <a:lnTo>
                    <a:pt x="216" y="29"/>
                  </a:lnTo>
                  <a:lnTo>
                    <a:pt x="231" y="5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47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25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56" y="5"/>
                  </a:lnTo>
                  <a:lnTo>
                    <a:pt x="379" y="29"/>
                  </a:lnTo>
                  <a:lnTo>
                    <a:pt x="387" y="29"/>
                  </a:lnTo>
                  <a:lnTo>
                    <a:pt x="395" y="29"/>
                  </a:lnTo>
                  <a:lnTo>
                    <a:pt x="403" y="34"/>
                  </a:lnTo>
                  <a:lnTo>
                    <a:pt x="403" y="69"/>
                  </a:lnTo>
                  <a:lnTo>
                    <a:pt x="418" y="69"/>
                  </a:lnTo>
                  <a:lnTo>
                    <a:pt x="426" y="58"/>
                  </a:lnTo>
                  <a:lnTo>
                    <a:pt x="426" y="52"/>
                  </a:lnTo>
                  <a:lnTo>
                    <a:pt x="433" y="52"/>
                  </a:lnTo>
                  <a:lnTo>
                    <a:pt x="464" y="52"/>
                  </a:lnTo>
                  <a:lnTo>
                    <a:pt x="488" y="52"/>
                  </a:lnTo>
                  <a:lnTo>
                    <a:pt x="518" y="52"/>
                  </a:lnTo>
                  <a:lnTo>
                    <a:pt x="542" y="52"/>
                  </a:lnTo>
                  <a:lnTo>
                    <a:pt x="549" y="52"/>
                  </a:lnTo>
                  <a:lnTo>
                    <a:pt x="549" y="58"/>
                  </a:lnTo>
                  <a:lnTo>
                    <a:pt x="565" y="69"/>
                  </a:lnTo>
                  <a:lnTo>
                    <a:pt x="580" y="69"/>
                  </a:lnTo>
                  <a:lnTo>
                    <a:pt x="588" y="69"/>
                  </a:lnTo>
                  <a:lnTo>
                    <a:pt x="596" y="75"/>
                  </a:lnTo>
                  <a:lnTo>
                    <a:pt x="596" y="81"/>
                  </a:lnTo>
                  <a:lnTo>
                    <a:pt x="596" y="152"/>
                  </a:lnTo>
                  <a:lnTo>
                    <a:pt x="596" y="158"/>
                  </a:lnTo>
                  <a:lnTo>
                    <a:pt x="588" y="164"/>
                  </a:lnTo>
                  <a:lnTo>
                    <a:pt x="580" y="164"/>
                  </a:lnTo>
                  <a:lnTo>
                    <a:pt x="23" y="164"/>
                  </a:lnTo>
                  <a:lnTo>
                    <a:pt x="15" y="164"/>
                  </a:lnTo>
                  <a:lnTo>
                    <a:pt x="7" y="158"/>
                  </a:lnTo>
                  <a:lnTo>
                    <a:pt x="0" y="158"/>
                  </a:lnTo>
                  <a:lnTo>
                    <a:pt x="0" y="8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514600" y="7856640"/>
              <a:ext cx="214560" cy="57600"/>
            </a:xfrm>
            <a:custGeom>
              <a:avLst/>
              <a:gdLst/>
              <a:ahLst/>
              <a:rect l="0" t="0" r="r" b="b"/>
              <a:pathLst>
                <a:path fill="none" w="596" h="160">
                  <a:moveTo>
                    <a:pt x="0" y="35"/>
                  </a:moveTo>
                  <a:lnTo>
                    <a:pt x="0" y="35"/>
                  </a:lnTo>
                  <a:lnTo>
                    <a:pt x="7" y="29"/>
                  </a:lnTo>
                  <a:lnTo>
                    <a:pt x="15" y="29"/>
                  </a:lnTo>
                  <a:lnTo>
                    <a:pt x="23" y="23"/>
                  </a:lnTo>
                  <a:lnTo>
                    <a:pt x="30" y="23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77" y="0"/>
                  </a:lnTo>
                  <a:lnTo>
                    <a:pt x="108" y="0"/>
                  </a:lnTo>
                  <a:lnTo>
                    <a:pt x="131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0" y="0"/>
                  </a:lnTo>
                  <a:lnTo>
                    <a:pt x="177" y="23"/>
                  </a:lnTo>
                  <a:lnTo>
                    <a:pt x="224" y="23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70" y="0"/>
                  </a:lnTo>
                  <a:lnTo>
                    <a:pt x="293" y="0"/>
                  </a:lnTo>
                  <a:lnTo>
                    <a:pt x="325" y="0"/>
                  </a:lnTo>
                  <a:lnTo>
                    <a:pt x="348" y="0"/>
                  </a:lnTo>
                  <a:lnTo>
                    <a:pt x="356" y="0"/>
                  </a:lnTo>
                  <a:lnTo>
                    <a:pt x="364" y="0"/>
                  </a:lnTo>
                  <a:lnTo>
                    <a:pt x="372" y="23"/>
                  </a:lnTo>
                  <a:lnTo>
                    <a:pt x="410" y="23"/>
                  </a:lnTo>
                  <a:lnTo>
                    <a:pt x="426" y="0"/>
                  </a:lnTo>
                  <a:lnTo>
                    <a:pt x="433" y="0"/>
                  </a:lnTo>
                  <a:lnTo>
                    <a:pt x="464" y="0"/>
                  </a:lnTo>
                  <a:lnTo>
                    <a:pt x="488" y="0"/>
                  </a:lnTo>
                  <a:lnTo>
                    <a:pt x="511" y="0"/>
                  </a:lnTo>
                  <a:lnTo>
                    <a:pt x="542" y="0"/>
                  </a:lnTo>
                  <a:lnTo>
                    <a:pt x="549" y="0"/>
                  </a:lnTo>
                  <a:lnTo>
                    <a:pt x="565" y="23"/>
                  </a:lnTo>
                  <a:lnTo>
                    <a:pt x="580" y="23"/>
                  </a:lnTo>
                  <a:lnTo>
                    <a:pt x="588" y="29"/>
                  </a:lnTo>
                  <a:lnTo>
                    <a:pt x="596" y="29"/>
                  </a:lnTo>
                  <a:lnTo>
                    <a:pt x="596" y="35"/>
                  </a:lnTo>
                  <a:lnTo>
                    <a:pt x="596" y="148"/>
                  </a:lnTo>
                  <a:lnTo>
                    <a:pt x="596" y="154"/>
                  </a:lnTo>
                  <a:lnTo>
                    <a:pt x="588" y="160"/>
                  </a:lnTo>
                  <a:lnTo>
                    <a:pt x="580" y="160"/>
                  </a:lnTo>
                  <a:lnTo>
                    <a:pt x="573" y="160"/>
                  </a:lnTo>
                  <a:lnTo>
                    <a:pt x="30" y="160"/>
                  </a:lnTo>
                  <a:lnTo>
                    <a:pt x="15" y="160"/>
                  </a:lnTo>
                  <a:lnTo>
                    <a:pt x="7" y="160"/>
                  </a:lnTo>
                  <a:lnTo>
                    <a:pt x="0" y="154"/>
                  </a:lnTo>
                  <a:lnTo>
                    <a:pt x="0" y="148"/>
                  </a:lnTo>
                  <a:lnTo>
                    <a:pt x="0" y="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2514600" y="7802640"/>
              <a:ext cx="211320" cy="39960"/>
            </a:xfrm>
            <a:custGeom>
              <a:avLst/>
              <a:gdLst/>
              <a:ahLst/>
              <a:rect l="0" t="0" r="r" b="b"/>
              <a:pathLst>
                <a:path fill="none" w="587" h="111">
                  <a:moveTo>
                    <a:pt x="0" y="23"/>
                  </a:moveTo>
                  <a:lnTo>
                    <a:pt x="0" y="23"/>
                  </a:lnTo>
                  <a:lnTo>
                    <a:pt x="0" y="17"/>
                  </a:lnTo>
                  <a:lnTo>
                    <a:pt x="7" y="11"/>
                  </a:lnTo>
                  <a:lnTo>
                    <a:pt x="15" y="11"/>
                  </a:lnTo>
                  <a:lnTo>
                    <a:pt x="30" y="11"/>
                  </a:lnTo>
                  <a:lnTo>
                    <a:pt x="30" y="5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69" y="0"/>
                  </a:lnTo>
                  <a:lnTo>
                    <a:pt x="100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69" y="11"/>
                  </a:lnTo>
                  <a:lnTo>
                    <a:pt x="223" y="11"/>
                  </a:lnTo>
                  <a:lnTo>
                    <a:pt x="223" y="0"/>
                  </a:lnTo>
                  <a:lnTo>
                    <a:pt x="231" y="0"/>
                  </a:lnTo>
                  <a:lnTo>
                    <a:pt x="239" y="0"/>
                  </a:lnTo>
                  <a:lnTo>
                    <a:pt x="262" y="0"/>
                  </a:lnTo>
                  <a:lnTo>
                    <a:pt x="294" y="0"/>
                  </a:lnTo>
                  <a:lnTo>
                    <a:pt x="317" y="0"/>
                  </a:lnTo>
                  <a:lnTo>
                    <a:pt x="340" y="0"/>
                  </a:lnTo>
                  <a:lnTo>
                    <a:pt x="348" y="0"/>
                  </a:lnTo>
                  <a:lnTo>
                    <a:pt x="355" y="0"/>
                  </a:lnTo>
                  <a:lnTo>
                    <a:pt x="363" y="11"/>
                  </a:lnTo>
                  <a:lnTo>
                    <a:pt x="410" y="11"/>
                  </a:lnTo>
                  <a:lnTo>
                    <a:pt x="417" y="5"/>
                  </a:lnTo>
                  <a:lnTo>
                    <a:pt x="417" y="0"/>
                  </a:lnTo>
                  <a:lnTo>
                    <a:pt x="425" y="0"/>
                  </a:lnTo>
                  <a:lnTo>
                    <a:pt x="456" y="0"/>
                  </a:lnTo>
                  <a:lnTo>
                    <a:pt x="479" y="0"/>
                  </a:lnTo>
                  <a:lnTo>
                    <a:pt x="510" y="0"/>
                  </a:lnTo>
                  <a:lnTo>
                    <a:pt x="533" y="0"/>
                  </a:lnTo>
                  <a:lnTo>
                    <a:pt x="541" y="0"/>
                  </a:lnTo>
                  <a:lnTo>
                    <a:pt x="548" y="0"/>
                  </a:lnTo>
                  <a:lnTo>
                    <a:pt x="556" y="11"/>
                  </a:lnTo>
                  <a:lnTo>
                    <a:pt x="572" y="11"/>
                  </a:lnTo>
                  <a:lnTo>
                    <a:pt x="579" y="11"/>
                  </a:lnTo>
                  <a:lnTo>
                    <a:pt x="587" y="17"/>
                  </a:lnTo>
                  <a:lnTo>
                    <a:pt x="587" y="23"/>
                  </a:lnTo>
                  <a:lnTo>
                    <a:pt x="587" y="99"/>
                  </a:lnTo>
                  <a:lnTo>
                    <a:pt x="587" y="105"/>
                  </a:lnTo>
                  <a:lnTo>
                    <a:pt x="579" y="105"/>
                  </a:lnTo>
                  <a:lnTo>
                    <a:pt x="572" y="111"/>
                  </a:lnTo>
                  <a:lnTo>
                    <a:pt x="15" y="111"/>
                  </a:lnTo>
                  <a:lnTo>
                    <a:pt x="7" y="111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3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2217600" y="7802640"/>
              <a:ext cx="279720" cy="38520"/>
            </a:xfrm>
            <a:custGeom>
              <a:avLst/>
              <a:gdLst/>
              <a:ahLst/>
              <a:rect l="0" t="0" r="r" b="b"/>
              <a:pathLst>
                <a:path fill="none" w="777" h="107">
                  <a:moveTo>
                    <a:pt x="0" y="23"/>
                  </a:moveTo>
                  <a:lnTo>
                    <a:pt x="0" y="96"/>
                  </a:lnTo>
                  <a:lnTo>
                    <a:pt x="0" y="101"/>
                  </a:lnTo>
                  <a:lnTo>
                    <a:pt x="7" y="107"/>
                  </a:lnTo>
                  <a:lnTo>
                    <a:pt x="15" y="107"/>
                  </a:lnTo>
                  <a:lnTo>
                    <a:pt x="23" y="107"/>
                  </a:lnTo>
                  <a:lnTo>
                    <a:pt x="753" y="107"/>
                  </a:lnTo>
                  <a:lnTo>
                    <a:pt x="761" y="107"/>
                  </a:lnTo>
                  <a:lnTo>
                    <a:pt x="769" y="107"/>
                  </a:lnTo>
                  <a:lnTo>
                    <a:pt x="777" y="101"/>
                  </a:lnTo>
                  <a:lnTo>
                    <a:pt x="777" y="96"/>
                  </a:lnTo>
                  <a:lnTo>
                    <a:pt x="777" y="23"/>
                  </a:lnTo>
                  <a:lnTo>
                    <a:pt x="777" y="17"/>
                  </a:lnTo>
                  <a:lnTo>
                    <a:pt x="769" y="11"/>
                  </a:lnTo>
                  <a:lnTo>
                    <a:pt x="761" y="11"/>
                  </a:lnTo>
                  <a:lnTo>
                    <a:pt x="753" y="11"/>
                  </a:lnTo>
                  <a:lnTo>
                    <a:pt x="738" y="11"/>
                  </a:lnTo>
                  <a:lnTo>
                    <a:pt x="730" y="0"/>
                  </a:lnTo>
                  <a:lnTo>
                    <a:pt x="722" y="0"/>
                  </a:lnTo>
                  <a:lnTo>
                    <a:pt x="691" y="0"/>
                  </a:lnTo>
                  <a:lnTo>
                    <a:pt x="668" y="0"/>
                  </a:lnTo>
                  <a:lnTo>
                    <a:pt x="645" y="0"/>
                  </a:lnTo>
                  <a:lnTo>
                    <a:pt x="621" y="0"/>
                  </a:lnTo>
                  <a:lnTo>
                    <a:pt x="614" y="0"/>
                  </a:lnTo>
                  <a:lnTo>
                    <a:pt x="606" y="0"/>
                  </a:lnTo>
                  <a:lnTo>
                    <a:pt x="598" y="11"/>
                  </a:lnTo>
                  <a:lnTo>
                    <a:pt x="552" y="11"/>
                  </a:lnTo>
                  <a:lnTo>
                    <a:pt x="544" y="0"/>
                  </a:lnTo>
                  <a:lnTo>
                    <a:pt x="536" y="0"/>
                  </a:lnTo>
                  <a:lnTo>
                    <a:pt x="528" y="0"/>
                  </a:lnTo>
                  <a:lnTo>
                    <a:pt x="497" y="0"/>
                  </a:lnTo>
                  <a:lnTo>
                    <a:pt x="474" y="0"/>
                  </a:lnTo>
                  <a:lnTo>
                    <a:pt x="451" y="0"/>
                  </a:lnTo>
                  <a:lnTo>
                    <a:pt x="427" y="0"/>
                  </a:lnTo>
                  <a:lnTo>
                    <a:pt x="420" y="0"/>
                  </a:lnTo>
                  <a:lnTo>
                    <a:pt x="412" y="5"/>
                  </a:lnTo>
                  <a:lnTo>
                    <a:pt x="412" y="11"/>
                  </a:lnTo>
                  <a:lnTo>
                    <a:pt x="357" y="11"/>
                  </a:lnTo>
                  <a:lnTo>
                    <a:pt x="349" y="5"/>
                  </a:lnTo>
                  <a:lnTo>
                    <a:pt x="349" y="0"/>
                  </a:lnTo>
                  <a:lnTo>
                    <a:pt x="341" y="0"/>
                  </a:lnTo>
                  <a:lnTo>
                    <a:pt x="333" y="0"/>
                  </a:lnTo>
                  <a:lnTo>
                    <a:pt x="310" y="0"/>
                  </a:lnTo>
                  <a:lnTo>
                    <a:pt x="287" y="0"/>
                  </a:lnTo>
                  <a:lnTo>
                    <a:pt x="263" y="0"/>
                  </a:lnTo>
                  <a:lnTo>
                    <a:pt x="240" y="0"/>
                  </a:lnTo>
                  <a:lnTo>
                    <a:pt x="232" y="0"/>
                  </a:lnTo>
                  <a:lnTo>
                    <a:pt x="225" y="0"/>
                  </a:lnTo>
                  <a:lnTo>
                    <a:pt x="217" y="11"/>
                  </a:lnTo>
                  <a:lnTo>
                    <a:pt x="162" y="11"/>
                  </a:lnTo>
                  <a:lnTo>
                    <a:pt x="162" y="0"/>
                  </a:lnTo>
                  <a:lnTo>
                    <a:pt x="155" y="0"/>
                  </a:lnTo>
                  <a:lnTo>
                    <a:pt x="147" y="0"/>
                  </a:lnTo>
                  <a:lnTo>
                    <a:pt x="139" y="0"/>
                  </a:lnTo>
                  <a:lnTo>
                    <a:pt x="116" y="0"/>
                  </a:lnTo>
                  <a:lnTo>
                    <a:pt x="93" y="0"/>
                  </a:lnTo>
                  <a:lnTo>
                    <a:pt x="69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1" y="11"/>
                  </a:lnTo>
                  <a:lnTo>
                    <a:pt x="15" y="11"/>
                  </a:lnTo>
                  <a:lnTo>
                    <a:pt x="7" y="11"/>
                  </a:ln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911240" y="7802640"/>
              <a:ext cx="282960" cy="38520"/>
            </a:xfrm>
            <a:custGeom>
              <a:avLst/>
              <a:gdLst/>
              <a:ahLst/>
              <a:rect l="0" t="0" r="r" b="b"/>
              <a:pathLst>
                <a:path fill="none" w="786" h="107">
                  <a:moveTo>
                    <a:pt x="0" y="23"/>
                  </a:moveTo>
                  <a:lnTo>
                    <a:pt x="0" y="96"/>
                  </a:lnTo>
                  <a:lnTo>
                    <a:pt x="7" y="101"/>
                  </a:lnTo>
                  <a:lnTo>
                    <a:pt x="7" y="107"/>
                  </a:lnTo>
                  <a:lnTo>
                    <a:pt x="15" y="107"/>
                  </a:lnTo>
                  <a:lnTo>
                    <a:pt x="30" y="107"/>
                  </a:lnTo>
                  <a:lnTo>
                    <a:pt x="763" y="107"/>
                  </a:lnTo>
                  <a:lnTo>
                    <a:pt x="771" y="107"/>
                  </a:lnTo>
                  <a:lnTo>
                    <a:pt x="779" y="107"/>
                  </a:lnTo>
                  <a:lnTo>
                    <a:pt x="786" y="101"/>
                  </a:lnTo>
                  <a:lnTo>
                    <a:pt x="786" y="96"/>
                  </a:lnTo>
                  <a:lnTo>
                    <a:pt x="786" y="23"/>
                  </a:lnTo>
                  <a:lnTo>
                    <a:pt x="786" y="17"/>
                  </a:lnTo>
                  <a:lnTo>
                    <a:pt x="779" y="11"/>
                  </a:lnTo>
                  <a:lnTo>
                    <a:pt x="771" y="11"/>
                  </a:lnTo>
                  <a:lnTo>
                    <a:pt x="763" y="11"/>
                  </a:lnTo>
                  <a:lnTo>
                    <a:pt x="748" y="11"/>
                  </a:lnTo>
                  <a:lnTo>
                    <a:pt x="740" y="0"/>
                  </a:lnTo>
                  <a:lnTo>
                    <a:pt x="733" y="0"/>
                  </a:lnTo>
                  <a:lnTo>
                    <a:pt x="725" y="0"/>
                  </a:lnTo>
                  <a:lnTo>
                    <a:pt x="702" y="0"/>
                  </a:lnTo>
                  <a:lnTo>
                    <a:pt x="679" y="0"/>
                  </a:lnTo>
                  <a:lnTo>
                    <a:pt x="656" y="0"/>
                  </a:lnTo>
                  <a:lnTo>
                    <a:pt x="633" y="0"/>
                  </a:lnTo>
                  <a:lnTo>
                    <a:pt x="625" y="0"/>
                  </a:lnTo>
                  <a:lnTo>
                    <a:pt x="617" y="0"/>
                  </a:lnTo>
                  <a:lnTo>
                    <a:pt x="609" y="11"/>
                  </a:lnTo>
                  <a:lnTo>
                    <a:pt x="555" y="11"/>
                  </a:lnTo>
                  <a:lnTo>
                    <a:pt x="555" y="0"/>
                  </a:lnTo>
                  <a:lnTo>
                    <a:pt x="547" y="0"/>
                  </a:lnTo>
                  <a:lnTo>
                    <a:pt x="539" y="0"/>
                  </a:lnTo>
                  <a:lnTo>
                    <a:pt x="531" y="0"/>
                  </a:lnTo>
                  <a:lnTo>
                    <a:pt x="508" y="0"/>
                  </a:lnTo>
                  <a:lnTo>
                    <a:pt x="485" y="0"/>
                  </a:lnTo>
                  <a:lnTo>
                    <a:pt x="462" y="0"/>
                  </a:lnTo>
                  <a:lnTo>
                    <a:pt x="439" y="0"/>
                  </a:lnTo>
                  <a:lnTo>
                    <a:pt x="431" y="0"/>
                  </a:lnTo>
                  <a:lnTo>
                    <a:pt x="424" y="0"/>
                  </a:lnTo>
                  <a:lnTo>
                    <a:pt x="424" y="5"/>
                  </a:lnTo>
                  <a:lnTo>
                    <a:pt x="416" y="11"/>
                  </a:lnTo>
                  <a:lnTo>
                    <a:pt x="362" y="11"/>
                  </a:lnTo>
                  <a:lnTo>
                    <a:pt x="362" y="5"/>
                  </a:lnTo>
                  <a:lnTo>
                    <a:pt x="362" y="0"/>
                  </a:lnTo>
                  <a:lnTo>
                    <a:pt x="354" y="0"/>
                  </a:lnTo>
                  <a:lnTo>
                    <a:pt x="347" y="0"/>
                  </a:lnTo>
                  <a:lnTo>
                    <a:pt x="324" y="0"/>
                  </a:lnTo>
                  <a:lnTo>
                    <a:pt x="301" y="0"/>
                  </a:lnTo>
                  <a:lnTo>
                    <a:pt x="270" y="0"/>
                  </a:lnTo>
                  <a:lnTo>
                    <a:pt x="247" y="0"/>
                  </a:lnTo>
                  <a:lnTo>
                    <a:pt x="239" y="0"/>
                  </a:lnTo>
                  <a:lnTo>
                    <a:pt x="231" y="0"/>
                  </a:lnTo>
                  <a:lnTo>
                    <a:pt x="231" y="11"/>
                  </a:lnTo>
                  <a:lnTo>
                    <a:pt x="176" y="11"/>
                  </a:lnTo>
                  <a:lnTo>
                    <a:pt x="169" y="0"/>
                  </a:lnTo>
                  <a:lnTo>
                    <a:pt x="161" y="0"/>
                  </a:lnTo>
                  <a:lnTo>
                    <a:pt x="153" y="0"/>
                  </a:lnTo>
                  <a:lnTo>
                    <a:pt x="130" y="0"/>
                  </a:lnTo>
                  <a:lnTo>
                    <a:pt x="107" y="0"/>
                  </a:lnTo>
                  <a:lnTo>
                    <a:pt x="84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6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23" y="11"/>
                  </a:lnTo>
                  <a:lnTo>
                    <a:pt x="15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608120" y="7802640"/>
              <a:ext cx="278280" cy="38520"/>
            </a:xfrm>
            <a:custGeom>
              <a:avLst/>
              <a:gdLst/>
              <a:ahLst/>
              <a:rect l="0" t="0" r="r" b="b"/>
              <a:pathLst>
                <a:path fill="none" w="773" h="107">
                  <a:moveTo>
                    <a:pt x="0" y="23"/>
                  </a:moveTo>
                  <a:lnTo>
                    <a:pt x="0" y="96"/>
                  </a:lnTo>
                  <a:lnTo>
                    <a:pt x="7" y="101"/>
                  </a:lnTo>
                  <a:lnTo>
                    <a:pt x="7" y="107"/>
                  </a:lnTo>
                  <a:lnTo>
                    <a:pt x="22" y="107"/>
                  </a:lnTo>
                  <a:lnTo>
                    <a:pt x="30" y="107"/>
                  </a:lnTo>
                  <a:lnTo>
                    <a:pt x="750" y="107"/>
                  </a:lnTo>
                  <a:lnTo>
                    <a:pt x="766" y="107"/>
                  </a:lnTo>
                  <a:lnTo>
                    <a:pt x="773" y="107"/>
                  </a:lnTo>
                  <a:lnTo>
                    <a:pt x="773" y="101"/>
                  </a:lnTo>
                  <a:lnTo>
                    <a:pt x="773" y="96"/>
                  </a:lnTo>
                  <a:lnTo>
                    <a:pt x="773" y="23"/>
                  </a:lnTo>
                  <a:lnTo>
                    <a:pt x="773" y="17"/>
                  </a:lnTo>
                  <a:lnTo>
                    <a:pt x="773" y="11"/>
                  </a:lnTo>
                  <a:lnTo>
                    <a:pt x="766" y="11"/>
                  </a:lnTo>
                  <a:lnTo>
                    <a:pt x="750" y="11"/>
                  </a:lnTo>
                  <a:lnTo>
                    <a:pt x="735" y="11"/>
                  </a:lnTo>
                  <a:lnTo>
                    <a:pt x="735" y="0"/>
                  </a:lnTo>
                  <a:lnTo>
                    <a:pt x="727" y="0"/>
                  </a:lnTo>
                  <a:lnTo>
                    <a:pt x="720" y="0"/>
                  </a:lnTo>
                  <a:lnTo>
                    <a:pt x="689" y="0"/>
                  </a:lnTo>
                  <a:lnTo>
                    <a:pt x="666" y="0"/>
                  </a:lnTo>
                  <a:lnTo>
                    <a:pt x="643" y="0"/>
                  </a:lnTo>
                  <a:lnTo>
                    <a:pt x="620" y="0"/>
                  </a:lnTo>
                  <a:lnTo>
                    <a:pt x="613" y="0"/>
                  </a:lnTo>
                  <a:lnTo>
                    <a:pt x="605" y="11"/>
                  </a:lnTo>
                  <a:lnTo>
                    <a:pt x="551" y="11"/>
                  </a:lnTo>
                  <a:lnTo>
                    <a:pt x="551" y="0"/>
                  </a:lnTo>
                  <a:lnTo>
                    <a:pt x="543" y="0"/>
                  </a:lnTo>
                  <a:lnTo>
                    <a:pt x="535" y="0"/>
                  </a:lnTo>
                  <a:lnTo>
                    <a:pt x="528" y="0"/>
                  </a:lnTo>
                  <a:lnTo>
                    <a:pt x="505" y="0"/>
                  </a:lnTo>
                  <a:lnTo>
                    <a:pt x="482" y="0"/>
                  </a:lnTo>
                  <a:lnTo>
                    <a:pt x="459" y="0"/>
                  </a:lnTo>
                  <a:lnTo>
                    <a:pt x="436" y="0"/>
                  </a:lnTo>
                  <a:lnTo>
                    <a:pt x="428" y="0"/>
                  </a:lnTo>
                  <a:lnTo>
                    <a:pt x="421" y="0"/>
                  </a:lnTo>
                  <a:lnTo>
                    <a:pt x="421" y="5"/>
                  </a:lnTo>
                  <a:lnTo>
                    <a:pt x="413" y="11"/>
                  </a:lnTo>
                  <a:lnTo>
                    <a:pt x="360" y="11"/>
                  </a:lnTo>
                  <a:lnTo>
                    <a:pt x="360" y="5"/>
                  </a:lnTo>
                  <a:lnTo>
                    <a:pt x="360" y="0"/>
                  </a:lnTo>
                  <a:lnTo>
                    <a:pt x="352" y="0"/>
                  </a:lnTo>
                  <a:lnTo>
                    <a:pt x="344" y="0"/>
                  </a:lnTo>
                  <a:lnTo>
                    <a:pt x="321" y="0"/>
                  </a:lnTo>
                  <a:lnTo>
                    <a:pt x="298" y="0"/>
                  </a:lnTo>
                  <a:lnTo>
                    <a:pt x="268" y="0"/>
                  </a:lnTo>
                  <a:lnTo>
                    <a:pt x="245" y="0"/>
                  </a:lnTo>
                  <a:lnTo>
                    <a:pt x="237" y="0"/>
                  </a:lnTo>
                  <a:lnTo>
                    <a:pt x="230" y="0"/>
                  </a:lnTo>
                  <a:lnTo>
                    <a:pt x="230" y="11"/>
                  </a:lnTo>
                  <a:lnTo>
                    <a:pt x="175" y="11"/>
                  </a:lnTo>
                  <a:lnTo>
                    <a:pt x="168" y="0"/>
                  </a:lnTo>
                  <a:lnTo>
                    <a:pt x="160" y="0"/>
                  </a:lnTo>
                  <a:lnTo>
                    <a:pt x="152" y="0"/>
                  </a:lnTo>
                  <a:lnTo>
                    <a:pt x="129" y="0"/>
                  </a:lnTo>
                  <a:lnTo>
                    <a:pt x="106" y="0"/>
                  </a:lnTo>
                  <a:lnTo>
                    <a:pt x="84" y="0"/>
                  </a:lnTo>
                  <a:lnTo>
                    <a:pt x="61" y="0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8" y="0"/>
                  </a:lnTo>
                  <a:lnTo>
                    <a:pt x="38" y="11"/>
                  </a:lnTo>
                  <a:lnTo>
                    <a:pt x="22" y="11"/>
                  </a:lnTo>
                  <a:lnTo>
                    <a:pt x="15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2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2600" bIns="-12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61960" y="7802640"/>
              <a:ext cx="81360" cy="39960"/>
            </a:xfrm>
            <a:custGeom>
              <a:avLst/>
              <a:gdLst/>
              <a:ahLst/>
              <a:rect l="0" t="0" r="r" b="b"/>
              <a:pathLst>
                <a:path fill="none" w="226" h="111">
                  <a:moveTo>
                    <a:pt x="0" y="93"/>
                  </a:moveTo>
                  <a:lnTo>
                    <a:pt x="0" y="29"/>
                  </a:lnTo>
                  <a:lnTo>
                    <a:pt x="0" y="23"/>
                  </a:lnTo>
                  <a:lnTo>
                    <a:pt x="7" y="17"/>
                  </a:lnTo>
                  <a:lnTo>
                    <a:pt x="15" y="11"/>
                  </a:lnTo>
                  <a:lnTo>
                    <a:pt x="23" y="11"/>
                  </a:lnTo>
                  <a:lnTo>
                    <a:pt x="38" y="11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63" y="0"/>
                  </a:lnTo>
                  <a:lnTo>
                    <a:pt x="86" y="0"/>
                  </a:lnTo>
                  <a:lnTo>
                    <a:pt x="109" y="0"/>
                  </a:lnTo>
                  <a:lnTo>
                    <a:pt x="132" y="0"/>
                  </a:lnTo>
                  <a:lnTo>
                    <a:pt x="156" y="0"/>
                  </a:lnTo>
                  <a:lnTo>
                    <a:pt x="163" y="0"/>
                  </a:lnTo>
                  <a:lnTo>
                    <a:pt x="172" y="0"/>
                  </a:lnTo>
                  <a:lnTo>
                    <a:pt x="180" y="5"/>
                  </a:lnTo>
                  <a:lnTo>
                    <a:pt x="188" y="11"/>
                  </a:lnTo>
                  <a:lnTo>
                    <a:pt x="203" y="11"/>
                  </a:lnTo>
                  <a:lnTo>
                    <a:pt x="211" y="17"/>
                  </a:lnTo>
                  <a:lnTo>
                    <a:pt x="219" y="17"/>
                  </a:lnTo>
                  <a:lnTo>
                    <a:pt x="226" y="23"/>
                  </a:lnTo>
                  <a:lnTo>
                    <a:pt x="226" y="29"/>
                  </a:lnTo>
                  <a:lnTo>
                    <a:pt x="226" y="93"/>
                  </a:lnTo>
                  <a:lnTo>
                    <a:pt x="226" y="99"/>
                  </a:lnTo>
                  <a:lnTo>
                    <a:pt x="219" y="105"/>
                  </a:lnTo>
                  <a:lnTo>
                    <a:pt x="211" y="111"/>
                  </a:lnTo>
                  <a:lnTo>
                    <a:pt x="195" y="111"/>
                  </a:lnTo>
                  <a:lnTo>
                    <a:pt x="23" y="111"/>
                  </a:lnTo>
                  <a:lnTo>
                    <a:pt x="15" y="111"/>
                  </a:lnTo>
                  <a:lnTo>
                    <a:pt x="7" y="105"/>
                  </a:lnTo>
                  <a:lnTo>
                    <a:pt x="0" y="99"/>
                  </a:lnTo>
                  <a:lnTo>
                    <a:pt x="0" y="93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11160" bIns="-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9080" y="7854840"/>
              <a:ext cx="1043280" cy="120960"/>
            </a:xfrm>
            <a:custGeom>
              <a:avLst/>
              <a:gdLst/>
              <a:ahLst/>
              <a:rect l="0" t="0" r="r" b="b"/>
              <a:pathLst>
                <a:path fill="none" w="2898" h="336">
                  <a:moveTo>
                    <a:pt x="0" y="41"/>
                  </a:moveTo>
                  <a:lnTo>
                    <a:pt x="0" y="41"/>
                  </a:lnTo>
                  <a:lnTo>
                    <a:pt x="0" y="35"/>
                  </a:lnTo>
                  <a:lnTo>
                    <a:pt x="7" y="29"/>
                  </a:lnTo>
                  <a:lnTo>
                    <a:pt x="15" y="29"/>
                  </a:lnTo>
                  <a:lnTo>
                    <a:pt x="23" y="29"/>
                  </a:lnTo>
                  <a:lnTo>
                    <a:pt x="46" y="29"/>
                  </a:lnTo>
                  <a:lnTo>
                    <a:pt x="61" y="5"/>
                  </a:lnTo>
                  <a:lnTo>
                    <a:pt x="69" y="5"/>
                  </a:lnTo>
                  <a:lnTo>
                    <a:pt x="100" y="5"/>
                  </a:lnTo>
                  <a:lnTo>
                    <a:pt x="123" y="5"/>
                  </a:lnTo>
                  <a:lnTo>
                    <a:pt x="146" y="5"/>
                  </a:lnTo>
                  <a:lnTo>
                    <a:pt x="177" y="5"/>
                  </a:lnTo>
                  <a:lnTo>
                    <a:pt x="184" y="5"/>
                  </a:lnTo>
                  <a:lnTo>
                    <a:pt x="200" y="29"/>
                  </a:lnTo>
                  <a:lnTo>
                    <a:pt x="238" y="29"/>
                  </a:lnTo>
                  <a:lnTo>
                    <a:pt x="246" y="5"/>
                  </a:lnTo>
                  <a:lnTo>
                    <a:pt x="254" y="5"/>
                  </a:lnTo>
                  <a:lnTo>
                    <a:pt x="261" y="5"/>
                  </a:lnTo>
                  <a:lnTo>
                    <a:pt x="285" y="5"/>
                  </a:lnTo>
                  <a:lnTo>
                    <a:pt x="315" y="5"/>
                  </a:lnTo>
                  <a:lnTo>
                    <a:pt x="339" y="5"/>
                  </a:lnTo>
                  <a:lnTo>
                    <a:pt x="362" y="5"/>
                  </a:lnTo>
                  <a:lnTo>
                    <a:pt x="369" y="5"/>
                  </a:lnTo>
                  <a:lnTo>
                    <a:pt x="377" y="5"/>
                  </a:lnTo>
                  <a:lnTo>
                    <a:pt x="385" y="29"/>
                  </a:lnTo>
                  <a:lnTo>
                    <a:pt x="431" y="29"/>
                  </a:lnTo>
                  <a:lnTo>
                    <a:pt x="439" y="5"/>
                  </a:lnTo>
                  <a:lnTo>
                    <a:pt x="446" y="5"/>
                  </a:lnTo>
                  <a:lnTo>
                    <a:pt x="454" y="5"/>
                  </a:lnTo>
                  <a:lnTo>
                    <a:pt x="477" y="5"/>
                  </a:lnTo>
                  <a:lnTo>
                    <a:pt x="508" y="5"/>
                  </a:lnTo>
                  <a:lnTo>
                    <a:pt x="531" y="5"/>
                  </a:lnTo>
                  <a:lnTo>
                    <a:pt x="554" y="5"/>
                  </a:lnTo>
                  <a:lnTo>
                    <a:pt x="562" y="5"/>
                  </a:lnTo>
                  <a:lnTo>
                    <a:pt x="570" y="5"/>
                  </a:lnTo>
                  <a:lnTo>
                    <a:pt x="577" y="29"/>
                  </a:lnTo>
                  <a:lnTo>
                    <a:pt x="624" y="29"/>
                  </a:lnTo>
                  <a:lnTo>
                    <a:pt x="631" y="5"/>
                  </a:lnTo>
                  <a:lnTo>
                    <a:pt x="631" y="0"/>
                  </a:lnTo>
                  <a:lnTo>
                    <a:pt x="639" y="0"/>
                  </a:lnTo>
                  <a:lnTo>
                    <a:pt x="639" y="5"/>
                  </a:lnTo>
                  <a:lnTo>
                    <a:pt x="670" y="5"/>
                  </a:lnTo>
                  <a:lnTo>
                    <a:pt x="693" y="5"/>
                  </a:lnTo>
                  <a:lnTo>
                    <a:pt x="716" y="5"/>
                  </a:lnTo>
                  <a:lnTo>
                    <a:pt x="747" y="5"/>
                  </a:lnTo>
                  <a:lnTo>
                    <a:pt x="755" y="5"/>
                  </a:lnTo>
                  <a:lnTo>
                    <a:pt x="770" y="29"/>
                  </a:lnTo>
                  <a:lnTo>
                    <a:pt x="809" y="29"/>
                  </a:lnTo>
                  <a:lnTo>
                    <a:pt x="816" y="5"/>
                  </a:lnTo>
                  <a:lnTo>
                    <a:pt x="824" y="5"/>
                  </a:lnTo>
                  <a:lnTo>
                    <a:pt x="824" y="0"/>
                  </a:lnTo>
                  <a:lnTo>
                    <a:pt x="832" y="0"/>
                  </a:lnTo>
                  <a:lnTo>
                    <a:pt x="832" y="5"/>
                  </a:lnTo>
                  <a:lnTo>
                    <a:pt x="862" y="5"/>
                  </a:lnTo>
                  <a:lnTo>
                    <a:pt x="886" y="5"/>
                  </a:lnTo>
                  <a:lnTo>
                    <a:pt x="909" y="5"/>
                  </a:lnTo>
                  <a:lnTo>
                    <a:pt x="940" y="5"/>
                  </a:lnTo>
                  <a:lnTo>
                    <a:pt x="947" y="5"/>
                  </a:lnTo>
                  <a:lnTo>
                    <a:pt x="963" y="29"/>
                  </a:lnTo>
                  <a:lnTo>
                    <a:pt x="1001" y="29"/>
                  </a:lnTo>
                  <a:lnTo>
                    <a:pt x="1009" y="5"/>
                  </a:lnTo>
                  <a:lnTo>
                    <a:pt x="1017" y="5"/>
                  </a:lnTo>
                  <a:lnTo>
                    <a:pt x="1024" y="5"/>
                  </a:lnTo>
                  <a:lnTo>
                    <a:pt x="1047" y="5"/>
                  </a:lnTo>
                  <a:lnTo>
                    <a:pt x="1071" y="5"/>
                  </a:lnTo>
                  <a:lnTo>
                    <a:pt x="1094" y="5"/>
                  </a:lnTo>
                  <a:lnTo>
                    <a:pt x="1124" y="5"/>
                  </a:lnTo>
                  <a:lnTo>
                    <a:pt x="1132" y="5"/>
                  </a:lnTo>
                  <a:lnTo>
                    <a:pt x="1148" y="29"/>
                  </a:lnTo>
                  <a:lnTo>
                    <a:pt x="1186" y="29"/>
                  </a:lnTo>
                  <a:lnTo>
                    <a:pt x="1202" y="5"/>
                  </a:lnTo>
                  <a:lnTo>
                    <a:pt x="1209" y="0"/>
                  </a:lnTo>
                  <a:lnTo>
                    <a:pt x="1240" y="5"/>
                  </a:lnTo>
                  <a:lnTo>
                    <a:pt x="1263" y="5"/>
                  </a:lnTo>
                  <a:lnTo>
                    <a:pt x="1286" y="5"/>
                  </a:lnTo>
                  <a:lnTo>
                    <a:pt x="1309" y="0"/>
                  </a:lnTo>
                  <a:lnTo>
                    <a:pt x="1317" y="0"/>
                  </a:lnTo>
                  <a:lnTo>
                    <a:pt x="1317" y="5"/>
                  </a:lnTo>
                  <a:lnTo>
                    <a:pt x="1325" y="5"/>
                  </a:lnTo>
                  <a:lnTo>
                    <a:pt x="1340" y="29"/>
                  </a:lnTo>
                  <a:lnTo>
                    <a:pt x="1379" y="29"/>
                  </a:lnTo>
                  <a:lnTo>
                    <a:pt x="1386" y="5"/>
                  </a:lnTo>
                  <a:lnTo>
                    <a:pt x="1394" y="5"/>
                  </a:lnTo>
                  <a:lnTo>
                    <a:pt x="1394" y="0"/>
                  </a:lnTo>
                  <a:lnTo>
                    <a:pt x="1402" y="0"/>
                  </a:lnTo>
                  <a:lnTo>
                    <a:pt x="1425" y="5"/>
                  </a:lnTo>
                  <a:lnTo>
                    <a:pt x="1457" y="5"/>
                  </a:lnTo>
                  <a:lnTo>
                    <a:pt x="1480" y="5"/>
                  </a:lnTo>
                  <a:lnTo>
                    <a:pt x="1503" y="0"/>
                  </a:lnTo>
                  <a:lnTo>
                    <a:pt x="1511" y="0"/>
                  </a:lnTo>
                  <a:lnTo>
                    <a:pt x="1511" y="5"/>
                  </a:lnTo>
                  <a:lnTo>
                    <a:pt x="1518" y="5"/>
                  </a:lnTo>
                  <a:lnTo>
                    <a:pt x="1526" y="29"/>
                  </a:lnTo>
                  <a:lnTo>
                    <a:pt x="1572" y="29"/>
                  </a:lnTo>
                  <a:lnTo>
                    <a:pt x="1580" y="5"/>
                  </a:lnTo>
                  <a:lnTo>
                    <a:pt x="1588" y="5"/>
                  </a:lnTo>
                  <a:lnTo>
                    <a:pt x="1619" y="5"/>
                  </a:lnTo>
                  <a:lnTo>
                    <a:pt x="1642" y="5"/>
                  </a:lnTo>
                  <a:lnTo>
                    <a:pt x="1673" y="5"/>
                  </a:lnTo>
                  <a:lnTo>
                    <a:pt x="1696" y="5"/>
                  </a:lnTo>
                  <a:lnTo>
                    <a:pt x="1703" y="5"/>
                  </a:lnTo>
                  <a:lnTo>
                    <a:pt x="1711" y="5"/>
                  </a:lnTo>
                  <a:lnTo>
                    <a:pt x="1719" y="29"/>
                  </a:lnTo>
                  <a:lnTo>
                    <a:pt x="1757" y="29"/>
                  </a:lnTo>
                  <a:lnTo>
                    <a:pt x="1773" y="5"/>
                  </a:lnTo>
                  <a:lnTo>
                    <a:pt x="1780" y="5"/>
                  </a:lnTo>
                  <a:lnTo>
                    <a:pt x="1811" y="5"/>
                  </a:lnTo>
                  <a:lnTo>
                    <a:pt x="1834" y="5"/>
                  </a:lnTo>
                  <a:lnTo>
                    <a:pt x="1857" y="5"/>
                  </a:lnTo>
                  <a:lnTo>
                    <a:pt x="1888" y="5"/>
                  </a:lnTo>
                  <a:lnTo>
                    <a:pt x="1896" y="5"/>
                  </a:lnTo>
                  <a:lnTo>
                    <a:pt x="1904" y="5"/>
                  </a:lnTo>
                  <a:lnTo>
                    <a:pt x="1911" y="29"/>
                  </a:lnTo>
                  <a:lnTo>
                    <a:pt x="1950" y="29"/>
                  </a:lnTo>
                  <a:lnTo>
                    <a:pt x="1965" y="5"/>
                  </a:lnTo>
                  <a:lnTo>
                    <a:pt x="1973" y="5"/>
                  </a:lnTo>
                  <a:lnTo>
                    <a:pt x="1996" y="5"/>
                  </a:lnTo>
                  <a:lnTo>
                    <a:pt x="2027" y="5"/>
                  </a:lnTo>
                  <a:lnTo>
                    <a:pt x="2050" y="5"/>
                  </a:lnTo>
                  <a:lnTo>
                    <a:pt x="2081" y="5"/>
                  </a:lnTo>
                  <a:lnTo>
                    <a:pt x="2089" y="5"/>
                  </a:lnTo>
                  <a:lnTo>
                    <a:pt x="2104" y="29"/>
                  </a:lnTo>
                  <a:lnTo>
                    <a:pt x="2143" y="29"/>
                  </a:lnTo>
                  <a:lnTo>
                    <a:pt x="2150" y="5"/>
                  </a:lnTo>
                  <a:lnTo>
                    <a:pt x="2158" y="5"/>
                  </a:lnTo>
                  <a:lnTo>
                    <a:pt x="2189" y="5"/>
                  </a:lnTo>
                  <a:lnTo>
                    <a:pt x="2212" y="5"/>
                  </a:lnTo>
                  <a:lnTo>
                    <a:pt x="2243" y="5"/>
                  </a:lnTo>
                  <a:lnTo>
                    <a:pt x="2266" y="5"/>
                  </a:lnTo>
                  <a:lnTo>
                    <a:pt x="2274" y="5"/>
                  </a:lnTo>
                  <a:lnTo>
                    <a:pt x="2289" y="29"/>
                  </a:lnTo>
                  <a:lnTo>
                    <a:pt x="2327" y="29"/>
                  </a:lnTo>
                  <a:lnTo>
                    <a:pt x="2335" y="5"/>
                  </a:lnTo>
                  <a:lnTo>
                    <a:pt x="2343" y="5"/>
                  </a:lnTo>
                  <a:lnTo>
                    <a:pt x="2351" y="5"/>
                  </a:lnTo>
                  <a:lnTo>
                    <a:pt x="2374" y="5"/>
                  </a:lnTo>
                  <a:lnTo>
                    <a:pt x="2405" y="5"/>
                  </a:lnTo>
                  <a:lnTo>
                    <a:pt x="2428" y="5"/>
                  </a:lnTo>
                  <a:lnTo>
                    <a:pt x="2451" y="5"/>
                  </a:lnTo>
                  <a:lnTo>
                    <a:pt x="2458" y="5"/>
                  </a:lnTo>
                  <a:lnTo>
                    <a:pt x="2466" y="5"/>
                  </a:lnTo>
                  <a:lnTo>
                    <a:pt x="2474" y="29"/>
                  </a:lnTo>
                  <a:lnTo>
                    <a:pt x="2505" y="29"/>
                  </a:lnTo>
                  <a:lnTo>
                    <a:pt x="2512" y="5"/>
                  </a:lnTo>
                  <a:lnTo>
                    <a:pt x="2520" y="0"/>
                  </a:lnTo>
                  <a:lnTo>
                    <a:pt x="2566" y="5"/>
                  </a:lnTo>
                  <a:lnTo>
                    <a:pt x="2605" y="5"/>
                  </a:lnTo>
                  <a:lnTo>
                    <a:pt x="2643" y="5"/>
                  </a:lnTo>
                  <a:lnTo>
                    <a:pt x="2682" y="5"/>
                  </a:lnTo>
                  <a:lnTo>
                    <a:pt x="2728" y="5"/>
                  </a:lnTo>
                  <a:lnTo>
                    <a:pt x="2767" y="5"/>
                  </a:lnTo>
                  <a:lnTo>
                    <a:pt x="2805" y="5"/>
                  </a:lnTo>
                  <a:lnTo>
                    <a:pt x="2844" y="0"/>
                  </a:lnTo>
                  <a:lnTo>
                    <a:pt x="2851" y="5"/>
                  </a:lnTo>
                  <a:lnTo>
                    <a:pt x="2859" y="29"/>
                  </a:lnTo>
                  <a:lnTo>
                    <a:pt x="2875" y="29"/>
                  </a:lnTo>
                  <a:lnTo>
                    <a:pt x="2882" y="29"/>
                  </a:lnTo>
                  <a:lnTo>
                    <a:pt x="2890" y="35"/>
                  </a:lnTo>
                  <a:lnTo>
                    <a:pt x="2898" y="41"/>
                  </a:lnTo>
                  <a:lnTo>
                    <a:pt x="2898" y="318"/>
                  </a:lnTo>
                  <a:lnTo>
                    <a:pt x="2890" y="330"/>
                  </a:lnTo>
                  <a:lnTo>
                    <a:pt x="2882" y="336"/>
                  </a:lnTo>
                  <a:lnTo>
                    <a:pt x="2875" y="336"/>
                  </a:lnTo>
                  <a:lnTo>
                    <a:pt x="2859" y="336"/>
                  </a:lnTo>
                  <a:lnTo>
                    <a:pt x="2566" y="336"/>
                  </a:lnTo>
                  <a:lnTo>
                    <a:pt x="2566" y="283"/>
                  </a:lnTo>
                  <a:lnTo>
                    <a:pt x="2435" y="283"/>
                  </a:lnTo>
                  <a:lnTo>
                    <a:pt x="2435" y="336"/>
                  </a:lnTo>
                  <a:lnTo>
                    <a:pt x="531" y="336"/>
                  </a:lnTo>
                  <a:lnTo>
                    <a:pt x="531" y="283"/>
                  </a:lnTo>
                  <a:lnTo>
                    <a:pt x="323" y="283"/>
                  </a:lnTo>
                  <a:lnTo>
                    <a:pt x="323" y="336"/>
                  </a:lnTo>
                  <a:lnTo>
                    <a:pt x="30" y="336"/>
                  </a:lnTo>
                  <a:lnTo>
                    <a:pt x="15" y="336"/>
                  </a:lnTo>
                  <a:lnTo>
                    <a:pt x="7" y="336"/>
                  </a:lnTo>
                  <a:lnTo>
                    <a:pt x="0" y="330"/>
                  </a:lnTo>
                  <a:lnTo>
                    <a:pt x="0" y="324"/>
                  </a:lnTo>
                  <a:lnTo>
                    <a:pt x="0" y="41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609560" y="7805880"/>
              <a:ext cx="867240" cy="19440"/>
            </a:xfrm>
            <a:custGeom>
              <a:avLst/>
              <a:gdLst/>
              <a:ahLst/>
              <a:rect l="0" t="0" r="r" b="b"/>
              <a:pathLst>
                <a:path w="2409" h="54">
                  <a:moveTo>
                    <a:pt x="30" y="0"/>
                  </a:moveTo>
                  <a:lnTo>
                    <a:pt x="0" y="54"/>
                  </a:lnTo>
                  <a:lnTo>
                    <a:pt x="196" y="54"/>
                  </a:lnTo>
                  <a:lnTo>
                    <a:pt x="166" y="0"/>
                  </a:lnTo>
                  <a:lnTo>
                    <a:pt x="30" y="0"/>
                  </a:lnTo>
                  <a:lnTo>
                    <a:pt x="211" y="0"/>
                  </a:lnTo>
                  <a:lnTo>
                    <a:pt x="181" y="54"/>
                  </a:lnTo>
                  <a:lnTo>
                    <a:pt x="384" y="54"/>
                  </a:lnTo>
                  <a:lnTo>
                    <a:pt x="354" y="0"/>
                  </a:lnTo>
                  <a:lnTo>
                    <a:pt x="211" y="0"/>
                  </a:lnTo>
                  <a:lnTo>
                    <a:pt x="400" y="0"/>
                  </a:lnTo>
                  <a:lnTo>
                    <a:pt x="369" y="54"/>
                  </a:lnTo>
                  <a:lnTo>
                    <a:pt x="573" y="54"/>
                  </a:lnTo>
                  <a:lnTo>
                    <a:pt x="543" y="0"/>
                  </a:lnTo>
                  <a:lnTo>
                    <a:pt x="400" y="0"/>
                  </a:lnTo>
                  <a:lnTo>
                    <a:pt x="588" y="0"/>
                  </a:lnTo>
                  <a:lnTo>
                    <a:pt x="558" y="54"/>
                  </a:lnTo>
                  <a:lnTo>
                    <a:pt x="755" y="54"/>
                  </a:lnTo>
                  <a:lnTo>
                    <a:pt x="725" y="0"/>
                  </a:lnTo>
                  <a:lnTo>
                    <a:pt x="588" y="0"/>
                  </a:lnTo>
                  <a:lnTo>
                    <a:pt x="1691" y="0"/>
                  </a:lnTo>
                  <a:lnTo>
                    <a:pt x="1661" y="54"/>
                  </a:lnTo>
                  <a:lnTo>
                    <a:pt x="1858" y="54"/>
                  </a:lnTo>
                  <a:lnTo>
                    <a:pt x="1828" y="0"/>
                  </a:lnTo>
                  <a:lnTo>
                    <a:pt x="1691" y="0"/>
                  </a:lnTo>
                  <a:lnTo>
                    <a:pt x="1873" y="0"/>
                  </a:lnTo>
                  <a:lnTo>
                    <a:pt x="1843" y="54"/>
                  </a:lnTo>
                  <a:lnTo>
                    <a:pt x="2039" y="54"/>
                  </a:lnTo>
                  <a:lnTo>
                    <a:pt x="2009" y="0"/>
                  </a:lnTo>
                  <a:lnTo>
                    <a:pt x="1873" y="0"/>
                  </a:lnTo>
                  <a:lnTo>
                    <a:pt x="2054" y="0"/>
                  </a:lnTo>
                  <a:lnTo>
                    <a:pt x="2024" y="54"/>
                  </a:lnTo>
                  <a:lnTo>
                    <a:pt x="2228" y="54"/>
                  </a:lnTo>
                  <a:lnTo>
                    <a:pt x="2198" y="0"/>
                  </a:lnTo>
                  <a:lnTo>
                    <a:pt x="2054" y="0"/>
                  </a:lnTo>
                  <a:lnTo>
                    <a:pt x="2243" y="0"/>
                  </a:lnTo>
                  <a:lnTo>
                    <a:pt x="2213" y="54"/>
                  </a:lnTo>
                  <a:lnTo>
                    <a:pt x="2409" y="54"/>
                  </a:lnTo>
                  <a:lnTo>
                    <a:pt x="2379" y="0"/>
                  </a:lnTo>
                  <a:lnTo>
                    <a:pt x="2243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468440" y="7866000"/>
              <a:ext cx="875160" cy="16200"/>
            </a:xfrm>
            <a:custGeom>
              <a:avLst/>
              <a:gdLst/>
              <a:ahLst/>
              <a:rect l="0" t="0" r="r" b="b"/>
              <a:pathLst>
                <a:path w="2431" h="45">
                  <a:moveTo>
                    <a:pt x="2258" y="0"/>
                  </a:moveTo>
                  <a:lnTo>
                    <a:pt x="2235" y="45"/>
                  </a:lnTo>
                  <a:lnTo>
                    <a:pt x="2431" y="45"/>
                  </a:lnTo>
                  <a:lnTo>
                    <a:pt x="2401" y="0"/>
                  </a:lnTo>
                  <a:lnTo>
                    <a:pt x="2258" y="0"/>
                  </a:lnTo>
                  <a:lnTo>
                    <a:pt x="1517" y="0"/>
                  </a:lnTo>
                  <a:lnTo>
                    <a:pt x="1487" y="45"/>
                  </a:lnTo>
                  <a:lnTo>
                    <a:pt x="1691" y="45"/>
                  </a:lnTo>
                  <a:lnTo>
                    <a:pt x="1661" y="0"/>
                  </a:lnTo>
                  <a:lnTo>
                    <a:pt x="1517" y="0"/>
                  </a:lnTo>
                  <a:lnTo>
                    <a:pt x="1706" y="0"/>
                  </a:lnTo>
                  <a:lnTo>
                    <a:pt x="1676" y="45"/>
                  </a:lnTo>
                  <a:lnTo>
                    <a:pt x="1873" y="45"/>
                  </a:lnTo>
                  <a:lnTo>
                    <a:pt x="1843" y="0"/>
                  </a:lnTo>
                  <a:lnTo>
                    <a:pt x="1706" y="0"/>
                  </a:lnTo>
                  <a:lnTo>
                    <a:pt x="1896" y="0"/>
                  </a:lnTo>
                  <a:lnTo>
                    <a:pt x="1865" y="45"/>
                  </a:lnTo>
                  <a:lnTo>
                    <a:pt x="2062" y="45"/>
                  </a:lnTo>
                  <a:lnTo>
                    <a:pt x="2031" y="0"/>
                  </a:lnTo>
                  <a:lnTo>
                    <a:pt x="1896" y="0"/>
                  </a:lnTo>
                  <a:lnTo>
                    <a:pt x="2077" y="0"/>
                  </a:lnTo>
                  <a:lnTo>
                    <a:pt x="2054" y="45"/>
                  </a:lnTo>
                  <a:lnTo>
                    <a:pt x="2250" y="45"/>
                  </a:lnTo>
                  <a:lnTo>
                    <a:pt x="2212" y="0"/>
                  </a:lnTo>
                  <a:lnTo>
                    <a:pt x="2077" y="0"/>
                  </a:lnTo>
                  <a:lnTo>
                    <a:pt x="778" y="0"/>
                  </a:lnTo>
                  <a:lnTo>
                    <a:pt x="748" y="45"/>
                  </a:lnTo>
                  <a:lnTo>
                    <a:pt x="944" y="45"/>
                  </a:lnTo>
                  <a:lnTo>
                    <a:pt x="914" y="0"/>
                  </a:lnTo>
                  <a:lnTo>
                    <a:pt x="778" y="0"/>
                  </a:lnTo>
                  <a:lnTo>
                    <a:pt x="959" y="0"/>
                  </a:lnTo>
                  <a:lnTo>
                    <a:pt x="929" y="45"/>
                  </a:lnTo>
                  <a:lnTo>
                    <a:pt x="1125" y="45"/>
                  </a:lnTo>
                  <a:lnTo>
                    <a:pt x="1095" y="0"/>
                  </a:lnTo>
                  <a:lnTo>
                    <a:pt x="959" y="0"/>
                  </a:lnTo>
                  <a:lnTo>
                    <a:pt x="1140" y="0"/>
                  </a:lnTo>
                  <a:lnTo>
                    <a:pt x="1117" y="45"/>
                  </a:lnTo>
                  <a:lnTo>
                    <a:pt x="1313" y="45"/>
                  </a:lnTo>
                  <a:lnTo>
                    <a:pt x="1283" y="0"/>
                  </a:lnTo>
                  <a:lnTo>
                    <a:pt x="1140" y="0"/>
                  </a:lnTo>
                  <a:lnTo>
                    <a:pt x="1329" y="0"/>
                  </a:lnTo>
                  <a:lnTo>
                    <a:pt x="1306" y="45"/>
                  </a:lnTo>
                  <a:lnTo>
                    <a:pt x="1502" y="45"/>
                  </a:lnTo>
                  <a:lnTo>
                    <a:pt x="1472" y="0"/>
                  </a:lnTo>
                  <a:lnTo>
                    <a:pt x="1329" y="0"/>
                  </a:lnTo>
                  <a:lnTo>
                    <a:pt x="30" y="0"/>
                  </a:lnTo>
                  <a:lnTo>
                    <a:pt x="0" y="45"/>
                  </a:lnTo>
                  <a:lnTo>
                    <a:pt x="203" y="45"/>
                  </a:lnTo>
                  <a:lnTo>
                    <a:pt x="173" y="0"/>
                  </a:lnTo>
                  <a:lnTo>
                    <a:pt x="30" y="0"/>
                  </a:lnTo>
                  <a:lnTo>
                    <a:pt x="218" y="0"/>
                  </a:lnTo>
                  <a:lnTo>
                    <a:pt x="188" y="45"/>
                  </a:lnTo>
                  <a:lnTo>
                    <a:pt x="384" y="45"/>
                  </a:lnTo>
                  <a:lnTo>
                    <a:pt x="354" y="0"/>
                  </a:lnTo>
                  <a:lnTo>
                    <a:pt x="218" y="0"/>
                  </a:lnTo>
                  <a:lnTo>
                    <a:pt x="399" y="0"/>
                  </a:lnTo>
                  <a:lnTo>
                    <a:pt x="377" y="45"/>
                  </a:lnTo>
                  <a:lnTo>
                    <a:pt x="573" y="45"/>
                  </a:lnTo>
                  <a:lnTo>
                    <a:pt x="543" y="0"/>
                  </a:lnTo>
                  <a:lnTo>
                    <a:pt x="399" y="0"/>
                  </a:lnTo>
                  <a:lnTo>
                    <a:pt x="588" y="0"/>
                  </a:lnTo>
                  <a:lnTo>
                    <a:pt x="558" y="45"/>
                  </a:lnTo>
                  <a:lnTo>
                    <a:pt x="763" y="45"/>
                  </a:lnTo>
                  <a:lnTo>
                    <a:pt x="732" y="0"/>
                  </a:lnTo>
                  <a:lnTo>
                    <a:pt x="588" y="0"/>
                  </a:lnTo>
                  <a:lnTo>
                    <a:pt x="225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612800" y="7902720"/>
              <a:ext cx="735480" cy="18000"/>
            </a:xfrm>
            <a:custGeom>
              <a:avLst/>
              <a:gdLst/>
              <a:ahLst/>
              <a:rect l="0" t="0" r="r" b="b"/>
              <a:pathLst>
                <a:path w="2043" h="50">
                  <a:moveTo>
                    <a:pt x="1509" y="0"/>
                  </a:moveTo>
                  <a:lnTo>
                    <a:pt x="1479" y="50"/>
                  </a:lnTo>
                  <a:lnTo>
                    <a:pt x="1683" y="50"/>
                  </a:lnTo>
                  <a:lnTo>
                    <a:pt x="1653" y="0"/>
                  </a:lnTo>
                  <a:lnTo>
                    <a:pt x="1509" y="0"/>
                  </a:lnTo>
                  <a:lnTo>
                    <a:pt x="1690" y="0"/>
                  </a:lnTo>
                  <a:lnTo>
                    <a:pt x="1668" y="50"/>
                  </a:lnTo>
                  <a:lnTo>
                    <a:pt x="1863" y="50"/>
                  </a:lnTo>
                  <a:lnTo>
                    <a:pt x="1833" y="0"/>
                  </a:lnTo>
                  <a:lnTo>
                    <a:pt x="1690" y="0"/>
                  </a:lnTo>
                  <a:lnTo>
                    <a:pt x="1878" y="0"/>
                  </a:lnTo>
                  <a:lnTo>
                    <a:pt x="1848" y="50"/>
                  </a:lnTo>
                  <a:lnTo>
                    <a:pt x="2043" y="50"/>
                  </a:lnTo>
                  <a:lnTo>
                    <a:pt x="2013" y="0"/>
                  </a:lnTo>
                  <a:lnTo>
                    <a:pt x="1878" y="0"/>
                  </a:lnTo>
                  <a:lnTo>
                    <a:pt x="766" y="0"/>
                  </a:lnTo>
                  <a:lnTo>
                    <a:pt x="736" y="50"/>
                  </a:lnTo>
                  <a:lnTo>
                    <a:pt x="939" y="50"/>
                  </a:lnTo>
                  <a:lnTo>
                    <a:pt x="909" y="0"/>
                  </a:lnTo>
                  <a:lnTo>
                    <a:pt x="766" y="0"/>
                  </a:lnTo>
                  <a:lnTo>
                    <a:pt x="954" y="0"/>
                  </a:lnTo>
                  <a:lnTo>
                    <a:pt x="924" y="50"/>
                  </a:lnTo>
                  <a:lnTo>
                    <a:pt x="1119" y="50"/>
                  </a:lnTo>
                  <a:lnTo>
                    <a:pt x="1089" y="0"/>
                  </a:lnTo>
                  <a:lnTo>
                    <a:pt x="954" y="0"/>
                  </a:lnTo>
                  <a:lnTo>
                    <a:pt x="1134" y="0"/>
                  </a:lnTo>
                  <a:lnTo>
                    <a:pt x="1111" y="50"/>
                  </a:lnTo>
                  <a:lnTo>
                    <a:pt x="1307" y="50"/>
                  </a:lnTo>
                  <a:lnTo>
                    <a:pt x="1277" y="0"/>
                  </a:lnTo>
                  <a:lnTo>
                    <a:pt x="1134" y="0"/>
                  </a:lnTo>
                  <a:lnTo>
                    <a:pt x="1322" y="0"/>
                  </a:lnTo>
                  <a:lnTo>
                    <a:pt x="1292" y="50"/>
                  </a:lnTo>
                  <a:lnTo>
                    <a:pt x="1494" y="50"/>
                  </a:lnTo>
                  <a:lnTo>
                    <a:pt x="1464" y="0"/>
                  </a:lnTo>
                  <a:lnTo>
                    <a:pt x="1322" y="0"/>
                  </a:lnTo>
                  <a:lnTo>
                    <a:pt x="30" y="0"/>
                  </a:lnTo>
                  <a:lnTo>
                    <a:pt x="0" y="50"/>
                  </a:lnTo>
                  <a:lnTo>
                    <a:pt x="202" y="50"/>
                  </a:lnTo>
                  <a:lnTo>
                    <a:pt x="172" y="0"/>
                  </a:lnTo>
                  <a:lnTo>
                    <a:pt x="30" y="0"/>
                  </a:lnTo>
                  <a:lnTo>
                    <a:pt x="217" y="0"/>
                  </a:lnTo>
                  <a:lnTo>
                    <a:pt x="187" y="50"/>
                  </a:lnTo>
                  <a:lnTo>
                    <a:pt x="382" y="50"/>
                  </a:lnTo>
                  <a:lnTo>
                    <a:pt x="352" y="0"/>
                  </a:lnTo>
                  <a:lnTo>
                    <a:pt x="217" y="0"/>
                  </a:lnTo>
                  <a:lnTo>
                    <a:pt x="397" y="0"/>
                  </a:lnTo>
                  <a:lnTo>
                    <a:pt x="375" y="50"/>
                  </a:lnTo>
                  <a:lnTo>
                    <a:pt x="571" y="50"/>
                  </a:lnTo>
                  <a:lnTo>
                    <a:pt x="541" y="0"/>
                  </a:lnTo>
                  <a:lnTo>
                    <a:pt x="397" y="0"/>
                  </a:lnTo>
                  <a:lnTo>
                    <a:pt x="586" y="0"/>
                  </a:lnTo>
                  <a:lnTo>
                    <a:pt x="556" y="50"/>
                  </a:lnTo>
                  <a:lnTo>
                    <a:pt x="751" y="50"/>
                  </a:lnTo>
                  <a:lnTo>
                    <a:pt x="721" y="0"/>
                  </a:lnTo>
                  <a:lnTo>
                    <a:pt x="586" y="0"/>
                  </a:lnTo>
                  <a:lnTo>
                    <a:pt x="1509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650960" y="7924680"/>
              <a:ext cx="667080" cy="16200"/>
            </a:xfrm>
            <a:custGeom>
              <a:avLst/>
              <a:gdLst/>
              <a:ahLst/>
              <a:rect l="0" t="0" r="r" b="b"/>
              <a:pathLst>
                <a:path w="1853" h="45">
                  <a:moveTo>
                    <a:pt x="1508" y="0"/>
                  </a:moveTo>
                  <a:lnTo>
                    <a:pt x="1478" y="45"/>
                  </a:lnTo>
                  <a:lnTo>
                    <a:pt x="1673" y="45"/>
                  </a:lnTo>
                  <a:lnTo>
                    <a:pt x="1643" y="0"/>
                  </a:lnTo>
                  <a:lnTo>
                    <a:pt x="1508" y="0"/>
                  </a:lnTo>
                  <a:lnTo>
                    <a:pt x="1688" y="0"/>
                  </a:lnTo>
                  <a:lnTo>
                    <a:pt x="1658" y="45"/>
                  </a:lnTo>
                  <a:lnTo>
                    <a:pt x="1853" y="45"/>
                  </a:lnTo>
                  <a:lnTo>
                    <a:pt x="1823" y="0"/>
                  </a:lnTo>
                  <a:lnTo>
                    <a:pt x="1688" y="0"/>
                  </a:lnTo>
                  <a:lnTo>
                    <a:pt x="764" y="0"/>
                  </a:lnTo>
                  <a:lnTo>
                    <a:pt x="734" y="45"/>
                  </a:lnTo>
                  <a:lnTo>
                    <a:pt x="938" y="45"/>
                  </a:lnTo>
                  <a:lnTo>
                    <a:pt x="899" y="0"/>
                  </a:lnTo>
                  <a:lnTo>
                    <a:pt x="764" y="0"/>
                  </a:lnTo>
                  <a:lnTo>
                    <a:pt x="945" y="0"/>
                  </a:lnTo>
                  <a:lnTo>
                    <a:pt x="922" y="45"/>
                  </a:lnTo>
                  <a:lnTo>
                    <a:pt x="1118" y="45"/>
                  </a:lnTo>
                  <a:lnTo>
                    <a:pt x="1088" y="0"/>
                  </a:lnTo>
                  <a:lnTo>
                    <a:pt x="945" y="0"/>
                  </a:lnTo>
                  <a:lnTo>
                    <a:pt x="1133" y="0"/>
                  </a:lnTo>
                  <a:lnTo>
                    <a:pt x="1103" y="45"/>
                  </a:lnTo>
                  <a:lnTo>
                    <a:pt x="1305" y="45"/>
                  </a:lnTo>
                  <a:lnTo>
                    <a:pt x="1275" y="0"/>
                  </a:lnTo>
                  <a:lnTo>
                    <a:pt x="1133" y="0"/>
                  </a:lnTo>
                  <a:lnTo>
                    <a:pt x="1320" y="0"/>
                  </a:lnTo>
                  <a:lnTo>
                    <a:pt x="1290" y="45"/>
                  </a:lnTo>
                  <a:lnTo>
                    <a:pt x="1493" y="45"/>
                  </a:lnTo>
                  <a:lnTo>
                    <a:pt x="1463" y="0"/>
                  </a:lnTo>
                  <a:lnTo>
                    <a:pt x="1320" y="0"/>
                  </a:lnTo>
                  <a:lnTo>
                    <a:pt x="29" y="0"/>
                  </a:lnTo>
                  <a:lnTo>
                    <a:pt x="0" y="45"/>
                  </a:lnTo>
                  <a:lnTo>
                    <a:pt x="194" y="45"/>
                  </a:lnTo>
                  <a:lnTo>
                    <a:pt x="164" y="0"/>
                  </a:lnTo>
                  <a:lnTo>
                    <a:pt x="29" y="0"/>
                  </a:lnTo>
                  <a:lnTo>
                    <a:pt x="209" y="0"/>
                  </a:lnTo>
                  <a:lnTo>
                    <a:pt x="187" y="45"/>
                  </a:lnTo>
                  <a:lnTo>
                    <a:pt x="382" y="45"/>
                  </a:lnTo>
                  <a:lnTo>
                    <a:pt x="352" y="0"/>
                  </a:lnTo>
                  <a:lnTo>
                    <a:pt x="209" y="0"/>
                  </a:lnTo>
                  <a:lnTo>
                    <a:pt x="397" y="0"/>
                  </a:lnTo>
                  <a:lnTo>
                    <a:pt x="367" y="45"/>
                  </a:lnTo>
                  <a:lnTo>
                    <a:pt x="562" y="45"/>
                  </a:lnTo>
                  <a:lnTo>
                    <a:pt x="532" y="0"/>
                  </a:lnTo>
                  <a:lnTo>
                    <a:pt x="397" y="0"/>
                  </a:lnTo>
                  <a:lnTo>
                    <a:pt x="577" y="0"/>
                  </a:lnTo>
                  <a:lnTo>
                    <a:pt x="554" y="45"/>
                  </a:lnTo>
                  <a:lnTo>
                    <a:pt x="749" y="45"/>
                  </a:lnTo>
                  <a:lnTo>
                    <a:pt x="719" y="0"/>
                  </a:lnTo>
                  <a:lnTo>
                    <a:pt x="577" y="0"/>
                  </a:lnTo>
                  <a:lnTo>
                    <a:pt x="1508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7808760"/>
              <a:ext cx="198720" cy="154440"/>
            </a:xfrm>
            <a:custGeom>
              <a:avLst/>
              <a:gdLst/>
              <a:ahLst/>
              <a:rect l="0" t="0" r="r" b="b"/>
              <a:pathLst>
                <a:path w="552" h="429">
                  <a:moveTo>
                    <a:pt x="28" y="0"/>
                  </a:moveTo>
                  <a:lnTo>
                    <a:pt x="0" y="75"/>
                  </a:lnTo>
                  <a:lnTo>
                    <a:pt x="186" y="75"/>
                  </a:lnTo>
                  <a:lnTo>
                    <a:pt x="157" y="0"/>
                  </a:lnTo>
                  <a:lnTo>
                    <a:pt x="28" y="0"/>
                  </a:lnTo>
                  <a:lnTo>
                    <a:pt x="200" y="0"/>
                  </a:lnTo>
                  <a:lnTo>
                    <a:pt x="171" y="75"/>
                  </a:lnTo>
                  <a:lnTo>
                    <a:pt x="366" y="75"/>
                  </a:lnTo>
                  <a:lnTo>
                    <a:pt x="337" y="0"/>
                  </a:lnTo>
                  <a:lnTo>
                    <a:pt x="200" y="0"/>
                  </a:lnTo>
                  <a:lnTo>
                    <a:pt x="380" y="0"/>
                  </a:lnTo>
                  <a:lnTo>
                    <a:pt x="351" y="75"/>
                  </a:lnTo>
                  <a:lnTo>
                    <a:pt x="545" y="75"/>
                  </a:lnTo>
                  <a:lnTo>
                    <a:pt x="516" y="0"/>
                  </a:lnTo>
                  <a:lnTo>
                    <a:pt x="380" y="0"/>
                  </a:lnTo>
                  <a:lnTo>
                    <a:pt x="35" y="147"/>
                  </a:lnTo>
                  <a:lnTo>
                    <a:pt x="7" y="222"/>
                  </a:lnTo>
                  <a:lnTo>
                    <a:pt x="7" y="260"/>
                  </a:lnTo>
                  <a:lnTo>
                    <a:pt x="552" y="260"/>
                  </a:lnTo>
                  <a:lnTo>
                    <a:pt x="552" y="222"/>
                  </a:lnTo>
                  <a:lnTo>
                    <a:pt x="523" y="147"/>
                  </a:lnTo>
                  <a:lnTo>
                    <a:pt x="387" y="147"/>
                  </a:lnTo>
                  <a:lnTo>
                    <a:pt x="366" y="206"/>
                  </a:lnTo>
                  <a:lnTo>
                    <a:pt x="344" y="147"/>
                  </a:lnTo>
                  <a:lnTo>
                    <a:pt x="207" y="147"/>
                  </a:lnTo>
                  <a:lnTo>
                    <a:pt x="186" y="206"/>
                  </a:lnTo>
                  <a:lnTo>
                    <a:pt x="171" y="147"/>
                  </a:lnTo>
                  <a:lnTo>
                    <a:pt x="35" y="147"/>
                  </a:lnTo>
                  <a:lnTo>
                    <a:pt x="28" y="348"/>
                  </a:lnTo>
                  <a:lnTo>
                    <a:pt x="7" y="386"/>
                  </a:lnTo>
                  <a:lnTo>
                    <a:pt x="7" y="429"/>
                  </a:lnTo>
                  <a:lnTo>
                    <a:pt x="552" y="429"/>
                  </a:lnTo>
                  <a:lnTo>
                    <a:pt x="552" y="386"/>
                  </a:lnTo>
                  <a:lnTo>
                    <a:pt x="523" y="353"/>
                  </a:lnTo>
                  <a:lnTo>
                    <a:pt x="387" y="353"/>
                  </a:lnTo>
                  <a:lnTo>
                    <a:pt x="366" y="375"/>
                  </a:lnTo>
                  <a:lnTo>
                    <a:pt x="344" y="309"/>
                  </a:lnTo>
                  <a:lnTo>
                    <a:pt x="207" y="309"/>
                  </a:lnTo>
                  <a:lnTo>
                    <a:pt x="186" y="370"/>
                  </a:lnTo>
                  <a:lnTo>
                    <a:pt x="164" y="348"/>
                  </a:lnTo>
                  <a:lnTo>
                    <a:pt x="28" y="348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352600" y="7862760"/>
              <a:ext cx="130680" cy="18000"/>
            </a:xfrm>
            <a:custGeom>
              <a:avLst/>
              <a:gdLst/>
              <a:ahLst/>
              <a:rect l="0" t="0" r="r" b="b"/>
              <a:pathLst>
                <a:path w="363" h="50">
                  <a:moveTo>
                    <a:pt x="20" y="0"/>
                  </a:moveTo>
                  <a:lnTo>
                    <a:pt x="0" y="50"/>
                  </a:lnTo>
                  <a:lnTo>
                    <a:pt x="363" y="50"/>
                  </a:lnTo>
                  <a:lnTo>
                    <a:pt x="336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58960" y="7940520"/>
              <a:ext cx="454320" cy="19440"/>
            </a:xfrm>
            <a:custGeom>
              <a:avLst/>
              <a:gdLst/>
              <a:ahLst/>
              <a:rect l="0" t="0" r="r" b="b"/>
              <a:pathLst>
                <a:path w="1262" h="54">
                  <a:moveTo>
                    <a:pt x="29" y="0"/>
                  </a:moveTo>
                  <a:lnTo>
                    <a:pt x="0" y="54"/>
                  </a:lnTo>
                  <a:lnTo>
                    <a:pt x="1262" y="54"/>
                  </a:lnTo>
                  <a:lnTo>
                    <a:pt x="1232" y="0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479600" y="7802640"/>
              <a:ext cx="989280" cy="52920"/>
            </a:xfrm>
            <a:custGeom>
              <a:avLst/>
              <a:gdLst/>
              <a:ahLst/>
              <a:rect l="0" t="0" r="r" b="b"/>
              <a:pathLst>
                <a:path w="2748" h="147">
                  <a:moveTo>
                    <a:pt x="2604" y="23"/>
                  </a:moveTo>
                  <a:lnTo>
                    <a:pt x="2612" y="0"/>
                  </a:lnTo>
                  <a:lnTo>
                    <a:pt x="2619" y="0"/>
                  </a:lnTo>
                  <a:lnTo>
                    <a:pt x="2642" y="0"/>
                  </a:lnTo>
                  <a:lnTo>
                    <a:pt x="2672" y="0"/>
                  </a:lnTo>
                  <a:lnTo>
                    <a:pt x="2702" y="0"/>
                  </a:lnTo>
                  <a:lnTo>
                    <a:pt x="2725" y="0"/>
                  </a:lnTo>
                  <a:lnTo>
                    <a:pt x="2733" y="0"/>
                  </a:lnTo>
                  <a:lnTo>
                    <a:pt x="2748" y="23"/>
                  </a:lnTo>
                  <a:lnTo>
                    <a:pt x="2740" y="23"/>
                  </a:lnTo>
                  <a:lnTo>
                    <a:pt x="2725" y="23"/>
                  </a:lnTo>
                  <a:lnTo>
                    <a:pt x="2710" y="28"/>
                  </a:lnTo>
                  <a:lnTo>
                    <a:pt x="2695" y="28"/>
                  </a:lnTo>
                  <a:lnTo>
                    <a:pt x="2672" y="28"/>
                  </a:lnTo>
                  <a:lnTo>
                    <a:pt x="2657" y="28"/>
                  </a:lnTo>
                  <a:lnTo>
                    <a:pt x="2642" y="28"/>
                  </a:lnTo>
                  <a:lnTo>
                    <a:pt x="2627" y="23"/>
                  </a:lnTo>
                  <a:lnTo>
                    <a:pt x="2604" y="23"/>
                  </a:lnTo>
                  <a:lnTo>
                    <a:pt x="2415" y="23"/>
                  </a:lnTo>
                  <a:lnTo>
                    <a:pt x="2422" y="0"/>
                  </a:lnTo>
                  <a:lnTo>
                    <a:pt x="2430" y="0"/>
                  </a:lnTo>
                  <a:lnTo>
                    <a:pt x="2445" y="0"/>
                  </a:lnTo>
                  <a:lnTo>
                    <a:pt x="2460" y="0"/>
                  </a:lnTo>
                  <a:lnTo>
                    <a:pt x="2468" y="0"/>
                  </a:lnTo>
                  <a:lnTo>
                    <a:pt x="2483" y="0"/>
                  </a:lnTo>
                  <a:lnTo>
                    <a:pt x="2498" y="0"/>
                  </a:lnTo>
                  <a:lnTo>
                    <a:pt x="2513" y="0"/>
                  </a:lnTo>
                  <a:lnTo>
                    <a:pt x="2528" y="0"/>
                  </a:lnTo>
                  <a:lnTo>
                    <a:pt x="2543" y="0"/>
                  </a:lnTo>
                  <a:lnTo>
                    <a:pt x="2559" y="23"/>
                  </a:lnTo>
                  <a:lnTo>
                    <a:pt x="2543" y="23"/>
                  </a:lnTo>
                  <a:lnTo>
                    <a:pt x="2521" y="28"/>
                  </a:lnTo>
                  <a:lnTo>
                    <a:pt x="2506" y="28"/>
                  </a:lnTo>
                  <a:lnTo>
                    <a:pt x="2490" y="28"/>
                  </a:lnTo>
                  <a:lnTo>
                    <a:pt x="2475" y="28"/>
                  </a:lnTo>
                  <a:lnTo>
                    <a:pt x="2453" y="28"/>
                  </a:lnTo>
                  <a:lnTo>
                    <a:pt x="2437" y="23"/>
                  </a:lnTo>
                  <a:lnTo>
                    <a:pt x="2422" y="23"/>
                  </a:lnTo>
                  <a:lnTo>
                    <a:pt x="2415" y="23"/>
                  </a:lnTo>
                  <a:lnTo>
                    <a:pt x="2233" y="23"/>
                  </a:lnTo>
                  <a:lnTo>
                    <a:pt x="2241" y="0"/>
                  </a:lnTo>
                  <a:lnTo>
                    <a:pt x="2248" y="0"/>
                  </a:lnTo>
                  <a:lnTo>
                    <a:pt x="2271" y="0"/>
                  </a:lnTo>
                  <a:lnTo>
                    <a:pt x="2301" y="0"/>
                  </a:lnTo>
                  <a:lnTo>
                    <a:pt x="2324" y="0"/>
                  </a:lnTo>
                  <a:lnTo>
                    <a:pt x="2354" y="0"/>
                  </a:lnTo>
                  <a:lnTo>
                    <a:pt x="2362" y="0"/>
                  </a:lnTo>
                  <a:lnTo>
                    <a:pt x="2369" y="23"/>
                  </a:lnTo>
                  <a:lnTo>
                    <a:pt x="2354" y="23"/>
                  </a:lnTo>
                  <a:lnTo>
                    <a:pt x="2332" y="28"/>
                  </a:lnTo>
                  <a:lnTo>
                    <a:pt x="2316" y="28"/>
                  </a:lnTo>
                  <a:lnTo>
                    <a:pt x="2301" y="28"/>
                  </a:lnTo>
                  <a:lnTo>
                    <a:pt x="2286" y="28"/>
                  </a:lnTo>
                  <a:lnTo>
                    <a:pt x="2271" y="28"/>
                  </a:lnTo>
                  <a:lnTo>
                    <a:pt x="2256" y="23"/>
                  </a:lnTo>
                  <a:lnTo>
                    <a:pt x="2233" y="23"/>
                  </a:lnTo>
                  <a:lnTo>
                    <a:pt x="2051" y="23"/>
                  </a:lnTo>
                  <a:lnTo>
                    <a:pt x="2059" y="0"/>
                  </a:lnTo>
                  <a:lnTo>
                    <a:pt x="2074" y="0"/>
                  </a:lnTo>
                  <a:lnTo>
                    <a:pt x="2089" y="0"/>
                  </a:lnTo>
                  <a:lnTo>
                    <a:pt x="2097" y="0"/>
                  </a:lnTo>
                  <a:lnTo>
                    <a:pt x="2112" y="0"/>
                  </a:lnTo>
                  <a:lnTo>
                    <a:pt x="2127" y="0"/>
                  </a:lnTo>
                  <a:lnTo>
                    <a:pt x="2142" y="0"/>
                  </a:lnTo>
                  <a:lnTo>
                    <a:pt x="2157" y="0"/>
                  </a:lnTo>
                  <a:lnTo>
                    <a:pt x="2173" y="0"/>
                  </a:lnTo>
                  <a:lnTo>
                    <a:pt x="2188" y="23"/>
                  </a:lnTo>
                  <a:lnTo>
                    <a:pt x="2173" y="23"/>
                  </a:lnTo>
                  <a:lnTo>
                    <a:pt x="2150" y="28"/>
                  </a:lnTo>
                  <a:lnTo>
                    <a:pt x="2135" y="28"/>
                  </a:lnTo>
                  <a:lnTo>
                    <a:pt x="2120" y="28"/>
                  </a:lnTo>
                  <a:lnTo>
                    <a:pt x="2104" y="28"/>
                  </a:lnTo>
                  <a:lnTo>
                    <a:pt x="2082" y="28"/>
                  </a:lnTo>
                  <a:lnTo>
                    <a:pt x="2067" y="23"/>
                  </a:lnTo>
                  <a:lnTo>
                    <a:pt x="2051" y="23"/>
                  </a:lnTo>
                  <a:lnTo>
                    <a:pt x="946" y="23"/>
                  </a:lnTo>
                  <a:lnTo>
                    <a:pt x="953" y="0"/>
                  </a:lnTo>
                  <a:lnTo>
                    <a:pt x="968" y="0"/>
                  </a:lnTo>
                  <a:lnTo>
                    <a:pt x="983" y="0"/>
                  </a:lnTo>
                  <a:lnTo>
                    <a:pt x="991" y="0"/>
                  </a:lnTo>
                  <a:lnTo>
                    <a:pt x="1006" y="0"/>
                  </a:lnTo>
                  <a:lnTo>
                    <a:pt x="1021" y="0"/>
                  </a:lnTo>
                  <a:lnTo>
                    <a:pt x="1036" y="0"/>
                  </a:lnTo>
                  <a:lnTo>
                    <a:pt x="1051" y="0"/>
                  </a:lnTo>
                  <a:lnTo>
                    <a:pt x="1067" y="0"/>
                  </a:lnTo>
                  <a:lnTo>
                    <a:pt x="1082" y="23"/>
                  </a:lnTo>
                  <a:lnTo>
                    <a:pt x="1067" y="23"/>
                  </a:lnTo>
                  <a:lnTo>
                    <a:pt x="1044" y="28"/>
                  </a:lnTo>
                  <a:lnTo>
                    <a:pt x="1029" y="28"/>
                  </a:lnTo>
                  <a:lnTo>
                    <a:pt x="1014" y="28"/>
                  </a:lnTo>
                  <a:lnTo>
                    <a:pt x="999" y="28"/>
                  </a:lnTo>
                  <a:lnTo>
                    <a:pt x="976" y="28"/>
                  </a:lnTo>
                  <a:lnTo>
                    <a:pt x="961" y="23"/>
                  </a:lnTo>
                  <a:lnTo>
                    <a:pt x="946" y="23"/>
                  </a:lnTo>
                  <a:lnTo>
                    <a:pt x="756" y="23"/>
                  </a:lnTo>
                  <a:lnTo>
                    <a:pt x="764" y="0"/>
                  </a:lnTo>
                  <a:lnTo>
                    <a:pt x="771" y="0"/>
                  </a:lnTo>
                  <a:lnTo>
                    <a:pt x="787" y="0"/>
                  </a:lnTo>
                  <a:lnTo>
                    <a:pt x="802" y="0"/>
                  </a:lnTo>
                  <a:lnTo>
                    <a:pt x="809" y="0"/>
                  </a:lnTo>
                  <a:lnTo>
                    <a:pt x="824" y="0"/>
                  </a:lnTo>
                  <a:lnTo>
                    <a:pt x="840" y="0"/>
                  </a:lnTo>
                  <a:lnTo>
                    <a:pt x="855" y="0"/>
                  </a:lnTo>
                  <a:lnTo>
                    <a:pt x="870" y="0"/>
                  </a:lnTo>
                  <a:lnTo>
                    <a:pt x="885" y="0"/>
                  </a:lnTo>
                  <a:lnTo>
                    <a:pt x="900" y="23"/>
                  </a:lnTo>
                  <a:lnTo>
                    <a:pt x="893" y="23"/>
                  </a:lnTo>
                  <a:lnTo>
                    <a:pt x="877" y="23"/>
                  </a:lnTo>
                  <a:lnTo>
                    <a:pt x="862" y="28"/>
                  </a:lnTo>
                  <a:lnTo>
                    <a:pt x="847" y="28"/>
                  </a:lnTo>
                  <a:lnTo>
                    <a:pt x="832" y="28"/>
                  </a:lnTo>
                  <a:lnTo>
                    <a:pt x="809" y="28"/>
                  </a:lnTo>
                  <a:lnTo>
                    <a:pt x="794" y="28"/>
                  </a:lnTo>
                  <a:lnTo>
                    <a:pt x="779" y="23"/>
                  </a:lnTo>
                  <a:lnTo>
                    <a:pt x="764" y="23"/>
                  </a:lnTo>
                  <a:lnTo>
                    <a:pt x="756" y="23"/>
                  </a:lnTo>
                  <a:lnTo>
                    <a:pt x="567" y="23"/>
                  </a:lnTo>
                  <a:lnTo>
                    <a:pt x="575" y="0"/>
                  </a:lnTo>
                  <a:lnTo>
                    <a:pt x="582" y="0"/>
                  </a:lnTo>
                  <a:lnTo>
                    <a:pt x="597" y="0"/>
                  </a:lnTo>
                  <a:lnTo>
                    <a:pt x="613" y="0"/>
                  </a:lnTo>
                  <a:lnTo>
                    <a:pt x="620" y="0"/>
                  </a:lnTo>
                  <a:lnTo>
                    <a:pt x="635" y="0"/>
                  </a:lnTo>
                  <a:lnTo>
                    <a:pt x="650" y="0"/>
                  </a:lnTo>
                  <a:lnTo>
                    <a:pt x="666" y="0"/>
                  </a:lnTo>
                  <a:lnTo>
                    <a:pt x="681" y="0"/>
                  </a:lnTo>
                  <a:lnTo>
                    <a:pt x="696" y="0"/>
                  </a:lnTo>
                  <a:lnTo>
                    <a:pt x="711" y="23"/>
                  </a:lnTo>
                  <a:lnTo>
                    <a:pt x="696" y="23"/>
                  </a:lnTo>
                  <a:lnTo>
                    <a:pt x="673" y="28"/>
                  </a:lnTo>
                  <a:lnTo>
                    <a:pt x="658" y="28"/>
                  </a:lnTo>
                  <a:lnTo>
                    <a:pt x="643" y="28"/>
                  </a:lnTo>
                  <a:lnTo>
                    <a:pt x="628" y="28"/>
                  </a:lnTo>
                  <a:lnTo>
                    <a:pt x="605" y="28"/>
                  </a:lnTo>
                  <a:lnTo>
                    <a:pt x="590" y="23"/>
                  </a:lnTo>
                  <a:lnTo>
                    <a:pt x="575" y="23"/>
                  </a:lnTo>
                  <a:lnTo>
                    <a:pt x="567" y="23"/>
                  </a:lnTo>
                  <a:lnTo>
                    <a:pt x="378" y="23"/>
                  </a:lnTo>
                  <a:lnTo>
                    <a:pt x="393" y="0"/>
                  </a:lnTo>
                  <a:lnTo>
                    <a:pt x="408" y="0"/>
                  </a:lnTo>
                  <a:lnTo>
                    <a:pt x="423" y="0"/>
                  </a:lnTo>
                  <a:lnTo>
                    <a:pt x="438" y="0"/>
                  </a:lnTo>
                  <a:lnTo>
                    <a:pt x="454" y="0"/>
                  </a:lnTo>
                  <a:lnTo>
                    <a:pt x="469" y="0"/>
                  </a:lnTo>
                  <a:lnTo>
                    <a:pt x="484" y="0"/>
                  </a:lnTo>
                  <a:lnTo>
                    <a:pt x="491" y="0"/>
                  </a:lnTo>
                  <a:lnTo>
                    <a:pt x="507" y="0"/>
                  </a:lnTo>
                  <a:lnTo>
                    <a:pt x="514" y="0"/>
                  </a:lnTo>
                  <a:lnTo>
                    <a:pt x="522" y="23"/>
                  </a:lnTo>
                  <a:lnTo>
                    <a:pt x="507" y="23"/>
                  </a:lnTo>
                  <a:lnTo>
                    <a:pt x="484" y="28"/>
                  </a:lnTo>
                  <a:lnTo>
                    <a:pt x="469" y="28"/>
                  </a:lnTo>
                  <a:lnTo>
                    <a:pt x="454" y="28"/>
                  </a:lnTo>
                  <a:lnTo>
                    <a:pt x="438" y="28"/>
                  </a:lnTo>
                  <a:lnTo>
                    <a:pt x="423" y="28"/>
                  </a:lnTo>
                  <a:lnTo>
                    <a:pt x="401" y="23"/>
                  </a:lnTo>
                  <a:lnTo>
                    <a:pt x="385" y="23"/>
                  </a:lnTo>
                  <a:lnTo>
                    <a:pt x="378" y="23"/>
                  </a:lnTo>
                  <a:lnTo>
                    <a:pt x="2233" y="147"/>
                  </a:lnTo>
                  <a:lnTo>
                    <a:pt x="2248" y="124"/>
                  </a:lnTo>
                  <a:lnTo>
                    <a:pt x="2248" y="119"/>
                  </a:lnTo>
                  <a:lnTo>
                    <a:pt x="2263" y="119"/>
                  </a:lnTo>
                  <a:lnTo>
                    <a:pt x="2279" y="124"/>
                  </a:lnTo>
                  <a:lnTo>
                    <a:pt x="2294" y="124"/>
                  </a:lnTo>
                  <a:lnTo>
                    <a:pt x="2309" y="124"/>
                  </a:lnTo>
                  <a:lnTo>
                    <a:pt x="2316" y="124"/>
                  </a:lnTo>
                  <a:lnTo>
                    <a:pt x="2332" y="124"/>
                  </a:lnTo>
                  <a:lnTo>
                    <a:pt x="2347" y="119"/>
                  </a:lnTo>
                  <a:lnTo>
                    <a:pt x="2362" y="119"/>
                  </a:lnTo>
                  <a:lnTo>
                    <a:pt x="2362" y="124"/>
                  </a:lnTo>
                  <a:lnTo>
                    <a:pt x="2377" y="147"/>
                  </a:lnTo>
                  <a:lnTo>
                    <a:pt x="2369" y="147"/>
                  </a:lnTo>
                  <a:lnTo>
                    <a:pt x="2354" y="147"/>
                  </a:lnTo>
                  <a:lnTo>
                    <a:pt x="2339" y="147"/>
                  </a:lnTo>
                  <a:lnTo>
                    <a:pt x="2324" y="147"/>
                  </a:lnTo>
                  <a:lnTo>
                    <a:pt x="2309" y="147"/>
                  </a:lnTo>
                  <a:lnTo>
                    <a:pt x="2294" y="147"/>
                  </a:lnTo>
                  <a:lnTo>
                    <a:pt x="2271" y="147"/>
                  </a:lnTo>
                  <a:lnTo>
                    <a:pt x="2256" y="147"/>
                  </a:lnTo>
                  <a:lnTo>
                    <a:pt x="2241" y="147"/>
                  </a:lnTo>
                  <a:lnTo>
                    <a:pt x="2233" y="147"/>
                  </a:lnTo>
                  <a:lnTo>
                    <a:pt x="2051" y="147"/>
                  </a:lnTo>
                  <a:lnTo>
                    <a:pt x="2059" y="124"/>
                  </a:lnTo>
                  <a:lnTo>
                    <a:pt x="2059" y="119"/>
                  </a:lnTo>
                  <a:lnTo>
                    <a:pt x="2067" y="119"/>
                  </a:lnTo>
                  <a:lnTo>
                    <a:pt x="2089" y="124"/>
                  </a:lnTo>
                  <a:lnTo>
                    <a:pt x="2120" y="124"/>
                  </a:lnTo>
                  <a:lnTo>
                    <a:pt x="2150" y="124"/>
                  </a:lnTo>
                  <a:lnTo>
                    <a:pt x="2173" y="119"/>
                  </a:lnTo>
                  <a:lnTo>
                    <a:pt x="2180" y="119"/>
                  </a:lnTo>
                  <a:lnTo>
                    <a:pt x="2180" y="124"/>
                  </a:lnTo>
                  <a:lnTo>
                    <a:pt x="2195" y="147"/>
                  </a:lnTo>
                  <a:lnTo>
                    <a:pt x="2188" y="147"/>
                  </a:lnTo>
                  <a:lnTo>
                    <a:pt x="2173" y="147"/>
                  </a:lnTo>
                  <a:lnTo>
                    <a:pt x="2157" y="147"/>
                  </a:lnTo>
                  <a:lnTo>
                    <a:pt x="2142" y="147"/>
                  </a:lnTo>
                  <a:lnTo>
                    <a:pt x="2120" y="147"/>
                  </a:lnTo>
                  <a:lnTo>
                    <a:pt x="2104" y="147"/>
                  </a:lnTo>
                  <a:lnTo>
                    <a:pt x="2089" y="147"/>
                  </a:lnTo>
                  <a:lnTo>
                    <a:pt x="2074" y="147"/>
                  </a:lnTo>
                  <a:lnTo>
                    <a:pt x="2059" y="147"/>
                  </a:lnTo>
                  <a:lnTo>
                    <a:pt x="2051" y="147"/>
                  </a:lnTo>
                  <a:lnTo>
                    <a:pt x="1870" y="147"/>
                  </a:lnTo>
                  <a:lnTo>
                    <a:pt x="1877" y="124"/>
                  </a:lnTo>
                  <a:lnTo>
                    <a:pt x="1877" y="119"/>
                  </a:lnTo>
                  <a:lnTo>
                    <a:pt x="1893" y="119"/>
                  </a:lnTo>
                  <a:lnTo>
                    <a:pt x="1908" y="124"/>
                  </a:lnTo>
                  <a:lnTo>
                    <a:pt x="1923" y="124"/>
                  </a:lnTo>
                  <a:lnTo>
                    <a:pt x="1938" y="124"/>
                  </a:lnTo>
                  <a:lnTo>
                    <a:pt x="1953" y="124"/>
                  </a:lnTo>
                  <a:lnTo>
                    <a:pt x="1968" y="124"/>
                  </a:lnTo>
                  <a:lnTo>
                    <a:pt x="1976" y="119"/>
                  </a:lnTo>
                  <a:lnTo>
                    <a:pt x="1991" y="119"/>
                  </a:lnTo>
                  <a:lnTo>
                    <a:pt x="1999" y="119"/>
                  </a:lnTo>
                  <a:lnTo>
                    <a:pt x="1999" y="124"/>
                  </a:lnTo>
                  <a:lnTo>
                    <a:pt x="2014" y="147"/>
                  </a:lnTo>
                  <a:lnTo>
                    <a:pt x="2006" y="147"/>
                  </a:lnTo>
                  <a:lnTo>
                    <a:pt x="1991" y="147"/>
                  </a:lnTo>
                  <a:lnTo>
                    <a:pt x="1976" y="147"/>
                  </a:lnTo>
                  <a:lnTo>
                    <a:pt x="1961" y="147"/>
                  </a:lnTo>
                  <a:lnTo>
                    <a:pt x="1938" y="147"/>
                  </a:lnTo>
                  <a:lnTo>
                    <a:pt x="1923" y="147"/>
                  </a:lnTo>
                  <a:lnTo>
                    <a:pt x="1908" y="147"/>
                  </a:lnTo>
                  <a:lnTo>
                    <a:pt x="1893" y="147"/>
                  </a:lnTo>
                  <a:lnTo>
                    <a:pt x="1870" y="147"/>
                  </a:lnTo>
                  <a:lnTo>
                    <a:pt x="1681" y="147"/>
                  </a:lnTo>
                  <a:lnTo>
                    <a:pt x="1688" y="124"/>
                  </a:lnTo>
                  <a:lnTo>
                    <a:pt x="1688" y="119"/>
                  </a:lnTo>
                  <a:lnTo>
                    <a:pt x="1696" y="119"/>
                  </a:lnTo>
                  <a:lnTo>
                    <a:pt x="1718" y="124"/>
                  </a:lnTo>
                  <a:lnTo>
                    <a:pt x="1749" y="124"/>
                  </a:lnTo>
                  <a:lnTo>
                    <a:pt x="1779" y="124"/>
                  </a:lnTo>
                  <a:lnTo>
                    <a:pt x="1802" y="119"/>
                  </a:lnTo>
                  <a:lnTo>
                    <a:pt x="1809" y="119"/>
                  </a:lnTo>
                  <a:lnTo>
                    <a:pt x="1809" y="124"/>
                  </a:lnTo>
                  <a:lnTo>
                    <a:pt x="1824" y="147"/>
                  </a:lnTo>
                  <a:lnTo>
                    <a:pt x="1817" y="147"/>
                  </a:lnTo>
                  <a:lnTo>
                    <a:pt x="1802" y="147"/>
                  </a:lnTo>
                  <a:lnTo>
                    <a:pt x="1787" y="147"/>
                  </a:lnTo>
                  <a:lnTo>
                    <a:pt x="1771" y="147"/>
                  </a:lnTo>
                  <a:lnTo>
                    <a:pt x="1749" y="147"/>
                  </a:lnTo>
                  <a:lnTo>
                    <a:pt x="1734" y="147"/>
                  </a:lnTo>
                  <a:lnTo>
                    <a:pt x="1718" y="147"/>
                  </a:lnTo>
                  <a:lnTo>
                    <a:pt x="1703" y="147"/>
                  </a:lnTo>
                  <a:lnTo>
                    <a:pt x="1681" y="147"/>
                  </a:lnTo>
                  <a:lnTo>
                    <a:pt x="1491" y="147"/>
                  </a:lnTo>
                  <a:lnTo>
                    <a:pt x="1499" y="124"/>
                  </a:lnTo>
                  <a:lnTo>
                    <a:pt x="1507" y="119"/>
                  </a:lnTo>
                  <a:lnTo>
                    <a:pt x="1522" y="119"/>
                  </a:lnTo>
                  <a:lnTo>
                    <a:pt x="1537" y="124"/>
                  </a:lnTo>
                  <a:lnTo>
                    <a:pt x="1544" y="124"/>
                  </a:lnTo>
                  <a:lnTo>
                    <a:pt x="1560" y="124"/>
                  </a:lnTo>
                  <a:lnTo>
                    <a:pt x="1575" y="124"/>
                  </a:lnTo>
                  <a:lnTo>
                    <a:pt x="1590" y="124"/>
                  </a:lnTo>
                  <a:lnTo>
                    <a:pt x="1605" y="119"/>
                  </a:lnTo>
                  <a:lnTo>
                    <a:pt x="1620" y="119"/>
                  </a:lnTo>
                  <a:lnTo>
                    <a:pt x="1620" y="124"/>
                  </a:lnTo>
                  <a:lnTo>
                    <a:pt x="1635" y="147"/>
                  </a:lnTo>
                  <a:lnTo>
                    <a:pt x="1628" y="147"/>
                  </a:lnTo>
                  <a:lnTo>
                    <a:pt x="1613" y="147"/>
                  </a:lnTo>
                  <a:lnTo>
                    <a:pt x="1597" y="147"/>
                  </a:lnTo>
                  <a:lnTo>
                    <a:pt x="1582" y="147"/>
                  </a:lnTo>
                  <a:lnTo>
                    <a:pt x="1567" y="147"/>
                  </a:lnTo>
                  <a:lnTo>
                    <a:pt x="1544" y="147"/>
                  </a:lnTo>
                  <a:lnTo>
                    <a:pt x="1529" y="147"/>
                  </a:lnTo>
                  <a:lnTo>
                    <a:pt x="1514" y="147"/>
                  </a:lnTo>
                  <a:lnTo>
                    <a:pt x="1499" y="147"/>
                  </a:lnTo>
                  <a:lnTo>
                    <a:pt x="1491" y="147"/>
                  </a:lnTo>
                  <a:lnTo>
                    <a:pt x="1301" y="147"/>
                  </a:lnTo>
                  <a:lnTo>
                    <a:pt x="1309" y="124"/>
                  </a:lnTo>
                  <a:lnTo>
                    <a:pt x="1316" y="119"/>
                  </a:lnTo>
                  <a:lnTo>
                    <a:pt x="1347" y="124"/>
                  </a:lnTo>
                  <a:lnTo>
                    <a:pt x="1369" y="124"/>
                  </a:lnTo>
                  <a:lnTo>
                    <a:pt x="1401" y="124"/>
                  </a:lnTo>
                  <a:lnTo>
                    <a:pt x="1431" y="119"/>
                  </a:lnTo>
                  <a:lnTo>
                    <a:pt x="1431" y="124"/>
                  </a:lnTo>
                  <a:lnTo>
                    <a:pt x="1446" y="147"/>
                  </a:lnTo>
                  <a:lnTo>
                    <a:pt x="1431" y="147"/>
                  </a:lnTo>
                  <a:lnTo>
                    <a:pt x="1408" y="147"/>
                  </a:lnTo>
                  <a:lnTo>
                    <a:pt x="1393" y="147"/>
                  </a:lnTo>
                  <a:lnTo>
                    <a:pt x="1378" y="147"/>
                  </a:lnTo>
                  <a:lnTo>
                    <a:pt x="1362" y="147"/>
                  </a:lnTo>
                  <a:lnTo>
                    <a:pt x="1339" y="147"/>
                  </a:lnTo>
                  <a:lnTo>
                    <a:pt x="1324" y="147"/>
                  </a:lnTo>
                  <a:lnTo>
                    <a:pt x="1309" y="147"/>
                  </a:lnTo>
                  <a:lnTo>
                    <a:pt x="1301" y="147"/>
                  </a:lnTo>
                  <a:lnTo>
                    <a:pt x="1112" y="147"/>
                  </a:lnTo>
                  <a:lnTo>
                    <a:pt x="1127" y="124"/>
                  </a:lnTo>
                  <a:lnTo>
                    <a:pt x="1127" y="119"/>
                  </a:lnTo>
                  <a:lnTo>
                    <a:pt x="1142" y="119"/>
                  </a:lnTo>
                  <a:lnTo>
                    <a:pt x="1157" y="124"/>
                  </a:lnTo>
                  <a:lnTo>
                    <a:pt x="1173" y="124"/>
                  </a:lnTo>
                  <a:lnTo>
                    <a:pt x="1188" y="124"/>
                  </a:lnTo>
                  <a:lnTo>
                    <a:pt x="1203" y="124"/>
                  </a:lnTo>
                  <a:lnTo>
                    <a:pt x="1218" y="124"/>
                  </a:lnTo>
                  <a:lnTo>
                    <a:pt x="1226" y="119"/>
                  </a:lnTo>
                  <a:lnTo>
                    <a:pt x="1241" y="119"/>
                  </a:lnTo>
                  <a:lnTo>
                    <a:pt x="1248" y="119"/>
                  </a:lnTo>
                  <a:lnTo>
                    <a:pt x="1248" y="124"/>
                  </a:lnTo>
                  <a:lnTo>
                    <a:pt x="1263" y="147"/>
                  </a:lnTo>
                  <a:lnTo>
                    <a:pt x="1256" y="147"/>
                  </a:lnTo>
                  <a:lnTo>
                    <a:pt x="1241" y="147"/>
                  </a:lnTo>
                  <a:lnTo>
                    <a:pt x="1226" y="147"/>
                  </a:lnTo>
                  <a:lnTo>
                    <a:pt x="1203" y="147"/>
                  </a:lnTo>
                  <a:lnTo>
                    <a:pt x="1188" y="147"/>
                  </a:lnTo>
                  <a:lnTo>
                    <a:pt x="1173" y="147"/>
                  </a:lnTo>
                  <a:lnTo>
                    <a:pt x="1157" y="147"/>
                  </a:lnTo>
                  <a:lnTo>
                    <a:pt x="1135" y="147"/>
                  </a:lnTo>
                  <a:lnTo>
                    <a:pt x="1120" y="147"/>
                  </a:lnTo>
                  <a:lnTo>
                    <a:pt x="1112" y="147"/>
                  </a:lnTo>
                  <a:lnTo>
                    <a:pt x="930" y="147"/>
                  </a:lnTo>
                  <a:lnTo>
                    <a:pt x="946" y="124"/>
                  </a:lnTo>
                  <a:lnTo>
                    <a:pt x="946" y="119"/>
                  </a:lnTo>
                  <a:lnTo>
                    <a:pt x="961" y="119"/>
                  </a:lnTo>
                  <a:lnTo>
                    <a:pt x="976" y="124"/>
                  </a:lnTo>
                  <a:lnTo>
                    <a:pt x="983" y="124"/>
                  </a:lnTo>
                  <a:lnTo>
                    <a:pt x="999" y="124"/>
                  </a:lnTo>
                  <a:lnTo>
                    <a:pt x="1014" y="124"/>
                  </a:lnTo>
                  <a:lnTo>
                    <a:pt x="1029" y="124"/>
                  </a:lnTo>
                  <a:lnTo>
                    <a:pt x="1044" y="119"/>
                  </a:lnTo>
                  <a:lnTo>
                    <a:pt x="1059" y="119"/>
                  </a:lnTo>
                  <a:lnTo>
                    <a:pt x="1059" y="124"/>
                  </a:lnTo>
                  <a:lnTo>
                    <a:pt x="1074" y="147"/>
                  </a:lnTo>
                  <a:lnTo>
                    <a:pt x="1067" y="147"/>
                  </a:lnTo>
                  <a:lnTo>
                    <a:pt x="1051" y="147"/>
                  </a:lnTo>
                  <a:lnTo>
                    <a:pt x="1036" y="147"/>
                  </a:lnTo>
                  <a:lnTo>
                    <a:pt x="1021" y="147"/>
                  </a:lnTo>
                  <a:lnTo>
                    <a:pt x="999" y="147"/>
                  </a:lnTo>
                  <a:lnTo>
                    <a:pt x="983" y="147"/>
                  </a:lnTo>
                  <a:lnTo>
                    <a:pt x="968" y="147"/>
                  </a:lnTo>
                  <a:lnTo>
                    <a:pt x="953" y="147"/>
                  </a:lnTo>
                  <a:lnTo>
                    <a:pt x="938" y="147"/>
                  </a:lnTo>
                  <a:lnTo>
                    <a:pt x="930" y="147"/>
                  </a:lnTo>
                  <a:lnTo>
                    <a:pt x="741" y="147"/>
                  </a:lnTo>
                  <a:lnTo>
                    <a:pt x="756" y="124"/>
                  </a:lnTo>
                  <a:lnTo>
                    <a:pt x="756" y="119"/>
                  </a:lnTo>
                  <a:lnTo>
                    <a:pt x="771" y="119"/>
                  </a:lnTo>
                  <a:lnTo>
                    <a:pt x="787" y="124"/>
                  </a:lnTo>
                  <a:lnTo>
                    <a:pt x="802" y="124"/>
                  </a:lnTo>
                  <a:lnTo>
                    <a:pt x="817" y="124"/>
                  </a:lnTo>
                  <a:lnTo>
                    <a:pt x="832" y="124"/>
                  </a:lnTo>
                  <a:lnTo>
                    <a:pt x="847" y="124"/>
                  </a:lnTo>
                  <a:lnTo>
                    <a:pt x="855" y="119"/>
                  </a:lnTo>
                  <a:lnTo>
                    <a:pt x="870" y="119"/>
                  </a:lnTo>
                  <a:lnTo>
                    <a:pt x="877" y="119"/>
                  </a:lnTo>
                  <a:lnTo>
                    <a:pt x="877" y="124"/>
                  </a:lnTo>
                  <a:lnTo>
                    <a:pt x="893" y="147"/>
                  </a:lnTo>
                  <a:lnTo>
                    <a:pt x="885" y="147"/>
                  </a:lnTo>
                  <a:lnTo>
                    <a:pt x="870" y="147"/>
                  </a:lnTo>
                  <a:lnTo>
                    <a:pt x="855" y="147"/>
                  </a:lnTo>
                  <a:lnTo>
                    <a:pt x="832" y="147"/>
                  </a:lnTo>
                  <a:lnTo>
                    <a:pt x="817" y="147"/>
                  </a:lnTo>
                  <a:lnTo>
                    <a:pt x="802" y="147"/>
                  </a:lnTo>
                  <a:lnTo>
                    <a:pt x="787" y="147"/>
                  </a:lnTo>
                  <a:lnTo>
                    <a:pt x="764" y="147"/>
                  </a:lnTo>
                  <a:lnTo>
                    <a:pt x="749" y="147"/>
                  </a:lnTo>
                  <a:lnTo>
                    <a:pt x="741" y="147"/>
                  </a:lnTo>
                  <a:lnTo>
                    <a:pt x="560" y="147"/>
                  </a:lnTo>
                  <a:lnTo>
                    <a:pt x="567" y="124"/>
                  </a:lnTo>
                  <a:lnTo>
                    <a:pt x="567" y="119"/>
                  </a:lnTo>
                  <a:lnTo>
                    <a:pt x="575" y="119"/>
                  </a:lnTo>
                  <a:lnTo>
                    <a:pt x="590" y="119"/>
                  </a:lnTo>
                  <a:lnTo>
                    <a:pt x="605" y="124"/>
                  </a:lnTo>
                  <a:lnTo>
                    <a:pt x="613" y="124"/>
                  </a:lnTo>
                  <a:lnTo>
                    <a:pt x="628" y="124"/>
                  </a:lnTo>
                  <a:lnTo>
                    <a:pt x="643" y="124"/>
                  </a:lnTo>
                  <a:lnTo>
                    <a:pt x="658" y="124"/>
                  </a:lnTo>
                  <a:lnTo>
                    <a:pt x="673" y="119"/>
                  </a:lnTo>
                  <a:lnTo>
                    <a:pt x="688" y="119"/>
                  </a:lnTo>
                  <a:lnTo>
                    <a:pt x="688" y="124"/>
                  </a:lnTo>
                  <a:lnTo>
                    <a:pt x="703" y="147"/>
                  </a:lnTo>
                  <a:lnTo>
                    <a:pt x="696" y="147"/>
                  </a:lnTo>
                  <a:lnTo>
                    <a:pt x="681" y="147"/>
                  </a:lnTo>
                  <a:lnTo>
                    <a:pt x="666" y="147"/>
                  </a:lnTo>
                  <a:lnTo>
                    <a:pt x="650" y="147"/>
                  </a:lnTo>
                  <a:lnTo>
                    <a:pt x="628" y="147"/>
                  </a:lnTo>
                  <a:lnTo>
                    <a:pt x="613" y="147"/>
                  </a:lnTo>
                  <a:lnTo>
                    <a:pt x="597" y="147"/>
                  </a:lnTo>
                  <a:lnTo>
                    <a:pt x="582" y="147"/>
                  </a:lnTo>
                  <a:lnTo>
                    <a:pt x="560" y="147"/>
                  </a:lnTo>
                  <a:lnTo>
                    <a:pt x="370" y="147"/>
                  </a:lnTo>
                  <a:lnTo>
                    <a:pt x="378" y="124"/>
                  </a:lnTo>
                  <a:lnTo>
                    <a:pt x="385" y="119"/>
                  </a:lnTo>
                  <a:lnTo>
                    <a:pt x="416" y="124"/>
                  </a:lnTo>
                  <a:lnTo>
                    <a:pt x="438" y="124"/>
                  </a:lnTo>
                  <a:lnTo>
                    <a:pt x="469" y="124"/>
                  </a:lnTo>
                  <a:lnTo>
                    <a:pt x="499" y="119"/>
                  </a:lnTo>
                  <a:lnTo>
                    <a:pt x="499" y="124"/>
                  </a:lnTo>
                  <a:lnTo>
                    <a:pt x="514" y="147"/>
                  </a:lnTo>
                  <a:lnTo>
                    <a:pt x="499" y="147"/>
                  </a:lnTo>
                  <a:lnTo>
                    <a:pt x="476" y="147"/>
                  </a:lnTo>
                  <a:lnTo>
                    <a:pt x="461" y="147"/>
                  </a:lnTo>
                  <a:lnTo>
                    <a:pt x="446" y="147"/>
                  </a:lnTo>
                  <a:lnTo>
                    <a:pt x="431" y="147"/>
                  </a:lnTo>
                  <a:lnTo>
                    <a:pt x="408" y="147"/>
                  </a:lnTo>
                  <a:lnTo>
                    <a:pt x="393" y="147"/>
                  </a:lnTo>
                  <a:lnTo>
                    <a:pt x="378" y="147"/>
                  </a:lnTo>
                  <a:lnTo>
                    <a:pt x="370" y="147"/>
                  </a:lnTo>
                  <a:lnTo>
                    <a:pt x="181" y="147"/>
                  </a:lnTo>
                  <a:lnTo>
                    <a:pt x="196" y="124"/>
                  </a:lnTo>
                  <a:lnTo>
                    <a:pt x="196" y="119"/>
                  </a:lnTo>
                  <a:lnTo>
                    <a:pt x="211" y="119"/>
                  </a:lnTo>
                  <a:lnTo>
                    <a:pt x="227" y="124"/>
                  </a:lnTo>
                  <a:lnTo>
                    <a:pt x="242" y="124"/>
                  </a:lnTo>
                  <a:lnTo>
                    <a:pt x="257" y="124"/>
                  </a:lnTo>
                  <a:lnTo>
                    <a:pt x="272" y="124"/>
                  </a:lnTo>
                  <a:lnTo>
                    <a:pt x="287" y="124"/>
                  </a:lnTo>
                  <a:lnTo>
                    <a:pt x="295" y="119"/>
                  </a:lnTo>
                  <a:lnTo>
                    <a:pt x="310" y="119"/>
                  </a:lnTo>
                  <a:lnTo>
                    <a:pt x="317" y="119"/>
                  </a:lnTo>
                  <a:lnTo>
                    <a:pt x="317" y="124"/>
                  </a:lnTo>
                  <a:lnTo>
                    <a:pt x="325" y="147"/>
                  </a:lnTo>
                  <a:lnTo>
                    <a:pt x="310" y="147"/>
                  </a:lnTo>
                  <a:lnTo>
                    <a:pt x="287" y="147"/>
                  </a:lnTo>
                  <a:lnTo>
                    <a:pt x="272" y="147"/>
                  </a:lnTo>
                  <a:lnTo>
                    <a:pt x="257" y="147"/>
                  </a:lnTo>
                  <a:lnTo>
                    <a:pt x="242" y="147"/>
                  </a:lnTo>
                  <a:lnTo>
                    <a:pt x="219" y="147"/>
                  </a:lnTo>
                  <a:lnTo>
                    <a:pt x="204" y="147"/>
                  </a:lnTo>
                  <a:lnTo>
                    <a:pt x="189" y="147"/>
                  </a:lnTo>
                  <a:lnTo>
                    <a:pt x="181" y="147"/>
                  </a:lnTo>
                  <a:lnTo>
                    <a:pt x="0" y="147"/>
                  </a:lnTo>
                  <a:lnTo>
                    <a:pt x="7" y="124"/>
                  </a:lnTo>
                  <a:lnTo>
                    <a:pt x="7" y="119"/>
                  </a:lnTo>
                  <a:lnTo>
                    <a:pt x="15" y="119"/>
                  </a:lnTo>
                  <a:lnTo>
                    <a:pt x="37" y="124"/>
                  </a:lnTo>
                  <a:lnTo>
                    <a:pt x="68" y="124"/>
                  </a:lnTo>
                  <a:lnTo>
                    <a:pt x="98" y="124"/>
                  </a:lnTo>
                  <a:lnTo>
                    <a:pt x="121" y="119"/>
                  </a:lnTo>
                  <a:lnTo>
                    <a:pt x="128" y="119"/>
                  </a:lnTo>
                  <a:lnTo>
                    <a:pt x="128" y="124"/>
                  </a:lnTo>
                  <a:lnTo>
                    <a:pt x="143" y="147"/>
                  </a:lnTo>
                  <a:lnTo>
                    <a:pt x="136" y="147"/>
                  </a:lnTo>
                  <a:lnTo>
                    <a:pt x="121" y="147"/>
                  </a:lnTo>
                  <a:lnTo>
                    <a:pt x="105" y="147"/>
                  </a:lnTo>
                  <a:lnTo>
                    <a:pt x="90" y="147"/>
                  </a:lnTo>
                  <a:lnTo>
                    <a:pt x="68" y="147"/>
                  </a:lnTo>
                  <a:lnTo>
                    <a:pt x="52" y="147"/>
                  </a:lnTo>
                  <a:lnTo>
                    <a:pt x="37" y="147"/>
                  </a:lnTo>
                  <a:lnTo>
                    <a:pt x="22" y="147"/>
                  </a:lnTo>
                  <a:lnTo>
                    <a:pt x="0" y="147"/>
                  </a:lnTo>
                  <a:lnTo>
                    <a:pt x="2604" y="2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7920" bIns="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59080" y="7805880"/>
              <a:ext cx="716400" cy="154440"/>
            </a:xfrm>
            <a:custGeom>
              <a:avLst/>
              <a:gdLst/>
              <a:ahLst/>
              <a:rect l="0" t="0" r="r" b="b"/>
              <a:pathLst>
                <a:path w="1990" h="429">
                  <a:moveTo>
                    <a:pt x="45" y="0"/>
                  </a:moveTo>
                  <a:lnTo>
                    <a:pt x="15" y="81"/>
                  </a:lnTo>
                  <a:lnTo>
                    <a:pt x="218" y="81"/>
                  </a:lnTo>
                  <a:lnTo>
                    <a:pt x="188" y="0"/>
                  </a:lnTo>
                  <a:lnTo>
                    <a:pt x="45" y="0"/>
                  </a:lnTo>
                  <a:lnTo>
                    <a:pt x="1266" y="0"/>
                  </a:lnTo>
                  <a:lnTo>
                    <a:pt x="1236" y="81"/>
                  </a:lnTo>
                  <a:lnTo>
                    <a:pt x="1432" y="81"/>
                  </a:lnTo>
                  <a:lnTo>
                    <a:pt x="1402" y="0"/>
                  </a:lnTo>
                  <a:lnTo>
                    <a:pt x="1266" y="0"/>
                  </a:lnTo>
                  <a:lnTo>
                    <a:pt x="1447" y="0"/>
                  </a:lnTo>
                  <a:lnTo>
                    <a:pt x="1417" y="81"/>
                  </a:lnTo>
                  <a:lnTo>
                    <a:pt x="1621" y="81"/>
                  </a:lnTo>
                  <a:lnTo>
                    <a:pt x="1591" y="0"/>
                  </a:lnTo>
                  <a:lnTo>
                    <a:pt x="1447" y="0"/>
                  </a:lnTo>
                  <a:lnTo>
                    <a:pt x="1636" y="0"/>
                  </a:lnTo>
                  <a:lnTo>
                    <a:pt x="1606" y="81"/>
                  </a:lnTo>
                  <a:lnTo>
                    <a:pt x="1809" y="81"/>
                  </a:lnTo>
                  <a:lnTo>
                    <a:pt x="1779" y="0"/>
                  </a:lnTo>
                  <a:lnTo>
                    <a:pt x="1636" y="0"/>
                  </a:lnTo>
                  <a:lnTo>
                    <a:pt x="1825" y="0"/>
                  </a:lnTo>
                  <a:lnTo>
                    <a:pt x="1794" y="81"/>
                  </a:lnTo>
                  <a:lnTo>
                    <a:pt x="1990" y="81"/>
                  </a:lnTo>
                  <a:lnTo>
                    <a:pt x="1960" y="0"/>
                  </a:lnTo>
                  <a:lnTo>
                    <a:pt x="1825" y="0"/>
                  </a:lnTo>
                  <a:lnTo>
                    <a:pt x="543" y="348"/>
                  </a:lnTo>
                  <a:lnTo>
                    <a:pt x="528" y="391"/>
                  </a:lnTo>
                  <a:lnTo>
                    <a:pt x="528" y="429"/>
                  </a:lnTo>
                  <a:lnTo>
                    <a:pt x="837" y="429"/>
                  </a:lnTo>
                  <a:lnTo>
                    <a:pt x="807" y="348"/>
                  </a:lnTo>
                  <a:lnTo>
                    <a:pt x="543" y="348"/>
                  </a:lnTo>
                  <a:lnTo>
                    <a:pt x="30" y="195"/>
                  </a:lnTo>
                  <a:lnTo>
                    <a:pt x="0" y="271"/>
                  </a:lnTo>
                  <a:lnTo>
                    <a:pt x="0" y="413"/>
                  </a:lnTo>
                  <a:lnTo>
                    <a:pt x="15" y="429"/>
                  </a:lnTo>
                  <a:lnTo>
                    <a:pt x="308" y="429"/>
                  </a:lnTo>
                  <a:lnTo>
                    <a:pt x="308" y="381"/>
                  </a:lnTo>
                  <a:lnTo>
                    <a:pt x="535" y="381"/>
                  </a:lnTo>
                  <a:lnTo>
                    <a:pt x="505" y="304"/>
                  </a:lnTo>
                  <a:lnTo>
                    <a:pt x="293" y="304"/>
                  </a:lnTo>
                  <a:lnTo>
                    <a:pt x="278" y="271"/>
                  </a:lnTo>
                  <a:lnTo>
                    <a:pt x="331" y="271"/>
                  </a:lnTo>
                  <a:lnTo>
                    <a:pt x="301" y="195"/>
                  </a:lnTo>
                  <a:lnTo>
                    <a:pt x="30" y="195"/>
                  </a:lnTo>
                  <a:lnTo>
                    <a:pt x="45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765520" y="7867800"/>
              <a:ext cx="254520" cy="95760"/>
            </a:xfrm>
            <a:custGeom>
              <a:avLst/>
              <a:gdLst/>
              <a:ahLst/>
              <a:rect l="0" t="0" r="r" b="b"/>
              <a:pathLst>
                <a:path w="707" h="266">
                  <a:moveTo>
                    <a:pt x="21" y="0"/>
                  </a:moveTo>
                  <a:lnTo>
                    <a:pt x="0" y="62"/>
                  </a:lnTo>
                  <a:lnTo>
                    <a:pt x="534" y="62"/>
                  </a:lnTo>
                  <a:lnTo>
                    <a:pt x="541" y="266"/>
                  </a:lnTo>
                  <a:lnTo>
                    <a:pt x="707" y="266"/>
                  </a:lnTo>
                  <a:lnTo>
                    <a:pt x="707" y="46"/>
                  </a:lnTo>
                  <a:lnTo>
                    <a:pt x="693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765520" y="7886880"/>
              <a:ext cx="190800" cy="16200"/>
            </a:xfrm>
            <a:custGeom>
              <a:avLst/>
              <a:gdLst/>
              <a:ahLst/>
              <a:rect l="0" t="0" r="r" b="b"/>
              <a:pathLst>
                <a:path w="530" h="45">
                  <a:moveTo>
                    <a:pt x="21" y="0"/>
                  </a:moveTo>
                  <a:lnTo>
                    <a:pt x="0" y="45"/>
                  </a:lnTo>
                  <a:lnTo>
                    <a:pt x="183" y="45"/>
                  </a:lnTo>
                  <a:lnTo>
                    <a:pt x="155" y="0"/>
                  </a:lnTo>
                  <a:lnTo>
                    <a:pt x="21" y="0"/>
                  </a:lnTo>
                  <a:lnTo>
                    <a:pt x="190" y="0"/>
                  </a:lnTo>
                  <a:lnTo>
                    <a:pt x="169" y="45"/>
                  </a:lnTo>
                  <a:lnTo>
                    <a:pt x="353" y="45"/>
                  </a:lnTo>
                  <a:lnTo>
                    <a:pt x="325" y="0"/>
                  </a:lnTo>
                  <a:lnTo>
                    <a:pt x="190" y="0"/>
                  </a:lnTo>
                  <a:lnTo>
                    <a:pt x="367" y="0"/>
                  </a:lnTo>
                  <a:lnTo>
                    <a:pt x="346" y="45"/>
                  </a:lnTo>
                  <a:lnTo>
                    <a:pt x="530" y="45"/>
                  </a:lnTo>
                  <a:lnTo>
                    <a:pt x="501" y="0"/>
                  </a:lnTo>
                  <a:lnTo>
                    <a:pt x="3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765520" y="7907400"/>
              <a:ext cx="190800" cy="18000"/>
            </a:xfrm>
            <a:custGeom>
              <a:avLst/>
              <a:gdLst/>
              <a:ahLst/>
              <a:rect l="0" t="0" r="r" b="b"/>
              <a:pathLst>
                <a:path w="530" h="50">
                  <a:moveTo>
                    <a:pt x="21" y="0"/>
                  </a:moveTo>
                  <a:lnTo>
                    <a:pt x="0" y="50"/>
                  </a:lnTo>
                  <a:lnTo>
                    <a:pt x="183" y="50"/>
                  </a:lnTo>
                  <a:lnTo>
                    <a:pt x="155" y="0"/>
                  </a:lnTo>
                  <a:lnTo>
                    <a:pt x="21" y="0"/>
                  </a:lnTo>
                  <a:lnTo>
                    <a:pt x="190" y="0"/>
                  </a:lnTo>
                  <a:lnTo>
                    <a:pt x="169" y="50"/>
                  </a:lnTo>
                  <a:lnTo>
                    <a:pt x="353" y="50"/>
                  </a:lnTo>
                  <a:lnTo>
                    <a:pt x="325" y="0"/>
                  </a:lnTo>
                  <a:lnTo>
                    <a:pt x="190" y="0"/>
                  </a:lnTo>
                  <a:lnTo>
                    <a:pt x="367" y="0"/>
                  </a:lnTo>
                  <a:lnTo>
                    <a:pt x="346" y="50"/>
                  </a:lnTo>
                  <a:lnTo>
                    <a:pt x="530" y="50"/>
                  </a:lnTo>
                  <a:lnTo>
                    <a:pt x="501" y="0"/>
                  </a:lnTo>
                  <a:lnTo>
                    <a:pt x="3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765520" y="7926480"/>
              <a:ext cx="190800" cy="18000"/>
            </a:xfrm>
            <a:custGeom>
              <a:avLst/>
              <a:gdLst/>
              <a:ahLst/>
              <a:rect l="0" t="0" r="r" b="b"/>
              <a:pathLst>
                <a:path w="530" h="50">
                  <a:moveTo>
                    <a:pt x="21" y="0"/>
                  </a:moveTo>
                  <a:lnTo>
                    <a:pt x="0" y="50"/>
                  </a:lnTo>
                  <a:lnTo>
                    <a:pt x="183" y="50"/>
                  </a:lnTo>
                  <a:lnTo>
                    <a:pt x="155" y="0"/>
                  </a:lnTo>
                  <a:lnTo>
                    <a:pt x="21" y="0"/>
                  </a:lnTo>
                  <a:lnTo>
                    <a:pt x="190" y="0"/>
                  </a:lnTo>
                  <a:lnTo>
                    <a:pt x="169" y="50"/>
                  </a:lnTo>
                  <a:lnTo>
                    <a:pt x="353" y="50"/>
                  </a:lnTo>
                  <a:lnTo>
                    <a:pt x="325" y="0"/>
                  </a:lnTo>
                  <a:lnTo>
                    <a:pt x="190" y="0"/>
                  </a:lnTo>
                  <a:lnTo>
                    <a:pt x="367" y="0"/>
                  </a:lnTo>
                  <a:lnTo>
                    <a:pt x="346" y="50"/>
                  </a:lnTo>
                  <a:lnTo>
                    <a:pt x="530" y="50"/>
                  </a:lnTo>
                  <a:lnTo>
                    <a:pt x="501" y="0"/>
                  </a:lnTo>
                  <a:lnTo>
                    <a:pt x="3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765520" y="7945560"/>
              <a:ext cx="190800" cy="18000"/>
            </a:xfrm>
            <a:custGeom>
              <a:avLst/>
              <a:gdLst/>
              <a:ahLst/>
              <a:rect l="0" t="0" r="r" b="b"/>
              <a:pathLst>
                <a:path w="530" h="50">
                  <a:moveTo>
                    <a:pt x="21" y="0"/>
                  </a:moveTo>
                  <a:lnTo>
                    <a:pt x="0" y="50"/>
                  </a:lnTo>
                  <a:lnTo>
                    <a:pt x="353" y="50"/>
                  </a:lnTo>
                  <a:lnTo>
                    <a:pt x="332" y="0"/>
                  </a:lnTo>
                  <a:lnTo>
                    <a:pt x="21" y="0"/>
                  </a:lnTo>
                  <a:lnTo>
                    <a:pt x="367" y="0"/>
                  </a:lnTo>
                  <a:lnTo>
                    <a:pt x="346" y="50"/>
                  </a:lnTo>
                  <a:lnTo>
                    <a:pt x="530" y="50"/>
                  </a:lnTo>
                  <a:lnTo>
                    <a:pt x="501" y="0"/>
                  </a:lnTo>
                  <a:lnTo>
                    <a:pt x="367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658880" y="7878600"/>
              <a:ext cx="1286280" cy="59040"/>
            </a:xfrm>
            <a:custGeom>
              <a:avLst/>
              <a:gdLst/>
              <a:ahLst/>
              <a:rect l="0" t="0" r="r" b="b"/>
              <a:pathLst>
                <a:path w="3573" h="164">
                  <a:moveTo>
                    <a:pt x="3429" y="159"/>
                  </a:moveTo>
                  <a:lnTo>
                    <a:pt x="3437" y="135"/>
                  </a:lnTo>
                  <a:lnTo>
                    <a:pt x="3444" y="135"/>
                  </a:lnTo>
                  <a:lnTo>
                    <a:pt x="3475" y="135"/>
                  </a:lnTo>
                  <a:lnTo>
                    <a:pt x="3497" y="135"/>
                  </a:lnTo>
                  <a:lnTo>
                    <a:pt x="3528" y="135"/>
                  </a:lnTo>
                  <a:lnTo>
                    <a:pt x="3558" y="135"/>
                  </a:lnTo>
                  <a:lnTo>
                    <a:pt x="3566" y="135"/>
                  </a:lnTo>
                  <a:lnTo>
                    <a:pt x="3573" y="159"/>
                  </a:lnTo>
                  <a:lnTo>
                    <a:pt x="3558" y="159"/>
                  </a:lnTo>
                  <a:lnTo>
                    <a:pt x="3535" y="164"/>
                  </a:lnTo>
                  <a:lnTo>
                    <a:pt x="3520" y="164"/>
                  </a:lnTo>
                  <a:lnTo>
                    <a:pt x="3505" y="164"/>
                  </a:lnTo>
                  <a:lnTo>
                    <a:pt x="3490" y="164"/>
                  </a:lnTo>
                  <a:lnTo>
                    <a:pt x="3467" y="164"/>
                  </a:lnTo>
                  <a:lnTo>
                    <a:pt x="3452" y="159"/>
                  </a:lnTo>
                  <a:lnTo>
                    <a:pt x="3437" y="159"/>
                  </a:lnTo>
                  <a:lnTo>
                    <a:pt x="3429" y="159"/>
                  </a:lnTo>
                  <a:lnTo>
                    <a:pt x="3049" y="159"/>
                  </a:lnTo>
                  <a:lnTo>
                    <a:pt x="3057" y="135"/>
                  </a:lnTo>
                  <a:lnTo>
                    <a:pt x="3064" y="135"/>
                  </a:lnTo>
                  <a:lnTo>
                    <a:pt x="3102" y="135"/>
                  </a:lnTo>
                  <a:lnTo>
                    <a:pt x="3140" y="135"/>
                  </a:lnTo>
                  <a:lnTo>
                    <a:pt x="3178" y="135"/>
                  </a:lnTo>
                  <a:lnTo>
                    <a:pt x="3216" y="135"/>
                  </a:lnTo>
                  <a:lnTo>
                    <a:pt x="3262" y="135"/>
                  </a:lnTo>
                  <a:lnTo>
                    <a:pt x="3300" y="135"/>
                  </a:lnTo>
                  <a:lnTo>
                    <a:pt x="3338" y="135"/>
                  </a:lnTo>
                  <a:lnTo>
                    <a:pt x="3376" y="135"/>
                  </a:lnTo>
                  <a:lnTo>
                    <a:pt x="3383" y="135"/>
                  </a:lnTo>
                  <a:lnTo>
                    <a:pt x="3391" y="159"/>
                  </a:lnTo>
                  <a:lnTo>
                    <a:pt x="3391" y="164"/>
                  </a:lnTo>
                  <a:lnTo>
                    <a:pt x="3353" y="164"/>
                  </a:lnTo>
                  <a:lnTo>
                    <a:pt x="3307" y="164"/>
                  </a:lnTo>
                  <a:lnTo>
                    <a:pt x="3269" y="164"/>
                  </a:lnTo>
                  <a:lnTo>
                    <a:pt x="3224" y="164"/>
                  </a:lnTo>
                  <a:lnTo>
                    <a:pt x="3178" y="164"/>
                  </a:lnTo>
                  <a:lnTo>
                    <a:pt x="3140" y="164"/>
                  </a:lnTo>
                  <a:lnTo>
                    <a:pt x="3102" y="164"/>
                  </a:lnTo>
                  <a:lnTo>
                    <a:pt x="3057" y="164"/>
                  </a:lnTo>
                  <a:lnTo>
                    <a:pt x="3057" y="159"/>
                  </a:lnTo>
                  <a:lnTo>
                    <a:pt x="3049" y="159"/>
                  </a:lnTo>
                  <a:lnTo>
                    <a:pt x="3429" y="116"/>
                  </a:lnTo>
                  <a:lnTo>
                    <a:pt x="3437" y="92"/>
                  </a:lnTo>
                  <a:lnTo>
                    <a:pt x="3444" y="87"/>
                  </a:lnTo>
                  <a:lnTo>
                    <a:pt x="3459" y="87"/>
                  </a:lnTo>
                  <a:lnTo>
                    <a:pt x="3475" y="92"/>
                  </a:lnTo>
                  <a:lnTo>
                    <a:pt x="3482" y="92"/>
                  </a:lnTo>
                  <a:lnTo>
                    <a:pt x="3497" y="92"/>
                  </a:lnTo>
                  <a:lnTo>
                    <a:pt x="3513" y="92"/>
                  </a:lnTo>
                  <a:lnTo>
                    <a:pt x="3528" y="92"/>
                  </a:lnTo>
                  <a:lnTo>
                    <a:pt x="3543" y="87"/>
                  </a:lnTo>
                  <a:lnTo>
                    <a:pt x="3558" y="87"/>
                  </a:lnTo>
                  <a:lnTo>
                    <a:pt x="3558" y="92"/>
                  </a:lnTo>
                  <a:lnTo>
                    <a:pt x="3573" y="116"/>
                  </a:lnTo>
                  <a:lnTo>
                    <a:pt x="3558" y="116"/>
                  </a:lnTo>
                  <a:lnTo>
                    <a:pt x="3535" y="120"/>
                  </a:lnTo>
                  <a:lnTo>
                    <a:pt x="3520" y="120"/>
                  </a:lnTo>
                  <a:lnTo>
                    <a:pt x="3505" y="120"/>
                  </a:lnTo>
                  <a:lnTo>
                    <a:pt x="3490" y="120"/>
                  </a:lnTo>
                  <a:lnTo>
                    <a:pt x="3467" y="120"/>
                  </a:lnTo>
                  <a:lnTo>
                    <a:pt x="3452" y="116"/>
                  </a:lnTo>
                  <a:lnTo>
                    <a:pt x="3437" y="116"/>
                  </a:lnTo>
                  <a:lnTo>
                    <a:pt x="3429" y="116"/>
                  </a:lnTo>
                  <a:lnTo>
                    <a:pt x="3239" y="116"/>
                  </a:lnTo>
                  <a:lnTo>
                    <a:pt x="3254" y="92"/>
                  </a:lnTo>
                  <a:lnTo>
                    <a:pt x="3254" y="87"/>
                  </a:lnTo>
                  <a:lnTo>
                    <a:pt x="3269" y="87"/>
                  </a:lnTo>
                  <a:lnTo>
                    <a:pt x="3285" y="92"/>
                  </a:lnTo>
                  <a:lnTo>
                    <a:pt x="3300" y="92"/>
                  </a:lnTo>
                  <a:lnTo>
                    <a:pt x="3315" y="92"/>
                  </a:lnTo>
                  <a:lnTo>
                    <a:pt x="3330" y="92"/>
                  </a:lnTo>
                  <a:lnTo>
                    <a:pt x="3345" y="92"/>
                  </a:lnTo>
                  <a:lnTo>
                    <a:pt x="3353" y="87"/>
                  </a:lnTo>
                  <a:lnTo>
                    <a:pt x="3368" y="87"/>
                  </a:lnTo>
                  <a:lnTo>
                    <a:pt x="3376" y="87"/>
                  </a:lnTo>
                  <a:lnTo>
                    <a:pt x="3376" y="92"/>
                  </a:lnTo>
                  <a:lnTo>
                    <a:pt x="3383" y="116"/>
                  </a:lnTo>
                  <a:lnTo>
                    <a:pt x="3368" y="116"/>
                  </a:lnTo>
                  <a:lnTo>
                    <a:pt x="3345" y="120"/>
                  </a:lnTo>
                  <a:lnTo>
                    <a:pt x="3330" y="120"/>
                  </a:lnTo>
                  <a:lnTo>
                    <a:pt x="3315" y="120"/>
                  </a:lnTo>
                  <a:lnTo>
                    <a:pt x="3300" y="120"/>
                  </a:lnTo>
                  <a:lnTo>
                    <a:pt x="3277" y="120"/>
                  </a:lnTo>
                  <a:lnTo>
                    <a:pt x="3262" y="116"/>
                  </a:lnTo>
                  <a:lnTo>
                    <a:pt x="3247" y="116"/>
                  </a:lnTo>
                  <a:lnTo>
                    <a:pt x="3239" y="116"/>
                  </a:lnTo>
                  <a:lnTo>
                    <a:pt x="3057" y="116"/>
                  </a:lnTo>
                  <a:lnTo>
                    <a:pt x="3064" y="92"/>
                  </a:lnTo>
                  <a:lnTo>
                    <a:pt x="3072" y="87"/>
                  </a:lnTo>
                  <a:lnTo>
                    <a:pt x="3102" y="92"/>
                  </a:lnTo>
                  <a:lnTo>
                    <a:pt x="3125" y="92"/>
                  </a:lnTo>
                  <a:lnTo>
                    <a:pt x="3155" y="92"/>
                  </a:lnTo>
                  <a:lnTo>
                    <a:pt x="3178" y="87"/>
                  </a:lnTo>
                  <a:lnTo>
                    <a:pt x="3186" y="87"/>
                  </a:lnTo>
                  <a:lnTo>
                    <a:pt x="3186" y="92"/>
                  </a:lnTo>
                  <a:lnTo>
                    <a:pt x="3201" y="116"/>
                  </a:lnTo>
                  <a:lnTo>
                    <a:pt x="3193" y="116"/>
                  </a:lnTo>
                  <a:lnTo>
                    <a:pt x="3178" y="116"/>
                  </a:lnTo>
                  <a:lnTo>
                    <a:pt x="3163" y="120"/>
                  </a:lnTo>
                  <a:lnTo>
                    <a:pt x="3148" y="120"/>
                  </a:lnTo>
                  <a:lnTo>
                    <a:pt x="3133" y="120"/>
                  </a:lnTo>
                  <a:lnTo>
                    <a:pt x="3117" y="120"/>
                  </a:lnTo>
                  <a:lnTo>
                    <a:pt x="3095" y="120"/>
                  </a:lnTo>
                  <a:lnTo>
                    <a:pt x="3079" y="116"/>
                  </a:lnTo>
                  <a:lnTo>
                    <a:pt x="3064" y="116"/>
                  </a:lnTo>
                  <a:lnTo>
                    <a:pt x="3057" y="116"/>
                  </a:lnTo>
                  <a:lnTo>
                    <a:pt x="3429" y="71"/>
                  </a:lnTo>
                  <a:lnTo>
                    <a:pt x="3437" y="47"/>
                  </a:lnTo>
                  <a:lnTo>
                    <a:pt x="3437" y="43"/>
                  </a:lnTo>
                  <a:lnTo>
                    <a:pt x="3444" y="43"/>
                  </a:lnTo>
                  <a:lnTo>
                    <a:pt x="3459" y="43"/>
                  </a:lnTo>
                  <a:lnTo>
                    <a:pt x="3475" y="47"/>
                  </a:lnTo>
                  <a:lnTo>
                    <a:pt x="3482" y="47"/>
                  </a:lnTo>
                  <a:lnTo>
                    <a:pt x="3497" y="47"/>
                  </a:lnTo>
                  <a:lnTo>
                    <a:pt x="3513" y="47"/>
                  </a:lnTo>
                  <a:lnTo>
                    <a:pt x="3528" y="47"/>
                  </a:lnTo>
                  <a:lnTo>
                    <a:pt x="3543" y="43"/>
                  </a:lnTo>
                  <a:lnTo>
                    <a:pt x="3558" y="43"/>
                  </a:lnTo>
                  <a:lnTo>
                    <a:pt x="3558" y="47"/>
                  </a:lnTo>
                  <a:lnTo>
                    <a:pt x="3573" y="71"/>
                  </a:lnTo>
                  <a:lnTo>
                    <a:pt x="3558" y="71"/>
                  </a:lnTo>
                  <a:lnTo>
                    <a:pt x="3535" y="71"/>
                  </a:lnTo>
                  <a:lnTo>
                    <a:pt x="3520" y="71"/>
                  </a:lnTo>
                  <a:lnTo>
                    <a:pt x="3505" y="71"/>
                  </a:lnTo>
                  <a:lnTo>
                    <a:pt x="3490" y="71"/>
                  </a:lnTo>
                  <a:lnTo>
                    <a:pt x="3467" y="71"/>
                  </a:lnTo>
                  <a:lnTo>
                    <a:pt x="3452" y="71"/>
                  </a:lnTo>
                  <a:lnTo>
                    <a:pt x="3437" y="71"/>
                  </a:lnTo>
                  <a:lnTo>
                    <a:pt x="3429" y="71"/>
                  </a:lnTo>
                  <a:lnTo>
                    <a:pt x="3239" y="71"/>
                  </a:lnTo>
                  <a:lnTo>
                    <a:pt x="3254" y="47"/>
                  </a:lnTo>
                  <a:lnTo>
                    <a:pt x="3254" y="43"/>
                  </a:lnTo>
                  <a:lnTo>
                    <a:pt x="3269" y="43"/>
                  </a:lnTo>
                  <a:lnTo>
                    <a:pt x="3285" y="47"/>
                  </a:lnTo>
                  <a:lnTo>
                    <a:pt x="3300" y="47"/>
                  </a:lnTo>
                  <a:lnTo>
                    <a:pt x="3315" y="47"/>
                  </a:lnTo>
                  <a:lnTo>
                    <a:pt x="3330" y="47"/>
                  </a:lnTo>
                  <a:lnTo>
                    <a:pt x="3345" y="47"/>
                  </a:lnTo>
                  <a:lnTo>
                    <a:pt x="3353" y="43"/>
                  </a:lnTo>
                  <a:lnTo>
                    <a:pt x="3368" y="43"/>
                  </a:lnTo>
                  <a:lnTo>
                    <a:pt x="3376" y="43"/>
                  </a:lnTo>
                  <a:lnTo>
                    <a:pt x="3376" y="47"/>
                  </a:lnTo>
                  <a:lnTo>
                    <a:pt x="3383" y="71"/>
                  </a:lnTo>
                  <a:lnTo>
                    <a:pt x="3368" y="71"/>
                  </a:lnTo>
                  <a:lnTo>
                    <a:pt x="3345" y="71"/>
                  </a:lnTo>
                  <a:lnTo>
                    <a:pt x="3330" y="71"/>
                  </a:lnTo>
                  <a:lnTo>
                    <a:pt x="3315" y="71"/>
                  </a:lnTo>
                  <a:lnTo>
                    <a:pt x="3300" y="71"/>
                  </a:lnTo>
                  <a:lnTo>
                    <a:pt x="3277" y="71"/>
                  </a:lnTo>
                  <a:lnTo>
                    <a:pt x="3262" y="71"/>
                  </a:lnTo>
                  <a:lnTo>
                    <a:pt x="3247" y="71"/>
                  </a:lnTo>
                  <a:lnTo>
                    <a:pt x="3239" y="71"/>
                  </a:lnTo>
                  <a:lnTo>
                    <a:pt x="3057" y="71"/>
                  </a:lnTo>
                  <a:lnTo>
                    <a:pt x="3064" y="47"/>
                  </a:lnTo>
                  <a:lnTo>
                    <a:pt x="3064" y="43"/>
                  </a:lnTo>
                  <a:lnTo>
                    <a:pt x="3072" y="43"/>
                  </a:lnTo>
                  <a:lnTo>
                    <a:pt x="3102" y="47"/>
                  </a:lnTo>
                  <a:lnTo>
                    <a:pt x="3125" y="47"/>
                  </a:lnTo>
                  <a:lnTo>
                    <a:pt x="3155" y="47"/>
                  </a:lnTo>
                  <a:lnTo>
                    <a:pt x="3178" y="43"/>
                  </a:lnTo>
                  <a:lnTo>
                    <a:pt x="3186" y="43"/>
                  </a:lnTo>
                  <a:lnTo>
                    <a:pt x="3186" y="47"/>
                  </a:lnTo>
                  <a:lnTo>
                    <a:pt x="3201" y="71"/>
                  </a:lnTo>
                  <a:lnTo>
                    <a:pt x="3193" y="71"/>
                  </a:lnTo>
                  <a:lnTo>
                    <a:pt x="3178" y="71"/>
                  </a:lnTo>
                  <a:lnTo>
                    <a:pt x="3163" y="71"/>
                  </a:lnTo>
                  <a:lnTo>
                    <a:pt x="3148" y="71"/>
                  </a:lnTo>
                  <a:lnTo>
                    <a:pt x="3133" y="71"/>
                  </a:lnTo>
                  <a:lnTo>
                    <a:pt x="3117" y="71"/>
                  </a:lnTo>
                  <a:lnTo>
                    <a:pt x="3095" y="71"/>
                  </a:lnTo>
                  <a:lnTo>
                    <a:pt x="3079" y="71"/>
                  </a:lnTo>
                  <a:lnTo>
                    <a:pt x="3064" y="71"/>
                  </a:lnTo>
                  <a:lnTo>
                    <a:pt x="3057" y="71"/>
                  </a:lnTo>
                  <a:lnTo>
                    <a:pt x="3429" y="23"/>
                  </a:lnTo>
                  <a:lnTo>
                    <a:pt x="3437" y="0"/>
                  </a:lnTo>
                  <a:lnTo>
                    <a:pt x="3444" y="0"/>
                  </a:lnTo>
                  <a:lnTo>
                    <a:pt x="3459" y="0"/>
                  </a:lnTo>
                  <a:lnTo>
                    <a:pt x="3475" y="0"/>
                  </a:lnTo>
                  <a:lnTo>
                    <a:pt x="3482" y="0"/>
                  </a:lnTo>
                  <a:lnTo>
                    <a:pt x="3497" y="0"/>
                  </a:lnTo>
                  <a:lnTo>
                    <a:pt x="3513" y="0"/>
                  </a:lnTo>
                  <a:lnTo>
                    <a:pt x="3528" y="0"/>
                  </a:lnTo>
                  <a:lnTo>
                    <a:pt x="3543" y="0"/>
                  </a:lnTo>
                  <a:lnTo>
                    <a:pt x="3558" y="0"/>
                  </a:lnTo>
                  <a:lnTo>
                    <a:pt x="3573" y="23"/>
                  </a:lnTo>
                  <a:lnTo>
                    <a:pt x="3558" y="23"/>
                  </a:lnTo>
                  <a:lnTo>
                    <a:pt x="3535" y="28"/>
                  </a:lnTo>
                  <a:lnTo>
                    <a:pt x="3520" y="28"/>
                  </a:lnTo>
                  <a:lnTo>
                    <a:pt x="3505" y="28"/>
                  </a:lnTo>
                  <a:lnTo>
                    <a:pt x="3490" y="28"/>
                  </a:lnTo>
                  <a:lnTo>
                    <a:pt x="3467" y="28"/>
                  </a:lnTo>
                  <a:lnTo>
                    <a:pt x="3452" y="23"/>
                  </a:lnTo>
                  <a:lnTo>
                    <a:pt x="3437" y="23"/>
                  </a:lnTo>
                  <a:lnTo>
                    <a:pt x="3429" y="23"/>
                  </a:lnTo>
                  <a:lnTo>
                    <a:pt x="3239" y="23"/>
                  </a:lnTo>
                  <a:lnTo>
                    <a:pt x="3254" y="0"/>
                  </a:lnTo>
                  <a:lnTo>
                    <a:pt x="3269" y="0"/>
                  </a:lnTo>
                  <a:lnTo>
                    <a:pt x="3285" y="0"/>
                  </a:lnTo>
                  <a:lnTo>
                    <a:pt x="3300" y="0"/>
                  </a:lnTo>
                  <a:lnTo>
                    <a:pt x="3315" y="0"/>
                  </a:lnTo>
                  <a:lnTo>
                    <a:pt x="3330" y="0"/>
                  </a:lnTo>
                  <a:lnTo>
                    <a:pt x="3345" y="0"/>
                  </a:lnTo>
                  <a:lnTo>
                    <a:pt x="3353" y="0"/>
                  </a:lnTo>
                  <a:lnTo>
                    <a:pt x="3368" y="0"/>
                  </a:lnTo>
                  <a:lnTo>
                    <a:pt x="3376" y="0"/>
                  </a:lnTo>
                  <a:lnTo>
                    <a:pt x="3383" y="23"/>
                  </a:lnTo>
                  <a:lnTo>
                    <a:pt x="3368" y="23"/>
                  </a:lnTo>
                  <a:lnTo>
                    <a:pt x="3345" y="28"/>
                  </a:lnTo>
                  <a:lnTo>
                    <a:pt x="3330" y="28"/>
                  </a:lnTo>
                  <a:lnTo>
                    <a:pt x="3315" y="28"/>
                  </a:lnTo>
                  <a:lnTo>
                    <a:pt x="3300" y="28"/>
                  </a:lnTo>
                  <a:lnTo>
                    <a:pt x="3277" y="28"/>
                  </a:lnTo>
                  <a:lnTo>
                    <a:pt x="3262" y="23"/>
                  </a:lnTo>
                  <a:lnTo>
                    <a:pt x="3247" y="23"/>
                  </a:lnTo>
                  <a:lnTo>
                    <a:pt x="3239" y="23"/>
                  </a:lnTo>
                  <a:lnTo>
                    <a:pt x="3057" y="23"/>
                  </a:lnTo>
                  <a:lnTo>
                    <a:pt x="3064" y="0"/>
                  </a:lnTo>
                  <a:lnTo>
                    <a:pt x="3072" y="0"/>
                  </a:lnTo>
                  <a:lnTo>
                    <a:pt x="3102" y="0"/>
                  </a:lnTo>
                  <a:lnTo>
                    <a:pt x="3125" y="0"/>
                  </a:lnTo>
                  <a:lnTo>
                    <a:pt x="3155" y="0"/>
                  </a:lnTo>
                  <a:lnTo>
                    <a:pt x="3178" y="0"/>
                  </a:lnTo>
                  <a:lnTo>
                    <a:pt x="3186" y="0"/>
                  </a:lnTo>
                  <a:lnTo>
                    <a:pt x="3201" y="23"/>
                  </a:lnTo>
                  <a:lnTo>
                    <a:pt x="3193" y="23"/>
                  </a:lnTo>
                  <a:lnTo>
                    <a:pt x="3178" y="23"/>
                  </a:lnTo>
                  <a:lnTo>
                    <a:pt x="3163" y="28"/>
                  </a:lnTo>
                  <a:lnTo>
                    <a:pt x="3148" y="28"/>
                  </a:lnTo>
                  <a:lnTo>
                    <a:pt x="3133" y="28"/>
                  </a:lnTo>
                  <a:lnTo>
                    <a:pt x="3117" y="28"/>
                  </a:lnTo>
                  <a:lnTo>
                    <a:pt x="3095" y="28"/>
                  </a:lnTo>
                  <a:lnTo>
                    <a:pt x="3079" y="23"/>
                  </a:lnTo>
                  <a:lnTo>
                    <a:pt x="3064" y="23"/>
                  </a:lnTo>
                  <a:lnTo>
                    <a:pt x="3057" y="23"/>
                  </a:lnTo>
                  <a:lnTo>
                    <a:pt x="1528" y="159"/>
                  </a:lnTo>
                  <a:lnTo>
                    <a:pt x="1536" y="159"/>
                  </a:lnTo>
                  <a:lnTo>
                    <a:pt x="1536" y="154"/>
                  </a:lnTo>
                  <a:lnTo>
                    <a:pt x="1528" y="135"/>
                  </a:lnTo>
                  <a:lnTo>
                    <a:pt x="1528" y="130"/>
                  </a:lnTo>
                  <a:lnTo>
                    <a:pt x="1520" y="130"/>
                  </a:lnTo>
                  <a:lnTo>
                    <a:pt x="1444" y="130"/>
                  </a:lnTo>
                  <a:lnTo>
                    <a:pt x="1368" y="135"/>
                  </a:lnTo>
                  <a:lnTo>
                    <a:pt x="1292" y="135"/>
                  </a:lnTo>
                  <a:lnTo>
                    <a:pt x="1216" y="135"/>
                  </a:lnTo>
                  <a:lnTo>
                    <a:pt x="1140" y="135"/>
                  </a:lnTo>
                  <a:lnTo>
                    <a:pt x="1064" y="135"/>
                  </a:lnTo>
                  <a:lnTo>
                    <a:pt x="988" y="135"/>
                  </a:lnTo>
                  <a:lnTo>
                    <a:pt x="912" y="135"/>
                  </a:lnTo>
                  <a:lnTo>
                    <a:pt x="843" y="135"/>
                  </a:lnTo>
                  <a:lnTo>
                    <a:pt x="767" y="135"/>
                  </a:lnTo>
                  <a:lnTo>
                    <a:pt x="691" y="135"/>
                  </a:lnTo>
                  <a:lnTo>
                    <a:pt x="615" y="135"/>
                  </a:lnTo>
                  <a:lnTo>
                    <a:pt x="539" y="135"/>
                  </a:lnTo>
                  <a:lnTo>
                    <a:pt x="463" y="135"/>
                  </a:lnTo>
                  <a:lnTo>
                    <a:pt x="387" y="130"/>
                  </a:lnTo>
                  <a:lnTo>
                    <a:pt x="311" y="130"/>
                  </a:lnTo>
                  <a:lnTo>
                    <a:pt x="303" y="130"/>
                  </a:lnTo>
                  <a:lnTo>
                    <a:pt x="296" y="154"/>
                  </a:lnTo>
                  <a:lnTo>
                    <a:pt x="296" y="159"/>
                  </a:lnTo>
                  <a:lnTo>
                    <a:pt x="303" y="159"/>
                  </a:lnTo>
                  <a:lnTo>
                    <a:pt x="379" y="159"/>
                  </a:lnTo>
                  <a:lnTo>
                    <a:pt x="455" y="159"/>
                  </a:lnTo>
                  <a:lnTo>
                    <a:pt x="531" y="159"/>
                  </a:lnTo>
                  <a:lnTo>
                    <a:pt x="607" y="164"/>
                  </a:lnTo>
                  <a:lnTo>
                    <a:pt x="683" y="164"/>
                  </a:lnTo>
                  <a:lnTo>
                    <a:pt x="759" y="164"/>
                  </a:lnTo>
                  <a:lnTo>
                    <a:pt x="835" y="164"/>
                  </a:lnTo>
                  <a:lnTo>
                    <a:pt x="912" y="164"/>
                  </a:lnTo>
                  <a:lnTo>
                    <a:pt x="996" y="164"/>
                  </a:lnTo>
                  <a:lnTo>
                    <a:pt x="1072" y="164"/>
                  </a:lnTo>
                  <a:lnTo>
                    <a:pt x="1148" y="164"/>
                  </a:lnTo>
                  <a:lnTo>
                    <a:pt x="1224" y="164"/>
                  </a:lnTo>
                  <a:lnTo>
                    <a:pt x="1300" y="159"/>
                  </a:lnTo>
                  <a:lnTo>
                    <a:pt x="1376" y="159"/>
                  </a:lnTo>
                  <a:lnTo>
                    <a:pt x="1452" y="159"/>
                  </a:lnTo>
                  <a:lnTo>
                    <a:pt x="1528" y="159"/>
                  </a:lnTo>
                  <a:lnTo>
                    <a:pt x="1688" y="111"/>
                  </a:lnTo>
                  <a:lnTo>
                    <a:pt x="1695" y="92"/>
                  </a:lnTo>
                  <a:lnTo>
                    <a:pt x="1695" y="87"/>
                  </a:lnTo>
                  <a:lnTo>
                    <a:pt x="1703" y="87"/>
                  </a:lnTo>
                  <a:lnTo>
                    <a:pt x="1733" y="92"/>
                  </a:lnTo>
                  <a:lnTo>
                    <a:pt x="1756" y="92"/>
                  </a:lnTo>
                  <a:lnTo>
                    <a:pt x="1786" y="92"/>
                  </a:lnTo>
                  <a:lnTo>
                    <a:pt x="1817" y="87"/>
                  </a:lnTo>
                  <a:lnTo>
                    <a:pt x="1832" y="116"/>
                  </a:lnTo>
                  <a:lnTo>
                    <a:pt x="1824" y="116"/>
                  </a:lnTo>
                  <a:lnTo>
                    <a:pt x="1817" y="116"/>
                  </a:lnTo>
                  <a:lnTo>
                    <a:pt x="1794" y="116"/>
                  </a:lnTo>
                  <a:lnTo>
                    <a:pt x="1779" y="116"/>
                  </a:lnTo>
                  <a:lnTo>
                    <a:pt x="1764" y="116"/>
                  </a:lnTo>
                  <a:lnTo>
                    <a:pt x="1748" y="116"/>
                  </a:lnTo>
                  <a:lnTo>
                    <a:pt x="1726" y="116"/>
                  </a:lnTo>
                  <a:lnTo>
                    <a:pt x="1710" y="116"/>
                  </a:lnTo>
                  <a:lnTo>
                    <a:pt x="1695" y="116"/>
                  </a:lnTo>
                  <a:lnTo>
                    <a:pt x="1688" y="116"/>
                  </a:lnTo>
                  <a:lnTo>
                    <a:pt x="1688" y="111"/>
                  </a:lnTo>
                  <a:lnTo>
                    <a:pt x="1505" y="111"/>
                  </a:lnTo>
                  <a:lnTo>
                    <a:pt x="1513" y="92"/>
                  </a:lnTo>
                  <a:lnTo>
                    <a:pt x="1513" y="87"/>
                  </a:lnTo>
                  <a:lnTo>
                    <a:pt x="1520" y="87"/>
                  </a:lnTo>
                  <a:lnTo>
                    <a:pt x="1543" y="92"/>
                  </a:lnTo>
                  <a:lnTo>
                    <a:pt x="1574" y="92"/>
                  </a:lnTo>
                  <a:lnTo>
                    <a:pt x="1604" y="92"/>
                  </a:lnTo>
                  <a:lnTo>
                    <a:pt x="1627" y="87"/>
                  </a:lnTo>
                  <a:lnTo>
                    <a:pt x="1634" y="87"/>
                  </a:lnTo>
                  <a:lnTo>
                    <a:pt x="1642" y="116"/>
                  </a:lnTo>
                  <a:lnTo>
                    <a:pt x="1627" y="116"/>
                  </a:lnTo>
                  <a:lnTo>
                    <a:pt x="1604" y="116"/>
                  </a:lnTo>
                  <a:lnTo>
                    <a:pt x="1589" y="116"/>
                  </a:lnTo>
                  <a:lnTo>
                    <a:pt x="1574" y="116"/>
                  </a:lnTo>
                  <a:lnTo>
                    <a:pt x="1558" y="116"/>
                  </a:lnTo>
                  <a:lnTo>
                    <a:pt x="1543" y="116"/>
                  </a:lnTo>
                  <a:lnTo>
                    <a:pt x="1528" y="116"/>
                  </a:lnTo>
                  <a:lnTo>
                    <a:pt x="1505" y="116"/>
                  </a:lnTo>
                  <a:lnTo>
                    <a:pt x="1505" y="111"/>
                  </a:lnTo>
                  <a:lnTo>
                    <a:pt x="1315" y="111"/>
                  </a:lnTo>
                  <a:lnTo>
                    <a:pt x="1323" y="92"/>
                  </a:lnTo>
                  <a:lnTo>
                    <a:pt x="1323" y="87"/>
                  </a:lnTo>
                  <a:lnTo>
                    <a:pt x="1330" y="87"/>
                  </a:lnTo>
                  <a:lnTo>
                    <a:pt x="1346" y="87"/>
                  </a:lnTo>
                  <a:lnTo>
                    <a:pt x="1361" y="92"/>
                  </a:lnTo>
                  <a:lnTo>
                    <a:pt x="1368" y="92"/>
                  </a:lnTo>
                  <a:lnTo>
                    <a:pt x="1384" y="92"/>
                  </a:lnTo>
                  <a:lnTo>
                    <a:pt x="1399" y="92"/>
                  </a:lnTo>
                  <a:lnTo>
                    <a:pt x="1414" y="92"/>
                  </a:lnTo>
                  <a:lnTo>
                    <a:pt x="1429" y="87"/>
                  </a:lnTo>
                  <a:lnTo>
                    <a:pt x="1444" y="87"/>
                  </a:lnTo>
                  <a:lnTo>
                    <a:pt x="1460" y="116"/>
                  </a:lnTo>
                  <a:lnTo>
                    <a:pt x="1444" y="116"/>
                  </a:lnTo>
                  <a:lnTo>
                    <a:pt x="1422" y="116"/>
                  </a:lnTo>
                  <a:lnTo>
                    <a:pt x="1406" y="116"/>
                  </a:lnTo>
                  <a:lnTo>
                    <a:pt x="1391" y="116"/>
                  </a:lnTo>
                  <a:lnTo>
                    <a:pt x="1376" y="116"/>
                  </a:lnTo>
                  <a:lnTo>
                    <a:pt x="1353" y="116"/>
                  </a:lnTo>
                  <a:lnTo>
                    <a:pt x="1338" y="116"/>
                  </a:lnTo>
                  <a:lnTo>
                    <a:pt x="1323" y="116"/>
                  </a:lnTo>
                  <a:lnTo>
                    <a:pt x="1315" y="116"/>
                  </a:lnTo>
                  <a:lnTo>
                    <a:pt x="1315" y="111"/>
                  </a:lnTo>
                  <a:lnTo>
                    <a:pt x="1125" y="111"/>
                  </a:lnTo>
                  <a:lnTo>
                    <a:pt x="1140" y="92"/>
                  </a:lnTo>
                  <a:lnTo>
                    <a:pt x="1140" y="87"/>
                  </a:lnTo>
                  <a:lnTo>
                    <a:pt x="1156" y="87"/>
                  </a:lnTo>
                  <a:lnTo>
                    <a:pt x="1171" y="92"/>
                  </a:lnTo>
                  <a:lnTo>
                    <a:pt x="1186" y="92"/>
                  </a:lnTo>
                  <a:lnTo>
                    <a:pt x="1201" y="92"/>
                  </a:lnTo>
                  <a:lnTo>
                    <a:pt x="1216" y="92"/>
                  </a:lnTo>
                  <a:lnTo>
                    <a:pt x="1232" y="92"/>
                  </a:lnTo>
                  <a:lnTo>
                    <a:pt x="1239" y="87"/>
                  </a:lnTo>
                  <a:lnTo>
                    <a:pt x="1254" y="87"/>
                  </a:lnTo>
                  <a:lnTo>
                    <a:pt x="1262" y="87"/>
                  </a:lnTo>
                  <a:lnTo>
                    <a:pt x="1270" y="116"/>
                  </a:lnTo>
                  <a:lnTo>
                    <a:pt x="1254" y="116"/>
                  </a:lnTo>
                  <a:lnTo>
                    <a:pt x="1232" y="116"/>
                  </a:lnTo>
                  <a:lnTo>
                    <a:pt x="1216" y="116"/>
                  </a:lnTo>
                  <a:lnTo>
                    <a:pt x="1201" y="116"/>
                  </a:lnTo>
                  <a:lnTo>
                    <a:pt x="1186" y="116"/>
                  </a:lnTo>
                  <a:lnTo>
                    <a:pt x="1163" y="116"/>
                  </a:lnTo>
                  <a:lnTo>
                    <a:pt x="1148" y="116"/>
                  </a:lnTo>
                  <a:lnTo>
                    <a:pt x="1133" y="116"/>
                  </a:lnTo>
                  <a:lnTo>
                    <a:pt x="1125" y="116"/>
                  </a:lnTo>
                  <a:lnTo>
                    <a:pt x="1125" y="111"/>
                  </a:lnTo>
                  <a:lnTo>
                    <a:pt x="943" y="111"/>
                  </a:lnTo>
                  <a:lnTo>
                    <a:pt x="950" y="92"/>
                  </a:lnTo>
                  <a:lnTo>
                    <a:pt x="950" y="87"/>
                  </a:lnTo>
                  <a:lnTo>
                    <a:pt x="958" y="87"/>
                  </a:lnTo>
                  <a:lnTo>
                    <a:pt x="981" y="92"/>
                  </a:lnTo>
                  <a:lnTo>
                    <a:pt x="1011" y="92"/>
                  </a:lnTo>
                  <a:lnTo>
                    <a:pt x="1042" y="92"/>
                  </a:lnTo>
                  <a:lnTo>
                    <a:pt x="1064" y="87"/>
                  </a:lnTo>
                  <a:lnTo>
                    <a:pt x="1072" y="87"/>
                  </a:lnTo>
                  <a:lnTo>
                    <a:pt x="1087" y="116"/>
                  </a:lnTo>
                  <a:lnTo>
                    <a:pt x="1080" y="116"/>
                  </a:lnTo>
                  <a:lnTo>
                    <a:pt x="1064" y="116"/>
                  </a:lnTo>
                  <a:lnTo>
                    <a:pt x="1049" y="116"/>
                  </a:lnTo>
                  <a:lnTo>
                    <a:pt x="1034" y="116"/>
                  </a:lnTo>
                  <a:lnTo>
                    <a:pt x="1011" y="116"/>
                  </a:lnTo>
                  <a:lnTo>
                    <a:pt x="996" y="116"/>
                  </a:lnTo>
                  <a:lnTo>
                    <a:pt x="981" y="116"/>
                  </a:lnTo>
                  <a:lnTo>
                    <a:pt x="966" y="116"/>
                  </a:lnTo>
                  <a:lnTo>
                    <a:pt x="943" y="116"/>
                  </a:lnTo>
                  <a:lnTo>
                    <a:pt x="943" y="111"/>
                  </a:lnTo>
                  <a:lnTo>
                    <a:pt x="752" y="111"/>
                  </a:lnTo>
                  <a:lnTo>
                    <a:pt x="759" y="92"/>
                  </a:lnTo>
                  <a:lnTo>
                    <a:pt x="759" y="87"/>
                  </a:lnTo>
                  <a:lnTo>
                    <a:pt x="767" y="87"/>
                  </a:lnTo>
                  <a:lnTo>
                    <a:pt x="782" y="87"/>
                  </a:lnTo>
                  <a:lnTo>
                    <a:pt x="797" y="92"/>
                  </a:lnTo>
                  <a:lnTo>
                    <a:pt x="805" y="92"/>
                  </a:lnTo>
                  <a:lnTo>
                    <a:pt x="820" y="92"/>
                  </a:lnTo>
                  <a:lnTo>
                    <a:pt x="835" y="92"/>
                  </a:lnTo>
                  <a:lnTo>
                    <a:pt x="851" y="92"/>
                  </a:lnTo>
                  <a:lnTo>
                    <a:pt x="866" y="87"/>
                  </a:lnTo>
                  <a:lnTo>
                    <a:pt x="881" y="87"/>
                  </a:lnTo>
                  <a:lnTo>
                    <a:pt x="897" y="116"/>
                  </a:lnTo>
                  <a:lnTo>
                    <a:pt x="889" y="116"/>
                  </a:lnTo>
                  <a:lnTo>
                    <a:pt x="873" y="116"/>
                  </a:lnTo>
                  <a:lnTo>
                    <a:pt x="858" y="116"/>
                  </a:lnTo>
                  <a:lnTo>
                    <a:pt x="843" y="116"/>
                  </a:lnTo>
                  <a:lnTo>
                    <a:pt x="828" y="116"/>
                  </a:lnTo>
                  <a:lnTo>
                    <a:pt x="805" y="116"/>
                  </a:lnTo>
                  <a:lnTo>
                    <a:pt x="790" y="116"/>
                  </a:lnTo>
                  <a:lnTo>
                    <a:pt x="775" y="116"/>
                  </a:lnTo>
                  <a:lnTo>
                    <a:pt x="759" y="116"/>
                  </a:lnTo>
                  <a:lnTo>
                    <a:pt x="752" y="116"/>
                  </a:lnTo>
                  <a:lnTo>
                    <a:pt x="752" y="111"/>
                  </a:lnTo>
                  <a:lnTo>
                    <a:pt x="562" y="111"/>
                  </a:lnTo>
                  <a:lnTo>
                    <a:pt x="569" y="92"/>
                  </a:lnTo>
                  <a:lnTo>
                    <a:pt x="569" y="87"/>
                  </a:lnTo>
                  <a:lnTo>
                    <a:pt x="577" y="87"/>
                  </a:lnTo>
                  <a:lnTo>
                    <a:pt x="607" y="92"/>
                  </a:lnTo>
                  <a:lnTo>
                    <a:pt x="630" y="92"/>
                  </a:lnTo>
                  <a:lnTo>
                    <a:pt x="661" y="92"/>
                  </a:lnTo>
                  <a:lnTo>
                    <a:pt x="691" y="87"/>
                  </a:lnTo>
                  <a:lnTo>
                    <a:pt x="706" y="116"/>
                  </a:lnTo>
                  <a:lnTo>
                    <a:pt x="691" y="116"/>
                  </a:lnTo>
                  <a:lnTo>
                    <a:pt x="668" y="116"/>
                  </a:lnTo>
                  <a:lnTo>
                    <a:pt x="653" y="116"/>
                  </a:lnTo>
                  <a:lnTo>
                    <a:pt x="638" y="116"/>
                  </a:lnTo>
                  <a:lnTo>
                    <a:pt x="623" y="116"/>
                  </a:lnTo>
                  <a:lnTo>
                    <a:pt x="600" y="116"/>
                  </a:lnTo>
                  <a:lnTo>
                    <a:pt x="585" y="116"/>
                  </a:lnTo>
                  <a:lnTo>
                    <a:pt x="569" y="116"/>
                  </a:lnTo>
                  <a:lnTo>
                    <a:pt x="562" y="116"/>
                  </a:lnTo>
                  <a:lnTo>
                    <a:pt x="562" y="111"/>
                  </a:lnTo>
                  <a:lnTo>
                    <a:pt x="379" y="111"/>
                  </a:lnTo>
                  <a:lnTo>
                    <a:pt x="387" y="92"/>
                  </a:lnTo>
                  <a:lnTo>
                    <a:pt x="387" y="87"/>
                  </a:lnTo>
                  <a:lnTo>
                    <a:pt x="395" y="87"/>
                  </a:lnTo>
                  <a:lnTo>
                    <a:pt x="410" y="87"/>
                  </a:lnTo>
                  <a:lnTo>
                    <a:pt x="425" y="92"/>
                  </a:lnTo>
                  <a:lnTo>
                    <a:pt x="433" y="92"/>
                  </a:lnTo>
                  <a:lnTo>
                    <a:pt x="448" y="92"/>
                  </a:lnTo>
                  <a:lnTo>
                    <a:pt x="463" y="92"/>
                  </a:lnTo>
                  <a:lnTo>
                    <a:pt x="478" y="92"/>
                  </a:lnTo>
                  <a:lnTo>
                    <a:pt x="486" y="87"/>
                  </a:lnTo>
                  <a:lnTo>
                    <a:pt x="501" y="87"/>
                  </a:lnTo>
                  <a:lnTo>
                    <a:pt x="509" y="87"/>
                  </a:lnTo>
                  <a:lnTo>
                    <a:pt x="524" y="116"/>
                  </a:lnTo>
                  <a:lnTo>
                    <a:pt x="516" y="116"/>
                  </a:lnTo>
                  <a:lnTo>
                    <a:pt x="501" y="116"/>
                  </a:lnTo>
                  <a:lnTo>
                    <a:pt x="486" y="116"/>
                  </a:lnTo>
                  <a:lnTo>
                    <a:pt x="463" y="116"/>
                  </a:lnTo>
                  <a:lnTo>
                    <a:pt x="455" y="116"/>
                  </a:lnTo>
                  <a:lnTo>
                    <a:pt x="433" y="116"/>
                  </a:lnTo>
                  <a:lnTo>
                    <a:pt x="417" y="116"/>
                  </a:lnTo>
                  <a:lnTo>
                    <a:pt x="402" y="116"/>
                  </a:lnTo>
                  <a:lnTo>
                    <a:pt x="387" y="116"/>
                  </a:lnTo>
                  <a:lnTo>
                    <a:pt x="379" y="116"/>
                  </a:lnTo>
                  <a:lnTo>
                    <a:pt x="379" y="111"/>
                  </a:lnTo>
                  <a:lnTo>
                    <a:pt x="189" y="111"/>
                  </a:lnTo>
                  <a:lnTo>
                    <a:pt x="197" y="92"/>
                  </a:lnTo>
                  <a:lnTo>
                    <a:pt x="197" y="87"/>
                  </a:lnTo>
                  <a:lnTo>
                    <a:pt x="205" y="87"/>
                  </a:lnTo>
                  <a:lnTo>
                    <a:pt x="235" y="92"/>
                  </a:lnTo>
                  <a:lnTo>
                    <a:pt x="258" y="92"/>
                  </a:lnTo>
                  <a:lnTo>
                    <a:pt x="288" y="92"/>
                  </a:lnTo>
                  <a:lnTo>
                    <a:pt x="319" y="87"/>
                  </a:lnTo>
                  <a:lnTo>
                    <a:pt x="326" y="87"/>
                  </a:lnTo>
                  <a:lnTo>
                    <a:pt x="334" y="116"/>
                  </a:lnTo>
                  <a:lnTo>
                    <a:pt x="319" y="116"/>
                  </a:lnTo>
                  <a:lnTo>
                    <a:pt x="296" y="116"/>
                  </a:lnTo>
                  <a:lnTo>
                    <a:pt x="281" y="116"/>
                  </a:lnTo>
                  <a:lnTo>
                    <a:pt x="265" y="116"/>
                  </a:lnTo>
                  <a:lnTo>
                    <a:pt x="250" y="116"/>
                  </a:lnTo>
                  <a:lnTo>
                    <a:pt x="227" y="116"/>
                  </a:lnTo>
                  <a:lnTo>
                    <a:pt x="212" y="116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11"/>
                  </a:lnTo>
                  <a:lnTo>
                    <a:pt x="0" y="111"/>
                  </a:lnTo>
                  <a:lnTo>
                    <a:pt x="15" y="92"/>
                  </a:lnTo>
                  <a:lnTo>
                    <a:pt x="15" y="87"/>
                  </a:lnTo>
                  <a:lnTo>
                    <a:pt x="30" y="87"/>
                  </a:lnTo>
                  <a:lnTo>
                    <a:pt x="45" y="92"/>
                  </a:lnTo>
                  <a:lnTo>
                    <a:pt x="60" y="92"/>
                  </a:lnTo>
                  <a:lnTo>
                    <a:pt x="75" y="92"/>
                  </a:lnTo>
                  <a:lnTo>
                    <a:pt x="91" y="92"/>
                  </a:lnTo>
                  <a:lnTo>
                    <a:pt x="106" y="92"/>
                  </a:lnTo>
                  <a:lnTo>
                    <a:pt x="113" y="87"/>
                  </a:lnTo>
                  <a:lnTo>
                    <a:pt x="129" y="87"/>
                  </a:lnTo>
                  <a:lnTo>
                    <a:pt x="136" y="87"/>
                  </a:lnTo>
                  <a:lnTo>
                    <a:pt x="151" y="116"/>
                  </a:lnTo>
                  <a:lnTo>
                    <a:pt x="144" y="116"/>
                  </a:lnTo>
                  <a:lnTo>
                    <a:pt x="129" y="116"/>
                  </a:lnTo>
                  <a:lnTo>
                    <a:pt x="113" y="116"/>
                  </a:lnTo>
                  <a:lnTo>
                    <a:pt x="91" y="116"/>
                  </a:lnTo>
                  <a:lnTo>
                    <a:pt x="75" y="116"/>
                  </a:lnTo>
                  <a:lnTo>
                    <a:pt x="60" y="116"/>
                  </a:lnTo>
                  <a:lnTo>
                    <a:pt x="45" y="116"/>
                  </a:lnTo>
                  <a:lnTo>
                    <a:pt x="22" y="116"/>
                  </a:lnTo>
                  <a:lnTo>
                    <a:pt x="7" y="116"/>
                  </a:lnTo>
                  <a:lnTo>
                    <a:pt x="0" y="116"/>
                  </a:lnTo>
                  <a:lnTo>
                    <a:pt x="0" y="111"/>
                  </a:lnTo>
                  <a:lnTo>
                    <a:pt x="3429" y="1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14040" bIns="14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73200" y="7881840"/>
              <a:ext cx="906840" cy="18000"/>
            </a:xfrm>
            <a:custGeom>
              <a:avLst/>
              <a:gdLst/>
              <a:ahLst/>
              <a:rect l="0" t="0" r="r" b="b"/>
              <a:pathLst>
                <a:path w="2519" h="50">
                  <a:moveTo>
                    <a:pt x="1520" y="0"/>
                  </a:moveTo>
                  <a:lnTo>
                    <a:pt x="1490" y="50"/>
                  </a:lnTo>
                  <a:lnTo>
                    <a:pt x="1687" y="50"/>
                  </a:lnTo>
                  <a:lnTo>
                    <a:pt x="1656" y="0"/>
                  </a:lnTo>
                  <a:lnTo>
                    <a:pt x="1520" y="0"/>
                  </a:lnTo>
                  <a:lnTo>
                    <a:pt x="1702" y="0"/>
                  </a:lnTo>
                  <a:lnTo>
                    <a:pt x="1672" y="50"/>
                  </a:lnTo>
                  <a:lnTo>
                    <a:pt x="1868" y="50"/>
                  </a:lnTo>
                  <a:lnTo>
                    <a:pt x="1838" y="0"/>
                  </a:lnTo>
                  <a:lnTo>
                    <a:pt x="1702" y="0"/>
                  </a:lnTo>
                  <a:lnTo>
                    <a:pt x="1883" y="0"/>
                  </a:lnTo>
                  <a:lnTo>
                    <a:pt x="1861" y="50"/>
                  </a:lnTo>
                  <a:lnTo>
                    <a:pt x="2058" y="50"/>
                  </a:lnTo>
                  <a:lnTo>
                    <a:pt x="2028" y="0"/>
                  </a:lnTo>
                  <a:lnTo>
                    <a:pt x="1883" y="0"/>
                  </a:lnTo>
                  <a:lnTo>
                    <a:pt x="2073" y="0"/>
                  </a:lnTo>
                  <a:lnTo>
                    <a:pt x="2051" y="50"/>
                  </a:lnTo>
                  <a:lnTo>
                    <a:pt x="2240" y="50"/>
                  </a:lnTo>
                  <a:lnTo>
                    <a:pt x="2209" y="0"/>
                  </a:lnTo>
                  <a:lnTo>
                    <a:pt x="2073" y="0"/>
                  </a:lnTo>
                  <a:lnTo>
                    <a:pt x="764" y="0"/>
                  </a:lnTo>
                  <a:lnTo>
                    <a:pt x="742" y="50"/>
                  </a:lnTo>
                  <a:lnTo>
                    <a:pt x="938" y="50"/>
                  </a:lnTo>
                  <a:lnTo>
                    <a:pt x="908" y="0"/>
                  </a:lnTo>
                  <a:lnTo>
                    <a:pt x="764" y="0"/>
                  </a:lnTo>
                  <a:lnTo>
                    <a:pt x="953" y="0"/>
                  </a:lnTo>
                  <a:lnTo>
                    <a:pt x="923" y="50"/>
                  </a:lnTo>
                  <a:lnTo>
                    <a:pt x="1127" y="50"/>
                  </a:lnTo>
                  <a:lnTo>
                    <a:pt x="1097" y="0"/>
                  </a:lnTo>
                  <a:lnTo>
                    <a:pt x="953" y="0"/>
                  </a:lnTo>
                  <a:lnTo>
                    <a:pt x="1142" y="0"/>
                  </a:lnTo>
                  <a:lnTo>
                    <a:pt x="1112" y="50"/>
                  </a:lnTo>
                  <a:lnTo>
                    <a:pt x="1316" y="50"/>
                  </a:lnTo>
                  <a:lnTo>
                    <a:pt x="1278" y="0"/>
                  </a:lnTo>
                  <a:lnTo>
                    <a:pt x="1142" y="0"/>
                  </a:lnTo>
                  <a:lnTo>
                    <a:pt x="1331" y="0"/>
                  </a:lnTo>
                  <a:lnTo>
                    <a:pt x="1301" y="50"/>
                  </a:lnTo>
                  <a:lnTo>
                    <a:pt x="1498" y="50"/>
                  </a:lnTo>
                  <a:lnTo>
                    <a:pt x="1467" y="0"/>
                  </a:lnTo>
                  <a:lnTo>
                    <a:pt x="1331" y="0"/>
                  </a:lnTo>
                  <a:lnTo>
                    <a:pt x="22" y="0"/>
                  </a:lnTo>
                  <a:lnTo>
                    <a:pt x="0" y="50"/>
                  </a:lnTo>
                  <a:lnTo>
                    <a:pt x="196" y="50"/>
                  </a:lnTo>
                  <a:lnTo>
                    <a:pt x="166" y="0"/>
                  </a:lnTo>
                  <a:lnTo>
                    <a:pt x="22" y="0"/>
                  </a:lnTo>
                  <a:lnTo>
                    <a:pt x="211" y="0"/>
                  </a:lnTo>
                  <a:lnTo>
                    <a:pt x="181" y="50"/>
                  </a:lnTo>
                  <a:lnTo>
                    <a:pt x="385" y="50"/>
                  </a:lnTo>
                  <a:lnTo>
                    <a:pt x="355" y="0"/>
                  </a:lnTo>
                  <a:lnTo>
                    <a:pt x="211" y="0"/>
                  </a:lnTo>
                  <a:lnTo>
                    <a:pt x="400" y="0"/>
                  </a:lnTo>
                  <a:lnTo>
                    <a:pt x="370" y="50"/>
                  </a:lnTo>
                  <a:lnTo>
                    <a:pt x="574" y="50"/>
                  </a:lnTo>
                  <a:lnTo>
                    <a:pt x="536" y="0"/>
                  </a:lnTo>
                  <a:lnTo>
                    <a:pt x="400" y="0"/>
                  </a:lnTo>
                  <a:lnTo>
                    <a:pt x="589" y="0"/>
                  </a:lnTo>
                  <a:lnTo>
                    <a:pt x="559" y="50"/>
                  </a:lnTo>
                  <a:lnTo>
                    <a:pt x="757" y="50"/>
                  </a:lnTo>
                  <a:lnTo>
                    <a:pt x="726" y="0"/>
                  </a:lnTo>
                  <a:lnTo>
                    <a:pt x="589" y="0"/>
                  </a:lnTo>
                  <a:lnTo>
                    <a:pt x="2247" y="0"/>
                  </a:lnTo>
                  <a:lnTo>
                    <a:pt x="2232" y="50"/>
                  </a:lnTo>
                  <a:lnTo>
                    <a:pt x="2519" y="50"/>
                  </a:lnTo>
                  <a:lnTo>
                    <a:pt x="2504" y="0"/>
                  </a:lnTo>
                  <a:lnTo>
                    <a:pt x="2247" y="0"/>
                  </a:lnTo>
                  <a:lnTo>
                    <a:pt x="1520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582560" y="7873920"/>
              <a:ext cx="891000" cy="20880"/>
            </a:xfrm>
            <a:custGeom>
              <a:avLst/>
              <a:gdLst/>
              <a:ahLst/>
              <a:rect l="0" t="0" r="r" b="b"/>
              <a:pathLst>
                <a:path w="2475" h="58">
                  <a:moveTo>
                    <a:pt x="1970" y="54"/>
                  </a:moveTo>
                  <a:lnTo>
                    <a:pt x="1985" y="36"/>
                  </a:lnTo>
                  <a:lnTo>
                    <a:pt x="1985" y="33"/>
                  </a:lnTo>
                  <a:lnTo>
                    <a:pt x="2000" y="33"/>
                  </a:lnTo>
                  <a:lnTo>
                    <a:pt x="2015" y="36"/>
                  </a:lnTo>
                  <a:lnTo>
                    <a:pt x="2023" y="36"/>
                  </a:lnTo>
                  <a:lnTo>
                    <a:pt x="2038" y="36"/>
                  </a:lnTo>
                  <a:lnTo>
                    <a:pt x="2053" y="36"/>
                  </a:lnTo>
                  <a:lnTo>
                    <a:pt x="2068" y="36"/>
                  </a:lnTo>
                  <a:lnTo>
                    <a:pt x="2083" y="33"/>
                  </a:lnTo>
                  <a:lnTo>
                    <a:pt x="2098" y="33"/>
                  </a:lnTo>
                  <a:lnTo>
                    <a:pt x="2098" y="36"/>
                  </a:lnTo>
                  <a:lnTo>
                    <a:pt x="2113" y="54"/>
                  </a:lnTo>
                  <a:lnTo>
                    <a:pt x="2106" y="54"/>
                  </a:lnTo>
                  <a:lnTo>
                    <a:pt x="2091" y="54"/>
                  </a:lnTo>
                  <a:lnTo>
                    <a:pt x="2076" y="58"/>
                  </a:lnTo>
                  <a:lnTo>
                    <a:pt x="2061" y="58"/>
                  </a:lnTo>
                  <a:lnTo>
                    <a:pt x="2038" y="58"/>
                  </a:lnTo>
                  <a:lnTo>
                    <a:pt x="2023" y="58"/>
                  </a:lnTo>
                  <a:lnTo>
                    <a:pt x="2008" y="58"/>
                  </a:lnTo>
                  <a:lnTo>
                    <a:pt x="1993" y="54"/>
                  </a:lnTo>
                  <a:lnTo>
                    <a:pt x="1978" y="54"/>
                  </a:lnTo>
                  <a:lnTo>
                    <a:pt x="1970" y="54"/>
                  </a:lnTo>
                  <a:lnTo>
                    <a:pt x="1780" y="54"/>
                  </a:lnTo>
                  <a:lnTo>
                    <a:pt x="1796" y="36"/>
                  </a:lnTo>
                  <a:lnTo>
                    <a:pt x="1796" y="33"/>
                  </a:lnTo>
                  <a:lnTo>
                    <a:pt x="1811" y="33"/>
                  </a:lnTo>
                  <a:lnTo>
                    <a:pt x="1826" y="36"/>
                  </a:lnTo>
                  <a:lnTo>
                    <a:pt x="1841" y="36"/>
                  </a:lnTo>
                  <a:lnTo>
                    <a:pt x="1857" y="36"/>
                  </a:lnTo>
                  <a:lnTo>
                    <a:pt x="1872" y="36"/>
                  </a:lnTo>
                  <a:lnTo>
                    <a:pt x="1887" y="36"/>
                  </a:lnTo>
                  <a:lnTo>
                    <a:pt x="1895" y="33"/>
                  </a:lnTo>
                  <a:lnTo>
                    <a:pt x="1910" y="33"/>
                  </a:lnTo>
                  <a:lnTo>
                    <a:pt x="1917" y="33"/>
                  </a:lnTo>
                  <a:lnTo>
                    <a:pt x="1917" y="36"/>
                  </a:lnTo>
                  <a:lnTo>
                    <a:pt x="1932" y="54"/>
                  </a:lnTo>
                  <a:lnTo>
                    <a:pt x="1925" y="54"/>
                  </a:lnTo>
                  <a:lnTo>
                    <a:pt x="1910" y="54"/>
                  </a:lnTo>
                  <a:lnTo>
                    <a:pt x="1895" y="58"/>
                  </a:lnTo>
                  <a:lnTo>
                    <a:pt x="1872" y="58"/>
                  </a:lnTo>
                  <a:lnTo>
                    <a:pt x="1857" y="58"/>
                  </a:lnTo>
                  <a:lnTo>
                    <a:pt x="1841" y="58"/>
                  </a:lnTo>
                  <a:lnTo>
                    <a:pt x="1826" y="58"/>
                  </a:lnTo>
                  <a:lnTo>
                    <a:pt x="1803" y="54"/>
                  </a:lnTo>
                  <a:lnTo>
                    <a:pt x="1788" y="54"/>
                  </a:lnTo>
                  <a:lnTo>
                    <a:pt x="1780" y="54"/>
                  </a:lnTo>
                  <a:lnTo>
                    <a:pt x="1599" y="54"/>
                  </a:lnTo>
                  <a:lnTo>
                    <a:pt x="1607" y="36"/>
                  </a:lnTo>
                  <a:lnTo>
                    <a:pt x="1615" y="33"/>
                  </a:lnTo>
                  <a:lnTo>
                    <a:pt x="1645" y="36"/>
                  </a:lnTo>
                  <a:lnTo>
                    <a:pt x="1667" y="36"/>
                  </a:lnTo>
                  <a:lnTo>
                    <a:pt x="1698" y="36"/>
                  </a:lnTo>
                  <a:lnTo>
                    <a:pt x="1728" y="33"/>
                  </a:lnTo>
                  <a:lnTo>
                    <a:pt x="1735" y="36"/>
                  </a:lnTo>
                  <a:lnTo>
                    <a:pt x="1743" y="54"/>
                  </a:lnTo>
                  <a:lnTo>
                    <a:pt x="1728" y="54"/>
                  </a:lnTo>
                  <a:lnTo>
                    <a:pt x="1705" y="58"/>
                  </a:lnTo>
                  <a:lnTo>
                    <a:pt x="1690" y="58"/>
                  </a:lnTo>
                  <a:lnTo>
                    <a:pt x="1675" y="58"/>
                  </a:lnTo>
                  <a:lnTo>
                    <a:pt x="1660" y="58"/>
                  </a:lnTo>
                  <a:lnTo>
                    <a:pt x="1637" y="58"/>
                  </a:lnTo>
                  <a:lnTo>
                    <a:pt x="1622" y="54"/>
                  </a:lnTo>
                  <a:lnTo>
                    <a:pt x="1607" y="54"/>
                  </a:lnTo>
                  <a:lnTo>
                    <a:pt x="1599" y="54"/>
                  </a:lnTo>
                  <a:lnTo>
                    <a:pt x="1411" y="54"/>
                  </a:lnTo>
                  <a:lnTo>
                    <a:pt x="1426" y="36"/>
                  </a:lnTo>
                  <a:lnTo>
                    <a:pt x="1426" y="33"/>
                  </a:lnTo>
                  <a:lnTo>
                    <a:pt x="1441" y="33"/>
                  </a:lnTo>
                  <a:lnTo>
                    <a:pt x="1456" y="36"/>
                  </a:lnTo>
                  <a:lnTo>
                    <a:pt x="1471" y="36"/>
                  </a:lnTo>
                  <a:lnTo>
                    <a:pt x="1486" y="36"/>
                  </a:lnTo>
                  <a:lnTo>
                    <a:pt x="1501" y="36"/>
                  </a:lnTo>
                  <a:lnTo>
                    <a:pt x="1516" y="36"/>
                  </a:lnTo>
                  <a:lnTo>
                    <a:pt x="1524" y="33"/>
                  </a:lnTo>
                  <a:lnTo>
                    <a:pt x="1539" y="33"/>
                  </a:lnTo>
                  <a:lnTo>
                    <a:pt x="1547" y="33"/>
                  </a:lnTo>
                  <a:lnTo>
                    <a:pt x="1547" y="36"/>
                  </a:lnTo>
                  <a:lnTo>
                    <a:pt x="1554" y="54"/>
                  </a:lnTo>
                  <a:lnTo>
                    <a:pt x="1539" y="54"/>
                  </a:lnTo>
                  <a:lnTo>
                    <a:pt x="1524" y="58"/>
                  </a:lnTo>
                  <a:lnTo>
                    <a:pt x="1501" y="58"/>
                  </a:lnTo>
                  <a:lnTo>
                    <a:pt x="1486" y="58"/>
                  </a:lnTo>
                  <a:lnTo>
                    <a:pt x="1471" y="58"/>
                  </a:lnTo>
                  <a:lnTo>
                    <a:pt x="1456" y="58"/>
                  </a:lnTo>
                  <a:lnTo>
                    <a:pt x="1434" y="54"/>
                  </a:lnTo>
                  <a:lnTo>
                    <a:pt x="1418" y="54"/>
                  </a:lnTo>
                  <a:lnTo>
                    <a:pt x="1411" y="54"/>
                  </a:lnTo>
                  <a:lnTo>
                    <a:pt x="1230" y="54"/>
                  </a:lnTo>
                  <a:lnTo>
                    <a:pt x="1237" y="36"/>
                  </a:lnTo>
                  <a:lnTo>
                    <a:pt x="1237" y="33"/>
                  </a:lnTo>
                  <a:lnTo>
                    <a:pt x="1245" y="33"/>
                  </a:lnTo>
                  <a:lnTo>
                    <a:pt x="1260" y="33"/>
                  </a:lnTo>
                  <a:lnTo>
                    <a:pt x="1275" y="36"/>
                  </a:lnTo>
                  <a:lnTo>
                    <a:pt x="1283" y="36"/>
                  </a:lnTo>
                  <a:lnTo>
                    <a:pt x="1298" y="36"/>
                  </a:lnTo>
                  <a:lnTo>
                    <a:pt x="1313" y="36"/>
                  </a:lnTo>
                  <a:lnTo>
                    <a:pt x="1328" y="36"/>
                  </a:lnTo>
                  <a:lnTo>
                    <a:pt x="1343" y="33"/>
                  </a:lnTo>
                  <a:lnTo>
                    <a:pt x="1358" y="33"/>
                  </a:lnTo>
                  <a:lnTo>
                    <a:pt x="1358" y="36"/>
                  </a:lnTo>
                  <a:lnTo>
                    <a:pt x="1373" y="54"/>
                  </a:lnTo>
                  <a:lnTo>
                    <a:pt x="1366" y="54"/>
                  </a:lnTo>
                  <a:lnTo>
                    <a:pt x="1351" y="54"/>
                  </a:lnTo>
                  <a:lnTo>
                    <a:pt x="1335" y="58"/>
                  </a:lnTo>
                  <a:lnTo>
                    <a:pt x="1320" y="58"/>
                  </a:lnTo>
                  <a:lnTo>
                    <a:pt x="1298" y="58"/>
                  </a:lnTo>
                  <a:lnTo>
                    <a:pt x="1283" y="58"/>
                  </a:lnTo>
                  <a:lnTo>
                    <a:pt x="1268" y="58"/>
                  </a:lnTo>
                  <a:lnTo>
                    <a:pt x="1253" y="54"/>
                  </a:lnTo>
                  <a:lnTo>
                    <a:pt x="1230" y="54"/>
                  </a:lnTo>
                  <a:lnTo>
                    <a:pt x="1041" y="54"/>
                  </a:lnTo>
                  <a:lnTo>
                    <a:pt x="1049" y="36"/>
                  </a:lnTo>
                  <a:lnTo>
                    <a:pt x="1056" y="33"/>
                  </a:lnTo>
                  <a:lnTo>
                    <a:pt x="1071" y="33"/>
                  </a:lnTo>
                  <a:lnTo>
                    <a:pt x="1087" y="36"/>
                  </a:lnTo>
                  <a:lnTo>
                    <a:pt x="1094" y="36"/>
                  </a:lnTo>
                  <a:lnTo>
                    <a:pt x="1109" y="36"/>
                  </a:lnTo>
                  <a:lnTo>
                    <a:pt x="1124" y="36"/>
                  </a:lnTo>
                  <a:lnTo>
                    <a:pt x="1139" y="36"/>
                  </a:lnTo>
                  <a:lnTo>
                    <a:pt x="1154" y="33"/>
                  </a:lnTo>
                  <a:lnTo>
                    <a:pt x="1170" y="33"/>
                  </a:lnTo>
                  <a:lnTo>
                    <a:pt x="1170" y="36"/>
                  </a:lnTo>
                  <a:lnTo>
                    <a:pt x="1185" y="54"/>
                  </a:lnTo>
                  <a:lnTo>
                    <a:pt x="1170" y="54"/>
                  </a:lnTo>
                  <a:lnTo>
                    <a:pt x="1147" y="58"/>
                  </a:lnTo>
                  <a:lnTo>
                    <a:pt x="1132" y="58"/>
                  </a:lnTo>
                  <a:lnTo>
                    <a:pt x="1117" y="58"/>
                  </a:lnTo>
                  <a:lnTo>
                    <a:pt x="1102" y="58"/>
                  </a:lnTo>
                  <a:lnTo>
                    <a:pt x="1079" y="58"/>
                  </a:lnTo>
                  <a:lnTo>
                    <a:pt x="1064" y="54"/>
                  </a:lnTo>
                  <a:lnTo>
                    <a:pt x="1049" y="54"/>
                  </a:lnTo>
                  <a:lnTo>
                    <a:pt x="1041" y="54"/>
                  </a:lnTo>
                  <a:lnTo>
                    <a:pt x="853" y="54"/>
                  </a:lnTo>
                  <a:lnTo>
                    <a:pt x="868" y="36"/>
                  </a:lnTo>
                  <a:lnTo>
                    <a:pt x="868" y="33"/>
                  </a:lnTo>
                  <a:lnTo>
                    <a:pt x="883" y="33"/>
                  </a:lnTo>
                  <a:lnTo>
                    <a:pt x="898" y="36"/>
                  </a:lnTo>
                  <a:lnTo>
                    <a:pt x="913" y="36"/>
                  </a:lnTo>
                  <a:lnTo>
                    <a:pt x="928" y="36"/>
                  </a:lnTo>
                  <a:lnTo>
                    <a:pt x="943" y="36"/>
                  </a:lnTo>
                  <a:lnTo>
                    <a:pt x="958" y="36"/>
                  </a:lnTo>
                  <a:lnTo>
                    <a:pt x="966" y="33"/>
                  </a:lnTo>
                  <a:lnTo>
                    <a:pt x="981" y="33"/>
                  </a:lnTo>
                  <a:lnTo>
                    <a:pt x="989" y="33"/>
                  </a:lnTo>
                  <a:lnTo>
                    <a:pt x="989" y="36"/>
                  </a:lnTo>
                  <a:lnTo>
                    <a:pt x="996" y="54"/>
                  </a:lnTo>
                  <a:lnTo>
                    <a:pt x="981" y="54"/>
                  </a:lnTo>
                  <a:lnTo>
                    <a:pt x="958" y="58"/>
                  </a:lnTo>
                  <a:lnTo>
                    <a:pt x="943" y="58"/>
                  </a:lnTo>
                  <a:lnTo>
                    <a:pt x="928" y="58"/>
                  </a:lnTo>
                  <a:lnTo>
                    <a:pt x="913" y="58"/>
                  </a:lnTo>
                  <a:lnTo>
                    <a:pt x="890" y="58"/>
                  </a:lnTo>
                  <a:lnTo>
                    <a:pt x="875" y="54"/>
                  </a:lnTo>
                  <a:lnTo>
                    <a:pt x="860" y="54"/>
                  </a:lnTo>
                  <a:lnTo>
                    <a:pt x="853" y="54"/>
                  </a:lnTo>
                  <a:lnTo>
                    <a:pt x="672" y="54"/>
                  </a:lnTo>
                  <a:lnTo>
                    <a:pt x="679" y="36"/>
                  </a:lnTo>
                  <a:lnTo>
                    <a:pt x="679" y="33"/>
                  </a:lnTo>
                  <a:lnTo>
                    <a:pt x="687" y="33"/>
                  </a:lnTo>
                  <a:lnTo>
                    <a:pt x="709" y="36"/>
                  </a:lnTo>
                  <a:lnTo>
                    <a:pt x="740" y="36"/>
                  </a:lnTo>
                  <a:lnTo>
                    <a:pt x="770" y="36"/>
                  </a:lnTo>
                  <a:lnTo>
                    <a:pt x="792" y="33"/>
                  </a:lnTo>
                  <a:lnTo>
                    <a:pt x="800" y="33"/>
                  </a:lnTo>
                  <a:lnTo>
                    <a:pt x="800" y="36"/>
                  </a:lnTo>
                  <a:lnTo>
                    <a:pt x="815" y="54"/>
                  </a:lnTo>
                  <a:lnTo>
                    <a:pt x="808" y="54"/>
                  </a:lnTo>
                  <a:lnTo>
                    <a:pt x="792" y="54"/>
                  </a:lnTo>
                  <a:lnTo>
                    <a:pt x="777" y="58"/>
                  </a:lnTo>
                  <a:lnTo>
                    <a:pt x="762" y="58"/>
                  </a:lnTo>
                  <a:lnTo>
                    <a:pt x="740" y="58"/>
                  </a:lnTo>
                  <a:lnTo>
                    <a:pt x="725" y="58"/>
                  </a:lnTo>
                  <a:lnTo>
                    <a:pt x="709" y="58"/>
                  </a:lnTo>
                  <a:lnTo>
                    <a:pt x="694" y="54"/>
                  </a:lnTo>
                  <a:lnTo>
                    <a:pt x="672" y="54"/>
                  </a:lnTo>
                  <a:lnTo>
                    <a:pt x="482" y="54"/>
                  </a:lnTo>
                  <a:lnTo>
                    <a:pt x="497" y="36"/>
                  </a:lnTo>
                  <a:lnTo>
                    <a:pt x="497" y="33"/>
                  </a:lnTo>
                  <a:lnTo>
                    <a:pt x="512" y="33"/>
                  </a:lnTo>
                  <a:lnTo>
                    <a:pt x="527" y="36"/>
                  </a:lnTo>
                  <a:lnTo>
                    <a:pt x="543" y="36"/>
                  </a:lnTo>
                  <a:lnTo>
                    <a:pt x="558" y="36"/>
                  </a:lnTo>
                  <a:lnTo>
                    <a:pt x="573" y="36"/>
                  </a:lnTo>
                  <a:lnTo>
                    <a:pt x="588" y="36"/>
                  </a:lnTo>
                  <a:lnTo>
                    <a:pt x="595" y="33"/>
                  </a:lnTo>
                  <a:lnTo>
                    <a:pt x="610" y="33"/>
                  </a:lnTo>
                  <a:lnTo>
                    <a:pt x="618" y="33"/>
                  </a:lnTo>
                  <a:lnTo>
                    <a:pt x="618" y="36"/>
                  </a:lnTo>
                  <a:lnTo>
                    <a:pt x="634" y="54"/>
                  </a:lnTo>
                  <a:lnTo>
                    <a:pt x="627" y="54"/>
                  </a:lnTo>
                  <a:lnTo>
                    <a:pt x="610" y="54"/>
                  </a:lnTo>
                  <a:lnTo>
                    <a:pt x="595" y="58"/>
                  </a:lnTo>
                  <a:lnTo>
                    <a:pt x="573" y="58"/>
                  </a:lnTo>
                  <a:lnTo>
                    <a:pt x="558" y="58"/>
                  </a:lnTo>
                  <a:lnTo>
                    <a:pt x="543" y="58"/>
                  </a:lnTo>
                  <a:lnTo>
                    <a:pt x="527" y="58"/>
                  </a:lnTo>
                  <a:lnTo>
                    <a:pt x="505" y="54"/>
                  </a:lnTo>
                  <a:lnTo>
                    <a:pt x="490" y="54"/>
                  </a:lnTo>
                  <a:lnTo>
                    <a:pt x="482" y="54"/>
                  </a:lnTo>
                  <a:lnTo>
                    <a:pt x="301" y="54"/>
                  </a:lnTo>
                  <a:lnTo>
                    <a:pt x="309" y="36"/>
                  </a:lnTo>
                  <a:lnTo>
                    <a:pt x="309" y="33"/>
                  </a:lnTo>
                  <a:lnTo>
                    <a:pt x="316" y="33"/>
                  </a:lnTo>
                  <a:lnTo>
                    <a:pt x="339" y="36"/>
                  </a:lnTo>
                  <a:lnTo>
                    <a:pt x="369" y="36"/>
                  </a:lnTo>
                  <a:lnTo>
                    <a:pt x="399" y="36"/>
                  </a:lnTo>
                  <a:lnTo>
                    <a:pt x="422" y="33"/>
                  </a:lnTo>
                  <a:lnTo>
                    <a:pt x="429" y="33"/>
                  </a:lnTo>
                  <a:lnTo>
                    <a:pt x="429" y="36"/>
                  </a:lnTo>
                  <a:lnTo>
                    <a:pt x="444" y="54"/>
                  </a:lnTo>
                  <a:lnTo>
                    <a:pt x="437" y="54"/>
                  </a:lnTo>
                  <a:lnTo>
                    <a:pt x="422" y="54"/>
                  </a:lnTo>
                  <a:lnTo>
                    <a:pt x="407" y="58"/>
                  </a:lnTo>
                  <a:lnTo>
                    <a:pt x="392" y="58"/>
                  </a:lnTo>
                  <a:lnTo>
                    <a:pt x="369" y="58"/>
                  </a:lnTo>
                  <a:lnTo>
                    <a:pt x="354" y="58"/>
                  </a:lnTo>
                  <a:lnTo>
                    <a:pt x="339" y="58"/>
                  </a:lnTo>
                  <a:lnTo>
                    <a:pt x="324" y="54"/>
                  </a:lnTo>
                  <a:lnTo>
                    <a:pt x="301" y="54"/>
                  </a:lnTo>
                  <a:lnTo>
                    <a:pt x="113" y="54"/>
                  </a:lnTo>
                  <a:lnTo>
                    <a:pt x="120" y="36"/>
                  </a:lnTo>
                  <a:lnTo>
                    <a:pt x="128" y="33"/>
                  </a:lnTo>
                  <a:lnTo>
                    <a:pt x="143" y="33"/>
                  </a:lnTo>
                  <a:lnTo>
                    <a:pt x="158" y="36"/>
                  </a:lnTo>
                  <a:lnTo>
                    <a:pt x="165" y="36"/>
                  </a:lnTo>
                  <a:lnTo>
                    <a:pt x="181" y="36"/>
                  </a:lnTo>
                  <a:lnTo>
                    <a:pt x="196" y="36"/>
                  </a:lnTo>
                  <a:lnTo>
                    <a:pt x="211" y="36"/>
                  </a:lnTo>
                  <a:lnTo>
                    <a:pt x="226" y="33"/>
                  </a:lnTo>
                  <a:lnTo>
                    <a:pt x="241" y="33"/>
                  </a:lnTo>
                  <a:lnTo>
                    <a:pt x="241" y="36"/>
                  </a:lnTo>
                  <a:lnTo>
                    <a:pt x="256" y="54"/>
                  </a:lnTo>
                  <a:lnTo>
                    <a:pt x="248" y="54"/>
                  </a:lnTo>
                  <a:lnTo>
                    <a:pt x="233" y="54"/>
                  </a:lnTo>
                  <a:lnTo>
                    <a:pt x="218" y="58"/>
                  </a:lnTo>
                  <a:lnTo>
                    <a:pt x="203" y="58"/>
                  </a:lnTo>
                  <a:lnTo>
                    <a:pt x="188" y="58"/>
                  </a:lnTo>
                  <a:lnTo>
                    <a:pt x="165" y="58"/>
                  </a:lnTo>
                  <a:lnTo>
                    <a:pt x="150" y="58"/>
                  </a:lnTo>
                  <a:lnTo>
                    <a:pt x="135" y="54"/>
                  </a:lnTo>
                  <a:lnTo>
                    <a:pt x="120" y="54"/>
                  </a:lnTo>
                  <a:lnTo>
                    <a:pt x="113" y="54"/>
                  </a:lnTo>
                  <a:lnTo>
                    <a:pt x="2219" y="21"/>
                  </a:lnTo>
                  <a:lnTo>
                    <a:pt x="2226" y="3"/>
                  </a:lnTo>
                  <a:lnTo>
                    <a:pt x="2226" y="0"/>
                  </a:lnTo>
                  <a:lnTo>
                    <a:pt x="2257" y="0"/>
                  </a:lnTo>
                  <a:lnTo>
                    <a:pt x="2287" y="3"/>
                  </a:lnTo>
                  <a:lnTo>
                    <a:pt x="2317" y="3"/>
                  </a:lnTo>
                  <a:lnTo>
                    <a:pt x="2347" y="3"/>
                  </a:lnTo>
                  <a:lnTo>
                    <a:pt x="2377" y="3"/>
                  </a:lnTo>
                  <a:lnTo>
                    <a:pt x="2407" y="3"/>
                  </a:lnTo>
                  <a:lnTo>
                    <a:pt x="2438" y="3"/>
                  </a:lnTo>
                  <a:lnTo>
                    <a:pt x="2468" y="0"/>
                  </a:lnTo>
                  <a:lnTo>
                    <a:pt x="2468" y="3"/>
                  </a:lnTo>
                  <a:lnTo>
                    <a:pt x="2475" y="17"/>
                  </a:lnTo>
                  <a:lnTo>
                    <a:pt x="2475" y="21"/>
                  </a:lnTo>
                  <a:lnTo>
                    <a:pt x="2468" y="21"/>
                  </a:lnTo>
                  <a:lnTo>
                    <a:pt x="2438" y="21"/>
                  </a:lnTo>
                  <a:lnTo>
                    <a:pt x="2415" y="21"/>
                  </a:lnTo>
                  <a:lnTo>
                    <a:pt x="2377" y="21"/>
                  </a:lnTo>
                  <a:lnTo>
                    <a:pt x="2347" y="21"/>
                  </a:lnTo>
                  <a:lnTo>
                    <a:pt x="2317" y="21"/>
                  </a:lnTo>
                  <a:lnTo>
                    <a:pt x="2287" y="21"/>
                  </a:lnTo>
                  <a:lnTo>
                    <a:pt x="2257" y="21"/>
                  </a:lnTo>
                  <a:lnTo>
                    <a:pt x="2226" y="21"/>
                  </a:lnTo>
                  <a:lnTo>
                    <a:pt x="2219" y="21"/>
                  </a:lnTo>
                  <a:lnTo>
                    <a:pt x="2045" y="17"/>
                  </a:lnTo>
                  <a:lnTo>
                    <a:pt x="2053" y="3"/>
                  </a:lnTo>
                  <a:lnTo>
                    <a:pt x="2053" y="0"/>
                  </a:lnTo>
                  <a:lnTo>
                    <a:pt x="2061" y="0"/>
                  </a:lnTo>
                  <a:lnTo>
                    <a:pt x="2076" y="0"/>
                  </a:lnTo>
                  <a:lnTo>
                    <a:pt x="2091" y="3"/>
                  </a:lnTo>
                  <a:lnTo>
                    <a:pt x="2098" y="3"/>
                  </a:lnTo>
                  <a:lnTo>
                    <a:pt x="2113" y="3"/>
                  </a:lnTo>
                  <a:lnTo>
                    <a:pt x="2128" y="3"/>
                  </a:lnTo>
                  <a:lnTo>
                    <a:pt x="2143" y="3"/>
                  </a:lnTo>
                  <a:lnTo>
                    <a:pt x="2159" y="0"/>
                  </a:lnTo>
                  <a:lnTo>
                    <a:pt x="2174" y="0"/>
                  </a:lnTo>
                  <a:lnTo>
                    <a:pt x="2189" y="21"/>
                  </a:lnTo>
                  <a:lnTo>
                    <a:pt x="2181" y="21"/>
                  </a:lnTo>
                  <a:lnTo>
                    <a:pt x="2166" y="21"/>
                  </a:lnTo>
                  <a:lnTo>
                    <a:pt x="2151" y="21"/>
                  </a:lnTo>
                  <a:lnTo>
                    <a:pt x="2136" y="21"/>
                  </a:lnTo>
                  <a:lnTo>
                    <a:pt x="2121" y="21"/>
                  </a:lnTo>
                  <a:lnTo>
                    <a:pt x="2098" y="21"/>
                  </a:lnTo>
                  <a:lnTo>
                    <a:pt x="2083" y="21"/>
                  </a:lnTo>
                  <a:lnTo>
                    <a:pt x="2068" y="21"/>
                  </a:lnTo>
                  <a:lnTo>
                    <a:pt x="2053" y="21"/>
                  </a:lnTo>
                  <a:lnTo>
                    <a:pt x="2045" y="21"/>
                  </a:lnTo>
                  <a:lnTo>
                    <a:pt x="2045" y="17"/>
                  </a:lnTo>
                  <a:lnTo>
                    <a:pt x="1864" y="17"/>
                  </a:lnTo>
                  <a:lnTo>
                    <a:pt x="1872" y="3"/>
                  </a:lnTo>
                  <a:lnTo>
                    <a:pt x="1872" y="0"/>
                  </a:lnTo>
                  <a:lnTo>
                    <a:pt x="1880" y="0"/>
                  </a:lnTo>
                  <a:lnTo>
                    <a:pt x="1902" y="3"/>
                  </a:lnTo>
                  <a:lnTo>
                    <a:pt x="1932" y="3"/>
                  </a:lnTo>
                  <a:lnTo>
                    <a:pt x="1962" y="3"/>
                  </a:lnTo>
                  <a:lnTo>
                    <a:pt x="1985" y="0"/>
                  </a:lnTo>
                  <a:lnTo>
                    <a:pt x="1993" y="0"/>
                  </a:lnTo>
                  <a:lnTo>
                    <a:pt x="2008" y="21"/>
                  </a:lnTo>
                  <a:lnTo>
                    <a:pt x="2000" y="21"/>
                  </a:lnTo>
                  <a:lnTo>
                    <a:pt x="1985" y="21"/>
                  </a:lnTo>
                  <a:lnTo>
                    <a:pt x="1970" y="21"/>
                  </a:lnTo>
                  <a:lnTo>
                    <a:pt x="1955" y="21"/>
                  </a:lnTo>
                  <a:lnTo>
                    <a:pt x="1932" y="21"/>
                  </a:lnTo>
                  <a:lnTo>
                    <a:pt x="1917" y="21"/>
                  </a:lnTo>
                  <a:lnTo>
                    <a:pt x="1902" y="21"/>
                  </a:lnTo>
                  <a:lnTo>
                    <a:pt x="1887" y="21"/>
                  </a:lnTo>
                  <a:lnTo>
                    <a:pt x="1864" y="21"/>
                  </a:lnTo>
                  <a:lnTo>
                    <a:pt x="1864" y="17"/>
                  </a:lnTo>
                  <a:lnTo>
                    <a:pt x="1675" y="17"/>
                  </a:lnTo>
                  <a:lnTo>
                    <a:pt x="1690" y="3"/>
                  </a:lnTo>
                  <a:lnTo>
                    <a:pt x="1690" y="0"/>
                  </a:lnTo>
                  <a:lnTo>
                    <a:pt x="1720" y="3"/>
                  </a:lnTo>
                  <a:lnTo>
                    <a:pt x="1750" y="3"/>
                  </a:lnTo>
                  <a:lnTo>
                    <a:pt x="1773" y="3"/>
                  </a:lnTo>
                  <a:lnTo>
                    <a:pt x="1803" y="0"/>
                  </a:lnTo>
                  <a:lnTo>
                    <a:pt x="1818" y="21"/>
                  </a:lnTo>
                  <a:lnTo>
                    <a:pt x="1811" y="21"/>
                  </a:lnTo>
                  <a:lnTo>
                    <a:pt x="1796" y="21"/>
                  </a:lnTo>
                  <a:lnTo>
                    <a:pt x="1780" y="21"/>
                  </a:lnTo>
                  <a:lnTo>
                    <a:pt x="1765" y="21"/>
                  </a:lnTo>
                  <a:lnTo>
                    <a:pt x="1750" y="21"/>
                  </a:lnTo>
                  <a:lnTo>
                    <a:pt x="1735" y="21"/>
                  </a:lnTo>
                  <a:lnTo>
                    <a:pt x="1720" y="21"/>
                  </a:lnTo>
                  <a:lnTo>
                    <a:pt x="1698" y="21"/>
                  </a:lnTo>
                  <a:lnTo>
                    <a:pt x="1682" y="21"/>
                  </a:lnTo>
                  <a:lnTo>
                    <a:pt x="1675" y="21"/>
                  </a:lnTo>
                  <a:lnTo>
                    <a:pt x="1675" y="17"/>
                  </a:lnTo>
                  <a:lnTo>
                    <a:pt x="1494" y="17"/>
                  </a:lnTo>
                  <a:lnTo>
                    <a:pt x="1501" y="3"/>
                  </a:lnTo>
                  <a:lnTo>
                    <a:pt x="1501" y="0"/>
                  </a:lnTo>
                  <a:lnTo>
                    <a:pt x="1509" y="0"/>
                  </a:lnTo>
                  <a:lnTo>
                    <a:pt x="1532" y="3"/>
                  </a:lnTo>
                  <a:lnTo>
                    <a:pt x="1562" y="3"/>
                  </a:lnTo>
                  <a:lnTo>
                    <a:pt x="1592" y="3"/>
                  </a:lnTo>
                  <a:lnTo>
                    <a:pt x="1615" y="0"/>
                  </a:lnTo>
                  <a:lnTo>
                    <a:pt x="1622" y="0"/>
                  </a:lnTo>
                  <a:lnTo>
                    <a:pt x="1637" y="21"/>
                  </a:lnTo>
                  <a:lnTo>
                    <a:pt x="1630" y="21"/>
                  </a:lnTo>
                  <a:lnTo>
                    <a:pt x="1615" y="21"/>
                  </a:lnTo>
                  <a:lnTo>
                    <a:pt x="1599" y="21"/>
                  </a:lnTo>
                  <a:lnTo>
                    <a:pt x="1584" y="21"/>
                  </a:lnTo>
                  <a:lnTo>
                    <a:pt x="1562" y="21"/>
                  </a:lnTo>
                  <a:lnTo>
                    <a:pt x="1547" y="21"/>
                  </a:lnTo>
                  <a:lnTo>
                    <a:pt x="1532" y="21"/>
                  </a:lnTo>
                  <a:lnTo>
                    <a:pt x="1516" y="21"/>
                  </a:lnTo>
                  <a:lnTo>
                    <a:pt x="1494" y="21"/>
                  </a:lnTo>
                  <a:lnTo>
                    <a:pt x="1494" y="17"/>
                  </a:lnTo>
                  <a:lnTo>
                    <a:pt x="1305" y="17"/>
                  </a:lnTo>
                  <a:lnTo>
                    <a:pt x="1313" y="3"/>
                  </a:lnTo>
                  <a:lnTo>
                    <a:pt x="1313" y="0"/>
                  </a:lnTo>
                  <a:lnTo>
                    <a:pt x="1320" y="0"/>
                  </a:lnTo>
                  <a:lnTo>
                    <a:pt x="1335" y="0"/>
                  </a:lnTo>
                  <a:lnTo>
                    <a:pt x="1351" y="3"/>
                  </a:lnTo>
                  <a:lnTo>
                    <a:pt x="1358" y="3"/>
                  </a:lnTo>
                  <a:lnTo>
                    <a:pt x="1373" y="3"/>
                  </a:lnTo>
                  <a:lnTo>
                    <a:pt x="1388" y="3"/>
                  </a:lnTo>
                  <a:lnTo>
                    <a:pt x="1403" y="3"/>
                  </a:lnTo>
                  <a:lnTo>
                    <a:pt x="1418" y="0"/>
                  </a:lnTo>
                  <a:lnTo>
                    <a:pt x="1434" y="0"/>
                  </a:lnTo>
                  <a:lnTo>
                    <a:pt x="1449" y="21"/>
                  </a:lnTo>
                  <a:lnTo>
                    <a:pt x="1441" y="21"/>
                  </a:lnTo>
                  <a:lnTo>
                    <a:pt x="1426" y="21"/>
                  </a:lnTo>
                  <a:lnTo>
                    <a:pt x="1411" y="21"/>
                  </a:lnTo>
                  <a:lnTo>
                    <a:pt x="1396" y="21"/>
                  </a:lnTo>
                  <a:lnTo>
                    <a:pt x="1373" y="21"/>
                  </a:lnTo>
                  <a:lnTo>
                    <a:pt x="1358" y="21"/>
                  </a:lnTo>
                  <a:lnTo>
                    <a:pt x="1343" y="21"/>
                  </a:lnTo>
                  <a:lnTo>
                    <a:pt x="1328" y="21"/>
                  </a:lnTo>
                  <a:lnTo>
                    <a:pt x="1305" y="21"/>
                  </a:lnTo>
                  <a:lnTo>
                    <a:pt x="1305" y="17"/>
                  </a:lnTo>
                  <a:lnTo>
                    <a:pt x="1117" y="17"/>
                  </a:lnTo>
                  <a:lnTo>
                    <a:pt x="1124" y="3"/>
                  </a:lnTo>
                  <a:lnTo>
                    <a:pt x="1124" y="0"/>
                  </a:lnTo>
                  <a:lnTo>
                    <a:pt x="1132" y="0"/>
                  </a:lnTo>
                  <a:lnTo>
                    <a:pt x="1162" y="3"/>
                  </a:lnTo>
                  <a:lnTo>
                    <a:pt x="1185" y="3"/>
                  </a:lnTo>
                  <a:lnTo>
                    <a:pt x="1215" y="3"/>
                  </a:lnTo>
                  <a:lnTo>
                    <a:pt x="1245" y="0"/>
                  </a:lnTo>
                  <a:lnTo>
                    <a:pt x="1260" y="21"/>
                  </a:lnTo>
                  <a:lnTo>
                    <a:pt x="1245" y="21"/>
                  </a:lnTo>
                  <a:lnTo>
                    <a:pt x="1222" y="21"/>
                  </a:lnTo>
                  <a:lnTo>
                    <a:pt x="1207" y="21"/>
                  </a:lnTo>
                  <a:lnTo>
                    <a:pt x="1192" y="21"/>
                  </a:lnTo>
                  <a:lnTo>
                    <a:pt x="1177" y="21"/>
                  </a:lnTo>
                  <a:lnTo>
                    <a:pt x="1154" y="21"/>
                  </a:lnTo>
                  <a:lnTo>
                    <a:pt x="1139" y="21"/>
                  </a:lnTo>
                  <a:lnTo>
                    <a:pt x="1124" y="21"/>
                  </a:lnTo>
                  <a:lnTo>
                    <a:pt x="1117" y="21"/>
                  </a:lnTo>
                  <a:lnTo>
                    <a:pt x="1117" y="17"/>
                  </a:lnTo>
                  <a:lnTo>
                    <a:pt x="928" y="17"/>
                  </a:lnTo>
                  <a:lnTo>
                    <a:pt x="943" y="3"/>
                  </a:lnTo>
                  <a:lnTo>
                    <a:pt x="943" y="0"/>
                  </a:lnTo>
                  <a:lnTo>
                    <a:pt x="958" y="0"/>
                  </a:lnTo>
                  <a:lnTo>
                    <a:pt x="973" y="3"/>
                  </a:lnTo>
                  <a:lnTo>
                    <a:pt x="989" y="3"/>
                  </a:lnTo>
                  <a:lnTo>
                    <a:pt x="1004" y="3"/>
                  </a:lnTo>
                  <a:lnTo>
                    <a:pt x="1019" y="3"/>
                  </a:lnTo>
                  <a:lnTo>
                    <a:pt x="1034" y="3"/>
                  </a:lnTo>
                  <a:lnTo>
                    <a:pt x="1041" y="0"/>
                  </a:lnTo>
                  <a:lnTo>
                    <a:pt x="1056" y="0"/>
                  </a:lnTo>
                  <a:lnTo>
                    <a:pt x="1064" y="0"/>
                  </a:lnTo>
                  <a:lnTo>
                    <a:pt x="1071" y="21"/>
                  </a:lnTo>
                  <a:lnTo>
                    <a:pt x="1056" y="21"/>
                  </a:lnTo>
                  <a:lnTo>
                    <a:pt x="1041" y="21"/>
                  </a:lnTo>
                  <a:lnTo>
                    <a:pt x="1019" y="21"/>
                  </a:lnTo>
                  <a:lnTo>
                    <a:pt x="1004" y="21"/>
                  </a:lnTo>
                  <a:lnTo>
                    <a:pt x="989" y="21"/>
                  </a:lnTo>
                  <a:lnTo>
                    <a:pt x="973" y="21"/>
                  </a:lnTo>
                  <a:lnTo>
                    <a:pt x="951" y="21"/>
                  </a:lnTo>
                  <a:lnTo>
                    <a:pt x="936" y="21"/>
                  </a:lnTo>
                  <a:lnTo>
                    <a:pt x="928" y="21"/>
                  </a:lnTo>
                  <a:lnTo>
                    <a:pt x="928" y="17"/>
                  </a:lnTo>
                  <a:lnTo>
                    <a:pt x="747" y="17"/>
                  </a:lnTo>
                  <a:lnTo>
                    <a:pt x="755" y="3"/>
                  </a:lnTo>
                  <a:lnTo>
                    <a:pt x="755" y="0"/>
                  </a:lnTo>
                  <a:lnTo>
                    <a:pt x="762" y="0"/>
                  </a:lnTo>
                  <a:lnTo>
                    <a:pt x="785" y="3"/>
                  </a:lnTo>
                  <a:lnTo>
                    <a:pt x="815" y="3"/>
                  </a:lnTo>
                  <a:lnTo>
                    <a:pt x="845" y="3"/>
                  </a:lnTo>
                  <a:lnTo>
                    <a:pt x="868" y="0"/>
                  </a:lnTo>
                  <a:lnTo>
                    <a:pt x="875" y="0"/>
                  </a:lnTo>
                  <a:lnTo>
                    <a:pt x="890" y="21"/>
                  </a:lnTo>
                  <a:lnTo>
                    <a:pt x="883" y="21"/>
                  </a:lnTo>
                  <a:lnTo>
                    <a:pt x="868" y="21"/>
                  </a:lnTo>
                  <a:lnTo>
                    <a:pt x="853" y="21"/>
                  </a:lnTo>
                  <a:lnTo>
                    <a:pt x="838" y="21"/>
                  </a:lnTo>
                  <a:lnTo>
                    <a:pt x="815" y="21"/>
                  </a:lnTo>
                  <a:lnTo>
                    <a:pt x="800" y="21"/>
                  </a:lnTo>
                  <a:lnTo>
                    <a:pt x="785" y="21"/>
                  </a:lnTo>
                  <a:lnTo>
                    <a:pt x="770" y="21"/>
                  </a:lnTo>
                  <a:lnTo>
                    <a:pt x="747" y="21"/>
                  </a:lnTo>
                  <a:lnTo>
                    <a:pt x="747" y="17"/>
                  </a:lnTo>
                  <a:lnTo>
                    <a:pt x="558" y="17"/>
                  </a:lnTo>
                  <a:lnTo>
                    <a:pt x="573" y="3"/>
                  </a:lnTo>
                  <a:lnTo>
                    <a:pt x="573" y="0"/>
                  </a:lnTo>
                  <a:lnTo>
                    <a:pt x="588" y="0"/>
                  </a:lnTo>
                  <a:lnTo>
                    <a:pt x="603" y="3"/>
                  </a:lnTo>
                  <a:lnTo>
                    <a:pt x="618" y="3"/>
                  </a:lnTo>
                  <a:lnTo>
                    <a:pt x="634" y="3"/>
                  </a:lnTo>
                  <a:lnTo>
                    <a:pt x="649" y="3"/>
                  </a:lnTo>
                  <a:lnTo>
                    <a:pt x="664" y="3"/>
                  </a:lnTo>
                  <a:lnTo>
                    <a:pt x="672" y="0"/>
                  </a:lnTo>
                  <a:lnTo>
                    <a:pt x="687" y="0"/>
                  </a:lnTo>
                  <a:lnTo>
                    <a:pt x="702" y="21"/>
                  </a:lnTo>
                  <a:lnTo>
                    <a:pt x="694" y="21"/>
                  </a:lnTo>
                  <a:lnTo>
                    <a:pt x="679" y="21"/>
                  </a:lnTo>
                  <a:lnTo>
                    <a:pt x="672" y="21"/>
                  </a:lnTo>
                  <a:lnTo>
                    <a:pt x="649" y="21"/>
                  </a:lnTo>
                  <a:lnTo>
                    <a:pt x="634" y="21"/>
                  </a:lnTo>
                  <a:lnTo>
                    <a:pt x="618" y="21"/>
                  </a:lnTo>
                  <a:lnTo>
                    <a:pt x="603" y="21"/>
                  </a:lnTo>
                  <a:lnTo>
                    <a:pt x="580" y="21"/>
                  </a:lnTo>
                  <a:lnTo>
                    <a:pt x="565" y="21"/>
                  </a:lnTo>
                  <a:lnTo>
                    <a:pt x="558" y="21"/>
                  </a:lnTo>
                  <a:lnTo>
                    <a:pt x="558" y="17"/>
                  </a:lnTo>
                  <a:lnTo>
                    <a:pt x="377" y="17"/>
                  </a:lnTo>
                  <a:lnTo>
                    <a:pt x="384" y="3"/>
                  </a:lnTo>
                  <a:lnTo>
                    <a:pt x="384" y="0"/>
                  </a:lnTo>
                  <a:lnTo>
                    <a:pt x="392" y="0"/>
                  </a:lnTo>
                  <a:lnTo>
                    <a:pt x="414" y="3"/>
                  </a:lnTo>
                  <a:lnTo>
                    <a:pt x="444" y="3"/>
                  </a:lnTo>
                  <a:lnTo>
                    <a:pt x="475" y="3"/>
                  </a:lnTo>
                  <a:lnTo>
                    <a:pt x="497" y="0"/>
                  </a:lnTo>
                  <a:lnTo>
                    <a:pt x="505" y="0"/>
                  </a:lnTo>
                  <a:lnTo>
                    <a:pt x="520" y="21"/>
                  </a:lnTo>
                  <a:lnTo>
                    <a:pt x="512" y="21"/>
                  </a:lnTo>
                  <a:lnTo>
                    <a:pt x="497" y="21"/>
                  </a:lnTo>
                  <a:lnTo>
                    <a:pt x="482" y="21"/>
                  </a:lnTo>
                  <a:lnTo>
                    <a:pt x="467" y="21"/>
                  </a:lnTo>
                  <a:lnTo>
                    <a:pt x="444" y="21"/>
                  </a:lnTo>
                  <a:lnTo>
                    <a:pt x="429" y="21"/>
                  </a:lnTo>
                  <a:lnTo>
                    <a:pt x="414" y="21"/>
                  </a:lnTo>
                  <a:lnTo>
                    <a:pt x="399" y="21"/>
                  </a:lnTo>
                  <a:lnTo>
                    <a:pt x="377" y="21"/>
                  </a:lnTo>
                  <a:lnTo>
                    <a:pt x="377" y="17"/>
                  </a:lnTo>
                  <a:lnTo>
                    <a:pt x="188" y="17"/>
                  </a:lnTo>
                  <a:lnTo>
                    <a:pt x="196" y="3"/>
                  </a:lnTo>
                  <a:lnTo>
                    <a:pt x="196" y="0"/>
                  </a:lnTo>
                  <a:lnTo>
                    <a:pt x="203" y="0"/>
                  </a:lnTo>
                  <a:lnTo>
                    <a:pt x="218" y="0"/>
                  </a:lnTo>
                  <a:lnTo>
                    <a:pt x="233" y="3"/>
                  </a:lnTo>
                  <a:lnTo>
                    <a:pt x="241" y="3"/>
                  </a:lnTo>
                  <a:lnTo>
                    <a:pt x="256" y="3"/>
                  </a:lnTo>
                  <a:lnTo>
                    <a:pt x="271" y="3"/>
                  </a:lnTo>
                  <a:lnTo>
                    <a:pt x="286" y="3"/>
                  </a:lnTo>
                  <a:lnTo>
                    <a:pt x="301" y="0"/>
                  </a:lnTo>
                  <a:lnTo>
                    <a:pt x="316" y="0"/>
                  </a:lnTo>
                  <a:lnTo>
                    <a:pt x="331" y="21"/>
                  </a:lnTo>
                  <a:lnTo>
                    <a:pt x="316" y="21"/>
                  </a:lnTo>
                  <a:lnTo>
                    <a:pt x="294" y="21"/>
                  </a:lnTo>
                  <a:lnTo>
                    <a:pt x="279" y="21"/>
                  </a:lnTo>
                  <a:lnTo>
                    <a:pt x="263" y="21"/>
                  </a:lnTo>
                  <a:lnTo>
                    <a:pt x="248" y="21"/>
                  </a:lnTo>
                  <a:lnTo>
                    <a:pt x="226" y="21"/>
                  </a:lnTo>
                  <a:lnTo>
                    <a:pt x="211" y="21"/>
                  </a:lnTo>
                  <a:lnTo>
                    <a:pt x="196" y="21"/>
                  </a:lnTo>
                  <a:lnTo>
                    <a:pt x="188" y="21"/>
                  </a:lnTo>
                  <a:lnTo>
                    <a:pt x="188" y="17"/>
                  </a:lnTo>
                  <a:lnTo>
                    <a:pt x="0" y="17"/>
                  </a:lnTo>
                  <a:lnTo>
                    <a:pt x="15" y="3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45" y="3"/>
                  </a:lnTo>
                  <a:lnTo>
                    <a:pt x="60" y="3"/>
                  </a:lnTo>
                  <a:lnTo>
                    <a:pt x="75" y="3"/>
                  </a:lnTo>
                  <a:lnTo>
                    <a:pt x="90" y="3"/>
                  </a:lnTo>
                  <a:lnTo>
                    <a:pt x="105" y="3"/>
                  </a:lnTo>
                  <a:lnTo>
                    <a:pt x="113" y="0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21"/>
                  </a:lnTo>
                  <a:lnTo>
                    <a:pt x="128" y="21"/>
                  </a:lnTo>
                  <a:lnTo>
                    <a:pt x="105" y="21"/>
                  </a:lnTo>
                  <a:lnTo>
                    <a:pt x="90" y="21"/>
                  </a:lnTo>
                  <a:lnTo>
                    <a:pt x="75" y="21"/>
                  </a:lnTo>
                  <a:lnTo>
                    <a:pt x="60" y="21"/>
                  </a:lnTo>
                  <a:lnTo>
                    <a:pt x="37" y="21"/>
                  </a:lnTo>
                  <a:lnTo>
                    <a:pt x="22" y="21"/>
                  </a:lnTo>
                  <a:lnTo>
                    <a:pt x="7" y="21"/>
                  </a:lnTo>
                  <a:lnTo>
                    <a:pt x="0" y="21"/>
                  </a:lnTo>
                  <a:lnTo>
                    <a:pt x="0" y="17"/>
                  </a:lnTo>
                  <a:lnTo>
                    <a:pt x="1970" y="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4120" bIns="-24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2359080" y="7902720"/>
              <a:ext cx="125640" cy="18000"/>
            </a:xfrm>
            <a:custGeom>
              <a:avLst/>
              <a:gdLst/>
              <a:ahLst/>
              <a:rect l="0" t="0" r="r" b="b"/>
              <a:pathLst>
                <a:path w="349" h="50">
                  <a:moveTo>
                    <a:pt x="27" y="0"/>
                  </a:moveTo>
                  <a:lnTo>
                    <a:pt x="0" y="50"/>
                  </a:lnTo>
                  <a:lnTo>
                    <a:pt x="349" y="50"/>
                  </a:lnTo>
                  <a:lnTo>
                    <a:pt x="315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7000" bIns="-27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332080" y="7924680"/>
              <a:ext cx="151200" cy="16200"/>
            </a:xfrm>
            <a:custGeom>
              <a:avLst/>
              <a:gdLst/>
              <a:ahLst/>
              <a:rect l="0" t="0" r="r" b="b"/>
              <a:pathLst>
                <a:path w="420" h="45">
                  <a:moveTo>
                    <a:pt x="20" y="0"/>
                  </a:moveTo>
                  <a:lnTo>
                    <a:pt x="0" y="45"/>
                  </a:lnTo>
                  <a:lnTo>
                    <a:pt x="420" y="45"/>
                  </a:lnTo>
                  <a:lnTo>
                    <a:pt x="392" y="0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384280" y="7943760"/>
              <a:ext cx="95760" cy="19440"/>
            </a:xfrm>
            <a:custGeom>
              <a:avLst/>
              <a:gdLst/>
              <a:ahLst/>
              <a:rect l="0" t="0" r="r" b="b"/>
              <a:pathLst>
                <a:path w="266" h="54">
                  <a:moveTo>
                    <a:pt x="6" y="0"/>
                  </a:moveTo>
                  <a:lnTo>
                    <a:pt x="0" y="29"/>
                  </a:lnTo>
                  <a:lnTo>
                    <a:pt x="0" y="54"/>
                  </a:lnTo>
                  <a:lnTo>
                    <a:pt x="253" y="54"/>
                  </a:lnTo>
                  <a:lnTo>
                    <a:pt x="266" y="39"/>
                  </a:lnTo>
                  <a:lnTo>
                    <a:pt x="24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5560" bIns="-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217600" y="7943760"/>
              <a:ext cx="98640" cy="16200"/>
            </a:xfrm>
            <a:custGeom>
              <a:avLst/>
              <a:gdLst/>
              <a:ahLst/>
              <a:rect l="0" t="0" r="r" b="b"/>
              <a:pathLst>
                <a:path w="274" h="45">
                  <a:moveTo>
                    <a:pt x="26" y="0"/>
                  </a:moveTo>
                  <a:lnTo>
                    <a:pt x="0" y="45"/>
                  </a:lnTo>
                  <a:lnTo>
                    <a:pt x="274" y="45"/>
                  </a:lnTo>
                  <a:lnTo>
                    <a:pt x="274" y="29"/>
                  </a:lnTo>
                  <a:lnTo>
                    <a:pt x="261" y="0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468440" y="7802640"/>
              <a:ext cx="1546560" cy="135360"/>
            </a:xfrm>
            <a:custGeom>
              <a:avLst/>
              <a:gdLst/>
              <a:ahLst/>
              <a:rect l="0" t="0" r="r" b="b"/>
              <a:pathLst>
                <a:path w="4296" h="376">
                  <a:moveTo>
                    <a:pt x="4151" y="371"/>
                  </a:moveTo>
                  <a:lnTo>
                    <a:pt x="4158" y="301"/>
                  </a:lnTo>
                  <a:lnTo>
                    <a:pt x="4166" y="296"/>
                  </a:lnTo>
                  <a:lnTo>
                    <a:pt x="4174" y="296"/>
                  </a:lnTo>
                  <a:lnTo>
                    <a:pt x="4197" y="301"/>
                  </a:lnTo>
                  <a:lnTo>
                    <a:pt x="4227" y="301"/>
                  </a:lnTo>
                  <a:lnTo>
                    <a:pt x="4250" y="301"/>
                  </a:lnTo>
                  <a:lnTo>
                    <a:pt x="4273" y="296"/>
                  </a:lnTo>
                  <a:lnTo>
                    <a:pt x="4280" y="296"/>
                  </a:lnTo>
                  <a:lnTo>
                    <a:pt x="4280" y="301"/>
                  </a:lnTo>
                  <a:lnTo>
                    <a:pt x="4296" y="366"/>
                  </a:lnTo>
                  <a:lnTo>
                    <a:pt x="4296" y="371"/>
                  </a:lnTo>
                  <a:lnTo>
                    <a:pt x="4288" y="371"/>
                  </a:lnTo>
                  <a:lnTo>
                    <a:pt x="4273" y="371"/>
                  </a:lnTo>
                  <a:lnTo>
                    <a:pt x="4257" y="376"/>
                  </a:lnTo>
                  <a:lnTo>
                    <a:pt x="4242" y="376"/>
                  </a:lnTo>
                  <a:lnTo>
                    <a:pt x="4219" y="376"/>
                  </a:lnTo>
                  <a:lnTo>
                    <a:pt x="4204" y="376"/>
                  </a:lnTo>
                  <a:lnTo>
                    <a:pt x="4189" y="376"/>
                  </a:lnTo>
                  <a:lnTo>
                    <a:pt x="4174" y="371"/>
                  </a:lnTo>
                  <a:lnTo>
                    <a:pt x="4158" y="371"/>
                  </a:lnTo>
                  <a:lnTo>
                    <a:pt x="4151" y="371"/>
                  </a:lnTo>
                  <a:lnTo>
                    <a:pt x="4151" y="274"/>
                  </a:lnTo>
                  <a:lnTo>
                    <a:pt x="4158" y="199"/>
                  </a:lnTo>
                  <a:lnTo>
                    <a:pt x="4166" y="199"/>
                  </a:lnTo>
                  <a:lnTo>
                    <a:pt x="4174" y="199"/>
                  </a:lnTo>
                  <a:lnTo>
                    <a:pt x="4197" y="199"/>
                  </a:lnTo>
                  <a:lnTo>
                    <a:pt x="4227" y="199"/>
                  </a:lnTo>
                  <a:lnTo>
                    <a:pt x="4250" y="199"/>
                  </a:lnTo>
                  <a:lnTo>
                    <a:pt x="4273" y="199"/>
                  </a:lnTo>
                  <a:lnTo>
                    <a:pt x="4280" y="199"/>
                  </a:lnTo>
                  <a:lnTo>
                    <a:pt x="4296" y="268"/>
                  </a:lnTo>
                  <a:lnTo>
                    <a:pt x="4296" y="274"/>
                  </a:lnTo>
                  <a:lnTo>
                    <a:pt x="4288" y="274"/>
                  </a:lnTo>
                  <a:lnTo>
                    <a:pt x="4273" y="274"/>
                  </a:lnTo>
                  <a:lnTo>
                    <a:pt x="4257" y="274"/>
                  </a:lnTo>
                  <a:lnTo>
                    <a:pt x="4242" y="274"/>
                  </a:lnTo>
                  <a:lnTo>
                    <a:pt x="4219" y="274"/>
                  </a:lnTo>
                  <a:lnTo>
                    <a:pt x="4204" y="274"/>
                  </a:lnTo>
                  <a:lnTo>
                    <a:pt x="4189" y="274"/>
                  </a:lnTo>
                  <a:lnTo>
                    <a:pt x="4174" y="274"/>
                  </a:lnTo>
                  <a:lnTo>
                    <a:pt x="4158" y="274"/>
                  </a:lnTo>
                  <a:lnTo>
                    <a:pt x="4151" y="274"/>
                  </a:lnTo>
                  <a:lnTo>
                    <a:pt x="4151" y="172"/>
                  </a:lnTo>
                  <a:lnTo>
                    <a:pt x="4158" y="145"/>
                  </a:lnTo>
                  <a:lnTo>
                    <a:pt x="4166" y="145"/>
                  </a:lnTo>
                  <a:lnTo>
                    <a:pt x="4189" y="145"/>
                  </a:lnTo>
                  <a:lnTo>
                    <a:pt x="4219" y="145"/>
                  </a:lnTo>
                  <a:lnTo>
                    <a:pt x="4250" y="145"/>
                  </a:lnTo>
                  <a:lnTo>
                    <a:pt x="4273" y="145"/>
                  </a:lnTo>
                  <a:lnTo>
                    <a:pt x="4280" y="145"/>
                  </a:lnTo>
                  <a:lnTo>
                    <a:pt x="4296" y="172"/>
                  </a:lnTo>
                  <a:lnTo>
                    <a:pt x="4296" y="177"/>
                  </a:lnTo>
                  <a:lnTo>
                    <a:pt x="4288" y="177"/>
                  </a:lnTo>
                  <a:lnTo>
                    <a:pt x="4273" y="177"/>
                  </a:lnTo>
                  <a:lnTo>
                    <a:pt x="4257" y="177"/>
                  </a:lnTo>
                  <a:lnTo>
                    <a:pt x="4242" y="177"/>
                  </a:lnTo>
                  <a:lnTo>
                    <a:pt x="4219" y="177"/>
                  </a:lnTo>
                  <a:lnTo>
                    <a:pt x="4204" y="177"/>
                  </a:lnTo>
                  <a:lnTo>
                    <a:pt x="4189" y="177"/>
                  </a:lnTo>
                  <a:lnTo>
                    <a:pt x="4174" y="177"/>
                  </a:lnTo>
                  <a:lnTo>
                    <a:pt x="4151" y="177"/>
                  </a:lnTo>
                  <a:lnTo>
                    <a:pt x="4151" y="172"/>
                  </a:lnTo>
                  <a:lnTo>
                    <a:pt x="3960" y="172"/>
                  </a:lnTo>
                  <a:lnTo>
                    <a:pt x="3968" y="145"/>
                  </a:lnTo>
                  <a:lnTo>
                    <a:pt x="3976" y="145"/>
                  </a:lnTo>
                  <a:lnTo>
                    <a:pt x="3991" y="145"/>
                  </a:lnTo>
                  <a:lnTo>
                    <a:pt x="4006" y="145"/>
                  </a:lnTo>
                  <a:lnTo>
                    <a:pt x="4014" y="145"/>
                  </a:lnTo>
                  <a:lnTo>
                    <a:pt x="4029" y="145"/>
                  </a:lnTo>
                  <a:lnTo>
                    <a:pt x="4044" y="145"/>
                  </a:lnTo>
                  <a:lnTo>
                    <a:pt x="4059" y="145"/>
                  </a:lnTo>
                  <a:lnTo>
                    <a:pt x="4075" y="145"/>
                  </a:lnTo>
                  <a:lnTo>
                    <a:pt x="4090" y="145"/>
                  </a:lnTo>
                  <a:lnTo>
                    <a:pt x="4105" y="172"/>
                  </a:lnTo>
                  <a:lnTo>
                    <a:pt x="4105" y="177"/>
                  </a:lnTo>
                  <a:lnTo>
                    <a:pt x="4090" y="177"/>
                  </a:lnTo>
                  <a:lnTo>
                    <a:pt x="4067" y="177"/>
                  </a:lnTo>
                  <a:lnTo>
                    <a:pt x="4052" y="177"/>
                  </a:lnTo>
                  <a:lnTo>
                    <a:pt x="4037" y="177"/>
                  </a:lnTo>
                  <a:lnTo>
                    <a:pt x="4021" y="177"/>
                  </a:lnTo>
                  <a:lnTo>
                    <a:pt x="3999" y="177"/>
                  </a:lnTo>
                  <a:lnTo>
                    <a:pt x="3983" y="177"/>
                  </a:lnTo>
                  <a:lnTo>
                    <a:pt x="3968" y="177"/>
                  </a:lnTo>
                  <a:lnTo>
                    <a:pt x="3960" y="177"/>
                  </a:lnTo>
                  <a:lnTo>
                    <a:pt x="3960" y="172"/>
                  </a:lnTo>
                  <a:lnTo>
                    <a:pt x="3770" y="172"/>
                  </a:lnTo>
                  <a:lnTo>
                    <a:pt x="3785" y="145"/>
                  </a:lnTo>
                  <a:lnTo>
                    <a:pt x="3801" y="145"/>
                  </a:lnTo>
                  <a:lnTo>
                    <a:pt x="3816" y="145"/>
                  </a:lnTo>
                  <a:lnTo>
                    <a:pt x="3831" y="145"/>
                  </a:lnTo>
                  <a:lnTo>
                    <a:pt x="3846" y="145"/>
                  </a:lnTo>
                  <a:lnTo>
                    <a:pt x="3861" y="145"/>
                  </a:lnTo>
                  <a:lnTo>
                    <a:pt x="3877" y="145"/>
                  </a:lnTo>
                  <a:lnTo>
                    <a:pt x="3884" y="145"/>
                  </a:lnTo>
                  <a:lnTo>
                    <a:pt x="3900" y="145"/>
                  </a:lnTo>
                  <a:lnTo>
                    <a:pt x="3907" y="145"/>
                  </a:lnTo>
                  <a:lnTo>
                    <a:pt x="3915" y="172"/>
                  </a:lnTo>
                  <a:lnTo>
                    <a:pt x="3915" y="177"/>
                  </a:lnTo>
                  <a:lnTo>
                    <a:pt x="3900" y="177"/>
                  </a:lnTo>
                  <a:lnTo>
                    <a:pt x="3877" y="177"/>
                  </a:lnTo>
                  <a:lnTo>
                    <a:pt x="3861" y="177"/>
                  </a:lnTo>
                  <a:lnTo>
                    <a:pt x="3846" y="177"/>
                  </a:lnTo>
                  <a:lnTo>
                    <a:pt x="3831" y="177"/>
                  </a:lnTo>
                  <a:lnTo>
                    <a:pt x="3808" y="177"/>
                  </a:lnTo>
                  <a:lnTo>
                    <a:pt x="3793" y="177"/>
                  </a:lnTo>
                  <a:lnTo>
                    <a:pt x="3778" y="177"/>
                  </a:lnTo>
                  <a:lnTo>
                    <a:pt x="3778" y="172"/>
                  </a:lnTo>
                  <a:lnTo>
                    <a:pt x="3770" y="172"/>
                  </a:lnTo>
                  <a:lnTo>
                    <a:pt x="3587" y="172"/>
                  </a:lnTo>
                  <a:lnTo>
                    <a:pt x="3595" y="145"/>
                  </a:lnTo>
                  <a:lnTo>
                    <a:pt x="3603" y="145"/>
                  </a:lnTo>
                  <a:lnTo>
                    <a:pt x="3633" y="145"/>
                  </a:lnTo>
                  <a:lnTo>
                    <a:pt x="3656" y="145"/>
                  </a:lnTo>
                  <a:lnTo>
                    <a:pt x="3686" y="145"/>
                  </a:lnTo>
                  <a:lnTo>
                    <a:pt x="3709" y="145"/>
                  </a:lnTo>
                  <a:lnTo>
                    <a:pt x="3717" y="145"/>
                  </a:lnTo>
                  <a:lnTo>
                    <a:pt x="3732" y="172"/>
                  </a:lnTo>
                  <a:lnTo>
                    <a:pt x="3732" y="177"/>
                  </a:lnTo>
                  <a:lnTo>
                    <a:pt x="3724" y="177"/>
                  </a:lnTo>
                  <a:lnTo>
                    <a:pt x="3709" y="177"/>
                  </a:lnTo>
                  <a:lnTo>
                    <a:pt x="3694" y="177"/>
                  </a:lnTo>
                  <a:lnTo>
                    <a:pt x="3679" y="177"/>
                  </a:lnTo>
                  <a:lnTo>
                    <a:pt x="3663" y="177"/>
                  </a:lnTo>
                  <a:lnTo>
                    <a:pt x="3648" y="177"/>
                  </a:lnTo>
                  <a:lnTo>
                    <a:pt x="3625" y="177"/>
                  </a:lnTo>
                  <a:lnTo>
                    <a:pt x="3610" y="177"/>
                  </a:lnTo>
                  <a:lnTo>
                    <a:pt x="3595" y="177"/>
                  </a:lnTo>
                  <a:lnTo>
                    <a:pt x="3587" y="177"/>
                  </a:lnTo>
                  <a:lnTo>
                    <a:pt x="3587" y="172"/>
                  </a:lnTo>
                  <a:lnTo>
                    <a:pt x="3283" y="26"/>
                  </a:lnTo>
                  <a:lnTo>
                    <a:pt x="3290" y="0"/>
                  </a:lnTo>
                  <a:lnTo>
                    <a:pt x="3298" y="0"/>
                  </a:lnTo>
                  <a:lnTo>
                    <a:pt x="3313" y="0"/>
                  </a:lnTo>
                  <a:lnTo>
                    <a:pt x="3328" y="0"/>
                  </a:lnTo>
                  <a:lnTo>
                    <a:pt x="3336" y="0"/>
                  </a:lnTo>
                  <a:lnTo>
                    <a:pt x="3351" y="0"/>
                  </a:lnTo>
                  <a:lnTo>
                    <a:pt x="3366" y="0"/>
                  </a:lnTo>
                  <a:lnTo>
                    <a:pt x="3382" y="0"/>
                  </a:lnTo>
                  <a:lnTo>
                    <a:pt x="3397" y="0"/>
                  </a:lnTo>
                  <a:lnTo>
                    <a:pt x="3412" y="0"/>
                  </a:lnTo>
                  <a:lnTo>
                    <a:pt x="3427" y="26"/>
                  </a:lnTo>
                  <a:lnTo>
                    <a:pt x="3420" y="26"/>
                  </a:lnTo>
                  <a:lnTo>
                    <a:pt x="3405" y="26"/>
                  </a:lnTo>
                  <a:lnTo>
                    <a:pt x="3389" y="32"/>
                  </a:lnTo>
                  <a:lnTo>
                    <a:pt x="3374" y="32"/>
                  </a:lnTo>
                  <a:lnTo>
                    <a:pt x="3359" y="32"/>
                  </a:lnTo>
                  <a:lnTo>
                    <a:pt x="3336" y="32"/>
                  </a:lnTo>
                  <a:lnTo>
                    <a:pt x="3321" y="32"/>
                  </a:lnTo>
                  <a:lnTo>
                    <a:pt x="3306" y="26"/>
                  </a:lnTo>
                  <a:lnTo>
                    <a:pt x="3290" y="26"/>
                  </a:lnTo>
                  <a:lnTo>
                    <a:pt x="3283" y="26"/>
                  </a:lnTo>
                  <a:lnTo>
                    <a:pt x="3092" y="26"/>
                  </a:lnTo>
                  <a:lnTo>
                    <a:pt x="3100" y="0"/>
                  </a:lnTo>
                  <a:lnTo>
                    <a:pt x="3108" y="0"/>
                  </a:lnTo>
                  <a:lnTo>
                    <a:pt x="3138" y="0"/>
                  </a:lnTo>
                  <a:lnTo>
                    <a:pt x="3161" y="0"/>
                  </a:lnTo>
                  <a:lnTo>
                    <a:pt x="3191" y="0"/>
                  </a:lnTo>
                  <a:lnTo>
                    <a:pt x="3222" y="0"/>
                  </a:lnTo>
                  <a:lnTo>
                    <a:pt x="3229" y="0"/>
                  </a:lnTo>
                  <a:lnTo>
                    <a:pt x="3237" y="26"/>
                  </a:lnTo>
                  <a:lnTo>
                    <a:pt x="3222" y="26"/>
                  </a:lnTo>
                  <a:lnTo>
                    <a:pt x="3199" y="32"/>
                  </a:lnTo>
                  <a:lnTo>
                    <a:pt x="3184" y="32"/>
                  </a:lnTo>
                  <a:lnTo>
                    <a:pt x="3168" y="32"/>
                  </a:lnTo>
                  <a:lnTo>
                    <a:pt x="3153" y="32"/>
                  </a:lnTo>
                  <a:lnTo>
                    <a:pt x="3130" y="32"/>
                  </a:lnTo>
                  <a:lnTo>
                    <a:pt x="3115" y="26"/>
                  </a:lnTo>
                  <a:lnTo>
                    <a:pt x="3100" y="26"/>
                  </a:lnTo>
                  <a:lnTo>
                    <a:pt x="3092" y="26"/>
                  </a:lnTo>
                  <a:lnTo>
                    <a:pt x="2910" y="26"/>
                  </a:lnTo>
                  <a:lnTo>
                    <a:pt x="2917" y="0"/>
                  </a:lnTo>
                  <a:lnTo>
                    <a:pt x="2932" y="0"/>
                  </a:lnTo>
                  <a:lnTo>
                    <a:pt x="2948" y="0"/>
                  </a:lnTo>
                  <a:lnTo>
                    <a:pt x="2963" y="0"/>
                  </a:lnTo>
                  <a:lnTo>
                    <a:pt x="2978" y="0"/>
                  </a:lnTo>
                  <a:lnTo>
                    <a:pt x="2993" y="0"/>
                  </a:lnTo>
                  <a:lnTo>
                    <a:pt x="3009" y="0"/>
                  </a:lnTo>
                  <a:lnTo>
                    <a:pt x="3016" y="0"/>
                  </a:lnTo>
                  <a:lnTo>
                    <a:pt x="3031" y="0"/>
                  </a:lnTo>
                  <a:lnTo>
                    <a:pt x="3039" y="0"/>
                  </a:lnTo>
                  <a:lnTo>
                    <a:pt x="3054" y="26"/>
                  </a:lnTo>
                  <a:lnTo>
                    <a:pt x="3047" y="26"/>
                  </a:lnTo>
                  <a:lnTo>
                    <a:pt x="3031" y="26"/>
                  </a:lnTo>
                  <a:lnTo>
                    <a:pt x="3016" y="32"/>
                  </a:lnTo>
                  <a:lnTo>
                    <a:pt x="3001" y="32"/>
                  </a:lnTo>
                  <a:lnTo>
                    <a:pt x="2978" y="32"/>
                  </a:lnTo>
                  <a:lnTo>
                    <a:pt x="2963" y="32"/>
                  </a:lnTo>
                  <a:lnTo>
                    <a:pt x="2948" y="32"/>
                  </a:lnTo>
                  <a:lnTo>
                    <a:pt x="2932" y="26"/>
                  </a:lnTo>
                  <a:lnTo>
                    <a:pt x="2910" y="26"/>
                  </a:lnTo>
                  <a:lnTo>
                    <a:pt x="2910" y="215"/>
                  </a:lnTo>
                  <a:lnTo>
                    <a:pt x="2917" y="188"/>
                  </a:lnTo>
                  <a:lnTo>
                    <a:pt x="2925" y="188"/>
                  </a:lnTo>
                  <a:lnTo>
                    <a:pt x="2955" y="188"/>
                  </a:lnTo>
                  <a:lnTo>
                    <a:pt x="2978" y="188"/>
                  </a:lnTo>
                  <a:lnTo>
                    <a:pt x="3009" y="188"/>
                  </a:lnTo>
                  <a:lnTo>
                    <a:pt x="3039" y="188"/>
                  </a:lnTo>
                  <a:lnTo>
                    <a:pt x="3047" y="188"/>
                  </a:lnTo>
                  <a:lnTo>
                    <a:pt x="3054" y="215"/>
                  </a:lnTo>
                  <a:lnTo>
                    <a:pt x="3039" y="215"/>
                  </a:lnTo>
                  <a:lnTo>
                    <a:pt x="3016" y="220"/>
                  </a:lnTo>
                  <a:lnTo>
                    <a:pt x="3001" y="220"/>
                  </a:lnTo>
                  <a:lnTo>
                    <a:pt x="2986" y="220"/>
                  </a:lnTo>
                  <a:lnTo>
                    <a:pt x="2970" y="220"/>
                  </a:lnTo>
                  <a:lnTo>
                    <a:pt x="2948" y="220"/>
                  </a:lnTo>
                  <a:lnTo>
                    <a:pt x="2932" y="215"/>
                  </a:lnTo>
                  <a:lnTo>
                    <a:pt x="2917" y="215"/>
                  </a:lnTo>
                  <a:lnTo>
                    <a:pt x="2910" y="215"/>
                  </a:lnTo>
                  <a:lnTo>
                    <a:pt x="3100" y="215"/>
                  </a:lnTo>
                  <a:lnTo>
                    <a:pt x="3108" y="188"/>
                  </a:lnTo>
                  <a:lnTo>
                    <a:pt x="3115" y="188"/>
                  </a:lnTo>
                  <a:lnTo>
                    <a:pt x="3130" y="188"/>
                  </a:lnTo>
                  <a:lnTo>
                    <a:pt x="3146" y="188"/>
                  </a:lnTo>
                  <a:lnTo>
                    <a:pt x="3153" y="188"/>
                  </a:lnTo>
                  <a:lnTo>
                    <a:pt x="3168" y="188"/>
                  </a:lnTo>
                  <a:lnTo>
                    <a:pt x="3184" y="188"/>
                  </a:lnTo>
                  <a:lnTo>
                    <a:pt x="3199" y="188"/>
                  </a:lnTo>
                  <a:lnTo>
                    <a:pt x="3214" y="188"/>
                  </a:lnTo>
                  <a:lnTo>
                    <a:pt x="3229" y="188"/>
                  </a:lnTo>
                  <a:lnTo>
                    <a:pt x="3245" y="215"/>
                  </a:lnTo>
                  <a:lnTo>
                    <a:pt x="3237" y="215"/>
                  </a:lnTo>
                  <a:lnTo>
                    <a:pt x="3222" y="215"/>
                  </a:lnTo>
                  <a:lnTo>
                    <a:pt x="3207" y="220"/>
                  </a:lnTo>
                  <a:lnTo>
                    <a:pt x="3191" y="220"/>
                  </a:lnTo>
                  <a:lnTo>
                    <a:pt x="3176" y="220"/>
                  </a:lnTo>
                  <a:lnTo>
                    <a:pt x="3153" y="220"/>
                  </a:lnTo>
                  <a:lnTo>
                    <a:pt x="3138" y="220"/>
                  </a:lnTo>
                  <a:lnTo>
                    <a:pt x="3123" y="215"/>
                  </a:lnTo>
                  <a:lnTo>
                    <a:pt x="3108" y="215"/>
                  </a:lnTo>
                  <a:lnTo>
                    <a:pt x="3100" y="215"/>
                  </a:lnTo>
                  <a:lnTo>
                    <a:pt x="3290" y="215"/>
                  </a:lnTo>
                  <a:lnTo>
                    <a:pt x="3298" y="188"/>
                  </a:lnTo>
                  <a:lnTo>
                    <a:pt x="3306" y="188"/>
                  </a:lnTo>
                  <a:lnTo>
                    <a:pt x="3328" y="188"/>
                  </a:lnTo>
                  <a:lnTo>
                    <a:pt x="3359" y="188"/>
                  </a:lnTo>
                  <a:lnTo>
                    <a:pt x="3389" y="188"/>
                  </a:lnTo>
                  <a:lnTo>
                    <a:pt x="3412" y="188"/>
                  </a:lnTo>
                  <a:lnTo>
                    <a:pt x="3420" y="188"/>
                  </a:lnTo>
                  <a:lnTo>
                    <a:pt x="3435" y="215"/>
                  </a:lnTo>
                  <a:lnTo>
                    <a:pt x="3427" y="215"/>
                  </a:lnTo>
                  <a:lnTo>
                    <a:pt x="3412" y="215"/>
                  </a:lnTo>
                  <a:lnTo>
                    <a:pt x="3397" y="220"/>
                  </a:lnTo>
                  <a:lnTo>
                    <a:pt x="3382" y="220"/>
                  </a:lnTo>
                  <a:lnTo>
                    <a:pt x="3359" y="220"/>
                  </a:lnTo>
                  <a:lnTo>
                    <a:pt x="3344" y="220"/>
                  </a:lnTo>
                  <a:lnTo>
                    <a:pt x="3328" y="220"/>
                  </a:lnTo>
                  <a:lnTo>
                    <a:pt x="3313" y="215"/>
                  </a:lnTo>
                  <a:lnTo>
                    <a:pt x="3290" y="215"/>
                  </a:lnTo>
                  <a:lnTo>
                    <a:pt x="3290" y="166"/>
                  </a:lnTo>
                  <a:lnTo>
                    <a:pt x="3298" y="140"/>
                  </a:lnTo>
                  <a:lnTo>
                    <a:pt x="3306" y="140"/>
                  </a:lnTo>
                  <a:lnTo>
                    <a:pt x="3328" y="140"/>
                  </a:lnTo>
                  <a:lnTo>
                    <a:pt x="3359" y="140"/>
                  </a:lnTo>
                  <a:lnTo>
                    <a:pt x="3389" y="140"/>
                  </a:lnTo>
                  <a:lnTo>
                    <a:pt x="3412" y="140"/>
                  </a:lnTo>
                  <a:lnTo>
                    <a:pt x="3420" y="140"/>
                  </a:lnTo>
                  <a:lnTo>
                    <a:pt x="3435" y="166"/>
                  </a:lnTo>
                  <a:lnTo>
                    <a:pt x="3427" y="166"/>
                  </a:lnTo>
                  <a:lnTo>
                    <a:pt x="3412" y="166"/>
                  </a:lnTo>
                  <a:lnTo>
                    <a:pt x="3397" y="172"/>
                  </a:lnTo>
                  <a:lnTo>
                    <a:pt x="3382" y="172"/>
                  </a:lnTo>
                  <a:lnTo>
                    <a:pt x="3359" y="172"/>
                  </a:lnTo>
                  <a:lnTo>
                    <a:pt x="3344" y="172"/>
                  </a:lnTo>
                  <a:lnTo>
                    <a:pt x="3328" y="172"/>
                  </a:lnTo>
                  <a:lnTo>
                    <a:pt x="3313" y="166"/>
                  </a:lnTo>
                  <a:lnTo>
                    <a:pt x="3290" y="166"/>
                  </a:lnTo>
                  <a:lnTo>
                    <a:pt x="3100" y="166"/>
                  </a:lnTo>
                  <a:lnTo>
                    <a:pt x="3108" y="140"/>
                  </a:lnTo>
                  <a:lnTo>
                    <a:pt x="3115" y="140"/>
                  </a:lnTo>
                  <a:lnTo>
                    <a:pt x="3130" y="140"/>
                  </a:lnTo>
                  <a:lnTo>
                    <a:pt x="3146" y="140"/>
                  </a:lnTo>
                  <a:lnTo>
                    <a:pt x="3153" y="140"/>
                  </a:lnTo>
                  <a:lnTo>
                    <a:pt x="3168" y="140"/>
                  </a:lnTo>
                  <a:lnTo>
                    <a:pt x="3184" y="140"/>
                  </a:lnTo>
                  <a:lnTo>
                    <a:pt x="3199" y="140"/>
                  </a:lnTo>
                  <a:lnTo>
                    <a:pt x="3214" y="140"/>
                  </a:lnTo>
                  <a:lnTo>
                    <a:pt x="3229" y="140"/>
                  </a:lnTo>
                  <a:lnTo>
                    <a:pt x="3245" y="166"/>
                  </a:lnTo>
                  <a:lnTo>
                    <a:pt x="3237" y="166"/>
                  </a:lnTo>
                  <a:lnTo>
                    <a:pt x="3222" y="166"/>
                  </a:lnTo>
                  <a:lnTo>
                    <a:pt x="3207" y="172"/>
                  </a:lnTo>
                  <a:lnTo>
                    <a:pt x="3191" y="172"/>
                  </a:lnTo>
                  <a:lnTo>
                    <a:pt x="3176" y="172"/>
                  </a:lnTo>
                  <a:lnTo>
                    <a:pt x="3153" y="172"/>
                  </a:lnTo>
                  <a:lnTo>
                    <a:pt x="3138" y="172"/>
                  </a:lnTo>
                  <a:lnTo>
                    <a:pt x="3123" y="166"/>
                  </a:lnTo>
                  <a:lnTo>
                    <a:pt x="3108" y="166"/>
                  </a:lnTo>
                  <a:lnTo>
                    <a:pt x="3100" y="166"/>
                  </a:lnTo>
                  <a:lnTo>
                    <a:pt x="2910" y="166"/>
                  </a:lnTo>
                  <a:lnTo>
                    <a:pt x="2917" y="140"/>
                  </a:lnTo>
                  <a:lnTo>
                    <a:pt x="2925" y="140"/>
                  </a:lnTo>
                  <a:lnTo>
                    <a:pt x="2955" y="140"/>
                  </a:lnTo>
                  <a:lnTo>
                    <a:pt x="2978" y="140"/>
                  </a:lnTo>
                  <a:lnTo>
                    <a:pt x="3009" y="140"/>
                  </a:lnTo>
                  <a:lnTo>
                    <a:pt x="3039" y="140"/>
                  </a:lnTo>
                  <a:lnTo>
                    <a:pt x="3047" y="140"/>
                  </a:lnTo>
                  <a:lnTo>
                    <a:pt x="3054" y="166"/>
                  </a:lnTo>
                  <a:lnTo>
                    <a:pt x="3039" y="166"/>
                  </a:lnTo>
                  <a:lnTo>
                    <a:pt x="3016" y="172"/>
                  </a:lnTo>
                  <a:lnTo>
                    <a:pt x="3001" y="172"/>
                  </a:lnTo>
                  <a:lnTo>
                    <a:pt x="2986" y="172"/>
                  </a:lnTo>
                  <a:lnTo>
                    <a:pt x="2970" y="172"/>
                  </a:lnTo>
                  <a:lnTo>
                    <a:pt x="2948" y="172"/>
                  </a:lnTo>
                  <a:lnTo>
                    <a:pt x="2932" y="166"/>
                  </a:lnTo>
                  <a:lnTo>
                    <a:pt x="2917" y="166"/>
                  </a:lnTo>
                  <a:lnTo>
                    <a:pt x="2910" y="166"/>
                  </a:lnTo>
                  <a:lnTo>
                    <a:pt x="3290" y="371"/>
                  </a:lnTo>
                  <a:lnTo>
                    <a:pt x="3298" y="344"/>
                  </a:lnTo>
                  <a:lnTo>
                    <a:pt x="3306" y="344"/>
                  </a:lnTo>
                  <a:lnTo>
                    <a:pt x="3321" y="344"/>
                  </a:lnTo>
                  <a:lnTo>
                    <a:pt x="3336" y="344"/>
                  </a:lnTo>
                  <a:lnTo>
                    <a:pt x="3344" y="344"/>
                  </a:lnTo>
                  <a:lnTo>
                    <a:pt x="3359" y="344"/>
                  </a:lnTo>
                  <a:lnTo>
                    <a:pt x="3374" y="344"/>
                  </a:lnTo>
                  <a:lnTo>
                    <a:pt x="3389" y="344"/>
                  </a:lnTo>
                  <a:lnTo>
                    <a:pt x="3405" y="344"/>
                  </a:lnTo>
                  <a:lnTo>
                    <a:pt x="3420" y="344"/>
                  </a:lnTo>
                  <a:lnTo>
                    <a:pt x="3435" y="371"/>
                  </a:lnTo>
                  <a:lnTo>
                    <a:pt x="3435" y="376"/>
                  </a:lnTo>
                  <a:lnTo>
                    <a:pt x="3427" y="376"/>
                  </a:lnTo>
                  <a:lnTo>
                    <a:pt x="3412" y="376"/>
                  </a:lnTo>
                  <a:lnTo>
                    <a:pt x="3397" y="376"/>
                  </a:lnTo>
                  <a:lnTo>
                    <a:pt x="3382" y="376"/>
                  </a:lnTo>
                  <a:lnTo>
                    <a:pt x="3366" y="376"/>
                  </a:lnTo>
                  <a:lnTo>
                    <a:pt x="3344" y="376"/>
                  </a:lnTo>
                  <a:lnTo>
                    <a:pt x="3328" y="376"/>
                  </a:lnTo>
                  <a:lnTo>
                    <a:pt x="3313" y="376"/>
                  </a:lnTo>
                  <a:lnTo>
                    <a:pt x="3298" y="376"/>
                  </a:lnTo>
                  <a:lnTo>
                    <a:pt x="3290" y="376"/>
                  </a:lnTo>
                  <a:lnTo>
                    <a:pt x="3290" y="371"/>
                  </a:lnTo>
                  <a:lnTo>
                    <a:pt x="3100" y="371"/>
                  </a:lnTo>
                  <a:lnTo>
                    <a:pt x="3108" y="344"/>
                  </a:lnTo>
                  <a:lnTo>
                    <a:pt x="3115" y="344"/>
                  </a:lnTo>
                  <a:lnTo>
                    <a:pt x="3146" y="344"/>
                  </a:lnTo>
                  <a:lnTo>
                    <a:pt x="3168" y="344"/>
                  </a:lnTo>
                  <a:lnTo>
                    <a:pt x="3199" y="344"/>
                  </a:lnTo>
                  <a:lnTo>
                    <a:pt x="3229" y="344"/>
                  </a:lnTo>
                  <a:lnTo>
                    <a:pt x="3237" y="344"/>
                  </a:lnTo>
                  <a:lnTo>
                    <a:pt x="3245" y="371"/>
                  </a:lnTo>
                  <a:lnTo>
                    <a:pt x="3245" y="376"/>
                  </a:lnTo>
                  <a:lnTo>
                    <a:pt x="3229" y="376"/>
                  </a:lnTo>
                  <a:lnTo>
                    <a:pt x="3207" y="376"/>
                  </a:lnTo>
                  <a:lnTo>
                    <a:pt x="3191" y="376"/>
                  </a:lnTo>
                  <a:lnTo>
                    <a:pt x="3176" y="376"/>
                  </a:lnTo>
                  <a:lnTo>
                    <a:pt x="3161" y="376"/>
                  </a:lnTo>
                  <a:lnTo>
                    <a:pt x="3138" y="376"/>
                  </a:lnTo>
                  <a:lnTo>
                    <a:pt x="3123" y="376"/>
                  </a:lnTo>
                  <a:lnTo>
                    <a:pt x="3108" y="376"/>
                  </a:lnTo>
                  <a:lnTo>
                    <a:pt x="3100" y="376"/>
                  </a:lnTo>
                  <a:lnTo>
                    <a:pt x="3100" y="371"/>
                  </a:lnTo>
                  <a:lnTo>
                    <a:pt x="2910" y="371"/>
                  </a:lnTo>
                  <a:lnTo>
                    <a:pt x="2925" y="344"/>
                  </a:lnTo>
                  <a:lnTo>
                    <a:pt x="2940" y="344"/>
                  </a:lnTo>
                  <a:lnTo>
                    <a:pt x="2955" y="344"/>
                  </a:lnTo>
                  <a:lnTo>
                    <a:pt x="2970" y="344"/>
                  </a:lnTo>
                  <a:lnTo>
                    <a:pt x="2986" y="344"/>
                  </a:lnTo>
                  <a:lnTo>
                    <a:pt x="3001" y="344"/>
                  </a:lnTo>
                  <a:lnTo>
                    <a:pt x="3016" y="344"/>
                  </a:lnTo>
                  <a:lnTo>
                    <a:pt x="3024" y="344"/>
                  </a:lnTo>
                  <a:lnTo>
                    <a:pt x="3039" y="344"/>
                  </a:lnTo>
                  <a:lnTo>
                    <a:pt x="3047" y="344"/>
                  </a:lnTo>
                  <a:lnTo>
                    <a:pt x="3062" y="371"/>
                  </a:lnTo>
                  <a:lnTo>
                    <a:pt x="3062" y="376"/>
                  </a:lnTo>
                  <a:lnTo>
                    <a:pt x="3054" y="376"/>
                  </a:lnTo>
                  <a:lnTo>
                    <a:pt x="3039" y="376"/>
                  </a:lnTo>
                  <a:lnTo>
                    <a:pt x="3024" y="376"/>
                  </a:lnTo>
                  <a:lnTo>
                    <a:pt x="3001" y="376"/>
                  </a:lnTo>
                  <a:lnTo>
                    <a:pt x="2986" y="376"/>
                  </a:lnTo>
                  <a:lnTo>
                    <a:pt x="2970" y="376"/>
                  </a:lnTo>
                  <a:lnTo>
                    <a:pt x="2955" y="376"/>
                  </a:lnTo>
                  <a:lnTo>
                    <a:pt x="2932" y="376"/>
                  </a:lnTo>
                  <a:lnTo>
                    <a:pt x="2917" y="376"/>
                  </a:lnTo>
                  <a:lnTo>
                    <a:pt x="2917" y="371"/>
                  </a:lnTo>
                  <a:lnTo>
                    <a:pt x="2910" y="371"/>
                  </a:lnTo>
                  <a:lnTo>
                    <a:pt x="3100" y="323"/>
                  </a:lnTo>
                  <a:lnTo>
                    <a:pt x="3108" y="296"/>
                  </a:lnTo>
                  <a:lnTo>
                    <a:pt x="3115" y="296"/>
                  </a:lnTo>
                  <a:lnTo>
                    <a:pt x="3130" y="296"/>
                  </a:lnTo>
                  <a:lnTo>
                    <a:pt x="3146" y="296"/>
                  </a:lnTo>
                  <a:lnTo>
                    <a:pt x="3153" y="296"/>
                  </a:lnTo>
                  <a:lnTo>
                    <a:pt x="3168" y="296"/>
                  </a:lnTo>
                  <a:lnTo>
                    <a:pt x="3184" y="296"/>
                  </a:lnTo>
                  <a:lnTo>
                    <a:pt x="3199" y="296"/>
                  </a:lnTo>
                  <a:lnTo>
                    <a:pt x="3214" y="296"/>
                  </a:lnTo>
                  <a:lnTo>
                    <a:pt x="3229" y="296"/>
                  </a:lnTo>
                  <a:lnTo>
                    <a:pt x="3245" y="323"/>
                  </a:lnTo>
                  <a:lnTo>
                    <a:pt x="3245" y="328"/>
                  </a:lnTo>
                  <a:lnTo>
                    <a:pt x="3237" y="328"/>
                  </a:lnTo>
                  <a:lnTo>
                    <a:pt x="3222" y="328"/>
                  </a:lnTo>
                  <a:lnTo>
                    <a:pt x="3207" y="328"/>
                  </a:lnTo>
                  <a:lnTo>
                    <a:pt x="3191" y="328"/>
                  </a:lnTo>
                  <a:lnTo>
                    <a:pt x="3176" y="328"/>
                  </a:lnTo>
                  <a:lnTo>
                    <a:pt x="3153" y="328"/>
                  </a:lnTo>
                  <a:lnTo>
                    <a:pt x="3138" y="328"/>
                  </a:lnTo>
                  <a:lnTo>
                    <a:pt x="3123" y="328"/>
                  </a:lnTo>
                  <a:lnTo>
                    <a:pt x="3108" y="328"/>
                  </a:lnTo>
                  <a:lnTo>
                    <a:pt x="3100" y="328"/>
                  </a:lnTo>
                  <a:lnTo>
                    <a:pt x="3100" y="323"/>
                  </a:lnTo>
                  <a:lnTo>
                    <a:pt x="22" y="26"/>
                  </a:lnTo>
                  <a:lnTo>
                    <a:pt x="30" y="0"/>
                  </a:lnTo>
                  <a:lnTo>
                    <a:pt x="38" y="0"/>
                  </a:lnTo>
                  <a:lnTo>
                    <a:pt x="53" y="0"/>
                  </a:lnTo>
                  <a:lnTo>
                    <a:pt x="68" y="0"/>
                  </a:lnTo>
                  <a:lnTo>
                    <a:pt x="76" y="0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0"/>
                  </a:lnTo>
                  <a:lnTo>
                    <a:pt x="137" y="0"/>
                  </a:lnTo>
                  <a:lnTo>
                    <a:pt x="152" y="0"/>
                  </a:lnTo>
                  <a:lnTo>
                    <a:pt x="167" y="26"/>
                  </a:lnTo>
                  <a:lnTo>
                    <a:pt x="159" y="26"/>
                  </a:lnTo>
                  <a:lnTo>
                    <a:pt x="144" y="26"/>
                  </a:lnTo>
                  <a:lnTo>
                    <a:pt x="129" y="32"/>
                  </a:lnTo>
                  <a:lnTo>
                    <a:pt x="114" y="32"/>
                  </a:lnTo>
                  <a:lnTo>
                    <a:pt x="91" y="32"/>
                  </a:lnTo>
                  <a:lnTo>
                    <a:pt x="76" y="32"/>
                  </a:lnTo>
                  <a:lnTo>
                    <a:pt x="60" y="32"/>
                  </a:lnTo>
                  <a:lnTo>
                    <a:pt x="45" y="26"/>
                  </a:lnTo>
                  <a:lnTo>
                    <a:pt x="22" y="26"/>
                  </a:lnTo>
                  <a:lnTo>
                    <a:pt x="1812" y="26"/>
                  </a:lnTo>
                  <a:lnTo>
                    <a:pt x="1827" y="0"/>
                  </a:lnTo>
                  <a:lnTo>
                    <a:pt x="1842" y="0"/>
                  </a:lnTo>
                  <a:lnTo>
                    <a:pt x="1858" y="0"/>
                  </a:lnTo>
                  <a:lnTo>
                    <a:pt x="1873" y="0"/>
                  </a:lnTo>
                  <a:lnTo>
                    <a:pt x="1888" y="0"/>
                  </a:lnTo>
                  <a:lnTo>
                    <a:pt x="1903" y="0"/>
                  </a:lnTo>
                  <a:lnTo>
                    <a:pt x="1919" y="0"/>
                  </a:lnTo>
                  <a:lnTo>
                    <a:pt x="1926" y="0"/>
                  </a:lnTo>
                  <a:lnTo>
                    <a:pt x="1941" y="0"/>
                  </a:lnTo>
                  <a:lnTo>
                    <a:pt x="1949" y="0"/>
                  </a:lnTo>
                  <a:lnTo>
                    <a:pt x="1964" y="26"/>
                  </a:lnTo>
                  <a:lnTo>
                    <a:pt x="1957" y="26"/>
                  </a:lnTo>
                  <a:lnTo>
                    <a:pt x="1941" y="26"/>
                  </a:lnTo>
                  <a:lnTo>
                    <a:pt x="1926" y="32"/>
                  </a:lnTo>
                  <a:lnTo>
                    <a:pt x="1903" y="32"/>
                  </a:lnTo>
                  <a:lnTo>
                    <a:pt x="1888" y="32"/>
                  </a:lnTo>
                  <a:lnTo>
                    <a:pt x="1873" y="32"/>
                  </a:lnTo>
                  <a:lnTo>
                    <a:pt x="1858" y="32"/>
                  </a:lnTo>
                  <a:lnTo>
                    <a:pt x="1835" y="26"/>
                  </a:lnTo>
                  <a:lnTo>
                    <a:pt x="1820" y="26"/>
                  </a:lnTo>
                  <a:lnTo>
                    <a:pt x="1812" y="26"/>
                  </a:lnTo>
                  <a:lnTo>
                    <a:pt x="1629" y="26"/>
                  </a:lnTo>
                  <a:lnTo>
                    <a:pt x="1637" y="0"/>
                  </a:lnTo>
                  <a:lnTo>
                    <a:pt x="1644" y="0"/>
                  </a:lnTo>
                  <a:lnTo>
                    <a:pt x="1660" y="0"/>
                  </a:lnTo>
                  <a:lnTo>
                    <a:pt x="1675" y="0"/>
                  </a:lnTo>
                  <a:lnTo>
                    <a:pt x="1682" y="0"/>
                  </a:lnTo>
                  <a:lnTo>
                    <a:pt x="1698" y="0"/>
                  </a:lnTo>
                  <a:lnTo>
                    <a:pt x="1713" y="0"/>
                  </a:lnTo>
                  <a:lnTo>
                    <a:pt x="1728" y="0"/>
                  </a:lnTo>
                  <a:lnTo>
                    <a:pt x="1743" y="0"/>
                  </a:lnTo>
                  <a:lnTo>
                    <a:pt x="1759" y="0"/>
                  </a:lnTo>
                  <a:lnTo>
                    <a:pt x="1774" y="26"/>
                  </a:lnTo>
                  <a:lnTo>
                    <a:pt x="1766" y="26"/>
                  </a:lnTo>
                  <a:lnTo>
                    <a:pt x="1751" y="26"/>
                  </a:lnTo>
                  <a:lnTo>
                    <a:pt x="1736" y="32"/>
                  </a:lnTo>
                  <a:lnTo>
                    <a:pt x="1721" y="32"/>
                  </a:lnTo>
                  <a:lnTo>
                    <a:pt x="1698" y="32"/>
                  </a:lnTo>
                  <a:lnTo>
                    <a:pt x="1682" y="32"/>
                  </a:lnTo>
                  <a:lnTo>
                    <a:pt x="1667" y="32"/>
                  </a:lnTo>
                  <a:lnTo>
                    <a:pt x="1652" y="26"/>
                  </a:lnTo>
                  <a:lnTo>
                    <a:pt x="1629" y="26"/>
                  </a:lnTo>
                  <a:lnTo>
                    <a:pt x="1439" y="26"/>
                  </a:lnTo>
                  <a:lnTo>
                    <a:pt x="1446" y="0"/>
                  </a:lnTo>
                  <a:lnTo>
                    <a:pt x="1454" y="0"/>
                  </a:lnTo>
                  <a:lnTo>
                    <a:pt x="1469" y="0"/>
                  </a:lnTo>
                  <a:lnTo>
                    <a:pt x="1484" y="0"/>
                  </a:lnTo>
                  <a:lnTo>
                    <a:pt x="1492" y="0"/>
                  </a:lnTo>
                  <a:lnTo>
                    <a:pt x="1507" y="0"/>
                  </a:lnTo>
                  <a:lnTo>
                    <a:pt x="1523" y="0"/>
                  </a:lnTo>
                  <a:lnTo>
                    <a:pt x="1538" y="0"/>
                  </a:lnTo>
                  <a:lnTo>
                    <a:pt x="1553" y="0"/>
                  </a:lnTo>
                  <a:lnTo>
                    <a:pt x="1568" y="0"/>
                  </a:lnTo>
                  <a:lnTo>
                    <a:pt x="1583" y="26"/>
                  </a:lnTo>
                  <a:lnTo>
                    <a:pt x="1576" y="26"/>
                  </a:lnTo>
                  <a:lnTo>
                    <a:pt x="1561" y="26"/>
                  </a:lnTo>
                  <a:lnTo>
                    <a:pt x="1545" y="32"/>
                  </a:lnTo>
                  <a:lnTo>
                    <a:pt x="1530" y="32"/>
                  </a:lnTo>
                  <a:lnTo>
                    <a:pt x="1515" y="32"/>
                  </a:lnTo>
                  <a:lnTo>
                    <a:pt x="1492" y="32"/>
                  </a:lnTo>
                  <a:lnTo>
                    <a:pt x="1477" y="32"/>
                  </a:lnTo>
                  <a:lnTo>
                    <a:pt x="1462" y="26"/>
                  </a:lnTo>
                  <a:lnTo>
                    <a:pt x="1446" y="26"/>
                  </a:lnTo>
                  <a:lnTo>
                    <a:pt x="1439" y="26"/>
                  </a:lnTo>
                  <a:lnTo>
                    <a:pt x="1248" y="26"/>
                  </a:lnTo>
                  <a:lnTo>
                    <a:pt x="1264" y="0"/>
                  </a:lnTo>
                  <a:lnTo>
                    <a:pt x="1279" y="0"/>
                  </a:lnTo>
                  <a:lnTo>
                    <a:pt x="1294" y="0"/>
                  </a:lnTo>
                  <a:lnTo>
                    <a:pt x="1309" y="0"/>
                  </a:lnTo>
                  <a:lnTo>
                    <a:pt x="1325" y="0"/>
                  </a:lnTo>
                  <a:lnTo>
                    <a:pt x="1340" y="0"/>
                  </a:lnTo>
                  <a:lnTo>
                    <a:pt x="1355" y="0"/>
                  </a:lnTo>
                  <a:lnTo>
                    <a:pt x="1363" y="0"/>
                  </a:lnTo>
                  <a:lnTo>
                    <a:pt x="1378" y="0"/>
                  </a:lnTo>
                  <a:lnTo>
                    <a:pt x="1385" y="0"/>
                  </a:lnTo>
                  <a:lnTo>
                    <a:pt x="1393" y="26"/>
                  </a:lnTo>
                  <a:lnTo>
                    <a:pt x="1378" y="26"/>
                  </a:lnTo>
                  <a:lnTo>
                    <a:pt x="1355" y="32"/>
                  </a:lnTo>
                  <a:lnTo>
                    <a:pt x="1340" y="32"/>
                  </a:lnTo>
                  <a:lnTo>
                    <a:pt x="1325" y="32"/>
                  </a:lnTo>
                  <a:lnTo>
                    <a:pt x="1309" y="32"/>
                  </a:lnTo>
                  <a:lnTo>
                    <a:pt x="1286" y="32"/>
                  </a:lnTo>
                  <a:lnTo>
                    <a:pt x="1271" y="26"/>
                  </a:lnTo>
                  <a:lnTo>
                    <a:pt x="1256" y="26"/>
                  </a:lnTo>
                  <a:lnTo>
                    <a:pt x="1248" y="26"/>
                  </a:lnTo>
                  <a:lnTo>
                    <a:pt x="517" y="366"/>
                  </a:lnTo>
                  <a:lnTo>
                    <a:pt x="525" y="344"/>
                  </a:lnTo>
                  <a:lnTo>
                    <a:pt x="525" y="339"/>
                  </a:lnTo>
                  <a:lnTo>
                    <a:pt x="533" y="339"/>
                  </a:lnTo>
                  <a:lnTo>
                    <a:pt x="563" y="339"/>
                  </a:lnTo>
                  <a:lnTo>
                    <a:pt x="593" y="344"/>
                  </a:lnTo>
                  <a:lnTo>
                    <a:pt x="624" y="344"/>
                  </a:lnTo>
                  <a:lnTo>
                    <a:pt x="654" y="344"/>
                  </a:lnTo>
                  <a:lnTo>
                    <a:pt x="685" y="344"/>
                  </a:lnTo>
                  <a:lnTo>
                    <a:pt x="723" y="344"/>
                  </a:lnTo>
                  <a:lnTo>
                    <a:pt x="753" y="339"/>
                  </a:lnTo>
                  <a:lnTo>
                    <a:pt x="784" y="339"/>
                  </a:lnTo>
                  <a:lnTo>
                    <a:pt x="791" y="339"/>
                  </a:lnTo>
                  <a:lnTo>
                    <a:pt x="791" y="344"/>
                  </a:lnTo>
                  <a:lnTo>
                    <a:pt x="799" y="366"/>
                  </a:lnTo>
                  <a:lnTo>
                    <a:pt x="799" y="371"/>
                  </a:lnTo>
                  <a:lnTo>
                    <a:pt x="791" y="371"/>
                  </a:lnTo>
                  <a:lnTo>
                    <a:pt x="761" y="371"/>
                  </a:lnTo>
                  <a:lnTo>
                    <a:pt x="731" y="371"/>
                  </a:lnTo>
                  <a:lnTo>
                    <a:pt x="692" y="371"/>
                  </a:lnTo>
                  <a:lnTo>
                    <a:pt x="662" y="371"/>
                  </a:lnTo>
                  <a:lnTo>
                    <a:pt x="624" y="371"/>
                  </a:lnTo>
                  <a:lnTo>
                    <a:pt x="593" y="371"/>
                  </a:lnTo>
                  <a:lnTo>
                    <a:pt x="555" y="371"/>
                  </a:lnTo>
                  <a:lnTo>
                    <a:pt x="525" y="371"/>
                  </a:lnTo>
                  <a:lnTo>
                    <a:pt x="517" y="371"/>
                  </a:lnTo>
                  <a:lnTo>
                    <a:pt x="517" y="366"/>
                  </a:lnTo>
                  <a:lnTo>
                    <a:pt x="0" y="371"/>
                  </a:lnTo>
                  <a:lnTo>
                    <a:pt x="7" y="344"/>
                  </a:lnTo>
                  <a:lnTo>
                    <a:pt x="7" y="339"/>
                  </a:lnTo>
                  <a:lnTo>
                    <a:pt x="15" y="339"/>
                  </a:lnTo>
                  <a:lnTo>
                    <a:pt x="45" y="344"/>
                  </a:lnTo>
                  <a:lnTo>
                    <a:pt x="76" y="344"/>
                  </a:lnTo>
                  <a:lnTo>
                    <a:pt x="106" y="344"/>
                  </a:lnTo>
                  <a:lnTo>
                    <a:pt x="137" y="344"/>
                  </a:lnTo>
                  <a:lnTo>
                    <a:pt x="167" y="344"/>
                  </a:lnTo>
                  <a:lnTo>
                    <a:pt x="205" y="344"/>
                  </a:lnTo>
                  <a:lnTo>
                    <a:pt x="236" y="344"/>
                  </a:lnTo>
                  <a:lnTo>
                    <a:pt x="266" y="339"/>
                  </a:lnTo>
                  <a:lnTo>
                    <a:pt x="266" y="344"/>
                  </a:lnTo>
                  <a:lnTo>
                    <a:pt x="274" y="344"/>
                  </a:lnTo>
                  <a:lnTo>
                    <a:pt x="274" y="371"/>
                  </a:lnTo>
                  <a:lnTo>
                    <a:pt x="243" y="371"/>
                  </a:lnTo>
                  <a:lnTo>
                    <a:pt x="205" y="376"/>
                  </a:lnTo>
                  <a:lnTo>
                    <a:pt x="175" y="376"/>
                  </a:lnTo>
                  <a:lnTo>
                    <a:pt x="137" y="376"/>
                  </a:lnTo>
                  <a:lnTo>
                    <a:pt x="106" y="376"/>
                  </a:lnTo>
                  <a:lnTo>
                    <a:pt x="76" y="376"/>
                  </a:lnTo>
                  <a:lnTo>
                    <a:pt x="38" y="376"/>
                  </a:lnTo>
                  <a:lnTo>
                    <a:pt x="7" y="371"/>
                  </a:lnTo>
                  <a:lnTo>
                    <a:pt x="0" y="371"/>
                  </a:lnTo>
                  <a:lnTo>
                    <a:pt x="7" y="323"/>
                  </a:lnTo>
                  <a:lnTo>
                    <a:pt x="15" y="296"/>
                  </a:lnTo>
                  <a:lnTo>
                    <a:pt x="15" y="291"/>
                  </a:lnTo>
                  <a:lnTo>
                    <a:pt x="22" y="291"/>
                  </a:lnTo>
                  <a:lnTo>
                    <a:pt x="83" y="291"/>
                  </a:lnTo>
                  <a:lnTo>
                    <a:pt x="137" y="296"/>
                  </a:lnTo>
                  <a:lnTo>
                    <a:pt x="190" y="296"/>
                  </a:lnTo>
                  <a:lnTo>
                    <a:pt x="243" y="296"/>
                  </a:lnTo>
                  <a:lnTo>
                    <a:pt x="296" y="296"/>
                  </a:lnTo>
                  <a:lnTo>
                    <a:pt x="357" y="296"/>
                  </a:lnTo>
                  <a:lnTo>
                    <a:pt x="411" y="296"/>
                  </a:lnTo>
                  <a:lnTo>
                    <a:pt x="464" y="291"/>
                  </a:lnTo>
                  <a:lnTo>
                    <a:pt x="472" y="291"/>
                  </a:lnTo>
                  <a:lnTo>
                    <a:pt x="472" y="296"/>
                  </a:lnTo>
                  <a:lnTo>
                    <a:pt x="487" y="323"/>
                  </a:lnTo>
                  <a:lnTo>
                    <a:pt x="479" y="323"/>
                  </a:lnTo>
                  <a:lnTo>
                    <a:pt x="426" y="323"/>
                  </a:lnTo>
                  <a:lnTo>
                    <a:pt x="365" y="328"/>
                  </a:lnTo>
                  <a:lnTo>
                    <a:pt x="312" y="328"/>
                  </a:lnTo>
                  <a:lnTo>
                    <a:pt x="251" y="328"/>
                  </a:lnTo>
                  <a:lnTo>
                    <a:pt x="190" y="328"/>
                  </a:lnTo>
                  <a:lnTo>
                    <a:pt x="137" y="328"/>
                  </a:lnTo>
                  <a:lnTo>
                    <a:pt x="76" y="328"/>
                  </a:lnTo>
                  <a:lnTo>
                    <a:pt x="15" y="323"/>
                  </a:lnTo>
                  <a:lnTo>
                    <a:pt x="7" y="323"/>
                  </a:lnTo>
                  <a:lnTo>
                    <a:pt x="0" y="263"/>
                  </a:lnTo>
                  <a:lnTo>
                    <a:pt x="7" y="236"/>
                  </a:lnTo>
                  <a:lnTo>
                    <a:pt x="15" y="236"/>
                  </a:lnTo>
                  <a:lnTo>
                    <a:pt x="45" y="236"/>
                  </a:lnTo>
                  <a:lnTo>
                    <a:pt x="68" y="236"/>
                  </a:lnTo>
                  <a:lnTo>
                    <a:pt x="99" y="236"/>
                  </a:lnTo>
                  <a:lnTo>
                    <a:pt x="129" y="236"/>
                  </a:lnTo>
                  <a:lnTo>
                    <a:pt x="159" y="236"/>
                  </a:lnTo>
                  <a:lnTo>
                    <a:pt x="182" y="236"/>
                  </a:lnTo>
                  <a:lnTo>
                    <a:pt x="213" y="236"/>
                  </a:lnTo>
                  <a:lnTo>
                    <a:pt x="243" y="236"/>
                  </a:lnTo>
                  <a:lnTo>
                    <a:pt x="251" y="263"/>
                  </a:lnTo>
                  <a:lnTo>
                    <a:pt x="220" y="268"/>
                  </a:lnTo>
                  <a:lnTo>
                    <a:pt x="190" y="268"/>
                  </a:lnTo>
                  <a:lnTo>
                    <a:pt x="159" y="268"/>
                  </a:lnTo>
                  <a:lnTo>
                    <a:pt x="129" y="268"/>
                  </a:lnTo>
                  <a:lnTo>
                    <a:pt x="99" y="268"/>
                  </a:lnTo>
                  <a:lnTo>
                    <a:pt x="68" y="268"/>
                  </a:lnTo>
                  <a:lnTo>
                    <a:pt x="38" y="268"/>
                  </a:lnTo>
                  <a:lnTo>
                    <a:pt x="7" y="263"/>
                  </a:lnTo>
                  <a:lnTo>
                    <a:pt x="0" y="263"/>
                  </a:lnTo>
                  <a:lnTo>
                    <a:pt x="0" y="215"/>
                  </a:lnTo>
                  <a:lnTo>
                    <a:pt x="7" y="188"/>
                  </a:lnTo>
                  <a:lnTo>
                    <a:pt x="7" y="183"/>
                  </a:lnTo>
                  <a:lnTo>
                    <a:pt x="15" y="183"/>
                  </a:lnTo>
                  <a:lnTo>
                    <a:pt x="45" y="183"/>
                  </a:lnTo>
                  <a:lnTo>
                    <a:pt x="76" y="188"/>
                  </a:lnTo>
                  <a:lnTo>
                    <a:pt x="106" y="188"/>
                  </a:lnTo>
                  <a:lnTo>
                    <a:pt x="137" y="188"/>
                  </a:lnTo>
                  <a:lnTo>
                    <a:pt x="167" y="188"/>
                  </a:lnTo>
                  <a:lnTo>
                    <a:pt x="205" y="188"/>
                  </a:lnTo>
                  <a:lnTo>
                    <a:pt x="236" y="183"/>
                  </a:lnTo>
                  <a:lnTo>
                    <a:pt x="266" y="183"/>
                  </a:lnTo>
                  <a:lnTo>
                    <a:pt x="274" y="183"/>
                  </a:lnTo>
                  <a:lnTo>
                    <a:pt x="274" y="188"/>
                  </a:lnTo>
                  <a:lnTo>
                    <a:pt x="281" y="209"/>
                  </a:lnTo>
                  <a:lnTo>
                    <a:pt x="281" y="215"/>
                  </a:lnTo>
                  <a:lnTo>
                    <a:pt x="274" y="215"/>
                  </a:lnTo>
                  <a:lnTo>
                    <a:pt x="243" y="215"/>
                  </a:lnTo>
                  <a:lnTo>
                    <a:pt x="213" y="215"/>
                  </a:lnTo>
                  <a:lnTo>
                    <a:pt x="175" y="215"/>
                  </a:lnTo>
                  <a:lnTo>
                    <a:pt x="144" y="215"/>
                  </a:lnTo>
                  <a:lnTo>
                    <a:pt x="106" y="215"/>
                  </a:lnTo>
                  <a:lnTo>
                    <a:pt x="76" y="215"/>
                  </a:lnTo>
                  <a:lnTo>
                    <a:pt x="45" y="215"/>
                  </a:lnTo>
                  <a:lnTo>
                    <a:pt x="7" y="215"/>
                  </a:lnTo>
                  <a:lnTo>
                    <a:pt x="0" y="215"/>
                  </a:lnTo>
                  <a:lnTo>
                    <a:pt x="2094" y="366"/>
                  </a:lnTo>
                  <a:lnTo>
                    <a:pt x="2094" y="344"/>
                  </a:lnTo>
                  <a:lnTo>
                    <a:pt x="2101" y="339"/>
                  </a:lnTo>
                  <a:lnTo>
                    <a:pt x="2132" y="339"/>
                  </a:lnTo>
                  <a:lnTo>
                    <a:pt x="2163" y="344"/>
                  </a:lnTo>
                  <a:lnTo>
                    <a:pt x="2194" y="344"/>
                  </a:lnTo>
                  <a:lnTo>
                    <a:pt x="2224" y="344"/>
                  </a:lnTo>
                  <a:lnTo>
                    <a:pt x="2255" y="344"/>
                  </a:lnTo>
                  <a:lnTo>
                    <a:pt x="2293" y="344"/>
                  </a:lnTo>
                  <a:lnTo>
                    <a:pt x="2323" y="339"/>
                  </a:lnTo>
                  <a:lnTo>
                    <a:pt x="2354" y="339"/>
                  </a:lnTo>
                  <a:lnTo>
                    <a:pt x="2354" y="344"/>
                  </a:lnTo>
                  <a:lnTo>
                    <a:pt x="2361" y="366"/>
                  </a:lnTo>
                  <a:lnTo>
                    <a:pt x="2361" y="371"/>
                  </a:lnTo>
                  <a:lnTo>
                    <a:pt x="2354" y="371"/>
                  </a:lnTo>
                  <a:lnTo>
                    <a:pt x="2331" y="371"/>
                  </a:lnTo>
                  <a:lnTo>
                    <a:pt x="2293" y="371"/>
                  </a:lnTo>
                  <a:lnTo>
                    <a:pt x="2262" y="371"/>
                  </a:lnTo>
                  <a:lnTo>
                    <a:pt x="2232" y="371"/>
                  </a:lnTo>
                  <a:lnTo>
                    <a:pt x="2194" y="371"/>
                  </a:lnTo>
                  <a:lnTo>
                    <a:pt x="2163" y="371"/>
                  </a:lnTo>
                  <a:lnTo>
                    <a:pt x="2124" y="371"/>
                  </a:lnTo>
                  <a:lnTo>
                    <a:pt x="2094" y="371"/>
                  </a:lnTo>
                  <a:lnTo>
                    <a:pt x="2094" y="366"/>
                  </a:lnTo>
                  <a:lnTo>
                    <a:pt x="2529" y="371"/>
                  </a:lnTo>
                  <a:lnTo>
                    <a:pt x="2536" y="344"/>
                  </a:lnTo>
                  <a:lnTo>
                    <a:pt x="2536" y="339"/>
                  </a:lnTo>
                  <a:lnTo>
                    <a:pt x="2544" y="339"/>
                  </a:lnTo>
                  <a:lnTo>
                    <a:pt x="2574" y="344"/>
                  </a:lnTo>
                  <a:lnTo>
                    <a:pt x="2605" y="344"/>
                  </a:lnTo>
                  <a:lnTo>
                    <a:pt x="2635" y="344"/>
                  </a:lnTo>
                  <a:lnTo>
                    <a:pt x="2666" y="344"/>
                  </a:lnTo>
                  <a:lnTo>
                    <a:pt x="2696" y="344"/>
                  </a:lnTo>
                  <a:lnTo>
                    <a:pt x="2734" y="344"/>
                  </a:lnTo>
                  <a:lnTo>
                    <a:pt x="2765" y="344"/>
                  </a:lnTo>
                  <a:lnTo>
                    <a:pt x="2795" y="339"/>
                  </a:lnTo>
                  <a:lnTo>
                    <a:pt x="2803" y="339"/>
                  </a:lnTo>
                  <a:lnTo>
                    <a:pt x="2803" y="344"/>
                  </a:lnTo>
                  <a:lnTo>
                    <a:pt x="2811" y="371"/>
                  </a:lnTo>
                  <a:lnTo>
                    <a:pt x="2803" y="371"/>
                  </a:lnTo>
                  <a:lnTo>
                    <a:pt x="2772" y="371"/>
                  </a:lnTo>
                  <a:lnTo>
                    <a:pt x="2742" y="376"/>
                  </a:lnTo>
                  <a:lnTo>
                    <a:pt x="2704" y="376"/>
                  </a:lnTo>
                  <a:lnTo>
                    <a:pt x="2673" y="376"/>
                  </a:lnTo>
                  <a:lnTo>
                    <a:pt x="2635" y="376"/>
                  </a:lnTo>
                  <a:lnTo>
                    <a:pt x="2605" y="376"/>
                  </a:lnTo>
                  <a:lnTo>
                    <a:pt x="2574" y="376"/>
                  </a:lnTo>
                  <a:lnTo>
                    <a:pt x="2536" y="371"/>
                  </a:lnTo>
                  <a:lnTo>
                    <a:pt x="2529" y="371"/>
                  </a:lnTo>
                  <a:lnTo>
                    <a:pt x="2399" y="323"/>
                  </a:lnTo>
                  <a:lnTo>
                    <a:pt x="2407" y="296"/>
                  </a:lnTo>
                  <a:lnTo>
                    <a:pt x="2407" y="291"/>
                  </a:lnTo>
                  <a:lnTo>
                    <a:pt x="2415" y="291"/>
                  </a:lnTo>
                  <a:lnTo>
                    <a:pt x="2460" y="291"/>
                  </a:lnTo>
                  <a:lnTo>
                    <a:pt x="2506" y="296"/>
                  </a:lnTo>
                  <a:lnTo>
                    <a:pt x="2552" y="296"/>
                  </a:lnTo>
                  <a:lnTo>
                    <a:pt x="2597" y="296"/>
                  </a:lnTo>
                  <a:lnTo>
                    <a:pt x="2643" y="296"/>
                  </a:lnTo>
                  <a:lnTo>
                    <a:pt x="2689" y="296"/>
                  </a:lnTo>
                  <a:lnTo>
                    <a:pt x="2742" y="291"/>
                  </a:lnTo>
                  <a:lnTo>
                    <a:pt x="2788" y="291"/>
                  </a:lnTo>
                  <a:lnTo>
                    <a:pt x="2795" y="291"/>
                  </a:lnTo>
                  <a:lnTo>
                    <a:pt x="2795" y="296"/>
                  </a:lnTo>
                  <a:lnTo>
                    <a:pt x="2803" y="317"/>
                  </a:lnTo>
                  <a:lnTo>
                    <a:pt x="2803" y="323"/>
                  </a:lnTo>
                  <a:lnTo>
                    <a:pt x="2795" y="323"/>
                  </a:lnTo>
                  <a:lnTo>
                    <a:pt x="2750" y="323"/>
                  </a:lnTo>
                  <a:lnTo>
                    <a:pt x="2704" y="323"/>
                  </a:lnTo>
                  <a:lnTo>
                    <a:pt x="2651" y="323"/>
                  </a:lnTo>
                  <a:lnTo>
                    <a:pt x="2605" y="323"/>
                  </a:lnTo>
                  <a:lnTo>
                    <a:pt x="2552" y="323"/>
                  </a:lnTo>
                  <a:lnTo>
                    <a:pt x="2506" y="323"/>
                  </a:lnTo>
                  <a:lnTo>
                    <a:pt x="2453" y="323"/>
                  </a:lnTo>
                  <a:lnTo>
                    <a:pt x="2407" y="323"/>
                  </a:lnTo>
                  <a:lnTo>
                    <a:pt x="2399" y="323"/>
                  </a:lnTo>
                  <a:lnTo>
                    <a:pt x="2475" y="263"/>
                  </a:lnTo>
                  <a:lnTo>
                    <a:pt x="2483" y="236"/>
                  </a:lnTo>
                  <a:lnTo>
                    <a:pt x="2483" y="231"/>
                  </a:lnTo>
                  <a:lnTo>
                    <a:pt x="2491" y="231"/>
                  </a:lnTo>
                  <a:lnTo>
                    <a:pt x="2529" y="236"/>
                  </a:lnTo>
                  <a:lnTo>
                    <a:pt x="2567" y="236"/>
                  </a:lnTo>
                  <a:lnTo>
                    <a:pt x="2605" y="236"/>
                  </a:lnTo>
                  <a:lnTo>
                    <a:pt x="2643" y="236"/>
                  </a:lnTo>
                  <a:lnTo>
                    <a:pt x="2681" y="236"/>
                  </a:lnTo>
                  <a:lnTo>
                    <a:pt x="2719" y="236"/>
                  </a:lnTo>
                  <a:lnTo>
                    <a:pt x="2757" y="236"/>
                  </a:lnTo>
                  <a:lnTo>
                    <a:pt x="2795" y="231"/>
                  </a:lnTo>
                  <a:lnTo>
                    <a:pt x="2795" y="236"/>
                  </a:lnTo>
                  <a:lnTo>
                    <a:pt x="2803" y="263"/>
                  </a:lnTo>
                  <a:lnTo>
                    <a:pt x="2765" y="263"/>
                  </a:lnTo>
                  <a:lnTo>
                    <a:pt x="2727" y="268"/>
                  </a:lnTo>
                  <a:lnTo>
                    <a:pt x="2681" y="268"/>
                  </a:lnTo>
                  <a:lnTo>
                    <a:pt x="2643" y="268"/>
                  </a:lnTo>
                  <a:lnTo>
                    <a:pt x="2605" y="268"/>
                  </a:lnTo>
                  <a:lnTo>
                    <a:pt x="2559" y="268"/>
                  </a:lnTo>
                  <a:lnTo>
                    <a:pt x="2521" y="268"/>
                  </a:lnTo>
                  <a:lnTo>
                    <a:pt x="2483" y="263"/>
                  </a:lnTo>
                  <a:lnTo>
                    <a:pt x="2475" y="263"/>
                  </a:lnTo>
                  <a:lnTo>
                    <a:pt x="2453" y="166"/>
                  </a:lnTo>
                  <a:lnTo>
                    <a:pt x="2460" y="140"/>
                  </a:lnTo>
                  <a:lnTo>
                    <a:pt x="2460" y="134"/>
                  </a:lnTo>
                  <a:lnTo>
                    <a:pt x="2468" y="134"/>
                  </a:lnTo>
                  <a:lnTo>
                    <a:pt x="2514" y="140"/>
                  </a:lnTo>
                  <a:lnTo>
                    <a:pt x="2552" y="140"/>
                  </a:lnTo>
                  <a:lnTo>
                    <a:pt x="2590" y="140"/>
                  </a:lnTo>
                  <a:lnTo>
                    <a:pt x="2628" y="140"/>
                  </a:lnTo>
                  <a:lnTo>
                    <a:pt x="2673" y="140"/>
                  </a:lnTo>
                  <a:lnTo>
                    <a:pt x="2712" y="140"/>
                  </a:lnTo>
                  <a:lnTo>
                    <a:pt x="2750" y="140"/>
                  </a:lnTo>
                  <a:lnTo>
                    <a:pt x="2788" y="134"/>
                  </a:lnTo>
                  <a:lnTo>
                    <a:pt x="2795" y="134"/>
                  </a:lnTo>
                  <a:lnTo>
                    <a:pt x="2795" y="140"/>
                  </a:lnTo>
                  <a:lnTo>
                    <a:pt x="2803" y="166"/>
                  </a:lnTo>
                  <a:lnTo>
                    <a:pt x="2795" y="166"/>
                  </a:lnTo>
                  <a:lnTo>
                    <a:pt x="2757" y="166"/>
                  </a:lnTo>
                  <a:lnTo>
                    <a:pt x="2719" y="166"/>
                  </a:lnTo>
                  <a:lnTo>
                    <a:pt x="2673" y="166"/>
                  </a:lnTo>
                  <a:lnTo>
                    <a:pt x="2635" y="166"/>
                  </a:lnTo>
                  <a:lnTo>
                    <a:pt x="2590" y="166"/>
                  </a:lnTo>
                  <a:lnTo>
                    <a:pt x="2544" y="166"/>
                  </a:lnTo>
                  <a:lnTo>
                    <a:pt x="2506" y="166"/>
                  </a:lnTo>
                  <a:lnTo>
                    <a:pt x="2460" y="166"/>
                  </a:lnTo>
                  <a:lnTo>
                    <a:pt x="2453" y="166"/>
                  </a:lnTo>
                  <a:lnTo>
                    <a:pt x="4151" y="371"/>
                  </a:lnTo>
                  <a:close/>
                </a:path>
              </a:pathLst>
            </a:custGeom>
            <a:solidFill>
              <a:srgbClr val="d8d8d8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542960" y="6591240"/>
              <a:ext cx="1398960" cy="817920"/>
            </a:xfrm>
            <a:custGeom>
              <a:avLst/>
              <a:gdLst/>
              <a:ahLst/>
              <a:rect l="0" t="0" r="r" b="b"/>
              <a:pathLst>
                <a:path w="3886" h="2272">
                  <a:moveTo>
                    <a:pt x="68" y="0"/>
                  </a:moveTo>
                  <a:lnTo>
                    <a:pt x="3818" y="0"/>
                  </a:lnTo>
                  <a:lnTo>
                    <a:pt x="3848" y="5"/>
                  </a:lnTo>
                  <a:lnTo>
                    <a:pt x="3871" y="17"/>
                  </a:lnTo>
                  <a:lnTo>
                    <a:pt x="3886" y="28"/>
                  </a:lnTo>
                  <a:lnTo>
                    <a:pt x="3886" y="51"/>
                  </a:lnTo>
                  <a:lnTo>
                    <a:pt x="3886" y="2058"/>
                  </a:lnTo>
                  <a:lnTo>
                    <a:pt x="3886" y="2076"/>
                  </a:lnTo>
                  <a:lnTo>
                    <a:pt x="3871" y="2093"/>
                  </a:lnTo>
                  <a:lnTo>
                    <a:pt x="3848" y="2099"/>
                  </a:lnTo>
                  <a:lnTo>
                    <a:pt x="3818" y="2104"/>
                  </a:lnTo>
                  <a:lnTo>
                    <a:pt x="68" y="2104"/>
                  </a:lnTo>
                  <a:lnTo>
                    <a:pt x="38" y="2099"/>
                  </a:lnTo>
                  <a:lnTo>
                    <a:pt x="15" y="2093"/>
                  </a:lnTo>
                  <a:lnTo>
                    <a:pt x="0" y="2076"/>
                  </a:lnTo>
                  <a:lnTo>
                    <a:pt x="0" y="2058"/>
                  </a:lnTo>
                  <a:lnTo>
                    <a:pt x="0" y="51"/>
                  </a:lnTo>
                  <a:lnTo>
                    <a:pt x="0" y="28"/>
                  </a:lnTo>
                  <a:lnTo>
                    <a:pt x="15" y="17"/>
                  </a:lnTo>
                  <a:lnTo>
                    <a:pt x="38" y="5"/>
                  </a:lnTo>
                  <a:lnTo>
                    <a:pt x="68" y="0"/>
                  </a:lnTo>
                  <a:lnTo>
                    <a:pt x="364" y="2104"/>
                  </a:lnTo>
                  <a:lnTo>
                    <a:pt x="364" y="2272"/>
                  </a:lnTo>
                  <a:lnTo>
                    <a:pt x="3522" y="2272"/>
                  </a:lnTo>
                  <a:lnTo>
                    <a:pt x="3522" y="2104"/>
                  </a:lnTo>
                  <a:lnTo>
                    <a:pt x="364" y="2104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f7f7f7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42960" y="6591240"/>
              <a:ext cx="1416240" cy="768600"/>
            </a:xfrm>
            <a:custGeom>
              <a:avLst/>
              <a:gdLst/>
              <a:ahLst/>
              <a:rect l="0" t="0" r="r" b="b"/>
              <a:pathLst>
                <a:path fill="none" w="3934" h="2135">
                  <a:moveTo>
                    <a:pt x="69" y="0"/>
                  </a:moveTo>
                  <a:lnTo>
                    <a:pt x="3865" y="0"/>
                  </a:lnTo>
                  <a:lnTo>
                    <a:pt x="3895" y="5"/>
                  </a:lnTo>
                  <a:lnTo>
                    <a:pt x="3919" y="17"/>
                  </a:lnTo>
                  <a:lnTo>
                    <a:pt x="3934" y="29"/>
                  </a:lnTo>
                  <a:lnTo>
                    <a:pt x="3934" y="52"/>
                  </a:lnTo>
                  <a:lnTo>
                    <a:pt x="3934" y="2088"/>
                  </a:lnTo>
                  <a:lnTo>
                    <a:pt x="3934" y="2106"/>
                  </a:lnTo>
                  <a:lnTo>
                    <a:pt x="3919" y="2123"/>
                  </a:lnTo>
                  <a:lnTo>
                    <a:pt x="3895" y="2129"/>
                  </a:lnTo>
                  <a:lnTo>
                    <a:pt x="3865" y="2135"/>
                  </a:lnTo>
                  <a:lnTo>
                    <a:pt x="69" y="2135"/>
                  </a:lnTo>
                  <a:lnTo>
                    <a:pt x="38" y="2129"/>
                  </a:lnTo>
                  <a:lnTo>
                    <a:pt x="15" y="2123"/>
                  </a:lnTo>
                  <a:lnTo>
                    <a:pt x="0" y="2106"/>
                  </a:lnTo>
                  <a:lnTo>
                    <a:pt x="0" y="2088"/>
                  </a:lnTo>
                  <a:lnTo>
                    <a:pt x="0" y="52"/>
                  </a:lnTo>
                  <a:lnTo>
                    <a:pt x="0" y="29"/>
                  </a:lnTo>
                  <a:lnTo>
                    <a:pt x="15" y="17"/>
                  </a:lnTo>
                  <a:lnTo>
                    <a:pt x="38" y="5"/>
                  </a:lnTo>
                  <a:lnTo>
                    <a:pt x="69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674720" y="7359480"/>
              <a:ext cx="1151280" cy="62280"/>
            </a:xfrm>
            <a:custGeom>
              <a:avLst/>
              <a:gdLst/>
              <a:ahLst/>
              <a:rect l="0" t="0" r="r" b="b"/>
              <a:pathLst>
                <a:path fill="none" w="3198" h="173">
                  <a:moveTo>
                    <a:pt x="0" y="0"/>
                  </a:moveTo>
                  <a:lnTo>
                    <a:pt x="0" y="173"/>
                  </a:lnTo>
                  <a:lnTo>
                    <a:pt x="3198" y="173"/>
                  </a:lnTo>
                  <a:lnTo>
                    <a:pt x="3198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62040" y="6602400"/>
              <a:ext cx="1364040" cy="735480"/>
            </a:xfrm>
            <a:custGeom>
              <a:avLst/>
              <a:gdLst/>
              <a:ahLst/>
              <a:rect l="0" t="0" r="r" b="b"/>
              <a:pathLst>
                <a:path w="3789" h="2043">
                  <a:moveTo>
                    <a:pt x="60" y="0"/>
                  </a:moveTo>
                  <a:lnTo>
                    <a:pt x="3721" y="0"/>
                  </a:lnTo>
                  <a:lnTo>
                    <a:pt x="3744" y="5"/>
                  </a:lnTo>
                  <a:lnTo>
                    <a:pt x="3767" y="17"/>
                  </a:lnTo>
                  <a:lnTo>
                    <a:pt x="3782" y="28"/>
                  </a:lnTo>
                  <a:lnTo>
                    <a:pt x="3789" y="46"/>
                  </a:lnTo>
                  <a:lnTo>
                    <a:pt x="3789" y="1997"/>
                  </a:lnTo>
                  <a:lnTo>
                    <a:pt x="3782" y="2014"/>
                  </a:lnTo>
                  <a:lnTo>
                    <a:pt x="3767" y="2032"/>
                  </a:lnTo>
                  <a:lnTo>
                    <a:pt x="3744" y="2037"/>
                  </a:lnTo>
                  <a:lnTo>
                    <a:pt x="3721" y="2043"/>
                  </a:lnTo>
                  <a:lnTo>
                    <a:pt x="60" y="2043"/>
                  </a:lnTo>
                  <a:lnTo>
                    <a:pt x="38" y="2037"/>
                  </a:lnTo>
                  <a:lnTo>
                    <a:pt x="15" y="2032"/>
                  </a:lnTo>
                  <a:lnTo>
                    <a:pt x="0" y="2014"/>
                  </a:lnTo>
                  <a:lnTo>
                    <a:pt x="0" y="1997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5" y="17"/>
                  </a:lnTo>
                  <a:lnTo>
                    <a:pt x="38" y="5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ddd8cc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562040" y="6602400"/>
              <a:ext cx="1379880" cy="748080"/>
            </a:xfrm>
            <a:custGeom>
              <a:avLst/>
              <a:gdLst/>
              <a:ahLst/>
              <a:rect l="0" t="0" r="r" b="b"/>
              <a:pathLst>
                <a:path fill="none" w="3833" h="2078">
                  <a:moveTo>
                    <a:pt x="61" y="0"/>
                  </a:moveTo>
                  <a:lnTo>
                    <a:pt x="3763" y="0"/>
                  </a:lnTo>
                  <a:lnTo>
                    <a:pt x="3786" y="5"/>
                  </a:lnTo>
                  <a:lnTo>
                    <a:pt x="3809" y="17"/>
                  </a:lnTo>
                  <a:lnTo>
                    <a:pt x="3825" y="29"/>
                  </a:lnTo>
                  <a:lnTo>
                    <a:pt x="3833" y="46"/>
                  </a:lnTo>
                  <a:lnTo>
                    <a:pt x="3833" y="2032"/>
                  </a:lnTo>
                  <a:lnTo>
                    <a:pt x="3825" y="2049"/>
                  </a:lnTo>
                  <a:lnTo>
                    <a:pt x="3809" y="2067"/>
                  </a:lnTo>
                  <a:lnTo>
                    <a:pt x="3786" y="2073"/>
                  </a:lnTo>
                  <a:lnTo>
                    <a:pt x="3763" y="2078"/>
                  </a:lnTo>
                  <a:lnTo>
                    <a:pt x="61" y="2078"/>
                  </a:lnTo>
                  <a:lnTo>
                    <a:pt x="38" y="2073"/>
                  </a:lnTo>
                  <a:lnTo>
                    <a:pt x="15" y="2067"/>
                  </a:lnTo>
                  <a:lnTo>
                    <a:pt x="0" y="2049"/>
                  </a:lnTo>
                  <a:lnTo>
                    <a:pt x="0" y="2032"/>
                  </a:lnTo>
                  <a:lnTo>
                    <a:pt x="0" y="46"/>
                  </a:lnTo>
                  <a:lnTo>
                    <a:pt x="0" y="29"/>
                  </a:lnTo>
                  <a:lnTo>
                    <a:pt x="15" y="17"/>
                  </a:lnTo>
                  <a:lnTo>
                    <a:pt x="38" y="5"/>
                  </a:lnTo>
                  <a:lnTo>
                    <a:pt x="61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673280" y="6683400"/>
              <a:ext cx="1138680" cy="572040"/>
            </a:xfrm>
            <a:custGeom>
              <a:avLst/>
              <a:gdLst/>
              <a:ahLst/>
              <a:rect l="0" t="0" r="r" b="b"/>
              <a:pathLst>
                <a:path w="3163" h="1589">
                  <a:moveTo>
                    <a:pt x="53" y="0"/>
                  </a:moveTo>
                  <a:lnTo>
                    <a:pt x="3110" y="0"/>
                  </a:lnTo>
                  <a:lnTo>
                    <a:pt x="3133" y="5"/>
                  </a:lnTo>
                  <a:lnTo>
                    <a:pt x="3148" y="11"/>
                  </a:lnTo>
                  <a:lnTo>
                    <a:pt x="3163" y="22"/>
                  </a:lnTo>
                  <a:lnTo>
                    <a:pt x="3163" y="34"/>
                  </a:lnTo>
                  <a:lnTo>
                    <a:pt x="3163" y="1549"/>
                  </a:lnTo>
                  <a:lnTo>
                    <a:pt x="3163" y="1566"/>
                  </a:lnTo>
                  <a:lnTo>
                    <a:pt x="3148" y="1578"/>
                  </a:lnTo>
                  <a:lnTo>
                    <a:pt x="3133" y="1589"/>
                  </a:lnTo>
                  <a:lnTo>
                    <a:pt x="3110" y="1589"/>
                  </a:lnTo>
                  <a:lnTo>
                    <a:pt x="53" y="1589"/>
                  </a:lnTo>
                  <a:lnTo>
                    <a:pt x="30" y="1589"/>
                  </a:lnTo>
                  <a:lnTo>
                    <a:pt x="15" y="1578"/>
                  </a:lnTo>
                  <a:lnTo>
                    <a:pt x="7" y="1566"/>
                  </a:lnTo>
                  <a:lnTo>
                    <a:pt x="0" y="1549"/>
                  </a:lnTo>
                  <a:lnTo>
                    <a:pt x="0" y="34"/>
                  </a:lnTo>
                  <a:lnTo>
                    <a:pt x="7" y="22"/>
                  </a:lnTo>
                  <a:lnTo>
                    <a:pt x="15" y="11"/>
                  </a:lnTo>
                  <a:lnTo>
                    <a:pt x="30" y="5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673280" y="6683400"/>
              <a:ext cx="1155960" cy="584640"/>
            </a:xfrm>
            <a:custGeom>
              <a:avLst/>
              <a:gdLst/>
              <a:ahLst/>
              <a:rect l="0" t="0" r="r" b="b"/>
              <a:pathLst>
                <a:path fill="none" w="3211" h="1624">
                  <a:moveTo>
                    <a:pt x="53" y="0"/>
                  </a:moveTo>
                  <a:lnTo>
                    <a:pt x="3157" y="0"/>
                  </a:lnTo>
                  <a:lnTo>
                    <a:pt x="3180" y="5"/>
                  </a:lnTo>
                  <a:lnTo>
                    <a:pt x="3195" y="11"/>
                  </a:lnTo>
                  <a:lnTo>
                    <a:pt x="3211" y="23"/>
                  </a:lnTo>
                  <a:lnTo>
                    <a:pt x="3211" y="35"/>
                  </a:lnTo>
                  <a:lnTo>
                    <a:pt x="3211" y="1583"/>
                  </a:lnTo>
                  <a:lnTo>
                    <a:pt x="3211" y="1601"/>
                  </a:lnTo>
                  <a:lnTo>
                    <a:pt x="3195" y="1613"/>
                  </a:lnTo>
                  <a:lnTo>
                    <a:pt x="3180" y="1624"/>
                  </a:lnTo>
                  <a:lnTo>
                    <a:pt x="3157" y="1624"/>
                  </a:lnTo>
                  <a:lnTo>
                    <a:pt x="53" y="1624"/>
                  </a:lnTo>
                  <a:lnTo>
                    <a:pt x="30" y="1624"/>
                  </a:lnTo>
                  <a:lnTo>
                    <a:pt x="15" y="1613"/>
                  </a:lnTo>
                  <a:lnTo>
                    <a:pt x="7" y="1601"/>
                  </a:lnTo>
                  <a:lnTo>
                    <a:pt x="0" y="1583"/>
                  </a:lnTo>
                  <a:lnTo>
                    <a:pt x="0" y="35"/>
                  </a:lnTo>
                  <a:lnTo>
                    <a:pt x="7" y="23"/>
                  </a:lnTo>
                  <a:lnTo>
                    <a:pt x="15" y="11"/>
                  </a:lnTo>
                  <a:lnTo>
                    <a:pt x="30" y="5"/>
                  </a:lnTo>
                  <a:lnTo>
                    <a:pt x="5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703520" y="6699240"/>
              <a:ext cx="1081440" cy="538560"/>
            </a:xfrm>
            <a:custGeom>
              <a:avLst/>
              <a:gdLst/>
              <a:ahLst/>
              <a:rect l="0" t="0" r="r" b="b"/>
              <a:pathLst>
                <a:path w="3004" h="1496">
                  <a:moveTo>
                    <a:pt x="53" y="0"/>
                  </a:moveTo>
                  <a:lnTo>
                    <a:pt x="2950" y="0"/>
                  </a:lnTo>
                  <a:lnTo>
                    <a:pt x="2973" y="0"/>
                  </a:lnTo>
                  <a:lnTo>
                    <a:pt x="2988" y="11"/>
                  </a:lnTo>
                  <a:lnTo>
                    <a:pt x="2996" y="22"/>
                  </a:lnTo>
                  <a:lnTo>
                    <a:pt x="3004" y="34"/>
                  </a:lnTo>
                  <a:lnTo>
                    <a:pt x="3004" y="1462"/>
                  </a:lnTo>
                  <a:lnTo>
                    <a:pt x="2996" y="1479"/>
                  </a:lnTo>
                  <a:lnTo>
                    <a:pt x="2988" y="1491"/>
                  </a:lnTo>
                  <a:lnTo>
                    <a:pt x="2973" y="1496"/>
                  </a:lnTo>
                  <a:lnTo>
                    <a:pt x="2950" y="1496"/>
                  </a:lnTo>
                  <a:lnTo>
                    <a:pt x="53" y="1496"/>
                  </a:lnTo>
                  <a:lnTo>
                    <a:pt x="30" y="1496"/>
                  </a:lnTo>
                  <a:lnTo>
                    <a:pt x="15" y="1491"/>
                  </a:lnTo>
                  <a:lnTo>
                    <a:pt x="7" y="1479"/>
                  </a:lnTo>
                  <a:lnTo>
                    <a:pt x="0" y="1462"/>
                  </a:lnTo>
                  <a:lnTo>
                    <a:pt x="0" y="34"/>
                  </a:lnTo>
                  <a:lnTo>
                    <a:pt x="7" y="22"/>
                  </a:lnTo>
                  <a:lnTo>
                    <a:pt x="15" y="11"/>
                  </a:lnTo>
                  <a:lnTo>
                    <a:pt x="30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bfff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703520" y="6699240"/>
              <a:ext cx="1097280" cy="551160"/>
            </a:xfrm>
            <a:custGeom>
              <a:avLst/>
              <a:gdLst/>
              <a:ahLst/>
              <a:rect l="0" t="0" r="r" b="b"/>
              <a:pathLst>
                <a:path fill="none" w="3048" h="1531">
                  <a:moveTo>
                    <a:pt x="53" y="0"/>
                  </a:moveTo>
                  <a:lnTo>
                    <a:pt x="2994" y="0"/>
                  </a:lnTo>
                  <a:lnTo>
                    <a:pt x="3017" y="0"/>
                  </a:lnTo>
                  <a:lnTo>
                    <a:pt x="3032" y="11"/>
                  </a:lnTo>
                  <a:lnTo>
                    <a:pt x="3040" y="23"/>
                  </a:lnTo>
                  <a:lnTo>
                    <a:pt x="3048" y="35"/>
                  </a:lnTo>
                  <a:lnTo>
                    <a:pt x="3048" y="1496"/>
                  </a:lnTo>
                  <a:lnTo>
                    <a:pt x="3040" y="1513"/>
                  </a:lnTo>
                  <a:lnTo>
                    <a:pt x="3032" y="1525"/>
                  </a:lnTo>
                  <a:lnTo>
                    <a:pt x="3017" y="1531"/>
                  </a:lnTo>
                  <a:lnTo>
                    <a:pt x="2994" y="1531"/>
                  </a:lnTo>
                  <a:lnTo>
                    <a:pt x="53" y="1531"/>
                  </a:lnTo>
                  <a:lnTo>
                    <a:pt x="30" y="1531"/>
                  </a:lnTo>
                  <a:lnTo>
                    <a:pt x="15" y="1525"/>
                  </a:lnTo>
                  <a:lnTo>
                    <a:pt x="7" y="1513"/>
                  </a:lnTo>
                  <a:lnTo>
                    <a:pt x="0" y="1496"/>
                  </a:lnTo>
                  <a:lnTo>
                    <a:pt x="0" y="35"/>
                  </a:lnTo>
                  <a:lnTo>
                    <a:pt x="7" y="23"/>
                  </a:lnTo>
                  <a:lnTo>
                    <a:pt x="15" y="11"/>
                  </a:lnTo>
                  <a:lnTo>
                    <a:pt x="30" y="0"/>
                  </a:lnTo>
                  <a:lnTo>
                    <a:pt x="53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73280" y="6696000"/>
              <a:ext cx="1122840" cy="559080"/>
            </a:xfrm>
            <a:custGeom>
              <a:avLst/>
              <a:gdLst/>
              <a:ahLst/>
              <a:rect l="0" t="0" r="r" b="b"/>
              <a:pathLst>
                <a:path w="3119" h="1553">
                  <a:moveTo>
                    <a:pt x="0" y="0"/>
                  </a:moveTo>
                  <a:lnTo>
                    <a:pt x="83" y="40"/>
                  </a:lnTo>
                  <a:lnTo>
                    <a:pt x="83" y="1478"/>
                  </a:lnTo>
                  <a:lnTo>
                    <a:pt x="91" y="1490"/>
                  </a:lnTo>
                  <a:lnTo>
                    <a:pt x="98" y="1501"/>
                  </a:lnTo>
                  <a:lnTo>
                    <a:pt x="113" y="1507"/>
                  </a:lnTo>
                  <a:lnTo>
                    <a:pt x="128" y="1513"/>
                  </a:lnTo>
                  <a:lnTo>
                    <a:pt x="3036" y="1513"/>
                  </a:lnTo>
                  <a:lnTo>
                    <a:pt x="3119" y="1553"/>
                  </a:lnTo>
                  <a:lnTo>
                    <a:pt x="53" y="1553"/>
                  </a:lnTo>
                  <a:lnTo>
                    <a:pt x="30" y="1547"/>
                  </a:lnTo>
                  <a:lnTo>
                    <a:pt x="15" y="1541"/>
                  </a:lnTo>
                  <a:lnTo>
                    <a:pt x="7" y="1530"/>
                  </a:lnTo>
                  <a:lnTo>
                    <a:pt x="0" y="151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7b2a5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673280" y="6696000"/>
              <a:ext cx="1138680" cy="572040"/>
            </a:xfrm>
            <a:custGeom>
              <a:avLst/>
              <a:gdLst/>
              <a:ahLst/>
              <a:rect l="0" t="0" r="r" b="b"/>
              <a:pathLst>
                <a:path fill="none" w="3163" h="1589">
                  <a:moveTo>
                    <a:pt x="0" y="0"/>
                  </a:moveTo>
                  <a:lnTo>
                    <a:pt x="84" y="41"/>
                  </a:lnTo>
                  <a:lnTo>
                    <a:pt x="84" y="1513"/>
                  </a:lnTo>
                  <a:lnTo>
                    <a:pt x="92" y="1525"/>
                  </a:lnTo>
                  <a:lnTo>
                    <a:pt x="100" y="1536"/>
                  </a:lnTo>
                  <a:lnTo>
                    <a:pt x="115" y="1542"/>
                  </a:lnTo>
                  <a:lnTo>
                    <a:pt x="130" y="1548"/>
                  </a:lnTo>
                  <a:lnTo>
                    <a:pt x="3079" y="1548"/>
                  </a:lnTo>
                  <a:lnTo>
                    <a:pt x="3163" y="1589"/>
                  </a:lnTo>
                  <a:lnTo>
                    <a:pt x="53" y="1589"/>
                  </a:lnTo>
                  <a:lnTo>
                    <a:pt x="30" y="1583"/>
                  </a:lnTo>
                  <a:lnTo>
                    <a:pt x="15" y="1577"/>
                  </a:lnTo>
                  <a:lnTo>
                    <a:pt x="7" y="1566"/>
                  </a:lnTo>
                  <a:lnTo>
                    <a:pt x="0" y="1554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647720" y="6611760"/>
              <a:ext cx="117720" cy="49680"/>
            </a:xfrm>
            <a:custGeom>
              <a:avLst/>
              <a:gdLst/>
              <a:ahLst/>
              <a:rect l="0" t="0" r="r" b="b"/>
              <a:pathLst>
                <a:path w="327" h="138">
                  <a:moveTo>
                    <a:pt x="101" y="0"/>
                  </a:moveTo>
                  <a:lnTo>
                    <a:pt x="218" y="0"/>
                  </a:lnTo>
                  <a:lnTo>
                    <a:pt x="238" y="4"/>
                  </a:lnTo>
                  <a:lnTo>
                    <a:pt x="259" y="4"/>
                  </a:lnTo>
                  <a:lnTo>
                    <a:pt x="279" y="14"/>
                  </a:lnTo>
                  <a:lnTo>
                    <a:pt x="293" y="23"/>
                  </a:lnTo>
                  <a:lnTo>
                    <a:pt x="306" y="32"/>
                  </a:lnTo>
                  <a:lnTo>
                    <a:pt x="320" y="43"/>
                  </a:lnTo>
                  <a:lnTo>
                    <a:pt x="320" y="57"/>
                  </a:lnTo>
                  <a:lnTo>
                    <a:pt x="327" y="71"/>
                  </a:lnTo>
                  <a:lnTo>
                    <a:pt x="320" y="81"/>
                  </a:lnTo>
                  <a:lnTo>
                    <a:pt x="320" y="95"/>
                  </a:lnTo>
                  <a:lnTo>
                    <a:pt x="306" y="105"/>
                  </a:lnTo>
                  <a:lnTo>
                    <a:pt x="293" y="119"/>
                  </a:lnTo>
                  <a:lnTo>
                    <a:pt x="279" y="124"/>
                  </a:lnTo>
                  <a:lnTo>
                    <a:pt x="259" y="133"/>
                  </a:lnTo>
                  <a:lnTo>
                    <a:pt x="238" y="133"/>
                  </a:lnTo>
                  <a:lnTo>
                    <a:pt x="218" y="138"/>
                  </a:lnTo>
                  <a:lnTo>
                    <a:pt x="101" y="138"/>
                  </a:lnTo>
                  <a:lnTo>
                    <a:pt x="81" y="133"/>
                  </a:lnTo>
                  <a:lnTo>
                    <a:pt x="61" y="133"/>
                  </a:lnTo>
                  <a:lnTo>
                    <a:pt x="40" y="124"/>
                  </a:lnTo>
                  <a:lnTo>
                    <a:pt x="27" y="119"/>
                  </a:lnTo>
                  <a:lnTo>
                    <a:pt x="13" y="105"/>
                  </a:lnTo>
                  <a:lnTo>
                    <a:pt x="6" y="95"/>
                  </a:lnTo>
                  <a:lnTo>
                    <a:pt x="0" y="81"/>
                  </a:lnTo>
                  <a:lnTo>
                    <a:pt x="0" y="71"/>
                  </a:lnTo>
                  <a:lnTo>
                    <a:pt x="0" y="57"/>
                  </a:lnTo>
                  <a:lnTo>
                    <a:pt x="6" y="43"/>
                  </a:lnTo>
                  <a:lnTo>
                    <a:pt x="13" y="32"/>
                  </a:lnTo>
                  <a:lnTo>
                    <a:pt x="27" y="23"/>
                  </a:lnTo>
                  <a:lnTo>
                    <a:pt x="40" y="14"/>
                  </a:lnTo>
                  <a:lnTo>
                    <a:pt x="61" y="4"/>
                  </a:lnTo>
                  <a:lnTo>
                    <a:pt x="81" y="4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4680" bIns="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1647720" y="6611760"/>
              <a:ext cx="133560" cy="62280"/>
            </a:xfrm>
            <a:custGeom>
              <a:avLst/>
              <a:gdLst/>
              <a:ahLst/>
              <a:rect l="0" t="0" r="r" b="b"/>
              <a:pathLst>
                <a:path fill="none" w="371" h="173">
                  <a:moveTo>
                    <a:pt x="115" y="0"/>
                  </a:moveTo>
                  <a:lnTo>
                    <a:pt x="247" y="0"/>
                  </a:lnTo>
                  <a:lnTo>
                    <a:pt x="271" y="5"/>
                  </a:lnTo>
                  <a:lnTo>
                    <a:pt x="294" y="5"/>
                  </a:lnTo>
                  <a:lnTo>
                    <a:pt x="317" y="17"/>
                  </a:lnTo>
                  <a:lnTo>
                    <a:pt x="332" y="29"/>
                  </a:lnTo>
                  <a:lnTo>
                    <a:pt x="348" y="41"/>
                  </a:lnTo>
                  <a:lnTo>
                    <a:pt x="363" y="54"/>
                  </a:lnTo>
                  <a:lnTo>
                    <a:pt x="363" y="72"/>
                  </a:lnTo>
                  <a:lnTo>
                    <a:pt x="371" y="89"/>
                  </a:lnTo>
                  <a:lnTo>
                    <a:pt x="363" y="101"/>
                  </a:lnTo>
                  <a:lnTo>
                    <a:pt x="363" y="119"/>
                  </a:lnTo>
                  <a:lnTo>
                    <a:pt x="348" y="132"/>
                  </a:lnTo>
                  <a:lnTo>
                    <a:pt x="332" y="150"/>
                  </a:lnTo>
                  <a:lnTo>
                    <a:pt x="317" y="156"/>
                  </a:lnTo>
                  <a:lnTo>
                    <a:pt x="294" y="168"/>
                  </a:lnTo>
                  <a:lnTo>
                    <a:pt x="271" y="168"/>
                  </a:lnTo>
                  <a:lnTo>
                    <a:pt x="247" y="173"/>
                  </a:lnTo>
                  <a:lnTo>
                    <a:pt x="115" y="173"/>
                  </a:lnTo>
                  <a:lnTo>
                    <a:pt x="92" y="168"/>
                  </a:lnTo>
                  <a:lnTo>
                    <a:pt x="69" y="168"/>
                  </a:lnTo>
                  <a:lnTo>
                    <a:pt x="46" y="156"/>
                  </a:lnTo>
                  <a:lnTo>
                    <a:pt x="30" y="150"/>
                  </a:lnTo>
                  <a:lnTo>
                    <a:pt x="15" y="132"/>
                  </a:lnTo>
                  <a:lnTo>
                    <a:pt x="7" y="119"/>
                  </a:lnTo>
                  <a:lnTo>
                    <a:pt x="0" y="101"/>
                  </a:lnTo>
                  <a:lnTo>
                    <a:pt x="0" y="89"/>
                  </a:lnTo>
                  <a:lnTo>
                    <a:pt x="0" y="72"/>
                  </a:lnTo>
                  <a:lnTo>
                    <a:pt x="7" y="54"/>
                  </a:lnTo>
                  <a:lnTo>
                    <a:pt x="15" y="41"/>
                  </a:lnTo>
                  <a:lnTo>
                    <a:pt x="30" y="29"/>
                  </a:lnTo>
                  <a:lnTo>
                    <a:pt x="46" y="17"/>
                  </a:lnTo>
                  <a:lnTo>
                    <a:pt x="69" y="5"/>
                  </a:lnTo>
                  <a:lnTo>
                    <a:pt x="92" y="5"/>
                  </a:lnTo>
                  <a:lnTo>
                    <a:pt x="115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1684440" y="7362720"/>
              <a:ext cx="1119600" cy="1800"/>
            </a:xfrm>
            <a:custGeom>
              <a:avLst/>
              <a:gdLst/>
              <a:ahLst/>
              <a:rect l="0" t="0" r="r" b="b"/>
              <a:pathLst>
                <a:path w="3110" h="5">
                  <a:moveTo>
                    <a:pt x="0" y="5"/>
                  </a:moveTo>
                  <a:lnTo>
                    <a:pt x="3110" y="5"/>
                  </a:lnTo>
                  <a:lnTo>
                    <a:pt x="3110" y="0"/>
                  </a:lnTo>
                  <a:lnTo>
                    <a:pt x="0" y="0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bfbfbf"/>
            </a:solidFill>
            <a:ln w="0">
              <a:noFill/>
            </a:ln>
          </p:spPr>
          <p:txBody>
            <a:bodyPr lIns="90000" rIns="90000" tIns="-43200" bIns="-43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940040" y="7359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94080" y="7359480"/>
              <a:ext cx="0" cy="61920"/>
            </a:xfrm>
            <a:prstGeom prst="line">
              <a:avLst/>
            </a:prstGeom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08200" y="7380360"/>
              <a:ext cx="97200" cy="16200"/>
            </a:xfrm>
            <a:custGeom>
              <a:avLst/>
              <a:gdLst/>
              <a:ahLst/>
              <a:rect l="0" t="0" r="r" b="b"/>
              <a:pathLst>
                <a:path w="270" h="45">
                  <a:moveTo>
                    <a:pt x="0" y="0"/>
                  </a:moveTo>
                  <a:lnTo>
                    <a:pt x="270" y="0"/>
                  </a:lnTo>
                  <a:lnTo>
                    <a:pt x="270" y="45"/>
                  </a:lnTo>
                  <a:lnTo>
                    <a:pt x="0" y="4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608200" y="7380360"/>
              <a:ext cx="116280" cy="28800"/>
            </a:xfrm>
            <a:custGeom>
              <a:avLst/>
              <a:gdLst/>
              <a:ahLst/>
              <a:rect l="0" t="0" r="r" b="b"/>
              <a:pathLst>
                <a:path fill="none" w="323" h="80">
                  <a:moveTo>
                    <a:pt x="0" y="0"/>
                  </a:moveTo>
                  <a:lnTo>
                    <a:pt x="323" y="0"/>
                  </a:lnTo>
                  <a:lnTo>
                    <a:pt x="323" y="80"/>
                  </a:lnTo>
                  <a:lnTo>
                    <a:pt x="0" y="8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22320" bIns="-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610000" y="7386480"/>
              <a:ext cx="8280" cy="3600"/>
            </a:xfrm>
            <a:custGeom>
              <a:avLst/>
              <a:gdLst/>
              <a:ahLst/>
              <a:rect l="0" t="0" r="r" b="b"/>
              <a:pathLst>
                <a:path w="23" h="10">
                  <a:moveTo>
                    <a:pt x="23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23" y="1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617920" y="7386480"/>
              <a:ext cx="8280" cy="16200"/>
            </a:xfrm>
            <a:custGeom>
              <a:avLst/>
              <a:gdLst/>
              <a:ahLst/>
              <a:rect l="0" t="0" r="r" b="b"/>
              <a:pathLst>
                <a:path fill="none" w="23" h="45">
                  <a:moveTo>
                    <a:pt x="0" y="0"/>
                  </a:moveTo>
                  <a:lnTo>
                    <a:pt x="23" y="0"/>
                  </a:lnTo>
                  <a:lnTo>
                    <a:pt x="23" y="45"/>
                  </a:lnTo>
                  <a:lnTo>
                    <a:pt x="0" y="45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4920" bIns="-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770200" y="7386480"/>
              <a:ext cx="9720" cy="5040"/>
            </a:xfrm>
            <a:custGeom>
              <a:avLst/>
              <a:gdLst/>
              <a:ahLst/>
              <a:rect l="0" t="0" r="r" b="b"/>
              <a:pathLst>
                <a:path w="27" h="14">
                  <a:moveTo>
                    <a:pt x="0" y="14"/>
                  </a:moveTo>
                  <a:lnTo>
                    <a:pt x="27" y="14"/>
                  </a:lnTo>
                  <a:lnTo>
                    <a:pt x="27" y="0"/>
                  </a:lnTo>
                  <a:lnTo>
                    <a:pt x="0" y="0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7fff00"/>
            </a:solidFill>
            <a:ln w="0">
              <a:noFill/>
            </a:ln>
          </p:spPr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743120" y="7359480"/>
              <a:ext cx="60120" cy="0"/>
            </a:xfrm>
            <a:custGeom>
              <a:avLst/>
              <a:gdLst/>
              <a:ahLst/>
              <a:rect l="0" t="0" r="r" b="b"/>
              <a:pathLst>
                <a:path w="167" h="0">
                  <a:moveTo>
                    <a:pt x="0" y="0"/>
                  </a:moveTo>
                  <a:lnTo>
                    <a:pt x="17" y="0"/>
                  </a:lnTo>
                  <a:lnTo>
                    <a:pt x="35" y="0"/>
                  </a:lnTo>
                  <a:lnTo>
                    <a:pt x="59" y="0"/>
                  </a:lnTo>
                  <a:lnTo>
                    <a:pt x="83" y="0"/>
                  </a:lnTo>
                  <a:lnTo>
                    <a:pt x="107" y="0"/>
                  </a:lnTo>
                  <a:lnTo>
                    <a:pt x="131" y="0"/>
                  </a:lnTo>
                  <a:lnTo>
                    <a:pt x="149" y="0"/>
                  </a:lnTo>
                  <a:lnTo>
                    <a:pt x="1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43120" y="7359480"/>
              <a:ext cx="76680" cy="12960"/>
            </a:xfrm>
            <a:custGeom>
              <a:avLst/>
              <a:gdLst/>
              <a:ahLst/>
              <a:rect l="0" t="0" r="r" b="b"/>
              <a:pathLst>
                <a:path fill="none" w="213" h="36">
                  <a:moveTo>
                    <a:pt x="0" y="0"/>
                  </a:moveTo>
                  <a:lnTo>
                    <a:pt x="0" y="0"/>
                  </a:lnTo>
                  <a:lnTo>
                    <a:pt x="22" y="17"/>
                  </a:lnTo>
                  <a:lnTo>
                    <a:pt x="45" y="24"/>
                  </a:lnTo>
                  <a:lnTo>
                    <a:pt x="76" y="36"/>
                  </a:lnTo>
                  <a:lnTo>
                    <a:pt x="106" y="36"/>
                  </a:lnTo>
                  <a:lnTo>
                    <a:pt x="137" y="36"/>
                  </a:lnTo>
                  <a:lnTo>
                    <a:pt x="168" y="24"/>
                  </a:lnTo>
                  <a:lnTo>
                    <a:pt x="190" y="17"/>
                  </a:lnTo>
                  <a:lnTo>
                    <a:pt x="213" y="0"/>
                  </a:lnTo>
                  <a:lnTo>
                    <a:pt x="0" y="0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-38160" bIns="-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1693800" y="7421400"/>
              <a:ext cx="1111680" cy="71640"/>
            </a:xfrm>
            <a:custGeom>
              <a:avLst/>
              <a:gdLst/>
              <a:ahLst/>
              <a:rect l="0" t="0" r="r" b="b"/>
              <a:pathLst>
                <a:path w="3088" h="199">
                  <a:moveTo>
                    <a:pt x="3088" y="199"/>
                  </a:moveTo>
                  <a:lnTo>
                    <a:pt x="3088" y="169"/>
                  </a:lnTo>
                  <a:lnTo>
                    <a:pt x="2960" y="169"/>
                  </a:lnTo>
                  <a:lnTo>
                    <a:pt x="2907" y="120"/>
                  </a:lnTo>
                  <a:lnTo>
                    <a:pt x="2907" y="74"/>
                  </a:lnTo>
                  <a:lnTo>
                    <a:pt x="3005" y="0"/>
                  </a:lnTo>
                  <a:lnTo>
                    <a:pt x="2619" y="0"/>
                  </a:lnTo>
                  <a:lnTo>
                    <a:pt x="2634" y="39"/>
                  </a:lnTo>
                  <a:lnTo>
                    <a:pt x="2475" y="49"/>
                  </a:lnTo>
                  <a:lnTo>
                    <a:pt x="2642" y="69"/>
                  </a:lnTo>
                  <a:lnTo>
                    <a:pt x="2642" y="164"/>
                  </a:lnTo>
                  <a:lnTo>
                    <a:pt x="446" y="164"/>
                  </a:lnTo>
                  <a:lnTo>
                    <a:pt x="446" y="69"/>
                  </a:lnTo>
                  <a:lnTo>
                    <a:pt x="612" y="49"/>
                  </a:lnTo>
                  <a:lnTo>
                    <a:pt x="453" y="39"/>
                  </a:lnTo>
                  <a:lnTo>
                    <a:pt x="476" y="0"/>
                  </a:lnTo>
                  <a:lnTo>
                    <a:pt x="90" y="0"/>
                  </a:lnTo>
                  <a:lnTo>
                    <a:pt x="189" y="74"/>
                  </a:lnTo>
                  <a:lnTo>
                    <a:pt x="189" y="120"/>
                  </a:lnTo>
                  <a:lnTo>
                    <a:pt x="136" y="169"/>
                  </a:lnTo>
                  <a:lnTo>
                    <a:pt x="0" y="169"/>
                  </a:lnTo>
                  <a:lnTo>
                    <a:pt x="0" y="199"/>
                  </a:lnTo>
                  <a:lnTo>
                    <a:pt x="3088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txBody>
            <a:bodyPr lIns="90000" rIns="90000" tIns="26640" bIns="26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693800" y="7421400"/>
              <a:ext cx="1130760" cy="84600"/>
            </a:xfrm>
            <a:custGeom>
              <a:avLst/>
              <a:gdLst/>
              <a:ahLst/>
              <a:rect l="0" t="0" r="r" b="b"/>
              <a:pathLst>
                <a:path fill="none" w="3141" h="235">
                  <a:moveTo>
                    <a:pt x="3141" y="235"/>
                  </a:moveTo>
                  <a:lnTo>
                    <a:pt x="3141" y="200"/>
                  </a:lnTo>
                  <a:lnTo>
                    <a:pt x="3010" y="200"/>
                  </a:lnTo>
                  <a:lnTo>
                    <a:pt x="2957" y="141"/>
                  </a:lnTo>
                  <a:lnTo>
                    <a:pt x="2957" y="88"/>
                  </a:lnTo>
                  <a:lnTo>
                    <a:pt x="3057" y="0"/>
                  </a:lnTo>
                  <a:lnTo>
                    <a:pt x="2664" y="0"/>
                  </a:lnTo>
                  <a:lnTo>
                    <a:pt x="2679" y="46"/>
                  </a:lnTo>
                  <a:lnTo>
                    <a:pt x="2518" y="58"/>
                  </a:lnTo>
                  <a:lnTo>
                    <a:pt x="2687" y="82"/>
                  </a:lnTo>
                  <a:lnTo>
                    <a:pt x="2687" y="194"/>
                  </a:lnTo>
                  <a:lnTo>
                    <a:pt x="454" y="194"/>
                  </a:lnTo>
                  <a:lnTo>
                    <a:pt x="454" y="82"/>
                  </a:lnTo>
                  <a:lnTo>
                    <a:pt x="623" y="58"/>
                  </a:lnTo>
                  <a:lnTo>
                    <a:pt x="461" y="46"/>
                  </a:lnTo>
                  <a:lnTo>
                    <a:pt x="484" y="0"/>
                  </a:lnTo>
                  <a:lnTo>
                    <a:pt x="92" y="0"/>
                  </a:lnTo>
                  <a:lnTo>
                    <a:pt x="192" y="88"/>
                  </a:lnTo>
                  <a:lnTo>
                    <a:pt x="192" y="141"/>
                  </a:lnTo>
                  <a:lnTo>
                    <a:pt x="138" y="200"/>
                  </a:lnTo>
                  <a:lnTo>
                    <a:pt x="0" y="200"/>
                  </a:lnTo>
                  <a:lnTo>
                    <a:pt x="0" y="235"/>
                  </a:lnTo>
                  <a:lnTo>
                    <a:pt x="3141" y="235"/>
                  </a:lnTo>
                </a:path>
              </a:pathLst>
            </a:custGeom>
            <a:ln w="12600">
              <a:solidFill>
                <a:srgbClr val="000000"/>
              </a:solidFill>
              <a:round/>
            </a:ln>
          </p:spPr>
          <p:txBody>
            <a:bodyPr lIns="96120" rIns="96120" tIns="33480" bIns="33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3076560" y="3494160"/>
            <a:ext cx="46195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-1295280" y="2023920"/>
            <a:ext cx="9524880" cy="174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Hey, What’s This Lion Doing</a:t>
            </a:r>
            <a:br>
              <a:rPr sz="5400"/>
            </a:b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Her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1254240" y="2874960"/>
            <a:ext cx="3203640" cy="341136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 txBox="1"/>
          <p:nvPr/>
        </p:nvSpPr>
        <p:spPr>
          <a:xfrm>
            <a:off x="-1219320" y="6286680"/>
            <a:ext cx="9020160" cy="151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</a:t>
            </a:r>
            <a:r>
              <a:rPr b="0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The Frontier Technologies’ King of Connectivity is your   </a:t>
            </a:r>
            <a:br>
              <a:rPr sz="2800"/>
            </a:br>
            <a:r>
              <a:rPr b="0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   guarantee of safe passage through the Internet jungl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 txBox="1"/>
          <p:nvPr/>
        </p:nvSpPr>
        <p:spPr>
          <a:xfrm>
            <a:off x="-1600200" y="2552760"/>
            <a:ext cx="3581280" cy="56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32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Frontier Technologies is a pioneer in open systems computing </a:t>
            </a:r>
            <a:br>
              <a:rPr sz="3600"/>
            </a:br>
            <a:r>
              <a:rPr b="1" lang="en-US" sz="36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for PC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2"/>
          <a:stretch/>
        </p:blipFill>
        <p:spPr>
          <a:xfrm>
            <a:off x="1828800" y="2552760"/>
            <a:ext cx="5778360" cy="446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"/>
          <p:cNvSpPr txBox="1"/>
          <p:nvPr/>
        </p:nvSpPr>
        <p:spPr>
          <a:xfrm>
            <a:off x="-1295280" y="2095560"/>
            <a:ext cx="96012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We Have Won More Awards Than Any of Our Competitors: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-1295280" y="3924360"/>
            <a:ext cx="9372600" cy="429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ommunications Week Max Award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Data Communications Tester’s Choice Award </a:t>
            </a:r>
            <a:r>
              <a:rPr b="1" i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‘94 , ‘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nfo World Buyer’s Assurance Se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LAN Magazine Product Of The Year </a:t>
            </a:r>
            <a:r>
              <a:rPr b="1" i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‘94 , ‘9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3c0023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PC Magazine Editors’ Choice Award 19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1768320" y="6983280"/>
            <a:ext cx="1812960" cy="102060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3862440" y="6784920"/>
            <a:ext cx="1319040" cy="12636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3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4"/>
          <a:stretch/>
        </p:blipFill>
        <p:spPr>
          <a:xfrm>
            <a:off x="380880" y="6896160"/>
            <a:ext cx="1168560" cy="111744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5"/>
          <a:stretch/>
        </p:blipFill>
        <p:spPr>
          <a:xfrm>
            <a:off x="-714240" y="6743880"/>
            <a:ext cx="758880" cy="129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-1219320" y="1866960"/>
            <a:ext cx="97902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Just a Few of our Customers..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85800" y="3085920"/>
            <a:ext cx="7454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T&amp;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Charles Schw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Glax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IB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JP Morg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Motoro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Union Bank Of Switzerl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  <a:buClr>
                <a:srgbClr val="1a0004"/>
              </a:buClr>
              <a:buSzPct val="75000"/>
              <a:buFont typeface="Monotype Sorts"/>
              <a:buChar char=""/>
            </a:pPr>
            <a:r>
              <a:rPr b="1" lang="en-US" sz="28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US Federal Desktop IV Contra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7474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-1295280" y="1866960"/>
            <a:ext cx="929628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We Are A Great Company For</a:t>
            </a:r>
            <a:br>
              <a:rPr sz="5400"/>
            </a:br>
            <a:r>
              <a:rPr b="1" lang="en-US" sz="5400" spc="-1" strike="noStrike">
                <a:solidFill>
                  <a:srgbClr val="fa78c4"/>
                </a:solidFill>
                <a:latin typeface="Times New Roman"/>
                <a:ea typeface="Times New Roman"/>
              </a:rPr>
              <a:t>You To Do Business With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3390840" y="4686120"/>
            <a:ext cx="5105520" cy="1981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And Now F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78000" indent="-378000">
              <a:lnSpc>
                <a:spcPct val="100000"/>
              </a:lnSpc>
              <a:spcBef>
                <a:spcPts val="479"/>
              </a:spcBef>
            </a:pPr>
            <a:r>
              <a:rPr b="1" lang="en-US" sz="4400" spc="-1" strike="noStrike">
                <a:solidFill>
                  <a:srgbClr val="ffd34a"/>
                </a:solidFill>
                <a:latin typeface="Times New Roman"/>
                <a:ea typeface="Times New Roman"/>
              </a:rPr>
              <a:t>Our Products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5419800" y="7413480"/>
            <a:ext cx="2573280" cy="657360"/>
          </a:xfrm>
          <a:prstGeom prst="rect">
            <a:avLst/>
          </a:prstGeom>
          <a:ln w="0">
            <a:noFill/>
          </a:ln>
        </p:spPr>
      </p:pic>
      <p:pic>
        <p:nvPicPr>
          <p:cNvPr id="228" name="" descr=""/>
          <p:cNvPicPr/>
          <p:nvPr/>
        </p:nvPicPr>
        <p:blipFill>
          <a:blip r:embed="rId2"/>
          <a:stretch/>
        </p:blipFill>
        <p:spPr>
          <a:xfrm>
            <a:off x="-1031760" y="3790800"/>
            <a:ext cx="37749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cp:revision>0</cp:revision>
  <dc:subject>slides</dc:subject>
  <dc:title>Welcome to Frontier Technologies' Demo CD       </dc:title>
</cp:coreProperties>
</file>