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Recommending 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the vision and long term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 and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the desir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the desired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multiple points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Today’s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of the curren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brief bullets, discuss details ver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How Did We Get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 relevant historic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iginal assumptions that are no longer 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vailable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the alternative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 advantages &amp; disadvantages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cost of each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ommend one or more of the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ize the results if things go as pro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to d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dentify Action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Corporation</cp:lastModifiedBy>
  <cp:revision>0</cp:revision>
  <dc:subject/>
  <dc:title>Recommending a Strategy</dc:title>
</cp:coreProperties>
</file>