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185760"/>
            <a:ext cx="1454760" cy="1691280"/>
            <a:chOff x="203040" y="185760"/>
            <a:chExt cx="1454760" cy="169128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68920" cy="1600920"/>
              <a:chOff x="203040" y="276120"/>
              <a:chExt cx="1168920" cy="160092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49680" cy="1292760"/>
              </a:xfrm>
              <a:custGeom>
                <a:avLst/>
                <a:gdLst/>
                <a:ahLst/>
                <a:rect l="0" t="0" r="r" b="b"/>
                <a:pathLst>
                  <a:path w="2638" h="3591">
                    <a:moveTo>
                      <a:pt x="1318" y="0"/>
                    </a:moveTo>
                    <a:lnTo>
                      <a:pt x="0" y="1795"/>
                    </a:lnTo>
                    <a:lnTo>
                      <a:pt x="1318" y="3591"/>
                    </a:lnTo>
                    <a:lnTo>
                      <a:pt x="2638" y="1795"/>
                    </a:lnTo>
                    <a:lnTo>
                      <a:pt x="13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002c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68920" cy="800640"/>
                <a:chOff x="203040" y="276120"/>
                <a:chExt cx="1168920" cy="80064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0" y="442"/>
                      </a:moveTo>
                      <a:lnTo>
                        <a:pt x="0" y="0"/>
                      </a:lnTo>
                      <a:lnTo>
                        <a:pt x="1624" y="2224"/>
                      </a:lnTo>
                      <a:lnTo>
                        <a:pt x="1301" y="2224"/>
                      </a:lnTo>
                      <a:lnTo>
                        <a:pt x="0" y="442"/>
                      </a:lnTo>
                      <a:close/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624" y="0"/>
                      </a:moveTo>
                      <a:lnTo>
                        <a:pt x="1624" y="442"/>
                      </a:lnTo>
                      <a:lnTo>
                        <a:pt x="323" y="2224"/>
                      </a:lnTo>
                      <a:lnTo>
                        <a:pt x="0" y="2224"/>
                      </a:lnTo>
                      <a:lnTo>
                        <a:pt x="1624" y="0"/>
                      </a:lnTo>
                      <a:close/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68920" cy="800640"/>
                <a:chOff x="203040" y="1076400"/>
                <a:chExt cx="1168920" cy="8006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301" y="0"/>
                      </a:moveTo>
                      <a:lnTo>
                        <a:pt x="1624" y="0"/>
                      </a:lnTo>
                      <a:lnTo>
                        <a:pt x="0" y="2224"/>
                      </a:lnTo>
                      <a:lnTo>
                        <a:pt x="0" y="1781"/>
                      </a:lnTo>
                      <a:lnTo>
                        <a:pt x="1301" y="0"/>
                      </a:lnTo>
                      <a:close/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323" y="0"/>
                      </a:moveTo>
                      <a:lnTo>
                        <a:pt x="1624" y="1781"/>
                      </a:lnTo>
                      <a:lnTo>
                        <a:pt x="1624" y="2224"/>
                      </a:lnTo>
                      <a:lnTo>
                        <a:pt x="0" y="0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461880" y="185760"/>
              <a:ext cx="1195920" cy="1095840"/>
              <a:chOff x="461880" y="185760"/>
              <a:chExt cx="1195920" cy="1095840"/>
            </a:xfrm>
          </p:grpSpPr>
          <p:sp>
            <p:nvSpPr>
              <p:cNvPr id="10" name=""/>
              <p:cNvSpPr/>
              <p:nvPr/>
            </p:nvSpPr>
            <p:spPr>
              <a:xfrm>
                <a:off x="106848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07784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08756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098720" y="73512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0808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1744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2716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38320" y="73512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0040" y="376200"/>
                <a:ext cx="579960" cy="713160"/>
              </a:xfrm>
              <a:custGeom>
                <a:avLst/>
                <a:gdLst/>
                <a:ahLst/>
                <a:rect l="0" t="0" r="r" b="b"/>
                <a:pathLst>
                  <a:path w="1611" h="1981">
                    <a:moveTo>
                      <a:pt x="0" y="503"/>
                    </a:moveTo>
                    <a:lnTo>
                      <a:pt x="751" y="889"/>
                    </a:lnTo>
                    <a:lnTo>
                      <a:pt x="807" y="0"/>
                    </a:lnTo>
                    <a:lnTo>
                      <a:pt x="859" y="889"/>
                    </a:lnTo>
                    <a:lnTo>
                      <a:pt x="1607" y="493"/>
                    </a:lnTo>
                    <a:lnTo>
                      <a:pt x="915" y="993"/>
                    </a:lnTo>
                    <a:lnTo>
                      <a:pt x="1611" y="1488"/>
                    </a:lnTo>
                    <a:lnTo>
                      <a:pt x="859" y="1092"/>
                    </a:lnTo>
                    <a:lnTo>
                      <a:pt x="807" y="1981"/>
                    </a:lnTo>
                    <a:lnTo>
                      <a:pt x="751" y="1092"/>
                    </a:lnTo>
                    <a:lnTo>
                      <a:pt x="0" y="1488"/>
                    </a:lnTo>
                    <a:lnTo>
                      <a:pt x="695" y="993"/>
                    </a:lnTo>
                    <a:lnTo>
                      <a:pt x="0" y="503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1880" y="185760"/>
                <a:ext cx="1195920" cy="1095840"/>
              </a:xfrm>
              <a:custGeom>
                <a:avLst/>
                <a:gdLst/>
                <a:ahLst/>
                <a:rect l="0" t="0" r="r" b="b"/>
                <a:pathLst>
                  <a:path w="3322" h="3044">
                    <a:moveTo>
                      <a:pt x="1493" y="1422"/>
                    </a:moveTo>
                    <a:lnTo>
                      <a:pt x="829" y="0"/>
                    </a:lnTo>
                    <a:lnTo>
                      <a:pt x="1663" y="1313"/>
                    </a:lnTo>
                    <a:lnTo>
                      <a:pt x="2483" y="0"/>
                    </a:lnTo>
                    <a:lnTo>
                      <a:pt x="1824" y="1422"/>
                    </a:lnTo>
                    <a:lnTo>
                      <a:pt x="3322" y="1522"/>
                    </a:lnTo>
                    <a:lnTo>
                      <a:pt x="1820" y="1618"/>
                    </a:lnTo>
                    <a:lnTo>
                      <a:pt x="2497" y="3044"/>
                    </a:lnTo>
                    <a:lnTo>
                      <a:pt x="1663" y="1727"/>
                    </a:lnTo>
                    <a:lnTo>
                      <a:pt x="829" y="3044"/>
                    </a:lnTo>
                    <a:lnTo>
                      <a:pt x="1488" y="1626"/>
                    </a:lnTo>
                    <a:lnTo>
                      <a:pt x="0" y="1522"/>
                    </a:lnTo>
                    <a:lnTo>
                      <a:pt x="1493" y="1422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79400" y="387360"/>
                <a:ext cx="559080" cy="690840"/>
              </a:xfrm>
              <a:custGeom>
                <a:avLst/>
                <a:gdLst/>
                <a:ahLst/>
                <a:rect l="0" t="0" r="r" b="b"/>
                <a:pathLst>
                  <a:path w="1553" h="1919">
                    <a:moveTo>
                      <a:pt x="0" y="484"/>
                    </a:moveTo>
                    <a:lnTo>
                      <a:pt x="724" y="857"/>
                    </a:lnTo>
                    <a:lnTo>
                      <a:pt x="781" y="0"/>
                    </a:lnTo>
                    <a:lnTo>
                      <a:pt x="833" y="857"/>
                    </a:lnTo>
                    <a:lnTo>
                      <a:pt x="1553" y="484"/>
                    </a:lnTo>
                    <a:lnTo>
                      <a:pt x="889" y="962"/>
                    </a:lnTo>
                    <a:lnTo>
                      <a:pt x="1553" y="1434"/>
                    </a:lnTo>
                    <a:lnTo>
                      <a:pt x="833" y="1066"/>
                    </a:lnTo>
                    <a:lnTo>
                      <a:pt x="781" y="1919"/>
                    </a:lnTo>
                    <a:lnTo>
                      <a:pt x="724" y="1066"/>
                    </a:lnTo>
                    <a:lnTo>
                      <a:pt x="0" y="1442"/>
                    </a:lnTo>
                    <a:lnTo>
                      <a:pt x="668" y="962"/>
                    </a:lnTo>
                    <a:lnTo>
                      <a:pt x="0" y="484"/>
                    </a:lnTo>
                    <a:close/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84200" y="206280"/>
                <a:ext cx="1149840" cy="1054440"/>
              </a:xfrm>
              <a:custGeom>
                <a:avLst/>
                <a:gdLst/>
                <a:ahLst/>
                <a:rect l="0" t="0" r="r" b="b"/>
                <a:pathLst>
                  <a:path w="3194" h="2929">
                    <a:moveTo>
                      <a:pt x="1431" y="1363"/>
                    </a:moveTo>
                    <a:lnTo>
                      <a:pt x="803" y="0"/>
                    </a:lnTo>
                    <a:lnTo>
                      <a:pt x="1601" y="1254"/>
                    </a:lnTo>
                    <a:lnTo>
                      <a:pt x="2396" y="0"/>
                    </a:lnTo>
                    <a:lnTo>
                      <a:pt x="1763" y="1363"/>
                    </a:lnTo>
                    <a:lnTo>
                      <a:pt x="3194" y="1465"/>
                    </a:lnTo>
                    <a:lnTo>
                      <a:pt x="1758" y="1560"/>
                    </a:lnTo>
                    <a:lnTo>
                      <a:pt x="2396" y="2924"/>
                    </a:lnTo>
                    <a:lnTo>
                      <a:pt x="1601" y="1669"/>
                    </a:lnTo>
                    <a:lnTo>
                      <a:pt x="803" y="2929"/>
                    </a:lnTo>
                    <a:lnTo>
                      <a:pt x="1427" y="1569"/>
                    </a:lnTo>
                    <a:lnTo>
                      <a:pt x="0" y="1465"/>
                    </a:lnTo>
                    <a:lnTo>
                      <a:pt x="1431" y="1363"/>
                    </a:lnTo>
                    <a:close/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89120" y="399960"/>
                <a:ext cx="540000" cy="667080"/>
              </a:xfrm>
              <a:custGeom>
                <a:avLst/>
                <a:gdLst/>
                <a:ahLst/>
                <a:rect l="0" t="0" r="r" b="b"/>
                <a:pathLst>
                  <a:path w="1500" h="1853">
                    <a:moveTo>
                      <a:pt x="0" y="467"/>
                    </a:moveTo>
                    <a:lnTo>
                      <a:pt x="697" y="822"/>
                    </a:lnTo>
                    <a:lnTo>
                      <a:pt x="754" y="0"/>
                    </a:lnTo>
                    <a:lnTo>
                      <a:pt x="806" y="822"/>
                    </a:lnTo>
                    <a:lnTo>
                      <a:pt x="1500" y="467"/>
                    </a:lnTo>
                    <a:lnTo>
                      <a:pt x="862" y="926"/>
                    </a:lnTo>
                    <a:lnTo>
                      <a:pt x="1500" y="1390"/>
                    </a:lnTo>
                    <a:lnTo>
                      <a:pt x="806" y="1030"/>
                    </a:lnTo>
                    <a:lnTo>
                      <a:pt x="754" y="1853"/>
                    </a:lnTo>
                    <a:lnTo>
                      <a:pt x="697" y="1030"/>
                    </a:lnTo>
                    <a:lnTo>
                      <a:pt x="0" y="1390"/>
                    </a:lnTo>
                    <a:lnTo>
                      <a:pt x="641" y="926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506520" y="227160"/>
                <a:ext cx="1105200" cy="1011600"/>
              </a:xfrm>
              <a:custGeom>
                <a:avLst/>
                <a:gdLst/>
                <a:ahLst/>
                <a:rect l="0" t="0" r="r" b="b"/>
                <a:pathLst>
                  <a:path w="3070" h="2810">
                    <a:moveTo>
                      <a:pt x="1368" y="1307"/>
                    </a:moveTo>
                    <a:lnTo>
                      <a:pt x="776" y="0"/>
                    </a:lnTo>
                    <a:lnTo>
                      <a:pt x="1539" y="1198"/>
                    </a:lnTo>
                    <a:lnTo>
                      <a:pt x="2302" y="0"/>
                    </a:lnTo>
                    <a:lnTo>
                      <a:pt x="1701" y="1307"/>
                    </a:lnTo>
                    <a:lnTo>
                      <a:pt x="3070" y="1407"/>
                    </a:lnTo>
                    <a:lnTo>
                      <a:pt x="1696" y="1503"/>
                    </a:lnTo>
                    <a:lnTo>
                      <a:pt x="2302" y="2810"/>
                    </a:lnTo>
                    <a:lnTo>
                      <a:pt x="1539" y="1612"/>
                    </a:lnTo>
                    <a:lnTo>
                      <a:pt x="776" y="2810"/>
                    </a:lnTo>
                    <a:lnTo>
                      <a:pt x="1368" y="1507"/>
                    </a:lnTo>
                    <a:lnTo>
                      <a:pt x="0" y="1407"/>
                    </a:lnTo>
                    <a:lnTo>
                      <a:pt x="1368" y="1307"/>
                    </a:lnTo>
                    <a:close/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98480" y="411120"/>
                <a:ext cx="520920" cy="643320"/>
              </a:xfrm>
              <a:custGeom>
                <a:avLst/>
                <a:gdLst/>
                <a:ahLst/>
                <a:rect l="0" t="0" r="r" b="b"/>
                <a:pathLst>
                  <a:path w="1447" h="1787">
                    <a:moveTo>
                      <a:pt x="0" y="455"/>
                    </a:moveTo>
                    <a:lnTo>
                      <a:pt x="671" y="792"/>
                    </a:lnTo>
                    <a:lnTo>
                      <a:pt x="728" y="0"/>
                    </a:lnTo>
                    <a:lnTo>
                      <a:pt x="780" y="792"/>
                    </a:lnTo>
                    <a:lnTo>
                      <a:pt x="1447" y="445"/>
                    </a:lnTo>
                    <a:lnTo>
                      <a:pt x="836" y="896"/>
                    </a:lnTo>
                    <a:lnTo>
                      <a:pt x="1447" y="1342"/>
                    </a:lnTo>
                    <a:lnTo>
                      <a:pt x="780" y="999"/>
                    </a:lnTo>
                    <a:lnTo>
                      <a:pt x="728" y="1787"/>
                    </a:lnTo>
                    <a:lnTo>
                      <a:pt x="671" y="999"/>
                    </a:lnTo>
                    <a:lnTo>
                      <a:pt x="0" y="1342"/>
                    </a:lnTo>
                    <a:lnTo>
                      <a:pt x="615" y="896"/>
                    </a:lnTo>
                    <a:lnTo>
                      <a:pt x="0" y="455"/>
                    </a:lnTo>
                    <a:close/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0280" y="247680"/>
                <a:ext cx="1059120" cy="970200"/>
              </a:xfrm>
              <a:custGeom>
                <a:avLst/>
                <a:gdLst/>
                <a:ahLst/>
                <a:rect l="0" t="0" r="r" b="b"/>
                <a:pathLst>
                  <a:path w="2942" h="2695">
                    <a:moveTo>
                      <a:pt x="1302" y="1249"/>
                    </a:moveTo>
                    <a:lnTo>
                      <a:pt x="740" y="0"/>
                    </a:lnTo>
                    <a:lnTo>
                      <a:pt x="1473" y="1140"/>
                    </a:lnTo>
                    <a:lnTo>
                      <a:pt x="2201" y="0"/>
                    </a:lnTo>
                    <a:lnTo>
                      <a:pt x="1635" y="1249"/>
                    </a:lnTo>
                    <a:lnTo>
                      <a:pt x="2942" y="1350"/>
                    </a:lnTo>
                    <a:lnTo>
                      <a:pt x="1630" y="1446"/>
                    </a:lnTo>
                    <a:lnTo>
                      <a:pt x="2201" y="2695"/>
                    </a:lnTo>
                    <a:lnTo>
                      <a:pt x="1473" y="1554"/>
                    </a:lnTo>
                    <a:lnTo>
                      <a:pt x="740" y="2695"/>
                    </a:lnTo>
                    <a:lnTo>
                      <a:pt x="1298" y="1454"/>
                    </a:lnTo>
                    <a:lnTo>
                      <a:pt x="0" y="1350"/>
                    </a:lnTo>
                    <a:lnTo>
                      <a:pt x="1302" y="1249"/>
                    </a:lnTo>
                    <a:close/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08200" y="422280"/>
                <a:ext cx="503640" cy="621000"/>
              </a:xfrm>
              <a:custGeom>
                <a:avLst/>
                <a:gdLst/>
                <a:ahLst/>
                <a:rect l="0" t="0" r="r" b="b"/>
                <a:pathLst>
                  <a:path w="1399" h="1725">
                    <a:moveTo>
                      <a:pt x="0" y="436"/>
                    </a:moveTo>
                    <a:lnTo>
                      <a:pt x="646" y="760"/>
                    </a:lnTo>
                    <a:lnTo>
                      <a:pt x="702" y="0"/>
                    </a:lnTo>
                    <a:lnTo>
                      <a:pt x="753" y="760"/>
                    </a:lnTo>
                    <a:lnTo>
                      <a:pt x="1399" y="436"/>
                    </a:lnTo>
                    <a:lnTo>
                      <a:pt x="809" y="865"/>
                    </a:lnTo>
                    <a:lnTo>
                      <a:pt x="1399" y="1288"/>
                    </a:lnTo>
                    <a:lnTo>
                      <a:pt x="753" y="968"/>
                    </a:lnTo>
                    <a:lnTo>
                      <a:pt x="702" y="1725"/>
                    </a:lnTo>
                    <a:lnTo>
                      <a:pt x="646" y="968"/>
                    </a:lnTo>
                    <a:lnTo>
                      <a:pt x="0" y="1288"/>
                    </a:lnTo>
                    <a:lnTo>
                      <a:pt x="590" y="865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52600" y="268200"/>
                <a:ext cx="1013040" cy="929160"/>
              </a:xfrm>
              <a:custGeom>
                <a:avLst/>
                <a:gdLst/>
                <a:ahLst/>
                <a:rect l="0" t="0" r="r" b="b"/>
                <a:pathLst>
                  <a:path w="2814" h="2581">
                    <a:moveTo>
                      <a:pt x="1241" y="1192"/>
                    </a:moveTo>
                    <a:lnTo>
                      <a:pt x="709" y="0"/>
                    </a:lnTo>
                    <a:lnTo>
                      <a:pt x="1412" y="1084"/>
                    </a:lnTo>
                    <a:lnTo>
                      <a:pt x="2113" y="0"/>
                    </a:lnTo>
                    <a:lnTo>
                      <a:pt x="1573" y="1192"/>
                    </a:lnTo>
                    <a:lnTo>
                      <a:pt x="2814" y="1293"/>
                    </a:lnTo>
                    <a:lnTo>
                      <a:pt x="1568" y="1388"/>
                    </a:lnTo>
                    <a:lnTo>
                      <a:pt x="2113" y="2581"/>
                    </a:lnTo>
                    <a:lnTo>
                      <a:pt x="1412" y="1497"/>
                    </a:lnTo>
                    <a:lnTo>
                      <a:pt x="709" y="2581"/>
                    </a:lnTo>
                    <a:lnTo>
                      <a:pt x="1241" y="1393"/>
                    </a:lnTo>
                    <a:lnTo>
                      <a:pt x="0" y="1293"/>
                    </a:lnTo>
                    <a:lnTo>
                      <a:pt x="1241" y="1192"/>
                    </a:lnTo>
                    <a:close/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17560" y="433440"/>
                <a:ext cx="484560" cy="598680"/>
              </a:xfrm>
              <a:custGeom>
                <a:avLst/>
                <a:gdLst/>
                <a:ahLst/>
                <a:rect l="0" t="0" r="r" b="b"/>
                <a:pathLst>
                  <a:path w="1346" h="1663">
                    <a:moveTo>
                      <a:pt x="0" y="423"/>
                    </a:moveTo>
                    <a:lnTo>
                      <a:pt x="619" y="729"/>
                    </a:lnTo>
                    <a:lnTo>
                      <a:pt x="675" y="0"/>
                    </a:lnTo>
                    <a:lnTo>
                      <a:pt x="727" y="729"/>
                    </a:lnTo>
                    <a:lnTo>
                      <a:pt x="1346" y="423"/>
                    </a:lnTo>
                    <a:lnTo>
                      <a:pt x="783" y="834"/>
                    </a:lnTo>
                    <a:lnTo>
                      <a:pt x="1346" y="1248"/>
                    </a:lnTo>
                    <a:lnTo>
                      <a:pt x="727" y="938"/>
                    </a:lnTo>
                    <a:lnTo>
                      <a:pt x="675" y="1663"/>
                    </a:lnTo>
                    <a:lnTo>
                      <a:pt x="619" y="938"/>
                    </a:lnTo>
                    <a:lnTo>
                      <a:pt x="0" y="1248"/>
                    </a:lnTo>
                    <a:lnTo>
                      <a:pt x="563" y="834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76360" y="289080"/>
                <a:ext cx="967320" cy="887760"/>
              </a:xfrm>
              <a:custGeom>
                <a:avLst/>
                <a:gdLst/>
                <a:ahLst/>
                <a:rect l="0" t="0" r="r" b="b"/>
                <a:pathLst>
                  <a:path w="2687" h="2466">
                    <a:moveTo>
                      <a:pt x="1176" y="1134"/>
                    </a:moveTo>
                    <a:lnTo>
                      <a:pt x="670" y="0"/>
                    </a:lnTo>
                    <a:lnTo>
                      <a:pt x="1345" y="1026"/>
                    </a:lnTo>
                    <a:lnTo>
                      <a:pt x="2007" y="0"/>
                    </a:lnTo>
                    <a:lnTo>
                      <a:pt x="1506" y="1134"/>
                    </a:lnTo>
                    <a:lnTo>
                      <a:pt x="2687" y="1235"/>
                    </a:lnTo>
                    <a:lnTo>
                      <a:pt x="1502" y="1331"/>
                    </a:lnTo>
                    <a:lnTo>
                      <a:pt x="2007" y="2466"/>
                    </a:lnTo>
                    <a:lnTo>
                      <a:pt x="1345" y="1440"/>
                    </a:lnTo>
                    <a:lnTo>
                      <a:pt x="670" y="2466"/>
                    </a:lnTo>
                    <a:lnTo>
                      <a:pt x="1171" y="1340"/>
                    </a:lnTo>
                    <a:lnTo>
                      <a:pt x="0" y="1235"/>
                    </a:lnTo>
                    <a:lnTo>
                      <a:pt x="1176" y="1134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6920" y="446040"/>
                <a:ext cx="465480" cy="574920"/>
              </a:xfrm>
              <a:custGeom>
                <a:avLst/>
                <a:gdLst/>
                <a:ahLst/>
                <a:rect l="0" t="0" r="r" b="b"/>
                <a:pathLst>
                  <a:path w="1293" h="1597">
                    <a:moveTo>
                      <a:pt x="0" y="396"/>
                    </a:moveTo>
                    <a:lnTo>
                      <a:pt x="592" y="694"/>
                    </a:lnTo>
                    <a:lnTo>
                      <a:pt x="649" y="0"/>
                    </a:lnTo>
                    <a:lnTo>
                      <a:pt x="700" y="694"/>
                    </a:lnTo>
                    <a:lnTo>
                      <a:pt x="1293" y="396"/>
                    </a:lnTo>
                    <a:lnTo>
                      <a:pt x="756" y="799"/>
                    </a:lnTo>
                    <a:lnTo>
                      <a:pt x="1293" y="1191"/>
                    </a:lnTo>
                    <a:lnTo>
                      <a:pt x="700" y="902"/>
                    </a:lnTo>
                    <a:lnTo>
                      <a:pt x="649" y="1597"/>
                    </a:lnTo>
                    <a:lnTo>
                      <a:pt x="592" y="902"/>
                    </a:lnTo>
                    <a:lnTo>
                      <a:pt x="0" y="1191"/>
                    </a:lnTo>
                    <a:lnTo>
                      <a:pt x="536" y="799"/>
                    </a:lnTo>
                    <a:lnTo>
                      <a:pt x="0" y="396"/>
                    </a:lnTo>
                    <a:close/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98320" y="309600"/>
                <a:ext cx="922680" cy="846360"/>
              </a:xfrm>
              <a:custGeom>
                <a:avLst/>
                <a:gdLst/>
                <a:ahLst/>
                <a:rect l="0" t="0" r="r" b="b"/>
                <a:pathLst>
                  <a:path w="2563" h="2351">
                    <a:moveTo>
                      <a:pt x="1113" y="1077"/>
                    </a:moveTo>
                    <a:lnTo>
                      <a:pt x="639" y="0"/>
                    </a:lnTo>
                    <a:lnTo>
                      <a:pt x="1284" y="968"/>
                    </a:lnTo>
                    <a:lnTo>
                      <a:pt x="1923" y="0"/>
                    </a:lnTo>
                    <a:lnTo>
                      <a:pt x="1445" y="1077"/>
                    </a:lnTo>
                    <a:lnTo>
                      <a:pt x="2563" y="1178"/>
                    </a:lnTo>
                    <a:lnTo>
                      <a:pt x="1440" y="1273"/>
                    </a:lnTo>
                    <a:lnTo>
                      <a:pt x="1923" y="2351"/>
                    </a:lnTo>
                    <a:lnTo>
                      <a:pt x="1284" y="1382"/>
                    </a:lnTo>
                    <a:lnTo>
                      <a:pt x="639" y="2351"/>
                    </a:lnTo>
                    <a:lnTo>
                      <a:pt x="1109" y="1278"/>
                    </a:lnTo>
                    <a:lnTo>
                      <a:pt x="0" y="1178"/>
                    </a:lnTo>
                    <a:lnTo>
                      <a:pt x="1113" y="1077"/>
                    </a:lnTo>
                    <a:close/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6640" y="457200"/>
                <a:ext cx="446400" cy="551160"/>
              </a:xfrm>
              <a:custGeom>
                <a:avLst/>
                <a:gdLst/>
                <a:ahLst/>
                <a:rect l="0" t="0" r="r" b="b"/>
                <a:pathLst>
                  <a:path w="1240" h="1531">
                    <a:moveTo>
                      <a:pt x="0" y="387"/>
                    </a:moveTo>
                    <a:lnTo>
                      <a:pt x="565" y="663"/>
                    </a:lnTo>
                    <a:lnTo>
                      <a:pt x="622" y="0"/>
                    </a:lnTo>
                    <a:lnTo>
                      <a:pt x="674" y="663"/>
                    </a:lnTo>
                    <a:lnTo>
                      <a:pt x="1235" y="387"/>
                    </a:lnTo>
                    <a:lnTo>
                      <a:pt x="729" y="768"/>
                    </a:lnTo>
                    <a:lnTo>
                      <a:pt x="1240" y="1143"/>
                    </a:lnTo>
                    <a:lnTo>
                      <a:pt x="674" y="871"/>
                    </a:lnTo>
                    <a:lnTo>
                      <a:pt x="622" y="1531"/>
                    </a:lnTo>
                    <a:lnTo>
                      <a:pt x="565" y="871"/>
                    </a:lnTo>
                    <a:lnTo>
                      <a:pt x="0" y="1151"/>
                    </a:lnTo>
                    <a:lnTo>
                      <a:pt x="510" y="768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20640" y="331920"/>
                <a:ext cx="876600" cy="803520"/>
              </a:xfrm>
              <a:custGeom>
                <a:avLst/>
                <a:gdLst/>
                <a:ahLst/>
                <a:rect l="0" t="0" r="r" b="b"/>
                <a:pathLst>
                  <a:path w="2435" h="2232">
                    <a:moveTo>
                      <a:pt x="1051" y="1015"/>
                    </a:moveTo>
                    <a:lnTo>
                      <a:pt x="612" y="0"/>
                    </a:lnTo>
                    <a:lnTo>
                      <a:pt x="1222" y="907"/>
                    </a:lnTo>
                    <a:lnTo>
                      <a:pt x="1826" y="0"/>
                    </a:lnTo>
                    <a:lnTo>
                      <a:pt x="1383" y="1015"/>
                    </a:lnTo>
                    <a:lnTo>
                      <a:pt x="2435" y="1115"/>
                    </a:lnTo>
                    <a:lnTo>
                      <a:pt x="1378" y="1212"/>
                    </a:lnTo>
                    <a:lnTo>
                      <a:pt x="1826" y="2232"/>
                    </a:lnTo>
                    <a:lnTo>
                      <a:pt x="1222" y="1320"/>
                    </a:lnTo>
                    <a:lnTo>
                      <a:pt x="612" y="2232"/>
                    </a:lnTo>
                    <a:lnTo>
                      <a:pt x="1047" y="1220"/>
                    </a:lnTo>
                    <a:lnTo>
                      <a:pt x="0" y="1115"/>
                    </a:lnTo>
                    <a:lnTo>
                      <a:pt x="1051" y="1015"/>
                    </a:lnTo>
                    <a:close/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46000" y="469800"/>
                <a:ext cx="427320" cy="525960"/>
              </a:xfrm>
              <a:custGeom>
                <a:avLst/>
                <a:gdLst/>
                <a:ahLst/>
                <a:rect l="0" t="0" r="r" b="b"/>
                <a:pathLst>
                  <a:path w="1187" h="1461">
                    <a:moveTo>
                      <a:pt x="0" y="371"/>
                    </a:moveTo>
                    <a:lnTo>
                      <a:pt x="539" y="629"/>
                    </a:lnTo>
                    <a:lnTo>
                      <a:pt x="596" y="0"/>
                    </a:lnTo>
                    <a:lnTo>
                      <a:pt x="647" y="629"/>
                    </a:lnTo>
                    <a:lnTo>
                      <a:pt x="1182" y="361"/>
                    </a:lnTo>
                    <a:lnTo>
                      <a:pt x="703" y="732"/>
                    </a:lnTo>
                    <a:lnTo>
                      <a:pt x="1187" y="1099"/>
                    </a:lnTo>
                    <a:lnTo>
                      <a:pt x="647" y="836"/>
                    </a:lnTo>
                    <a:lnTo>
                      <a:pt x="596" y="1461"/>
                    </a:lnTo>
                    <a:lnTo>
                      <a:pt x="539" y="836"/>
                    </a:lnTo>
                    <a:lnTo>
                      <a:pt x="0" y="1099"/>
                    </a:lnTo>
                    <a:lnTo>
                      <a:pt x="483" y="732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642960" y="352440"/>
                <a:ext cx="832320" cy="760680"/>
              </a:xfrm>
              <a:custGeom>
                <a:avLst/>
                <a:gdLst/>
                <a:ahLst/>
                <a:rect l="0" t="0" r="r" b="b"/>
                <a:pathLst>
                  <a:path w="2312" h="2113">
                    <a:moveTo>
                      <a:pt x="991" y="958"/>
                    </a:moveTo>
                    <a:lnTo>
                      <a:pt x="587" y="0"/>
                    </a:lnTo>
                    <a:lnTo>
                      <a:pt x="1160" y="850"/>
                    </a:lnTo>
                    <a:lnTo>
                      <a:pt x="1735" y="0"/>
                    </a:lnTo>
                    <a:lnTo>
                      <a:pt x="1321" y="958"/>
                    </a:lnTo>
                    <a:lnTo>
                      <a:pt x="2312" y="1059"/>
                    </a:lnTo>
                    <a:lnTo>
                      <a:pt x="1317" y="1154"/>
                    </a:lnTo>
                    <a:lnTo>
                      <a:pt x="1735" y="2113"/>
                    </a:lnTo>
                    <a:lnTo>
                      <a:pt x="1160" y="1263"/>
                    </a:lnTo>
                    <a:lnTo>
                      <a:pt x="587" y="2113"/>
                    </a:lnTo>
                    <a:lnTo>
                      <a:pt x="986" y="1159"/>
                    </a:lnTo>
                    <a:lnTo>
                      <a:pt x="0" y="1059"/>
                    </a:lnTo>
                    <a:lnTo>
                      <a:pt x="991" y="958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53920" y="480960"/>
                <a:ext cx="410040" cy="503640"/>
              </a:xfrm>
              <a:custGeom>
                <a:avLst/>
                <a:gdLst/>
                <a:ahLst/>
                <a:rect l="0" t="0" r="r" b="b"/>
                <a:pathLst>
                  <a:path w="1139" h="1399">
                    <a:moveTo>
                      <a:pt x="0" y="353"/>
                    </a:moveTo>
                    <a:lnTo>
                      <a:pt x="518" y="598"/>
                    </a:lnTo>
                    <a:lnTo>
                      <a:pt x="569" y="0"/>
                    </a:lnTo>
                    <a:lnTo>
                      <a:pt x="625" y="598"/>
                    </a:lnTo>
                    <a:lnTo>
                      <a:pt x="1139" y="353"/>
                    </a:lnTo>
                    <a:lnTo>
                      <a:pt x="681" y="702"/>
                    </a:lnTo>
                    <a:lnTo>
                      <a:pt x="1139" y="1055"/>
                    </a:lnTo>
                    <a:lnTo>
                      <a:pt x="625" y="805"/>
                    </a:lnTo>
                    <a:lnTo>
                      <a:pt x="574" y="1399"/>
                    </a:lnTo>
                    <a:lnTo>
                      <a:pt x="518" y="805"/>
                    </a:lnTo>
                    <a:lnTo>
                      <a:pt x="0" y="1055"/>
                    </a:lnTo>
                    <a:lnTo>
                      <a:pt x="462" y="702"/>
                    </a:lnTo>
                    <a:lnTo>
                      <a:pt x="0" y="353"/>
                    </a:lnTo>
                    <a:close/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66720" y="372960"/>
                <a:ext cx="786240" cy="719640"/>
              </a:xfrm>
              <a:custGeom>
                <a:avLst/>
                <a:gdLst/>
                <a:ahLst/>
                <a:rect l="0" t="0" r="r" b="b"/>
                <a:pathLst>
                  <a:path w="2184" h="1999">
                    <a:moveTo>
                      <a:pt x="925" y="902"/>
                    </a:moveTo>
                    <a:lnTo>
                      <a:pt x="552" y="4"/>
                    </a:lnTo>
                    <a:lnTo>
                      <a:pt x="1094" y="793"/>
                    </a:lnTo>
                    <a:lnTo>
                      <a:pt x="1628" y="0"/>
                    </a:lnTo>
                    <a:lnTo>
                      <a:pt x="1255" y="902"/>
                    </a:lnTo>
                    <a:lnTo>
                      <a:pt x="2184" y="1001"/>
                    </a:lnTo>
                    <a:lnTo>
                      <a:pt x="1250" y="1097"/>
                    </a:lnTo>
                    <a:lnTo>
                      <a:pt x="1632" y="1999"/>
                    </a:lnTo>
                    <a:lnTo>
                      <a:pt x="1094" y="1205"/>
                    </a:lnTo>
                    <a:lnTo>
                      <a:pt x="552" y="1999"/>
                    </a:lnTo>
                    <a:lnTo>
                      <a:pt x="920" y="1105"/>
                    </a:lnTo>
                    <a:lnTo>
                      <a:pt x="0" y="1001"/>
                    </a:lnTo>
                    <a:lnTo>
                      <a:pt x="925" y="902"/>
                    </a:lnTo>
                    <a:close/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63640" y="493560"/>
                <a:ext cx="390960" cy="479880"/>
              </a:xfrm>
              <a:custGeom>
                <a:avLst/>
                <a:gdLst/>
                <a:ahLst/>
                <a:rect l="0" t="0" r="r" b="b"/>
                <a:pathLst>
                  <a:path w="1086" h="1333">
                    <a:moveTo>
                      <a:pt x="0" y="336"/>
                    </a:moveTo>
                    <a:lnTo>
                      <a:pt x="492" y="563"/>
                    </a:lnTo>
                    <a:lnTo>
                      <a:pt x="547" y="0"/>
                    </a:lnTo>
                    <a:lnTo>
                      <a:pt x="598" y="563"/>
                    </a:lnTo>
                    <a:lnTo>
                      <a:pt x="1086" y="336"/>
                    </a:lnTo>
                    <a:lnTo>
                      <a:pt x="654" y="666"/>
                    </a:lnTo>
                    <a:lnTo>
                      <a:pt x="1086" y="1002"/>
                    </a:lnTo>
                    <a:lnTo>
                      <a:pt x="598" y="765"/>
                    </a:lnTo>
                    <a:lnTo>
                      <a:pt x="547" y="1333"/>
                    </a:lnTo>
                    <a:lnTo>
                      <a:pt x="492" y="765"/>
                    </a:lnTo>
                    <a:lnTo>
                      <a:pt x="0" y="1002"/>
                    </a:lnTo>
                    <a:lnTo>
                      <a:pt x="436" y="666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89040" y="393840"/>
                <a:ext cx="740160" cy="678240"/>
              </a:xfrm>
              <a:custGeom>
                <a:avLst/>
                <a:gdLst/>
                <a:ahLst/>
                <a:rect l="0" t="0" r="r" b="b"/>
                <a:pathLst>
                  <a:path w="2056" h="1884">
                    <a:moveTo>
                      <a:pt x="863" y="845"/>
                    </a:moveTo>
                    <a:lnTo>
                      <a:pt x="521" y="0"/>
                    </a:lnTo>
                    <a:lnTo>
                      <a:pt x="1032" y="736"/>
                    </a:lnTo>
                    <a:lnTo>
                      <a:pt x="1545" y="0"/>
                    </a:lnTo>
                    <a:lnTo>
                      <a:pt x="1193" y="845"/>
                    </a:lnTo>
                    <a:lnTo>
                      <a:pt x="2056" y="944"/>
                    </a:lnTo>
                    <a:lnTo>
                      <a:pt x="1188" y="1039"/>
                    </a:lnTo>
                    <a:lnTo>
                      <a:pt x="1545" y="1884"/>
                    </a:lnTo>
                    <a:lnTo>
                      <a:pt x="1032" y="1148"/>
                    </a:lnTo>
                    <a:lnTo>
                      <a:pt x="521" y="1884"/>
                    </a:lnTo>
                    <a:lnTo>
                      <a:pt x="859" y="1044"/>
                    </a:lnTo>
                    <a:lnTo>
                      <a:pt x="0" y="944"/>
                    </a:lnTo>
                    <a:lnTo>
                      <a:pt x="863" y="845"/>
                    </a:lnTo>
                    <a:close/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73000" y="504720"/>
                <a:ext cx="371880" cy="457560"/>
              </a:xfrm>
              <a:custGeom>
                <a:avLst/>
                <a:gdLst/>
                <a:ahLst/>
                <a:rect l="0" t="0" r="r" b="b"/>
                <a:pathLst>
                  <a:path w="1033" h="1271">
                    <a:moveTo>
                      <a:pt x="0" y="313"/>
                    </a:moveTo>
                    <a:lnTo>
                      <a:pt x="465" y="533"/>
                    </a:lnTo>
                    <a:lnTo>
                      <a:pt x="521" y="0"/>
                    </a:lnTo>
                    <a:lnTo>
                      <a:pt x="572" y="533"/>
                    </a:lnTo>
                    <a:lnTo>
                      <a:pt x="1033" y="313"/>
                    </a:lnTo>
                    <a:lnTo>
                      <a:pt x="627" y="636"/>
                    </a:lnTo>
                    <a:lnTo>
                      <a:pt x="1033" y="949"/>
                    </a:lnTo>
                    <a:lnTo>
                      <a:pt x="572" y="738"/>
                    </a:lnTo>
                    <a:lnTo>
                      <a:pt x="521" y="1271"/>
                    </a:lnTo>
                    <a:lnTo>
                      <a:pt x="465" y="738"/>
                    </a:lnTo>
                    <a:lnTo>
                      <a:pt x="0" y="958"/>
                    </a:lnTo>
                    <a:lnTo>
                      <a:pt x="410" y="636"/>
                    </a:lnTo>
                    <a:lnTo>
                      <a:pt x="0" y="313"/>
                    </a:lnTo>
                    <a:close/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11360" y="415800"/>
                <a:ext cx="695520" cy="635400"/>
              </a:xfrm>
              <a:custGeom>
                <a:avLst/>
                <a:gdLst/>
                <a:ahLst/>
                <a:rect l="0" t="0" r="r" b="b"/>
                <a:pathLst>
                  <a:path w="1932" h="1765">
                    <a:moveTo>
                      <a:pt x="801" y="783"/>
                    </a:moveTo>
                    <a:lnTo>
                      <a:pt x="489" y="0"/>
                    </a:lnTo>
                    <a:lnTo>
                      <a:pt x="971" y="675"/>
                    </a:lnTo>
                    <a:lnTo>
                      <a:pt x="1451" y="0"/>
                    </a:lnTo>
                    <a:lnTo>
                      <a:pt x="1131" y="783"/>
                    </a:lnTo>
                    <a:lnTo>
                      <a:pt x="1932" y="882"/>
                    </a:lnTo>
                    <a:lnTo>
                      <a:pt x="1126" y="978"/>
                    </a:lnTo>
                    <a:lnTo>
                      <a:pt x="1451" y="1765"/>
                    </a:lnTo>
                    <a:lnTo>
                      <a:pt x="971" y="1086"/>
                    </a:lnTo>
                    <a:lnTo>
                      <a:pt x="489" y="1765"/>
                    </a:lnTo>
                    <a:lnTo>
                      <a:pt x="801" y="982"/>
                    </a:lnTo>
                    <a:lnTo>
                      <a:pt x="0" y="882"/>
                    </a:lnTo>
                    <a:lnTo>
                      <a:pt x="801" y="783"/>
                    </a:lnTo>
                    <a:close/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82720" y="515880"/>
                <a:ext cx="352800" cy="433800"/>
              </a:xfrm>
              <a:custGeom>
                <a:avLst/>
                <a:gdLst/>
                <a:ahLst/>
                <a:rect l="0" t="0" r="r" b="b"/>
                <a:pathLst>
                  <a:path w="980" h="1205">
                    <a:moveTo>
                      <a:pt x="0" y="305"/>
                    </a:moveTo>
                    <a:lnTo>
                      <a:pt x="439" y="502"/>
                    </a:lnTo>
                    <a:lnTo>
                      <a:pt x="494" y="0"/>
                    </a:lnTo>
                    <a:lnTo>
                      <a:pt x="545" y="502"/>
                    </a:lnTo>
                    <a:lnTo>
                      <a:pt x="980" y="305"/>
                    </a:lnTo>
                    <a:lnTo>
                      <a:pt x="601" y="605"/>
                    </a:lnTo>
                    <a:lnTo>
                      <a:pt x="980" y="910"/>
                    </a:lnTo>
                    <a:lnTo>
                      <a:pt x="545" y="703"/>
                    </a:lnTo>
                    <a:lnTo>
                      <a:pt x="494" y="1205"/>
                    </a:lnTo>
                    <a:lnTo>
                      <a:pt x="439" y="703"/>
                    </a:lnTo>
                    <a:lnTo>
                      <a:pt x="0" y="910"/>
                    </a:lnTo>
                    <a:lnTo>
                      <a:pt x="384" y="605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35120" y="434880"/>
                <a:ext cx="649800" cy="595800"/>
              </a:xfrm>
              <a:custGeom>
                <a:avLst/>
                <a:gdLst/>
                <a:ahLst/>
                <a:rect l="0" t="0" r="r" b="b"/>
                <a:pathLst>
                  <a:path w="1805" h="1655">
                    <a:moveTo>
                      <a:pt x="736" y="730"/>
                    </a:moveTo>
                    <a:lnTo>
                      <a:pt x="449" y="0"/>
                    </a:lnTo>
                    <a:lnTo>
                      <a:pt x="904" y="622"/>
                    </a:lnTo>
                    <a:lnTo>
                      <a:pt x="1346" y="0"/>
                    </a:lnTo>
                    <a:lnTo>
                      <a:pt x="1064" y="730"/>
                    </a:lnTo>
                    <a:lnTo>
                      <a:pt x="1805" y="829"/>
                    </a:lnTo>
                    <a:lnTo>
                      <a:pt x="1060" y="924"/>
                    </a:lnTo>
                    <a:lnTo>
                      <a:pt x="1346" y="1655"/>
                    </a:lnTo>
                    <a:lnTo>
                      <a:pt x="904" y="1032"/>
                    </a:lnTo>
                    <a:lnTo>
                      <a:pt x="449" y="1655"/>
                    </a:lnTo>
                    <a:lnTo>
                      <a:pt x="731" y="929"/>
                    </a:lnTo>
                    <a:lnTo>
                      <a:pt x="0" y="829"/>
                    </a:lnTo>
                    <a:lnTo>
                      <a:pt x="736" y="730"/>
                    </a:lnTo>
                    <a:close/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92080" y="527040"/>
                <a:ext cx="333720" cy="411480"/>
              </a:xfrm>
              <a:custGeom>
                <a:avLst/>
                <a:gdLst/>
                <a:ahLst/>
                <a:rect l="0" t="0" r="r" b="b"/>
                <a:pathLst>
                  <a:path w="927" h="1143">
                    <a:moveTo>
                      <a:pt x="0" y="290"/>
                    </a:moveTo>
                    <a:lnTo>
                      <a:pt x="412" y="470"/>
                    </a:lnTo>
                    <a:lnTo>
                      <a:pt x="468" y="0"/>
                    </a:lnTo>
                    <a:lnTo>
                      <a:pt x="519" y="470"/>
                    </a:lnTo>
                    <a:lnTo>
                      <a:pt x="927" y="290"/>
                    </a:lnTo>
                    <a:lnTo>
                      <a:pt x="574" y="574"/>
                    </a:lnTo>
                    <a:lnTo>
                      <a:pt x="927" y="860"/>
                    </a:lnTo>
                    <a:lnTo>
                      <a:pt x="519" y="672"/>
                    </a:lnTo>
                    <a:lnTo>
                      <a:pt x="468" y="1143"/>
                    </a:lnTo>
                    <a:lnTo>
                      <a:pt x="412" y="672"/>
                    </a:lnTo>
                    <a:lnTo>
                      <a:pt x="0" y="860"/>
                    </a:lnTo>
                    <a:lnTo>
                      <a:pt x="356" y="574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57080" y="455760"/>
                <a:ext cx="605160" cy="554400"/>
              </a:xfrm>
              <a:custGeom>
                <a:avLst/>
                <a:gdLst/>
                <a:ahLst/>
                <a:rect l="0" t="0" r="r" b="b"/>
                <a:pathLst>
                  <a:path w="1681" h="1540">
                    <a:moveTo>
                      <a:pt x="673" y="673"/>
                    </a:moveTo>
                    <a:lnTo>
                      <a:pt x="418" y="0"/>
                    </a:lnTo>
                    <a:lnTo>
                      <a:pt x="843" y="565"/>
                    </a:lnTo>
                    <a:lnTo>
                      <a:pt x="1253" y="0"/>
                    </a:lnTo>
                    <a:lnTo>
                      <a:pt x="1003" y="673"/>
                    </a:lnTo>
                    <a:lnTo>
                      <a:pt x="1681" y="772"/>
                    </a:lnTo>
                    <a:lnTo>
                      <a:pt x="998" y="867"/>
                    </a:lnTo>
                    <a:lnTo>
                      <a:pt x="1253" y="1540"/>
                    </a:lnTo>
                    <a:lnTo>
                      <a:pt x="843" y="975"/>
                    </a:lnTo>
                    <a:lnTo>
                      <a:pt x="418" y="1540"/>
                    </a:lnTo>
                    <a:lnTo>
                      <a:pt x="669" y="876"/>
                    </a:lnTo>
                    <a:lnTo>
                      <a:pt x="0" y="772"/>
                    </a:lnTo>
                    <a:lnTo>
                      <a:pt x="673" y="673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01800" y="539640"/>
                <a:ext cx="314640" cy="387720"/>
              </a:xfrm>
              <a:custGeom>
                <a:avLst/>
                <a:gdLst/>
                <a:ahLst/>
                <a:rect l="0" t="0" r="r" b="b"/>
                <a:pathLst>
                  <a:path w="874" h="1077">
                    <a:moveTo>
                      <a:pt x="0" y="264"/>
                    </a:moveTo>
                    <a:lnTo>
                      <a:pt x="385" y="436"/>
                    </a:lnTo>
                    <a:lnTo>
                      <a:pt x="441" y="0"/>
                    </a:lnTo>
                    <a:lnTo>
                      <a:pt x="492" y="436"/>
                    </a:lnTo>
                    <a:lnTo>
                      <a:pt x="874" y="264"/>
                    </a:lnTo>
                    <a:lnTo>
                      <a:pt x="547" y="538"/>
                    </a:lnTo>
                    <a:lnTo>
                      <a:pt x="874" y="803"/>
                    </a:lnTo>
                    <a:lnTo>
                      <a:pt x="492" y="637"/>
                    </a:lnTo>
                    <a:lnTo>
                      <a:pt x="441" y="1077"/>
                    </a:lnTo>
                    <a:lnTo>
                      <a:pt x="385" y="637"/>
                    </a:lnTo>
                    <a:lnTo>
                      <a:pt x="0" y="803"/>
                    </a:lnTo>
                    <a:lnTo>
                      <a:pt x="330" y="538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1200" y="479520"/>
                <a:ext cx="555840" cy="508320"/>
              </a:xfrm>
              <a:custGeom>
                <a:avLst/>
                <a:gdLst/>
                <a:ahLst/>
                <a:rect l="0" t="0" r="r" b="b"/>
                <a:pathLst>
                  <a:path w="1544" h="1412">
                    <a:moveTo>
                      <a:pt x="607" y="606"/>
                    </a:moveTo>
                    <a:lnTo>
                      <a:pt x="392" y="0"/>
                    </a:lnTo>
                    <a:lnTo>
                      <a:pt x="777" y="499"/>
                    </a:lnTo>
                    <a:lnTo>
                      <a:pt x="1160" y="0"/>
                    </a:lnTo>
                    <a:lnTo>
                      <a:pt x="936" y="606"/>
                    </a:lnTo>
                    <a:lnTo>
                      <a:pt x="1544" y="705"/>
                    </a:lnTo>
                    <a:lnTo>
                      <a:pt x="932" y="801"/>
                    </a:lnTo>
                    <a:lnTo>
                      <a:pt x="1160" y="1407"/>
                    </a:lnTo>
                    <a:lnTo>
                      <a:pt x="777" y="908"/>
                    </a:lnTo>
                    <a:lnTo>
                      <a:pt x="392" y="1412"/>
                    </a:lnTo>
                    <a:lnTo>
                      <a:pt x="607" y="805"/>
                    </a:lnTo>
                    <a:lnTo>
                      <a:pt x="0" y="705"/>
                    </a:lnTo>
                    <a:lnTo>
                      <a:pt x="607" y="606"/>
                    </a:lnTo>
                    <a:close/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11160" y="550800"/>
                <a:ext cx="295560" cy="365400"/>
              </a:xfrm>
              <a:custGeom>
                <a:avLst/>
                <a:gdLst/>
                <a:ahLst/>
                <a:rect l="0" t="0" r="r" b="b"/>
                <a:pathLst>
                  <a:path w="821" h="1015">
                    <a:moveTo>
                      <a:pt x="0" y="255"/>
                    </a:moveTo>
                    <a:lnTo>
                      <a:pt x="359" y="404"/>
                    </a:lnTo>
                    <a:lnTo>
                      <a:pt x="415" y="0"/>
                    </a:lnTo>
                    <a:lnTo>
                      <a:pt x="466" y="404"/>
                    </a:lnTo>
                    <a:lnTo>
                      <a:pt x="821" y="255"/>
                    </a:lnTo>
                    <a:lnTo>
                      <a:pt x="521" y="507"/>
                    </a:lnTo>
                    <a:lnTo>
                      <a:pt x="821" y="763"/>
                    </a:lnTo>
                    <a:lnTo>
                      <a:pt x="466" y="606"/>
                    </a:lnTo>
                    <a:lnTo>
                      <a:pt x="415" y="1015"/>
                    </a:lnTo>
                    <a:lnTo>
                      <a:pt x="359" y="606"/>
                    </a:lnTo>
                    <a:lnTo>
                      <a:pt x="0" y="763"/>
                    </a:lnTo>
                    <a:lnTo>
                      <a:pt x="304" y="507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04960" y="500040"/>
                <a:ext cx="510120" cy="466920"/>
              </a:xfrm>
              <a:custGeom>
                <a:avLst/>
                <a:gdLst/>
                <a:ahLst/>
                <a:rect l="0" t="0" r="r" b="b"/>
                <a:pathLst>
                  <a:path w="1417" h="1297">
                    <a:moveTo>
                      <a:pt x="543" y="549"/>
                    </a:moveTo>
                    <a:lnTo>
                      <a:pt x="358" y="0"/>
                    </a:lnTo>
                    <a:lnTo>
                      <a:pt x="710" y="442"/>
                    </a:lnTo>
                    <a:lnTo>
                      <a:pt x="1059" y="0"/>
                    </a:lnTo>
                    <a:lnTo>
                      <a:pt x="870" y="549"/>
                    </a:lnTo>
                    <a:lnTo>
                      <a:pt x="1417" y="649"/>
                    </a:lnTo>
                    <a:lnTo>
                      <a:pt x="865" y="743"/>
                    </a:lnTo>
                    <a:lnTo>
                      <a:pt x="1059" y="1293"/>
                    </a:lnTo>
                    <a:lnTo>
                      <a:pt x="710" y="850"/>
                    </a:lnTo>
                    <a:lnTo>
                      <a:pt x="358" y="1297"/>
                    </a:lnTo>
                    <a:lnTo>
                      <a:pt x="538" y="752"/>
                    </a:lnTo>
                    <a:lnTo>
                      <a:pt x="0" y="649"/>
                    </a:lnTo>
                    <a:lnTo>
                      <a:pt x="543" y="549"/>
                    </a:lnTo>
                    <a:close/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920880" y="561960"/>
                <a:ext cx="278280" cy="343440"/>
              </a:xfrm>
              <a:custGeom>
                <a:avLst/>
                <a:gdLst/>
                <a:ahLst/>
                <a:rect l="0" t="0" r="r" b="b"/>
                <a:pathLst>
                  <a:path w="773" h="954">
                    <a:moveTo>
                      <a:pt x="0" y="243"/>
                    </a:moveTo>
                    <a:lnTo>
                      <a:pt x="334" y="375"/>
                    </a:lnTo>
                    <a:lnTo>
                      <a:pt x="388" y="0"/>
                    </a:lnTo>
                    <a:lnTo>
                      <a:pt x="439" y="375"/>
                    </a:lnTo>
                    <a:lnTo>
                      <a:pt x="769" y="233"/>
                    </a:lnTo>
                    <a:lnTo>
                      <a:pt x="494" y="477"/>
                    </a:lnTo>
                    <a:lnTo>
                      <a:pt x="773" y="711"/>
                    </a:lnTo>
                    <a:lnTo>
                      <a:pt x="439" y="575"/>
                    </a:lnTo>
                    <a:lnTo>
                      <a:pt x="388" y="954"/>
                    </a:lnTo>
                    <a:lnTo>
                      <a:pt x="334" y="575"/>
                    </a:lnTo>
                    <a:lnTo>
                      <a:pt x="0" y="711"/>
                    </a:lnTo>
                    <a:lnTo>
                      <a:pt x="279" y="477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6920" y="520560"/>
                <a:ext cx="465480" cy="425880"/>
              </a:xfrm>
              <a:custGeom>
                <a:avLst/>
                <a:gdLst/>
                <a:ahLst/>
                <a:rect l="0" t="0" r="r" b="b"/>
                <a:pathLst>
                  <a:path w="1293" h="1183">
                    <a:moveTo>
                      <a:pt x="480" y="493"/>
                    </a:moveTo>
                    <a:lnTo>
                      <a:pt x="326" y="0"/>
                    </a:lnTo>
                    <a:lnTo>
                      <a:pt x="649" y="386"/>
                    </a:lnTo>
                    <a:lnTo>
                      <a:pt x="966" y="0"/>
                    </a:lnTo>
                    <a:lnTo>
                      <a:pt x="807" y="493"/>
                    </a:lnTo>
                    <a:lnTo>
                      <a:pt x="1293" y="591"/>
                    </a:lnTo>
                    <a:lnTo>
                      <a:pt x="803" y="686"/>
                    </a:lnTo>
                    <a:lnTo>
                      <a:pt x="966" y="1179"/>
                    </a:lnTo>
                    <a:lnTo>
                      <a:pt x="649" y="793"/>
                    </a:lnTo>
                    <a:lnTo>
                      <a:pt x="326" y="1183"/>
                    </a:lnTo>
                    <a:lnTo>
                      <a:pt x="476" y="694"/>
                    </a:lnTo>
                    <a:lnTo>
                      <a:pt x="0" y="591"/>
                    </a:lnTo>
                    <a:lnTo>
                      <a:pt x="480" y="493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30240" y="573120"/>
                <a:ext cx="259200" cy="319320"/>
              </a:xfrm>
              <a:custGeom>
                <a:avLst/>
                <a:gdLst/>
                <a:ahLst/>
                <a:rect l="0" t="0" r="r" b="b"/>
                <a:pathLst>
                  <a:path w="720" h="887">
                    <a:moveTo>
                      <a:pt x="0" y="224"/>
                    </a:moveTo>
                    <a:lnTo>
                      <a:pt x="307" y="343"/>
                    </a:lnTo>
                    <a:lnTo>
                      <a:pt x="362" y="0"/>
                    </a:lnTo>
                    <a:lnTo>
                      <a:pt x="412" y="343"/>
                    </a:lnTo>
                    <a:lnTo>
                      <a:pt x="716" y="224"/>
                    </a:lnTo>
                    <a:lnTo>
                      <a:pt x="467" y="446"/>
                    </a:lnTo>
                    <a:lnTo>
                      <a:pt x="720" y="662"/>
                    </a:lnTo>
                    <a:lnTo>
                      <a:pt x="412" y="543"/>
                    </a:lnTo>
                    <a:lnTo>
                      <a:pt x="362" y="887"/>
                    </a:lnTo>
                    <a:lnTo>
                      <a:pt x="307" y="543"/>
                    </a:lnTo>
                    <a:lnTo>
                      <a:pt x="0" y="662"/>
                    </a:lnTo>
                    <a:lnTo>
                      <a:pt x="253" y="446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9240" y="541440"/>
                <a:ext cx="419400" cy="383040"/>
              </a:xfrm>
              <a:custGeom>
                <a:avLst/>
                <a:gdLst/>
                <a:ahLst/>
                <a:rect l="0" t="0" r="r" b="b"/>
                <a:pathLst>
                  <a:path w="1165" h="1064">
                    <a:moveTo>
                      <a:pt x="419" y="436"/>
                    </a:moveTo>
                    <a:lnTo>
                      <a:pt x="295" y="0"/>
                    </a:lnTo>
                    <a:lnTo>
                      <a:pt x="587" y="329"/>
                    </a:lnTo>
                    <a:lnTo>
                      <a:pt x="878" y="0"/>
                    </a:lnTo>
                    <a:lnTo>
                      <a:pt x="745" y="436"/>
                    </a:lnTo>
                    <a:lnTo>
                      <a:pt x="1165" y="534"/>
                    </a:lnTo>
                    <a:lnTo>
                      <a:pt x="741" y="628"/>
                    </a:lnTo>
                    <a:lnTo>
                      <a:pt x="878" y="1064"/>
                    </a:lnTo>
                    <a:lnTo>
                      <a:pt x="587" y="735"/>
                    </a:lnTo>
                    <a:lnTo>
                      <a:pt x="295" y="1064"/>
                    </a:lnTo>
                    <a:lnTo>
                      <a:pt x="419" y="632"/>
                    </a:lnTo>
                    <a:lnTo>
                      <a:pt x="0" y="534"/>
                    </a:lnTo>
                    <a:lnTo>
                      <a:pt x="419" y="436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39960" y="584280"/>
                <a:ext cx="240120" cy="297360"/>
              </a:xfrm>
              <a:custGeom>
                <a:avLst/>
                <a:gdLst/>
                <a:ahLst/>
                <a:rect l="0" t="0" r="r" b="b"/>
                <a:pathLst>
                  <a:path w="667" h="826">
                    <a:moveTo>
                      <a:pt x="0" y="212"/>
                    </a:moveTo>
                    <a:lnTo>
                      <a:pt x="281" y="313"/>
                    </a:lnTo>
                    <a:lnTo>
                      <a:pt x="336" y="0"/>
                    </a:lnTo>
                    <a:lnTo>
                      <a:pt x="386" y="313"/>
                    </a:lnTo>
                    <a:lnTo>
                      <a:pt x="667" y="212"/>
                    </a:lnTo>
                    <a:lnTo>
                      <a:pt x="440" y="415"/>
                    </a:lnTo>
                    <a:lnTo>
                      <a:pt x="667" y="623"/>
                    </a:lnTo>
                    <a:lnTo>
                      <a:pt x="386" y="512"/>
                    </a:lnTo>
                    <a:lnTo>
                      <a:pt x="336" y="826"/>
                    </a:lnTo>
                    <a:lnTo>
                      <a:pt x="281" y="512"/>
                    </a:lnTo>
                    <a:lnTo>
                      <a:pt x="0" y="623"/>
                    </a:lnTo>
                    <a:lnTo>
                      <a:pt x="227" y="415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73000" y="561960"/>
                <a:ext cx="373320" cy="341640"/>
              </a:xfrm>
              <a:custGeom>
                <a:avLst/>
                <a:gdLst/>
                <a:ahLst/>
                <a:rect l="0" t="0" r="r" b="b"/>
                <a:pathLst>
                  <a:path w="1037" h="949">
                    <a:moveTo>
                      <a:pt x="353" y="378"/>
                    </a:moveTo>
                    <a:lnTo>
                      <a:pt x="255" y="0"/>
                    </a:lnTo>
                    <a:lnTo>
                      <a:pt x="521" y="272"/>
                    </a:lnTo>
                    <a:lnTo>
                      <a:pt x="772" y="0"/>
                    </a:lnTo>
                    <a:lnTo>
                      <a:pt x="679" y="378"/>
                    </a:lnTo>
                    <a:lnTo>
                      <a:pt x="1037" y="477"/>
                    </a:lnTo>
                    <a:lnTo>
                      <a:pt x="674" y="570"/>
                    </a:lnTo>
                    <a:lnTo>
                      <a:pt x="772" y="949"/>
                    </a:lnTo>
                    <a:lnTo>
                      <a:pt x="521" y="676"/>
                    </a:lnTo>
                    <a:lnTo>
                      <a:pt x="255" y="949"/>
                    </a:lnTo>
                    <a:lnTo>
                      <a:pt x="353" y="574"/>
                    </a:lnTo>
                    <a:lnTo>
                      <a:pt x="0" y="477"/>
                    </a:lnTo>
                    <a:lnTo>
                      <a:pt x="353" y="378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49320" y="596880"/>
                <a:ext cx="221040" cy="273240"/>
              </a:xfrm>
              <a:custGeom>
                <a:avLst/>
                <a:gdLst/>
                <a:ahLst/>
                <a:rect l="0" t="0" r="r" b="b"/>
                <a:pathLst>
                  <a:path w="614" h="759">
                    <a:moveTo>
                      <a:pt x="0" y="185"/>
                    </a:moveTo>
                    <a:lnTo>
                      <a:pt x="255" y="278"/>
                    </a:lnTo>
                    <a:lnTo>
                      <a:pt x="309" y="0"/>
                    </a:lnTo>
                    <a:lnTo>
                      <a:pt x="359" y="278"/>
                    </a:lnTo>
                    <a:lnTo>
                      <a:pt x="614" y="185"/>
                    </a:lnTo>
                    <a:lnTo>
                      <a:pt x="413" y="380"/>
                    </a:lnTo>
                    <a:lnTo>
                      <a:pt x="614" y="565"/>
                    </a:lnTo>
                    <a:lnTo>
                      <a:pt x="359" y="477"/>
                    </a:lnTo>
                    <a:lnTo>
                      <a:pt x="309" y="759"/>
                    </a:lnTo>
                    <a:lnTo>
                      <a:pt x="255" y="477"/>
                    </a:lnTo>
                    <a:lnTo>
                      <a:pt x="0" y="565"/>
                    </a:lnTo>
                    <a:lnTo>
                      <a:pt x="201" y="38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