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32840" cy="6845400"/>
            <a:chOff x="0" y="6480"/>
            <a:chExt cx="913284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0" y="6480"/>
              <a:ext cx="9132840" cy="6845400"/>
              <a:chOff x="0" y="6480"/>
              <a:chExt cx="9132840" cy="68454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480"/>
                <a:ext cx="9132840" cy="6845400"/>
              </a:xfrm>
              <a:prstGeom prst="rect">
                <a:avLst/>
              </a:prstGeom>
              <a:gradFill rotWithShape="0">
                <a:gsLst>
                  <a:gs pos="0">
                    <a:srgbClr val="050014"/>
                  </a:gs>
                  <a:gs pos="100000">
                    <a:srgbClr val="373343"/>
                  </a:gs>
                </a:gsLst>
                <a:path path="rect">
                  <a:fillToRect l="100000" t="100000" r="0" b="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480"/>
                <a:ext cx="8567640" cy="6267600"/>
              </a:xfrm>
              <a:prstGeom prst="rect">
                <a:avLst/>
              </a:prstGeom>
              <a:solidFill>
                <a:srgbClr val="8453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" name=""/>
            <p:cNvSpPr/>
            <p:nvPr/>
          </p:nvSpPr>
          <p:spPr>
            <a:xfrm>
              <a:off x="457200" y="1330200"/>
              <a:ext cx="8669160" cy="85680"/>
            </a:xfrm>
            <a:prstGeom prst="rect">
              <a:avLst/>
            </a:prstGeom>
            <a:solidFill>
              <a:srgbClr val="dc0081"/>
            </a:solidFill>
            <a:ln w="0">
              <a:noFill/>
            </a:ln>
          </p:spPr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45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23508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170172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192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192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