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gradFill rotWithShape="0">
                <a:gsLst>
                  <a:gs pos="0">
                    <a:srgbClr val="bf9555"/>
                  </a:gs>
                  <a:gs pos="100000">
                    <a:srgbClr val="85683b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372960" y="5943600"/>
                <a:ext cx="8398440" cy="762480"/>
                <a:chOff x="372960" y="5943600"/>
                <a:chExt cx="8398440" cy="76248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7296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b5d2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08432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b5d2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179388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b5d2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50524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b5d2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21480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b5d2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27600" y="5943600"/>
                  <a:ext cx="579960" cy="762480"/>
                </a:xfrm>
                <a:custGeom>
                  <a:avLst/>
                  <a:gdLst/>
                  <a:ahLst/>
                  <a:rect l="0" t="0" r="r" b="b"/>
                  <a:pathLst>
                    <a:path w="1611" h="2118">
                      <a:moveTo>
                        <a:pt x="0" y="0"/>
                      </a:moveTo>
                      <a:lnTo>
                        <a:pt x="1611" y="0"/>
                      </a:lnTo>
                      <a:lnTo>
                        <a:pt x="1611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09" y="530"/>
                      </a:lnTo>
                      <a:lnTo>
                        <a:pt x="1209" y="1588"/>
                      </a:lnTo>
                      <a:lnTo>
                        <a:pt x="402" y="1588"/>
                      </a:lnTo>
                      <a:lnTo>
                        <a:pt x="402" y="1059"/>
                      </a:lnTo>
                      <a:lnTo>
                        <a:pt x="604" y="1059"/>
                      </a:lnTo>
                      <a:lnTo>
                        <a:pt x="604" y="1323"/>
                      </a:lnTo>
                      <a:lnTo>
                        <a:pt x="1006" y="1323"/>
                      </a:lnTo>
                      <a:lnTo>
                        <a:pt x="1006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0" y="1854"/>
                      </a:lnTo>
                      <a:lnTo>
                        <a:pt x="1410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b5d2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4637160" y="5943600"/>
                  <a:ext cx="579960" cy="762480"/>
                </a:xfrm>
                <a:custGeom>
                  <a:avLst/>
                  <a:gdLst/>
                  <a:ahLst/>
                  <a:rect l="0" t="0" r="r" b="b"/>
                  <a:pathLst>
                    <a:path w="1611" h="2118">
                      <a:moveTo>
                        <a:pt x="0" y="0"/>
                      </a:moveTo>
                      <a:lnTo>
                        <a:pt x="1611" y="0"/>
                      </a:lnTo>
                      <a:lnTo>
                        <a:pt x="1611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09" y="530"/>
                      </a:lnTo>
                      <a:lnTo>
                        <a:pt x="1209" y="1588"/>
                      </a:lnTo>
                      <a:lnTo>
                        <a:pt x="402" y="1588"/>
                      </a:lnTo>
                      <a:lnTo>
                        <a:pt x="402" y="1059"/>
                      </a:lnTo>
                      <a:lnTo>
                        <a:pt x="604" y="1059"/>
                      </a:lnTo>
                      <a:lnTo>
                        <a:pt x="604" y="1323"/>
                      </a:lnTo>
                      <a:lnTo>
                        <a:pt x="1006" y="1323"/>
                      </a:lnTo>
                      <a:lnTo>
                        <a:pt x="1006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0" y="1854"/>
                      </a:lnTo>
                      <a:lnTo>
                        <a:pt x="1410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b5d2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534816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b5d2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05772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b5d2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676908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b5d2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47864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b5d2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90000" y="5943600"/>
                  <a:ext cx="581400" cy="762480"/>
                </a:xfrm>
                <a:custGeom>
                  <a:avLst/>
                  <a:gdLst/>
                  <a:ahLst/>
                  <a:rect l="0" t="0" r="r" b="b"/>
                  <a:pathLst>
                    <a:path w="1615" h="2118">
                      <a:moveTo>
                        <a:pt x="0" y="0"/>
                      </a:moveTo>
                      <a:lnTo>
                        <a:pt x="1615" y="0"/>
                      </a:lnTo>
                      <a:lnTo>
                        <a:pt x="1615" y="2118"/>
                      </a:lnTo>
                      <a:lnTo>
                        <a:pt x="0" y="2118"/>
                      </a:lnTo>
                      <a:lnTo>
                        <a:pt x="0" y="530"/>
                      </a:lnTo>
                      <a:lnTo>
                        <a:pt x="1212" y="530"/>
                      </a:lnTo>
                      <a:lnTo>
                        <a:pt x="1212" y="1588"/>
                      </a:lnTo>
                      <a:lnTo>
                        <a:pt x="403" y="1588"/>
                      </a:lnTo>
                      <a:lnTo>
                        <a:pt x="403" y="1059"/>
                      </a:lnTo>
                      <a:lnTo>
                        <a:pt x="606" y="1059"/>
                      </a:lnTo>
                      <a:lnTo>
                        <a:pt x="606" y="1323"/>
                      </a:lnTo>
                      <a:lnTo>
                        <a:pt x="1009" y="1323"/>
                      </a:lnTo>
                      <a:lnTo>
                        <a:pt x="1009" y="794"/>
                      </a:lnTo>
                      <a:lnTo>
                        <a:pt x="201" y="794"/>
                      </a:lnTo>
                      <a:lnTo>
                        <a:pt x="201" y="1854"/>
                      </a:lnTo>
                      <a:lnTo>
                        <a:pt x="1414" y="1854"/>
                      </a:lnTo>
                      <a:lnTo>
                        <a:pt x="1414" y="264"/>
                      </a:lnTo>
                      <a:lnTo>
                        <a:pt x="0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b5d2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355680" y="0"/>
              <a:ext cx="8432640" cy="582948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e5caa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144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5caa2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5238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e5caa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e5caa2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e5caa2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e5caa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57b4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