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76841"/>
                </a:gs>
                <a:gs pos="100000">
                  <a:srgbClr val="03342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w="25560">
                <a:solidFill>
                  <a:srgbClr val="f8a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w="76320">
                <a:solidFill>
                  <a:srgbClr val="f8a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4440" y="26676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8a8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8a8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8a8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8a8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8a8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8a8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8a8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