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84040" y="358920"/>
            <a:ext cx="8577360" cy="6067440"/>
            <a:chOff x="284040" y="358920"/>
            <a:chExt cx="8577360" cy="6067440"/>
          </a:xfrm>
        </p:grpSpPr>
        <p:grpSp>
          <p:nvGrpSpPr>
            <p:cNvPr id="1" name=""/>
            <p:cNvGrpSpPr/>
            <p:nvPr/>
          </p:nvGrpSpPr>
          <p:grpSpPr>
            <a:xfrm>
              <a:off x="284040" y="358920"/>
              <a:ext cx="8577360" cy="6067440"/>
              <a:chOff x="284040" y="358920"/>
              <a:chExt cx="8577360" cy="6067440"/>
            </a:xfrm>
          </p:grpSpPr>
          <p:sp>
            <p:nvSpPr>
              <p:cNvPr id="2" name=""/>
              <p:cNvSpPr/>
              <p:nvPr/>
            </p:nvSpPr>
            <p:spPr>
              <a:xfrm>
                <a:off x="284040" y="3589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284040" y="5875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84040" y="8161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284040" y="10447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84040" y="12733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84040" y="15019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84040" y="17305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84040" y="19591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4040" y="21877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84040" y="24163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84040" y="26449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84040" y="28735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84040" y="31021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84040" y="33307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84040" y="35593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84040" y="37879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84040" y="40165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284040" y="42451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4040" y="44737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84040" y="47023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84040" y="49309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84040" y="51595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84040" y="53881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84040" y="56167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84040" y="58453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4040" y="60739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84040" y="6302520"/>
                <a:ext cx="8577360" cy="123840"/>
              </a:xfrm>
              <a:prstGeom prst="rect">
                <a:avLst/>
              </a:prstGeom>
              <a:solidFill>
                <a:srgbClr val="79001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457200" y="1600200"/>
              <a:ext cx="8229600" cy="4724280"/>
            </a:xfrm>
            <a:prstGeom prst="rect">
              <a:avLst/>
            </a:prstGeom>
            <a:solidFill>
              <a:srgbClr val="790015"/>
            </a:solidFill>
            <a:ln w="12600">
              <a:solidFill>
                <a:srgbClr val="f7816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00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7816a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7524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7816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816a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7816a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7816a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816a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7816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