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7520" cy="6845400"/>
            <a:chOff x="0" y="0"/>
            <a:chExt cx="913752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1400" cy="684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fef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8600" y="609480"/>
              <a:ext cx="8686800" cy="563868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9137520" cy="6845400"/>
              <a:chOff x="0" y="0"/>
              <a:chExt cx="9137520" cy="6845400"/>
            </a:xfrm>
          </p:grpSpPr>
          <p:grpSp>
            <p:nvGrpSpPr>
              <p:cNvPr id="4" name=""/>
              <p:cNvGrpSpPr/>
              <p:nvPr/>
            </p:nvGrpSpPr>
            <p:grpSpPr>
              <a:xfrm>
                <a:off x="0" y="0"/>
                <a:ext cx="9131400" cy="457200"/>
                <a:chOff x="0" y="0"/>
                <a:chExt cx="9131400" cy="4572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0" y="0"/>
                  <a:ext cx="457200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760f9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4572000" y="0"/>
                  <a:ext cx="455940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19191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6480" y="6400800"/>
                <a:ext cx="9131040" cy="444600"/>
                <a:chOff x="6480" y="6400800"/>
                <a:chExt cx="9131040" cy="444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6480" y="6400800"/>
                  <a:ext cx="4565520" cy="44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19191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4572000" y="6400800"/>
                  <a:ext cx="4565520" cy="44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760f9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c0fef9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c0fef9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c0fef9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c0fef9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c0fef9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c0fef9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