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7200" cy="3400920"/>
            <a:chOff x="0" y="0"/>
            <a:chExt cx="8287200" cy="340092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3080" cy="2330640"/>
            </a:xfrm>
            <a:custGeom>
              <a:avLst/>
              <a:gdLst/>
              <a:ahLst/>
              <a:rect l="0" t="0" r="r" b="b"/>
              <a:pathLst>
                <a:path w="15453" h="6474">
                  <a:moveTo>
                    <a:pt x="1852" y="4110"/>
                  </a:moveTo>
                  <a:lnTo>
                    <a:pt x="1719" y="4274"/>
                  </a:lnTo>
                  <a:lnTo>
                    <a:pt x="1587" y="4472"/>
                  </a:lnTo>
                  <a:lnTo>
                    <a:pt x="1508" y="4657"/>
                  </a:lnTo>
                  <a:lnTo>
                    <a:pt x="1481" y="4878"/>
                  </a:lnTo>
                  <a:lnTo>
                    <a:pt x="1481" y="5094"/>
                  </a:lnTo>
                  <a:lnTo>
                    <a:pt x="1534" y="5376"/>
                  </a:lnTo>
                  <a:lnTo>
                    <a:pt x="1666" y="5570"/>
                  </a:lnTo>
                  <a:lnTo>
                    <a:pt x="1852" y="5782"/>
                  </a:lnTo>
                  <a:lnTo>
                    <a:pt x="2222" y="6121"/>
                  </a:lnTo>
                  <a:lnTo>
                    <a:pt x="2566" y="6271"/>
                  </a:lnTo>
                  <a:lnTo>
                    <a:pt x="2936" y="6373"/>
                  </a:lnTo>
                  <a:lnTo>
                    <a:pt x="3241" y="6430"/>
                  </a:lnTo>
                  <a:lnTo>
                    <a:pt x="3624" y="6465"/>
                  </a:lnTo>
                  <a:lnTo>
                    <a:pt x="4049" y="6474"/>
                  </a:lnTo>
                  <a:lnTo>
                    <a:pt x="4538" y="6461"/>
                  </a:lnTo>
                  <a:lnTo>
                    <a:pt x="4922" y="6417"/>
                  </a:lnTo>
                  <a:lnTo>
                    <a:pt x="5358" y="6328"/>
                  </a:lnTo>
                  <a:lnTo>
                    <a:pt x="5768" y="6192"/>
                  </a:lnTo>
                  <a:lnTo>
                    <a:pt x="6152" y="6024"/>
                  </a:lnTo>
                  <a:lnTo>
                    <a:pt x="6615" y="5738"/>
                  </a:lnTo>
                  <a:lnTo>
                    <a:pt x="6880" y="5557"/>
                  </a:lnTo>
                  <a:lnTo>
                    <a:pt x="7144" y="5376"/>
                  </a:lnTo>
                  <a:lnTo>
                    <a:pt x="7409" y="5133"/>
                  </a:lnTo>
                  <a:lnTo>
                    <a:pt x="7621" y="4926"/>
                  </a:lnTo>
                  <a:lnTo>
                    <a:pt x="7806" y="4697"/>
                  </a:lnTo>
                  <a:lnTo>
                    <a:pt x="8031" y="4472"/>
                  </a:lnTo>
                  <a:lnTo>
                    <a:pt x="8269" y="4287"/>
                  </a:lnTo>
                  <a:lnTo>
                    <a:pt x="8520" y="4119"/>
                  </a:lnTo>
                  <a:lnTo>
                    <a:pt x="8838" y="3943"/>
                  </a:lnTo>
                  <a:lnTo>
                    <a:pt x="9208" y="3797"/>
                  </a:lnTo>
                  <a:lnTo>
                    <a:pt x="9618" y="3678"/>
                  </a:lnTo>
                  <a:lnTo>
                    <a:pt x="10015" y="3581"/>
                  </a:lnTo>
                  <a:lnTo>
                    <a:pt x="10399" y="3506"/>
                  </a:lnTo>
                  <a:lnTo>
                    <a:pt x="10862" y="3449"/>
                  </a:lnTo>
                  <a:lnTo>
                    <a:pt x="11325" y="3440"/>
                  </a:lnTo>
                  <a:lnTo>
                    <a:pt x="11802" y="3436"/>
                  </a:lnTo>
                  <a:lnTo>
                    <a:pt x="13019" y="3480"/>
                  </a:lnTo>
                  <a:lnTo>
                    <a:pt x="14289" y="3616"/>
                  </a:lnTo>
                  <a:lnTo>
                    <a:pt x="15453" y="3841"/>
                  </a:lnTo>
                  <a:lnTo>
                    <a:pt x="10848" y="0"/>
                  </a:lnTo>
                  <a:lnTo>
                    <a:pt x="0" y="0"/>
                  </a:lnTo>
                  <a:lnTo>
                    <a:pt x="1852" y="4110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e0e0e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1040" cy="779760"/>
            </a:xfrm>
            <a:custGeom>
              <a:avLst/>
              <a:gdLst/>
              <a:ahLst/>
              <a:rect l="0" t="0" r="r" b="b"/>
              <a:pathLst>
                <a:path w="3864" h="2166">
                  <a:moveTo>
                    <a:pt x="3864" y="701"/>
                  </a:moveTo>
                  <a:lnTo>
                    <a:pt x="3812" y="868"/>
                  </a:lnTo>
                  <a:lnTo>
                    <a:pt x="3719" y="974"/>
                  </a:lnTo>
                  <a:lnTo>
                    <a:pt x="3547" y="1045"/>
                  </a:lnTo>
                  <a:lnTo>
                    <a:pt x="3348" y="1094"/>
                  </a:lnTo>
                  <a:lnTo>
                    <a:pt x="3071" y="1116"/>
                  </a:lnTo>
                  <a:lnTo>
                    <a:pt x="2699" y="1107"/>
                  </a:lnTo>
                  <a:lnTo>
                    <a:pt x="2263" y="1094"/>
                  </a:lnTo>
                  <a:lnTo>
                    <a:pt x="1919" y="1116"/>
                  </a:lnTo>
                  <a:lnTo>
                    <a:pt x="1628" y="1147"/>
                  </a:lnTo>
                  <a:lnTo>
                    <a:pt x="1403" y="1200"/>
                  </a:lnTo>
                  <a:lnTo>
                    <a:pt x="1213" y="1248"/>
                  </a:lnTo>
                  <a:lnTo>
                    <a:pt x="1032" y="1345"/>
                  </a:lnTo>
                  <a:lnTo>
                    <a:pt x="912" y="1442"/>
                  </a:lnTo>
                  <a:lnTo>
                    <a:pt x="793" y="1614"/>
                  </a:lnTo>
                  <a:lnTo>
                    <a:pt x="754" y="1769"/>
                  </a:lnTo>
                  <a:lnTo>
                    <a:pt x="767" y="1928"/>
                  </a:lnTo>
                  <a:lnTo>
                    <a:pt x="842" y="2166"/>
                  </a:lnTo>
                  <a:lnTo>
                    <a:pt x="595" y="1941"/>
                  </a:lnTo>
                  <a:lnTo>
                    <a:pt x="410" y="1738"/>
                  </a:lnTo>
                  <a:lnTo>
                    <a:pt x="264" y="1544"/>
                  </a:lnTo>
                  <a:lnTo>
                    <a:pt x="127" y="1271"/>
                  </a:lnTo>
                  <a:lnTo>
                    <a:pt x="66" y="1040"/>
                  </a:lnTo>
                  <a:lnTo>
                    <a:pt x="8" y="789"/>
                  </a:lnTo>
                  <a:lnTo>
                    <a:pt x="0" y="551"/>
                  </a:lnTo>
                  <a:lnTo>
                    <a:pt x="13" y="352"/>
                  </a:lnTo>
                  <a:lnTo>
                    <a:pt x="189" y="286"/>
                  </a:lnTo>
                  <a:lnTo>
                    <a:pt x="480" y="211"/>
                  </a:lnTo>
                  <a:lnTo>
                    <a:pt x="833" y="132"/>
                  </a:lnTo>
                  <a:lnTo>
                    <a:pt x="1218" y="52"/>
                  </a:lnTo>
                  <a:lnTo>
                    <a:pt x="1601" y="0"/>
                  </a:lnTo>
                  <a:lnTo>
                    <a:pt x="2038" y="0"/>
                  </a:lnTo>
                  <a:lnTo>
                    <a:pt x="2421" y="22"/>
                  </a:lnTo>
                  <a:lnTo>
                    <a:pt x="2832" y="88"/>
                  </a:lnTo>
                  <a:lnTo>
                    <a:pt x="3163" y="167"/>
                  </a:lnTo>
                  <a:lnTo>
                    <a:pt x="3348" y="238"/>
                  </a:lnTo>
                  <a:lnTo>
                    <a:pt x="3560" y="379"/>
                  </a:lnTo>
                  <a:lnTo>
                    <a:pt x="3732" y="551"/>
                  </a:lnTo>
                  <a:lnTo>
                    <a:pt x="3864" y="701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2360" cy="3400920"/>
            </a:xfrm>
            <a:custGeom>
              <a:avLst/>
              <a:gdLst/>
              <a:ahLst/>
              <a:rect l="0" t="0" r="r" b="b"/>
              <a:pathLst>
                <a:path w="12701" h="9447">
                  <a:moveTo>
                    <a:pt x="0" y="9447"/>
                  </a:moveTo>
                  <a:lnTo>
                    <a:pt x="357" y="8962"/>
                  </a:lnTo>
                  <a:lnTo>
                    <a:pt x="806" y="8503"/>
                  </a:lnTo>
                  <a:lnTo>
                    <a:pt x="1217" y="8085"/>
                  </a:lnTo>
                  <a:lnTo>
                    <a:pt x="1631" y="7657"/>
                  </a:lnTo>
                  <a:lnTo>
                    <a:pt x="2063" y="7291"/>
                  </a:lnTo>
                  <a:lnTo>
                    <a:pt x="2517" y="6933"/>
                  </a:lnTo>
                  <a:lnTo>
                    <a:pt x="3139" y="6527"/>
                  </a:lnTo>
                  <a:lnTo>
                    <a:pt x="3633" y="6218"/>
                  </a:lnTo>
                  <a:lnTo>
                    <a:pt x="4691" y="5667"/>
                  </a:lnTo>
                  <a:lnTo>
                    <a:pt x="5745" y="5213"/>
                  </a:lnTo>
                  <a:lnTo>
                    <a:pt x="6774" y="4864"/>
                  </a:lnTo>
                  <a:lnTo>
                    <a:pt x="7748" y="4538"/>
                  </a:lnTo>
                  <a:lnTo>
                    <a:pt x="8824" y="4225"/>
                  </a:lnTo>
                  <a:lnTo>
                    <a:pt x="9248" y="4102"/>
                  </a:lnTo>
                  <a:lnTo>
                    <a:pt x="9711" y="3987"/>
                  </a:lnTo>
                  <a:lnTo>
                    <a:pt x="10094" y="3899"/>
                  </a:lnTo>
                  <a:lnTo>
                    <a:pt x="10518" y="3863"/>
                  </a:lnTo>
                  <a:lnTo>
                    <a:pt x="10888" y="3850"/>
                  </a:lnTo>
                  <a:lnTo>
                    <a:pt x="11285" y="3885"/>
                  </a:lnTo>
                  <a:lnTo>
                    <a:pt x="11616" y="3938"/>
                  </a:lnTo>
                  <a:lnTo>
                    <a:pt x="11920" y="4022"/>
                  </a:lnTo>
                  <a:lnTo>
                    <a:pt x="12211" y="4141"/>
                  </a:lnTo>
                  <a:lnTo>
                    <a:pt x="12476" y="4318"/>
                  </a:lnTo>
                  <a:lnTo>
                    <a:pt x="12701" y="4565"/>
                  </a:lnTo>
                  <a:lnTo>
                    <a:pt x="12687" y="4326"/>
                  </a:lnTo>
                  <a:lnTo>
                    <a:pt x="12648" y="4159"/>
                  </a:lnTo>
                  <a:lnTo>
                    <a:pt x="12555" y="3943"/>
                  </a:lnTo>
                  <a:lnTo>
                    <a:pt x="12423" y="3762"/>
                  </a:lnTo>
                  <a:lnTo>
                    <a:pt x="12264" y="3599"/>
                  </a:lnTo>
                  <a:lnTo>
                    <a:pt x="12092" y="3436"/>
                  </a:lnTo>
                  <a:lnTo>
                    <a:pt x="8308" y="0"/>
                  </a:lnTo>
                  <a:lnTo>
                    <a:pt x="0" y="0"/>
                  </a:lnTo>
                  <a:lnTo>
                    <a:pt x="0" y="944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49494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4520" cy="2867400"/>
              <a:chOff x="0" y="0"/>
              <a:chExt cx="4394520" cy="28674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2600" cy="991080"/>
              </a:xfrm>
              <a:custGeom>
                <a:avLst/>
                <a:gdLst/>
                <a:ahLst/>
                <a:rect l="0" t="0" r="r" b="b"/>
                <a:pathLst>
                  <a:path w="8785" h="2753">
                    <a:moveTo>
                      <a:pt x="0" y="1773"/>
                    </a:moveTo>
                    <a:lnTo>
                      <a:pt x="476" y="1548"/>
                    </a:lnTo>
                    <a:lnTo>
                      <a:pt x="992" y="1315"/>
                    </a:lnTo>
                    <a:lnTo>
                      <a:pt x="1618" y="1046"/>
                    </a:lnTo>
                    <a:lnTo>
                      <a:pt x="2178" y="838"/>
                    </a:lnTo>
                    <a:lnTo>
                      <a:pt x="2808" y="635"/>
                    </a:lnTo>
                    <a:lnTo>
                      <a:pt x="3373" y="476"/>
                    </a:lnTo>
                    <a:lnTo>
                      <a:pt x="4105" y="299"/>
                    </a:lnTo>
                    <a:lnTo>
                      <a:pt x="4662" y="171"/>
                    </a:lnTo>
                    <a:lnTo>
                      <a:pt x="5125" y="92"/>
                    </a:lnTo>
                    <a:lnTo>
                      <a:pt x="5548" y="30"/>
                    </a:lnTo>
                    <a:lnTo>
                      <a:pt x="6130" y="13"/>
                    </a:lnTo>
                    <a:lnTo>
                      <a:pt x="8308" y="0"/>
                    </a:lnTo>
                    <a:lnTo>
                      <a:pt x="8785" y="423"/>
                    </a:lnTo>
                    <a:lnTo>
                      <a:pt x="8141" y="423"/>
                    </a:lnTo>
                    <a:lnTo>
                      <a:pt x="7528" y="449"/>
                    </a:lnTo>
                    <a:lnTo>
                      <a:pt x="6871" y="502"/>
                    </a:lnTo>
                    <a:lnTo>
                      <a:pt x="6337" y="568"/>
                    </a:lnTo>
                    <a:lnTo>
                      <a:pt x="5742" y="670"/>
                    </a:lnTo>
                    <a:lnTo>
                      <a:pt x="5235" y="768"/>
                    </a:lnTo>
                    <a:lnTo>
                      <a:pt x="4697" y="891"/>
                    </a:lnTo>
                    <a:lnTo>
                      <a:pt x="4220" y="1024"/>
                    </a:lnTo>
                    <a:lnTo>
                      <a:pt x="3902" y="1112"/>
                    </a:lnTo>
                    <a:lnTo>
                      <a:pt x="3223" y="1297"/>
                    </a:lnTo>
                    <a:lnTo>
                      <a:pt x="2469" y="1535"/>
                    </a:lnTo>
                    <a:lnTo>
                      <a:pt x="1785" y="1800"/>
                    </a:lnTo>
                    <a:lnTo>
                      <a:pt x="1009" y="2145"/>
                    </a:lnTo>
                    <a:lnTo>
                      <a:pt x="573" y="2356"/>
                    </a:lnTo>
                    <a:lnTo>
                      <a:pt x="238" y="2568"/>
                    </a:lnTo>
                    <a:lnTo>
                      <a:pt x="0" y="2753"/>
                    </a:lnTo>
                    <a:lnTo>
                      <a:pt x="0" y="177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4240" cy="1781640"/>
              </a:xfrm>
              <a:custGeom>
                <a:avLst/>
                <a:gdLst/>
                <a:ahLst/>
                <a:rect l="0" t="0" r="r" b="b"/>
                <a:pathLst>
                  <a:path w="10734" h="4949">
                    <a:moveTo>
                      <a:pt x="0" y="2765"/>
                    </a:moveTo>
                    <a:lnTo>
                      <a:pt x="542" y="2382"/>
                    </a:lnTo>
                    <a:lnTo>
                      <a:pt x="1177" y="1972"/>
                    </a:lnTo>
                    <a:lnTo>
                      <a:pt x="1763" y="1681"/>
                    </a:lnTo>
                    <a:lnTo>
                      <a:pt x="2447" y="1390"/>
                    </a:lnTo>
                    <a:lnTo>
                      <a:pt x="3126" y="1124"/>
                    </a:lnTo>
                    <a:lnTo>
                      <a:pt x="3902" y="886"/>
                    </a:lnTo>
                    <a:lnTo>
                      <a:pt x="4678" y="648"/>
                    </a:lnTo>
                    <a:lnTo>
                      <a:pt x="5433" y="463"/>
                    </a:lnTo>
                    <a:lnTo>
                      <a:pt x="6161" y="330"/>
                    </a:lnTo>
                    <a:lnTo>
                      <a:pt x="6844" y="198"/>
                    </a:lnTo>
                    <a:lnTo>
                      <a:pt x="7409" y="92"/>
                    </a:lnTo>
                    <a:lnTo>
                      <a:pt x="8066" y="13"/>
                    </a:lnTo>
                    <a:lnTo>
                      <a:pt x="8595" y="0"/>
                    </a:lnTo>
                    <a:lnTo>
                      <a:pt x="9080" y="4"/>
                    </a:lnTo>
                    <a:lnTo>
                      <a:pt x="9331" y="13"/>
                    </a:lnTo>
                    <a:lnTo>
                      <a:pt x="10734" y="1293"/>
                    </a:lnTo>
                    <a:lnTo>
                      <a:pt x="10377" y="1234"/>
                    </a:lnTo>
                    <a:lnTo>
                      <a:pt x="9922" y="1203"/>
                    </a:lnTo>
                    <a:lnTo>
                      <a:pt x="9503" y="1203"/>
                    </a:lnTo>
                    <a:lnTo>
                      <a:pt x="8992" y="1244"/>
                    </a:lnTo>
                    <a:lnTo>
                      <a:pt x="8326" y="1337"/>
                    </a:lnTo>
                    <a:lnTo>
                      <a:pt x="7903" y="1407"/>
                    </a:lnTo>
                    <a:lnTo>
                      <a:pt x="7479" y="1495"/>
                    </a:lnTo>
                    <a:lnTo>
                      <a:pt x="6514" y="1707"/>
                    </a:lnTo>
                    <a:lnTo>
                      <a:pt x="5548" y="1958"/>
                    </a:lnTo>
                    <a:lnTo>
                      <a:pt x="4819" y="2197"/>
                    </a:lnTo>
                    <a:lnTo>
                      <a:pt x="4131" y="2408"/>
                    </a:lnTo>
                    <a:lnTo>
                      <a:pt x="3364" y="2739"/>
                    </a:lnTo>
                    <a:lnTo>
                      <a:pt x="2540" y="3109"/>
                    </a:lnTo>
                    <a:lnTo>
                      <a:pt x="1812" y="3506"/>
                    </a:lnTo>
                    <a:lnTo>
                      <a:pt x="1318" y="3803"/>
                    </a:lnTo>
                    <a:lnTo>
                      <a:pt x="881" y="4120"/>
                    </a:lnTo>
                    <a:lnTo>
                      <a:pt x="507" y="4433"/>
                    </a:lnTo>
                    <a:lnTo>
                      <a:pt x="0" y="4949"/>
                    </a:lnTo>
                    <a:lnTo>
                      <a:pt x="0" y="276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4520" cy="1914840"/>
              </a:xfrm>
              <a:custGeom>
                <a:avLst/>
                <a:gdLst/>
                <a:ahLst/>
                <a:rect l="0" t="0" r="r" b="b"/>
                <a:pathLst>
                  <a:path w="12207" h="5319">
                    <a:moveTo>
                      <a:pt x="0" y="4260"/>
                    </a:moveTo>
                    <a:lnTo>
                      <a:pt x="282" y="3969"/>
                    </a:lnTo>
                    <a:lnTo>
                      <a:pt x="754" y="3524"/>
                    </a:lnTo>
                    <a:lnTo>
                      <a:pt x="1221" y="3158"/>
                    </a:lnTo>
                    <a:lnTo>
                      <a:pt x="1618" y="2862"/>
                    </a:lnTo>
                    <a:lnTo>
                      <a:pt x="1905" y="2650"/>
                    </a:lnTo>
                    <a:lnTo>
                      <a:pt x="2235" y="2447"/>
                    </a:lnTo>
                    <a:lnTo>
                      <a:pt x="2610" y="2222"/>
                    </a:lnTo>
                    <a:lnTo>
                      <a:pt x="3197" y="1931"/>
                    </a:lnTo>
                    <a:lnTo>
                      <a:pt x="3858" y="1613"/>
                    </a:lnTo>
                    <a:lnTo>
                      <a:pt x="4656" y="1296"/>
                    </a:lnTo>
                    <a:lnTo>
                      <a:pt x="5432" y="1005"/>
                    </a:lnTo>
                    <a:lnTo>
                      <a:pt x="6139" y="793"/>
                    </a:lnTo>
                    <a:lnTo>
                      <a:pt x="6915" y="582"/>
                    </a:lnTo>
                    <a:lnTo>
                      <a:pt x="7665" y="396"/>
                    </a:lnTo>
                    <a:lnTo>
                      <a:pt x="8441" y="238"/>
                    </a:lnTo>
                    <a:lnTo>
                      <a:pt x="9217" y="119"/>
                    </a:lnTo>
                    <a:lnTo>
                      <a:pt x="9781" y="52"/>
                    </a:lnTo>
                    <a:lnTo>
                      <a:pt x="10377" y="4"/>
                    </a:lnTo>
                    <a:lnTo>
                      <a:pt x="10840" y="0"/>
                    </a:lnTo>
                    <a:lnTo>
                      <a:pt x="11263" y="30"/>
                    </a:lnTo>
                    <a:lnTo>
                      <a:pt x="12207" y="868"/>
                    </a:lnTo>
                    <a:lnTo>
                      <a:pt x="11805" y="661"/>
                    </a:lnTo>
                    <a:lnTo>
                      <a:pt x="11457" y="555"/>
                    </a:lnTo>
                    <a:lnTo>
                      <a:pt x="11091" y="520"/>
                    </a:lnTo>
                    <a:lnTo>
                      <a:pt x="10769" y="529"/>
                    </a:lnTo>
                    <a:lnTo>
                      <a:pt x="10416" y="546"/>
                    </a:lnTo>
                    <a:lnTo>
                      <a:pt x="10041" y="582"/>
                    </a:lnTo>
                    <a:lnTo>
                      <a:pt x="9592" y="648"/>
                    </a:lnTo>
                    <a:lnTo>
                      <a:pt x="9195" y="714"/>
                    </a:lnTo>
                    <a:lnTo>
                      <a:pt x="8278" y="899"/>
                    </a:lnTo>
                    <a:lnTo>
                      <a:pt x="7241" y="1137"/>
                    </a:lnTo>
                    <a:lnTo>
                      <a:pt x="6514" y="1349"/>
                    </a:lnTo>
                    <a:lnTo>
                      <a:pt x="5785" y="1587"/>
                    </a:lnTo>
                    <a:lnTo>
                      <a:pt x="4938" y="1905"/>
                    </a:lnTo>
                    <a:lnTo>
                      <a:pt x="4140" y="2248"/>
                    </a:lnTo>
                    <a:lnTo>
                      <a:pt x="3316" y="2645"/>
                    </a:lnTo>
                    <a:lnTo>
                      <a:pt x="2901" y="2884"/>
                    </a:lnTo>
                    <a:lnTo>
                      <a:pt x="2517" y="3123"/>
                    </a:lnTo>
                    <a:lnTo>
                      <a:pt x="1856" y="3572"/>
                    </a:lnTo>
                    <a:lnTo>
                      <a:pt x="1362" y="3996"/>
                    </a:lnTo>
                    <a:lnTo>
                      <a:pt x="895" y="4419"/>
                    </a:lnTo>
                    <a:lnTo>
                      <a:pt x="410" y="4882"/>
                    </a:lnTo>
                    <a:lnTo>
                      <a:pt x="0" y="5319"/>
                    </a:lnTo>
                    <a:lnTo>
                      <a:pt x="0" y="426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6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6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