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723960"/>
              <a:chOff x="0" y="0"/>
              <a:chExt cx="9131400" cy="7239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723960"/>
              </a:xfrm>
              <a:prstGeom prst="rect">
                <a:avLst/>
              </a:prstGeom>
              <a:gradFill rotWithShape="0">
                <a:gsLst>
                  <a:gs pos="0">
                    <a:srgbClr val="993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0" y="209520"/>
                <a:ext cx="8761680" cy="464040"/>
                <a:chOff x="0" y="209520"/>
                <a:chExt cx="8761680" cy="46404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0" y="628560"/>
                  <a:ext cx="6934320" cy="25560"/>
                  <a:chOff x="0" y="628560"/>
                  <a:chExt cx="6934320" cy="255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0" y="628560"/>
                    <a:ext cx="5935680" cy="25560"/>
                  </a:xfrm>
                  <a:prstGeom prst="rect">
                    <a:avLst/>
                  </a:prstGeom>
                  <a:solidFill>
                    <a:srgbClr val="9234db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5924520" y="628560"/>
                    <a:ext cx="1009800" cy="25560"/>
                  </a:xfrm>
                  <a:prstGeom prst="rect">
                    <a:avLst/>
                  </a:prstGeom>
                  <a:solidFill>
                    <a:srgbClr val="9234db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6880320" y="209520"/>
                  <a:ext cx="1881360" cy="464040"/>
                  <a:chOff x="6880320" y="209520"/>
                  <a:chExt cx="1881360" cy="46404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6962760" y="209520"/>
                    <a:ext cx="1798920" cy="464040"/>
                  </a:xfrm>
                  <a:custGeom>
                    <a:avLst/>
                    <a:gdLst/>
                    <a:ahLst/>
                    <a:rect l="0" t="0" r="r" b="b"/>
                    <a:pathLst>
                      <a:path w="4997" h="1289">
                        <a:moveTo>
                          <a:pt x="0" y="211"/>
                        </a:moveTo>
                        <a:lnTo>
                          <a:pt x="189" y="154"/>
                        </a:lnTo>
                        <a:lnTo>
                          <a:pt x="970" y="702"/>
                        </a:lnTo>
                        <a:lnTo>
                          <a:pt x="1023" y="733"/>
                        </a:lnTo>
                        <a:lnTo>
                          <a:pt x="1067" y="746"/>
                        </a:lnTo>
                        <a:lnTo>
                          <a:pt x="1102" y="750"/>
                        </a:lnTo>
                        <a:lnTo>
                          <a:pt x="1133" y="750"/>
                        </a:lnTo>
                        <a:lnTo>
                          <a:pt x="1168" y="750"/>
                        </a:lnTo>
                        <a:lnTo>
                          <a:pt x="1256" y="728"/>
                        </a:lnTo>
                        <a:lnTo>
                          <a:pt x="3974" y="79"/>
                        </a:lnTo>
                        <a:lnTo>
                          <a:pt x="4115" y="52"/>
                        </a:lnTo>
                        <a:lnTo>
                          <a:pt x="4238" y="26"/>
                        </a:lnTo>
                        <a:lnTo>
                          <a:pt x="4318" y="17"/>
                        </a:lnTo>
                        <a:lnTo>
                          <a:pt x="4423" y="8"/>
                        </a:lnTo>
                        <a:lnTo>
                          <a:pt x="4512" y="0"/>
                        </a:lnTo>
                        <a:lnTo>
                          <a:pt x="4595" y="8"/>
                        </a:lnTo>
                        <a:lnTo>
                          <a:pt x="4719" y="26"/>
                        </a:lnTo>
                        <a:lnTo>
                          <a:pt x="4798" y="48"/>
                        </a:lnTo>
                        <a:lnTo>
                          <a:pt x="4873" y="83"/>
                        </a:lnTo>
                        <a:lnTo>
                          <a:pt x="4957" y="123"/>
                        </a:lnTo>
                        <a:lnTo>
                          <a:pt x="4997" y="207"/>
                        </a:lnTo>
                        <a:lnTo>
                          <a:pt x="4970" y="277"/>
                        </a:lnTo>
                        <a:lnTo>
                          <a:pt x="4917" y="336"/>
                        </a:lnTo>
                        <a:lnTo>
                          <a:pt x="4851" y="389"/>
                        </a:lnTo>
                        <a:lnTo>
                          <a:pt x="4732" y="459"/>
                        </a:lnTo>
                        <a:lnTo>
                          <a:pt x="4582" y="521"/>
                        </a:lnTo>
                        <a:lnTo>
                          <a:pt x="4494" y="556"/>
                        </a:lnTo>
                        <a:lnTo>
                          <a:pt x="4393" y="587"/>
                        </a:lnTo>
                        <a:lnTo>
                          <a:pt x="4212" y="631"/>
                        </a:lnTo>
                        <a:lnTo>
                          <a:pt x="3960" y="688"/>
                        </a:lnTo>
                        <a:lnTo>
                          <a:pt x="1825" y="1170"/>
                        </a:lnTo>
                        <a:lnTo>
                          <a:pt x="1609" y="1210"/>
                        </a:lnTo>
                        <a:lnTo>
                          <a:pt x="1464" y="1236"/>
                        </a:lnTo>
                        <a:lnTo>
                          <a:pt x="1040" y="1276"/>
                        </a:lnTo>
                        <a:lnTo>
                          <a:pt x="714" y="1289"/>
                        </a:lnTo>
                        <a:lnTo>
                          <a:pt x="366" y="1280"/>
                        </a:lnTo>
                        <a:lnTo>
                          <a:pt x="264" y="1249"/>
                        </a:lnTo>
                        <a:lnTo>
                          <a:pt x="291" y="1232"/>
                        </a:lnTo>
                        <a:lnTo>
                          <a:pt x="273" y="1214"/>
                        </a:lnTo>
                        <a:lnTo>
                          <a:pt x="255" y="1214"/>
                        </a:lnTo>
                        <a:lnTo>
                          <a:pt x="233" y="1197"/>
                        </a:lnTo>
                        <a:lnTo>
                          <a:pt x="233" y="1179"/>
                        </a:lnTo>
                        <a:lnTo>
                          <a:pt x="246" y="1157"/>
                        </a:lnTo>
                        <a:lnTo>
                          <a:pt x="273" y="1135"/>
                        </a:lnTo>
                        <a:lnTo>
                          <a:pt x="343" y="1082"/>
                        </a:lnTo>
                        <a:lnTo>
                          <a:pt x="414" y="1051"/>
                        </a:lnTo>
                        <a:lnTo>
                          <a:pt x="436" y="1042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9234d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04160" y="487440"/>
                    <a:ext cx="368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024" h="354">
                        <a:moveTo>
                          <a:pt x="0" y="217"/>
                        </a:moveTo>
                        <a:lnTo>
                          <a:pt x="860" y="354"/>
                        </a:lnTo>
                        <a:lnTo>
                          <a:pt x="1024" y="266"/>
                        </a:lnTo>
                        <a:lnTo>
                          <a:pt x="931" y="0"/>
                        </a:lnTo>
                        <a:lnTo>
                          <a:pt x="0" y="217"/>
                        </a:lnTo>
                        <a:close/>
                      </a:path>
                    </a:pathLst>
                  </a:custGeom>
                  <a:solidFill>
                    <a:srgbClr val="9234d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880320" y="561960"/>
                    <a:ext cx="373320" cy="4968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138">
                        <a:moveTo>
                          <a:pt x="1037" y="60"/>
                        </a:moveTo>
                        <a:lnTo>
                          <a:pt x="1028" y="67"/>
                        </a:lnTo>
                        <a:lnTo>
                          <a:pt x="1024" y="74"/>
                        </a:lnTo>
                        <a:lnTo>
                          <a:pt x="1007" y="85"/>
                        </a:lnTo>
                        <a:lnTo>
                          <a:pt x="981" y="100"/>
                        </a:lnTo>
                        <a:lnTo>
                          <a:pt x="938" y="116"/>
                        </a:lnTo>
                        <a:lnTo>
                          <a:pt x="891" y="123"/>
                        </a:lnTo>
                        <a:lnTo>
                          <a:pt x="813" y="135"/>
                        </a:lnTo>
                        <a:lnTo>
                          <a:pt x="723" y="138"/>
                        </a:lnTo>
                        <a:lnTo>
                          <a:pt x="645" y="138"/>
                        </a:lnTo>
                        <a:lnTo>
                          <a:pt x="611" y="135"/>
                        </a:lnTo>
                        <a:lnTo>
                          <a:pt x="529" y="127"/>
                        </a:lnTo>
                        <a:lnTo>
                          <a:pt x="0" y="45"/>
                        </a:lnTo>
                        <a:lnTo>
                          <a:pt x="25" y="37"/>
                        </a:lnTo>
                        <a:lnTo>
                          <a:pt x="55" y="25"/>
                        </a:lnTo>
                        <a:lnTo>
                          <a:pt x="90" y="18"/>
                        </a:lnTo>
                        <a:lnTo>
                          <a:pt x="154" y="3"/>
                        </a:lnTo>
                        <a:lnTo>
                          <a:pt x="223" y="0"/>
                        </a:lnTo>
                        <a:lnTo>
                          <a:pt x="1037" y="60"/>
                        </a:lnTo>
                        <a:close/>
                      </a:path>
                    </a:pathLst>
                  </a:custGeom>
                  <a:solidFill>
                    <a:srgbClr val="9234db"/>
                  </a:solidFill>
                  <a:ln w="0">
                    <a:noFill/>
                  </a:ln>
                </p:spPr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054920" y="307800"/>
                    <a:ext cx="811440" cy="174960"/>
                  </a:xfrm>
                  <a:custGeom>
                    <a:avLst/>
                    <a:gdLst/>
                    <a:ahLst/>
                    <a:rect l="0" t="0" r="r" b="b"/>
                    <a:pathLst>
                      <a:path w="2254" h="486">
                        <a:moveTo>
                          <a:pt x="2254" y="318"/>
                        </a:moveTo>
                        <a:lnTo>
                          <a:pt x="202" y="0"/>
                        </a:lnTo>
                        <a:lnTo>
                          <a:pt x="0" y="61"/>
                        </a:lnTo>
                        <a:lnTo>
                          <a:pt x="811" y="296"/>
                        </a:lnTo>
                        <a:lnTo>
                          <a:pt x="1288" y="486"/>
                        </a:lnTo>
                        <a:lnTo>
                          <a:pt x="2254" y="318"/>
                        </a:lnTo>
                        <a:close/>
                      </a:path>
                    </a:pathLst>
                  </a:custGeom>
                  <a:solidFill>
                    <a:srgbClr val="9234d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" name=""/>
            <p:cNvGrpSpPr/>
            <p:nvPr/>
          </p:nvGrpSpPr>
          <p:grpSpPr>
            <a:xfrm>
              <a:off x="0" y="4610160"/>
              <a:ext cx="9131400" cy="2235240"/>
              <a:chOff x="0" y="4610160"/>
              <a:chExt cx="9131400" cy="2235240"/>
            </a:xfrm>
          </p:grpSpPr>
          <p:sp>
            <p:nvSpPr>
              <p:cNvPr id="13" name=""/>
              <p:cNvSpPr/>
              <p:nvPr/>
            </p:nvSpPr>
            <p:spPr>
              <a:xfrm>
                <a:off x="0" y="6477120"/>
                <a:ext cx="9131400" cy="368280"/>
              </a:xfrm>
              <a:prstGeom prst="rect">
                <a:avLst/>
              </a:prstGeom>
              <a:gradFill rotWithShape="0">
                <a:gsLst>
                  <a:gs pos="0">
                    <a:srgbClr val="009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" name=""/>
              <p:cNvGrpSpPr/>
              <p:nvPr/>
            </p:nvGrpSpPr>
            <p:grpSpPr>
              <a:xfrm>
                <a:off x="136440" y="4610160"/>
                <a:ext cx="1078560" cy="1911600"/>
                <a:chOff x="136440" y="4610160"/>
                <a:chExt cx="1078560" cy="1911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326880" y="5437080"/>
                  <a:ext cx="55800" cy="562320"/>
                </a:xfrm>
                <a:custGeom>
                  <a:avLst/>
                  <a:gdLst/>
                  <a:ahLst/>
                  <a:rect l="0" t="0" r="r" b="b"/>
                  <a:pathLst>
                    <a:path w="155" h="1562">
                      <a:moveTo>
                        <a:pt x="87" y="166"/>
                      </a:moveTo>
                      <a:lnTo>
                        <a:pt x="87" y="265"/>
                      </a:lnTo>
                      <a:lnTo>
                        <a:pt x="155" y="1562"/>
                      </a:lnTo>
                      <a:lnTo>
                        <a:pt x="131" y="1529"/>
                      </a:lnTo>
                      <a:lnTo>
                        <a:pt x="111" y="1452"/>
                      </a:lnTo>
                      <a:lnTo>
                        <a:pt x="58" y="1202"/>
                      </a:lnTo>
                      <a:lnTo>
                        <a:pt x="23" y="991"/>
                      </a:lnTo>
                      <a:lnTo>
                        <a:pt x="10" y="864"/>
                      </a:lnTo>
                      <a:lnTo>
                        <a:pt x="2" y="737"/>
                      </a:lnTo>
                      <a:lnTo>
                        <a:pt x="0" y="570"/>
                      </a:lnTo>
                      <a:lnTo>
                        <a:pt x="6" y="404"/>
                      </a:lnTo>
                      <a:lnTo>
                        <a:pt x="23" y="220"/>
                      </a:lnTo>
                      <a:lnTo>
                        <a:pt x="39" y="84"/>
                      </a:lnTo>
                      <a:lnTo>
                        <a:pt x="52" y="7"/>
                      </a:lnTo>
                      <a:lnTo>
                        <a:pt x="54" y="0"/>
                      </a:lnTo>
                      <a:lnTo>
                        <a:pt x="87" y="166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78000" y="6262560"/>
                  <a:ext cx="837000" cy="259200"/>
                </a:xfrm>
                <a:custGeom>
                  <a:avLst/>
                  <a:gdLst/>
                  <a:ahLst/>
                  <a:rect l="0" t="0" r="r" b="b"/>
                  <a:pathLst>
                    <a:path w="2325" h="720">
                      <a:moveTo>
                        <a:pt x="17" y="86"/>
                      </a:moveTo>
                      <a:lnTo>
                        <a:pt x="246" y="66"/>
                      </a:lnTo>
                      <a:lnTo>
                        <a:pt x="2186" y="2"/>
                      </a:lnTo>
                      <a:lnTo>
                        <a:pt x="2236" y="2"/>
                      </a:lnTo>
                      <a:lnTo>
                        <a:pt x="2293" y="0"/>
                      </a:lnTo>
                      <a:lnTo>
                        <a:pt x="2308" y="14"/>
                      </a:lnTo>
                      <a:lnTo>
                        <a:pt x="2320" y="54"/>
                      </a:lnTo>
                      <a:lnTo>
                        <a:pt x="2325" y="88"/>
                      </a:lnTo>
                      <a:lnTo>
                        <a:pt x="2323" y="125"/>
                      </a:lnTo>
                      <a:lnTo>
                        <a:pt x="2313" y="162"/>
                      </a:lnTo>
                      <a:lnTo>
                        <a:pt x="2301" y="195"/>
                      </a:lnTo>
                      <a:lnTo>
                        <a:pt x="2281" y="227"/>
                      </a:lnTo>
                      <a:lnTo>
                        <a:pt x="2256" y="261"/>
                      </a:lnTo>
                      <a:lnTo>
                        <a:pt x="2221" y="301"/>
                      </a:lnTo>
                      <a:lnTo>
                        <a:pt x="2186" y="333"/>
                      </a:lnTo>
                      <a:lnTo>
                        <a:pt x="2107" y="402"/>
                      </a:lnTo>
                      <a:lnTo>
                        <a:pt x="2072" y="434"/>
                      </a:lnTo>
                      <a:lnTo>
                        <a:pt x="2045" y="466"/>
                      </a:lnTo>
                      <a:lnTo>
                        <a:pt x="2015" y="505"/>
                      </a:lnTo>
                      <a:lnTo>
                        <a:pt x="1987" y="548"/>
                      </a:lnTo>
                      <a:lnTo>
                        <a:pt x="1977" y="560"/>
                      </a:lnTo>
                      <a:lnTo>
                        <a:pt x="1908" y="587"/>
                      </a:lnTo>
                      <a:lnTo>
                        <a:pt x="1876" y="587"/>
                      </a:lnTo>
                      <a:lnTo>
                        <a:pt x="1696" y="600"/>
                      </a:lnTo>
                      <a:lnTo>
                        <a:pt x="1581" y="612"/>
                      </a:lnTo>
                      <a:lnTo>
                        <a:pt x="1397" y="642"/>
                      </a:lnTo>
                      <a:lnTo>
                        <a:pt x="1067" y="706"/>
                      </a:lnTo>
                      <a:lnTo>
                        <a:pt x="990" y="715"/>
                      </a:lnTo>
                      <a:lnTo>
                        <a:pt x="913" y="720"/>
                      </a:lnTo>
                      <a:lnTo>
                        <a:pt x="836" y="720"/>
                      </a:lnTo>
                      <a:lnTo>
                        <a:pt x="783" y="720"/>
                      </a:lnTo>
                      <a:lnTo>
                        <a:pt x="711" y="715"/>
                      </a:lnTo>
                      <a:lnTo>
                        <a:pt x="590" y="701"/>
                      </a:lnTo>
                      <a:lnTo>
                        <a:pt x="541" y="691"/>
                      </a:lnTo>
                      <a:lnTo>
                        <a:pt x="499" y="681"/>
                      </a:lnTo>
                      <a:lnTo>
                        <a:pt x="459" y="669"/>
                      </a:lnTo>
                      <a:lnTo>
                        <a:pt x="422" y="651"/>
                      </a:lnTo>
                      <a:lnTo>
                        <a:pt x="385" y="634"/>
                      </a:lnTo>
                      <a:lnTo>
                        <a:pt x="352" y="614"/>
                      </a:lnTo>
                      <a:lnTo>
                        <a:pt x="308" y="578"/>
                      </a:lnTo>
                      <a:lnTo>
                        <a:pt x="270" y="537"/>
                      </a:lnTo>
                      <a:lnTo>
                        <a:pt x="86" y="323"/>
                      </a:lnTo>
                      <a:lnTo>
                        <a:pt x="62" y="291"/>
                      </a:lnTo>
                      <a:lnTo>
                        <a:pt x="42" y="257"/>
                      </a:lnTo>
                      <a:lnTo>
                        <a:pt x="22" y="222"/>
                      </a:lnTo>
                      <a:lnTo>
                        <a:pt x="9" y="183"/>
                      </a:lnTo>
                      <a:lnTo>
                        <a:pt x="2" y="152"/>
                      </a:lnTo>
                      <a:lnTo>
                        <a:pt x="0" y="118"/>
                      </a:lnTo>
                      <a:lnTo>
                        <a:pt x="0" y="103"/>
                      </a:lnTo>
                      <a:lnTo>
                        <a:pt x="17" y="86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8000" y="6257880"/>
                  <a:ext cx="552960" cy="167040"/>
                </a:xfrm>
                <a:custGeom>
                  <a:avLst/>
                  <a:gdLst/>
                  <a:ahLst/>
                  <a:rect l="0" t="0" r="r" b="b"/>
                  <a:pathLst>
                    <a:path w="1536" h="464">
                      <a:moveTo>
                        <a:pt x="799" y="464"/>
                      </a:moveTo>
                      <a:lnTo>
                        <a:pt x="752" y="461"/>
                      </a:lnTo>
                      <a:lnTo>
                        <a:pt x="687" y="461"/>
                      </a:lnTo>
                      <a:lnTo>
                        <a:pt x="590" y="461"/>
                      </a:lnTo>
                      <a:lnTo>
                        <a:pt x="495" y="454"/>
                      </a:lnTo>
                      <a:lnTo>
                        <a:pt x="416" y="444"/>
                      </a:lnTo>
                      <a:lnTo>
                        <a:pt x="363" y="437"/>
                      </a:lnTo>
                      <a:lnTo>
                        <a:pt x="323" y="430"/>
                      </a:lnTo>
                      <a:lnTo>
                        <a:pt x="286" y="418"/>
                      </a:lnTo>
                      <a:lnTo>
                        <a:pt x="246" y="404"/>
                      </a:lnTo>
                      <a:lnTo>
                        <a:pt x="208" y="389"/>
                      </a:lnTo>
                      <a:lnTo>
                        <a:pt x="174" y="370"/>
                      </a:lnTo>
                      <a:lnTo>
                        <a:pt x="139" y="353"/>
                      </a:lnTo>
                      <a:lnTo>
                        <a:pt x="99" y="324"/>
                      </a:lnTo>
                      <a:lnTo>
                        <a:pt x="64" y="296"/>
                      </a:lnTo>
                      <a:lnTo>
                        <a:pt x="37" y="262"/>
                      </a:lnTo>
                      <a:lnTo>
                        <a:pt x="17" y="230"/>
                      </a:lnTo>
                      <a:lnTo>
                        <a:pt x="7" y="199"/>
                      </a:lnTo>
                      <a:lnTo>
                        <a:pt x="0" y="165"/>
                      </a:lnTo>
                      <a:lnTo>
                        <a:pt x="2" y="131"/>
                      </a:lnTo>
                      <a:lnTo>
                        <a:pt x="37" y="107"/>
                      </a:lnTo>
                      <a:lnTo>
                        <a:pt x="77" y="98"/>
                      </a:lnTo>
                      <a:lnTo>
                        <a:pt x="114" y="91"/>
                      </a:lnTo>
                      <a:lnTo>
                        <a:pt x="184" y="86"/>
                      </a:lnTo>
                      <a:lnTo>
                        <a:pt x="602" y="64"/>
                      </a:lnTo>
                      <a:lnTo>
                        <a:pt x="647" y="64"/>
                      </a:lnTo>
                      <a:lnTo>
                        <a:pt x="801" y="67"/>
                      </a:lnTo>
                      <a:lnTo>
                        <a:pt x="896" y="64"/>
                      </a:lnTo>
                      <a:lnTo>
                        <a:pt x="1055" y="55"/>
                      </a:lnTo>
                      <a:lnTo>
                        <a:pt x="1087" y="47"/>
                      </a:lnTo>
                      <a:lnTo>
                        <a:pt x="1137" y="31"/>
                      </a:lnTo>
                      <a:lnTo>
                        <a:pt x="1180" y="21"/>
                      </a:lnTo>
                      <a:lnTo>
                        <a:pt x="1218" y="14"/>
                      </a:lnTo>
                      <a:lnTo>
                        <a:pt x="1255" y="9"/>
                      </a:lnTo>
                      <a:lnTo>
                        <a:pt x="1305" y="9"/>
                      </a:lnTo>
                      <a:lnTo>
                        <a:pt x="1536" y="0"/>
                      </a:lnTo>
                      <a:lnTo>
                        <a:pt x="1392" y="57"/>
                      </a:lnTo>
                      <a:lnTo>
                        <a:pt x="1213" y="148"/>
                      </a:lnTo>
                      <a:lnTo>
                        <a:pt x="1132" y="189"/>
                      </a:lnTo>
                      <a:lnTo>
                        <a:pt x="1077" y="223"/>
                      </a:lnTo>
                      <a:lnTo>
                        <a:pt x="1043" y="227"/>
                      </a:lnTo>
                      <a:lnTo>
                        <a:pt x="846" y="248"/>
                      </a:lnTo>
                      <a:lnTo>
                        <a:pt x="779" y="250"/>
                      </a:lnTo>
                      <a:lnTo>
                        <a:pt x="722" y="248"/>
                      </a:lnTo>
                      <a:lnTo>
                        <a:pt x="650" y="243"/>
                      </a:lnTo>
                      <a:lnTo>
                        <a:pt x="617" y="243"/>
                      </a:lnTo>
                      <a:lnTo>
                        <a:pt x="600" y="276"/>
                      </a:lnTo>
                      <a:lnTo>
                        <a:pt x="565" y="288"/>
                      </a:lnTo>
                      <a:lnTo>
                        <a:pt x="528" y="286"/>
                      </a:lnTo>
                      <a:lnTo>
                        <a:pt x="485" y="281"/>
                      </a:lnTo>
                      <a:lnTo>
                        <a:pt x="433" y="272"/>
                      </a:lnTo>
                      <a:lnTo>
                        <a:pt x="398" y="264"/>
                      </a:lnTo>
                      <a:lnTo>
                        <a:pt x="368" y="255"/>
                      </a:lnTo>
                      <a:lnTo>
                        <a:pt x="330" y="238"/>
                      </a:lnTo>
                      <a:lnTo>
                        <a:pt x="298" y="220"/>
                      </a:lnTo>
                      <a:lnTo>
                        <a:pt x="263" y="196"/>
                      </a:lnTo>
                      <a:lnTo>
                        <a:pt x="241" y="227"/>
                      </a:lnTo>
                      <a:lnTo>
                        <a:pt x="241" y="260"/>
                      </a:lnTo>
                      <a:lnTo>
                        <a:pt x="256" y="296"/>
                      </a:lnTo>
                      <a:lnTo>
                        <a:pt x="300" y="324"/>
                      </a:lnTo>
                      <a:lnTo>
                        <a:pt x="338" y="346"/>
                      </a:lnTo>
                      <a:lnTo>
                        <a:pt x="370" y="360"/>
                      </a:lnTo>
                      <a:lnTo>
                        <a:pt x="403" y="377"/>
                      </a:lnTo>
                      <a:lnTo>
                        <a:pt x="438" y="389"/>
                      </a:lnTo>
                      <a:lnTo>
                        <a:pt x="471" y="399"/>
                      </a:lnTo>
                      <a:lnTo>
                        <a:pt x="535" y="416"/>
                      </a:lnTo>
                      <a:lnTo>
                        <a:pt x="575" y="423"/>
                      </a:lnTo>
                      <a:lnTo>
                        <a:pt x="607" y="428"/>
                      </a:lnTo>
                      <a:lnTo>
                        <a:pt x="677" y="435"/>
                      </a:lnTo>
                      <a:lnTo>
                        <a:pt x="744" y="437"/>
                      </a:lnTo>
                      <a:lnTo>
                        <a:pt x="804" y="437"/>
                      </a:lnTo>
                      <a:lnTo>
                        <a:pt x="829" y="437"/>
                      </a:lnTo>
                      <a:lnTo>
                        <a:pt x="799" y="464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592200" y="6122880"/>
                  <a:ext cx="65520" cy="176400"/>
                </a:xfrm>
                <a:custGeom>
                  <a:avLst/>
                  <a:gdLst/>
                  <a:ahLst/>
                  <a:rect l="0" t="0" r="r" b="b"/>
                  <a:pathLst>
                    <a:path w="182" h="490">
                      <a:moveTo>
                        <a:pt x="142" y="490"/>
                      </a:moveTo>
                      <a:lnTo>
                        <a:pt x="0" y="0"/>
                      </a:lnTo>
                      <a:lnTo>
                        <a:pt x="77" y="116"/>
                      </a:lnTo>
                      <a:lnTo>
                        <a:pt x="84" y="133"/>
                      </a:lnTo>
                      <a:lnTo>
                        <a:pt x="89" y="157"/>
                      </a:lnTo>
                      <a:lnTo>
                        <a:pt x="163" y="440"/>
                      </a:lnTo>
                      <a:lnTo>
                        <a:pt x="178" y="440"/>
                      </a:lnTo>
                      <a:lnTo>
                        <a:pt x="182" y="464"/>
                      </a:lnTo>
                      <a:lnTo>
                        <a:pt x="142" y="490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36440" y="4610160"/>
                  <a:ext cx="682920" cy="1626120"/>
                </a:xfrm>
                <a:custGeom>
                  <a:avLst/>
                  <a:gdLst/>
                  <a:ahLst/>
                  <a:rect l="0" t="0" r="r" b="b"/>
                  <a:pathLst>
                    <a:path w="1897" h="4517">
                      <a:moveTo>
                        <a:pt x="1897" y="4517"/>
                      </a:moveTo>
                      <a:lnTo>
                        <a:pt x="1260" y="2381"/>
                      </a:lnTo>
                      <a:lnTo>
                        <a:pt x="253" y="465"/>
                      </a:lnTo>
                      <a:lnTo>
                        <a:pt x="0" y="0"/>
                      </a:lnTo>
                      <a:lnTo>
                        <a:pt x="1897" y="4517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20680" y="4797360"/>
                  <a:ext cx="222480" cy="729000"/>
                </a:xfrm>
                <a:custGeom>
                  <a:avLst/>
                  <a:gdLst/>
                  <a:ahLst/>
                  <a:rect l="0" t="0" r="r" b="b"/>
                  <a:pathLst>
                    <a:path w="618" h="2025">
                      <a:moveTo>
                        <a:pt x="618" y="2025"/>
                      </a:moveTo>
                      <a:lnTo>
                        <a:pt x="593" y="1985"/>
                      </a:lnTo>
                      <a:lnTo>
                        <a:pt x="509" y="1826"/>
                      </a:lnTo>
                      <a:lnTo>
                        <a:pt x="408" y="1605"/>
                      </a:lnTo>
                      <a:lnTo>
                        <a:pt x="276" y="1238"/>
                      </a:lnTo>
                      <a:lnTo>
                        <a:pt x="177" y="925"/>
                      </a:lnTo>
                      <a:lnTo>
                        <a:pt x="111" y="669"/>
                      </a:lnTo>
                      <a:lnTo>
                        <a:pt x="22" y="208"/>
                      </a:lnTo>
                      <a:lnTo>
                        <a:pt x="2" y="71"/>
                      </a:lnTo>
                      <a:lnTo>
                        <a:pt x="0" y="34"/>
                      </a:lnTo>
                      <a:lnTo>
                        <a:pt x="0" y="0"/>
                      </a:lnTo>
                      <a:lnTo>
                        <a:pt x="27" y="39"/>
                      </a:lnTo>
                      <a:lnTo>
                        <a:pt x="610" y="1997"/>
                      </a:lnTo>
                      <a:lnTo>
                        <a:pt x="618" y="2022"/>
                      </a:lnTo>
                      <a:lnTo>
                        <a:pt x="618" y="2025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44440" y="4952880"/>
                  <a:ext cx="619560" cy="1198800"/>
                </a:xfrm>
                <a:custGeom>
                  <a:avLst/>
                  <a:gdLst/>
                  <a:ahLst/>
                  <a:rect l="0" t="0" r="r" b="b"/>
                  <a:pathLst>
                    <a:path w="1721" h="3330">
                      <a:moveTo>
                        <a:pt x="1721" y="3227"/>
                      </a:moveTo>
                      <a:lnTo>
                        <a:pt x="1687" y="3193"/>
                      </a:lnTo>
                      <a:lnTo>
                        <a:pt x="1131" y="2503"/>
                      </a:lnTo>
                      <a:lnTo>
                        <a:pt x="953" y="2250"/>
                      </a:lnTo>
                      <a:lnTo>
                        <a:pt x="658" y="1778"/>
                      </a:lnTo>
                      <a:lnTo>
                        <a:pt x="501" y="1490"/>
                      </a:lnTo>
                      <a:lnTo>
                        <a:pt x="404" y="1264"/>
                      </a:lnTo>
                      <a:lnTo>
                        <a:pt x="246" y="868"/>
                      </a:lnTo>
                      <a:lnTo>
                        <a:pt x="109" y="389"/>
                      </a:lnTo>
                      <a:lnTo>
                        <a:pt x="75" y="266"/>
                      </a:lnTo>
                      <a:lnTo>
                        <a:pt x="0" y="0"/>
                      </a:lnTo>
                      <a:lnTo>
                        <a:pt x="34" y="280"/>
                      </a:lnTo>
                      <a:lnTo>
                        <a:pt x="143" y="799"/>
                      </a:lnTo>
                      <a:lnTo>
                        <a:pt x="315" y="1908"/>
                      </a:lnTo>
                      <a:lnTo>
                        <a:pt x="390" y="2243"/>
                      </a:lnTo>
                      <a:lnTo>
                        <a:pt x="446" y="2434"/>
                      </a:lnTo>
                      <a:lnTo>
                        <a:pt x="501" y="2619"/>
                      </a:lnTo>
                      <a:lnTo>
                        <a:pt x="569" y="2790"/>
                      </a:lnTo>
                      <a:lnTo>
                        <a:pt x="597" y="2858"/>
                      </a:lnTo>
                      <a:lnTo>
                        <a:pt x="631" y="2926"/>
                      </a:lnTo>
                      <a:lnTo>
                        <a:pt x="665" y="2988"/>
                      </a:lnTo>
                      <a:lnTo>
                        <a:pt x="699" y="3043"/>
                      </a:lnTo>
                      <a:lnTo>
                        <a:pt x="734" y="3091"/>
                      </a:lnTo>
                      <a:lnTo>
                        <a:pt x="768" y="3132"/>
                      </a:lnTo>
                      <a:lnTo>
                        <a:pt x="802" y="3166"/>
                      </a:lnTo>
                      <a:lnTo>
                        <a:pt x="850" y="3207"/>
                      </a:lnTo>
                      <a:lnTo>
                        <a:pt x="891" y="3248"/>
                      </a:lnTo>
                      <a:lnTo>
                        <a:pt x="932" y="3275"/>
                      </a:lnTo>
                      <a:lnTo>
                        <a:pt x="960" y="3296"/>
                      </a:lnTo>
                      <a:lnTo>
                        <a:pt x="994" y="3309"/>
                      </a:lnTo>
                      <a:lnTo>
                        <a:pt x="1028" y="3330"/>
                      </a:lnTo>
                      <a:lnTo>
                        <a:pt x="1042" y="3330"/>
                      </a:lnTo>
                      <a:lnTo>
                        <a:pt x="1721" y="3227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28680" y="5602320"/>
                  <a:ext cx="136800" cy="646560"/>
                </a:xfrm>
                <a:custGeom>
                  <a:avLst/>
                  <a:gdLst/>
                  <a:ahLst/>
                  <a:rect l="0" t="0" r="r" b="b"/>
                  <a:pathLst>
                    <a:path w="380" h="1796">
                      <a:moveTo>
                        <a:pt x="380" y="1511"/>
                      </a:moveTo>
                      <a:lnTo>
                        <a:pt x="353" y="1471"/>
                      </a:lnTo>
                      <a:lnTo>
                        <a:pt x="267" y="1324"/>
                      </a:lnTo>
                      <a:lnTo>
                        <a:pt x="207" y="1207"/>
                      </a:lnTo>
                      <a:lnTo>
                        <a:pt x="170" y="1130"/>
                      </a:lnTo>
                      <a:lnTo>
                        <a:pt x="136" y="1043"/>
                      </a:lnTo>
                      <a:lnTo>
                        <a:pt x="105" y="951"/>
                      </a:lnTo>
                      <a:lnTo>
                        <a:pt x="81" y="854"/>
                      </a:lnTo>
                      <a:lnTo>
                        <a:pt x="55" y="725"/>
                      </a:lnTo>
                      <a:lnTo>
                        <a:pt x="26" y="564"/>
                      </a:lnTo>
                      <a:lnTo>
                        <a:pt x="16" y="470"/>
                      </a:lnTo>
                      <a:lnTo>
                        <a:pt x="7" y="253"/>
                      </a:lnTo>
                      <a:lnTo>
                        <a:pt x="7" y="0"/>
                      </a:lnTo>
                      <a:lnTo>
                        <a:pt x="4" y="44"/>
                      </a:lnTo>
                      <a:lnTo>
                        <a:pt x="0" y="562"/>
                      </a:lnTo>
                      <a:lnTo>
                        <a:pt x="21" y="981"/>
                      </a:lnTo>
                      <a:lnTo>
                        <a:pt x="40" y="1157"/>
                      </a:lnTo>
                      <a:lnTo>
                        <a:pt x="72" y="1372"/>
                      </a:lnTo>
                      <a:lnTo>
                        <a:pt x="96" y="1488"/>
                      </a:lnTo>
                      <a:lnTo>
                        <a:pt x="144" y="1657"/>
                      </a:lnTo>
                      <a:lnTo>
                        <a:pt x="158" y="1712"/>
                      </a:lnTo>
                      <a:lnTo>
                        <a:pt x="193" y="1796"/>
                      </a:lnTo>
                      <a:lnTo>
                        <a:pt x="189" y="1764"/>
                      </a:lnTo>
                      <a:lnTo>
                        <a:pt x="200" y="1729"/>
                      </a:lnTo>
                      <a:lnTo>
                        <a:pt x="214" y="1707"/>
                      </a:lnTo>
                      <a:lnTo>
                        <a:pt x="380" y="1511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95280" y="6221520"/>
                  <a:ext cx="12960" cy="36720"/>
                </a:xfrm>
                <a:custGeom>
                  <a:avLst/>
                  <a:gdLst/>
                  <a:ahLst/>
                  <a:rect l="0" t="0" r="r" b="b"/>
                  <a:pathLst>
                    <a:path w="36" h="102">
                      <a:moveTo>
                        <a:pt x="26" y="0"/>
                      </a:moveTo>
                      <a:lnTo>
                        <a:pt x="5" y="29"/>
                      </a:lnTo>
                      <a:lnTo>
                        <a:pt x="0" y="59"/>
                      </a:lnTo>
                      <a:lnTo>
                        <a:pt x="9" y="88"/>
                      </a:lnTo>
                      <a:lnTo>
                        <a:pt x="34" y="102"/>
                      </a:lnTo>
                      <a:lnTo>
                        <a:pt x="36" y="102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4080" y="5065560"/>
                  <a:ext cx="146520" cy="1170360"/>
                </a:xfrm>
                <a:custGeom>
                  <a:avLst/>
                  <a:gdLst/>
                  <a:ahLst/>
                  <a:rect l="0" t="0" r="r" b="b"/>
                  <a:pathLst>
                    <a:path w="407" h="3251">
                      <a:moveTo>
                        <a:pt x="139" y="0"/>
                      </a:moveTo>
                      <a:lnTo>
                        <a:pt x="124" y="32"/>
                      </a:lnTo>
                      <a:lnTo>
                        <a:pt x="117" y="67"/>
                      </a:lnTo>
                      <a:lnTo>
                        <a:pt x="26" y="737"/>
                      </a:lnTo>
                      <a:lnTo>
                        <a:pt x="4" y="1006"/>
                      </a:lnTo>
                      <a:lnTo>
                        <a:pt x="0" y="1197"/>
                      </a:lnTo>
                      <a:lnTo>
                        <a:pt x="41" y="1987"/>
                      </a:lnTo>
                      <a:lnTo>
                        <a:pt x="70" y="2275"/>
                      </a:lnTo>
                      <a:lnTo>
                        <a:pt x="134" y="2656"/>
                      </a:lnTo>
                      <a:lnTo>
                        <a:pt x="195" y="2919"/>
                      </a:lnTo>
                      <a:lnTo>
                        <a:pt x="219" y="3008"/>
                      </a:lnTo>
                      <a:lnTo>
                        <a:pt x="234" y="3060"/>
                      </a:lnTo>
                      <a:lnTo>
                        <a:pt x="251" y="3105"/>
                      </a:lnTo>
                      <a:lnTo>
                        <a:pt x="270" y="3142"/>
                      </a:lnTo>
                      <a:lnTo>
                        <a:pt x="299" y="3187"/>
                      </a:lnTo>
                      <a:lnTo>
                        <a:pt x="339" y="3224"/>
                      </a:lnTo>
                      <a:lnTo>
                        <a:pt x="373" y="3242"/>
                      </a:lnTo>
                      <a:lnTo>
                        <a:pt x="407" y="3251"/>
                      </a:lnTo>
                      <a:lnTo>
                        <a:pt x="407" y="3212"/>
                      </a:lnTo>
                      <a:lnTo>
                        <a:pt x="214" y="1483"/>
                      </a:lnTo>
                      <a:lnTo>
                        <a:pt x="141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154080" y="5400720"/>
                  <a:ext cx="190800" cy="783000"/>
                </a:xfrm>
                <a:custGeom>
                  <a:avLst/>
                  <a:gdLst/>
                  <a:ahLst/>
                  <a:rect l="0" t="0" r="r" b="b"/>
                  <a:pathLst>
                    <a:path w="530" h="2175">
                      <a:moveTo>
                        <a:pt x="26" y="74"/>
                      </a:moveTo>
                      <a:lnTo>
                        <a:pt x="34" y="219"/>
                      </a:lnTo>
                      <a:lnTo>
                        <a:pt x="75" y="561"/>
                      </a:lnTo>
                      <a:lnTo>
                        <a:pt x="100" y="695"/>
                      </a:lnTo>
                      <a:lnTo>
                        <a:pt x="154" y="922"/>
                      </a:lnTo>
                      <a:lnTo>
                        <a:pt x="205" y="1097"/>
                      </a:lnTo>
                      <a:lnTo>
                        <a:pt x="312" y="1384"/>
                      </a:lnTo>
                      <a:lnTo>
                        <a:pt x="513" y="1842"/>
                      </a:lnTo>
                      <a:lnTo>
                        <a:pt x="527" y="1879"/>
                      </a:lnTo>
                      <a:lnTo>
                        <a:pt x="530" y="1911"/>
                      </a:lnTo>
                      <a:lnTo>
                        <a:pt x="525" y="1948"/>
                      </a:lnTo>
                      <a:lnTo>
                        <a:pt x="500" y="1983"/>
                      </a:lnTo>
                      <a:lnTo>
                        <a:pt x="466" y="2012"/>
                      </a:lnTo>
                      <a:lnTo>
                        <a:pt x="378" y="2079"/>
                      </a:lnTo>
                      <a:lnTo>
                        <a:pt x="339" y="2111"/>
                      </a:lnTo>
                      <a:lnTo>
                        <a:pt x="299" y="2148"/>
                      </a:lnTo>
                      <a:lnTo>
                        <a:pt x="264" y="2175"/>
                      </a:lnTo>
                      <a:lnTo>
                        <a:pt x="244" y="2133"/>
                      </a:lnTo>
                      <a:lnTo>
                        <a:pt x="188" y="1931"/>
                      </a:lnTo>
                      <a:lnTo>
                        <a:pt x="127" y="1647"/>
                      </a:lnTo>
                      <a:lnTo>
                        <a:pt x="61" y="1226"/>
                      </a:lnTo>
                      <a:lnTo>
                        <a:pt x="9" y="722"/>
                      </a:lnTo>
                      <a:lnTo>
                        <a:pt x="0" y="397"/>
                      </a:lnTo>
                      <a:lnTo>
                        <a:pt x="0" y="266"/>
                      </a:lnTo>
                      <a:lnTo>
                        <a:pt x="22" y="0"/>
                      </a:lnTo>
                      <a:lnTo>
                        <a:pt x="26" y="74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271440" y="6230880"/>
                  <a:ext cx="35280" cy="57600"/>
                </a:xfrm>
                <a:custGeom>
                  <a:avLst/>
                  <a:gdLst/>
                  <a:ahLst/>
                  <a:rect l="0" t="0" r="r" b="b"/>
                  <a:pathLst>
                    <a:path w="98" h="160">
                      <a:moveTo>
                        <a:pt x="80" y="160"/>
                      </a:moveTo>
                      <a:lnTo>
                        <a:pt x="98" y="153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80" y="160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01680" y="6299280"/>
                  <a:ext cx="32040" cy="22680"/>
                </a:xfrm>
                <a:custGeom>
                  <a:avLst/>
                  <a:gdLst/>
                  <a:ahLst/>
                  <a:rect l="0" t="0" r="r" b="b"/>
                  <a:pathLst>
                    <a:path w="89" h="63">
                      <a:moveTo>
                        <a:pt x="59" y="0"/>
                      </a:moveTo>
                      <a:lnTo>
                        <a:pt x="89" y="63"/>
                      </a:lnTo>
                      <a:lnTo>
                        <a:pt x="4" y="22"/>
                      </a:lnTo>
                      <a:lnTo>
                        <a:pt x="0" y="1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14280" y="6280200"/>
                  <a:ext cx="111600" cy="36720"/>
                </a:xfrm>
                <a:custGeom>
                  <a:avLst/>
                  <a:gdLst/>
                  <a:ahLst/>
                  <a:rect l="0" t="0" r="r" b="b"/>
                  <a:pathLst>
                    <a:path w="310" h="102">
                      <a:moveTo>
                        <a:pt x="0" y="12"/>
                      </a:moveTo>
                      <a:lnTo>
                        <a:pt x="78" y="0"/>
                      </a:lnTo>
                      <a:lnTo>
                        <a:pt x="310" y="43"/>
                      </a:lnTo>
                      <a:lnTo>
                        <a:pt x="298" y="102"/>
                      </a:lnTo>
                      <a:lnTo>
                        <a:pt x="72" y="23"/>
                      </a:lnTo>
                      <a:lnTo>
                        <a:pt x="0" y="1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41280" y="6280200"/>
                  <a:ext cx="54360" cy="9720"/>
                </a:xfrm>
                <a:custGeom>
                  <a:avLst/>
                  <a:gdLst/>
                  <a:ahLst/>
                  <a:rect l="0" t="0" r="r" b="b"/>
                  <a:pathLst>
                    <a:path w="151" h="27">
                      <a:moveTo>
                        <a:pt x="0" y="3"/>
                      </a:moveTo>
                      <a:lnTo>
                        <a:pt x="13" y="0"/>
                      </a:lnTo>
                      <a:lnTo>
                        <a:pt x="149" y="18"/>
                      </a:lnTo>
                      <a:lnTo>
                        <a:pt x="151" y="27"/>
                      </a:lnTo>
                      <a:lnTo>
                        <a:pt x="124" y="2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27120" y="6141960"/>
                  <a:ext cx="262440" cy="36720"/>
                </a:xfrm>
                <a:custGeom>
                  <a:avLst/>
                  <a:gdLst/>
                  <a:ahLst/>
                  <a:rect l="0" t="0" r="r" b="b"/>
                  <a:pathLst>
                    <a:path w="729" h="102">
                      <a:moveTo>
                        <a:pt x="0" y="80"/>
                      </a:moveTo>
                      <a:lnTo>
                        <a:pt x="705" y="0"/>
                      </a:lnTo>
                      <a:lnTo>
                        <a:pt x="729" y="21"/>
                      </a:lnTo>
                      <a:lnTo>
                        <a:pt x="12" y="10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9f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" name=""/>
                <p:cNvGrpSpPr/>
                <p:nvPr/>
              </p:nvGrpSpPr>
              <p:grpSpPr>
                <a:xfrm>
                  <a:off x="227160" y="4807080"/>
                  <a:ext cx="688680" cy="1481040"/>
                  <a:chOff x="227160" y="4807080"/>
                  <a:chExt cx="688680" cy="148104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 flipH="1" flipV="1">
                    <a:off x="890640" y="6146640"/>
                    <a:ext cx="7920" cy="795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27160" y="4807080"/>
                    <a:ext cx="662400" cy="1327680"/>
                  </a:xfrm>
                  <a:custGeom>
                    <a:avLst/>
                    <a:gdLst/>
                    <a:ahLst/>
                    <a:rect l="0" t="0" r="r" b="b"/>
                    <a:pathLst>
                      <a:path w="1840" h="3688">
                        <a:moveTo>
                          <a:pt x="1840" y="3688"/>
                        </a:moveTo>
                        <a:lnTo>
                          <a:pt x="904" y="1882"/>
                        </a:lnTo>
                        <a:lnTo>
                          <a:pt x="0" y="0"/>
                        </a:lnTo>
                        <a:lnTo>
                          <a:pt x="1840" y="3688"/>
                        </a:lnTo>
                        <a:close/>
                      </a:path>
                    </a:pathLst>
                  </a:custGeom>
                  <a:solidFill>
                    <a:srgbClr val="009fff"/>
                  </a:solidFill>
                  <a:ln w="12600">
                    <a:solidFill>
                      <a:srgbClr val="009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266760" y="5467320"/>
                    <a:ext cx="32436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901" h="274">
                        <a:moveTo>
                          <a:pt x="500" y="178"/>
                        </a:moveTo>
                        <a:lnTo>
                          <a:pt x="901" y="0"/>
                        </a:lnTo>
                        <a:lnTo>
                          <a:pt x="505" y="188"/>
                        </a:lnTo>
                        <a:lnTo>
                          <a:pt x="0" y="274"/>
                        </a:lnTo>
                        <a:lnTo>
                          <a:pt x="500" y="178"/>
                        </a:lnTo>
                        <a:close/>
                      </a:path>
                    </a:pathLst>
                  </a:custGeom>
                  <a:solidFill>
                    <a:srgbClr val="009fff"/>
                  </a:solidFill>
                  <a:ln w="12600">
                    <a:solidFill>
                      <a:srgbClr val="009fff"/>
                    </a:solidFill>
                    <a:round/>
                  </a:ln>
                </p:spPr>
                <p:txBody>
                  <a:bodyPr lIns="96120" rIns="96120" tIns="47520" bIns="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304920" y="6205680"/>
                    <a:ext cx="610920" cy="82440"/>
                    <a:chOff x="304920" y="6205680"/>
                    <a:chExt cx="610920" cy="8244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>
                      <a:off x="743040" y="6230880"/>
                      <a:ext cx="17280" cy="572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" name=""/>
                    <p:cNvGrpSpPr/>
                    <p:nvPr/>
                  </p:nvGrpSpPr>
                  <p:grpSpPr>
                    <a:xfrm>
                      <a:off x="304920" y="6205680"/>
                      <a:ext cx="610920" cy="79200"/>
                      <a:chOff x="304920" y="6205680"/>
                      <a:chExt cx="610920" cy="79200"/>
                    </a:xfrm>
                  </p:grpSpPr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65200" y="6240600"/>
                        <a:ext cx="1116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9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6840" bIns="-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" name=""/>
                      <p:cNvSpPr/>
                      <p:nvPr/>
                    </p:nvSpPr>
                    <p:spPr>
                      <a:xfrm>
                        <a:off x="324000" y="6211800"/>
                        <a:ext cx="14040" cy="65160"/>
                      </a:xfrm>
                      <a:prstGeom prst="line">
                        <a:avLst/>
                      </a:prstGeom>
                      <a:ln w="12600">
                        <a:solidFill>
                          <a:srgbClr val="009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409680" y="6227640"/>
                        <a:ext cx="484560" cy="12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346" h="36">
                            <a:moveTo>
                              <a:pt x="1346" y="2"/>
                            </a:moveTo>
                            <a:lnTo>
                              <a:pt x="956" y="2"/>
                            </a:lnTo>
                            <a:lnTo>
                              <a:pt x="445" y="36"/>
                            </a:lnTo>
                            <a:lnTo>
                              <a:pt x="0" y="0"/>
                            </a:lnTo>
                            <a:lnTo>
                              <a:pt x="1346" y="2"/>
                            </a:lnTo>
                            <a:close/>
                          </a:path>
                        </a:pathLst>
                      </a:custGeom>
                      <a:solidFill>
                        <a:srgbClr val="009fff"/>
                      </a:solidFill>
                      <a:ln w="12600">
                        <a:solidFill>
                          <a:srgbClr val="009fff"/>
                        </a:solidFill>
                        <a:round/>
                      </a:ln>
                    </p:spPr>
                    <p:txBody>
                      <a:bodyPr lIns="96120" rIns="9612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 flipH="1" flipV="1">
                        <a:off x="304920" y="6205680"/>
                        <a:ext cx="7776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009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" name=""/>
                      <p:cNvSpPr/>
                      <p:nvPr/>
                    </p:nvSpPr>
                    <p:spPr>
                      <a:xfrm>
                        <a:off x="898560" y="6226200"/>
                        <a:ext cx="17280" cy="36360"/>
                      </a:xfrm>
                      <a:prstGeom prst="line">
                        <a:avLst/>
                      </a:prstGeom>
                      <a:ln w="12600">
                        <a:solidFill>
                          <a:srgbClr val="009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70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f91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f91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