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00a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380880" y="5943600"/>
                <a:ext cx="8382600" cy="762480"/>
                <a:chOff x="380880" y="5943600"/>
                <a:chExt cx="8382600" cy="76248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8088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09044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1798560" y="5943600"/>
                  <a:ext cx="579960" cy="762480"/>
                </a:xfrm>
                <a:custGeom>
                  <a:avLst/>
                  <a:gdLst/>
                  <a:ahLst/>
                  <a:rect l="0" t="0" r="r" b="b"/>
                  <a:pathLst>
                    <a:path w="1611" h="2118">
                      <a:moveTo>
                        <a:pt x="0" y="0"/>
                      </a:moveTo>
                      <a:lnTo>
                        <a:pt x="1611" y="0"/>
                      </a:lnTo>
                      <a:lnTo>
                        <a:pt x="1611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09" y="530"/>
                      </a:lnTo>
                      <a:lnTo>
                        <a:pt x="1209" y="1588"/>
                      </a:lnTo>
                      <a:lnTo>
                        <a:pt x="402" y="1588"/>
                      </a:lnTo>
                      <a:lnTo>
                        <a:pt x="402" y="1059"/>
                      </a:lnTo>
                      <a:lnTo>
                        <a:pt x="604" y="1059"/>
                      </a:lnTo>
                      <a:lnTo>
                        <a:pt x="604" y="1323"/>
                      </a:lnTo>
                      <a:lnTo>
                        <a:pt x="1006" y="1323"/>
                      </a:lnTo>
                      <a:lnTo>
                        <a:pt x="1006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0" y="1854"/>
                      </a:lnTo>
                      <a:lnTo>
                        <a:pt x="1410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50812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21804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2760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463536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34528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05484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6765840" y="5943600"/>
                  <a:ext cx="579960" cy="762480"/>
                </a:xfrm>
                <a:custGeom>
                  <a:avLst/>
                  <a:gdLst/>
                  <a:ahLst/>
                  <a:rect l="0" t="0" r="r" b="b"/>
                  <a:pathLst>
                    <a:path w="1611" h="2118">
                      <a:moveTo>
                        <a:pt x="0" y="0"/>
                      </a:moveTo>
                      <a:lnTo>
                        <a:pt x="1611" y="0"/>
                      </a:lnTo>
                      <a:lnTo>
                        <a:pt x="1611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09" y="530"/>
                      </a:lnTo>
                      <a:lnTo>
                        <a:pt x="1209" y="1588"/>
                      </a:lnTo>
                      <a:lnTo>
                        <a:pt x="402" y="1588"/>
                      </a:lnTo>
                      <a:lnTo>
                        <a:pt x="402" y="1059"/>
                      </a:lnTo>
                      <a:lnTo>
                        <a:pt x="604" y="1059"/>
                      </a:lnTo>
                      <a:lnTo>
                        <a:pt x="604" y="1323"/>
                      </a:lnTo>
                      <a:lnTo>
                        <a:pt x="1006" y="1323"/>
                      </a:lnTo>
                      <a:lnTo>
                        <a:pt x="1006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0" y="1854"/>
                      </a:lnTo>
                      <a:lnTo>
                        <a:pt x="1410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47252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8208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355680" y="0"/>
              <a:ext cx="8432640" cy="582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1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486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e0e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e0e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e0e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e0e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e0e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e0e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