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71360" y="160200"/>
              <a:ext cx="8777520" cy="6521760"/>
              <a:chOff x="171360" y="160200"/>
              <a:chExt cx="8777520" cy="6521760"/>
            </a:xfrm>
          </p:grpSpPr>
          <p:sp>
            <p:nvSpPr>
              <p:cNvPr id="3" name=""/>
              <p:cNvSpPr/>
              <p:nvPr/>
            </p:nvSpPr>
            <p:spPr>
              <a:xfrm>
                <a:off x="190440" y="171360"/>
                <a:ext cx="8744040" cy="649620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71360" y="160200"/>
                <a:ext cx="87710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73160" y="171360"/>
                <a:ext cx="0" cy="6496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81080" y="6681960"/>
                <a:ext cx="876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948880" y="171360"/>
                <a:ext cx="0" cy="6510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376200" y="204840"/>
              <a:ext cx="8426520" cy="1655640"/>
              <a:chOff x="376200" y="204840"/>
              <a:chExt cx="8426520" cy="165564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376200" y="655560"/>
                <a:ext cx="8426520" cy="1204920"/>
                <a:chOff x="376200" y="655560"/>
                <a:chExt cx="8426520" cy="120492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" name=""/>
                <p:cNvSpPr/>
                <p:nvPr/>
              </p:nvSpPr>
              <p:spPr>
                <a:xfrm>
                  <a:off x="376200" y="655560"/>
                  <a:ext cx="130320" cy="1204920"/>
                </a:xfrm>
                <a:prstGeom prst="rect">
                  <a:avLst/>
                </a:prstGeom>
                <a:solidFill>
                  <a:srgbClr val="cf0e30"/>
                </a:solidFill>
                <a:ln w="12600">
                  <a:solidFill>
                    <a:srgbClr val="cf0e3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72400" y="655560"/>
                  <a:ext cx="130320" cy="1204920"/>
                </a:xfrm>
                <a:prstGeom prst="rect">
                  <a:avLst/>
                </a:prstGeom>
                <a:solidFill>
                  <a:srgbClr val="cf0e30"/>
                </a:solidFill>
                <a:ln w="12600">
                  <a:solidFill>
                    <a:srgbClr val="cf0e3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698400" y="204840"/>
                <a:ext cx="7763400" cy="1462320"/>
                <a:chOff x="698400" y="204840"/>
                <a:chExt cx="7763400" cy="1462320"/>
              </a:xfrm>
            </p:grpSpPr>
            <p:grpSp>
              <p:nvGrpSpPr>
                <p:cNvPr id="19" name=""/>
                <p:cNvGrpSpPr/>
                <p:nvPr/>
              </p:nvGrpSpPr>
              <p:grpSpPr>
                <a:xfrm>
                  <a:off x="698400" y="938160"/>
                  <a:ext cx="562320" cy="729000"/>
                  <a:chOff x="698400" y="938160"/>
                  <a:chExt cx="562320" cy="72900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 flipV="1">
                    <a:off x="973080" y="952560"/>
                    <a:ext cx="0" cy="56988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976320" y="938160"/>
                    <a:ext cx="284400" cy="187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0" h="521">
                        <a:moveTo>
                          <a:pt x="0" y="0"/>
                        </a:moveTo>
                        <a:lnTo>
                          <a:pt x="74" y="0"/>
                        </a:lnTo>
                        <a:lnTo>
                          <a:pt x="149" y="0"/>
                        </a:lnTo>
                        <a:lnTo>
                          <a:pt x="202" y="35"/>
                        </a:lnTo>
                        <a:lnTo>
                          <a:pt x="251" y="101"/>
                        </a:lnTo>
                        <a:lnTo>
                          <a:pt x="357" y="136"/>
                        </a:lnTo>
                        <a:lnTo>
                          <a:pt x="459" y="171"/>
                        </a:lnTo>
                        <a:lnTo>
                          <a:pt x="561" y="136"/>
                        </a:lnTo>
                        <a:lnTo>
                          <a:pt x="662" y="101"/>
                        </a:lnTo>
                        <a:lnTo>
                          <a:pt x="710" y="70"/>
                        </a:lnTo>
                        <a:lnTo>
                          <a:pt x="790" y="0"/>
                        </a:lnTo>
                        <a:lnTo>
                          <a:pt x="684" y="207"/>
                        </a:lnTo>
                        <a:lnTo>
                          <a:pt x="609" y="384"/>
                        </a:lnTo>
                        <a:lnTo>
                          <a:pt x="508" y="486"/>
                        </a:lnTo>
                        <a:lnTo>
                          <a:pt x="406" y="521"/>
                        </a:lnTo>
                        <a:lnTo>
                          <a:pt x="277" y="521"/>
                        </a:lnTo>
                        <a:lnTo>
                          <a:pt x="202" y="450"/>
                        </a:lnTo>
                        <a:lnTo>
                          <a:pt x="176" y="450"/>
                        </a:lnTo>
                        <a:lnTo>
                          <a:pt x="127" y="419"/>
                        </a:lnTo>
                        <a:lnTo>
                          <a:pt x="74" y="419"/>
                        </a:lnTo>
                        <a:lnTo>
                          <a:pt x="0" y="4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98400" y="1465200"/>
                    <a:ext cx="282960" cy="201960"/>
                  </a:xfrm>
                  <a:custGeom>
                    <a:avLst/>
                    <a:gdLst/>
                    <a:ahLst/>
                    <a:rect l="0" t="0" r="r" b="b"/>
                    <a:pathLst>
                      <a:path w="786" h="561">
                        <a:moveTo>
                          <a:pt x="459" y="534"/>
                        </a:moveTo>
                        <a:lnTo>
                          <a:pt x="623" y="450"/>
                        </a:lnTo>
                        <a:lnTo>
                          <a:pt x="734" y="367"/>
                        </a:lnTo>
                        <a:lnTo>
                          <a:pt x="786" y="255"/>
                        </a:lnTo>
                        <a:lnTo>
                          <a:pt x="786" y="167"/>
                        </a:lnTo>
                        <a:lnTo>
                          <a:pt x="734" y="83"/>
                        </a:lnTo>
                        <a:lnTo>
                          <a:pt x="623" y="26"/>
                        </a:lnTo>
                        <a:lnTo>
                          <a:pt x="486" y="0"/>
                        </a:lnTo>
                        <a:lnTo>
                          <a:pt x="327" y="26"/>
                        </a:lnTo>
                        <a:lnTo>
                          <a:pt x="176" y="97"/>
                        </a:lnTo>
                        <a:lnTo>
                          <a:pt x="52" y="194"/>
                        </a:lnTo>
                        <a:lnTo>
                          <a:pt x="0" y="309"/>
                        </a:lnTo>
                        <a:lnTo>
                          <a:pt x="0" y="393"/>
                        </a:lnTo>
                        <a:lnTo>
                          <a:pt x="52" y="477"/>
                        </a:lnTo>
                        <a:lnTo>
                          <a:pt x="163" y="534"/>
                        </a:lnTo>
                        <a:lnTo>
                          <a:pt x="300" y="561"/>
                        </a:lnTo>
                        <a:lnTo>
                          <a:pt x="459" y="534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" name=""/>
                <p:cNvGrpSpPr/>
                <p:nvPr/>
              </p:nvGrpSpPr>
              <p:grpSpPr>
                <a:xfrm>
                  <a:off x="7688160" y="484200"/>
                  <a:ext cx="773640" cy="836640"/>
                  <a:chOff x="7688160" y="484200"/>
                  <a:chExt cx="773640" cy="83664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 flipV="1">
                    <a:off x="7969320" y="628560"/>
                    <a:ext cx="0" cy="55404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688160" y="1125360"/>
                    <a:ext cx="290880" cy="195480"/>
                  </a:xfrm>
                  <a:custGeom>
                    <a:avLst/>
                    <a:gdLst/>
                    <a:ahLst/>
                    <a:rect l="0" t="0" r="r" b="b"/>
                    <a:pathLst>
                      <a:path w="808" h="543">
                        <a:moveTo>
                          <a:pt x="473" y="516"/>
                        </a:moveTo>
                        <a:lnTo>
                          <a:pt x="640" y="435"/>
                        </a:lnTo>
                        <a:lnTo>
                          <a:pt x="753" y="354"/>
                        </a:lnTo>
                        <a:lnTo>
                          <a:pt x="808" y="245"/>
                        </a:lnTo>
                        <a:lnTo>
                          <a:pt x="808" y="161"/>
                        </a:lnTo>
                        <a:lnTo>
                          <a:pt x="753" y="80"/>
                        </a:lnTo>
                        <a:lnTo>
                          <a:pt x="640" y="26"/>
                        </a:lnTo>
                        <a:lnTo>
                          <a:pt x="501" y="0"/>
                        </a:lnTo>
                        <a:lnTo>
                          <a:pt x="335" y="26"/>
                        </a:lnTo>
                        <a:lnTo>
                          <a:pt x="165" y="107"/>
                        </a:lnTo>
                        <a:lnTo>
                          <a:pt x="55" y="188"/>
                        </a:lnTo>
                        <a:lnTo>
                          <a:pt x="0" y="300"/>
                        </a:lnTo>
                        <a:lnTo>
                          <a:pt x="0" y="381"/>
                        </a:lnTo>
                        <a:lnTo>
                          <a:pt x="55" y="462"/>
                        </a:lnTo>
                        <a:lnTo>
                          <a:pt x="165" y="516"/>
                        </a:lnTo>
                        <a:lnTo>
                          <a:pt x="307" y="543"/>
                        </a:lnTo>
                        <a:lnTo>
                          <a:pt x="473" y="516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964640" y="484200"/>
                    <a:ext cx="481320" cy="31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337" h="874">
                        <a:moveTo>
                          <a:pt x="1337" y="507"/>
                        </a:moveTo>
                        <a:lnTo>
                          <a:pt x="1279" y="591"/>
                        </a:lnTo>
                        <a:lnTo>
                          <a:pt x="1192" y="647"/>
                        </a:lnTo>
                        <a:lnTo>
                          <a:pt x="1105" y="675"/>
                        </a:lnTo>
                        <a:lnTo>
                          <a:pt x="1048" y="703"/>
                        </a:lnTo>
                        <a:lnTo>
                          <a:pt x="871" y="703"/>
                        </a:lnTo>
                        <a:lnTo>
                          <a:pt x="697" y="703"/>
                        </a:lnTo>
                        <a:lnTo>
                          <a:pt x="523" y="675"/>
                        </a:lnTo>
                        <a:lnTo>
                          <a:pt x="346" y="703"/>
                        </a:lnTo>
                        <a:lnTo>
                          <a:pt x="260" y="703"/>
                        </a:lnTo>
                        <a:lnTo>
                          <a:pt x="173" y="759"/>
                        </a:lnTo>
                        <a:lnTo>
                          <a:pt x="86" y="790"/>
                        </a:lnTo>
                        <a:lnTo>
                          <a:pt x="0" y="874"/>
                        </a:lnTo>
                        <a:lnTo>
                          <a:pt x="0" y="366"/>
                        </a:lnTo>
                        <a:lnTo>
                          <a:pt x="86" y="279"/>
                        </a:lnTo>
                        <a:lnTo>
                          <a:pt x="173" y="223"/>
                        </a:lnTo>
                        <a:lnTo>
                          <a:pt x="260" y="195"/>
                        </a:lnTo>
                        <a:lnTo>
                          <a:pt x="346" y="167"/>
                        </a:lnTo>
                        <a:lnTo>
                          <a:pt x="523" y="167"/>
                        </a:lnTo>
                        <a:lnTo>
                          <a:pt x="697" y="195"/>
                        </a:lnTo>
                        <a:lnTo>
                          <a:pt x="871" y="195"/>
                        </a:lnTo>
                        <a:lnTo>
                          <a:pt x="1048" y="167"/>
                        </a:lnTo>
                        <a:lnTo>
                          <a:pt x="1105" y="167"/>
                        </a:lnTo>
                        <a:lnTo>
                          <a:pt x="1192" y="111"/>
                        </a:lnTo>
                        <a:lnTo>
                          <a:pt x="1279" y="83"/>
                        </a:lnTo>
                        <a:lnTo>
                          <a:pt x="1337" y="0"/>
                        </a:lnTo>
                        <a:lnTo>
                          <a:pt x="1337" y="507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 flipV="1">
                    <a:off x="8453520" y="496800"/>
                    <a:ext cx="0" cy="57960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172360" y="1017720"/>
                    <a:ext cx="28944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804" h="539">
                        <a:moveTo>
                          <a:pt x="470" y="513"/>
                        </a:moveTo>
                        <a:lnTo>
                          <a:pt x="636" y="432"/>
                        </a:lnTo>
                        <a:lnTo>
                          <a:pt x="749" y="351"/>
                        </a:lnTo>
                        <a:lnTo>
                          <a:pt x="804" y="244"/>
                        </a:lnTo>
                        <a:lnTo>
                          <a:pt x="804" y="161"/>
                        </a:lnTo>
                        <a:lnTo>
                          <a:pt x="749" y="80"/>
                        </a:lnTo>
                        <a:lnTo>
                          <a:pt x="636" y="26"/>
                        </a:lnTo>
                        <a:lnTo>
                          <a:pt x="498" y="0"/>
                        </a:lnTo>
                        <a:lnTo>
                          <a:pt x="333" y="26"/>
                        </a:lnTo>
                        <a:lnTo>
                          <a:pt x="164" y="107"/>
                        </a:lnTo>
                        <a:lnTo>
                          <a:pt x="54" y="188"/>
                        </a:lnTo>
                        <a:lnTo>
                          <a:pt x="0" y="298"/>
                        </a:lnTo>
                        <a:lnTo>
                          <a:pt x="0" y="378"/>
                        </a:lnTo>
                        <a:lnTo>
                          <a:pt x="54" y="459"/>
                        </a:lnTo>
                        <a:lnTo>
                          <a:pt x="164" y="513"/>
                        </a:lnTo>
                        <a:lnTo>
                          <a:pt x="306" y="539"/>
                        </a:lnTo>
                        <a:lnTo>
                          <a:pt x="470" y="513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1397160" y="204840"/>
                  <a:ext cx="798840" cy="822600"/>
                  <a:chOff x="1397160" y="204840"/>
                  <a:chExt cx="798840" cy="82260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 flipV="1">
                    <a:off x="1693800" y="358920"/>
                    <a:ext cx="0" cy="56016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1397160" y="82692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1689120" y="204840"/>
                    <a:ext cx="493920" cy="32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372" h="901">
                        <a:moveTo>
                          <a:pt x="1372" y="522"/>
                        </a:moveTo>
                        <a:lnTo>
                          <a:pt x="1313" y="609"/>
                        </a:lnTo>
                        <a:lnTo>
                          <a:pt x="1224" y="666"/>
                        </a:lnTo>
                        <a:lnTo>
                          <a:pt x="1135" y="696"/>
                        </a:lnTo>
                        <a:lnTo>
                          <a:pt x="1075" y="725"/>
                        </a:lnTo>
                        <a:lnTo>
                          <a:pt x="894" y="725"/>
                        </a:lnTo>
                        <a:lnTo>
                          <a:pt x="716" y="725"/>
                        </a:lnTo>
                        <a:lnTo>
                          <a:pt x="537" y="696"/>
                        </a:lnTo>
                        <a:lnTo>
                          <a:pt x="356" y="725"/>
                        </a:lnTo>
                        <a:lnTo>
                          <a:pt x="267" y="725"/>
                        </a:lnTo>
                        <a:lnTo>
                          <a:pt x="178" y="783"/>
                        </a:lnTo>
                        <a:lnTo>
                          <a:pt x="89" y="815"/>
                        </a:lnTo>
                        <a:lnTo>
                          <a:pt x="0" y="901"/>
                        </a:lnTo>
                        <a:lnTo>
                          <a:pt x="0" y="378"/>
                        </a:lnTo>
                        <a:lnTo>
                          <a:pt x="89" y="289"/>
                        </a:lnTo>
                        <a:lnTo>
                          <a:pt x="178" y="231"/>
                        </a:lnTo>
                        <a:lnTo>
                          <a:pt x="267" y="201"/>
                        </a:lnTo>
                        <a:lnTo>
                          <a:pt x="356" y="172"/>
                        </a:lnTo>
                        <a:lnTo>
                          <a:pt x="537" y="172"/>
                        </a:lnTo>
                        <a:lnTo>
                          <a:pt x="716" y="201"/>
                        </a:lnTo>
                        <a:lnTo>
                          <a:pt x="894" y="201"/>
                        </a:lnTo>
                        <a:lnTo>
                          <a:pt x="1075" y="172"/>
                        </a:lnTo>
                        <a:lnTo>
                          <a:pt x="1135" y="172"/>
                        </a:lnTo>
                        <a:lnTo>
                          <a:pt x="1224" y="115"/>
                        </a:lnTo>
                        <a:lnTo>
                          <a:pt x="1313" y="86"/>
                        </a:lnTo>
                        <a:lnTo>
                          <a:pt x="1372" y="0"/>
                        </a:lnTo>
                        <a:lnTo>
                          <a:pt x="1372" y="522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 flipV="1">
                    <a:off x="2190600" y="212760"/>
                    <a:ext cx="0" cy="57636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1893960" y="71748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cf0e30"/>
                  </a:solidFill>
                  <a:ln w="12600">
                    <a:solidFill>
                      <a:srgbClr val="cf0e3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4764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143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