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9360"/>
            <a:ext cx="762480" cy="6836040"/>
            <a:chOff x="0" y="9360"/>
            <a:chExt cx="762480" cy="6836040"/>
          </a:xfrm>
        </p:grpSpPr>
        <p:sp>
          <p:nvSpPr>
            <p:cNvPr id="1" name=""/>
            <p:cNvSpPr/>
            <p:nvPr/>
          </p:nvSpPr>
          <p:spPr>
            <a:xfrm>
              <a:off x="0" y="9360"/>
              <a:ext cx="762120" cy="6835680"/>
            </a:xfrm>
            <a:prstGeom prst="rect">
              <a:avLst/>
            </a:prstGeom>
            <a:gradFill rotWithShape="0">
              <a:gsLst>
                <a:gs pos="0">
                  <a:srgbClr val="c0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9360"/>
              <a:ext cx="762480" cy="6836040"/>
            </a:xfrm>
            <a:custGeom>
              <a:avLst/>
              <a:gdLst/>
              <a:ahLst/>
              <a:rect l="0" t="0" r="r" b="b"/>
              <a:pathLst>
                <a:path fill="none" w="2118" h="18989">
                  <a:moveTo>
                    <a:pt x="0" y="0"/>
                  </a:moveTo>
                  <a:lnTo>
                    <a:pt x="0" y="18989"/>
                  </a:lnTo>
                  <a:lnTo>
                    <a:pt x="706" y="18989"/>
                  </a:lnTo>
                  <a:lnTo>
                    <a:pt x="706" y="0"/>
                  </a:lnTo>
                  <a:lnTo>
                    <a:pt x="1412" y="0"/>
                  </a:lnTo>
                  <a:lnTo>
                    <a:pt x="1412" y="18989"/>
                  </a:lnTo>
                  <a:lnTo>
                    <a:pt x="2118" y="18989"/>
                  </a:lnTo>
                  <a:lnTo>
                    <a:pt x="2118" y="0"/>
                  </a:lnTo>
                  <a:lnTo>
                    <a:pt x="2118" y="654"/>
                  </a:lnTo>
                  <a:lnTo>
                    <a:pt x="0" y="654"/>
                  </a:lnTo>
                  <a:lnTo>
                    <a:pt x="0" y="1309"/>
                  </a:lnTo>
                  <a:lnTo>
                    <a:pt x="2118" y="1309"/>
                  </a:lnTo>
                  <a:lnTo>
                    <a:pt x="2118" y="1964"/>
                  </a:lnTo>
                  <a:lnTo>
                    <a:pt x="0" y="1964"/>
                  </a:lnTo>
                  <a:lnTo>
                    <a:pt x="0" y="2619"/>
                  </a:lnTo>
                  <a:lnTo>
                    <a:pt x="2118" y="2619"/>
                  </a:lnTo>
                  <a:lnTo>
                    <a:pt x="2118" y="3273"/>
                  </a:lnTo>
                  <a:lnTo>
                    <a:pt x="0" y="3273"/>
                  </a:lnTo>
                  <a:lnTo>
                    <a:pt x="0" y="3928"/>
                  </a:lnTo>
                  <a:lnTo>
                    <a:pt x="2118" y="3928"/>
                  </a:lnTo>
                  <a:lnTo>
                    <a:pt x="2118" y="4583"/>
                  </a:lnTo>
                  <a:lnTo>
                    <a:pt x="0" y="4583"/>
                  </a:lnTo>
                  <a:lnTo>
                    <a:pt x="0" y="5238"/>
                  </a:lnTo>
                  <a:lnTo>
                    <a:pt x="2118" y="5238"/>
                  </a:lnTo>
                  <a:lnTo>
                    <a:pt x="2118" y="5892"/>
                  </a:lnTo>
                  <a:lnTo>
                    <a:pt x="0" y="5892"/>
                  </a:lnTo>
                  <a:lnTo>
                    <a:pt x="0" y="6547"/>
                  </a:lnTo>
                  <a:lnTo>
                    <a:pt x="2118" y="6547"/>
                  </a:lnTo>
                  <a:lnTo>
                    <a:pt x="2118" y="7202"/>
                  </a:lnTo>
                  <a:lnTo>
                    <a:pt x="0" y="7202"/>
                  </a:lnTo>
                  <a:lnTo>
                    <a:pt x="0" y="7857"/>
                  </a:lnTo>
                  <a:lnTo>
                    <a:pt x="2118" y="7857"/>
                  </a:lnTo>
                  <a:lnTo>
                    <a:pt x="2118" y="8511"/>
                  </a:lnTo>
                  <a:lnTo>
                    <a:pt x="0" y="8511"/>
                  </a:lnTo>
                  <a:lnTo>
                    <a:pt x="0" y="9166"/>
                  </a:lnTo>
                  <a:lnTo>
                    <a:pt x="2118" y="9166"/>
                  </a:lnTo>
                  <a:lnTo>
                    <a:pt x="2118" y="9822"/>
                  </a:lnTo>
                  <a:lnTo>
                    <a:pt x="0" y="9822"/>
                  </a:lnTo>
                  <a:lnTo>
                    <a:pt x="0" y="10477"/>
                  </a:lnTo>
                  <a:lnTo>
                    <a:pt x="2118" y="10477"/>
                  </a:lnTo>
                  <a:lnTo>
                    <a:pt x="2118" y="11132"/>
                  </a:lnTo>
                  <a:lnTo>
                    <a:pt x="0" y="11132"/>
                  </a:lnTo>
                  <a:lnTo>
                    <a:pt x="0" y="11786"/>
                  </a:lnTo>
                  <a:lnTo>
                    <a:pt x="2118" y="11786"/>
                  </a:lnTo>
                  <a:lnTo>
                    <a:pt x="2118" y="12441"/>
                  </a:lnTo>
                  <a:lnTo>
                    <a:pt x="0" y="12441"/>
                  </a:lnTo>
                  <a:lnTo>
                    <a:pt x="0" y="13096"/>
                  </a:lnTo>
                  <a:lnTo>
                    <a:pt x="2118" y="13096"/>
                  </a:lnTo>
                  <a:lnTo>
                    <a:pt x="2118" y="13751"/>
                  </a:lnTo>
                  <a:lnTo>
                    <a:pt x="0" y="13751"/>
                  </a:lnTo>
                  <a:lnTo>
                    <a:pt x="0" y="14405"/>
                  </a:lnTo>
                  <a:lnTo>
                    <a:pt x="2118" y="14405"/>
                  </a:lnTo>
                  <a:lnTo>
                    <a:pt x="2118" y="15060"/>
                  </a:lnTo>
                  <a:lnTo>
                    <a:pt x="0" y="15060"/>
                  </a:lnTo>
                  <a:lnTo>
                    <a:pt x="0" y="15715"/>
                  </a:lnTo>
                  <a:lnTo>
                    <a:pt x="2118" y="15715"/>
                  </a:lnTo>
                  <a:lnTo>
                    <a:pt x="2118" y="16370"/>
                  </a:lnTo>
                  <a:lnTo>
                    <a:pt x="0" y="16370"/>
                  </a:lnTo>
                  <a:lnTo>
                    <a:pt x="0" y="17024"/>
                  </a:lnTo>
                  <a:lnTo>
                    <a:pt x="2118" y="17024"/>
                  </a:lnTo>
                  <a:lnTo>
                    <a:pt x="2118" y="17679"/>
                  </a:lnTo>
                  <a:lnTo>
                    <a:pt x="0" y="17679"/>
                  </a:lnTo>
                  <a:lnTo>
                    <a:pt x="0" y="18334"/>
                  </a:lnTo>
                  <a:lnTo>
                    <a:pt x="2118" y="18334"/>
                  </a:lnTo>
                  <a:lnTo>
                    <a:pt x="2118" y="18989"/>
                  </a:lnTo>
                  <a:lnTo>
                    <a:pt x="0" y="18989"/>
                  </a:lnTo>
                  <a:lnTo>
                    <a:pt x="0" y="18989"/>
                  </a:lnTo>
                  <a:lnTo>
                    <a:pt x="2118" y="18989"/>
                  </a:lnTo>
                  <a:lnTo>
                    <a:pt x="2118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066680" y="57168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066680" y="198108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