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57200"/>
            <a:ext cx="9144000" cy="6019920"/>
            <a:chOff x="0" y="457200"/>
            <a:chExt cx="9144000" cy="6019920"/>
          </a:xfrm>
        </p:grpSpPr>
        <p:grpSp>
          <p:nvGrpSpPr>
            <p:cNvPr id="1" name=""/>
            <p:cNvGrpSpPr/>
            <p:nvPr/>
          </p:nvGrpSpPr>
          <p:grpSpPr>
            <a:xfrm>
              <a:off x="0" y="4286160"/>
              <a:ext cx="9144000" cy="1524240"/>
              <a:chOff x="0" y="4286160"/>
              <a:chExt cx="9144000" cy="15242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0" y="4286160"/>
                <a:ext cx="9144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0" y="4438800"/>
                <a:ext cx="9137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0" y="4591080"/>
                <a:ext cx="9131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0" y="4743360"/>
                <a:ext cx="9131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0" y="4896000"/>
                <a:ext cx="9131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0" y="5048280"/>
                <a:ext cx="9131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0" y="5200560"/>
                <a:ext cx="9131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0" y="5353200"/>
                <a:ext cx="9131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0" y="5505480"/>
                <a:ext cx="9131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0" y="5657760"/>
                <a:ext cx="9131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0" y="5810400"/>
                <a:ext cx="9131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" name=""/>
            <p:cNvSpPr/>
            <p:nvPr/>
          </p:nvSpPr>
          <p:spPr>
            <a:xfrm>
              <a:off x="457200" y="457200"/>
              <a:ext cx="8229600" cy="6019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957400" y="905040"/>
            <a:ext cx="3228840" cy="78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cecece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