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c4c4c4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5943600"/>
              <a:ext cx="8382600" cy="762480"/>
              <a:chOff x="380880" y="5943600"/>
              <a:chExt cx="8382600" cy="762480"/>
            </a:xfrm>
          </p:grpSpPr>
          <p:sp>
            <p:nvSpPr>
              <p:cNvPr id="3" name=""/>
              <p:cNvSpPr/>
              <p:nvPr/>
            </p:nvSpPr>
            <p:spPr>
              <a:xfrm>
                <a:off x="380880" y="5943600"/>
                <a:ext cx="581400" cy="762480"/>
              </a:xfrm>
              <a:custGeom>
                <a:avLst/>
                <a:gdLst/>
                <a:ahLst/>
                <a:rect l="0" t="0" r="r" b="b"/>
                <a:pathLst>
                  <a:path w="1615" h="2118">
                    <a:moveTo>
                      <a:pt x="0" y="0"/>
                    </a:moveTo>
                    <a:lnTo>
                      <a:pt x="1615" y="0"/>
                    </a:lnTo>
                    <a:lnTo>
                      <a:pt x="1615" y="2118"/>
                    </a:lnTo>
                    <a:lnTo>
                      <a:pt x="0" y="2118"/>
                    </a:lnTo>
                    <a:lnTo>
                      <a:pt x="0" y="530"/>
                    </a:lnTo>
                    <a:lnTo>
                      <a:pt x="1212" y="530"/>
                    </a:lnTo>
                    <a:lnTo>
                      <a:pt x="1212" y="1588"/>
                    </a:lnTo>
                    <a:lnTo>
                      <a:pt x="403" y="1588"/>
                    </a:lnTo>
                    <a:lnTo>
                      <a:pt x="403" y="1059"/>
                    </a:lnTo>
                    <a:lnTo>
                      <a:pt x="606" y="1059"/>
                    </a:lnTo>
                    <a:lnTo>
                      <a:pt x="606" y="1323"/>
                    </a:lnTo>
                    <a:lnTo>
                      <a:pt x="1009" y="1323"/>
                    </a:lnTo>
                    <a:lnTo>
                      <a:pt x="1009" y="794"/>
                    </a:lnTo>
                    <a:lnTo>
                      <a:pt x="201" y="794"/>
                    </a:lnTo>
                    <a:lnTo>
                      <a:pt x="201" y="1854"/>
                    </a:lnTo>
                    <a:lnTo>
                      <a:pt x="1414" y="1854"/>
                    </a:lnTo>
                    <a:lnTo>
                      <a:pt x="1414" y="264"/>
                    </a:lnTo>
                    <a:lnTo>
                      <a:pt x="0" y="2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1090440" y="5943600"/>
                <a:ext cx="581400" cy="762480"/>
              </a:xfrm>
              <a:custGeom>
                <a:avLst/>
                <a:gdLst/>
                <a:ahLst/>
                <a:rect l="0" t="0" r="r" b="b"/>
                <a:pathLst>
                  <a:path w="1615" h="2118">
                    <a:moveTo>
                      <a:pt x="0" y="0"/>
                    </a:moveTo>
                    <a:lnTo>
                      <a:pt x="1615" y="0"/>
                    </a:lnTo>
                    <a:lnTo>
                      <a:pt x="1615" y="2118"/>
                    </a:lnTo>
                    <a:lnTo>
                      <a:pt x="0" y="2118"/>
                    </a:lnTo>
                    <a:lnTo>
                      <a:pt x="0" y="530"/>
                    </a:lnTo>
                    <a:lnTo>
                      <a:pt x="1212" y="530"/>
                    </a:lnTo>
                    <a:lnTo>
                      <a:pt x="1212" y="1588"/>
                    </a:lnTo>
                    <a:lnTo>
                      <a:pt x="403" y="1588"/>
                    </a:lnTo>
                    <a:lnTo>
                      <a:pt x="403" y="1059"/>
                    </a:lnTo>
                    <a:lnTo>
                      <a:pt x="606" y="1059"/>
                    </a:lnTo>
                    <a:lnTo>
                      <a:pt x="606" y="1323"/>
                    </a:lnTo>
                    <a:lnTo>
                      <a:pt x="1009" y="1323"/>
                    </a:lnTo>
                    <a:lnTo>
                      <a:pt x="1009" y="794"/>
                    </a:lnTo>
                    <a:lnTo>
                      <a:pt x="201" y="794"/>
                    </a:lnTo>
                    <a:lnTo>
                      <a:pt x="201" y="1854"/>
                    </a:lnTo>
                    <a:lnTo>
                      <a:pt x="1414" y="1854"/>
                    </a:lnTo>
                    <a:lnTo>
                      <a:pt x="1414" y="264"/>
                    </a:lnTo>
                    <a:lnTo>
                      <a:pt x="0" y="2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798560" y="5943600"/>
                <a:ext cx="579960" cy="762480"/>
              </a:xfrm>
              <a:custGeom>
                <a:avLst/>
                <a:gdLst/>
                <a:ahLst/>
                <a:rect l="0" t="0" r="r" b="b"/>
                <a:pathLst>
                  <a:path w="1611" h="2118">
                    <a:moveTo>
                      <a:pt x="0" y="0"/>
                    </a:moveTo>
                    <a:lnTo>
                      <a:pt x="1611" y="0"/>
                    </a:lnTo>
                    <a:lnTo>
                      <a:pt x="1611" y="2118"/>
                    </a:lnTo>
                    <a:lnTo>
                      <a:pt x="0" y="2118"/>
                    </a:lnTo>
                    <a:lnTo>
                      <a:pt x="0" y="530"/>
                    </a:lnTo>
                    <a:lnTo>
                      <a:pt x="1209" y="530"/>
                    </a:lnTo>
                    <a:lnTo>
                      <a:pt x="1209" y="1588"/>
                    </a:lnTo>
                    <a:lnTo>
                      <a:pt x="402" y="1588"/>
                    </a:lnTo>
                    <a:lnTo>
                      <a:pt x="402" y="1059"/>
                    </a:lnTo>
                    <a:lnTo>
                      <a:pt x="604" y="1059"/>
                    </a:lnTo>
                    <a:lnTo>
                      <a:pt x="604" y="1323"/>
                    </a:lnTo>
                    <a:lnTo>
                      <a:pt x="1006" y="1323"/>
                    </a:lnTo>
                    <a:lnTo>
                      <a:pt x="1006" y="794"/>
                    </a:lnTo>
                    <a:lnTo>
                      <a:pt x="201" y="794"/>
                    </a:lnTo>
                    <a:lnTo>
                      <a:pt x="201" y="1854"/>
                    </a:lnTo>
                    <a:lnTo>
                      <a:pt x="1410" y="1854"/>
                    </a:lnTo>
                    <a:lnTo>
                      <a:pt x="1410" y="264"/>
                    </a:lnTo>
                    <a:lnTo>
                      <a:pt x="0" y="2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508120" y="5943600"/>
                <a:ext cx="581400" cy="762480"/>
              </a:xfrm>
              <a:custGeom>
                <a:avLst/>
                <a:gdLst/>
                <a:ahLst/>
                <a:rect l="0" t="0" r="r" b="b"/>
                <a:pathLst>
                  <a:path w="1615" h="2118">
                    <a:moveTo>
                      <a:pt x="0" y="0"/>
                    </a:moveTo>
                    <a:lnTo>
                      <a:pt x="1615" y="0"/>
                    </a:lnTo>
                    <a:lnTo>
                      <a:pt x="1615" y="2118"/>
                    </a:lnTo>
                    <a:lnTo>
                      <a:pt x="0" y="2118"/>
                    </a:lnTo>
                    <a:lnTo>
                      <a:pt x="0" y="530"/>
                    </a:lnTo>
                    <a:lnTo>
                      <a:pt x="1212" y="530"/>
                    </a:lnTo>
                    <a:lnTo>
                      <a:pt x="1212" y="1588"/>
                    </a:lnTo>
                    <a:lnTo>
                      <a:pt x="403" y="1588"/>
                    </a:lnTo>
                    <a:lnTo>
                      <a:pt x="403" y="1059"/>
                    </a:lnTo>
                    <a:lnTo>
                      <a:pt x="606" y="1059"/>
                    </a:lnTo>
                    <a:lnTo>
                      <a:pt x="606" y="1323"/>
                    </a:lnTo>
                    <a:lnTo>
                      <a:pt x="1009" y="1323"/>
                    </a:lnTo>
                    <a:lnTo>
                      <a:pt x="1009" y="794"/>
                    </a:lnTo>
                    <a:lnTo>
                      <a:pt x="201" y="794"/>
                    </a:lnTo>
                    <a:lnTo>
                      <a:pt x="201" y="1854"/>
                    </a:lnTo>
                    <a:lnTo>
                      <a:pt x="1414" y="1854"/>
                    </a:lnTo>
                    <a:lnTo>
                      <a:pt x="1414" y="264"/>
                    </a:lnTo>
                    <a:lnTo>
                      <a:pt x="0" y="2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3218040" y="5943600"/>
                <a:ext cx="581400" cy="762480"/>
              </a:xfrm>
              <a:custGeom>
                <a:avLst/>
                <a:gdLst/>
                <a:ahLst/>
                <a:rect l="0" t="0" r="r" b="b"/>
                <a:pathLst>
                  <a:path w="1615" h="2118">
                    <a:moveTo>
                      <a:pt x="0" y="0"/>
                    </a:moveTo>
                    <a:lnTo>
                      <a:pt x="1615" y="0"/>
                    </a:lnTo>
                    <a:lnTo>
                      <a:pt x="1615" y="2118"/>
                    </a:lnTo>
                    <a:lnTo>
                      <a:pt x="0" y="2118"/>
                    </a:lnTo>
                    <a:lnTo>
                      <a:pt x="0" y="530"/>
                    </a:lnTo>
                    <a:lnTo>
                      <a:pt x="1212" y="530"/>
                    </a:lnTo>
                    <a:lnTo>
                      <a:pt x="1212" y="1588"/>
                    </a:lnTo>
                    <a:lnTo>
                      <a:pt x="403" y="1588"/>
                    </a:lnTo>
                    <a:lnTo>
                      <a:pt x="403" y="1059"/>
                    </a:lnTo>
                    <a:lnTo>
                      <a:pt x="606" y="1059"/>
                    </a:lnTo>
                    <a:lnTo>
                      <a:pt x="606" y="1323"/>
                    </a:lnTo>
                    <a:lnTo>
                      <a:pt x="1009" y="1323"/>
                    </a:lnTo>
                    <a:lnTo>
                      <a:pt x="1009" y="794"/>
                    </a:lnTo>
                    <a:lnTo>
                      <a:pt x="201" y="794"/>
                    </a:lnTo>
                    <a:lnTo>
                      <a:pt x="201" y="1854"/>
                    </a:lnTo>
                    <a:lnTo>
                      <a:pt x="1414" y="1854"/>
                    </a:lnTo>
                    <a:lnTo>
                      <a:pt x="1414" y="264"/>
                    </a:lnTo>
                    <a:lnTo>
                      <a:pt x="0" y="2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927600" y="5943600"/>
                <a:ext cx="581400" cy="762480"/>
              </a:xfrm>
              <a:custGeom>
                <a:avLst/>
                <a:gdLst/>
                <a:ahLst/>
                <a:rect l="0" t="0" r="r" b="b"/>
                <a:pathLst>
                  <a:path w="1615" h="2118">
                    <a:moveTo>
                      <a:pt x="0" y="0"/>
                    </a:moveTo>
                    <a:lnTo>
                      <a:pt x="1615" y="0"/>
                    </a:lnTo>
                    <a:lnTo>
                      <a:pt x="1615" y="2118"/>
                    </a:lnTo>
                    <a:lnTo>
                      <a:pt x="0" y="2118"/>
                    </a:lnTo>
                    <a:lnTo>
                      <a:pt x="0" y="530"/>
                    </a:lnTo>
                    <a:lnTo>
                      <a:pt x="1212" y="530"/>
                    </a:lnTo>
                    <a:lnTo>
                      <a:pt x="1212" y="1588"/>
                    </a:lnTo>
                    <a:lnTo>
                      <a:pt x="403" y="1588"/>
                    </a:lnTo>
                    <a:lnTo>
                      <a:pt x="403" y="1059"/>
                    </a:lnTo>
                    <a:lnTo>
                      <a:pt x="606" y="1059"/>
                    </a:lnTo>
                    <a:lnTo>
                      <a:pt x="606" y="1323"/>
                    </a:lnTo>
                    <a:lnTo>
                      <a:pt x="1009" y="1323"/>
                    </a:lnTo>
                    <a:lnTo>
                      <a:pt x="1009" y="794"/>
                    </a:lnTo>
                    <a:lnTo>
                      <a:pt x="201" y="794"/>
                    </a:lnTo>
                    <a:lnTo>
                      <a:pt x="201" y="1854"/>
                    </a:lnTo>
                    <a:lnTo>
                      <a:pt x="1414" y="1854"/>
                    </a:lnTo>
                    <a:lnTo>
                      <a:pt x="1414" y="264"/>
                    </a:lnTo>
                    <a:lnTo>
                      <a:pt x="0" y="2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635360" y="5943600"/>
                <a:ext cx="581400" cy="762480"/>
              </a:xfrm>
              <a:custGeom>
                <a:avLst/>
                <a:gdLst/>
                <a:ahLst/>
                <a:rect l="0" t="0" r="r" b="b"/>
                <a:pathLst>
                  <a:path w="1615" h="2118">
                    <a:moveTo>
                      <a:pt x="0" y="0"/>
                    </a:moveTo>
                    <a:lnTo>
                      <a:pt x="1615" y="0"/>
                    </a:lnTo>
                    <a:lnTo>
                      <a:pt x="1615" y="2118"/>
                    </a:lnTo>
                    <a:lnTo>
                      <a:pt x="0" y="2118"/>
                    </a:lnTo>
                    <a:lnTo>
                      <a:pt x="0" y="530"/>
                    </a:lnTo>
                    <a:lnTo>
                      <a:pt x="1212" y="530"/>
                    </a:lnTo>
                    <a:lnTo>
                      <a:pt x="1212" y="1588"/>
                    </a:lnTo>
                    <a:lnTo>
                      <a:pt x="403" y="1588"/>
                    </a:lnTo>
                    <a:lnTo>
                      <a:pt x="403" y="1059"/>
                    </a:lnTo>
                    <a:lnTo>
                      <a:pt x="606" y="1059"/>
                    </a:lnTo>
                    <a:lnTo>
                      <a:pt x="606" y="1323"/>
                    </a:lnTo>
                    <a:lnTo>
                      <a:pt x="1009" y="1323"/>
                    </a:lnTo>
                    <a:lnTo>
                      <a:pt x="1009" y="794"/>
                    </a:lnTo>
                    <a:lnTo>
                      <a:pt x="201" y="794"/>
                    </a:lnTo>
                    <a:lnTo>
                      <a:pt x="201" y="1854"/>
                    </a:lnTo>
                    <a:lnTo>
                      <a:pt x="1414" y="1854"/>
                    </a:lnTo>
                    <a:lnTo>
                      <a:pt x="1414" y="264"/>
                    </a:lnTo>
                    <a:lnTo>
                      <a:pt x="0" y="2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345280" y="5943600"/>
                <a:ext cx="581400" cy="762480"/>
              </a:xfrm>
              <a:custGeom>
                <a:avLst/>
                <a:gdLst/>
                <a:ahLst/>
                <a:rect l="0" t="0" r="r" b="b"/>
                <a:pathLst>
                  <a:path w="1615" h="2118">
                    <a:moveTo>
                      <a:pt x="0" y="0"/>
                    </a:moveTo>
                    <a:lnTo>
                      <a:pt x="1615" y="0"/>
                    </a:lnTo>
                    <a:lnTo>
                      <a:pt x="1615" y="2118"/>
                    </a:lnTo>
                    <a:lnTo>
                      <a:pt x="0" y="2118"/>
                    </a:lnTo>
                    <a:lnTo>
                      <a:pt x="0" y="530"/>
                    </a:lnTo>
                    <a:lnTo>
                      <a:pt x="1212" y="530"/>
                    </a:lnTo>
                    <a:lnTo>
                      <a:pt x="1212" y="1588"/>
                    </a:lnTo>
                    <a:lnTo>
                      <a:pt x="403" y="1588"/>
                    </a:lnTo>
                    <a:lnTo>
                      <a:pt x="403" y="1059"/>
                    </a:lnTo>
                    <a:lnTo>
                      <a:pt x="606" y="1059"/>
                    </a:lnTo>
                    <a:lnTo>
                      <a:pt x="606" y="1323"/>
                    </a:lnTo>
                    <a:lnTo>
                      <a:pt x="1009" y="1323"/>
                    </a:lnTo>
                    <a:lnTo>
                      <a:pt x="1009" y="794"/>
                    </a:lnTo>
                    <a:lnTo>
                      <a:pt x="201" y="794"/>
                    </a:lnTo>
                    <a:lnTo>
                      <a:pt x="201" y="1854"/>
                    </a:lnTo>
                    <a:lnTo>
                      <a:pt x="1414" y="1854"/>
                    </a:lnTo>
                    <a:lnTo>
                      <a:pt x="1414" y="264"/>
                    </a:lnTo>
                    <a:lnTo>
                      <a:pt x="0" y="2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054840" y="5943600"/>
                <a:ext cx="581400" cy="762480"/>
              </a:xfrm>
              <a:custGeom>
                <a:avLst/>
                <a:gdLst/>
                <a:ahLst/>
                <a:rect l="0" t="0" r="r" b="b"/>
                <a:pathLst>
                  <a:path w="1615" h="2118">
                    <a:moveTo>
                      <a:pt x="0" y="0"/>
                    </a:moveTo>
                    <a:lnTo>
                      <a:pt x="1615" y="0"/>
                    </a:lnTo>
                    <a:lnTo>
                      <a:pt x="1615" y="2118"/>
                    </a:lnTo>
                    <a:lnTo>
                      <a:pt x="0" y="2118"/>
                    </a:lnTo>
                    <a:lnTo>
                      <a:pt x="0" y="530"/>
                    </a:lnTo>
                    <a:lnTo>
                      <a:pt x="1212" y="530"/>
                    </a:lnTo>
                    <a:lnTo>
                      <a:pt x="1212" y="1588"/>
                    </a:lnTo>
                    <a:lnTo>
                      <a:pt x="403" y="1588"/>
                    </a:lnTo>
                    <a:lnTo>
                      <a:pt x="403" y="1059"/>
                    </a:lnTo>
                    <a:lnTo>
                      <a:pt x="606" y="1059"/>
                    </a:lnTo>
                    <a:lnTo>
                      <a:pt x="606" y="1323"/>
                    </a:lnTo>
                    <a:lnTo>
                      <a:pt x="1009" y="1323"/>
                    </a:lnTo>
                    <a:lnTo>
                      <a:pt x="1009" y="794"/>
                    </a:lnTo>
                    <a:lnTo>
                      <a:pt x="201" y="794"/>
                    </a:lnTo>
                    <a:lnTo>
                      <a:pt x="201" y="1854"/>
                    </a:lnTo>
                    <a:lnTo>
                      <a:pt x="1414" y="1854"/>
                    </a:lnTo>
                    <a:lnTo>
                      <a:pt x="1414" y="264"/>
                    </a:lnTo>
                    <a:lnTo>
                      <a:pt x="0" y="2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765840" y="5943600"/>
                <a:ext cx="579960" cy="762480"/>
              </a:xfrm>
              <a:custGeom>
                <a:avLst/>
                <a:gdLst/>
                <a:ahLst/>
                <a:rect l="0" t="0" r="r" b="b"/>
                <a:pathLst>
                  <a:path w="1611" h="2118">
                    <a:moveTo>
                      <a:pt x="0" y="0"/>
                    </a:moveTo>
                    <a:lnTo>
                      <a:pt x="1611" y="0"/>
                    </a:lnTo>
                    <a:lnTo>
                      <a:pt x="1611" y="2118"/>
                    </a:lnTo>
                    <a:lnTo>
                      <a:pt x="0" y="2118"/>
                    </a:lnTo>
                    <a:lnTo>
                      <a:pt x="0" y="530"/>
                    </a:lnTo>
                    <a:lnTo>
                      <a:pt x="1209" y="530"/>
                    </a:lnTo>
                    <a:lnTo>
                      <a:pt x="1209" y="1588"/>
                    </a:lnTo>
                    <a:lnTo>
                      <a:pt x="402" y="1588"/>
                    </a:lnTo>
                    <a:lnTo>
                      <a:pt x="402" y="1059"/>
                    </a:lnTo>
                    <a:lnTo>
                      <a:pt x="604" y="1059"/>
                    </a:lnTo>
                    <a:lnTo>
                      <a:pt x="604" y="1323"/>
                    </a:lnTo>
                    <a:lnTo>
                      <a:pt x="1006" y="1323"/>
                    </a:lnTo>
                    <a:lnTo>
                      <a:pt x="1006" y="794"/>
                    </a:lnTo>
                    <a:lnTo>
                      <a:pt x="201" y="794"/>
                    </a:lnTo>
                    <a:lnTo>
                      <a:pt x="201" y="1854"/>
                    </a:lnTo>
                    <a:lnTo>
                      <a:pt x="1410" y="1854"/>
                    </a:lnTo>
                    <a:lnTo>
                      <a:pt x="1410" y="264"/>
                    </a:lnTo>
                    <a:lnTo>
                      <a:pt x="0" y="2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472520" y="5943600"/>
                <a:ext cx="581400" cy="762480"/>
              </a:xfrm>
              <a:custGeom>
                <a:avLst/>
                <a:gdLst/>
                <a:ahLst/>
                <a:rect l="0" t="0" r="r" b="b"/>
                <a:pathLst>
                  <a:path w="1615" h="2118">
                    <a:moveTo>
                      <a:pt x="0" y="0"/>
                    </a:moveTo>
                    <a:lnTo>
                      <a:pt x="1615" y="0"/>
                    </a:lnTo>
                    <a:lnTo>
                      <a:pt x="1615" y="2118"/>
                    </a:lnTo>
                    <a:lnTo>
                      <a:pt x="0" y="2118"/>
                    </a:lnTo>
                    <a:lnTo>
                      <a:pt x="0" y="530"/>
                    </a:lnTo>
                    <a:lnTo>
                      <a:pt x="1212" y="530"/>
                    </a:lnTo>
                    <a:lnTo>
                      <a:pt x="1212" y="1588"/>
                    </a:lnTo>
                    <a:lnTo>
                      <a:pt x="403" y="1588"/>
                    </a:lnTo>
                    <a:lnTo>
                      <a:pt x="403" y="1059"/>
                    </a:lnTo>
                    <a:lnTo>
                      <a:pt x="606" y="1059"/>
                    </a:lnTo>
                    <a:lnTo>
                      <a:pt x="606" y="1323"/>
                    </a:lnTo>
                    <a:lnTo>
                      <a:pt x="1009" y="1323"/>
                    </a:lnTo>
                    <a:lnTo>
                      <a:pt x="1009" y="794"/>
                    </a:lnTo>
                    <a:lnTo>
                      <a:pt x="201" y="794"/>
                    </a:lnTo>
                    <a:lnTo>
                      <a:pt x="201" y="1854"/>
                    </a:lnTo>
                    <a:lnTo>
                      <a:pt x="1414" y="1854"/>
                    </a:lnTo>
                    <a:lnTo>
                      <a:pt x="1414" y="264"/>
                    </a:lnTo>
                    <a:lnTo>
                      <a:pt x="0" y="2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182080" y="5943600"/>
                <a:ext cx="581400" cy="762480"/>
              </a:xfrm>
              <a:custGeom>
                <a:avLst/>
                <a:gdLst/>
                <a:ahLst/>
                <a:rect l="0" t="0" r="r" b="b"/>
                <a:pathLst>
                  <a:path w="1615" h="2118">
                    <a:moveTo>
                      <a:pt x="0" y="0"/>
                    </a:moveTo>
                    <a:lnTo>
                      <a:pt x="1615" y="0"/>
                    </a:lnTo>
                    <a:lnTo>
                      <a:pt x="1615" y="2118"/>
                    </a:lnTo>
                    <a:lnTo>
                      <a:pt x="0" y="2118"/>
                    </a:lnTo>
                    <a:lnTo>
                      <a:pt x="0" y="530"/>
                    </a:lnTo>
                    <a:lnTo>
                      <a:pt x="1212" y="530"/>
                    </a:lnTo>
                    <a:lnTo>
                      <a:pt x="1212" y="1588"/>
                    </a:lnTo>
                    <a:lnTo>
                      <a:pt x="403" y="1588"/>
                    </a:lnTo>
                    <a:lnTo>
                      <a:pt x="403" y="1059"/>
                    </a:lnTo>
                    <a:lnTo>
                      <a:pt x="606" y="1059"/>
                    </a:lnTo>
                    <a:lnTo>
                      <a:pt x="606" y="1323"/>
                    </a:lnTo>
                    <a:lnTo>
                      <a:pt x="1009" y="1323"/>
                    </a:lnTo>
                    <a:lnTo>
                      <a:pt x="1009" y="794"/>
                    </a:lnTo>
                    <a:lnTo>
                      <a:pt x="201" y="794"/>
                    </a:lnTo>
                    <a:lnTo>
                      <a:pt x="201" y="1854"/>
                    </a:lnTo>
                    <a:lnTo>
                      <a:pt x="1414" y="1854"/>
                    </a:lnTo>
                    <a:lnTo>
                      <a:pt x="1414" y="264"/>
                    </a:lnTo>
                    <a:lnTo>
                      <a:pt x="0" y="2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" name=""/>
            <p:cNvSpPr/>
            <p:nvPr/>
          </p:nvSpPr>
          <p:spPr>
            <a:xfrm>
              <a:off x="355680" y="0"/>
              <a:ext cx="8432640" cy="5829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11448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486080"/>
            <a:ext cx="777240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474747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474747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