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997840" cy="6845400"/>
            <a:chOff x="0" y="0"/>
            <a:chExt cx="8997840" cy="6845400"/>
          </a:xfrm>
        </p:grpSpPr>
        <p:grpSp>
          <p:nvGrpSpPr>
            <p:cNvPr id="1" name=""/>
            <p:cNvGrpSpPr/>
            <p:nvPr/>
          </p:nvGrpSpPr>
          <p:grpSpPr>
            <a:xfrm>
              <a:off x="838080" y="0"/>
              <a:ext cx="8159760" cy="6845400"/>
              <a:chOff x="838080" y="0"/>
              <a:chExt cx="8159760" cy="68454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8001000" y="0"/>
                <a:ext cx="996840" cy="6845400"/>
                <a:chOff x="8001000" y="0"/>
                <a:chExt cx="996840" cy="68454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8001000" y="0"/>
                  <a:ext cx="996840" cy="684540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8045280" y="0"/>
                  <a:ext cx="903240" cy="6845400"/>
                  <a:chOff x="8045280" y="0"/>
                  <a:chExt cx="903240" cy="6845400"/>
                </a:xfrm>
              </p:grpSpPr>
              <p:grpSp>
                <p:nvGrpSpPr>
                  <p:cNvPr id="5" name=""/>
                  <p:cNvGrpSpPr/>
                  <p:nvPr/>
                </p:nvGrpSpPr>
                <p:grpSpPr>
                  <a:xfrm>
                    <a:off x="8045280" y="0"/>
                    <a:ext cx="644760" cy="6845400"/>
                    <a:chOff x="8045280" y="0"/>
                    <a:chExt cx="644760" cy="6845400"/>
                  </a:xfrm>
                </p:grpSpPr>
                <p:sp>
                  <p:nvSpPr>
                    <p:cNvPr id="6" name=""/>
                    <p:cNvSpPr/>
                    <p:nvPr/>
                  </p:nvSpPr>
                  <p:spPr>
                    <a:xfrm>
                      <a:off x="8045280" y="0"/>
                      <a:ext cx="171360" cy="6845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" name=""/>
                    <p:cNvSpPr/>
                    <p:nvPr/>
                  </p:nvSpPr>
                  <p:spPr>
                    <a:xfrm>
                      <a:off x="8518680" y="0"/>
                      <a:ext cx="171360" cy="6845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8261280" y="0"/>
                    <a:ext cx="600120" cy="6845400"/>
                    <a:chOff x="8261280" y="0"/>
                    <a:chExt cx="600120" cy="684540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8261280" y="0"/>
                      <a:ext cx="125280" cy="6845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" name=""/>
                    <p:cNvSpPr/>
                    <p:nvPr/>
                  </p:nvSpPr>
                  <p:spPr>
                    <a:xfrm>
                      <a:off x="8734320" y="0"/>
                      <a:ext cx="127080" cy="6845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" name=""/>
                  <p:cNvGrpSpPr/>
                  <p:nvPr/>
                </p:nvGrpSpPr>
                <p:grpSpPr>
                  <a:xfrm>
                    <a:off x="8434440" y="0"/>
                    <a:ext cx="514080" cy="6845400"/>
                    <a:chOff x="8434440" y="0"/>
                    <a:chExt cx="514080" cy="6845400"/>
                  </a:xfrm>
                </p:grpSpPr>
                <p:sp>
                  <p:nvSpPr>
                    <p:cNvPr id="12" name=""/>
                    <p:cNvSpPr/>
                    <p:nvPr/>
                  </p:nvSpPr>
                  <p:spPr>
                    <a:xfrm>
                      <a:off x="8434440" y="0"/>
                      <a:ext cx="39600" cy="6845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" name=""/>
                    <p:cNvSpPr/>
                    <p:nvPr/>
                  </p:nvSpPr>
                  <p:spPr>
                    <a:xfrm>
                      <a:off x="8908920" y="0"/>
                      <a:ext cx="39600" cy="6845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4" name=""/>
                <p:cNvGrpSpPr/>
                <p:nvPr/>
              </p:nvGrpSpPr>
              <p:grpSpPr>
                <a:xfrm>
                  <a:off x="8040600" y="270000"/>
                  <a:ext cx="662400" cy="6277320"/>
                  <a:chOff x="8040600" y="270000"/>
                  <a:chExt cx="662400" cy="6277320"/>
                </a:xfrm>
              </p:grpSpPr>
              <p:grpSp>
                <p:nvGrpSpPr>
                  <p:cNvPr id="15" name=""/>
                  <p:cNvGrpSpPr/>
                  <p:nvPr/>
                </p:nvGrpSpPr>
                <p:grpSpPr>
                  <a:xfrm>
                    <a:off x="8040600" y="270000"/>
                    <a:ext cx="662400" cy="1749600"/>
                    <a:chOff x="8040600" y="270000"/>
                    <a:chExt cx="662400" cy="1749600"/>
                  </a:xfrm>
                </p:grpSpPr>
                <p:sp>
                  <p:nvSpPr>
                    <p:cNvPr id="16" name=""/>
                    <p:cNvSpPr/>
                    <p:nvPr/>
                  </p:nvSpPr>
                  <p:spPr>
                    <a:xfrm>
                      <a:off x="8513640" y="270000"/>
                      <a:ext cx="1893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0">
                          <a:moveTo>
                            <a:pt x="257" y="0"/>
                          </a:moveTo>
                          <a:lnTo>
                            <a:pt x="0" y="1138"/>
                          </a:lnTo>
                          <a:lnTo>
                            <a:pt x="257" y="2250"/>
                          </a:lnTo>
                          <a:lnTo>
                            <a:pt x="526" y="1138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" name=""/>
                    <p:cNvSpPr/>
                    <p:nvPr/>
                  </p:nvSpPr>
                  <p:spPr>
                    <a:xfrm>
                      <a:off x="8040600" y="270000"/>
                      <a:ext cx="1893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0">
                          <a:moveTo>
                            <a:pt x="257" y="0"/>
                          </a:moveTo>
                          <a:lnTo>
                            <a:pt x="0" y="1138"/>
                          </a:lnTo>
                          <a:lnTo>
                            <a:pt x="257" y="2250"/>
                          </a:lnTo>
                          <a:lnTo>
                            <a:pt x="526" y="1138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" name=""/>
                    <p:cNvSpPr/>
                    <p:nvPr/>
                  </p:nvSpPr>
                  <p:spPr>
                    <a:xfrm>
                      <a:off x="8513640" y="1208160"/>
                      <a:ext cx="189360" cy="8114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4">
                          <a:moveTo>
                            <a:pt x="257" y="0"/>
                          </a:moveTo>
                          <a:lnTo>
                            <a:pt x="0" y="1140"/>
                          </a:lnTo>
                          <a:lnTo>
                            <a:pt x="257" y="2254"/>
                          </a:lnTo>
                          <a:lnTo>
                            <a:pt x="526" y="1140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" name=""/>
                    <p:cNvSpPr/>
                    <p:nvPr/>
                  </p:nvSpPr>
                  <p:spPr>
                    <a:xfrm>
                      <a:off x="8040600" y="1208160"/>
                      <a:ext cx="189360" cy="8114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4">
                          <a:moveTo>
                            <a:pt x="257" y="0"/>
                          </a:moveTo>
                          <a:lnTo>
                            <a:pt x="0" y="1140"/>
                          </a:lnTo>
                          <a:lnTo>
                            <a:pt x="257" y="2254"/>
                          </a:lnTo>
                          <a:lnTo>
                            <a:pt x="526" y="1140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" name=""/>
                  <p:cNvGrpSpPr/>
                  <p:nvPr/>
                </p:nvGrpSpPr>
                <p:grpSpPr>
                  <a:xfrm>
                    <a:off x="8040600" y="2536920"/>
                    <a:ext cx="662400" cy="1749600"/>
                    <a:chOff x="8040600" y="2536920"/>
                    <a:chExt cx="662400" cy="1749600"/>
                  </a:xfrm>
                </p:grpSpPr>
                <p:sp>
                  <p:nvSpPr>
                    <p:cNvPr id="21" name=""/>
                    <p:cNvSpPr/>
                    <p:nvPr/>
                  </p:nvSpPr>
                  <p:spPr>
                    <a:xfrm>
                      <a:off x="8513640" y="2536920"/>
                      <a:ext cx="1893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0">
                          <a:moveTo>
                            <a:pt x="257" y="0"/>
                          </a:moveTo>
                          <a:lnTo>
                            <a:pt x="0" y="1138"/>
                          </a:lnTo>
                          <a:lnTo>
                            <a:pt x="257" y="2250"/>
                          </a:lnTo>
                          <a:lnTo>
                            <a:pt x="526" y="1138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" name=""/>
                    <p:cNvSpPr/>
                    <p:nvPr/>
                  </p:nvSpPr>
                  <p:spPr>
                    <a:xfrm>
                      <a:off x="8040600" y="2536920"/>
                      <a:ext cx="1893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0">
                          <a:moveTo>
                            <a:pt x="257" y="0"/>
                          </a:moveTo>
                          <a:lnTo>
                            <a:pt x="0" y="1138"/>
                          </a:lnTo>
                          <a:lnTo>
                            <a:pt x="257" y="2250"/>
                          </a:lnTo>
                          <a:lnTo>
                            <a:pt x="526" y="1138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" name=""/>
                    <p:cNvSpPr/>
                    <p:nvPr/>
                  </p:nvSpPr>
                  <p:spPr>
                    <a:xfrm>
                      <a:off x="8513640" y="3475080"/>
                      <a:ext cx="189360" cy="8114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4">
                          <a:moveTo>
                            <a:pt x="257" y="0"/>
                          </a:moveTo>
                          <a:lnTo>
                            <a:pt x="0" y="1140"/>
                          </a:lnTo>
                          <a:lnTo>
                            <a:pt x="257" y="2254"/>
                          </a:lnTo>
                          <a:lnTo>
                            <a:pt x="526" y="1140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" name=""/>
                    <p:cNvSpPr/>
                    <p:nvPr/>
                  </p:nvSpPr>
                  <p:spPr>
                    <a:xfrm>
                      <a:off x="8040600" y="3475080"/>
                      <a:ext cx="189360" cy="8114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4">
                          <a:moveTo>
                            <a:pt x="257" y="0"/>
                          </a:moveTo>
                          <a:lnTo>
                            <a:pt x="0" y="1140"/>
                          </a:lnTo>
                          <a:lnTo>
                            <a:pt x="257" y="2254"/>
                          </a:lnTo>
                          <a:lnTo>
                            <a:pt x="526" y="1140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" name=""/>
                  <p:cNvGrpSpPr/>
                  <p:nvPr/>
                </p:nvGrpSpPr>
                <p:grpSpPr>
                  <a:xfrm>
                    <a:off x="8040600" y="4797360"/>
                    <a:ext cx="662400" cy="1749960"/>
                    <a:chOff x="8040600" y="4797360"/>
                    <a:chExt cx="662400" cy="1749960"/>
                  </a:xfrm>
                </p:grpSpPr>
                <p:sp>
                  <p:nvSpPr>
                    <p:cNvPr id="26" name=""/>
                    <p:cNvSpPr/>
                    <p:nvPr/>
                  </p:nvSpPr>
                  <p:spPr>
                    <a:xfrm>
                      <a:off x="8513640" y="4797360"/>
                      <a:ext cx="189360" cy="8114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4">
                          <a:moveTo>
                            <a:pt x="257" y="0"/>
                          </a:moveTo>
                          <a:lnTo>
                            <a:pt x="0" y="1140"/>
                          </a:lnTo>
                          <a:lnTo>
                            <a:pt x="257" y="2254"/>
                          </a:lnTo>
                          <a:lnTo>
                            <a:pt x="526" y="1140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" name=""/>
                    <p:cNvSpPr/>
                    <p:nvPr/>
                  </p:nvSpPr>
                  <p:spPr>
                    <a:xfrm>
                      <a:off x="8040600" y="4797360"/>
                      <a:ext cx="189360" cy="8114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4">
                          <a:moveTo>
                            <a:pt x="257" y="0"/>
                          </a:moveTo>
                          <a:lnTo>
                            <a:pt x="0" y="1140"/>
                          </a:lnTo>
                          <a:lnTo>
                            <a:pt x="257" y="2254"/>
                          </a:lnTo>
                          <a:lnTo>
                            <a:pt x="526" y="1140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" name=""/>
                    <p:cNvSpPr/>
                    <p:nvPr/>
                  </p:nvSpPr>
                  <p:spPr>
                    <a:xfrm>
                      <a:off x="8513640" y="5737320"/>
                      <a:ext cx="1893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0">
                          <a:moveTo>
                            <a:pt x="257" y="0"/>
                          </a:moveTo>
                          <a:lnTo>
                            <a:pt x="0" y="1138"/>
                          </a:lnTo>
                          <a:lnTo>
                            <a:pt x="257" y="2250"/>
                          </a:lnTo>
                          <a:lnTo>
                            <a:pt x="526" y="1138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" name=""/>
                    <p:cNvSpPr/>
                    <p:nvPr/>
                  </p:nvSpPr>
                  <p:spPr>
                    <a:xfrm>
                      <a:off x="8040600" y="5737320"/>
                      <a:ext cx="1893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0">
                          <a:moveTo>
                            <a:pt x="257" y="0"/>
                          </a:moveTo>
                          <a:lnTo>
                            <a:pt x="0" y="1138"/>
                          </a:lnTo>
                          <a:lnTo>
                            <a:pt x="257" y="2250"/>
                          </a:lnTo>
                          <a:lnTo>
                            <a:pt x="526" y="1138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0" name=""/>
              <p:cNvGrpSpPr/>
              <p:nvPr/>
            </p:nvGrpSpPr>
            <p:grpSpPr>
              <a:xfrm>
                <a:off x="6807240" y="0"/>
                <a:ext cx="995400" cy="6845400"/>
                <a:chOff x="6807240" y="0"/>
                <a:chExt cx="995400" cy="6845400"/>
              </a:xfrm>
            </p:grpSpPr>
            <p:sp>
              <p:nvSpPr>
                <p:cNvPr id="31" name=""/>
                <p:cNvSpPr/>
                <p:nvPr/>
              </p:nvSpPr>
              <p:spPr>
                <a:xfrm>
                  <a:off x="6807240" y="0"/>
                  <a:ext cx="995400" cy="684540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2" name=""/>
                <p:cNvGrpSpPr/>
                <p:nvPr/>
              </p:nvGrpSpPr>
              <p:grpSpPr>
                <a:xfrm>
                  <a:off x="6851520" y="0"/>
                  <a:ext cx="903240" cy="6845400"/>
                  <a:chOff x="6851520" y="0"/>
                  <a:chExt cx="903240" cy="6845400"/>
                </a:xfrm>
              </p:grpSpPr>
              <p:grpSp>
                <p:nvGrpSpPr>
                  <p:cNvPr id="33" name=""/>
                  <p:cNvGrpSpPr/>
                  <p:nvPr/>
                </p:nvGrpSpPr>
                <p:grpSpPr>
                  <a:xfrm>
                    <a:off x="6851520" y="0"/>
                    <a:ext cx="646200" cy="6845400"/>
                    <a:chOff x="6851520" y="0"/>
                    <a:chExt cx="646200" cy="6845400"/>
                  </a:xfrm>
                </p:grpSpPr>
                <p:sp>
                  <p:nvSpPr>
                    <p:cNvPr id="34" name=""/>
                    <p:cNvSpPr/>
                    <p:nvPr/>
                  </p:nvSpPr>
                  <p:spPr>
                    <a:xfrm>
                      <a:off x="6851520" y="0"/>
                      <a:ext cx="171360" cy="6845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" name=""/>
                    <p:cNvSpPr/>
                    <p:nvPr/>
                  </p:nvSpPr>
                  <p:spPr>
                    <a:xfrm>
                      <a:off x="7326360" y="0"/>
                      <a:ext cx="171360" cy="6845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" name=""/>
                  <p:cNvGrpSpPr/>
                  <p:nvPr/>
                </p:nvGrpSpPr>
                <p:grpSpPr>
                  <a:xfrm>
                    <a:off x="7066080" y="0"/>
                    <a:ext cx="601560" cy="6845400"/>
                    <a:chOff x="7066080" y="0"/>
                    <a:chExt cx="601560" cy="6845400"/>
                  </a:xfrm>
                </p:grpSpPr>
                <p:sp>
                  <p:nvSpPr>
                    <p:cNvPr id="37" name=""/>
                    <p:cNvSpPr/>
                    <p:nvPr/>
                  </p:nvSpPr>
                  <p:spPr>
                    <a:xfrm>
                      <a:off x="7066080" y="0"/>
                      <a:ext cx="128520" cy="6845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" name=""/>
                    <p:cNvSpPr/>
                    <p:nvPr/>
                  </p:nvSpPr>
                  <p:spPr>
                    <a:xfrm>
                      <a:off x="7539120" y="0"/>
                      <a:ext cx="128520" cy="6845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" name=""/>
                  <p:cNvGrpSpPr/>
                  <p:nvPr/>
                </p:nvGrpSpPr>
                <p:grpSpPr>
                  <a:xfrm>
                    <a:off x="7242120" y="0"/>
                    <a:ext cx="512640" cy="6845400"/>
                    <a:chOff x="7242120" y="0"/>
                    <a:chExt cx="512640" cy="6845400"/>
                  </a:xfrm>
                </p:grpSpPr>
                <p:sp>
                  <p:nvSpPr>
                    <p:cNvPr id="40" name=""/>
                    <p:cNvSpPr/>
                    <p:nvPr/>
                  </p:nvSpPr>
                  <p:spPr>
                    <a:xfrm>
                      <a:off x="7242120" y="0"/>
                      <a:ext cx="39600" cy="6845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" name=""/>
                    <p:cNvSpPr/>
                    <p:nvPr/>
                  </p:nvSpPr>
                  <p:spPr>
                    <a:xfrm>
                      <a:off x="7715160" y="0"/>
                      <a:ext cx="39600" cy="6845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846840" y="270000"/>
                  <a:ext cx="664200" cy="6277320"/>
                  <a:chOff x="6846840" y="270000"/>
                  <a:chExt cx="664200" cy="6277320"/>
                </a:xfrm>
              </p:grpSpPr>
              <p:grpSp>
                <p:nvGrpSpPr>
                  <p:cNvPr id="43" name=""/>
                  <p:cNvGrpSpPr/>
                  <p:nvPr/>
                </p:nvGrpSpPr>
                <p:grpSpPr>
                  <a:xfrm>
                    <a:off x="6846840" y="270000"/>
                    <a:ext cx="664200" cy="1749600"/>
                    <a:chOff x="6846840" y="270000"/>
                    <a:chExt cx="664200" cy="1749600"/>
                  </a:xfrm>
                </p:grpSpPr>
                <p:sp>
                  <p:nvSpPr>
                    <p:cNvPr id="44" name=""/>
                    <p:cNvSpPr/>
                    <p:nvPr/>
                  </p:nvSpPr>
                  <p:spPr>
                    <a:xfrm>
                      <a:off x="7321680" y="270000"/>
                      <a:ext cx="1893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0">
                          <a:moveTo>
                            <a:pt x="257" y="0"/>
                          </a:moveTo>
                          <a:lnTo>
                            <a:pt x="0" y="1138"/>
                          </a:lnTo>
                          <a:lnTo>
                            <a:pt x="257" y="2250"/>
                          </a:lnTo>
                          <a:lnTo>
                            <a:pt x="526" y="1138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" name=""/>
                    <p:cNvSpPr/>
                    <p:nvPr/>
                  </p:nvSpPr>
                  <p:spPr>
                    <a:xfrm>
                      <a:off x="6846840" y="270000"/>
                      <a:ext cx="1893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0">
                          <a:moveTo>
                            <a:pt x="257" y="0"/>
                          </a:moveTo>
                          <a:lnTo>
                            <a:pt x="0" y="1138"/>
                          </a:lnTo>
                          <a:lnTo>
                            <a:pt x="257" y="2250"/>
                          </a:lnTo>
                          <a:lnTo>
                            <a:pt x="526" y="1138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" name=""/>
                    <p:cNvSpPr/>
                    <p:nvPr/>
                  </p:nvSpPr>
                  <p:spPr>
                    <a:xfrm>
                      <a:off x="7321680" y="1208160"/>
                      <a:ext cx="189360" cy="8114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4">
                          <a:moveTo>
                            <a:pt x="257" y="0"/>
                          </a:moveTo>
                          <a:lnTo>
                            <a:pt x="0" y="1140"/>
                          </a:lnTo>
                          <a:lnTo>
                            <a:pt x="257" y="2254"/>
                          </a:lnTo>
                          <a:lnTo>
                            <a:pt x="526" y="1140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" name=""/>
                    <p:cNvSpPr/>
                    <p:nvPr/>
                  </p:nvSpPr>
                  <p:spPr>
                    <a:xfrm>
                      <a:off x="6846840" y="1208160"/>
                      <a:ext cx="189360" cy="8114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4">
                          <a:moveTo>
                            <a:pt x="257" y="0"/>
                          </a:moveTo>
                          <a:lnTo>
                            <a:pt x="0" y="1140"/>
                          </a:lnTo>
                          <a:lnTo>
                            <a:pt x="257" y="2254"/>
                          </a:lnTo>
                          <a:lnTo>
                            <a:pt x="526" y="1140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" name=""/>
                  <p:cNvGrpSpPr/>
                  <p:nvPr/>
                </p:nvGrpSpPr>
                <p:grpSpPr>
                  <a:xfrm>
                    <a:off x="6846840" y="2536920"/>
                    <a:ext cx="664200" cy="1749600"/>
                    <a:chOff x="6846840" y="2536920"/>
                    <a:chExt cx="664200" cy="1749600"/>
                  </a:xfrm>
                </p:grpSpPr>
                <p:sp>
                  <p:nvSpPr>
                    <p:cNvPr id="49" name=""/>
                    <p:cNvSpPr/>
                    <p:nvPr/>
                  </p:nvSpPr>
                  <p:spPr>
                    <a:xfrm>
                      <a:off x="7321680" y="2536920"/>
                      <a:ext cx="1893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0">
                          <a:moveTo>
                            <a:pt x="257" y="0"/>
                          </a:moveTo>
                          <a:lnTo>
                            <a:pt x="0" y="1138"/>
                          </a:lnTo>
                          <a:lnTo>
                            <a:pt x="257" y="2250"/>
                          </a:lnTo>
                          <a:lnTo>
                            <a:pt x="526" y="1138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" name=""/>
                    <p:cNvSpPr/>
                    <p:nvPr/>
                  </p:nvSpPr>
                  <p:spPr>
                    <a:xfrm>
                      <a:off x="6846840" y="2536920"/>
                      <a:ext cx="1893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0">
                          <a:moveTo>
                            <a:pt x="257" y="0"/>
                          </a:moveTo>
                          <a:lnTo>
                            <a:pt x="0" y="1138"/>
                          </a:lnTo>
                          <a:lnTo>
                            <a:pt x="257" y="2250"/>
                          </a:lnTo>
                          <a:lnTo>
                            <a:pt x="526" y="1138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" name=""/>
                    <p:cNvSpPr/>
                    <p:nvPr/>
                  </p:nvSpPr>
                  <p:spPr>
                    <a:xfrm>
                      <a:off x="7321680" y="3475080"/>
                      <a:ext cx="189360" cy="8114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4">
                          <a:moveTo>
                            <a:pt x="257" y="0"/>
                          </a:moveTo>
                          <a:lnTo>
                            <a:pt x="0" y="1140"/>
                          </a:lnTo>
                          <a:lnTo>
                            <a:pt x="257" y="2254"/>
                          </a:lnTo>
                          <a:lnTo>
                            <a:pt x="526" y="1140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" name=""/>
                    <p:cNvSpPr/>
                    <p:nvPr/>
                  </p:nvSpPr>
                  <p:spPr>
                    <a:xfrm>
                      <a:off x="6846840" y="3475080"/>
                      <a:ext cx="189360" cy="8114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4">
                          <a:moveTo>
                            <a:pt x="257" y="0"/>
                          </a:moveTo>
                          <a:lnTo>
                            <a:pt x="0" y="1140"/>
                          </a:lnTo>
                          <a:lnTo>
                            <a:pt x="257" y="2254"/>
                          </a:lnTo>
                          <a:lnTo>
                            <a:pt x="526" y="1140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" name=""/>
                  <p:cNvGrpSpPr/>
                  <p:nvPr/>
                </p:nvGrpSpPr>
                <p:grpSpPr>
                  <a:xfrm>
                    <a:off x="6846840" y="4797360"/>
                    <a:ext cx="664200" cy="1749960"/>
                    <a:chOff x="6846840" y="4797360"/>
                    <a:chExt cx="664200" cy="1749960"/>
                  </a:xfrm>
                </p:grpSpPr>
                <p:sp>
                  <p:nvSpPr>
                    <p:cNvPr id="54" name=""/>
                    <p:cNvSpPr/>
                    <p:nvPr/>
                  </p:nvSpPr>
                  <p:spPr>
                    <a:xfrm>
                      <a:off x="7321680" y="4797360"/>
                      <a:ext cx="189360" cy="8114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4">
                          <a:moveTo>
                            <a:pt x="257" y="0"/>
                          </a:moveTo>
                          <a:lnTo>
                            <a:pt x="0" y="1140"/>
                          </a:lnTo>
                          <a:lnTo>
                            <a:pt x="257" y="2254"/>
                          </a:lnTo>
                          <a:lnTo>
                            <a:pt x="526" y="1140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" name=""/>
                    <p:cNvSpPr/>
                    <p:nvPr/>
                  </p:nvSpPr>
                  <p:spPr>
                    <a:xfrm>
                      <a:off x="6846840" y="4797360"/>
                      <a:ext cx="189360" cy="8114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4">
                          <a:moveTo>
                            <a:pt x="257" y="0"/>
                          </a:moveTo>
                          <a:lnTo>
                            <a:pt x="0" y="1140"/>
                          </a:lnTo>
                          <a:lnTo>
                            <a:pt x="257" y="2254"/>
                          </a:lnTo>
                          <a:lnTo>
                            <a:pt x="526" y="1140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" name=""/>
                    <p:cNvSpPr/>
                    <p:nvPr/>
                  </p:nvSpPr>
                  <p:spPr>
                    <a:xfrm>
                      <a:off x="7321680" y="5737320"/>
                      <a:ext cx="1893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0">
                          <a:moveTo>
                            <a:pt x="257" y="0"/>
                          </a:moveTo>
                          <a:lnTo>
                            <a:pt x="0" y="1138"/>
                          </a:lnTo>
                          <a:lnTo>
                            <a:pt x="257" y="2250"/>
                          </a:lnTo>
                          <a:lnTo>
                            <a:pt x="526" y="1138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" name=""/>
                    <p:cNvSpPr/>
                    <p:nvPr/>
                  </p:nvSpPr>
                  <p:spPr>
                    <a:xfrm>
                      <a:off x="6846840" y="5737320"/>
                      <a:ext cx="1893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0">
                          <a:moveTo>
                            <a:pt x="257" y="0"/>
                          </a:moveTo>
                          <a:lnTo>
                            <a:pt x="0" y="1138"/>
                          </a:lnTo>
                          <a:lnTo>
                            <a:pt x="257" y="2250"/>
                          </a:lnTo>
                          <a:lnTo>
                            <a:pt x="526" y="1138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58" name=""/>
              <p:cNvGrpSpPr/>
              <p:nvPr/>
            </p:nvGrpSpPr>
            <p:grpSpPr>
              <a:xfrm>
                <a:off x="5614920" y="0"/>
                <a:ext cx="995400" cy="6845400"/>
                <a:chOff x="5614920" y="0"/>
                <a:chExt cx="995400" cy="684540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5614920" y="0"/>
                  <a:ext cx="995400" cy="684540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0" name=""/>
                <p:cNvGrpSpPr/>
                <p:nvPr/>
              </p:nvGrpSpPr>
              <p:grpSpPr>
                <a:xfrm>
                  <a:off x="5656320" y="0"/>
                  <a:ext cx="906480" cy="6845400"/>
                  <a:chOff x="5656320" y="0"/>
                  <a:chExt cx="906480" cy="6845400"/>
                </a:xfrm>
              </p:grpSpPr>
              <p:grpSp>
                <p:nvGrpSpPr>
                  <p:cNvPr id="61" name=""/>
                  <p:cNvGrpSpPr/>
                  <p:nvPr/>
                </p:nvGrpSpPr>
                <p:grpSpPr>
                  <a:xfrm>
                    <a:off x="5656320" y="0"/>
                    <a:ext cx="645840" cy="6845400"/>
                    <a:chOff x="5656320" y="0"/>
                    <a:chExt cx="645840" cy="684540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5656320" y="0"/>
                      <a:ext cx="171360" cy="6845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>
                      <a:off x="6130800" y="0"/>
                      <a:ext cx="171360" cy="6845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" name=""/>
                  <p:cNvGrpSpPr/>
                  <p:nvPr/>
                </p:nvGrpSpPr>
                <p:grpSpPr>
                  <a:xfrm>
                    <a:off x="5872320" y="0"/>
                    <a:ext cx="601560" cy="6845400"/>
                    <a:chOff x="5872320" y="0"/>
                    <a:chExt cx="601560" cy="6845400"/>
                  </a:xfrm>
                </p:grpSpPr>
                <p:sp>
                  <p:nvSpPr>
                    <p:cNvPr id="65" name=""/>
                    <p:cNvSpPr/>
                    <p:nvPr/>
                  </p:nvSpPr>
                  <p:spPr>
                    <a:xfrm>
                      <a:off x="5872320" y="0"/>
                      <a:ext cx="127080" cy="6845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" name=""/>
                    <p:cNvSpPr/>
                    <p:nvPr/>
                  </p:nvSpPr>
                  <p:spPr>
                    <a:xfrm>
                      <a:off x="6346800" y="0"/>
                      <a:ext cx="127080" cy="6845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" name=""/>
                  <p:cNvGrpSpPr/>
                  <p:nvPr/>
                </p:nvGrpSpPr>
                <p:grpSpPr>
                  <a:xfrm>
                    <a:off x="6048360" y="0"/>
                    <a:ext cx="514440" cy="6845400"/>
                    <a:chOff x="6048360" y="0"/>
                    <a:chExt cx="514440" cy="6845400"/>
                  </a:xfrm>
                </p:grpSpPr>
                <p:sp>
                  <p:nvSpPr>
                    <p:cNvPr id="68" name=""/>
                    <p:cNvSpPr/>
                    <p:nvPr/>
                  </p:nvSpPr>
                  <p:spPr>
                    <a:xfrm>
                      <a:off x="6048360" y="0"/>
                      <a:ext cx="39600" cy="6845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" name=""/>
                    <p:cNvSpPr/>
                    <p:nvPr/>
                  </p:nvSpPr>
                  <p:spPr>
                    <a:xfrm>
                      <a:off x="6523200" y="0"/>
                      <a:ext cx="39600" cy="6845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0" name=""/>
                <p:cNvGrpSpPr/>
                <p:nvPr/>
              </p:nvGrpSpPr>
              <p:grpSpPr>
                <a:xfrm>
                  <a:off x="5653080" y="270000"/>
                  <a:ext cx="662400" cy="6277320"/>
                  <a:chOff x="5653080" y="270000"/>
                  <a:chExt cx="662400" cy="6277320"/>
                </a:xfrm>
              </p:grpSpPr>
              <p:grpSp>
                <p:nvGrpSpPr>
                  <p:cNvPr id="71" name=""/>
                  <p:cNvGrpSpPr/>
                  <p:nvPr/>
                </p:nvGrpSpPr>
                <p:grpSpPr>
                  <a:xfrm>
                    <a:off x="5653080" y="270000"/>
                    <a:ext cx="662400" cy="1749600"/>
                    <a:chOff x="5653080" y="270000"/>
                    <a:chExt cx="662400" cy="1749600"/>
                  </a:xfrm>
                </p:grpSpPr>
                <p:sp>
                  <p:nvSpPr>
                    <p:cNvPr id="72" name=""/>
                    <p:cNvSpPr/>
                    <p:nvPr/>
                  </p:nvSpPr>
                  <p:spPr>
                    <a:xfrm>
                      <a:off x="6127920" y="270000"/>
                      <a:ext cx="1875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1" h="2250">
                          <a:moveTo>
                            <a:pt x="254" y="0"/>
                          </a:moveTo>
                          <a:lnTo>
                            <a:pt x="0" y="1138"/>
                          </a:lnTo>
                          <a:lnTo>
                            <a:pt x="254" y="2250"/>
                          </a:lnTo>
                          <a:lnTo>
                            <a:pt x="521" y="1138"/>
                          </a:lnTo>
                          <a:lnTo>
                            <a:pt x="254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" name=""/>
                    <p:cNvSpPr/>
                    <p:nvPr/>
                  </p:nvSpPr>
                  <p:spPr>
                    <a:xfrm>
                      <a:off x="5653080" y="270000"/>
                      <a:ext cx="1893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0">
                          <a:moveTo>
                            <a:pt x="257" y="0"/>
                          </a:moveTo>
                          <a:lnTo>
                            <a:pt x="0" y="1138"/>
                          </a:lnTo>
                          <a:lnTo>
                            <a:pt x="257" y="2250"/>
                          </a:lnTo>
                          <a:lnTo>
                            <a:pt x="526" y="1138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" name=""/>
                    <p:cNvSpPr/>
                    <p:nvPr/>
                  </p:nvSpPr>
                  <p:spPr>
                    <a:xfrm>
                      <a:off x="6127920" y="1208160"/>
                      <a:ext cx="187560" cy="8114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1" h="2254">
                          <a:moveTo>
                            <a:pt x="254" y="0"/>
                          </a:moveTo>
                          <a:lnTo>
                            <a:pt x="0" y="1140"/>
                          </a:lnTo>
                          <a:lnTo>
                            <a:pt x="254" y="2254"/>
                          </a:lnTo>
                          <a:lnTo>
                            <a:pt x="521" y="1140"/>
                          </a:lnTo>
                          <a:lnTo>
                            <a:pt x="254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" name=""/>
                    <p:cNvSpPr/>
                    <p:nvPr/>
                  </p:nvSpPr>
                  <p:spPr>
                    <a:xfrm>
                      <a:off x="5653080" y="1208160"/>
                      <a:ext cx="189360" cy="8114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4">
                          <a:moveTo>
                            <a:pt x="257" y="0"/>
                          </a:moveTo>
                          <a:lnTo>
                            <a:pt x="0" y="1140"/>
                          </a:lnTo>
                          <a:lnTo>
                            <a:pt x="257" y="2254"/>
                          </a:lnTo>
                          <a:lnTo>
                            <a:pt x="526" y="1140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" name=""/>
                  <p:cNvGrpSpPr/>
                  <p:nvPr/>
                </p:nvGrpSpPr>
                <p:grpSpPr>
                  <a:xfrm>
                    <a:off x="5653080" y="2536920"/>
                    <a:ext cx="662400" cy="1749600"/>
                    <a:chOff x="5653080" y="2536920"/>
                    <a:chExt cx="662400" cy="1749600"/>
                  </a:xfrm>
                </p:grpSpPr>
                <p:sp>
                  <p:nvSpPr>
                    <p:cNvPr id="77" name=""/>
                    <p:cNvSpPr/>
                    <p:nvPr/>
                  </p:nvSpPr>
                  <p:spPr>
                    <a:xfrm>
                      <a:off x="6127920" y="2536920"/>
                      <a:ext cx="1875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1" h="2250">
                          <a:moveTo>
                            <a:pt x="254" y="0"/>
                          </a:moveTo>
                          <a:lnTo>
                            <a:pt x="0" y="1138"/>
                          </a:lnTo>
                          <a:lnTo>
                            <a:pt x="254" y="2250"/>
                          </a:lnTo>
                          <a:lnTo>
                            <a:pt x="521" y="1138"/>
                          </a:lnTo>
                          <a:lnTo>
                            <a:pt x="254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" name=""/>
                    <p:cNvSpPr/>
                    <p:nvPr/>
                  </p:nvSpPr>
                  <p:spPr>
                    <a:xfrm>
                      <a:off x="5653080" y="2536920"/>
                      <a:ext cx="1893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0">
                          <a:moveTo>
                            <a:pt x="257" y="0"/>
                          </a:moveTo>
                          <a:lnTo>
                            <a:pt x="0" y="1138"/>
                          </a:lnTo>
                          <a:lnTo>
                            <a:pt x="257" y="2250"/>
                          </a:lnTo>
                          <a:lnTo>
                            <a:pt x="526" y="1138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" name=""/>
                    <p:cNvSpPr/>
                    <p:nvPr/>
                  </p:nvSpPr>
                  <p:spPr>
                    <a:xfrm>
                      <a:off x="6127920" y="3475080"/>
                      <a:ext cx="187560" cy="8114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1" h="2254">
                          <a:moveTo>
                            <a:pt x="254" y="0"/>
                          </a:moveTo>
                          <a:lnTo>
                            <a:pt x="0" y="1140"/>
                          </a:lnTo>
                          <a:lnTo>
                            <a:pt x="254" y="2254"/>
                          </a:lnTo>
                          <a:lnTo>
                            <a:pt x="521" y="1140"/>
                          </a:lnTo>
                          <a:lnTo>
                            <a:pt x="254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" name=""/>
                    <p:cNvSpPr/>
                    <p:nvPr/>
                  </p:nvSpPr>
                  <p:spPr>
                    <a:xfrm>
                      <a:off x="5653080" y="3475080"/>
                      <a:ext cx="189360" cy="8114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4">
                          <a:moveTo>
                            <a:pt x="257" y="0"/>
                          </a:moveTo>
                          <a:lnTo>
                            <a:pt x="0" y="1140"/>
                          </a:lnTo>
                          <a:lnTo>
                            <a:pt x="257" y="2254"/>
                          </a:lnTo>
                          <a:lnTo>
                            <a:pt x="526" y="1140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" name=""/>
                  <p:cNvGrpSpPr/>
                  <p:nvPr/>
                </p:nvGrpSpPr>
                <p:grpSpPr>
                  <a:xfrm>
                    <a:off x="5653080" y="4797360"/>
                    <a:ext cx="662400" cy="1749960"/>
                    <a:chOff x="5653080" y="4797360"/>
                    <a:chExt cx="662400" cy="1749960"/>
                  </a:xfrm>
                </p:grpSpPr>
                <p:sp>
                  <p:nvSpPr>
                    <p:cNvPr id="82" name=""/>
                    <p:cNvSpPr/>
                    <p:nvPr/>
                  </p:nvSpPr>
                  <p:spPr>
                    <a:xfrm>
                      <a:off x="6127920" y="4797360"/>
                      <a:ext cx="187560" cy="8114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1" h="2254">
                          <a:moveTo>
                            <a:pt x="254" y="0"/>
                          </a:moveTo>
                          <a:lnTo>
                            <a:pt x="0" y="1140"/>
                          </a:lnTo>
                          <a:lnTo>
                            <a:pt x="254" y="2254"/>
                          </a:lnTo>
                          <a:lnTo>
                            <a:pt x="521" y="1140"/>
                          </a:lnTo>
                          <a:lnTo>
                            <a:pt x="254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" name=""/>
                    <p:cNvSpPr/>
                    <p:nvPr/>
                  </p:nvSpPr>
                  <p:spPr>
                    <a:xfrm>
                      <a:off x="5653080" y="4797360"/>
                      <a:ext cx="189360" cy="8114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4">
                          <a:moveTo>
                            <a:pt x="257" y="0"/>
                          </a:moveTo>
                          <a:lnTo>
                            <a:pt x="0" y="1140"/>
                          </a:lnTo>
                          <a:lnTo>
                            <a:pt x="257" y="2254"/>
                          </a:lnTo>
                          <a:lnTo>
                            <a:pt x="526" y="1140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" name=""/>
                    <p:cNvSpPr/>
                    <p:nvPr/>
                  </p:nvSpPr>
                  <p:spPr>
                    <a:xfrm>
                      <a:off x="6127920" y="5737320"/>
                      <a:ext cx="1875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1" h="2250">
                          <a:moveTo>
                            <a:pt x="254" y="0"/>
                          </a:moveTo>
                          <a:lnTo>
                            <a:pt x="0" y="1138"/>
                          </a:lnTo>
                          <a:lnTo>
                            <a:pt x="254" y="2250"/>
                          </a:lnTo>
                          <a:lnTo>
                            <a:pt x="521" y="1138"/>
                          </a:lnTo>
                          <a:lnTo>
                            <a:pt x="254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" name=""/>
                    <p:cNvSpPr/>
                    <p:nvPr/>
                  </p:nvSpPr>
                  <p:spPr>
                    <a:xfrm>
                      <a:off x="5653080" y="5737320"/>
                      <a:ext cx="1893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0">
                          <a:moveTo>
                            <a:pt x="257" y="0"/>
                          </a:moveTo>
                          <a:lnTo>
                            <a:pt x="0" y="1138"/>
                          </a:lnTo>
                          <a:lnTo>
                            <a:pt x="257" y="2250"/>
                          </a:lnTo>
                          <a:lnTo>
                            <a:pt x="526" y="1138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86" name=""/>
              <p:cNvGrpSpPr/>
              <p:nvPr/>
            </p:nvGrpSpPr>
            <p:grpSpPr>
              <a:xfrm>
                <a:off x="4419720" y="0"/>
                <a:ext cx="996840" cy="6845400"/>
                <a:chOff x="4419720" y="0"/>
                <a:chExt cx="996840" cy="684540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4419720" y="0"/>
                  <a:ext cx="996840" cy="684540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8" name=""/>
                <p:cNvGrpSpPr/>
                <p:nvPr/>
              </p:nvGrpSpPr>
              <p:grpSpPr>
                <a:xfrm>
                  <a:off x="4464000" y="0"/>
                  <a:ext cx="903240" cy="6845400"/>
                  <a:chOff x="4464000" y="0"/>
                  <a:chExt cx="903240" cy="6845400"/>
                </a:xfrm>
              </p:grpSpPr>
              <p:grpSp>
                <p:nvGrpSpPr>
                  <p:cNvPr id="89" name=""/>
                  <p:cNvGrpSpPr/>
                  <p:nvPr/>
                </p:nvGrpSpPr>
                <p:grpSpPr>
                  <a:xfrm>
                    <a:off x="4464000" y="0"/>
                    <a:ext cx="644400" cy="6845400"/>
                    <a:chOff x="4464000" y="0"/>
                    <a:chExt cx="644400" cy="6845400"/>
                  </a:xfrm>
                </p:grpSpPr>
                <p:sp>
                  <p:nvSpPr>
                    <p:cNvPr id="90" name=""/>
                    <p:cNvSpPr/>
                    <p:nvPr/>
                  </p:nvSpPr>
                  <p:spPr>
                    <a:xfrm>
                      <a:off x="4464000" y="0"/>
                      <a:ext cx="171360" cy="6845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" name=""/>
                    <p:cNvSpPr/>
                    <p:nvPr/>
                  </p:nvSpPr>
                  <p:spPr>
                    <a:xfrm>
                      <a:off x="4937040" y="0"/>
                      <a:ext cx="171360" cy="6845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2" name=""/>
                  <p:cNvGrpSpPr/>
                  <p:nvPr/>
                </p:nvGrpSpPr>
                <p:grpSpPr>
                  <a:xfrm>
                    <a:off x="4680000" y="0"/>
                    <a:ext cx="600120" cy="6845400"/>
                    <a:chOff x="4680000" y="0"/>
                    <a:chExt cx="600120" cy="6845400"/>
                  </a:xfrm>
                </p:grpSpPr>
                <p:sp>
                  <p:nvSpPr>
                    <p:cNvPr id="93" name=""/>
                    <p:cNvSpPr/>
                    <p:nvPr/>
                  </p:nvSpPr>
                  <p:spPr>
                    <a:xfrm>
                      <a:off x="4680000" y="0"/>
                      <a:ext cx="127080" cy="6845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" name=""/>
                    <p:cNvSpPr/>
                    <p:nvPr/>
                  </p:nvSpPr>
                  <p:spPr>
                    <a:xfrm>
                      <a:off x="5153040" y="0"/>
                      <a:ext cx="127080" cy="6845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" name=""/>
                  <p:cNvGrpSpPr/>
                  <p:nvPr/>
                </p:nvGrpSpPr>
                <p:grpSpPr>
                  <a:xfrm>
                    <a:off x="4854600" y="0"/>
                    <a:ext cx="512640" cy="6845400"/>
                    <a:chOff x="4854600" y="0"/>
                    <a:chExt cx="512640" cy="6845400"/>
                  </a:xfrm>
                </p:grpSpPr>
                <p:sp>
                  <p:nvSpPr>
                    <p:cNvPr id="96" name=""/>
                    <p:cNvSpPr/>
                    <p:nvPr/>
                  </p:nvSpPr>
                  <p:spPr>
                    <a:xfrm>
                      <a:off x="4854600" y="0"/>
                      <a:ext cx="38160" cy="6845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" name=""/>
                    <p:cNvSpPr/>
                    <p:nvPr/>
                  </p:nvSpPr>
                  <p:spPr>
                    <a:xfrm>
                      <a:off x="5327640" y="0"/>
                      <a:ext cx="39600" cy="6845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4459320" y="270000"/>
                  <a:ext cx="663840" cy="6277320"/>
                  <a:chOff x="4459320" y="270000"/>
                  <a:chExt cx="663840" cy="6277320"/>
                </a:xfrm>
              </p:grpSpPr>
              <p:grpSp>
                <p:nvGrpSpPr>
                  <p:cNvPr id="99" name=""/>
                  <p:cNvGrpSpPr/>
                  <p:nvPr/>
                </p:nvGrpSpPr>
                <p:grpSpPr>
                  <a:xfrm>
                    <a:off x="4459320" y="270000"/>
                    <a:ext cx="663840" cy="1749600"/>
                    <a:chOff x="4459320" y="270000"/>
                    <a:chExt cx="663840" cy="1749600"/>
                  </a:xfrm>
                </p:grpSpPr>
                <p:sp>
                  <p:nvSpPr>
                    <p:cNvPr id="100" name=""/>
                    <p:cNvSpPr/>
                    <p:nvPr/>
                  </p:nvSpPr>
                  <p:spPr>
                    <a:xfrm>
                      <a:off x="4932360" y="270000"/>
                      <a:ext cx="19080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30" h="2250">
                          <a:moveTo>
                            <a:pt x="258" y="0"/>
                          </a:moveTo>
                          <a:lnTo>
                            <a:pt x="0" y="1138"/>
                          </a:lnTo>
                          <a:lnTo>
                            <a:pt x="258" y="2250"/>
                          </a:lnTo>
                          <a:lnTo>
                            <a:pt x="530" y="1138"/>
                          </a:lnTo>
                          <a:lnTo>
                            <a:pt x="258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" name=""/>
                    <p:cNvSpPr/>
                    <p:nvPr/>
                  </p:nvSpPr>
                  <p:spPr>
                    <a:xfrm>
                      <a:off x="4459320" y="270000"/>
                      <a:ext cx="1893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0">
                          <a:moveTo>
                            <a:pt x="257" y="0"/>
                          </a:moveTo>
                          <a:lnTo>
                            <a:pt x="0" y="1138"/>
                          </a:lnTo>
                          <a:lnTo>
                            <a:pt x="257" y="2250"/>
                          </a:lnTo>
                          <a:lnTo>
                            <a:pt x="526" y="1138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" name=""/>
                    <p:cNvSpPr/>
                    <p:nvPr/>
                  </p:nvSpPr>
                  <p:spPr>
                    <a:xfrm>
                      <a:off x="4932360" y="1208160"/>
                      <a:ext cx="190800" cy="8114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30" h="2254">
                          <a:moveTo>
                            <a:pt x="258" y="0"/>
                          </a:moveTo>
                          <a:lnTo>
                            <a:pt x="0" y="1140"/>
                          </a:lnTo>
                          <a:lnTo>
                            <a:pt x="258" y="2254"/>
                          </a:lnTo>
                          <a:lnTo>
                            <a:pt x="530" y="1140"/>
                          </a:lnTo>
                          <a:lnTo>
                            <a:pt x="258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" name=""/>
                    <p:cNvSpPr/>
                    <p:nvPr/>
                  </p:nvSpPr>
                  <p:spPr>
                    <a:xfrm>
                      <a:off x="4459320" y="1208160"/>
                      <a:ext cx="189360" cy="8114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4">
                          <a:moveTo>
                            <a:pt x="257" y="0"/>
                          </a:moveTo>
                          <a:lnTo>
                            <a:pt x="0" y="1140"/>
                          </a:lnTo>
                          <a:lnTo>
                            <a:pt x="257" y="2254"/>
                          </a:lnTo>
                          <a:lnTo>
                            <a:pt x="526" y="1140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4" name=""/>
                  <p:cNvGrpSpPr/>
                  <p:nvPr/>
                </p:nvGrpSpPr>
                <p:grpSpPr>
                  <a:xfrm>
                    <a:off x="4459320" y="2536920"/>
                    <a:ext cx="663840" cy="1749600"/>
                    <a:chOff x="4459320" y="2536920"/>
                    <a:chExt cx="663840" cy="1749600"/>
                  </a:xfrm>
                </p:grpSpPr>
                <p:sp>
                  <p:nvSpPr>
                    <p:cNvPr id="105" name=""/>
                    <p:cNvSpPr/>
                    <p:nvPr/>
                  </p:nvSpPr>
                  <p:spPr>
                    <a:xfrm>
                      <a:off x="4932360" y="2536920"/>
                      <a:ext cx="19080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30" h="2250">
                          <a:moveTo>
                            <a:pt x="258" y="0"/>
                          </a:moveTo>
                          <a:lnTo>
                            <a:pt x="0" y="1138"/>
                          </a:lnTo>
                          <a:lnTo>
                            <a:pt x="258" y="2250"/>
                          </a:lnTo>
                          <a:lnTo>
                            <a:pt x="530" y="1138"/>
                          </a:lnTo>
                          <a:lnTo>
                            <a:pt x="258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" name=""/>
                    <p:cNvSpPr/>
                    <p:nvPr/>
                  </p:nvSpPr>
                  <p:spPr>
                    <a:xfrm>
                      <a:off x="4459320" y="2536920"/>
                      <a:ext cx="1893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0">
                          <a:moveTo>
                            <a:pt x="257" y="0"/>
                          </a:moveTo>
                          <a:lnTo>
                            <a:pt x="0" y="1138"/>
                          </a:lnTo>
                          <a:lnTo>
                            <a:pt x="257" y="2250"/>
                          </a:lnTo>
                          <a:lnTo>
                            <a:pt x="526" y="1138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" name=""/>
                    <p:cNvSpPr/>
                    <p:nvPr/>
                  </p:nvSpPr>
                  <p:spPr>
                    <a:xfrm>
                      <a:off x="4932360" y="3475080"/>
                      <a:ext cx="190800" cy="8114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30" h="2254">
                          <a:moveTo>
                            <a:pt x="258" y="0"/>
                          </a:moveTo>
                          <a:lnTo>
                            <a:pt x="0" y="1140"/>
                          </a:lnTo>
                          <a:lnTo>
                            <a:pt x="258" y="2254"/>
                          </a:lnTo>
                          <a:lnTo>
                            <a:pt x="530" y="1140"/>
                          </a:lnTo>
                          <a:lnTo>
                            <a:pt x="258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" name=""/>
                    <p:cNvSpPr/>
                    <p:nvPr/>
                  </p:nvSpPr>
                  <p:spPr>
                    <a:xfrm>
                      <a:off x="4459320" y="3475080"/>
                      <a:ext cx="189360" cy="8114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4">
                          <a:moveTo>
                            <a:pt x="257" y="0"/>
                          </a:moveTo>
                          <a:lnTo>
                            <a:pt x="0" y="1140"/>
                          </a:lnTo>
                          <a:lnTo>
                            <a:pt x="257" y="2254"/>
                          </a:lnTo>
                          <a:lnTo>
                            <a:pt x="526" y="1140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9" name=""/>
                  <p:cNvGrpSpPr/>
                  <p:nvPr/>
                </p:nvGrpSpPr>
                <p:grpSpPr>
                  <a:xfrm>
                    <a:off x="4459320" y="4797360"/>
                    <a:ext cx="663840" cy="1749960"/>
                    <a:chOff x="4459320" y="4797360"/>
                    <a:chExt cx="663840" cy="1749960"/>
                  </a:xfrm>
                </p:grpSpPr>
                <p:sp>
                  <p:nvSpPr>
                    <p:cNvPr id="110" name=""/>
                    <p:cNvSpPr/>
                    <p:nvPr/>
                  </p:nvSpPr>
                  <p:spPr>
                    <a:xfrm>
                      <a:off x="4932360" y="4797360"/>
                      <a:ext cx="190800" cy="8114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30" h="2254">
                          <a:moveTo>
                            <a:pt x="258" y="0"/>
                          </a:moveTo>
                          <a:lnTo>
                            <a:pt x="0" y="1140"/>
                          </a:lnTo>
                          <a:lnTo>
                            <a:pt x="258" y="2254"/>
                          </a:lnTo>
                          <a:lnTo>
                            <a:pt x="530" y="1140"/>
                          </a:lnTo>
                          <a:lnTo>
                            <a:pt x="258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4459320" y="4797360"/>
                      <a:ext cx="189360" cy="8114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4">
                          <a:moveTo>
                            <a:pt x="257" y="0"/>
                          </a:moveTo>
                          <a:lnTo>
                            <a:pt x="0" y="1140"/>
                          </a:lnTo>
                          <a:lnTo>
                            <a:pt x="257" y="2254"/>
                          </a:lnTo>
                          <a:lnTo>
                            <a:pt x="526" y="1140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4932360" y="5737320"/>
                      <a:ext cx="19080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30" h="2250">
                          <a:moveTo>
                            <a:pt x="258" y="0"/>
                          </a:moveTo>
                          <a:lnTo>
                            <a:pt x="0" y="1138"/>
                          </a:lnTo>
                          <a:lnTo>
                            <a:pt x="258" y="2250"/>
                          </a:lnTo>
                          <a:lnTo>
                            <a:pt x="530" y="1138"/>
                          </a:lnTo>
                          <a:lnTo>
                            <a:pt x="258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4459320" y="5737320"/>
                      <a:ext cx="1893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0">
                          <a:moveTo>
                            <a:pt x="257" y="0"/>
                          </a:moveTo>
                          <a:lnTo>
                            <a:pt x="0" y="1138"/>
                          </a:lnTo>
                          <a:lnTo>
                            <a:pt x="257" y="2250"/>
                          </a:lnTo>
                          <a:lnTo>
                            <a:pt x="526" y="1138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14" name=""/>
              <p:cNvGrpSpPr/>
              <p:nvPr/>
            </p:nvGrpSpPr>
            <p:grpSpPr>
              <a:xfrm>
                <a:off x="3225960" y="0"/>
                <a:ext cx="995400" cy="6845400"/>
                <a:chOff x="3225960" y="0"/>
                <a:chExt cx="995400" cy="684540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3225960" y="0"/>
                  <a:ext cx="995400" cy="684540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6" name=""/>
                <p:cNvGrpSpPr/>
                <p:nvPr/>
              </p:nvGrpSpPr>
              <p:grpSpPr>
                <a:xfrm>
                  <a:off x="3270240" y="0"/>
                  <a:ext cx="903240" cy="6845400"/>
                  <a:chOff x="3270240" y="0"/>
                  <a:chExt cx="903240" cy="6845400"/>
                </a:xfrm>
              </p:grpSpPr>
              <p:grpSp>
                <p:nvGrpSpPr>
                  <p:cNvPr id="117" name=""/>
                  <p:cNvGrpSpPr/>
                  <p:nvPr/>
                </p:nvGrpSpPr>
                <p:grpSpPr>
                  <a:xfrm>
                    <a:off x="3270240" y="0"/>
                    <a:ext cx="646200" cy="6845400"/>
                    <a:chOff x="3270240" y="0"/>
                    <a:chExt cx="646200" cy="6845400"/>
                  </a:xfrm>
                </p:grpSpPr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3270240" y="0"/>
                      <a:ext cx="171360" cy="6845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" name=""/>
                    <p:cNvSpPr/>
                    <p:nvPr/>
                  </p:nvSpPr>
                  <p:spPr>
                    <a:xfrm>
                      <a:off x="3745080" y="0"/>
                      <a:ext cx="171360" cy="6845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0" name=""/>
                  <p:cNvGrpSpPr/>
                  <p:nvPr/>
                </p:nvGrpSpPr>
                <p:grpSpPr>
                  <a:xfrm>
                    <a:off x="3484440" y="0"/>
                    <a:ext cx="601920" cy="6845400"/>
                    <a:chOff x="3484440" y="0"/>
                    <a:chExt cx="601920" cy="6845400"/>
                  </a:xfrm>
                </p:grpSpPr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3484440" y="0"/>
                      <a:ext cx="128520" cy="6845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3959280" y="0"/>
                      <a:ext cx="127080" cy="6845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3" name=""/>
                  <p:cNvGrpSpPr/>
                  <p:nvPr/>
                </p:nvGrpSpPr>
                <p:grpSpPr>
                  <a:xfrm>
                    <a:off x="3660840" y="0"/>
                    <a:ext cx="512640" cy="6845400"/>
                    <a:chOff x="3660840" y="0"/>
                    <a:chExt cx="512640" cy="6845400"/>
                  </a:xfrm>
                </p:grpSpPr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3660840" y="0"/>
                      <a:ext cx="39600" cy="6845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4135320" y="0"/>
                      <a:ext cx="38160" cy="6845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26" name=""/>
                <p:cNvGrpSpPr/>
                <p:nvPr/>
              </p:nvGrpSpPr>
              <p:grpSpPr>
                <a:xfrm>
                  <a:off x="3265560" y="270000"/>
                  <a:ext cx="663840" cy="6277320"/>
                  <a:chOff x="3265560" y="270000"/>
                  <a:chExt cx="663840" cy="6277320"/>
                </a:xfrm>
              </p:grpSpPr>
              <p:grpSp>
                <p:nvGrpSpPr>
                  <p:cNvPr id="127" name=""/>
                  <p:cNvGrpSpPr/>
                  <p:nvPr/>
                </p:nvGrpSpPr>
                <p:grpSpPr>
                  <a:xfrm>
                    <a:off x="3265560" y="270000"/>
                    <a:ext cx="663840" cy="1749600"/>
                    <a:chOff x="3265560" y="270000"/>
                    <a:chExt cx="663840" cy="1749600"/>
                  </a:xfrm>
                </p:grpSpPr>
                <p:sp>
                  <p:nvSpPr>
                    <p:cNvPr id="128" name=""/>
                    <p:cNvSpPr/>
                    <p:nvPr/>
                  </p:nvSpPr>
                  <p:spPr>
                    <a:xfrm>
                      <a:off x="3740040" y="270000"/>
                      <a:ext cx="1893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0">
                          <a:moveTo>
                            <a:pt x="257" y="0"/>
                          </a:moveTo>
                          <a:lnTo>
                            <a:pt x="0" y="1138"/>
                          </a:lnTo>
                          <a:lnTo>
                            <a:pt x="257" y="2250"/>
                          </a:lnTo>
                          <a:lnTo>
                            <a:pt x="526" y="1138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3265560" y="270000"/>
                      <a:ext cx="1893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0">
                          <a:moveTo>
                            <a:pt x="257" y="0"/>
                          </a:moveTo>
                          <a:lnTo>
                            <a:pt x="0" y="1138"/>
                          </a:lnTo>
                          <a:lnTo>
                            <a:pt x="257" y="2250"/>
                          </a:lnTo>
                          <a:lnTo>
                            <a:pt x="526" y="1138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3740040" y="1208160"/>
                      <a:ext cx="189360" cy="8114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4">
                          <a:moveTo>
                            <a:pt x="257" y="0"/>
                          </a:moveTo>
                          <a:lnTo>
                            <a:pt x="0" y="1140"/>
                          </a:lnTo>
                          <a:lnTo>
                            <a:pt x="257" y="2254"/>
                          </a:lnTo>
                          <a:lnTo>
                            <a:pt x="526" y="1140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3265560" y="1208160"/>
                      <a:ext cx="189360" cy="8114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4">
                          <a:moveTo>
                            <a:pt x="257" y="0"/>
                          </a:moveTo>
                          <a:lnTo>
                            <a:pt x="0" y="1140"/>
                          </a:lnTo>
                          <a:lnTo>
                            <a:pt x="257" y="2254"/>
                          </a:lnTo>
                          <a:lnTo>
                            <a:pt x="526" y="1140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2" name=""/>
                  <p:cNvGrpSpPr/>
                  <p:nvPr/>
                </p:nvGrpSpPr>
                <p:grpSpPr>
                  <a:xfrm>
                    <a:off x="3265560" y="2536920"/>
                    <a:ext cx="663840" cy="1749600"/>
                    <a:chOff x="3265560" y="2536920"/>
                    <a:chExt cx="663840" cy="1749600"/>
                  </a:xfrm>
                </p:grpSpPr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3740040" y="2536920"/>
                      <a:ext cx="1893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0">
                          <a:moveTo>
                            <a:pt x="257" y="0"/>
                          </a:moveTo>
                          <a:lnTo>
                            <a:pt x="0" y="1138"/>
                          </a:lnTo>
                          <a:lnTo>
                            <a:pt x="257" y="2250"/>
                          </a:lnTo>
                          <a:lnTo>
                            <a:pt x="526" y="1138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3265560" y="2536920"/>
                      <a:ext cx="1893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0">
                          <a:moveTo>
                            <a:pt x="257" y="0"/>
                          </a:moveTo>
                          <a:lnTo>
                            <a:pt x="0" y="1138"/>
                          </a:lnTo>
                          <a:lnTo>
                            <a:pt x="257" y="2250"/>
                          </a:lnTo>
                          <a:lnTo>
                            <a:pt x="526" y="1138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3740040" y="3475080"/>
                      <a:ext cx="189360" cy="8114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4">
                          <a:moveTo>
                            <a:pt x="257" y="0"/>
                          </a:moveTo>
                          <a:lnTo>
                            <a:pt x="0" y="1140"/>
                          </a:lnTo>
                          <a:lnTo>
                            <a:pt x="257" y="2254"/>
                          </a:lnTo>
                          <a:lnTo>
                            <a:pt x="526" y="1140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3265560" y="3475080"/>
                      <a:ext cx="189360" cy="8114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4">
                          <a:moveTo>
                            <a:pt x="257" y="0"/>
                          </a:moveTo>
                          <a:lnTo>
                            <a:pt x="0" y="1140"/>
                          </a:lnTo>
                          <a:lnTo>
                            <a:pt x="257" y="2254"/>
                          </a:lnTo>
                          <a:lnTo>
                            <a:pt x="526" y="1140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3265560" y="4797360"/>
                    <a:ext cx="663840" cy="1749960"/>
                    <a:chOff x="3265560" y="4797360"/>
                    <a:chExt cx="663840" cy="1749960"/>
                  </a:xfrm>
                </p:grpSpPr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3740040" y="4797360"/>
                      <a:ext cx="189360" cy="8114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4">
                          <a:moveTo>
                            <a:pt x="257" y="0"/>
                          </a:moveTo>
                          <a:lnTo>
                            <a:pt x="0" y="1140"/>
                          </a:lnTo>
                          <a:lnTo>
                            <a:pt x="257" y="2254"/>
                          </a:lnTo>
                          <a:lnTo>
                            <a:pt x="526" y="1140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3265560" y="4797360"/>
                      <a:ext cx="189360" cy="8114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4">
                          <a:moveTo>
                            <a:pt x="257" y="0"/>
                          </a:moveTo>
                          <a:lnTo>
                            <a:pt x="0" y="1140"/>
                          </a:lnTo>
                          <a:lnTo>
                            <a:pt x="257" y="2254"/>
                          </a:lnTo>
                          <a:lnTo>
                            <a:pt x="526" y="1140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3740040" y="5737320"/>
                      <a:ext cx="1893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0">
                          <a:moveTo>
                            <a:pt x="257" y="0"/>
                          </a:moveTo>
                          <a:lnTo>
                            <a:pt x="0" y="1138"/>
                          </a:lnTo>
                          <a:lnTo>
                            <a:pt x="257" y="2250"/>
                          </a:lnTo>
                          <a:lnTo>
                            <a:pt x="526" y="1138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3265560" y="5737320"/>
                      <a:ext cx="1893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0">
                          <a:moveTo>
                            <a:pt x="257" y="0"/>
                          </a:moveTo>
                          <a:lnTo>
                            <a:pt x="0" y="1138"/>
                          </a:lnTo>
                          <a:lnTo>
                            <a:pt x="257" y="2250"/>
                          </a:lnTo>
                          <a:lnTo>
                            <a:pt x="526" y="1138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42" name=""/>
              <p:cNvGrpSpPr/>
              <p:nvPr/>
            </p:nvGrpSpPr>
            <p:grpSpPr>
              <a:xfrm>
                <a:off x="2033640" y="0"/>
                <a:ext cx="995400" cy="6845400"/>
                <a:chOff x="2033640" y="0"/>
                <a:chExt cx="995400" cy="684540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2033640" y="0"/>
                  <a:ext cx="995400" cy="684540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4" name=""/>
                <p:cNvGrpSpPr/>
                <p:nvPr/>
              </p:nvGrpSpPr>
              <p:grpSpPr>
                <a:xfrm>
                  <a:off x="2076480" y="0"/>
                  <a:ext cx="904680" cy="6845400"/>
                  <a:chOff x="2076480" y="0"/>
                  <a:chExt cx="904680" cy="6845400"/>
                </a:xfrm>
              </p:grpSpPr>
              <p:grpSp>
                <p:nvGrpSpPr>
                  <p:cNvPr id="145" name=""/>
                  <p:cNvGrpSpPr/>
                  <p:nvPr/>
                </p:nvGrpSpPr>
                <p:grpSpPr>
                  <a:xfrm>
                    <a:off x="2076480" y="0"/>
                    <a:ext cx="644400" cy="6845400"/>
                    <a:chOff x="2076480" y="0"/>
                    <a:chExt cx="644400" cy="6845400"/>
                  </a:xfrm>
                </p:grpSpPr>
                <p:sp>
                  <p:nvSpPr>
                    <p:cNvPr id="146" name=""/>
                    <p:cNvSpPr/>
                    <p:nvPr/>
                  </p:nvSpPr>
                  <p:spPr>
                    <a:xfrm>
                      <a:off x="2076480" y="0"/>
                      <a:ext cx="169920" cy="6845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" name=""/>
                    <p:cNvSpPr/>
                    <p:nvPr/>
                  </p:nvSpPr>
                  <p:spPr>
                    <a:xfrm>
                      <a:off x="2549520" y="0"/>
                      <a:ext cx="171360" cy="6845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8" name=""/>
                  <p:cNvGrpSpPr/>
                  <p:nvPr/>
                </p:nvGrpSpPr>
                <p:grpSpPr>
                  <a:xfrm>
                    <a:off x="2290680" y="0"/>
                    <a:ext cx="601920" cy="6845400"/>
                    <a:chOff x="2290680" y="0"/>
                    <a:chExt cx="601920" cy="6845400"/>
                  </a:xfrm>
                </p:grpSpPr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2290680" y="0"/>
                      <a:ext cx="127080" cy="6845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2765520" y="0"/>
                      <a:ext cx="127080" cy="6845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1" name=""/>
                  <p:cNvGrpSpPr/>
                  <p:nvPr/>
                </p:nvGrpSpPr>
                <p:grpSpPr>
                  <a:xfrm>
                    <a:off x="2467080" y="0"/>
                    <a:ext cx="514080" cy="6845400"/>
                    <a:chOff x="2467080" y="0"/>
                    <a:chExt cx="514080" cy="6845400"/>
                  </a:xfrm>
                </p:grpSpPr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2467080" y="0"/>
                      <a:ext cx="39600" cy="6845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2941560" y="0"/>
                      <a:ext cx="39600" cy="6845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54" name=""/>
                <p:cNvGrpSpPr/>
                <p:nvPr/>
              </p:nvGrpSpPr>
              <p:grpSpPr>
                <a:xfrm>
                  <a:off x="2073240" y="270000"/>
                  <a:ext cx="660600" cy="6277320"/>
                  <a:chOff x="2073240" y="270000"/>
                  <a:chExt cx="660600" cy="6277320"/>
                </a:xfrm>
              </p:grpSpPr>
              <p:grpSp>
                <p:nvGrpSpPr>
                  <p:cNvPr id="155" name=""/>
                  <p:cNvGrpSpPr/>
                  <p:nvPr/>
                </p:nvGrpSpPr>
                <p:grpSpPr>
                  <a:xfrm>
                    <a:off x="2073240" y="270000"/>
                    <a:ext cx="660600" cy="1749600"/>
                    <a:chOff x="2073240" y="270000"/>
                    <a:chExt cx="660600" cy="1749600"/>
                  </a:xfrm>
                </p:grpSpPr>
                <p:sp>
                  <p:nvSpPr>
                    <p:cNvPr id="156" name=""/>
                    <p:cNvSpPr/>
                    <p:nvPr/>
                  </p:nvSpPr>
                  <p:spPr>
                    <a:xfrm>
                      <a:off x="2546280" y="270000"/>
                      <a:ext cx="1875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1" h="2250">
                          <a:moveTo>
                            <a:pt x="254" y="0"/>
                          </a:moveTo>
                          <a:lnTo>
                            <a:pt x="0" y="1138"/>
                          </a:lnTo>
                          <a:lnTo>
                            <a:pt x="254" y="2250"/>
                          </a:lnTo>
                          <a:lnTo>
                            <a:pt x="521" y="1138"/>
                          </a:lnTo>
                          <a:lnTo>
                            <a:pt x="254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2073240" y="270000"/>
                      <a:ext cx="1875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1" h="2250">
                          <a:moveTo>
                            <a:pt x="254" y="0"/>
                          </a:moveTo>
                          <a:lnTo>
                            <a:pt x="0" y="1138"/>
                          </a:lnTo>
                          <a:lnTo>
                            <a:pt x="254" y="2250"/>
                          </a:lnTo>
                          <a:lnTo>
                            <a:pt x="521" y="1138"/>
                          </a:lnTo>
                          <a:lnTo>
                            <a:pt x="254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2546280" y="1208160"/>
                      <a:ext cx="187560" cy="8114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1" h="2254">
                          <a:moveTo>
                            <a:pt x="254" y="0"/>
                          </a:moveTo>
                          <a:lnTo>
                            <a:pt x="0" y="1140"/>
                          </a:lnTo>
                          <a:lnTo>
                            <a:pt x="254" y="2254"/>
                          </a:lnTo>
                          <a:lnTo>
                            <a:pt x="521" y="1140"/>
                          </a:lnTo>
                          <a:lnTo>
                            <a:pt x="254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2073240" y="1208160"/>
                      <a:ext cx="187560" cy="8114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1" h="2254">
                          <a:moveTo>
                            <a:pt x="254" y="0"/>
                          </a:moveTo>
                          <a:lnTo>
                            <a:pt x="0" y="1140"/>
                          </a:lnTo>
                          <a:lnTo>
                            <a:pt x="254" y="2254"/>
                          </a:lnTo>
                          <a:lnTo>
                            <a:pt x="521" y="1140"/>
                          </a:lnTo>
                          <a:lnTo>
                            <a:pt x="254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0" name=""/>
                  <p:cNvGrpSpPr/>
                  <p:nvPr/>
                </p:nvGrpSpPr>
                <p:grpSpPr>
                  <a:xfrm>
                    <a:off x="2073240" y="2536920"/>
                    <a:ext cx="660600" cy="1749600"/>
                    <a:chOff x="2073240" y="2536920"/>
                    <a:chExt cx="660600" cy="1749600"/>
                  </a:xfrm>
                </p:grpSpPr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2546280" y="2536920"/>
                      <a:ext cx="1875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1" h="2250">
                          <a:moveTo>
                            <a:pt x="254" y="0"/>
                          </a:moveTo>
                          <a:lnTo>
                            <a:pt x="0" y="1138"/>
                          </a:lnTo>
                          <a:lnTo>
                            <a:pt x="254" y="2250"/>
                          </a:lnTo>
                          <a:lnTo>
                            <a:pt x="521" y="1138"/>
                          </a:lnTo>
                          <a:lnTo>
                            <a:pt x="254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2073240" y="2536920"/>
                      <a:ext cx="1875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1" h="2250">
                          <a:moveTo>
                            <a:pt x="254" y="0"/>
                          </a:moveTo>
                          <a:lnTo>
                            <a:pt x="0" y="1138"/>
                          </a:lnTo>
                          <a:lnTo>
                            <a:pt x="254" y="2250"/>
                          </a:lnTo>
                          <a:lnTo>
                            <a:pt x="521" y="1138"/>
                          </a:lnTo>
                          <a:lnTo>
                            <a:pt x="254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2546280" y="3475080"/>
                      <a:ext cx="187560" cy="8114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1" h="2254">
                          <a:moveTo>
                            <a:pt x="254" y="0"/>
                          </a:moveTo>
                          <a:lnTo>
                            <a:pt x="0" y="1140"/>
                          </a:lnTo>
                          <a:lnTo>
                            <a:pt x="254" y="2254"/>
                          </a:lnTo>
                          <a:lnTo>
                            <a:pt x="521" y="1140"/>
                          </a:lnTo>
                          <a:lnTo>
                            <a:pt x="254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2073240" y="3475080"/>
                      <a:ext cx="187560" cy="8114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1" h="2254">
                          <a:moveTo>
                            <a:pt x="254" y="0"/>
                          </a:moveTo>
                          <a:lnTo>
                            <a:pt x="0" y="1140"/>
                          </a:lnTo>
                          <a:lnTo>
                            <a:pt x="254" y="2254"/>
                          </a:lnTo>
                          <a:lnTo>
                            <a:pt x="521" y="1140"/>
                          </a:lnTo>
                          <a:lnTo>
                            <a:pt x="254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2073240" y="4797360"/>
                    <a:ext cx="660600" cy="1749960"/>
                    <a:chOff x="2073240" y="4797360"/>
                    <a:chExt cx="660600" cy="174996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2546280" y="4797360"/>
                      <a:ext cx="187560" cy="8114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1" h="2254">
                          <a:moveTo>
                            <a:pt x="254" y="0"/>
                          </a:moveTo>
                          <a:lnTo>
                            <a:pt x="0" y="1140"/>
                          </a:lnTo>
                          <a:lnTo>
                            <a:pt x="254" y="2254"/>
                          </a:lnTo>
                          <a:lnTo>
                            <a:pt x="521" y="1140"/>
                          </a:lnTo>
                          <a:lnTo>
                            <a:pt x="254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2073240" y="4797360"/>
                      <a:ext cx="187560" cy="8114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1" h="2254">
                          <a:moveTo>
                            <a:pt x="254" y="0"/>
                          </a:moveTo>
                          <a:lnTo>
                            <a:pt x="0" y="1140"/>
                          </a:lnTo>
                          <a:lnTo>
                            <a:pt x="254" y="2254"/>
                          </a:lnTo>
                          <a:lnTo>
                            <a:pt x="521" y="1140"/>
                          </a:lnTo>
                          <a:lnTo>
                            <a:pt x="254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2546280" y="5737320"/>
                      <a:ext cx="1875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1" h="2250">
                          <a:moveTo>
                            <a:pt x="254" y="0"/>
                          </a:moveTo>
                          <a:lnTo>
                            <a:pt x="0" y="1138"/>
                          </a:lnTo>
                          <a:lnTo>
                            <a:pt x="254" y="2250"/>
                          </a:lnTo>
                          <a:lnTo>
                            <a:pt x="521" y="1138"/>
                          </a:lnTo>
                          <a:lnTo>
                            <a:pt x="254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2073240" y="5737320"/>
                      <a:ext cx="1875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1" h="2250">
                          <a:moveTo>
                            <a:pt x="254" y="0"/>
                          </a:moveTo>
                          <a:lnTo>
                            <a:pt x="0" y="1138"/>
                          </a:lnTo>
                          <a:lnTo>
                            <a:pt x="254" y="2250"/>
                          </a:lnTo>
                          <a:lnTo>
                            <a:pt x="521" y="1138"/>
                          </a:lnTo>
                          <a:lnTo>
                            <a:pt x="254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70" name=""/>
              <p:cNvGrpSpPr/>
              <p:nvPr/>
            </p:nvGrpSpPr>
            <p:grpSpPr>
              <a:xfrm>
                <a:off x="838080" y="0"/>
                <a:ext cx="996840" cy="6845400"/>
                <a:chOff x="838080" y="0"/>
                <a:chExt cx="996840" cy="684540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838080" y="0"/>
                  <a:ext cx="996840" cy="684540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2" name=""/>
                <p:cNvGrpSpPr/>
                <p:nvPr/>
              </p:nvGrpSpPr>
              <p:grpSpPr>
                <a:xfrm>
                  <a:off x="882720" y="0"/>
                  <a:ext cx="903240" cy="6845400"/>
                  <a:chOff x="882720" y="0"/>
                  <a:chExt cx="903240" cy="6845400"/>
                </a:xfrm>
              </p:grpSpPr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882720" y="0"/>
                    <a:ext cx="644400" cy="6845400"/>
                    <a:chOff x="882720" y="0"/>
                    <a:chExt cx="644400" cy="684540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882720" y="0"/>
                      <a:ext cx="171360" cy="6845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1357200" y="0"/>
                      <a:ext cx="169920" cy="6845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6" name=""/>
                  <p:cNvGrpSpPr/>
                  <p:nvPr/>
                </p:nvGrpSpPr>
                <p:grpSpPr>
                  <a:xfrm>
                    <a:off x="1098720" y="0"/>
                    <a:ext cx="600120" cy="6845400"/>
                    <a:chOff x="1098720" y="0"/>
                    <a:chExt cx="600120" cy="6845400"/>
                  </a:xfrm>
                </p:grpSpPr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1098720" y="0"/>
                      <a:ext cx="127080" cy="6845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1571760" y="0"/>
                      <a:ext cx="127080" cy="6845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9" name=""/>
                  <p:cNvGrpSpPr/>
                  <p:nvPr/>
                </p:nvGrpSpPr>
                <p:grpSpPr>
                  <a:xfrm>
                    <a:off x="1273320" y="0"/>
                    <a:ext cx="512640" cy="6845400"/>
                    <a:chOff x="1273320" y="0"/>
                    <a:chExt cx="512640" cy="6845400"/>
                  </a:xfrm>
                </p:grpSpPr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1273320" y="0"/>
                      <a:ext cx="39600" cy="6845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1746360" y="0"/>
                      <a:ext cx="39600" cy="6845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82" name=""/>
                <p:cNvGrpSpPr/>
                <p:nvPr/>
              </p:nvGrpSpPr>
              <p:grpSpPr>
                <a:xfrm>
                  <a:off x="878040" y="270000"/>
                  <a:ext cx="663840" cy="6277320"/>
                  <a:chOff x="878040" y="270000"/>
                  <a:chExt cx="663840" cy="6277320"/>
                </a:xfrm>
              </p:grpSpPr>
              <p:grpSp>
                <p:nvGrpSpPr>
                  <p:cNvPr id="183" name=""/>
                  <p:cNvGrpSpPr/>
                  <p:nvPr/>
                </p:nvGrpSpPr>
                <p:grpSpPr>
                  <a:xfrm>
                    <a:off x="878040" y="270000"/>
                    <a:ext cx="663840" cy="1749600"/>
                    <a:chOff x="878040" y="270000"/>
                    <a:chExt cx="663840" cy="1749600"/>
                  </a:xfrm>
                </p:grpSpPr>
                <p:sp>
                  <p:nvSpPr>
                    <p:cNvPr id="184" name=""/>
                    <p:cNvSpPr/>
                    <p:nvPr/>
                  </p:nvSpPr>
                  <p:spPr>
                    <a:xfrm>
                      <a:off x="1351080" y="270000"/>
                      <a:ext cx="19080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30" h="2250">
                          <a:moveTo>
                            <a:pt x="258" y="0"/>
                          </a:moveTo>
                          <a:lnTo>
                            <a:pt x="0" y="1138"/>
                          </a:lnTo>
                          <a:lnTo>
                            <a:pt x="258" y="2250"/>
                          </a:lnTo>
                          <a:lnTo>
                            <a:pt x="530" y="1138"/>
                          </a:lnTo>
                          <a:lnTo>
                            <a:pt x="258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878040" y="270000"/>
                      <a:ext cx="1893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0">
                          <a:moveTo>
                            <a:pt x="257" y="0"/>
                          </a:moveTo>
                          <a:lnTo>
                            <a:pt x="0" y="1138"/>
                          </a:lnTo>
                          <a:lnTo>
                            <a:pt x="257" y="2250"/>
                          </a:lnTo>
                          <a:lnTo>
                            <a:pt x="526" y="1138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1351080" y="1208160"/>
                      <a:ext cx="190800" cy="8114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30" h="2254">
                          <a:moveTo>
                            <a:pt x="258" y="0"/>
                          </a:moveTo>
                          <a:lnTo>
                            <a:pt x="0" y="1140"/>
                          </a:lnTo>
                          <a:lnTo>
                            <a:pt x="258" y="2254"/>
                          </a:lnTo>
                          <a:lnTo>
                            <a:pt x="530" y="1140"/>
                          </a:lnTo>
                          <a:lnTo>
                            <a:pt x="258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878040" y="1208160"/>
                      <a:ext cx="189360" cy="8114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4">
                          <a:moveTo>
                            <a:pt x="257" y="0"/>
                          </a:moveTo>
                          <a:lnTo>
                            <a:pt x="0" y="1140"/>
                          </a:lnTo>
                          <a:lnTo>
                            <a:pt x="257" y="2254"/>
                          </a:lnTo>
                          <a:lnTo>
                            <a:pt x="526" y="1140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8" name=""/>
                  <p:cNvGrpSpPr/>
                  <p:nvPr/>
                </p:nvGrpSpPr>
                <p:grpSpPr>
                  <a:xfrm>
                    <a:off x="878040" y="2536920"/>
                    <a:ext cx="663840" cy="1749600"/>
                    <a:chOff x="878040" y="2536920"/>
                    <a:chExt cx="663840" cy="1749600"/>
                  </a:xfrm>
                </p:grpSpPr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1351080" y="2536920"/>
                      <a:ext cx="19080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30" h="2250">
                          <a:moveTo>
                            <a:pt x="258" y="0"/>
                          </a:moveTo>
                          <a:lnTo>
                            <a:pt x="0" y="1138"/>
                          </a:lnTo>
                          <a:lnTo>
                            <a:pt x="258" y="2250"/>
                          </a:lnTo>
                          <a:lnTo>
                            <a:pt x="530" y="1138"/>
                          </a:lnTo>
                          <a:lnTo>
                            <a:pt x="258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878040" y="2536920"/>
                      <a:ext cx="1893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0">
                          <a:moveTo>
                            <a:pt x="257" y="0"/>
                          </a:moveTo>
                          <a:lnTo>
                            <a:pt x="0" y="1138"/>
                          </a:lnTo>
                          <a:lnTo>
                            <a:pt x="257" y="2250"/>
                          </a:lnTo>
                          <a:lnTo>
                            <a:pt x="526" y="1138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1351080" y="3475080"/>
                      <a:ext cx="190800" cy="8114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30" h="2254">
                          <a:moveTo>
                            <a:pt x="258" y="0"/>
                          </a:moveTo>
                          <a:lnTo>
                            <a:pt x="0" y="1140"/>
                          </a:lnTo>
                          <a:lnTo>
                            <a:pt x="258" y="2254"/>
                          </a:lnTo>
                          <a:lnTo>
                            <a:pt x="530" y="1140"/>
                          </a:lnTo>
                          <a:lnTo>
                            <a:pt x="258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878040" y="3475080"/>
                      <a:ext cx="189360" cy="8114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4">
                          <a:moveTo>
                            <a:pt x="257" y="0"/>
                          </a:moveTo>
                          <a:lnTo>
                            <a:pt x="0" y="1140"/>
                          </a:lnTo>
                          <a:lnTo>
                            <a:pt x="257" y="2254"/>
                          </a:lnTo>
                          <a:lnTo>
                            <a:pt x="526" y="1140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878040" y="4797360"/>
                    <a:ext cx="663840" cy="1749960"/>
                    <a:chOff x="878040" y="4797360"/>
                    <a:chExt cx="663840" cy="174996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1351080" y="4797360"/>
                      <a:ext cx="190800" cy="8114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30" h="2254">
                          <a:moveTo>
                            <a:pt x="258" y="0"/>
                          </a:moveTo>
                          <a:lnTo>
                            <a:pt x="0" y="1140"/>
                          </a:lnTo>
                          <a:lnTo>
                            <a:pt x="258" y="2254"/>
                          </a:lnTo>
                          <a:lnTo>
                            <a:pt x="530" y="1140"/>
                          </a:lnTo>
                          <a:lnTo>
                            <a:pt x="258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878040" y="4797360"/>
                      <a:ext cx="189360" cy="8114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4">
                          <a:moveTo>
                            <a:pt x="257" y="0"/>
                          </a:moveTo>
                          <a:lnTo>
                            <a:pt x="0" y="1140"/>
                          </a:lnTo>
                          <a:lnTo>
                            <a:pt x="257" y="2254"/>
                          </a:lnTo>
                          <a:lnTo>
                            <a:pt x="526" y="1140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1351080" y="5737320"/>
                      <a:ext cx="19080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30" h="2250">
                          <a:moveTo>
                            <a:pt x="258" y="0"/>
                          </a:moveTo>
                          <a:lnTo>
                            <a:pt x="0" y="1138"/>
                          </a:lnTo>
                          <a:lnTo>
                            <a:pt x="258" y="2250"/>
                          </a:lnTo>
                          <a:lnTo>
                            <a:pt x="530" y="1138"/>
                          </a:lnTo>
                          <a:lnTo>
                            <a:pt x="258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878040" y="5737320"/>
                      <a:ext cx="189360" cy="810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26" h="2250">
                          <a:moveTo>
                            <a:pt x="257" y="0"/>
                          </a:moveTo>
                          <a:lnTo>
                            <a:pt x="0" y="1138"/>
                          </a:lnTo>
                          <a:lnTo>
                            <a:pt x="257" y="2250"/>
                          </a:lnTo>
                          <a:lnTo>
                            <a:pt x="526" y="1138"/>
                          </a:lnTo>
                          <a:lnTo>
                            <a:pt x="257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e0e0e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198" name=""/>
            <p:cNvGrpSpPr/>
            <p:nvPr/>
          </p:nvGrpSpPr>
          <p:grpSpPr>
            <a:xfrm>
              <a:off x="0" y="0"/>
              <a:ext cx="708120" cy="6845400"/>
              <a:chOff x="0" y="0"/>
              <a:chExt cx="708120" cy="6845400"/>
            </a:xfrm>
          </p:grpSpPr>
          <p:grpSp>
            <p:nvGrpSpPr>
              <p:cNvPr id="199" name=""/>
              <p:cNvGrpSpPr/>
              <p:nvPr/>
            </p:nvGrpSpPr>
            <p:grpSpPr>
              <a:xfrm>
                <a:off x="0" y="0"/>
                <a:ext cx="708120" cy="6845400"/>
                <a:chOff x="0" y="0"/>
                <a:chExt cx="708120" cy="6845400"/>
              </a:xfrm>
            </p:grpSpPr>
            <p:grpSp>
              <p:nvGrpSpPr>
                <p:cNvPr id="200" name=""/>
                <p:cNvGrpSpPr/>
                <p:nvPr/>
              </p:nvGrpSpPr>
              <p:grpSpPr>
                <a:xfrm>
                  <a:off x="0" y="0"/>
                  <a:ext cx="708120" cy="6845400"/>
                  <a:chOff x="0" y="0"/>
                  <a:chExt cx="708120" cy="684540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>
                    <a:off x="0" y="0"/>
                    <a:ext cx="708120" cy="6845400"/>
                  </a:xfrm>
                  <a:prstGeom prst="rect">
                    <a:avLst/>
                  </a:prstGeom>
                  <a:solidFill>
                    <a:srgbClr val="cecece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33480" y="0"/>
                    <a:ext cx="639720" cy="6845400"/>
                    <a:chOff x="33480" y="0"/>
                    <a:chExt cx="639720" cy="6845400"/>
                  </a:xfrm>
                </p:grpSpPr>
                <p:grpSp>
                  <p:nvGrpSpPr>
                    <p:cNvPr id="203" name=""/>
                    <p:cNvGrpSpPr/>
                    <p:nvPr/>
                  </p:nvGrpSpPr>
                  <p:grpSpPr>
                    <a:xfrm>
                      <a:off x="33480" y="0"/>
                      <a:ext cx="639720" cy="6845400"/>
                      <a:chOff x="33480" y="0"/>
                      <a:chExt cx="639720" cy="6845400"/>
                    </a:xfrm>
                  </p:grpSpPr>
                  <p:grpSp>
                    <p:nvGrpSpPr>
                      <p:cNvPr id="204" name=""/>
                      <p:cNvGrpSpPr/>
                      <p:nvPr/>
                    </p:nvGrpSpPr>
                    <p:grpSpPr>
                      <a:xfrm>
                        <a:off x="33480" y="0"/>
                        <a:ext cx="468360" cy="6845400"/>
                        <a:chOff x="33480" y="0"/>
                        <a:chExt cx="468360" cy="6845400"/>
                      </a:xfrm>
                    </p:grpSpPr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33480" y="0"/>
                          <a:ext cx="131760" cy="6845400"/>
                        </a:xfrm>
                        <a:prstGeom prst="rect">
                          <a:avLst/>
                        </a:prstGeom>
                        <a:solidFill>
                          <a:srgbClr val="676767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45000" bIns="450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371520" y="0"/>
                          <a:ext cx="130320" cy="6845400"/>
                        </a:xfrm>
                        <a:prstGeom prst="rect">
                          <a:avLst/>
                        </a:prstGeom>
                        <a:solidFill>
                          <a:srgbClr val="676767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45000" bIns="450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07" name=""/>
                      <p:cNvSpPr/>
                      <p:nvPr/>
                    </p:nvSpPr>
                    <p:spPr>
                      <a:xfrm>
                        <a:off x="198360" y="0"/>
                        <a:ext cx="73080" cy="6845400"/>
                      </a:xfrm>
                      <a:prstGeom prst="rect">
                        <a:avLst/>
                      </a:prstGeom>
                      <a:solidFill>
                        <a:srgbClr val="919191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08" name=""/>
                      <p:cNvGrpSpPr/>
                      <p:nvPr/>
                    </p:nvGrpSpPr>
                    <p:grpSpPr>
                      <a:xfrm>
                        <a:off x="307800" y="0"/>
                        <a:ext cx="365400" cy="6845400"/>
                        <a:chOff x="307800" y="0"/>
                        <a:chExt cx="365400" cy="6845400"/>
                      </a:xfrm>
                    </p:grpSpPr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307800" y="0"/>
                          <a:ext cx="30240" cy="6845400"/>
                        </a:xfrm>
                        <a:prstGeom prst="rect">
                          <a:avLst/>
                        </a:prstGeom>
                        <a:solidFill>
                          <a:srgbClr val="cecece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45000" bIns="450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642960" y="0"/>
                          <a:ext cx="30240" cy="6845400"/>
                        </a:xfrm>
                        <a:prstGeom prst="rect">
                          <a:avLst/>
                        </a:prstGeom>
                        <a:solidFill>
                          <a:srgbClr val="cecece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45000" bIns="450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11" name=""/>
                    <p:cNvSpPr/>
                    <p:nvPr/>
                  </p:nvSpPr>
                  <p:spPr>
                    <a:xfrm>
                      <a:off x="536400" y="0"/>
                      <a:ext cx="73080" cy="6845400"/>
                    </a:xfrm>
                    <a:prstGeom prst="rect">
                      <a:avLst/>
                    </a:prstGeom>
                    <a:solidFill>
                      <a:srgbClr val="919191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12" name=""/>
                <p:cNvGrpSpPr/>
                <p:nvPr/>
              </p:nvGrpSpPr>
              <p:grpSpPr>
                <a:xfrm>
                  <a:off x="303120" y="0"/>
                  <a:ext cx="376560" cy="6845400"/>
                  <a:chOff x="303120" y="0"/>
                  <a:chExt cx="376560" cy="684540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>
                    <a:off x="303120" y="0"/>
                    <a:ext cx="38160" cy="6845400"/>
                  </a:xfrm>
                  <a:prstGeom prst="rect">
                    <a:avLst/>
                  </a:pr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641520" y="0"/>
                    <a:ext cx="38160" cy="6845400"/>
                  </a:xfrm>
                  <a:prstGeom prst="rect">
                    <a:avLst/>
                  </a:pr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5" name=""/>
              <p:cNvGrpSpPr/>
              <p:nvPr/>
            </p:nvGrpSpPr>
            <p:grpSpPr>
              <a:xfrm>
                <a:off x="30240" y="270000"/>
                <a:ext cx="482760" cy="6277320"/>
                <a:chOff x="30240" y="270000"/>
                <a:chExt cx="482760" cy="6277320"/>
              </a:xfrm>
            </p:grpSpPr>
            <p:grpSp>
              <p:nvGrpSpPr>
                <p:cNvPr id="216" name=""/>
                <p:cNvGrpSpPr/>
                <p:nvPr/>
              </p:nvGrpSpPr>
              <p:grpSpPr>
                <a:xfrm>
                  <a:off x="30240" y="2536920"/>
                  <a:ext cx="482760" cy="1749600"/>
                  <a:chOff x="30240" y="2536920"/>
                  <a:chExt cx="482760" cy="1749600"/>
                </a:xfrm>
              </p:grpSpPr>
              <p:sp>
                <p:nvSpPr>
                  <p:cNvPr id="217" name=""/>
                  <p:cNvSpPr/>
                  <p:nvPr/>
                </p:nvSpPr>
                <p:spPr>
                  <a:xfrm>
                    <a:off x="368280" y="2536920"/>
                    <a:ext cx="144720" cy="810000"/>
                  </a:xfrm>
                  <a:custGeom>
                    <a:avLst/>
                    <a:gdLst/>
                    <a:ahLst/>
                    <a:rect l="0" t="0" r="r" b="b"/>
                    <a:pathLst>
                      <a:path w="402" h="2250">
                        <a:moveTo>
                          <a:pt x="195" y="0"/>
                        </a:moveTo>
                        <a:lnTo>
                          <a:pt x="0" y="1138"/>
                        </a:lnTo>
                        <a:lnTo>
                          <a:pt x="195" y="2250"/>
                        </a:lnTo>
                        <a:lnTo>
                          <a:pt x="402" y="1138"/>
                        </a:lnTo>
                        <a:lnTo>
                          <a:pt x="195" y="0"/>
                        </a:lnTo>
                        <a:close/>
                      </a:path>
                    </a:pathLst>
                  </a:custGeom>
                  <a:solidFill>
                    <a:srgbClr val="474747"/>
                  </a:solidFill>
                  <a:ln w="25560">
                    <a:solidFill>
                      <a:srgbClr val="cecece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30240" y="2536920"/>
                    <a:ext cx="144720" cy="810000"/>
                  </a:xfrm>
                  <a:custGeom>
                    <a:avLst/>
                    <a:gdLst/>
                    <a:ahLst/>
                    <a:rect l="0" t="0" r="r" b="b"/>
                    <a:pathLst>
                      <a:path w="402" h="2250">
                        <a:moveTo>
                          <a:pt x="195" y="0"/>
                        </a:moveTo>
                        <a:lnTo>
                          <a:pt x="0" y="1138"/>
                        </a:lnTo>
                        <a:lnTo>
                          <a:pt x="195" y="2250"/>
                        </a:lnTo>
                        <a:lnTo>
                          <a:pt x="402" y="1138"/>
                        </a:lnTo>
                        <a:lnTo>
                          <a:pt x="195" y="0"/>
                        </a:lnTo>
                        <a:close/>
                      </a:path>
                    </a:pathLst>
                  </a:custGeom>
                  <a:solidFill>
                    <a:srgbClr val="474747"/>
                  </a:solidFill>
                  <a:ln w="25560">
                    <a:solidFill>
                      <a:srgbClr val="cecece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368280" y="3475080"/>
                    <a:ext cx="144720" cy="811440"/>
                  </a:xfrm>
                  <a:custGeom>
                    <a:avLst/>
                    <a:gdLst/>
                    <a:ahLst/>
                    <a:rect l="0" t="0" r="r" b="b"/>
                    <a:pathLst>
                      <a:path w="402" h="2254">
                        <a:moveTo>
                          <a:pt x="195" y="0"/>
                        </a:moveTo>
                        <a:lnTo>
                          <a:pt x="0" y="1140"/>
                        </a:lnTo>
                        <a:lnTo>
                          <a:pt x="195" y="2254"/>
                        </a:lnTo>
                        <a:lnTo>
                          <a:pt x="402" y="1140"/>
                        </a:lnTo>
                        <a:lnTo>
                          <a:pt x="195" y="0"/>
                        </a:lnTo>
                        <a:close/>
                      </a:path>
                    </a:pathLst>
                  </a:custGeom>
                  <a:solidFill>
                    <a:srgbClr val="474747"/>
                  </a:solidFill>
                  <a:ln w="25560">
                    <a:solidFill>
                      <a:srgbClr val="cecece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30240" y="3475080"/>
                    <a:ext cx="144720" cy="811440"/>
                  </a:xfrm>
                  <a:custGeom>
                    <a:avLst/>
                    <a:gdLst/>
                    <a:ahLst/>
                    <a:rect l="0" t="0" r="r" b="b"/>
                    <a:pathLst>
                      <a:path w="402" h="2254">
                        <a:moveTo>
                          <a:pt x="195" y="0"/>
                        </a:moveTo>
                        <a:lnTo>
                          <a:pt x="0" y="1140"/>
                        </a:lnTo>
                        <a:lnTo>
                          <a:pt x="195" y="2254"/>
                        </a:lnTo>
                        <a:lnTo>
                          <a:pt x="402" y="1140"/>
                        </a:lnTo>
                        <a:lnTo>
                          <a:pt x="195" y="0"/>
                        </a:lnTo>
                        <a:close/>
                      </a:path>
                    </a:pathLst>
                  </a:custGeom>
                  <a:solidFill>
                    <a:srgbClr val="474747"/>
                  </a:solidFill>
                  <a:ln w="25560">
                    <a:solidFill>
                      <a:srgbClr val="cecece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1" name=""/>
                <p:cNvGrpSpPr/>
                <p:nvPr/>
              </p:nvGrpSpPr>
              <p:grpSpPr>
                <a:xfrm>
                  <a:off x="30240" y="4797360"/>
                  <a:ext cx="482760" cy="1749960"/>
                  <a:chOff x="30240" y="4797360"/>
                  <a:chExt cx="482760" cy="174996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368280" y="4797360"/>
                    <a:ext cx="144720" cy="811440"/>
                  </a:xfrm>
                  <a:custGeom>
                    <a:avLst/>
                    <a:gdLst/>
                    <a:ahLst/>
                    <a:rect l="0" t="0" r="r" b="b"/>
                    <a:pathLst>
                      <a:path w="402" h="2254">
                        <a:moveTo>
                          <a:pt x="195" y="0"/>
                        </a:moveTo>
                        <a:lnTo>
                          <a:pt x="0" y="1140"/>
                        </a:lnTo>
                        <a:lnTo>
                          <a:pt x="195" y="2254"/>
                        </a:lnTo>
                        <a:lnTo>
                          <a:pt x="402" y="1140"/>
                        </a:lnTo>
                        <a:lnTo>
                          <a:pt x="195" y="0"/>
                        </a:lnTo>
                        <a:close/>
                      </a:path>
                    </a:pathLst>
                  </a:custGeom>
                  <a:solidFill>
                    <a:srgbClr val="474747"/>
                  </a:solidFill>
                  <a:ln w="25560">
                    <a:solidFill>
                      <a:srgbClr val="cecece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30240" y="4797360"/>
                    <a:ext cx="144720" cy="811440"/>
                  </a:xfrm>
                  <a:custGeom>
                    <a:avLst/>
                    <a:gdLst/>
                    <a:ahLst/>
                    <a:rect l="0" t="0" r="r" b="b"/>
                    <a:pathLst>
                      <a:path w="402" h="2254">
                        <a:moveTo>
                          <a:pt x="195" y="0"/>
                        </a:moveTo>
                        <a:lnTo>
                          <a:pt x="0" y="1140"/>
                        </a:lnTo>
                        <a:lnTo>
                          <a:pt x="195" y="2254"/>
                        </a:lnTo>
                        <a:lnTo>
                          <a:pt x="402" y="1140"/>
                        </a:lnTo>
                        <a:lnTo>
                          <a:pt x="195" y="0"/>
                        </a:lnTo>
                        <a:close/>
                      </a:path>
                    </a:pathLst>
                  </a:custGeom>
                  <a:solidFill>
                    <a:srgbClr val="474747"/>
                  </a:solidFill>
                  <a:ln w="25560">
                    <a:solidFill>
                      <a:srgbClr val="cecece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368280" y="5737320"/>
                    <a:ext cx="144720" cy="810000"/>
                  </a:xfrm>
                  <a:custGeom>
                    <a:avLst/>
                    <a:gdLst/>
                    <a:ahLst/>
                    <a:rect l="0" t="0" r="r" b="b"/>
                    <a:pathLst>
                      <a:path w="402" h="2250">
                        <a:moveTo>
                          <a:pt x="195" y="0"/>
                        </a:moveTo>
                        <a:lnTo>
                          <a:pt x="0" y="1138"/>
                        </a:lnTo>
                        <a:lnTo>
                          <a:pt x="195" y="2250"/>
                        </a:lnTo>
                        <a:lnTo>
                          <a:pt x="402" y="1138"/>
                        </a:lnTo>
                        <a:lnTo>
                          <a:pt x="195" y="0"/>
                        </a:lnTo>
                        <a:close/>
                      </a:path>
                    </a:pathLst>
                  </a:custGeom>
                  <a:solidFill>
                    <a:srgbClr val="474747"/>
                  </a:solidFill>
                  <a:ln w="25560">
                    <a:solidFill>
                      <a:srgbClr val="cecece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30240" y="5737320"/>
                    <a:ext cx="144720" cy="810000"/>
                  </a:xfrm>
                  <a:custGeom>
                    <a:avLst/>
                    <a:gdLst/>
                    <a:ahLst/>
                    <a:rect l="0" t="0" r="r" b="b"/>
                    <a:pathLst>
                      <a:path w="402" h="2250">
                        <a:moveTo>
                          <a:pt x="195" y="0"/>
                        </a:moveTo>
                        <a:lnTo>
                          <a:pt x="0" y="1138"/>
                        </a:lnTo>
                        <a:lnTo>
                          <a:pt x="195" y="2250"/>
                        </a:lnTo>
                        <a:lnTo>
                          <a:pt x="402" y="1138"/>
                        </a:lnTo>
                        <a:lnTo>
                          <a:pt x="195" y="0"/>
                        </a:lnTo>
                        <a:close/>
                      </a:path>
                    </a:pathLst>
                  </a:custGeom>
                  <a:solidFill>
                    <a:srgbClr val="474747"/>
                  </a:solidFill>
                  <a:ln w="25560">
                    <a:solidFill>
                      <a:srgbClr val="cecece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30240" y="270000"/>
                  <a:ext cx="482760" cy="1749600"/>
                  <a:chOff x="30240" y="270000"/>
                  <a:chExt cx="482760" cy="174960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>
                    <a:off x="368280" y="1208160"/>
                    <a:ext cx="144720" cy="811440"/>
                  </a:xfrm>
                  <a:custGeom>
                    <a:avLst/>
                    <a:gdLst/>
                    <a:ahLst/>
                    <a:rect l="0" t="0" r="r" b="b"/>
                    <a:pathLst>
                      <a:path w="402" h="2254">
                        <a:moveTo>
                          <a:pt x="195" y="0"/>
                        </a:moveTo>
                        <a:lnTo>
                          <a:pt x="0" y="1140"/>
                        </a:lnTo>
                        <a:lnTo>
                          <a:pt x="195" y="2254"/>
                        </a:lnTo>
                        <a:lnTo>
                          <a:pt x="402" y="1140"/>
                        </a:lnTo>
                        <a:lnTo>
                          <a:pt x="195" y="0"/>
                        </a:lnTo>
                        <a:close/>
                      </a:path>
                    </a:pathLst>
                  </a:custGeom>
                  <a:solidFill>
                    <a:srgbClr val="474747"/>
                  </a:solidFill>
                  <a:ln w="25560">
                    <a:solidFill>
                      <a:srgbClr val="cecece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30240" y="1208160"/>
                    <a:ext cx="144720" cy="811440"/>
                  </a:xfrm>
                  <a:custGeom>
                    <a:avLst/>
                    <a:gdLst/>
                    <a:ahLst/>
                    <a:rect l="0" t="0" r="r" b="b"/>
                    <a:pathLst>
                      <a:path w="402" h="2254">
                        <a:moveTo>
                          <a:pt x="195" y="0"/>
                        </a:moveTo>
                        <a:lnTo>
                          <a:pt x="0" y="1140"/>
                        </a:lnTo>
                        <a:lnTo>
                          <a:pt x="195" y="2254"/>
                        </a:lnTo>
                        <a:lnTo>
                          <a:pt x="402" y="1140"/>
                        </a:lnTo>
                        <a:lnTo>
                          <a:pt x="195" y="0"/>
                        </a:lnTo>
                        <a:close/>
                      </a:path>
                    </a:pathLst>
                  </a:custGeom>
                  <a:solidFill>
                    <a:srgbClr val="474747"/>
                  </a:solidFill>
                  <a:ln w="25560">
                    <a:solidFill>
                      <a:srgbClr val="cecece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368280" y="270000"/>
                    <a:ext cx="144720" cy="810000"/>
                  </a:xfrm>
                  <a:custGeom>
                    <a:avLst/>
                    <a:gdLst/>
                    <a:ahLst/>
                    <a:rect l="0" t="0" r="r" b="b"/>
                    <a:pathLst>
                      <a:path w="402" h="2250">
                        <a:moveTo>
                          <a:pt x="195" y="0"/>
                        </a:moveTo>
                        <a:lnTo>
                          <a:pt x="0" y="1138"/>
                        </a:lnTo>
                        <a:lnTo>
                          <a:pt x="195" y="2250"/>
                        </a:lnTo>
                        <a:lnTo>
                          <a:pt x="402" y="1138"/>
                        </a:lnTo>
                        <a:lnTo>
                          <a:pt x="195" y="0"/>
                        </a:lnTo>
                        <a:close/>
                      </a:path>
                    </a:pathLst>
                  </a:custGeom>
                  <a:solidFill>
                    <a:srgbClr val="474747"/>
                  </a:solidFill>
                  <a:ln w="25560">
                    <a:solidFill>
                      <a:srgbClr val="cecece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30240" y="270000"/>
                    <a:ext cx="144720" cy="810000"/>
                  </a:xfrm>
                  <a:custGeom>
                    <a:avLst/>
                    <a:gdLst/>
                    <a:ahLst/>
                    <a:rect l="0" t="0" r="r" b="b"/>
                    <a:pathLst>
                      <a:path w="402" h="2250">
                        <a:moveTo>
                          <a:pt x="195" y="0"/>
                        </a:moveTo>
                        <a:lnTo>
                          <a:pt x="0" y="1138"/>
                        </a:lnTo>
                        <a:lnTo>
                          <a:pt x="195" y="2250"/>
                        </a:lnTo>
                        <a:lnTo>
                          <a:pt x="402" y="1138"/>
                        </a:lnTo>
                        <a:lnTo>
                          <a:pt x="195" y="0"/>
                        </a:lnTo>
                        <a:close/>
                      </a:path>
                    </a:pathLst>
                  </a:custGeom>
                  <a:solidFill>
                    <a:srgbClr val="474747"/>
                  </a:solidFill>
                  <a:ln w="25560">
                    <a:solidFill>
                      <a:srgbClr val="cecece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231" name=""/>
          <p:cNvGrpSpPr/>
          <p:nvPr/>
        </p:nvGrpSpPr>
        <p:grpSpPr>
          <a:xfrm>
            <a:off x="8379000" y="0"/>
            <a:ext cx="495360" cy="6845400"/>
            <a:chOff x="8379000" y="0"/>
            <a:chExt cx="495360" cy="6845400"/>
          </a:xfrm>
        </p:grpSpPr>
        <p:sp>
          <p:nvSpPr>
            <p:cNvPr id="232" name=""/>
            <p:cNvSpPr/>
            <p:nvPr/>
          </p:nvSpPr>
          <p:spPr>
            <a:xfrm>
              <a:off x="8379000" y="0"/>
              <a:ext cx="38160" cy="684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836200" y="0"/>
              <a:ext cx="38160" cy="684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10666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1066680" y="1981080"/>
            <a:ext cx="775332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  <a:ea typeface="Book Antiqua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  <a:ea typeface="Book Antiqua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