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7200"/>
            <a:chOff x="0" y="0"/>
            <a:chExt cx="9131760" cy="6847200"/>
          </a:xfrm>
        </p:grpSpPr>
        <p:grpSp>
          <p:nvGrpSpPr>
            <p:cNvPr id="1" name=""/>
            <p:cNvGrpSpPr/>
            <p:nvPr/>
          </p:nvGrpSpPr>
          <p:grpSpPr>
            <a:xfrm>
              <a:off x="79200" y="4680"/>
              <a:ext cx="8907840" cy="381240"/>
              <a:chOff x="79200" y="4680"/>
              <a:chExt cx="8907840" cy="381240"/>
            </a:xfrm>
          </p:grpSpPr>
          <p:sp>
            <p:nvSpPr>
              <p:cNvPr id="2" name=""/>
              <p:cNvSpPr/>
              <p:nvPr/>
            </p:nvSpPr>
            <p:spPr>
              <a:xfrm>
                <a:off x="7920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1059"/>
                    </a:moveTo>
                    <a:lnTo>
                      <a:pt x="0" y="1059"/>
                    </a:lnTo>
                    <a:lnTo>
                      <a:pt x="627" y="0"/>
                    </a:lnTo>
                    <a:lnTo>
                      <a:pt x="1253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376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0796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072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024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1059"/>
                    </a:moveTo>
                    <a:lnTo>
                      <a:pt x="0" y="1059"/>
                    </a:lnTo>
                    <a:lnTo>
                      <a:pt x="622" y="0"/>
                    </a:lnTo>
                    <a:lnTo>
                      <a:pt x="1245" y="1059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143000" y="4680"/>
                <a:ext cx="446400" cy="381240"/>
              </a:xfrm>
              <a:custGeom>
                <a:avLst/>
                <a:gdLst/>
                <a:ahLst/>
                <a:rect l="0" t="0" r="r" b="b"/>
                <a:pathLst>
                  <a:path w="1240" h="1059">
                    <a:moveTo>
                      <a:pt x="1240" y="0"/>
                    </a:moveTo>
                    <a:lnTo>
                      <a:pt x="0" y="0"/>
                    </a:lnTo>
                    <a:lnTo>
                      <a:pt x="619" y="1059"/>
                    </a:lnTo>
                    <a:lnTo>
                      <a:pt x="1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35396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1059"/>
                    </a:moveTo>
                    <a:lnTo>
                      <a:pt x="0" y="1059"/>
                    </a:lnTo>
                    <a:lnTo>
                      <a:pt x="627" y="0"/>
                    </a:lnTo>
                    <a:lnTo>
                      <a:pt x="1253" y="1059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6060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7480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1059"/>
                    </a:moveTo>
                    <a:lnTo>
                      <a:pt x="0" y="1059"/>
                    </a:lnTo>
                    <a:lnTo>
                      <a:pt x="627" y="0"/>
                    </a:lnTo>
                    <a:lnTo>
                      <a:pt x="1253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98432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19384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40516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59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61792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1059"/>
                    </a:moveTo>
                    <a:lnTo>
                      <a:pt x="0" y="1059"/>
                    </a:lnTo>
                    <a:lnTo>
                      <a:pt x="627" y="0"/>
                    </a:lnTo>
                    <a:lnTo>
                      <a:pt x="1253" y="1059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82744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3696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24972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460680" y="4680"/>
                <a:ext cx="446400" cy="381240"/>
              </a:xfrm>
              <a:custGeom>
                <a:avLst/>
                <a:gdLst/>
                <a:ahLst/>
                <a:rect l="0" t="0" r="r" b="b"/>
                <a:pathLst>
                  <a:path w="1240" h="1059">
                    <a:moveTo>
                      <a:pt x="1240" y="1059"/>
                    </a:moveTo>
                    <a:lnTo>
                      <a:pt x="0" y="1059"/>
                    </a:lnTo>
                    <a:lnTo>
                      <a:pt x="619" y="0"/>
                    </a:lnTo>
                    <a:lnTo>
                      <a:pt x="1240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66876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87972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09104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59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30380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51476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72284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93380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59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14656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35608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56884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1059"/>
                    </a:moveTo>
                    <a:lnTo>
                      <a:pt x="0" y="1059"/>
                    </a:lnTo>
                    <a:lnTo>
                      <a:pt x="622" y="0"/>
                    </a:lnTo>
                    <a:lnTo>
                      <a:pt x="1245" y="1059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77836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98788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19920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40872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2148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83424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4376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25328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46460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67556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1059"/>
                    </a:moveTo>
                    <a:lnTo>
                      <a:pt x="0" y="1059"/>
                    </a:lnTo>
                    <a:lnTo>
                      <a:pt x="622" y="0"/>
                    </a:lnTo>
                    <a:lnTo>
                      <a:pt x="1245" y="1059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888320" y="468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11368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326440" y="468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59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537400" y="468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8759880" y="0"/>
              <a:ext cx="371880" cy="6845400"/>
              <a:chOff x="8759880" y="0"/>
              <a:chExt cx="371880" cy="6845400"/>
            </a:xfrm>
          </p:grpSpPr>
          <p:sp>
            <p:nvSpPr>
              <p:cNvPr id="44" name=""/>
              <p:cNvSpPr/>
              <p:nvPr/>
            </p:nvSpPr>
            <p:spPr>
              <a:xfrm>
                <a:off x="8759880" y="0"/>
                <a:ext cx="371520" cy="450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759880" y="2844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59880" y="24444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759880" y="45864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0" y="1245"/>
                    </a:moveTo>
                    <a:lnTo>
                      <a:pt x="0" y="0"/>
                    </a:lnTo>
                    <a:lnTo>
                      <a:pt x="1033" y="622"/>
                    </a:lnTo>
                    <a:lnTo>
                      <a:pt x="0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59880" y="68256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59880" y="89208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59880" y="110664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1033" y="1245"/>
                    </a:moveTo>
                    <a:lnTo>
                      <a:pt x="1033" y="0"/>
                    </a:lnTo>
                    <a:lnTo>
                      <a:pt x="0" y="622"/>
                    </a:lnTo>
                    <a:lnTo>
                      <a:pt x="1033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759880" y="131760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59880" y="15271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59880" y="173664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759880" y="195120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759880" y="21607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759880" y="237168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759880" y="258444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0" y="1245"/>
                    </a:moveTo>
                    <a:lnTo>
                      <a:pt x="0" y="0"/>
                    </a:lnTo>
                    <a:lnTo>
                      <a:pt x="1033" y="622"/>
                    </a:lnTo>
                    <a:lnTo>
                      <a:pt x="0" y="1245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59880" y="279576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759880" y="30067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759880" y="321948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1033" y="1245"/>
                    </a:moveTo>
                    <a:lnTo>
                      <a:pt x="1033" y="0"/>
                    </a:lnTo>
                    <a:lnTo>
                      <a:pt x="0" y="622"/>
                    </a:lnTo>
                    <a:lnTo>
                      <a:pt x="1033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59880" y="342900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759880" y="363996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59880" y="385272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0" y="1245"/>
                    </a:moveTo>
                    <a:lnTo>
                      <a:pt x="0" y="0"/>
                    </a:lnTo>
                    <a:lnTo>
                      <a:pt x="1033" y="622"/>
                    </a:lnTo>
                    <a:lnTo>
                      <a:pt x="0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59880" y="406404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59880" y="4275000"/>
                <a:ext cx="371880" cy="452880"/>
              </a:xfrm>
              <a:custGeom>
                <a:avLst/>
                <a:gdLst/>
                <a:ahLst/>
                <a:rect l="0" t="0" r="r" b="b"/>
                <a:pathLst>
                  <a:path w="1033" h="1258">
                    <a:moveTo>
                      <a:pt x="0" y="1258"/>
                    </a:moveTo>
                    <a:lnTo>
                      <a:pt x="0" y="0"/>
                    </a:lnTo>
                    <a:lnTo>
                      <a:pt x="1033" y="629"/>
                    </a:lnTo>
                    <a:lnTo>
                      <a:pt x="0" y="1258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59880" y="44845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59880" y="469728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59880" y="490860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759880" y="51181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759880" y="533232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1033" y="1245"/>
                    </a:moveTo>
                    <a:lnTo>
                      <a:pt x="1033" y="0"/>
                    </a:lnTo>
                    <a:lnTo>
                      <a:pt x="0" y="622"/>
                    </a:lnTo>
                    <a:lnTo>
                      <a:pt x="1033" y="1245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759880" y="6394320"/>
                <a:ext cx="371520" cy="45072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759880" y="5543640"/>
                <a:ext cx="371880" cy="452880"/>
              </a:xfrm>
              <a:custGeom>
                <a:avLst/>
                <a:gdLst/>
                <a:ahLst/>
                <a:rect l="0" t="0" r="r" b="b"/>
                <a:pathLst>
                  <a:path w="1033" h="1258">
                    <a:moveTo>
                      <a:pt x="0" y="1258"/>
                    </a:moveTo>
                    <a:lnTo>
                      <a:pt x="0" y="0"/>
                    </a:lnTo>
                    <a:lnTo>
                      <a:pt x="1033" y="629"/>
                    </a:lnTo>
                    <a:lnTo>
                      <a:pt x="0" y="125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59880" y="575316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59880" y="5970600"/>
                <a:ext cx="371880" cy="449640"/>
              </a:xfrm>
              <a:custGeom>
                <a:avLst/>
                <a:gdLst/>
                <a:ahLst/>
                <a:rect l="0" t="0" r="r" b="b"/>
                <a:pathLst>
                  <a:path w="1033" h="1249">
                    <a:moveTo>
                      <a:pt x="0" y="1249"/>
                    </a:moveTo>
                    <a:lnTo>
                      <a:pt x="0" y="0"/>
                    </a:lnTo>
                    <a:lnTo>
                      <a:pt x="1033" y="624"/>
                    </a:lnTo>
                    <a:lnTo>
                      <a:pt x="0" y="1249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59880" y="6180120"/>
                <a:ext cx="371880" cy="452880"/>
              </a:xfrm>
              <a:custGeom>
                <a:avLst/>
                <a:gdLst/>
                <a:ahLst/>
                <a:rect l="0" t="0" r="r" b="b"/>
                <a:pathLst>
                  <a:path w="1033" h="1258">
                    <a:moveTo>
                      <a:pt x="1033" y="1258"/>
                    </a:moveTo>
                    <a:lnTo>
                      <a:pt x="1033" y="0"/>
                    </a:lnTo>
                    <a:lnTo>
                      <a:pt x="0" y="629"/>
                    </a:lnTo>
                    <a:lnTo>
                      <a:pt x="1033" y="125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59880" y="63943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31680" y="6477120"/>
              <a:ext cx="8749080" cy="370080"/>
              <a:chOff x="31680" y="6477120"/>
              <a:chExt cx="8749080" cy="370080"/>
            </a:xfrm>
          </p:grpSpPr>
          <p:sp>
            <p:nvSpPr>
              <p:cNvPr id="78" name=""/>
              <p:cNvSpPr/>
              <p:nvPr/>
            </p:nvSpPr>
            <p:spPr>
              <a:xfrm>
                <a:off x="8540640" y="6477120"/>
                <a:ext cx="230400" cy="368640"/>
              </a:xfrm>
              <a:custGeom>
                <a:avLst/>
                <a:gdLst/>
                <a:ahLst/>
                <a:rect l="0" t="0" r="r" b="b"/>
                <a:pathLst>
                  <a:path w="640" h="1024">
                    <a:moveTo>
                      <a:pt x="640" y="0"/>
                    </a:moveTo>
                    <a:lnTo>
                      <a:pt x="0" y="0"/>
                    </a:lnTo>
                    <a:lnTo>
                      <a:pt x="640" y="1024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6440" y="6477120"/>
                <a:ext cx="454320" cy="370080"/>
              </a:xfrm>
              <a:custGeom>
                <a:avLst/>
                <a:gdLst/>
                <a:ahLst/>
                <a:rect l="0" t="0" r="r" b="b"/>
                <a:pathLst>
                  <a:path w="1262" h="1028">
                    <a:moveTo>
                      <a:pt x="1262" y="1028"/>
                    </a:moveTo>
                    <a:lnTo>
                      <a:pt x="0" y="1028"/>
                    </a:lnTo>
                    <a:lnTo>
                      <a:pt x="630" y="0"/>
                    </a:lnTo>
                    <a:lnTo>
                      <a:pt x="1262" y="1028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1548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28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90740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1253" y="1028"/>
                    </a:moveTo>
                    <a:lnTo>
                      <a:pt x="0" y="1028"/>
                    </a:lnTo>
                    <a:lnTo>
                      <a:pt x="627" y="0"/>
                    </a:lnTo>
                    <a:lnTo>
                      <a:pt x="1253" y="1028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93200" y="6477120"/>
                <a:ext cx="454320" cy="370080"/>
              </a:xfrm>
              <a:custGeom>
                <a:avLst/>
                <a:gdLst/>
                <a:ahLst/>
                <a:rect l="0" t="0" r="r" b="b"/>
                <a:pathLst>
                  <a:path w="1262" h="1028">
                    <a:moveTo>
                      <a:pt x="1262" y="0"/>
                    </a:moveTo>
                    <a:lnTo>
                      <a:pt x="0" y="0"/>
                    </a:lnTo>
                    <a:lnTo>
                      <a:pt x="630" y="1028"/>
                    </a:lnTo>
                    <a:lnTo>
                      <a:pt x="1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6928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1258" y="1028"/>
                    </a:moveTo>
                    <a:lnTo>
                      <a:pt x="0" y="1028"/>
                    </a:lnTo>
                    <a:lnTo>
                      <a:pt x="629" y="0"/>
                    </a:lnTo>
                    <a:lnTo>
                      <a:pt x="1258" y="1028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250040" y="6477120"/>
                <a:ext cx="446400" cy="370080"/>
              </a:xfrm>
              <a:custGeom>
                <a:avLst/>
                <a:gdLst/>
                <a:ahLst/>
                <a:rect l="0" t="0" r="r" b="b"/>
                <a:pathLst>
                  <a:path w="1240" h="1028">
                    <a:moveTo>
                      <a:pt x="0" y="0"/>
                    </a:moveTo>
                    <a:lnTo>
                      <a:pt x="1240" y="0"/>
                    </a:lnTo>
                    <a:lnTo>
                      <a:pt x="61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3728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1028"/>
                    </a:moveTo>
                    <a:lnTo>
                      <a:pt x="1258" y="1028"/>
                    </a:lnTo>
                    <a:lnTo>
                      <a:pt x="62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2452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176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1028"/>
                    </a:moveTo>
                    <a:lnTo>
                      <a:pt x="1249" y="1028"/>
                    </a:lnTo>
                    <a:lnTo>
                      <a:pt x="624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022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898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98176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675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5948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481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339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2444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1028"/>
                    </a:moveTo>
                    <a:lnTo>
                      <a:pt x="1249" y="1028"/>
                    </a:lnTo>
                    <a:lnTo>
                      <a:pt x="624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71312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505400" y="6477120"/>
                <a:ext cx="446400" cy="370080"/>
              </a:xfrm>
              <a:custGeom>
                <a:avLst/>
                <a:gdLst/>
                <a:ahLst/>
                <a:rect l="0" t="0" r="r" b="b"/>
                <a:pathLst>
                  <a:path w="1240" h="1028">
                    <a:moveTo>
                      <a:pt x="0" y="1028"/>
                    </a:moveTo>
                    <a:lnTo>
                      <a:pt x="1240" y="1028"/>
                    </a:lnTo>
                    <a:lnTo>
                      <a:pt x="61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908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7988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1028"/>
                    </a:moveTo>
                    <a:lnTo>
                      <a:pt x="1258" y="1028"/>
                    </a:lnTo>
                    <a:lnTo>
                      <a:pt x="62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870360" y="6477120"/>
                <a:ext cx="446400" cy="370080"/>
              </a:xfrm>
              <a:custGeom>
                <a:avLst/>
                <a:gdLst/>
                <a:ahLst/>
                <a:rect l="0" t="0" r="r" b="b"/>
                <a:pathLst>
                  <a:path w="1240" h="1028">
                    <a:moveTo>
                      <a:pt x="0" y="0"/>
                    </a:moveTo>
                    <a:lnTo>
                      <a:pt x="1240" y="0"/>
                    </a:lnTo>
                    <a:lnTo>
                      <a:pt x="61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5760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4484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35320" y="6477120"/>
                <a:ext cx="446400" cy="370080"/>
              </a:xfrm>
              <a:custGeom>
                <a:avLst/>
                <a:gdLst/>
                <a:ahLst/>
                <a:rect l="0" t="0" r="r" b="b"/>
                <a:pathLst>
                  <a:path w="1240" h="1028">
                    <a:moveTo>
                      <a:pt x="0" y="1028"/>
                    </a:moveTo>
                    <a:lnTo>
                      <a:pt x="1240" y="1028"/>
                    </a:lnTo>
                    <a:lnTo>
                      <a:pt x="61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225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30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02080" y="6477120"/>
                <a:ext cx="448200" cy="370080"/>
              </a:xfrm>
              <a:custGeom>
                <a:avLst/>
                <a:gdLst/>
                <a:ahLst/>
                <a:rect l="0" t="0" r="r" b="b"/>
                <a:pathLst>
                  <a:path w="1245" h="1028">
                    <a:moveTo>
                      <a:pt x="0" y="0"/>
                    </a:moveTo>
                    <a:lnTo>
                      <a:pt x="1245" y="0"/>
                    </a:lnTo>
                    <a:lnTo>
                      <a:pt x="622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8932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7980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6704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1028"/>
                    </a:moveTo>
                    <a:lnTo>
                      <a:pt x="1249" y="1028"/>
                    </a:lnTo>
                    <a:lnTo>
                      <a:pt x="624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5572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4620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33344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248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1028"/>
                    </a:moveTo>
                    <a:lnTo>
                      <a:pt x="1249" y="1028"/>
                    </a:lnTo>
                    <a:lnTo>
                      <a:pt x="624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11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9840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1028"/>
                    </a:moveTo>
                    <a:lnTo>
                      <a:pt x="1258" y="1028"/>
                    </a:lnTo>
                    <a:lnTo>
                      <a:pt x="62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980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70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68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0"/>
              <a:ext cx="378360" cy="6845040"/>
              <a:chOff x="0" y="0"/>
              <a:chExt cx="378360" cy="684504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6394320"/>
                <a:ext cx="378000" cy="450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63626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61531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5942160"/>
                <a:ext cx="378360" cy="448200"/>
              </a:xfrm>
              <a:custGeom>
                <a:avLst/>
                <a:gdLst/>
                <a:ahLst/>
                <a:rect l="0" t="0" r="r" b="b"/>
                <a:pathLst>
                  <a:path w="1051" h="1245">
                    <a:moveTo>
                      <a:pt x="1051" y="1245"/>
                    </a:moveTo>
                    <a:lnTo>
                      <a:pt x="1051" y="0"/>
                    </a:lnTo>
                    <a:lnTo>
                      <a:pt x="0" y="622"/>
                    </a:lnTo>
                    <a:lnTo>
                      <a:pt x="1051" y="1245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57276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551808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0" y="5308560"/>
                <a:ext cx="378000" cy="452520"/>
              </a:xfrm>
              <a:prstGeom prst="rect">
                <a:avLst/>
              </a:pr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0943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48830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6735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4593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2498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404028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828960"/>
                <a:ext cx="378360" cy="448200"/>
              </a:xfrm>
              <a:custGeom>
                <a:avLst/>
                <a:gdLst/>
                <a:ahLst/>
                <a:rect l="0" t="0" r="r" b="b"/>
                <a:pathLst>
                  <a:path w="1051" h="1245">
                    <a:moveTo>
                      <a:pt x="1051" y="1245"/>
                    </a:moveTo>
                    <a:lnTo>
                      <a:pt x="1051" y="0"/>
                    </a:lnTo>
                    <a:lnTo>
                      <a:pt x="0" y="622"/>
                    </a:lnTo>
                    <a:lnTo>
                      <a:pt x="1051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6147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4052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3193920"/>
                <a:ext cx="378360" cy="448200"/>
              </a:xfrm>
              <a:custGeom>
                <a:avLst/>
                <a:gdLst/>
                <a:ahLst/>
                <a:rect l="0" t="0" r="r" b="b"/>
                <a:pathLst>
                  <a:path w="1051" h="1245">
                    <a:moveTo>
                      <a:pt x="0" y="1245"/>
                    </a:moveTo>
                    <a:lnTo>
                      <a:pt x="0" y="0"/>
                    </a:lnTo>
                    <a:lnTo>
                      <a:pt x="1051" y="622"/>
                    </a:lnTo>
                    <a:lnTo>
                      <a:pt x="0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9811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7702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56068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3479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1366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9256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716120"/>
                <a:ext cx="378360" cy="448200"/>
              </a:xfrm>
              <a:custGeom>
                <a:avLst/>
                <a:gdLst/>
                <a:ahLst/>
                <a:rect l="0" t="0" r="r" b="b"/>
                <a:pathLst>
                  <a:path w="1051" h="1245">
                    <a:moveTo>
                      <a:pt x="1051" y="1245"/>
                    </a:moveTo>
                    <a:lnTo>
                      <a:pt x="1051" y="0"/>
                    </a:lnTo>
                    <a:lnTo>
                      <a:pt x="0" y="622"/>
                    </a:lnTo>
                    <a:lnTo>
                      <a:pt x="1051" y="1245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15033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12924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1084320"/>
                <a:ext cx="378360" cy="449640"/>
              </a:xfrm>
              <a:custGeom>
                <a:avLst/>
                <a:gdLst/>
                <a:ahLst/>
                <a:rect l="0" t="0" r="r" b="b"/>
                <a:pathLst>
                  <a:path w="1051" h="1249">
                    <a:moveTo>
                      <a:pt x="0" y="1249"/>
                    </a:moveTo>
                    <a:lnTo>
                      <a:pt x="0" y="0"/>
                    </a:lnTo>
                    <a:lnTo>
                      <a:pt x="1051" y="624"/>
                    </a:lnTo>
                    <a:lnTo>
                      <a:pt x="0" y="1249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8683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662040"/>
                <a:ext cx="378360" cy="452880"/>
              </a:xfrm>
              <a:custGeom>
                <a:avLst/>
                <a:gdLst/>
                <a:ahLst/>
                <a:rect l="0" t="0" r="r" b="b"/>
                <a:pathLst>
                  <a:path w="1051" h="1258">
                    <a:moveTo>
                      <a:pt x="0" y="1258"/>
                    </a:moveTo>
                    <a:lnTo>
                      <a:pt x="0" y="0"/>
                    </a:lnTo>
                    <a:lnTo>
                      <a:pt x="1051" y="629"/>
                    </a:lnTo>
                    <a:lnTo>
                      <a:pt x="0" y="1258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4478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0"/>
                <a:ext cx="378000" cy="450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27160"/>
                <a:ext cx="378360" cy="452880"/>
              </a:xfrm>
              <a:custGeom>
                <a:avLst/>
                <a:gdLst/>
                <a:ahLst/>
                <a:rect l="0" t="0" r="r" b="b"/>
                <a:pathLst>
                  <a:path w="1051" h="1258">
                    <a:moveTo>
                      <a:pt x="0" y="1258"/>
                    </a:moveTo>
                    <a:lnTo>
                      <a:pt x="0" y="0"/>
                    </a:lnTo>
                    <a:lnTo>
                      <a:pt x="1051" y="629"/>
                    </a:lnTo>
                    <a:lnTo>
                      <a:pt x="0" y="125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237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ababab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74747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