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36520" y="0"/>
            <a:ext cx="8896320" cy="6845400"/>
            <a:chOff x="236520" y="0"/>
            <a:chExt cx="8896320" cy="6845400"/>
          </a:xfrm>
        </p:grpSpPr>
        <p:sp>
          <p:nvSpPr>
            <p:cNvPr id="1" name=""/>
            <p:cNvSpPr/>
            <p:nvPr/>
          </p:nvSpPr>
          <p:spPr>
            <a:xfrm>
              <a:off x="236520" y="0"/>
              <a:ext cx="237960" cy="6845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9560" y="0"/>
              <a:ext cx="372960" cy="4667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2200" y="0"/>
              <a:ext cx="1082520" cy="335268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2200" y="1467000"/>
              <a:ext cx="525600" cy="121932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6520" y="1409760"/>
              <a:ext cx="889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