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797440"/>
            <a:ext cx="9131760" cy="1048320"/>
            <a:chOff x="0" y="5797440"/>
            <a:chExt cx="9131760" cy="1048320"/>
          </a:xfrm>
        </p:grpSpPr>
        <p:sp>
          <p:nvSpPr>
            <p:cNvPr id="1" name=""/>
            <p:cNvSpPr/>
            <p:nvPr/>
          </p:nvSpPr>
          <p:spPr>
            <a:xfrm>
              <a:off x="0" y="5835600"/>
              <a:ext cx="9131400" cy="1009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797440"/>
              <a:ext cx="9131760" cy="1048320"/>
              <a:chOff x="0" y="5797440"/>
              <a:chExt cx="9131760" cy="104832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858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39068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9556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0044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50532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8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19112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8960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196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4356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8660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10560" y="5797440"/>
                <a:ext cx="914760" cy="1047960"/>
              </a:xfrm>
              <a:custGeom>
                <a:avLst/>
                <a:gdLst/>
                <a:ahLst/>
                <a:rect l="0" t="0" r="r" b="b"/>
                <a:pathLst>
                  <a:path w="2541" h="2911">
                    <a:moveTo>
                      <a:pt x="0" y="2911"/>
                    </a:moveTo>
                    <a:lnTo>
                      <a:pt x="2117" y="0"/>
                    </a:lnTo>
                    <a:lnTo>
                      <a:pt x="2541" y="0"/>
                    </a:lnTo>
                    <a:lnTo>
                      <a:pt x="423" y="2911"/>
                    </a:lnTo>
                    <a:lnTo>
                      <a:pt x="0" y="29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59720" y="6064200"/>
                <a:ext cx="572040" cy="781560"/>
              </a:xfrm>
              <a:custGeom>
                <a:avLst/>
                <a:gdLst/>
                <a:ahLst/>
                <a:rect l="0" t="0" r="r" b="b"/>
                <a:pathLst>
                  <a:path w="1589" h="2171">
                    <a:moveTo>
                      <a:pt x="0" y="2171"/>
                    </a:moveTo>
                    <a:lnTo>
                      <a:pt x="1589" y="0"/>
                    </a:lnTo>
                    <a:lnTo>
                      <a:pt x="1589" y="529"/>
                    </a:lnTo>
                    <a:lnTo>
                      <a:pt x="424" y="2171"/>
                    </a:lnTo>
                    <a:lnTo>
                      <a:pt x="0" y="2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7524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