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9080"/>
            <a:ext cx="9132840" cy="6826320"/>
            <a:chOff x="0" y="19080"/>
            <a:chExt cx="9132840" cy="6826320"/>
          </a:xfrm>
        </p:grpSpPr>
        <p:grpSp>
          <p:nvGrpSpPr>
            <p:cNvPr id="1" name=""/>
            <p:cNvGrpSpPr/>
            <p:nvPr/>
          </p:nvGrpSpPr>
          <p:grpSpPr>
            <a:xfrm>
              <a:off x="0" y="19080"/>
              <a:ext cx="9106200" cy="6742080"/>
              <a:chOff x="0" y="19080"/>
              <a:chExt cx="9106200" cy="6742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373960" y="19080"/>
                <a:ext cx="732240" cy="811440"/>
                <a:chOff x="8373960" y="19080"/>
                <a:chExt cx="732240" cy="8114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871056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837396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879012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71056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8291520" y="19080"/>
                <a:ext cx="50760" cy="811440"/>
                <a:chOff x="8291520" y="19080"/>
                <a:chExt cx="50760" cy="81144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291520" y="19080"/>
                  <a:ext cx="5076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291520" y="474840"/>
                  <a:ext cx="5076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7535880" y="19080"/>
                <a:ext cx="733320" cy="811440"/>
                <a:chOff x="7535880" y="19080"/>
                <a:chExt cx="733320" cy="8114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873920" y="19080"/>
                  <a:ext cx="475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53588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95168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873920" y="474840"/>
                  <a:ext cx="475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7453440" y="19080"/>
                <a:ext cx="49320" cy="811440"/>
                <a:chOff x="7453440" y="19080"/>
                <a:chExt cx="49320" cy="811440"/>
              </a:xfrm>
            </p:grpSpPr>
            <p:sp>
              <p:nvSpPr>
                <p:cNvPr id="16" name=""/>
                <p:cNvSpPr/>
                <p:nvPr/>
              </p:nvSpPr>
              <p:spPr>
                <a:xfrm>
                  <a:off x="745344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45344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6699240" y="19080"/>
                <a:ext cx="731880" cy="811440"/>
                <a:chOff x="6699240" y="19080"/>
                <a:chExt cx="731880" cy="81144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703584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24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11504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03584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6616800" y="19080"/>
                <a:ext cx="49320" cy="811440"/>
                <a:chOff x="6616800" y="19080"/>
                <a:chExt cx="49320" cy="8114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61680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661680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5861160" y="19080"/>
                <a:ext cx="733320" cy="811440"/>
                <a:chOff x="5861160" y="19080"/>
                <a:chExt cx="733320" cy="81144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619920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86116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627696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19920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5780160" y="19080"/>
                <a:ext cx="49320" cy="811440"/>
                <a:chOff x="5780160" y="19080"/>
                <a:chExt cx="49320" cy="81144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578016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578016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5024520" y="19080"/>
                <a:ext cx="731880" cy="811440"/>
                <a:chOff x="5024520" y="19080"/>
                <a:chExt cx="731880" cy="811440"/>
              </a:xfrm>
            </p:grpSpPr>
            <p:sp>
              <p:nvSpPr>
                <p:cNvPr id="35" name=""/>
                <p:cNvSpPr/>
                <p:nvPr/>
              </p:nvSpPr>
              <p:spPr>
                <a:xfrm>
                  <a:off x="5361120" y="19080"/>
                  <a:ext cx="5076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502452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44032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361120" y="474840"/>
                  <a:ext cx="5076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4943520" y="19080"/>
                <a:ext cx="49320" cy="811440"/>
                <a:chOff x="4943520" y="19080"/>
                <a:chExt cx="49320" cy="81144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494352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94352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4186080" y="19080"/>
                <a:ext cx="733680" cy="811440"/>
                <a:chOff x="4186080" y="19080"/>
                <a:chExt cx="733680" cy="81144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524480" y="19080"/>
                  <a:ext cx="475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18608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460224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4524480" y="474840"/>
                  <a:ext cx="475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05440" y="19080"/>
                <a:ext cx="49320" cy="811440"/>
                <a:chOff x="4105440" y="19080"/>
                <a:chExt cx="49320" cy="8114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10544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10544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349800" y="19080"/>
                <a:ext cx="731880" cy="811440"/>
                <a:chOff x="3349800" y="19080"/>
                <a:chExt cx="731880" cy="81144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68604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4980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76560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8604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268800" y="19080"/>
                <a:ext cx="49320" cy="811440"/>
                <a:chOff x="3268800" y="19080"/>
                <a:chExt cx="49320" cy="8114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26880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26880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511360" y="19080"/>
                <a:ext cx="733680" cy="811440"/>
                <a:chOff x="2511360" y="19080"/>
                <a:chExt cx="733680" cy="8114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84940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51136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2752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84940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432160" y="19080"/>
                <a:ext cx="49320" cy="811440"/>
                <a:chOff x="2432160" y="19080"/>
                <a:chExt cx="49320" cy="811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43216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3216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674720" y="19080"/>
                <a:ext cx="732240" cy="811440"/>
                <a:chOff x="1674720" y="19080"/>
                <a:chExt cx="732240" cy="811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01312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7472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90880" y="396720"/>
                  <a:ext cx="31608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1312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593720" y="19080"/>
                <a:ext cx="50760" cy="811440"/>
                <a:chOff x="1593720" y="19080"/>
                <a:chExt cx="50760" cy="811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593720" y="474840"/>
                  <a:ext cx="5076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593720" y="19080"/>
                  <a:ext cx="5076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36640" y="19080"/>
                <a:ext cx="733320" cy="811440"/>
                <a:chOff x="836640" y="19080"/>
                <a:chExt cx="733320" cy="8114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7468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3664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52440" y="396720"/>
                  <a:ext cx="317520" cy="5544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17468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755640" y="19080"/>
                <a:ext cx="49320" cy="811440"/>
                <a:chOff x="755640" y="19080"/>
                <a:chExt cx="49320" cy="8114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755640" y="474840"/>
                  <a:ext cx="49320" cy="3556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55640" y="19080"/>
                  <a:ext cx="49320" cy="353880"/>
                </a:xfrm>
                <a:prstGeom prst="ellipse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0" y="19080"/>
                <a:ext cx="731880" cy="6742080"/>
                <a:chOff x="0" y="19080"/>
                <a:chExt cx="731880" cy="674208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0" y="19080"/>
                  <a:ext cx="731880" cy="811440"/>
                  <a:chOff x="0" y="19080"/>
                  <a:chExt cx="731880" cy="8114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36600" y="474840"/>
                    <a:ext cx="50760" cy="3556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36600" y="1908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0" y="39672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14360" y="39672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0" y="853920"/>
                  <a:ext cx="731880" cy="54000"/>
                  <a:chOff x="0" y="853920"/>
                  <a:chExt cx="731880" cy="54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0" y="853920"/>
                    <a:ext cx="316080" cy="5400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4360" y="853920"/>
                    <a:ext cx="317520" cy="5400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0" y="930240"/>
                  <a:ext cx="731880" cy="812880"/>
                  <a:chOff x="0" y="930240"/>
                  <a:chExt cx="731880" cy="8128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600" y="930240"/>
                    <a:ext cx="50760" cy="35712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0" y="130968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14360" y="130968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36600" y="138924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0" y="1765440"/>
                  <a:ext cx="731880" cy="55440"/>
                  <a:chOff x="0" y="1765440"/>
                  <a:chExt cx="731880" cy="554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0" y="176544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14360" y="176544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0" y="1844640"/>
                  <a:ext cx="731880" cy="809640"/>
                  <a:chOff x="0" y="1844640"/>
                  <a:chExt cx="731880" cy="8096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36600" y="184464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0" y="2220840"/>
                    <a:ext cx="316080" cy="572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14360" y="2220840"/>
                    <a:ext cx="317520" cy="572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36600" y="230040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0" y="2678040"/>
                  <a:ext cx="731880" cy="55440"/>
                  <a:chOff x="0" y="2678040"/>
                  <a:chExt cx="731880" cy="554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0" y="267804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14360" y="267804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0" y="2755800"/>
                  <a:ext cx="731880" cy="812880"/>
                  <a:chOff x="0" y="2755800"/>
                  <a:chExt cx="731880" cy="812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336600" y="275580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0" y="313380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14360" y="313380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6600" y="3211560"/>
                    <a:ext cx="50760" cy="35712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0" y="3591000"/>
                  <a:ext cx="731880" cy="55440"/>
                  <a:chOff x="0" y="3591000"/>
                  <a:chExt cx="731880" cy="5544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0" y="359100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14360" y="359100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0" y="3670200"/>
                  <a:ext cx="731880" cy="809640"/>
                  <a:chOff x="0" y="3670200"/>
                  <a:chExt cx="731880" cy="809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336600" y="367020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0" y="404640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4360" y="404640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36600" y="412596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0" y="4502160"/>
                  <a:ext cx="731880" cy="57240"/>
                  <a:chOff x="0" y="4502160"/>
                  <a:chExt cx="731880" cy="572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0" y="4502160"/>
                    <a:ext cx="316080" cy="572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14360" y="4502160"/>
                    <a:ext cx="317520" cy="572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0" y="4581360"/>
                  <a:ext cx="731880" cy="809640"/>
                  <a:chOff x="0" y="4581360"/>
                  <a:chExt cx="731880" cy="809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336600" y="458136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0" y="495936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14360" y="495936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36600" y="503712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0" y="5415120"/>
                  <a:ext cx="731880" cy="55440"/>
                  <a:chOff x="0" y="5415120"/>
                  <a:chExt cx="731880" cy="5544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0" y="541512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14360" y="541512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0" y="5492880"/>
                  <a:ext cx="731880" cy="812880"/>
                  <a:chOff x="0" y="5492880"/>
                  <a:chExt cx="731880" cy="8128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336600" y="5492880"/>
                    <a:ext cx="50760" cy="35712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0" y="5872320"/>
                    <a:ext cx="316080" cy="5400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14360" y="5872320"/>
                    <a:ext cx="317520" cy="5400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36600" y="5950080"/>
                    <a:ext cx="50760" cy="3556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0" y="6327720"/>
                  <a:ext cx="731880" cy="433440"/>
                  <a:chOff x="0" y="6327720"/>
                  <a:chExt cx="731880" cy="4334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36600" y="6407280"/>
                    <a:ext cx="50760" cy="35388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0" y="6327720"/>
                    <a:ext cx="31608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14360" y="6327720"/>
                    <a:ext cx="317520" cy="55440"/>
                  </a:xfrm>
                  <a:prstGeom prst="ellipse">
                    <a:avLst/>
                  </a:prstGeom>
                  <a:solidFill>
                    <a:srgbClr val="dadada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"/>
            <p:cNvSpPr/>
            <p:nvPr/>
          </p:nvSpPr>
          <p:spPr>
            <a:xfrm>
              <a:off x="768240" y="857160"/>
              <a:ext cx="836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5000" y="857160"/>
              <a:ext cx="0" cy="5988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66680" y="10857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680" y="238140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