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1800" y="590400"/>
            <a:ext cx="8744400" cy="6235920"/>
            <a:chOff x="361800" y="590400"/>
            <a:chExt cx="8744400" cy="6235920"/>
          </a:xfrm>
        </p:grpSpPr>
        <p:sp>
          <p:nvSpPr>
            <p:cNvPr id="1" name=""/>
            <p:cNvSpPr/>
            <p:nvPr/>
          </p:nvSpPr>
          <p:spPr>
            <a:xfrm>
              <a:off x="361800" y="1671480"/>
              <a:ext cx="8744400" cy="5154840"/>
            </a:xfrm>
            <a:custGeom>
              <a:avLst/>
              <a:gdLst/>
              <a:ahLst/>
              <a:rect l="0" t="0" r="r" b="b"/>
              <a:pathLst>
                <a:path fill="none" w="24290" h="14319">
                  <a:moveTo>
                    <a:pt x="24290" y="0"/>
                  </a:moveTo>
                  <a:lnTo>
                    <a:pt x="0" y="0"/>
                  </a:lnTo>
                  <a:lnTo>
                    <a:pt x="0" y="14319"/>
                  </a:lnTo>
                </a:path>
              </a:pathLst>
            </a:custGeom>
            <a:ln w="203040">
              <a:solidFill>
                <a:srgbClr val="cecece"/>
              </a:solidFill>
              <a:round/>
            </a:ln>
          </p:spPr>
          <p:txBody>
            <a:bodyPr lIns="191520" rIns="191520" tIns="146520" bIns="146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61800" y="590400"/>
              <a:ext cx="8744400" cy="6235920"/>
            </a:xfrm>
            <a:custGeom>
              <a:avLst/>
              <a:gdLst/>
              <a:ahLst/>
              <a:rect l="0" t="0" r="r" b="b"/>
              <a:pathLst>
                <a:path fill="none" w="24290" h="17322">
                  <a:moveTo>
                    <a:pt x="1900" y="17322"/>
                  </a:moveTo>
                  <a:lnTo>
                    <a:pt x="1900" y="0"/>
                  </a:lnTo>
                  <a:lnTo>
                    <a:pt x="0" y="0"/>
                  </a:lnTo>
                  <a:lnTo>
                    <a:pt x="0" y="2143"/>
                  </a:lnTo>
                  <a:lnTo>
                    <a:pt x="24290" y="2143"/>
                  </a:lnTo>
                </a:path>
              </a:pathLst>
            </a:custGeom>
            <a:ln w="203040">
              <a:solidFill>
                <a:srgbClr val="cecece"/>
              </a:solidFill>
              <a:round/>
            </a:ln>
          </p:spPr>
          <p:txBody>
            <a:bodyPr lIns="191520" rIns="191520" tIns="146520" bIns="146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1200240" y="209520"/>
            <a:ext cx="77342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219320" y="1981080"/>
            <a:ext cx="7729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