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ffffff"/>
                </a:gs>
              </a:gsLst>
              <a:path path="rect">
                <a:fillToRect l="0" t="0" r="100000" b="10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380880"/>
              <a:ext cx="8750160" cy="6464160"/>
              <a:chOff x="380880" y="380880"/>
              <a:chExt cx="8750160" cy="6464160"/>
            </a:xfrm>
          </p:grpSpPr>
          <p:sp>
            <p:nvSpPr>
              <p:cNvPr id="3" name=""/>
              <p:cNvSpPr/>
              <p:nvPr/>
            </p:nvSpPr>
            <p:spPr>
              <a:xfrm>
                <a:off x="380880" y="380880"/>
                <a:ext cx="8750160" cy="646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477120" y="4267080"/>
                <a:ext cx="2285640" cy="2286000"/>
                <a:chOff x="6477120" y="4267080"/>
                <a:chExt cx="228564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10480" y="6400800"/>
                  <a:ext cx="152280" cy="15228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05920" y="6400800"/>
                  <a:ext cx="152280" cy="1522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01000" y="6400800"/>
                  <a:ext cx="152280" cy="1522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696080" y="6400800"/>
                  <a:ext cx="152280" cy="15228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391520" y="6400800"/>
                  <a:ext cx="152280" cy="15228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086600" y="6400800"/>
                  <a:ext cx="152280" cy="152280"/>
                </a:xfrm>
                <a:prstGeom prst="rect">
                  <a:avLst/>
                </a:prstGeom>
                <a:solidFill>
                  <a:srgbClr val="b1b1b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6781680" y="6400800"/>
                  <a:ext cx="152280" cy="15228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477120" y="6400800"/>
                  <a:ext cx="152280" cy="15228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10480" y="6095880"/>
                  <a:ext cx="152280" cy="1522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10480" y="5791320"/>
                  <a:ext cx="152280" cy="15228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10480" y="5486400"/>
                  <a:ext cx="152280" cy="15228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10480" y="5181480"/>
                  <a:ext cx="152280" cy="15228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10480" y="4876920"/>
                  <a:ext cx="152280" cy="152280"/>
                </a:xfrm>
                <a:prstGeom prst="rect">
                  <a:avLst/>
                </a:prstGeom>
                <a:solidFill>
                  <a:srgbClr val="b1b1b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10480" y="4572000"/>
                  <a:ext cx="152280" cy="15228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10480" y="4267080"/>
                  <a:ext cx="152280" cy="15228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