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400" cy="6845400"/>
            <a:chOff x="0" y="0"/>
            <a:chExt cx="9131400" cy="68454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31400" cy="6845400"/>
              <a:chOff x="0" y="0"/>
              <a:chExt cx="9131400" cy="68454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31400" cy="6845400"/>
              </a:xfrm>
              <a:prstGeom prst="rect">
                <a:avLst/>
              </a:prstGeom>
              <a:gradFill rotWithShape="0">
                <a:gsLst>
                  <a:gs pos="0">
                    <a:srgbClr val="919191"/>
                  </a:gs>
                  <a:gs pos="100000">
                    <a:srgbClr val="656565"/>
                  </a:gs>
                </a:gsLst>
                <a:lin ang="27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0" y="0"/>
                <a:ext cx="9131400" cy="6845400"/>
                <a:chOff x="0" y="0"/>
                <a:chExt cx="9131400" cy="6845400"/>
              </a:xfrm>
            </p:grpSpPr>
            <p:sp>
              <p:nvSpPr>
                <p:cNvPr id="4" name=""/>
                <p:cNvSpPr/>
                <p:nvPr/>
              </p:nvSpPr>
              <p:spPr>
                <a:xfrm flipH="1">
                  <a:off x="0" y="0"/>
                  <a:ext cx="209520" cy="209520"/>
                </a:xfrm>
                <a:prstGeom prst="line">
                  <a:avLst/>
                </a:prstGeom>
                <a:ln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 flipH="1">
                  <a:off x="0" y="0"/>
                  <a:ext cx="666720" cy="666720"/>
                </a:xfrm>
                <a:prstGeom prst="line">
                  <a:avLst/>
                </a:prstGeom>
                <a:ln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 flipH="1">
                  <a:off x="0" y="0"/>
                  <a:ext cx="1143000" cy="1143000"/>
                </a:xfrm>
                <a:prstGeom prst="line">
                  <a:avLst/>
                </a:prstGeom>
                <a:ln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 flipH="1">
                  <a:off x="0" y="0"/>
                  <a:ext cx="1657440" cy="1657440"/>
                </a:xfrm>
                <a:prstGeom prst="line">
                  <a:avLst/>
                </a:prstGeom>
                <a:ln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 flipH="1">
                  <a:off x="0" y="0"/>
                  <a:ext cx="2171880" cy="2171880"/>
                </a:xfrm>
                <a:prstGeom prst="line">
                  <a:avLst/>
                </a:prstGeom>
                <a:ln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 flipH="1">
                  <a:off x="0" y="0"/>
                  <a:ext cx="2724120" cy="2724120"/>
                </a:xfrm>
                <a:prstGeom prst="line">
                  <a:avLst/>
                </a:prstGeom>
                <a:ln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 flipH="1">
                  <a:off x="0" y="0"/>
                  <a:ext cx="3257640" cy="3257640"/>
                </a:xfrm>
                <a:prstGeom prst="line">
                  <a:avLst/>
                </a:prstGeom>
                <a:ln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 flipH="1">
                  <a:off x="0" y="0"/>
                  <a:ext cx="3790800" cy="3790800"/>
                </a:xfrm>
                <a:prstGeom prst="line">
                  <a:avLst/>
                </a:prstGeom>
                <a:ln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 flipH="1">
                  <a:off x="0" y="0"/>
                  <a:ext cx="4324320" cy="4324320"/>
                </a:xfrm>
                <a:prstGeom prst="line">
                  <a:avLst/>
                </a:prstGeom>
                <a:ln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 flipH="1">
                  <a:off x="0" y="0"/>
                  <a:ext cx="4896000" cy="4896000"/>
                </a:xfrm>
                <a:prstGeom prst="line">
                  <a:avLst/>
                </a:prstGeom>
                <a:ln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 flipH="1">
                  <a:off x="0" y="0"/>
                  <a:ext cx="5448240" cy="5448240"/>
                </a:xfrm>
                <a:prstGeom prst="line">
                  <a:avLst/>
                </a:prstGeom>
                <a:ln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>
                  <a:off x="0" y="0"/>
                  <a:ext cx="5981760" cy="5981760"/>
                </a:xfrm>
                <a:prstGeom prst="line">
                  <a:avLst/>
                </a:prstGeom>
                <a:ln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>
                  <a:off x="0" y="19080"/>
                  <a:ext cx="6496200" cy="6496200"/>
                </a:xfrm>
                <a:prstGeom prst="line">
                  <a:avLst/>
                </a:prstGeom>
                <a:ln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 flipH="1">
                  <a:off x="184320" y="0"/>
                  <a:ext cx="6845040" cy="6845400"/>
                </a:xfrm>
                <a:prstGeom prst="line">
                  <a:avLst/>
                </a:prstGeom>
                <a:ln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 flipH="1">
                  <a:off x="679320" y="0"/>
                  <a:ext cx="6845400" cy="6845400"/>
                </a:xfrm>
                <a:prstGeom prst="line">
                  <a:avLst/>
                </a:prstGeom>
                <a:ln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 flipH="1">
                  <a:off x="1155600" y="0"/>
                  <a:ext cx="6845400" cy="6845400"/>
                </a:xfrm>
                <a:prstGeom prst="line">
                  <a:avLst/>
                </a:prstGeom>
                <a:ln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 flipH="1">
                  <a:off x="1670040" y="0"/>
                  <a:ext cx="6845400" cy="6845400"/>
                </a:xfrm>
                <a:prstGeom prst="line">
                  <a:avLst/>
                </a:prstGeom>
                <a:ln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 flipH="1">
                  <a:off x="2195640" y="0"/>
                  <a:ext cx="6834240" cy="6834240"/>
                </a:xfrm>
                <a:prstGeom prst="line">
                  <a:avLst/>
                </a:prstGeom>
                <a:ln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 flipH="1">
                  <a:off x="2724120" y="438120"/>
                  <a:ext cx="6407280" cy="6407280"/>
                </a:xfrm>
                <a:prstGeom prst="line">
                  <a:avLst/>
                </a:prstGeom>
                <a:ln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 flipH="1">
                  <a:off x="3238560" y="952560"/>
                  <a:ext cx="5892840" cy="5892840"/>
                </a:xfrm>
                <a:prstGeom prst="line">
                  <a:avLst/>
                </a:prstGeom>
                <a:ln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 flipH="1">
                  <a:off x="3753000" y="1467000"/>
                  <a:ext cx="5378400" cy="5378400"/>
                </a:xfrm>
                <a:prstGeom prst="line">
                  <a:avLst/>
                </a:prstGeom>
                <a:ln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 flipH="1">
                  <a:off x="4286160" y="2000160"/>
                  <a:ext cx="4845240" cy="4845240"/>
                </a:xfrm>
                <a:prstGeom prst="line">
                  <a:avLst/>
                </a:prstGeom>
                <a:ln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 flipH="1">
                  <a:off x="4822920" y="2552760"/>
                  <a:ext cx="4308480" cy="4281480"/>
                </a:xfrm>
                <a:prstGeom prst="line">
                  <a:avLst/>
                </a:prstGeom>
                <a:ln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 flipH="1">
                  <a:off x="5391000" y="3105000"/>
                  <a:ext cx="3740400" cy="3740400"/>
                </a:xfrm>
                <a:prstGeom prst="line">
                  <a:avLst/>
                </a:prstGeom>
                <a:ln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 flipH="1">
                  <a:off x="5924520" y="3638520"/>
                  <a:ext cx="3206880" cy="3206880"/>
                </a:xfrm>
                <a:prstGeom prst="line">
                  <a:avLst/>
                </a:prstGeom>
                <a:ln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 flipH="1">
                  <a:off x="6458040" y="4172040"/>
                  <a:ext cx="2673360" cy="2673360"/>
                </a:xfrm>
                <a:prstGeom prst="line">
                  <a:avLst/>
                </a:prstGeom>
                <a:ln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 flipH="1">
                  <a:off x="6972480" y="4686480"/>
                  <a:ext cx="2158920" cy="2158920"/>
                </a:xfrm>
                <a:prstGeom prst="line">
                  <a:avLst/>
                </a:prstGeom>
                <a:ln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 flipH="1">
                  <a:off x="7505640" y="5219640"/>
                  <a:ext cx="1625760" cy="1625760"/>
                </a:xfrm>
                <a:prstGeom prst="line">
                  <a:avLst/>
                </a:prstGeom>
                <a:ln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 flipH="1">
                  <a:off x="7981920" y="5695920"/>
                  <a:ext cx="1149480" cy="1149480"/>
                </a:xfrm>
                <a:prstGeom prst="line">
                  <a:avLst/>
                </a:prstGeom>
                <a:ln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 flipH="1">
                  <a:off x="8477280" y="6191280"/>
                  <a:ext cx="654120" cy="654120"/>
                </a:xfrm>
                <a:prstGeom prst="line">
                  <a:avLst/>
                </a:prstGeom>
                <a:ln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 flipH="1">
                  <a:off x="8934480" y="6648480"/>
                  <a:ext cx="196920" cy="196920"/>
                </a:xfrm>
                <a:prstGeom prst="line">
                  <a:avLst/>
                </a:prstGeom>
                <a:ln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" name="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