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50000">
                  <a:srgbClr val="cecece"/>
                </a:gs>
                <a:gs pos="100000">
                  <a:srgbClr val="a4a4a4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43360"/>
              <a:chOff x="76320" y="162000"/>
              <a:chExt cx="152280" cy="654336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24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10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096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382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668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54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40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26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12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098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384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670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4956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242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28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14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00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386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672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0958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244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5308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574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adad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adad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